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71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D51B-D7CC-4158-B077-C9F81861A0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1 = car tyres, C2 =light commercial tyres, C3 =heavy commercial tyr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ifference may be greater than that indicated in the final column since the category boundaries have changed sligh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ifference may be greater than that indicated in the final column since the category boundaries have changed sligh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71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a7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aa71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62040" y="6205680"/>
            <a:ext cx="1700280" cy="27144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ew EU Regulation on  General Safety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mplementation of Tyre Aspects </a:t>
            </a:r>
            <a:r>
              <a:rPr b="1" lang="fr-FR" sz="4400" spc="-1" strike="noStrike">
                <a:solidFill>
                  <a:srgbClr val="6b6b6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12408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to joint GRB/GRRF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14400" y="5381640"/>
            <a:ext cx="3505320" cy="560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12000" y="260280"/>
            <a:ext cx="23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orking Paper No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D-01-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t STD meeting, 23 July 2009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ite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yre Rolling Resistance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limits on rolling resistance introduced for the firs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mits to apply in two stages, from 2012 and 2016 (new type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tion contribution of around 3.9 g/km for typical ca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yre Rolling Resistance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osed values based on ‘state of art’ in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6% of summer tyres in 2004 could meet proposed Phase 1 requirements; 16% could meet proposed phase 2 requi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6% of winter tyres in 2004 could meet proposed Phase 1 requirements; 3% could meet proposed phase 2 requiremen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yre</a:t>
            </a:r>
            <a:r>
              <a:rPr b="1" lang="en-GB" sz="3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olling Resistance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8469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encouragement to improve rolling resistance could be achieved by labelling sche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the subject of a separate Commission initiativ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yre Rolling Resistance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1600200"/>
          <a:ext cx="7772400" cy="48290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960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re catego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Rolling Resistance (Kg/Tonne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9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yre wet grip requirements</a:t>
            </a: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ed to ensure that safety standards are maintain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cal to the current requirements in UNECE Regulation 117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datory for new C1 tyre types from 2012 and existing types from 20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 is to extend requirements to C2 and C3 tyres  when standards are finali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632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mplementation (tyre requirements)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00000" y="1484280"/>
          <a:ext cx="7344000" cy="3308400"/>
        </p:xfrm>
        <a:graphic>
          <a:graphicData uri="http://schemas.openxmlformats.org/drawingml/2006/table">
            <a:tbl>
              <a:tblPr/>
              <a:tblGrid>
                <a:gridCol w="2448000"/>
                <a:gridCol w="2473200"/>
                <a:gridCol w="2422800"/>
              </a:tblGrid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types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ing types*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ling resistance –P1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16 for C3 tyr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ling resistance-P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20 for C3 tyr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ling no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971640" y="5084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*30 month sell-off period allow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5734080"/>
            <a:ext cx="73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**One year later for vehicle install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Points</a:t>
            </a:r>
            <a:r>
              <a:rPr b="1" lang="fr-BE" sz="3600" spc="-1" strike="noStrike">
                <a:solidFill>
                  <a:srgbClr val="aa7100"/>
                </a:solidFill>
                <a:latin typeface="Arial"/>
              </a:rPr>
              <a:t> </a:t>
            </a: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cern</a:t>
            </a: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arliament</a:t>
            </a:r>
            <a:r>
              <a:rPr b="1" lang="fr-BE" sz="3600" spc="-1" strike="noStrike">
                <a:solidFill>
                  <a:srgbClr val="aa71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liament would only allow extra allowances for non-standard tyres (snow, traction, special , extra-load) if these categories were precisely 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ce we will be referring to UNECE Regulations, it is necessary to agree such changes at UNECE leve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648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utstanding</a:t>
            </a: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 Issues</a:t>
            </a:r>
            <a:r>
              <a:rPr b="1" lang="fr-BE" sz="3600" spc="-1" strike="noStrike">
                <a:solidFill>
                  <a:srgbClr val="aa71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Timetable allows sell-off period of 30 months after last production date.  Parliament requested cost-benefit study to see if this could be re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fication required on whether 1kg/tonne RR allowance for snow tyres applies to both phase 1 and phase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remains to be done?</a:t>
            </a:r>
            <a:r>
              <a:rPr b="1" lang="en-GB" sz="3600" spc="-1" strike="noStrike">
                <a:solidFill>
                  <a:srgbClr val="aa71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ssues for Discussion at GRB/GRRF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yre definitions (R30, 54, 11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olling resistance test methods (R117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w noise limit values (R117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r>
              <a:rPr b="1" lang="fr-FR" sz="3600" spc="-1" strike="noStrike">
                <a:solidFill>
                  <a:srgbClr val="6b6b6b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as agreed in the GSR Co- decision Proc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remains to be do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Tyre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over snow tyres, traction tyres, special use tyres, extra load tyres and professional off-road tyr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itions to be precise and based on physical and/or  performan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itions agreed for R117 should also be transferred into R30 and R54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olling Resistance Test Methods</a:t>
            </a:r>
            <a:r>
              <a:rPr b="1" lang="fr-BE" sz="3600" spc="-1" strike="noStrike">
                <a:solidFill>
                  <a:srgbClr val="aa71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Use of ISO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 to be repeatable and reproducible for  use in a Type Approval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New noise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mit</a:t>
            </a: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‘phase 2’ values need to be compatible with values in G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pt that some Contracting Parties may wish to stay with Phase 1 for the time being – Regulation should allow   for thi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posed Timetable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agreement at September GRB/GRRF mee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ion at March 2010 WP29 (with possibility of final  review at February GRB/GRRF sess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14800" y="123840"/>
            <a:ext cx="838080" cy="56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520" y="8953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Black"/>
              </a:rPr>
              <a:t>Enterprise and Industry Directorate 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685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uropean Com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989000"/>
            <a:ext cx="8640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"/>
              </a:rPr>
              <a:t>for your atten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1" lang="fr-FR" sz="3600" spc="-1" strike="noStrike">
                <a:solidFill>
                  <a:srgbClr val="6b6b6b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EU type approval standards for tyres contained in Directive 92/23/EEC (similar to UNECE Regulations 30 and 5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ive 2001/43 added rolling noise lim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ECE Regulation 117 copied 2001/43 noise limits and subsequently added new wet grip requirements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1" lang="fr-FR" sz="3600" spc="-1" strike="noStrike">
                <a:solidFill>
                  <a:srgbClr val="6b6b6b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 part of agreement which led to 2001/43, Commission was asked to consider  more ambitious noise lim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so, in order to meet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mission targets it was decided to introduce tyre rolling  resistance limit 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th of the above needed to be achieved without sacrificing safety (wet grip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6632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ead of revising the existing 92/23 Directive, it was decided to put the essential tyre provisions) into the new ‘General Safety Regulation’ (GS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in political aspects of the GSR would be agreed by European Parliament and Council (co-decis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ical aspects would, where possible, refer to UNECE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gress</a:t>
            </a:r>
            <a:r>
              <a:rPr b="1" lang="en-GB" sz="3200" spc="-1" strike="noStrike">
                <a:solidFill>
                  <a:srgbClr val="aa71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f Co-Decision Procedure</a:t>
            </a:r>
            <a:endParaRPr b="1" lang="en-US" sz="32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posal published May 20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liament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ading agreement March 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cil Adoption  June 2009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mmary of GSR Requirements on Tyres</a:t>
            </a:r>
            <a:r>
              <a:rPr b="1" lang="en-GB" sz="3200" spc="-1" strike="noStrike">
                <a:solidFill>
                  <a:srgbClr val="aa71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tyre requirements to refer to UNECE Regs 30 and 54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tion in noise limits - by average of 4 db (A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limits on rolling resist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wet grip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re Pressure Monitoring Systems to be mandatory for c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yre noise proposals (C1 tyres)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9640" y="1557360"/>
          <a:ext cx="7774200" cy="3189240"/>
        </p:xfrm>
        <a:graphic>
          <a:graphicData uri="http://schemas.openxmlformats.org/drawingml/2006/table">
            <a:tbl>
              <a:tblPr/>
              <a:tblGrid>
                <a:gridCol w="1943280"/>
                <a:gridCol w="1944720"/>
                <a:gridCol w="1942920"/>
                <a:gridCol w="19432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re 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 value db(A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A (≤ 185mm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-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B (185-215mm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C (215-245mm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D (245-275mm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E (&gt; 275mm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611280" y="5157720"/>
            <a:ext cx="7777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dditional 1 db(A) allowed for snow or extra load ty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ld/new values not exactly comparable since tyre width categories have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yre noise proposals (C2 and C3) 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68360" y="1341360"/>
          <a:ext cx="7773840" cy="4694400"/>
        </p:xfrm>
        <a:graphic>
          <a:graphicData uri="http://schemas.openxmlformats.org/drawingml/2006/table">
            <a:tbl>
              <a:tblPr/>
              <a:tblGrid>
                <a:gridCol w="1942920"/>
                <a:gridCol w="1944720"/>
                <a:gridCol w="1943280"/>
                <a:gridCol w="194292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re 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 value db(A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 snow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 trac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w tr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 speci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 (75 for trac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 sn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 tr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w tr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 speci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(77 for traction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43:30Z</dcterms:created>
  <dc:creator>Benoit Goossens</dc:creator>
  <dc:description/>
  <dc:language>en-US</dc:language>
  <cp:lastModifiedBy>Ramos</cp:lastModifiedBy>
  <cp:lastPrinted>2008-06-02T19:37:29Z</cp:lastPrinted>
  <dcterms:modified xsi:type="dcterms:W3CDTF">2009-07-16T13:30:56Z</dcterms:modified>
  <cp:revision>48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26557614</vt:r8>
  </property>
  <property fmtid="{D5CDD505-2E9C-101B-9397-08002B2CF9AE}" pid="3" name="_AuthorEmail">
    <vt:lpwstr>Barbara.BONVISSUTO@ec.europa.eu</vt:lpwstr>
  </property>
  <property fmtid="{D5CDD505-2E9C-101B-9397-08002B2CF9AE}" pid="4" name="_AuthorEmailDisplayName">
    <vt:lpwstr>BONVISSUTO Barbara (ENTR)</vt:lpwstr>
  </property>
  <property fmtid="{D5CDD505-2E9C-101B-9397-08002B2CF9AE}" pid="5" name="_EmailSubject">
    <vt:lpwstr>VDA presentation</vt:lpwstr>
  </property>
  <property fmtid="{D5CDD505-2E9C-101B-9397-08002B2CF9AE}" pid="6" name="_NewReviewCycle">
    <vt:lpwstr/>
  </property>
  <property fmtid="{D5CDD505-2E9C-101B-9397-08002B2CF9AE}" pid="7" name="_PreviousAdHocReviewCycleID">
    <vt:r8>1525321041</vt:r8>
  </property>
  <property fmtid="{D5CDD505-2E9C-101B-9397-08002B2CF9AE}" pid="8" name="_ReviewingToolsShownOnce">
    <vt:lpwstr/>
  </property>
</Properties>
</file>