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C01-550E-4437-A2B5-DA17FB2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D6B-5318-4025-A55B-EAA9C5FD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709-25D0-4D7E-A479-320EC804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858-FC9E-417B-BD05-8CAF865E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2DE-A698-46A5-A217-810421C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DBE-6809-45CB-B4CE-CFD863E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C31-C9B7-4A7D-808F-E145C74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614-383F-43C7-B78D-B53BE04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0A5-3B6D-4C0B-AE24-BEEE8A1F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32C-A51F-41F1-9031-D5992AC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40F-00E8-47F3-B418-3C29048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90F-62D9-4593-A64F-76F0BCA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8493-BE61-4DA9-B377-D67BA2E74F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EBS attributes (Japan) - rev"/>
          <p:cNvPicPr/>
          <p:nvPr/>
        </p:nvPicPr>
        <p:blipFill>
          <a:blip r:embed="rId1"/>
          <a:stretch/>
        </p:blipFill>
        <p:spPr>
          <a:xfrm>
            <a:off x="0" y="189000"/>
            <a:ext cx="4267080" cy="310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iagram decelaration (AEBS-LDWS-01-06 by Japan) rev"/>
          <p:cNvPicPr/>
          <p:nvPr/>
        </p:nvPicPr>
        <p:blipFill>
          <a:blip r:embed="rId2"/>
          <a:stretch/>
        </p:blipFill>
        <p:spPr>
          <a:xfrm>
            <a:off x="0" y="3716280"/>
            <a:ext cx="4140360" cy="24195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4140360" y="762120"/>
            <a:ext cx="5003280" cy="2880720"/>
            <a:chOff x="4140360" y="762120"/>
            <a:chExt cx="5003280" cy="2880720"/>
          </a:xfrm>
        </p:grpSpPr>
        <p:grpSp>
          <p:nvGrpSpPr>
            <p:cNvPr id="44" name="Group 7"/>
            <p:cNvGrpSpPr/>
            <p:nvPr/>
          </p:nvGrpSpPr>
          <p:grpSpPr>
            <a:xfrm>
              <a:off x="4140360" y="762120"/>
              <a:ext cx="5003280" cy="2709720"/>
              <a:chOff x="4140360" y="762120"/>
              <a:chExt cx="5003280" cy="2709720"/>
            </a:xfrm>
          </p:grpSpPr>
          <p:pic>
            <p:nvPicPr>
              <p:cNvPr id="45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545000" y="965880"/>
                <a:ext cx="1230120" cy="219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9" descr=""/>
              <p:cNvPicPr/>
              <p:nvPr/>
            </p:nvPicPr>
            <p:blipFill>
              <a:blip r:embed="rId4"/>
              <a:srcRect l="4597" t="0" r="0" b="0"/>
              <a:stretch/>
            </p:blipFill>
            <p:spPr>
              <a:xfrm>
                <a:off x="5729760" y="965880"/>
                <a:ext cx="1240200" cy="219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6942240" y="965880"/>
                <a:ext cx="1501200" cy="250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42200" y="965880"/>
                <a:ext cx="443160" cy="143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8072640" y="762120"/>
                <a:ext cx="175680" cy="2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13"/>
              <p:cNvSpPr/>
              <p:nvPr/>
            </p:nvSpPr>
            <p:spPr>
              <a:xfrm>
                <a:off x="574344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4"/>
              <p:cNvSpPr/>
              <p:nvPr/>
            </p:nvSpPr>
            <p:spPr>
              <a:xfrm>
                <a:off x="694224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971400" y="996480"/>
                <a:ext cx="870840" cy="24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6999120" y="1233360"/>
                <a:ext cx="633960" cy="23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0360" y="3066480"/>
                <a:ext cx="420120" cy="1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Line 18"/>
              <p:cNvSpPr/>
              <p:nvPr/>
            </p:nvSpPr>
            <p:spPr>
              <a:xfrm>
                <a:off x="4545000" y="965880"/>
                <a:ext cx="0" cy="216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Picture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42200" y="1086480"/>
                <a:ext cx="901440" cy="67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02600" y="1025640"/>
                <a:ext cx="865800" cy="27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02600" y="1446840"/>
                <a:ext cx="924120" cy="76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Picture 22" descr=""/>
            <p:cNvPicPr/>
            <p:nvPr/>
          </p:nvPicPr>
          <p:blipFill>
            <a:blip r:embed="rId14"/>
            <a:stretch/>
          </p:blipFill>
          <p:spPr>
            <a:xfrm>
              <a:off x="4371840" y="3166200"/>
              <a:ext cx="2715120" cy="47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Picture 24" descr=""/>
          <p:cNvPicPr/>
          <p:nvPr/>
        </p:nvPicPr>
        <p:blipFill>
          <a:blip r:embed="rId15"/>
          <a:stretch/>
        </p:blipFill>
        <p:spPr>
          <a:xfrm>
            <a:off x="4572000" y="3789360"/>
            <a:ext cx="120492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"/>
          <p:cNvPicPr/>
          <p:nvPr/>
        </p:nvPicPr>
        <p:blipFill>
          <a:blip r:embed="rId16"/>
          <a:stretch/>
        </p:blipFill>
        <p:spPr>
          <a:xfrm>
            <a:off x="5773680" y="3789360"/>
            <a:ext cx="114480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"/>
          <p:cNvPicPr/>
          <p:nvPr/>
        </p:nvPicPr>
        <p:blipFill>
          <a:blip r:embed="rId17"/>
          <a:srcRect l="0" t="1595" r="0" b="0"/>
          <a:stretch/>
        </p:blipFill>
        <p:spPr>
          <a:xfrm>
            <a:off x="6119640" y="3846600"/>
            <a:ext cx="379440" cy="1754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7"/>
          <p:cNvSpPr/>
          <p:nvPr/>
        </p:nvSpPr>
        <p:spPr>
          <a:xfrm>
            <a:off x="5769000" y="3789360"/>
            <a:ext cx="1147680" cy="182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 rot="5400000">
            <a:off x="5366520" y="4487040"/>
            <a:ext cx="182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aptic w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 (-3 m/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rpo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"/>
          <p:cNvPicPr/>
          <p:nvPr/>
        </p:nvPicPr>
        <p:blipFill>
          <a:blip r:embed="rId18"/>
          <a:stretch/>
        </p:blipFill>
        <p:spPr>
          <a:xfrm>
            <a:off x="6916680" y="3789360"/>
            <a:ext cx="1257480" cy="2158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0"/>
          <p:cNvSpPr/>
          <p:nvPr/>
        </p:nvSpPr>
        <p:spPr>
          <a:xfrm>
            <a:off x="6916680" y="3789360"/>
            <a:ext cx="1252440" cy="2019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5400000">
            <a:off x="6518160" y="4216680"/>
            <a:ext cx="20131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permanent acoustic    w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emergency br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horn and hazard flas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122800" y="3789360"/>
            <a:ext cx="631800" cy="201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 rot="5400000">
            <a:off x="6224040" y="5126040"/>
            <a:ext cx="1875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 rot="5400000">
            <a:off x="4455360" y="4537800"/>
            <a:ext cx="20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</a:rPr>
              <a:t>+ intermittent acoustic w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>
            <a:off x="5509080" y="18900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TF02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5724360" y="616572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7"/>
          <p:cNvSpPr/>
          <p:nvPr/>
        </p:nvSpPr>
        <p:spPr>
          <a:xfrm>
            <a:off x="4572000" y="3789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>
            <a:off x="1258920" y="616572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1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>
            <a:off x="1116000" y="18900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EBS/LDWS-02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8"/>
          <p:cNvSpPr/>
          <p:nvPr/>
        </p:nvSpPr>
        <p:spPr>
          <a:xfrm>
            <a:off x="7524720" y="57240"/>
            <a:ext cx="150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EBS/LDWS-03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14:18Z</dcterms:created>
  <dc:creator>rendejo</dc:creator>
  <dc:description/>
  <dc:language>en-US</dc:language>
  <cp:lastModifiedBy>ofontaine</cp:lastModifiedBy>
  <dcterms:modified xsi:type="dcterms:W3CDTF">2009-12-07T14:12:26Z</dcterms:modified>
  <cp:revision>6</cp:revision>
  <dc:subject/>
  <dc:title>Slide 1</dc:title>
</cp:coreProperties>
</file>