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0F7-0A8F-41C0-8390-E76DE03B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B2F-6E25-4154-B74C-07EDA61B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4B5-4E82-427F-961C-D91A03A4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C5F-8F76-49B6-9B03-A6D66E19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7D8-1C66-4AAC-8A26-DEB146C5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D52-1BE8-4B01-8B1D-0777769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150-0BC0-4359-A56E-E981FB3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2D2-6456-4A5D-ABDB-0C2AE30A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C0A-A82B-4BFA-B681-9679C860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BC3-3B88-4F39-9653-003ED8F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A2F-BF12-4198-9C10-542E2DD4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8FC-337E-4D23-BE91-2DFE0B1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A9D-AF0F-40AE-B74C-8CFC80065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r-End Accident Statistics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onary Vehicles vs. Stopped and Mo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rik Cla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phi Electronics &amp; Saf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ölndalsvägen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00 20 Göteborg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rik.clasen@delph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one: +46 708904831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6929280" y="4287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EBS/LDWS-02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on from Three Stu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19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TSA report from Februar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es of Light Vehicle Crashes and Pre-Crash Scenarios Based on the 2000 General Estimates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,4 Million Police reported accidents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man Accident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sches Bundesamt, Fachserie 8, Reihe7, 200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20614 Police reported accidents with personal injuries 2008 i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100-Car Naturalistic Driving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deo recording of 82 crashes in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define a Stationary Vehic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onary Vehicle is easy to define from a Sensor System perspect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target that the sensor system has not seen as mov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from a Accident Statistics perspective is not so easy. The accidents is coded by a Police Officer after the accident has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eports have different definition for data that include rear end collision with stationary veh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TSA 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opped lead vehicle that has not just decelerated and stopp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man report (translation from the repor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ing or stopping are here to be seen in connection with a deliberate stopover which is not caused by the traffic situation. Stationary vehicles within the meaning of this kind of accident are vehicles which stop or park at the edge of a carriageway, on shoulders, on marked parking places directly at the edge of a carriageway, on footpaths or parking site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-Car Stu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car that been stopped in more than 2s” (analysed from the recorded vid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ery of the thre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17520" y="2421000"/>
            <a:ext cx="8575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9:48:14Z</dcterms:created>
  <dc:creator>reculez</dc:creator>
  <dc:description/>
  <dc:language>en-US</dc:language>
  <cp:lastModifiedBy>ofontaine</cp:lastModifiedBy>
  <dcterms:modified xsi:type="dcterms:W3CDTF">2009-08-26T09:11:01Z</dcterms:modified>
  <cp:revision>72</cp:revision>
  <dc:subject/>
  <dc:title>PowerPoint Presentation</dc:title>
</cp:coreProperties>
</file>