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C22-AF56-4F16-A7DA-2F9FB359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A4B-41FC-4B09-A054-B260204A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F57-0794-4E85-B1E8-86461AB0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232-E209-473B-B8C4-5F0F2299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601-9F5F-4399-9765-3F7EFC76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C65-2230-4361-AD6E-14207248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4BE-4238-4A40-93E3-C0027E9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7DB-5270-4B5B-BA3A-1B788BCD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90C-D4FA-4BF6-979C-C1F45EAD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C76-418A-479C-BEC3-54BA7DC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7CB-20FE-40AF-A252-F253CA0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B51-27EB-424A-ABDB-88CD2EF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0D8A-54B0-4796-A09A-E6DE9CEAA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ar-End Accident Statistics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onary Vehicles vs. Stopped and Mo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rik Cla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lphi Electronics &amp; Saf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ölndalsvägen 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00 20 Göteborg, 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nrik.clasen@delph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hone: +46 708904831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6929280" y="4287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EBS/LDWS-02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2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formation from Three Stud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19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TSA report from Februar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alyses of Light Vehicle Crashes and Pre-Crash Scenarios Based on the 2000 General Estimates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,4 Million Police reported accidents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rman Accident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stisches Bundesamt, Fachserie 8, Reihe7, 2008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20614 Police reported accidents with personal injuries 2008 in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100-Car Naturalistic Driving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deo recording of 82 crashes in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to define a Stationary Vehic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onary Vehicle is easy to define from a Sensor System perspecti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target that the sensor system has not seen as mov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from a Accident Statistics perspective is not so easy. The accidents is coded by a Police Officer after the accident has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eports have different definition for data that include rear end collision with stationary veh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HTSA repor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opped lead vehicle that has not just decelerated and stopp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erman report (translation from the repor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rting or stopping are here to be seen in connection with a deliberate stopover which is not caused by the traffic situation. Stationary vehicles within the meaning of this kind of accident are vehicles which stop or park at the edge of a carriageway, on shoulders, on marked parking places directly at the edge of a carriageway, on footpaths or parking site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-Car Stu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en-A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car that been stopped in more than 2s” (analysed from the recorded vide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ery of the three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17520" y="2421000"/>
            <a:ext cx="85755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9:48:14Z</dcterms:created>
  <dc:creator>reculez</dc:creator>
  <dc:description/>
  <dc:language>en-US</dc:language>
  <cp:lastModifiedBy>ofontaine</cp:lastModifiedBy>
  <dcterms:modified xsi:type="dcterms:W3CDTF">2009-08-26T09:11:01Z</dcterms:modified>
  <cp:revision>72</cp:revision>
  <dc:subject/>
  <dc:title>PowerPoint Presentation</dc:title>
</cp:coreProperties>
</file>