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F8A11E-A291-4A2D-8296-AE3E2A626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11F0D9-E230-4E0D-8B2A-6A4EFC782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Thank you very m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ahoma"/>
              </a:rPr>
              <a:t>We are now be happy to take your ques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02D-48FF-4F49-B46B-56411457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8FC-4EAF-4E06-B10C-7E90803C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D7D-3E12-405E-A4C4-20E955BF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8AE-F8BF-47E6-AF96-1C180DF5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CAD-DA44-47DB-8C5E-691C3D04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EA8-1A50-4490-9CBB-3BB911BE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AF0-1AF8-43A4-94AB-23161563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2E5-B1E7-413D-AEED-B2D1FD79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429-A51D-4C00-849D-B5C0E572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958-1D7F-47B9-A517-0F67B6A0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666-0025-48EA-9BC0-5B91F4B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6FB-DE6C-4DFC-9BC6-EB1A5A68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3DC6-749E-47B3-B926-6D9A91829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070760" y="0"/>
            <a:ext cx="207324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33520" y="1981080"/>
            <a:ext cx="68580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Verdana"/>
              </a:rPr>
              <a:t>General Safety Regulation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3399"/>
                </a:solidFill>
                <a:latin typeface="Verdana"/>
              </a:rPr>
              <a:t> ACEA discussion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pictos"/>
          <p:cNvPicPr/>
          <p:nvPr/>
        </p:nvPicPr>
        <p:blipFill>
          <a:blip r:embed="rId2"/>
          <a:stretch/>
        </p:blipFill>
        <p:spPr>
          <a:xfrm>
            <a:off x="228600" y="6294600"/>
            <a:ext cx="466416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971800" y="5257800"/>
            <a:ext cx="44956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nzo Cicill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irector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819520" y="41148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Verdana"/>
              </a:rPr>
              <a:t>Paris, 24-26 Jun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1" descr="ACEAtxt"/>
          <p:cNvPicPr/>
          <p:nvPr/>
        </p:nvPicPr>
        <p:blipFill>
          <a:blip r:embed="rId3"/>
          <a:stretch/>
        </p:blipFill>
        <p:spPr>
          <a:xfrm>
            <a:off x="304920" y="228600"/>
            <a:ext cx="2454120" cy="97632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9"/>
          <p:cNvSpPr/>
          <p:nvPr/>
        </p:nvSpPr>
        <p:spPr>
          <a:xfrm>
            <a:off x="6400800" y="3808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EBS/LDWS-01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235080" y="5408640"/>
            <a:ext cx="8731080" cy="1297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4360" y="5383080"/>
            <a:ext cx="8958960" cy="14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/ECE vehicle categories may not be sole criteria for class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proper cost/benefit analysis  must also be based on use ca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 performance levels and definition of technical requirements integr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f a cost/benefit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49120" y="1233360"/>
            <a:ext cx="8702640" cy="4092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6720" y="14922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ampl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2320" y="1844640"/>
            <a:ext cx="8128080" cy="66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60240" y="4452840"/>
            <a:ext cx="8128080" cy="52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639720" y="2903400"/>
            <a:ext cx="8128080" cy="66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96720" y="257508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ampl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410400" y="412272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tions (examp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658600" y="4532400"/>
            <a:ext cx="30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-Roader, 8x4 vehicl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729080" y="1873080"/>
            <a:ext cx="70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datory equipment (LDWS) for N3, M3 but only long dist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delay necessary for AE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854000" y="3046320"/>
            <a:ext cx="57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depth cost/benefit analysis for M3 city bus, M2, 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The different steps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 discussions to be sta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3703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90480" cy="59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6015240" cy="401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1710360" y="594360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uropean Automobile Manufacturers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ww.acea.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430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1143000" y="152280"/>
            <a:ext cx="77724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33520" y="1233360"/>
            <a:ext cx="8353440" cy="5399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28880" indent="-128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f the EU Road traffic safety policy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lving the number of road traffic fatalities by 2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rom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-128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S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-130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hicle related regul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entration of 50 pieces of legislation into one single dire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implification of type approval regu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-130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ical Requirem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cused on UN-ECE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eplaces the “dual system” EU / UN-E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7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28880" indent="-128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Safety Regulation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Europe proposes the mandatory equipment of commercial vehicles with safety- and assistance-systems, e.g.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artu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n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ste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omat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nc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k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908000" y="1947960"/>
            <a:ext cx="1049400" cy="133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708360" y="1984320"/>
            <a:ext cx="2117880" cy="1328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6718320" y="1984320"/>
            <a:ext cx="968400" cy="1368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General Safety Regulation – Legislative Fram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50800" y="1233360"/>
            <a:ext cx="8353440" cy="5399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24520" y="1146240"/>
            <a:ext cx="832644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Safety Regulation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icl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d vehicl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to the exemption or derogations established in accordance with Article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(3)(a), vehicles in categori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2, M3, N2 and N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all be equipped with a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vanced Emergency Braking Sys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hich shall meet the requirements of th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ion and its implementing measure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to the exemptions or derogations established in accordan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icle 15(3)(a), vehicles in categori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2, M3, N2 and N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all be equipped with 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e Departure Warning Sys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hich shall meet the requirements of th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ion and its implementing measures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36400" y="6005520"/>
            <a:ext cx="8455320" cy="700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057040" y="6031080"/>
            <a:ext cx="55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EA will contribute to define safet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sp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definition of technical requir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Verdana"/>
              </a:rPr>
              <a:t>General Safety Regulation </a:t>
            </a:r>
            <a:r>
              <a:rPr b="1" lang="de-DE" sz="24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1" lang="de-DE" sz="2400" spc="-1" strike="noStrike">
                <a:solidFill>
                  <a:srgbClr val="003399"/>
                </a:solidFill>
                <a:latin typeface="Verdana"/>
              </a:rPr>
              <a:t> AC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"/>
          <p:cNvGrpSpPr/>
          <p:nvPr/>
        </p:nvGrpSpPr>
        <p:grpSpPr>
          <a:xfrm>
            <a:off x="395280" y="1857240"/>
            <a:ext cx="8362800" cy="2867040"/>
            <a:chOff x="395280" y="1857240"/>
            <a:chExt cx="8362800" cy="2867040"/>
          </a:xfrm>
        </p:grpSpPr>
        <p:sp>
          <p:nvSpPr>
            <p:cNvPr id="69" name="Rectangle 4"/>
            <p:cNvSpPr/>
            <p:nvPr/>
          </p:nvSpPr>
          <p:spPr>
            <a:xfrm>
              <a:off x="395280" y="2565360"/>
              <a:ext cx="8353440" cy="2158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396720" y="1857240"/>
              <a:ext cx="636840" cy="41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Seg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1060560" y="1857240"/>
              <a:ext cx="946080" cy="41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Vehi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2054160" y="1857240"/>
              <a:ext cx="538200" cy="41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P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2637000" y="1857240"/>
              <a:ext cx="1079280" cy="18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Characterist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2543760" y="2001600"/>
              <a:ext cx="74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GVW range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       [t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3134520" y="20016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Power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range [kW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3762360" y="1857240"/>
              <a:ext cx="0" cy="257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7802640" y="1857240"/>
              <a:ext cx="946080" cy="41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Com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379692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0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415548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451584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0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>
              <a:off x="487620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3656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559692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595584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631620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667656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22"/>
            <p:cNvSpPr/>
            <p:nvPr/>
          </p:nvSpPr>
          <p:spPr>
            <a:xfrm>
              <a:off x="703692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3"/>
            <p:cNvSpPr/>
            <p:nvPr/>
          </p:nvSpPr>
          <p:spPr>
            <a:xfrm>
              <a:off x="7397280" y="2043000"/>
              <a:ext cx="334800" cy="23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rpoS"/>
                </a:rPr>
                <a:t>20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>
              <a:off x="4122720" y="2271600"/>
              <a:ext cx="0" cy="2173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>
              <a:off x="4481640" y="2271600"/>
              <a:ext cx="0" cy="2160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6"/>
            <p:cNvSpPr/>
            <p:nvPr/>
          </p:nvSpPr>
          <p:spPr>
            <a:xfrm>
              <a:off x="4842000" y="2271600"/>
              <a:ext cx="0" cy="2166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7"/>
            <p:cNvSpPr/>
            <p:nvPr/>
          </p:nvSpPr>
          <p:spPr>
            <a:xfrm flipH="1">
              <a:off x="5195880" y="2271600"/>
              <a:ext cx="6480" cy="2160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>
              <a:off x="5562720" y="2271600"/>
              <a:ext cx="0" cy="2135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5923080" y="2271600"/>
              <a:ext cx="0" cy="215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>
              <a:off x="6283440" y="2271600"/>
              <a:ext cx="6120" cy="2147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>
              <a:off x="6643800" y="2271600"/>
              <a:ext cx="0" cy="2147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7004160" y="2271600"/>
              <a:ext cx="0" cy="2160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7364520" y="2271600"/>
              <a:ext cx="0" cy="2166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34"/>
            <p:cNvSpPr/>
            <p:nvPr/>
          </p:nvSpPr>
          <p:spPr>
            <a:xfrm>
              <a:off x="2016000" y="1857240"/>
              <a:ext cx="17272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5"/>
            <p:cNvSpPr/>
            <p:nvPr/>
          </p:nvSpPr>
          <p:spPr>
            <a:xfrm>
              <a:off x="7767720" y="1857240"/>
              <a:ext cx="0" cy="2581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utoShape 36"/>
            <p:cNvSpPr/>
            <p:nvPr/>
          </p:nvSpPr>
          <p:spPr>
            <a:xfrm rot="10800000">
              <a:off x="4849560" y="4533480"/>
              <a:ext cx="136440" cy="88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7"/>
            <p:cNvSpPr/>
            <p:nvPr/>
          </p:nvSpPr>
          <p:spPr>
            <a:xfrm>
              <a:off x="4881240" y="4451040"/>
              <a:ext cx="76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New Ty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38"/>
            <p:cNvSpPr/>
            <p:nvPr/>
          </p:nvSpPr>
          <p:spPr>
            <a:xfrm rot="10800000">
              <a:off x="5649480" y="4533480"/>
              <a:ext cx="136440" cy="8892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39"/>
            <p:cNvSpPr/>
            <p:nvPr/>
          </p:nvSpPr>
          <p:spPr>
            <a:xfrm>
              <a:off x="5684760" y="4451040"/>
              <a:ext cx="119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rpoS"/>
                </a:rPr>
                <a:t>First Regist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0"/>
            <p:cNvSpPr/>
            <p:nvPr/>
          </p:nvSpPr>
          <p:spPr>
            <a:xfrm>
              <a:off x="404640" y="3892320"/>
              <a:ext cx="83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41"/>
            <p:cNvSpPr/>
            <p:nvPr/>
          </p:nvSpPr>
          <p:spPr>
            <a:xfrm>
              <a:off x="5849640" y="27460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11/13 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42"/>
            <p:cNvSpPr/>
            <p:nvPr/>
          </p:nvSpPr>
          <p:spPr>
            <a:xfrm>
              <a:off x="6608880" y="2759040"/>
              <a:ext cx="59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rpoS"/>
                </a:rPr>
                <a:t>11/15 F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3"/>
            <p:cNvSpPr/>
            <p:nvPr/>
          </p:nvSpPr>
          <p:spPr>
            <a:xfrm>
              <a:off x="467640" y="2768400"/>
              <a:ext cx="310536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EBS and LDWS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l CV &gt;3,5t and city buses/coaches (N2, N3, M2, M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cope to be clarified withi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ramework of a cost-benefit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44"/>
            <p:cNvSpPr/>
            <p:nvPr/>
          </p:nvSpPr>
          <p:spPr>
            <a:xfrm flipV="1">
              <a:off x="6192720" y="2982240"/>
              <a:ext cx="1582920" cy="32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5"/>
            <p:cNvSpPr/>
            <p:nvPr/>
          </p:nvSpPr>
          <p:spPr>
            <a:xfrm>
              <a:off x="395280" y="2552400"/>
              <a:ext cx="1079640" cy="18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7e9ea"/>
                  </a:solidFill>
                  <a:latin typeface="CorpoS"/>
                </a:rPr>
                <a:t>Reg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404640" y="4429080"/>
              <a:ext cx="83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47"/>
            <p:cNvSpPr/>
            <p:nvPr/>
          </p:nvSpPr>
          <p:spPr>
            <a:xfrm rot="10800000">
              <a:off x="6127560" y="2918880"/>
              <a:ext cx="136440" cy="88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48"/>
            <p:cNvSpPr/>
            <p:nvPr/>
          </p:nvSpPr>
          <p:spPr>
            <a:xfrm rot="10800000">
              <a:off x="6846480" y="2918880"/>
              <a:ext cx="136440" cy="8892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Rectangle 49"/>
          <p:cNvSpPr/>
          <p:nvPr/>
        </p:nvSpPr>
        <p:spPr>
          <a:xfrm>
            <a:off x="380880" y="5337000"/>
            <a:ext cx="8367840" cy="1368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619200" y="5430960"/>
            <a:ext cx="794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pe to be clarified within the framework of a cost-benefit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requirements for the systems shall be defined until end 20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pean Commission started Working Party on GS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islative process in Geneva will start soon, OICA participating</a:t>
            </a:r>
            <a:r>
              <a:rPr b="1" lang="en-US" sz="1800" spc="-1" strike="noStrike">
                <a:solidFill>
                  <a:srgbClr val="ffffff"/>
                </a:solidFill>
                <a:latin typeface="Corpo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1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Automated Emergency Braking Systems, </a:t>
            </a:r>
            <a:br>
              <a:rPr sz="2200"/>
            </a:b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Lane Departure Warning Systems  </a:t>
            </a:r>
            <a:r>
              <a:rPr b="1" lang="en-US" sz="22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3399"/>
                </a:solidFill>
                <a:latin typeface="Verdana"/>
              </a:rPr>
              <a:t> EC - dir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44440" y="1924200"/>
            <a:ext cx="8694720" cy="366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 marL="284040" indent="-28404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35080" y="5730840"/>
            <a:ext cx="8731080" cy="974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2360" y="5759280"/>
            <a:ext cx="87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of the eSafety HDV WG for vehicles &gt;12t still the most advance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d reliable all over Euro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tabase weak for all other commercial vehicle categor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44440" y="1249200"/>
            <a:ext cx="8694720" cy="679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Database for cost/benefit analysis of Safety Systems </a:t>
            </a:r>
            <a:br>
              <a:rPr sz="1800"/>
            </a:b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for Trucks and Buses/C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25240" y="2071800"/>
            <a:ext cx="829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afety WG Accident Caus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val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afety HDV W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ults reflect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all major OEM of Truck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es/Coaches on necessity of AEBS systems for trucks &gt; 12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rcRect l="0" t="40452" r="0" b="0"/>
          <a:stretch/>
        </p:blipFill>
        <p:spPr>
          <a:xfrm>
            <a:off x="984240" y="2471760"/>
            <a:ext cx="7770960" cy="21556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General Remarks -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44440" y="1924200"/>
            <a:ext cx="8694720" cy="39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 marL="284040" indent="-28404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35080" y="5904000"/>
            <a:ext cx="8731080" cy="801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44440" y="1249200"/>
            <a:ext cx="8694720" cy="679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2 step approach for a proper impact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3960" y="2100240"/>
            <a:ext cx="8661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the Accidentology database is weak, a prop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act assessment could b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vered by a 2 step (Pareto) appro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valuate AEBS/LDWS b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drowsiness-&gt; highway application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hicle category (highway trucks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vehicles sold, average mileag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hicle categories to be equipped with priori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tions from mandatory installatio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performance level, system constrain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cessary to address use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remaining vehicle categories will be investigated by the Commis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(incl. a proper cost/benefit analysis) and can be subject to an amendment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the regulatio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62360" y="5845320"/>
            <a:ext cx="87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of the eSafety HDV WG for vehicles &gt;12t still the most advance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d reliable all over Euro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tabase weak for all other commercial vehicle categor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General Remarks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 Impact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20680" y="1233360"/>
            <a:ext cx="8717040" cy="4672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35080" y="5888160"/>
            <a:ext cx="8731080" cy="817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245600" y="5830920"/>
            <a:ext cx="66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tential for the improvement of safety for N3 14-16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on for N2 as w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sideration of typical uses cases cru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4629240" y="2976480"/>
            <a:ext cx="4263840" cy="281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291960" y="2957400"/>
            <a:ext cx="4267440" cy="2816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47040" y="1300320"/>
            <a:ext cx="860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Accidentology database is weak,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sk of an acci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 be derived from vehic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egories, the number of vehicles in that categories in the market and the mileage the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hicles are covering and tak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ical use c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o accou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orities for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960640" y="2379600"/>
            <a:ext cx="3121200" cy="4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General Safety Regulation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 Potential Benefit (example N2, N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44440" y="1924200"/>
            <a:ext cx="4224240" cy="39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 marL="284040" indent="-28404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safety coach"/>
          <p:cNvPicPr/>
          <p:nvPr/>
        </p:nvPicPr>
        <p:blipFill>
          <a:blip r:embed="rId1"/>
          <a:srcRect l="0" t="15898" r="0" b="5999"/>
          <a:stretch/>
        </p:blipFill>
        <p:spPr>
          <a:xfrm>
            <a:off x="871560" y="4184640"/>
            <a:ext cx="3090960" cy="16081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738680" y="1924200"/>
            <a:ext cx="4195800" cy="390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 marL="284040" indent="-284040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DWS could be widespread available for trucks and buses/coaches b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vehicles are operated in a complex urban traffic environment that is not covered by existing LDWS by now and/or the benefit is limit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tential exemption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city bus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vehicles for public servi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(e.g. garbage trucks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special vehicles (e.g. fire brig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738680" y="1249200"/>
            <a:ext cx="4192560" cy="679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Scope of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884160" y="1824120"/>
            <a:ext cx="3048120" cy="23000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235080" y="5946840"/>
            <a:ext cx="8731080" cy="758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48680" y="601668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ndatory fitment as from end 2013 desirable from safety point of view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r highway traff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44440" y="1249200"/>
            <a:ext cx="4224240" cy="679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Available for Trucks and C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Lane Guar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44440" y="2014560"/>
            <a:ext cx="3637080" cy="368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284040" indent="-18720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after 7 years of intensive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652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BS currently only available for Mercedes vehi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3652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BS currently only available for tractor/semitrailer combination and c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18720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performance: accident reduction for use case highway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187200">
              <a:lnSpc>
                <a:spcPct val="93000"/>
              </a:lnSpc>
              <a:spcBef>
                <a:spcPts val="312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 research requ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ary obsta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4440" y="1206360"/>
            <a:ext cx="3632400" cy="812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Scope of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33720" y="2031840"/>
            <a:ext cx="4992840" cy="36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unbenannt"/>
          <p:cNvPicPr/>
          <p:nvPr/>
        </p:nvPicPr>
        <p:blipFill>
          <a:blip r:embed="rId1"/>
          <a:srcRect l="0" t="0" r="0" b="5644"/>
          <a:stretch/>
        </p:blipFill>
        <p:spPr>
          <a:xfrm>
            <a:off x="4703760" y="1887480"/>
            <a:ext cx="3462480" cy="217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adac_iaa_715_270_jpg"/>
          <p:cNvPicPr/>
          <p:nvPr/>
        </p:nvPicPr>
        <p:blipFill>
          <a:blip r:embed="rId2"/>
          <a:stretch/>
        </p:blipFill>
        <p:spPr>
          <a:xfrm>
            <a:off x="4392720" y="4078440"/>
            <a:ext cx="4249800" cy="1606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40200" y="1206360"/>
            <a:ext cx="4989600" cy="8287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CorpoS"/>
              </a:rPr>
              <a:t>Available for Trucks and C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35080" y="5816520"/>
            <a:ext cx="8731080" cy="889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0" y="5816520"/>
            <a:ext cx="890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ccident reduction desirable for traffic scenarios with huge potent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idespread mandatory fitment not justifiable and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t feasib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end 20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emature mandatory fitment could probably lead to more severe accid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066680" y="152280"/>
            <a:ext cx="784872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Automated Emergency Br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685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1:46:23Z</dcterms:created>
  <dc:creator>Kai Luecke</dc:creator>
  <dc:description/>
  <dc:language>en-US</dc:language>
  <cp:lastModifiedBy>ofontaine</cp:lastModifiedBy>
  <dcterms:modified xsi:type="dcterms:W3CDTF">2009-07-10T13:24:03Z</dcterms:modified>
  <cp:revision>130</cp:revision>
  <dc:subject/>
  <dc:title>PowerPoint Presentation</dc:title>
</cp:coreProperties>
</file>