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dt" idx="4"/>
          </p:nvPr>
        </p:nvSpPr>
        <p:spPr>
          <a:xfrm>
            <a:off x="385128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atum/Jah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 type="sldNum" idx="6"/>
          </p:nvPr>
        </p:nvSpPr>
        <p:spPr>
          <a:xfrm>
            <a:off x="385128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8A737-3F6A-482A-BBFE-B5C69C317CC0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5CBACEB-C445-42FC-A65B-2CAD768B792C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C455036-8388-46AD-84CC-B58B37408CBB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DAE2AC6-D2B5-428C-8036-73F4E5BF8EC9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C108386-E6B4-4E77-A5AC-AFA0CF673A7E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926946D-6FFD-4285-986C-09B6B0043B9F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42B544E-DBF7-4A8A-B503-7A79D328A022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D13E4EE-86CE-4076-AE88-B9C3303E9FED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2CC1-9462-447D-80E9-E8694118F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630360"/>
            <a:ext cx="8435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854360"/>
            <a:ext cx="8435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6840" y="4162680"/>
            <a:ext cx="8435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4CB2-0341-4D9E-9C4A-1F2622F3F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630360"/>
            <a:ext cx="8435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854360"/>
            <a:ext cx="4116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79720" y="1854360"/>
            <a:ext cx="4116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6840" y="4162680"/>
            <a:ext cx="4116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779720" y="4162680"/>
            <a:ext cx="4116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DFA6-B495-418D-987A-282852B28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630360"/>
            <a:ext cx="8435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54360"/>
            <a:ext cx="27162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309120" y="1854360"/>
            <a:ext cx="27162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161760" y="1854360"/>
            <a:ext cx="27162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6840" y="4162680"/>
            <a:ext cx="27162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309120" y="4162680"/>
            <a:ext cx="27162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161760" y="4162680"/>
            <a:ext cx="27162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D769-E434-4D67-BB96-336F1AB77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630360"/>
            <a:ext cx="8435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6840" y="1854360"/>
            <a:ext cx="843588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630360"/>
            <a:ext cx="8435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854360"/>
            <a:ext cx="8435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630360"/>
            <a:ext cx="8435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854360"/>
            <a:ext cx="4116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79720" y="1854360"/>
            <a:ext cx="4116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630360"/>
            <a:ext cx="8435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6840" y="630360"/>
            <a:ext cx="8435880" cy="46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630360"/>
            <a:ext cx="8435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854360"/>
            <a:ext cx="4116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779720" y="1854360"/>
            <a:ext cx="4116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6840" y="4162680"/>
            <a:ext cx="4116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630360"/>
            <a:ext cx="8435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6840" y="1854360"/>
            <a:ext cx="843588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0046-59A7-4C24-BE9F-638F9DFC7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630360"/>
            <a:ext cx="8435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854360"/>
            <a:ext cx="4116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79720" y="1854360"/>
            <a:ext cx="4116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779720" y="4162680"/>
            <a:ext cx="4116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630360"/>
            <a:ext cx="8435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854360"/>
            <a:ext cx="4116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79720" y="1854360"/>
            <a:ext cx="4116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6840" y="4162680"/>
            <a:ext cx="8435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630360"/>
            <a:ext cx="8435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854360"/>
            <a:ext cx="8435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6840" y="4162680"/>
            <a:ext cx="8435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630360"/>
            <a:ext cx="8435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854360"/>
            <a:ext cx="4116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79720" y="1854360"/>
            <a:ext cx="4116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6840" y="4162680"/>
            <a:ext cx="4116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779720" y="4162680"/>
            <a:ext cx="4116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630360"/>
            <a:ext cx="8435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854360"/>
            <a:ext cx="27162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309120" y="1854360"/>
            <a:ext cx="27162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161760" y="1854360"/>
            <a:ext cx="27162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6840" y="4162680"/>
            <a:ext cx="27162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309120" y="4162680"/>
            <a:ext cx="27162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161760" y="4162680"/>
            <a:ext cx="27162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630360"/>
            <a:ext cx="8435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854360"/>
            <a:ext cx="8435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D264-2879-4E17-B10B-EABBC1B99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630360"/>
            <a:ext cx="8435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54360"/>
            <a:ext cx="4116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79720" y="1854360"/>
            <a:ext cx="4116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2EA5-3B50-46FE-94AD-33E32FA2F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630360"/>
            <a:ext cx="8435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6E8E-9F42-4C87-AD07-DE44FA613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6840" y="630360"/>
            <a:ext cx="8435880" cy="46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CE61-FEBB-4A4A-84B7-8D2EC2636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630360"/>
            <a:ext cx="8435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854360"/>
            <a:ext cx="4116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79720" y="1854360"/>
            <a:ext cx="4116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6840" y="4162680"/>
            <a:ext cx="4116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91E8-FC8E-4DA9-9690-53621C42F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630360"/>
            <a:ext cx="8435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854360"/>
            <a:ext cx="4116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79720" y="1854360"/>
            <a:ext cx="4116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779720" y="4162680"/>
            <a:ext cx="4116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CD2F-4559-42C0-94F5-4A4BC17E5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630360"/>
            <a:ext cx="8435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854360"/>
            <a:ext cx="4116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779720" y="1854360"/>
            <a:ext cx="4116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6840" y="4162680"/>
            <a:ext cx="8435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FF9A-F4F2-40A0-A33B-9986183A5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a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630360"/>
            <a:ext cx="8435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54360"/>
            <a:ext cx="8435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0360" indent="-36036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93880" indent="-3542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33520" indent="-3603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973160" indent="-36036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513160" indent="-360360">
              <a:spcBef>
                <a:spcPts val="499"/>
              </a:spcBef>
              <a:buClr>
                <a:srgbClr val="000000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513160" indent="-360360">
              <a:spcBef>
                <a:spcPts val="499"/>
              </a:spcBef>
              <a:buClr>
                <a:srgbClr val="000000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513160" indent="-360360">
              <a:spcBef>
                <a:spcPts val="499"/>
              </a:spcBef>
              <a:buClr>
                <a:srgbClr val="000000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276360" y="6408360"/>
            <a:ext cx="3429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Bundesanstalt für Straßenwes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6840" y="63813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Dr. Jost G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Referat F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30640" y="6408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Folie Nr.  </a:t>
            </a:r>
            <a:fld id="{82EC439C-05C1-4A17-A681-5333328FA69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55"/>
          <p:cNvGrpSpPr/>
          <p:nvPr/>
        </p:nvGrpSpPr>
        <p:grpSpPr>
          <a:xfrm>
            <a:off x="0" y="71280"/>
            <a:ext cx="9144000" cy="6334200"/>
            <a:chOff x="0" y="71280"/>
            <a:chExt cx="9144000" cy="6334200"/>
          </a:xfrm>
        </p:grpSpPr>
        <p:sp>
          <p:nvSpPr>
            <p:cNvPr id="6" name="Line 8"/>
            <p:cNvSpPr/>
            <p:nvPr/>
          </p:nvSpPr>
          <p:spPr>
            <a:xfrm>
              <a:off x="0" y="539640"/>
              <a:ext cx="9144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0" y="6405480"/>
              <a:ext cx="9144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8" name="Picture 10" descr="Logo-grün-peter"/>
            <p:cNvPicPr/>
            <p:nvPr/>
          </p:nvPicPr>
          <p:blipFill>
            <a:blip r:embed="rId2"/>
            <a:stretch/>
          </p:blipFill>
          <p:spPr>
            <a:xfrm>
              <a:off x="7999560" y="71280"/>
              <a:ext cx="838080" cy="381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" name="Group 41"/>
            <p:cNvGrpSpPr/>
            <p:nvPr/>
          </p:nvGrpSpPr>
          <p:grpSpPr>
            <a:xfrm>
              <a:off x="6207120" y="301680"/>
              <a:ext cx="1522440" cy="154080"/>
              <a:chOff x="6207120" y="301680"/>
              <a:chExt cx="1522440" cy="154080"/>
            </a:xfrm>
          </p:grpSpPr>
          <p:sp>
            <p:nvSpPr>
              <p:cNvPr id="10" name="AutoShape 42"/>
              <p:cNvSpPr/>
              <p:nvPr/>
            </p:nvSpPr>
            <p:spPr>
              <a:xfrm>
                <a:off x="6207120" y="301680"/>
                <a:ext cx="1522440" cy="15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" name="Rectangle 43"/>
              <p:cNvSpPr/>
              <p:nvPr/>
            </p:nvSpPr>
            <p:spPr>
              <a:xfrm>
                <a:off x="6221520" y="314280"/>
                <a:ext cx="230040" cy="128520"/>
              </a:xfrm>
              <a:prstGeom prst="rect">
                <a:avLst/>
              </a:prstGeom>
              <a:solidFill>
                <a:srgbClr val="e779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" name="Freeform 44"/>
              <p:cNvSpPr/>
              <p:nvPr/>
            </p:nvSpPr>
            <p:spPr>
              <a:xfrm>
                <a:off x="6216480" y="309600"/>
                <a:ext cx="238320" cy="138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" name="Rectangle 45"/>
              <p:cNvSpPr/>
              <p:nvPr/>
            </p:nvSpPr>
            <p:spPr>
              <a:xfrm>
                <a:off x="6473880" y="314280"/>
                <a:ext cx="231840" cy="128520"/>
              </a:xfrm>
              <a:prstGeom prst="rect">
                <a:avLst/>
              </a:prstGeom>
              <a:solidFill>
                <a:srgbClr val="cc86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" name="Freeform 46"/>
              <p:cNvSpPr/>
              <p:nvPr/>
            </p:nvSpPr>
            <p:spPr>
              <a:xfrm>
                <a:off x="6470640" y="309600"/>
                <a:ext cx="237960" cy="138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" name="Rectangle 47"/>
              <p:cNvSpPr/>
              <p:nvPr/>
            </p:nvSpPr>
            <p:spPr>
              <a:xfrm>
                <a:off x="6726240" y="314280"/>
                <a:ext cx="230040" cy="128520"/>
              </a:xfrm>
              <a:prstGeom prst="rect">
                <a:avLst/>
              </a:prstGeom>
              <a:solidFill>
                <a:srgbClr val="ee25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" name="Freeform 48"/>
              <p:cNvSpPr/>
              <p:nvPr/>
            </p:nvSpPr>
            <p:spPr>
              <a:xfrm>
                <a:off x="6723000" y="309600"/>
                <a:ext cx="238320" cy="138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" name="Rectangle 49"/>
              <p:cNvSpPr/>
              <p:nvPr/>
            </p:nvSpPr>
            <p:spPr>
              <a:xfrm>
                <a:off x="6980400" y="314280"/>
                <a:ext cx="230040" cy="128520"/>
              </a:xfrm>
              <a:prstGeom prst="rect">
                <a:avLst/>
              </a:prstGeom>
              <a:solidFill>
                <a:srgbClr val="667a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" name="Freeform 50"/>
              <p:cNvSpPr/>
              <p:nvPr/>
            </p:nvSpPr>
            <p:spPr>
              <a:xfrm>
                <a:off x="6975360" y="309600"/>
                <a:ext cx="238320" cy="138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" name="Rectangle 51"/>
              <p:cNvSpPr/>
              <p:nvPr/>
            </p:nvSpPr>
            <p:spPr>
              <a:xfrm>
                <a:off x="7230960" y="314280"/>
                <a:ext cx="233640" cy="128520"/>
              </a:xfrm>
              <a:prstGeom prst="rect">
                <a:avLst/>
              </a:prstGeom>
              <a:solidFill>
                <a:srgbClr val="fff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" name="Freeform 52"/>
              <p:cNvSpPr/>
              <p:nvPr/>
            </p:nvSpPr>
            <p:spPr>
              <a:xfrm>
                <a:off x="7227720" y="309600"/>
                <a:ext cx="239760" cy="138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" name="Rectangle 53"/>
              <p:cNvSpPr/>
              <p:nvPr/>
            </p:nvSpPr>
            <p:spPr>
              <a:xfrm>
                <a:off x="7485120" y="314280"/>
                <a:ext cx="230040" cy="128520"/>
              </a:xfrm>
              <a:prstGeom prst="rect">
                <a:avLst/>
              </a:prstGeom>
              <a:solidFill>
                <a:srgbClr val="54b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" name="Freeform 54"/>
              <p:cNvSpPr/>
              <p:nvPr/>
            </p:nvSpPr>
            <p:spPr>
              <a:xfrm>
                <a:off x="7481880" y="309600"/>
                <a:ext cx="237960" cy="138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a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7"/>
          <p:cNvSpPr/>
          <p:nvPr/>
        </p:nvSpPr>
        <p:spPr>
          <a:xfrm>
            <a:off x="4408560" y="5894280"/>
            <a:ext cx="4532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Line 8"/>
          <p:cNvSpPr/>
          <p:nvPr/>
        </p:nvSpPr>
        <p:spPr>
          <a:xfrm>
            <a:off x="0" y="539640"/>
            <a:ext cx="914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Line 9"/>
          <p:cNvSpPr/>
          <p:nvPr/>
        </p:nvSpPr>
        <p:spPr>
          <a:xfrm>
            <a:off x="0" y="6405480"/>
            <a:ext cx="914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" name="Picture 19" descr="Logo-grün-peter"/>
          <p:cNvPicPr/>
          <p:nvPr/>
        </p:nvPicPr>
        <p:blipFill>
          <a:blip r:embed="rId2"/>
          <a:stretch/>
        </p:blipFill>
        <p:spPr>
          <a:xfrm>
            <a:off x="7999560" y="71280"/>
            <a:ext cx="838080" cy="381240"/>
          </a:xfrm>
          <a:prstGeom prst="rect">
            <a:avLst/>
          </a:prstGeom>
          <a:ln w="0">
            <a:noFill/>
          </a:ln>
        </p:spPr>
      </p:pic>
      <p:grpSp>
        <p:nvGrpSpPr>
          <p:cNvPr id="63" name="Group 35"/>
          <p:cNvGrpSpPr/>
          <p:nvPr/>
        </p:nvGrpSpPr>
        <p:grpSpPr>
          <a:xfrm>
            <a:off x="6207120" y="301680"/>
            <a:ext cx="1522440" cy="154080"/>
            <a:chOff x="6207120" y="301680"/>
            <a:chExt cx="1522440" cy="154080"/>
          </a:xfrm>
        </p:grpSpPr>
        <p:sp>
          <p:nvSpPr>
            <p:cNvPr id="64" name="AutoShape 22"/>
            <p:cNvSpPr/>
            <p:nvPr/>
          </p:nvSpPr>
          <p:spPr>
            <a:xfrm>
              <a:off x="6207120" y="301680"/>
              <a:ext cx="1522440" cy="15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" name="Rectangle 23"/>
            <p:cNvSpPr/>
            <p:nvPr/>
          </p:nvSpPr>
          <p:spPr>
            <a:xfrm>
              <a:off x="6221520" y="314280"/>
              <a:ext cx="230040" cy="128520"/>
            </a:xfrm>
            <a:prstGeom prst="rect">
              <a:avLst/>
            </a:prstGeom>
            <a:solidFill>
              <a:srgbClr val="e779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6" name="Freeform 24"/>
            <p:cNvSpPr/>
            <p:nvPr/>
          </p:nvSpPr>
          <p:spPr>
            <a:xfrm>
              <a:off x="6216480" y="309600"/>
              <a:ext cx="238320" cy="138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" name="Rectangle 25"/>
            <p:cNvSpPr/>
            <p:nvPr/>
          </p:nvSpPr>
          <p:spPr>
            <a:xfrm>
              <a:off x="6473880" y="314280"/>
              <a:ext cx="231840" cy="128520"/>
            </a:xfrm>
            <a:prstGeom prst="rect">
              <a:avLst/>
            </a:prstGeom>
            <a:solidFill>
              <a:srgbClr val="cc8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" name="Freeform 26"/>
            <p:cNvSpPr/>
            <p:nvPr/>
          </p:nvSpPr>
          <p:spPr>
            <a:xfrm>
              <a:off x="6470640" y="309600"/>
              <a:ext cx="237960" cy="138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9" name="Rectangle 27"/>
            <p:cNvSpPr/>
            <p:nvPr/>
          </p:nvSpPr>
          <p:spPr>
            <a:xfrm>
              <a:off x="6726240" y="314280"/>
              <a:ext cx="230040" cy="128520"/>
            </a:xfrm>
            <a:prstGeom prst="rect">
              <a:avLst/>
            </a:prstGeom>
            <a:solidFill>
              <a:srgbClr val="ee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0" name="Freeform 28"/>
            <p:cNvSpPr/>
            <p:nvPr/>
          </p:nvSpPr>
          <p:spPr>
            <a:xfrm>
              <a:off x="6723000" y="309600"/>
              <a:ext cx="238320" cy="138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1" name="Rectangle 29"/>
            <p:cNvSpPr/>
            <p:nvPr/>
          </p:nvSpPr>
          <p:spPr>
            <a:xfrm>
              <a:off x="6980400" y="314280"/>
              <a:ext cx="230040" cy="128520"/>
            </a:xfrm>
            <a:prstGeom prst="rect">
              <a:avLst/>
            </a:prstGeom>
            <a:solidFill>
              <a:srgbClr val="667a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2" name="Freeform 30"/>
            <p:cNvSpPr/>
            <p:nvPr/>
          </p:nvSpPr>
          <p:spPr>
            <a:xfrm>
              <a:off x="6975360" y="309600"/>
              <a:ext cx="238320" cy="138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3" name="Rectangle 31"/>
            <p:cNvSpPr/>
            <p:nvPr/>
          </p:nvSpPr>
          <p:spPr>
            <a:xfrm>
              <a:off x="7230960" y="314280"/>
              <a:ext cx="233640" cy="128520"/>
            </a:xfrm>
            <a:prstGeom prst="rect">
              <a:avLst/>
            </a:prstGeom>
            <a:solidFill>
              <a:srgbClr val="fff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4" name="Freeform 32"/>
            <p:cNvSpPr/>
            <p:nvPr/>
          </p:nvSpPr>
          <p:spPr>
            <a:xfrm>
              <a:off x="7227720" y="309600"/>
              <a:ext cx="239760" cy="138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" name="Rectangle 33"/>
            <p:cNvSpPr/>
            <p:nvPr/>
          </p:nvSpPr>
          <p:spPr>
            <a:xfrm>
              <a:off x="7485120" y="314280"/>
              <a:ext cx="230040" cy="128520"/>
            </a:xfrm>
            <a:prstGeom prst="rect">
              <a:avLst/>
            </a:prstGeom>
            <a:solidFill>
              <a:srgbClr val="54b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" name="Freeform 34"/>
            <p:cNvSpPr/>
            <p:nvPr/>
          </p:nvSpPr>
          <p:spPr>
            <a:xfrm>
              <a:off x="7481880" y="309600"/>
              <a:ext cx="237960" cy="138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630360"/>
            <a:ext cx="8435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6840" y="1854360"/>
            <a:ext cx="8435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0360" indent="-36036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93880" indent="-3542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33520" indent="-3603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973160" indent="-36036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513160" indent="-360360">
              <a:spcBef>
                <a:spcPts val="499"/>
              </a:spcBef>
              <a:buClr>
                <a:srgbClr val="000000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513160" indent="-360360">
              <a:spcBef>
                <a:spcPts val="499"/>
              </a:spcBef>
              <a:buClr>
                <a:srgbClr val="000000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513160" indent="-360360">
              <a:spcBef>
                <a:spcPts val="499"/>
              </a:spcBef>
              <a:buClr>
                <a:srgbClr val="000000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000" y="1341360"/>
            <a:ext cx="83516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Proposed changes with regard to the implementation of technical specifications for Lane Departure Warning Systems (LDWS)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2400"/>
            </a:br>
            <a:br>
              <a:rPr sz="2000"/>
            </a:br>
            <a:br>
              <a:rPr sz="2000"/>
            </a:br>
            <a:r>
              <a:rPr b="1" lang="de-DE" sz="1600" spc="-1" strike="noStrike" u="sng">
                <a:solidFill>
                  <a:srgbClr val="000000"/>
                </a:solidFill>
                <a:uFillTx/>
                <a:latin typeface="Verdana"/>
              </a:rPr>
              <a:t>GRRF-65-20</a:t>
            </a: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68360" y="3212640"/>
            <a:ext cx="7532640" cy="26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de-DE" sz="2000" spc="-1" strike="noStrike" baseline="30000">
                <a:solidFill>
                  <a:srgbClr val="000000"/>
                </a:solidFill>
                <a:latin typeface="Verdana"/>
              </a:rPr>
              <a:t>st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meeting of GRRF informal group on AEBS and LDW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Paris, 25</a:t>
            </a:r>
            <a:r>
              <a:rPr b="0" lang="de-DE" sz="20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/26</a:t>
            </a:r>
            <a:r>
              <a:rPr b="0" lang="de-DE" sz="20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of June 2009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Dr. Jost Gai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Federal Highway Research Institut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ZoneTexte 3"/>
          <p:cNvSpPr/>
          <p:nvPr/>
        </p:nvSpPr>
        <p:spPr>
          <a:xfrm>
            <a:off x="214200" y="142920"/>
            <a:ext cx="221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AEBS/LDW-01-1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ußzeilenplatzhalter 4"/>
          <p:cNvSpPr/>
          <p:nvPr/>
        </p:nvSpPr>
        <p:spPr>
          <a:xfrm>
            <a:off x="457200" y="6381720"/>
            <a:ext cx="5267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Dr. Jost Gai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Section „Active Vehicle Safety, Emissions, Energy“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Foliennummernplatzhalter 5"/>
          <p:cNvSpPr/>
          <p:nvPr/>
        </p:nvSpPr>
        <p:spPr>
          <a:xfrm>
            <a:off x="6831000" y="6408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Folie No.  </a:t>
            </a:r>
            <a:fld id="{B78B1302-A197-440A-ACA5-AF867548E07C}" type="slidenum">
              <a:rPr b="0" lang="de-DE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6840" y="549360"/>
            <a:ext cx="8435880" cy="547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0360" indent="0">
              <a:spcBef>
                <a:spcPts val="1199"/>
              </a:spcBef>
              <a:spcAft>
                <a:spcPts val="400"/>
              </a:spcAft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Objectiv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0360" indent="-360360"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Verdan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introduce technical specifications on                                 Lane Departure Warning Systems (LDWS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0360" indent="-360360" algn="just"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Verdan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in Regulation No. 79 (Steering equipment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0360" indent="-360360"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Verdan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mainly by inserting a new ann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0360" indent="-360360"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Verdan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using the terms and definitions of ISO 17361:2007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0360" indent="0" algn="just">
              <a:spcBef>
                <a:spcPts val="400"/>
              </a:spcBef>
              <a:spcAft>
                <a:spcPts val="400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60360" indent="0" algn="just"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Justific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0360" indent="-360360" algn="just"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Verdan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LDWS corresponds to lateral guidance of the vehicle and thus directly to steer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0360" indent="-360360" algn="just"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Verdan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It is already possible to get an approval according to Regulation No. 79 for LDWS as well as Lane Keeping Systems (facultatively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0360" indent="-360360" algn="just"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Verdan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Only minimum requirements for mandatory fitment have still to be describ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0360" indent="0" algn="just"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0360" indent="0" algn="just"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liennummernplatzhalter 5"/>
          <p:cNvSpPr/>
          <p:nvPr/>
        </p:nvSpPr>
        <p:spPr>
          <a:xfrm>
            <a:off x="6831000" y="6408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Folie No.  </a:t>
            </a:r>
            <a:fld id="{68F2DD17-4DDD-46AA-A518-E9C9C3194949}" type="slidenum">
              <a:rPr b="0" lang="de-DE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357120" y="713880"/>
            <a:ext cx="551016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0360" indent="0">
              <a:spcBef>
                <a:spcPts val="4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LDWS - </a:t>
            </a:r>
            <a:r>
              <a:rPr b="1" lang="de-DE" sz="1900" spc="-1" strike="noStrike">
                <a:solidFill>
                  <a:srgbClr val="000000"/>
                </a:solidFill>
                <a:latin typeface="Verdana"/>
              </a:rPr>
              <a:t>ISO 17361:2007</a:t>
            </a: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0360" indent="0">
              <a:spcBef>
                <a:spcPts val="4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0360" indent="0">
              <a:spcBef>
                <a:spcPts val="4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Intelligent Transport Systems 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0360" indent="0">
              <a:spcBef>
                <a:spcPts val="4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Lane departure warning systems –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0360" indent="0">
              <a:spcBef>
                <a:spcPts val="4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Performance requirements an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0360" indent="0">
              <a:spcBef>
                <a:spcPts val="4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test procedur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0360" indent="0"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0360" indent="0"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0360" indent="0">
              <a:spcBef>
                <a:spcPts val="4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1 Lane Boundar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0360" indent="0">
              <a:spcBef>
                <a:spcPts val="4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2 Lane Depart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0360" indent="0">
              <a:spcBef>
                <a:spcPts val="4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3 Warning Threshold (reference only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0360" indent="0">
              <a:spcBef>
                <a:spcPts val="4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4 Earliest Warning Li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0360" indent="0">
              <a:spcBef>
                <a:spcPts val="4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5 Latest Warning Li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0360" indent="0">
              <a:lnSpc>
                <a:spcPct val="140000"/>
              </a:lnSpc>
              <a:spcBef>
                <a:spcPts val="1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Picture 7" descr=""/>
          <p:cNvPicPr/>
          <p:nvPr/>
        </p:nvPicPr>
        <p:blipFill>
          <a:blip r:embed="rId1"/>
          <a:stretch/>
        </p:blipFill>
        <p:spPr>
          <a:xfrm>
            <a:off x="6300720" y="1125360"/>
            <a:ext cx="2260800" cy="4824720"/>
          </a:xfrm>
          <a:prstGeom prst="rect">
            <a:avLst/>
          </a:prstGeom>
          <a:ln w="0">
            <a:noFill/>
          </a:ln>
        </p:spPr>
      </p:pic>
      <p:sp>
        <p:nvSpPr>
          <p:cNvPr id="131" name="Fußzeilenplatzhalter 4"/>
          <p:cNvSpPr/>
          <p:nvPr/>
        </p:nvSpPr>
        <p:spPr>
          <a:xfrm>
            <a:off x="457200" y="6381720"/>
            <a:ext cx="5267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Dr. Jost Gai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Section „Active Vehicle Safety, Emissions, Energy“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liennummernplatzhalter 5"/>
          <p:cNvSpPr/>
          <p:nvPr/>
        </p:nvSpPr>
        <p:spPr>
          <a:xfrm>
            <a:off x="6831000" y="6408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Folie No.  </a:t>
            </a:r>
            <a:fld id="{97AC1193-4047-469F-8A4F-D2AC568D32AC}" type="slidenum">
              <a:rPr b="0" lang="de-DE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56760" y="713880"/>
            <a:ext cx="70232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49200" indent="0">
              <a:spcBef>
                <a:spcPts val="4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ISO 17361:2007 – System Classific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9200" indent="0">
              <a:spcBef>
                <a:spcPts val="4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9200" indent="0">
              <a:spcBef>
                <a:spcPts val="4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9200" indent="0"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9200" indent="0"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9200" indent="0"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9200" indent="0"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9200" indent="0"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9200" indent="0"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9200" indent="0"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9200" indent="0"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9200" indent="-3492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latest warning (beyond lane mark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66880" indent="-3434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Passenger Car: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0.3 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66880" indent="-3434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Heavy Duty Vehicle: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1.0 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08440" indent="0">
              <a:spcBef>
                <a:spcPts val="451"/>
              </a:spcBef>
              <a:buNone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9200" indent="0">
              <a:lnSpc>
                <a:spcPct val="140000"/>
              </a:lnSpc>
              <a:spcBef>
                <a:spcPts val="1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4" name="Object 6"/>
          <p:cNvGraphicFramePr/>
          <p:nvPr/>
        </p:nvGraphicFramePr>
        <p:xfrm>
          <a:off x="1616040" y="1703520"/>
          <a:ext cx="7128000" cy="3757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6040" y="1703520"/>
                    <a:ext cx="7128000" cy="375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Fußzeilenplatzhalter 4"/>
          <p:cNvSpPr/>
          <p:nvPr/>
        </p:nvSpPr>
        <p:spPr>
          <a:xfrm>
            <a:off x="457200" y="6381720"/>
            <a:ext cx="5267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Dr. Jost Gai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Section „Active Vehicle Safety, Emissions, Energy“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Foliennummernplatzhalter 5"/>
          <p:cNvSpPr/>
          <p:nvPr/>
        </p:nvSpPr>
        <p:spPr>
          <a:xfrm>
            <a:off x="6831000" y="6408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Folie No.  </a:t>
            </a:r>
            <a:fld id="{97D7A74C-7CED-48AF-B896-98383BDD7DE6}" type="slidenum">
              <a:rPr b="0" lang="de-DE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214200" y="714240"/>
            <a:ext cx="8678880" cy="530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39840" indent="0" algn="just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Approac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840" indent="-339840">
              <a:spcAft>
                <a:spcPts val="6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Take over the requirements (terms, definitions and test method) of ISO 17361:2007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840" indent="-339840">
              <a:spcAft>
                <a:spcPts val="6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Considering the technology of modern LDWS some requirements of the ISO Standard should be chang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840"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840" indent="-33984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Insert</a:t>
            </a: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 „Annex 7“</a:t>
            </a:r>
            <a:r>
              <a:rPr b="1" i="1" lang="de-D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de-DE" sz="2000" spc="-1" strike="noStrike">
                <a:solidFill>
                  <a:srgbClr val="000000"/>
                </a:solidFill>
                <a:latin typeface="Verdana"/>
              </a:rPr>
              <a:t>into Regulation No. 79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de-DE" sz="2000" spc="-1" strike="noStrike">
                <a:solidFill>
                  <a:srgbClr val="000000"/>
                </a:solidFill>
                <a:latin typeface="Verdana"/>
              </a:rPr>
              <a:t>TEST REQUIREMENTS FOR VEHICLES FITTED WITH LA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de-DE" sz="2000" spc="-1" strike="noStrike">
                <a:solidFill>
                  <a:srgbClr val="000000"/>
                </a:solidFill>
                <a:latin typeface="Verdana"/>
              </a:rPr>
              <a:t>DEPARTURE WARNING SYSTEM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413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de-DE" sz="1800" spc="-1" strike="noStrike">
                <a:solidFill>
                  <a:srgbClr val="000000"/>
                </a:solidFill>
                <a:latin typeface="Verdana"/>
              </a:rPr>
              <a:t>1. GENERAL</a:t>
            </a:r>
            <a:r>
              <a:rPr b="0" i="1" lang="de-DE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413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de-DE" sz="1800" spc="-1" strike="noStrike">
                <a:solidFill>
                  <a:srgbClr val="000000"/>
                </a:solidFill>
                <a:latin typeface="Verdana"/>
              </a:rPr>
              <a:t>This annex defines the requirements for Lane Departure Warning Systems (LDWS)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413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de-DE" sz="1800" spc="-1" strike="noStrike">
                <a:solidFill>
                  <a:srgbClr val="000000"/>
                </a:solidFill>
                <a:latin typeface="Verdana"/>
              </a:rPr>
              <a:t>2. DEFINITIONS</a:t>
            </a:r>
            <a:r>
              <a:rPr b="0" i="1" lang="de-DE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413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de-DE" sz="1800" spc="-1" strike="noStrike">
                <a:solidFill>
                  <a:srgbClr val="000000"/>
                </a:solidFill>
                <a:latin typeface="Verdana"/>
              </a:rPr>
              <a:t>For the purposes of this annex the terms and definitions of ISO 17361:2007 will apply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413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de-DE" sz="1800" spc="-1" strike="noStrike">
                <a:solidFill>
                  <a:srgbClr val="000000"/>
                </a:solidFill>
                <a:latin typeface="Verdana"/>
              </a:rPr>
              <a:t>3. DOCUMENT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Fußzeilenplatzhalter 4"/>
          <p:cNvSpPr/>
          <p:nvPr/>
        </p:nvSpPr>
        <p:spPr>
          <a:xfrm>
            <a:off x="457200" y="6381720"/>
            <a:ext cx="5267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Dr. Jost Gai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Section „Active Vehicle Safety, Emissions, Energy“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ußzeilenplatzhalter 4"/>
          <p:cNvSpPr/>
          <p:nvPr/>
        </p:nvSpPr>
        <p:spPr>
          <a:xfrm>
            <a:off x="457200" y="6381720"/>
            <a:ext cx="5267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Dr. Jost Gai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Section „Active Vehicle Safety, Emissions, Energy“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Foliennummernplatzhalter 5"/>
          <p:cNvSpPr/>
          <p:nvPr/>
        </p:nvSpPr>
        <p:spPr>
          <a:xfrm>
            <a:off x="6831000" y="6408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Folie No.  </a:t>
            </a:r>
            <a:fld id="{67DDE75A-D345-4BD8-9B65-3E4DA5556193}" type="slidenum">
              <a:rPr b="0" lang="de-DE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56840" y="691920"/>
            <a:ext cx="84358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0360"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de-DE" sz="1800" spc="-1" strike="noStrike">
                <a:solidFill>
                  <a:srgbClr val="000000"/>
                </a:solidFill>
                <a:latin typeface="Verdana"/>
              </a:rPr>
              <a:t>4. VERIFICATION AND TES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60360"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de-DE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60360"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Verdana"/>
              </a:rPr>
              <a:t>4.1. The system may be fitted with a system on/off control that can be operated by the driver at all times. The LDWS shall </a:t>
            </a:r>
            <a:r>
              <a:rPr b="0" i="1" lang="de-DE" sz="1800" spc="-1" strike="noStrike" u="sng">
                <a:solidFill>
                  <a:srgbClr val="000000"/>
                </a:solidFill>
                <a:uFillTx/>
                <a:latin typeface="Verdana"/>
              </a:rPr>
              <a:t>automatically be switched on</a:t>
            </a:r>
            <a:r>
              <a:rPr b="0" i="1" lang="de-DE" sz="1800" spc="-1" strike="noStrike">
                <a:solidFill>
                  <a:srgbClr val="000000"/>
                </a:solidFill>
                <a:latin typeface="Verdana"/>
              </a:rPr>
              <a:t> when the ignition (start) device is set to the "ON" (run) positi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60360"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Verdana"/>
              </a:rPr>
              <a:t>4.2. [The system shall meet the requirements for LDWS of </a:t>
            </a:r>
            <a:r>
              <a:rPr b="0" i="1" lang="de-DE" sz="1800" spc="-1" strike="noStrike" u="sng">
                <a:solidFill>
                  <a:srgbClr val="000000"/>
                </a:solidFill>
                <a:uFillTx/>
                <a:latin typeface="Verdana"/>
              </a:rPr>
              <a:t>class II</a:t>
            </a:r>
            <a:r>
              <a:rPr b="0" i="1" lang="de-DE" sz="1800" spc="-1" strike="noStrike">
                <a:solidFill>
                  <a:srgbClr val="000000"/>
                </a:solidFill>
                <a:latin typeface="Verdana"/>
              </a:rPr>
              <a:t> as defined in ISO 17361:2007, item 4.2.]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60360"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Verdana"/>
              </a:rPr>
              <a:t>4.3. The system shall meet the requirements as defined in ISO 17361:2007, item 4.3. with following exceptions and supplements: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433520" indent="0">
              <a:spcBef>
                <a:spcPts val="451"/>
              </a:spcBef>
              <a:buNone/>
              <a:tabLst>
                <a:tab algn="l" pos="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i="1" lang="de-DE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de-DE" sz="1800" spc="-1" strike="noStrike">
                <a:solidFill>
                  <a:srgbClr val="000000"/>
                </a:solidFill>
                <a:latin typeface="Verdana"/>
              </a:rPr>
              <a:t>The LDWS shall be automatically activated when the vehicle speed exceeds [60 km/h]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433520" indent="-360360">
              <a:spcBef>
                <a:spcPts val="451"/>
              </a:spcBef>
              <a:buClr>
                <a:srgbClr val="000000"/>
              </a:buClr>
              <a:buFont typeface="Verdana"/>
              <a:buChar char="-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i="1" lang="de-DE" sz="1800" spc="-1" strike="noStrike" u="sng">
                <a:solidFill>
                  <a:srgbClr val="000000"/>
                </a:solidFill>
                <a:uFillTx/>
                <a:latin typeface="Verdana"/>
              </a:rPr>
              <a:t>latest warning line</a:t>
            </a:r>
            <a:r>
              <a:rPr b="0" i="1" lang="de-DE" sz="1800" spc="-1" strike="noStrike">
                <a:solidFill>
                  <a:srgbClr val="000000"/>
                </a:solidFill>
                <a:latin typeface="Verdana"/>
              </a:rPr>
              <a:t> (as defined in 3.17 in ISO 17361:2007) is located </a:t>
            </a:r>
            <a:r>
              <a:rPr b="0" i="1" lang="de-DE" sz="1800" spc="-1" strike="noStrike" u="sng">
                <a:solidFill>
                  <a:srgbClr val="000000"/>
                </a:solidFill>
                <a:uFillTx/>
                <a:latin typeface="Verdana"/>
              </a:rPr>
              <a:t>[0,3 m]</a:t>
            </a:r>
            <a:r>
              <a:rPr b="0" i="1" lang="de-DE" sz="1800" spc="-1" strike="noStrike">
                <a:solidFill>
                  <a:srgbClr val="000000"/>
                </a:solidFill>
                <a:latin typeface="Verdana"/>
              </a:rPr>
              <a:t> outside of the lane boundary for all vehicles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433520" indent="-360360">
              <a:spcBef>
                <a:spcPts val="451"/>
              </a:spcBef>
              <a:buClr>
                <a:srgbClr val="000000"/>
              </a:buClr>
              <a:buFont typeface="Verdana"/>
              <a:buChar char="-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Verdana"/>
              </a:rPr>
              <a:t>The requirements for </a:t>
            </a:r>
            <a:r>
              <a:rPr b="0" i="1" lang="de-DE" sz="1800" spc="-1" strike="noStrike" u="sng">
                <a:solidFill>
                  <a:srgbClr val="000000"/>
                </a:solidFill>
                <a:uFillTx/>
                <a:latin typeface="Verdana"/>
              </a:rPr>
              <a:t>the earliest warning line</a:t>
            </a:r>
            <a:r>
              <a:rPr b="0" i="1" lang="de-DE" sz="1800" spc="-1" strike="noStrike">
                <a:solidFill>
                  <a:srgbClr val="000000"/>
                </a:solidFill>
                <a:latin typeface="Verdana"/>
              </a:rPr>
              <a:t> (4.3.2 subitem c in ISO 17361:2007) will </a:t>
            </a:r>
            <a:r>
              <a:rPr b="0" i="1" lang="de-DE" sz="1800" spc="-1" strike="noStrike" u="sng">
                <a:solidFill>
                  <a:srgbClr val="000000"/>
                </a:solidFill>
                <a:uFillTx/>
                <a:latin typeface="Verdana"/>
              </a:rPr>
              <a:t>not apply</a:t>
            </a:r>
            <a:r>
              <a:rPr b="0" i="1" lang="de-DE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Fußzeilenplatzhalter 4"/>
          <p:cNvSpPr/>
          <p:nvPr/>
        </p:nvSpPr>
        <p:spPr>
          <a:xfrm>
            <a:off x="457200" y="6381720"/>
            <a:ext cx="5267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Dr. Jost Gai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Section „Active Vehicle Safety, Emissions, Energy“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Foliennummernplatzhalter 5"/>
          <p:cNvSpPr/>
          <p:nvPr/>
        </p:nvSpPr>
        <p:spPr>
          <a:xfrm>
            <a:off x="6831000" y="6408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Folie No.  </a:t>
            </a:r>
            <a:fld id="{F5475A3A-114F-4A59-ACC2-7941EE19BC59}" type="slidenum">
              <a:rPr b="0" lang="de-DE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6840" y="549360"/>
            <a:ext cx="8435880" cy="547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0360"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60360"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de-DE" sz="1800" spc="-1" strike="noStrike">
                <a:solidFill>
                  <a:srgbClr val="000000"/>
                </a:solidFill>
                <a:latin typeface="Verdana"/>
              </a:rPr>
              <a:t>4. VERIFICATION AND TES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60360"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60360"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Verdana"/>
              </a:rPr>
              <a:t>4.4 The test methods in ISO 17361:2007 item 5 will apply with the following exception: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433520" indent="-360360">
              <a:spcBef>
                <a:spcPts val="451"/>
              </a:spcBef>
              <a:buClr>
                <a:srgbClr val="000000"/>
              </a:buClr>
              <a:buFont typeface="Verdana"/>
              <a:buChar char="-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Verdana"/>
              </a:rPr>
              <a:t>Warning generation test (item 5.6.1 in ISO 17361:2007)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433520" indent="0">
              <a:spcBef>
                <a:spcPts val="400"/>
              </a:spcBef>
              <a:buNone/>
              <a:tabLst>
                <a:tab algn="l" pos="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de-DE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de-DE" sz="1800" spc="-1" strike="noStrike">
                <a:solidFill>
                  <a:srgbClr val="000000"/>
                </a:solidFill>
                <a:latin typeface="Verdana"/>
              </a:rPr>
              <a:t>The system shall provide repeatable warnings within a zone of [30 cm] prior to crossing the latest warning line for each test case.</a:t>
            </a:r>
            <a:r>
              <a:rPr b="0" i="1" lang="de-DE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60360" indent="0" algn="just">
              <a:spcBef>
                <a:spcPts val="400"/>
              </a:spcBef>
              <a:spcAft>
                <a:spcPts val="400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1T11:43:09Z</dcterms:created>
  <dc:creator>Peter Herber</dc:creator>
  <dc:description>BASt MusterFolie
20061221</dc:description>
  <cp:keywords>BASt MusterFolie</cp:keywords>
  <dc:language>en-US</dc:language>
  <cp:lastModifiedBy>ofontaine</cp:lastModifiedBy>
  <cp:lastPrinted>2007-06-07T10:29:18Z</cp:lastPrinted>
  <dcterms:modified xsi:type="dcterms:W3CDTF">2009-07-10T13:23:47Z</dcterms:modified>
  <cp:revision>134</cp:revision>
  <dc:subject>BASt MusterFolie</dc:subject>
  <dc:title>BASt MusterFolie</dc:title>
</cp:coreProperties>
</file>