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um/Jah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2FE0-F750-47C3-90BA-8E993D766FC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6FCD16-11F6-4C78-B3EF-8752343F425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7EDBB7-27AA-4C3A-9D3C-1AE24A9AD11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A63401-8C4B-45A6-AB69-9513573330D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DCA72A-82F6-461F-8928-7F83CF159DC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E6B9F2-C3FF-40D5-8682-CCB996A8D99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86CA1B-F811-4E62-9E46-008790B39CC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32EFA1-5E27-4FD8-8622-63F79AB0996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1BE2-7905-40C9-BF20-AD601028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8435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6840" y="4162680"/>
            <a:ext cx="8435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AB16-0663-4D50-A302-72D0CC8E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972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6840" y="416268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79720" y="416268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7ED-294F-4E60-9601-E72A0C06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09120" y="185436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61760" y="185436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6840" y="416268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09120" y="416268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61760" y="416268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3CA-D44D-4717-8C65-3238A557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6840" y="1854360"/>
            <a:ext cx="84358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843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411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9720" y="1854360"/>
            <a:ext cx="411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630360"/>
            <a:ext cx="8435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79720" y="1854360"/>
            <a:ext cx="411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16268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6840" y="1854360"/>
            <a:ext cx="84358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80C-F26C-4F2B-AB68-4263A5C6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411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7972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779720" y="416268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7972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4162680"/>
            <a:ext cx="8435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8435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6840" y="4162680"/>
            <a:ext cx="8435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7972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416268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779720" y="416268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09120" y="185436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61760" y="185436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6840" y="416268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309120" y="416268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61760" y="4162680"/>
            <a:ext cx="2716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843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6FA-D6C7-40FB-BC2E-134E687A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411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9720" y="1854360"/>
            <a:ext cx="411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721-21C1-4C49-BBF4-973BB1A7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5CF4-8B1A-4AC9-861F-2EC35A31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630360"/>
            <a:ext cx="8435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7DFE-2EA6-40D1-BF53-F400BEFA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1854360"/>
            <a:ext cx="411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6268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CA0-C958-4563-96F3-26D6A6D8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411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972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79720" y="416268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85F-579D-495B-B685-D93F0B6E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79720" y="1854360"/>
            <a:ext cx="4116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6840" y="4162680"/>
            <a:ext cx="8435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961-8B52-4B29-818D-71044CD4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a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54360"/>
            <a:ext cx="843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3542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33520" indent="-3603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973160" indent="-3603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13160" indent="-360360">
              <a:spcBef>
                <a:spcPts val="499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13160" indent="-360360">
              <a:spcBef>
                <a:spcPts val="499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13160" indent="-360360">
              <a:spcBef>
                <a:spcPts val="499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76360" y="6408360"/>
            <a:ext cx="3429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undesanstalt für Straßenwe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r. Jost G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eferat F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0640" y="6408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ie Nr.  </a:t>
            </a:r>
            <a:fld id="{0D1C96ED-D9DF-420D-B1B5-480750BD08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55"/>
          <p:cNvGrpSpPr/>
          <p:nvPr/>
        </p:nvGrpSpPr>
        <p:grpSpPr>
          <a:xfrm>
            <a:off x="0" y="71280"/>
            <a:ext cx="9144000" cy="6334200"/>
            <a:chOff x="0" y="71280"/>
            <a:chExt cx="9144000" cy="6334200"/>
          </a:xfrm>
        </p:grpSpPr>
        <p:sp>
          <p:nvSpPr>
            <p:cNvPr id="6" name="Line 8"/>
            <p:cNvSpPr/>
            <p:nvPr/>
          </p:nvSpPr>
          <p:spPr>
            <a:xfrm>
              <a:off x="0" y="53964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0" y="640548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" name="Picture 10" descr="Logo-grün-peter"/>
            <p:cNvPicPr/>
            <p:nvPr/>
          </p:nvPicPr>
          <p:blipFill>
            <a:blip r:embed="rId2"/>
            <a:stretch/>
          </p:blipFill>
          <p:spPr>
            <a:xfrm>
              <a:off x="7999560" y="71280"/>
              <a:ext cx="83808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" name="Group 41"/>
            <p:cNvGrpSpPr/>
            <p:nvPr/>
          </p:nvGrpSpPr>
          <p:grpSpPr>
            <a:xfrm>
              <a:off x="6207120" y="301680"/>
              <a:ext cx="1522440" cy="154080"/>
              <a:chOff x="6207120" y="301680"/>
              <a:chExt cx="1522440" cy="154080"/>
            </a:xfrm>
          </p:grpSpPr>
          <p:sp>
            <p:nvSpPr>
              <p:cNvPr id="10" name="AutoShape 42"/>
              <p:cNvSpPr/>
              <p:nvPr/>
            </p:nvSpPr>
            <p:spPr>
              <a:xfrm>
                <a:off x="6207120" y="301680"/>
                <a:ext cx="1522440" cy="15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Rectangle 43"/>
              <p:cNvSpPr/>
              <p:nvPr/>
            </p:nvSpPr>
            <p:spPr>
              <a:xfrm>
                <a:off x="6221520" y="314280"/>
                <a:ext cx="230040" cy="128520"/>
              </a:xfrm>
              <a:prstGeom prst="rect">
                <a:avLst/>
              </a:prstGeom>
              <a:solidFill>
                <a:srgbClr val="e77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44"/>
              <p:cNvSpPr/>
              <p:nvPr/>
            </p:nvSpPr>
            <p:spPr>
              <a:xfrm>
                <a:off x="6216480" y="309600"/>
                <a:ext cx="238320" cy="13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45"/>
              <p:cNvSpPr/>
              <p:nvPr/>
            </p:nvSpPr>
            <p:spPr>
              <a:xfrm>
                <a:off x="6473880" y="314280"/>
                <a:ext cx="231840" cy="128520"/>
              </a:xfrm>
              <a:prstGeom prst="rect">
                <a:avLst/>
              </a:prstGeom>
              <a:solidFill>
                <a:srgbClr val="cc8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" name="Freeform 46"/>
              <p:cNvSpPr/>
              <p:nvPr/>
            </p:nvSpPr>
            <p:spPr>
              <a:xfrm>
                <a:off x="6470640" y="309600"/>
                <a:ext cx="237960" cy="13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" name="Rectangle 47"/>
              <p:cNvSpPr/>
              <p:nvPr/>
            </p:nvSpPr>
            <p:spPr>
              <a:xfrm>
                <a:off x="6726240" y="314280"/>
                <a:ext cx="230040" cy="128520"/>
              </a:xfrm>
              <a:prstGeom prst="rect">
                <a:avLst/>
              </a:prstGeom>
              <a:solidFill>
                <a:srgbClr val="ee2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" name="Freeform 48"/>
              <p:cNvSpPr/>
              <p:nvPr/>
            </p:nvSpPr>
            <p:spPr>
              <a:xfrm>
                <a:off x="6723000" y="309600"/>
                <a:ext cx="238320" cy="13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" name="Rectangle 49"/>
              <p:cNvSpPr/>
              <p:nvPr/>
            </p:nvSpPr>
            <p:spPr>
              <a:xfrm>
                <a:off x="6980400" y="314280"/>
                <a:ext cx="230040" cy="128520"/>
              </a:xfrm>
              <a:prstGeom prst="rect">
                <a:avLst/>
              </a:prstGeom>
              <a:solidFill>
                <a:srgbClr val="667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" name="Freeform 50"/>
              <p:cNvSpPr/>
              <p:nvPr/>
            </p:nvSpPr>
            <p:spPr>
              <a:xfrm>
                <a:off x="6975360" y="309600"/>
                <a:ext cx="238320" cy="13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Rectangle 51"/>
              <p:cNvSpPr/>
              <p:nvPr/>
            </p:nvSpPr>
            <p:spPr>
              <a:xfrm>
                <a:off x="7230960" y="314280"/>
                <a:ext cx="233640" cy="128520"/>
              </a:xfrm>
              <a:prstGeom prst="rect">
                <a:avLst/>
              </a:pr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52"/>
              <p:cNvSpPr/>
              <p:nvPr/>
            </p:nvSpPr>
            <p:spPr>
              <a:xfrm>
                <a:off x="7227720" y="309600"/>
                <a:ext cx="239760" cy="13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" name="Rectangle 53"/>
              <p:cNvSpPr/>
              <p:nvPr/>
            </p:nvSpPr>
            <p:spPr>
              <a:xfrm>
                <a:off x="7485120" y="314280"/>
                <a:ext cx="230040" cy="128520"/>
              </a:xfrm>
              <a:prstGeom prst="rect">
                <a:avLst/>
              </a:prstGeom>
              <a:solidFill>
                <a:srgbClr val="54b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" name="Freeform 54"/>
              <p:cNvSpPr/>
              <p:nvPr/>
            </p:nvSpPr>
            <p:spPr>
              <a:xfrm>
                <a:off x="7481880" y="309600"/>
                <a:ext cx="237960" cy="13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a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4408560" y="5894280"/>
            <a:ext cx="453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Line 8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Line 9"/>
          <p:cNvSpPr/>
          <p:nvPr/>
        </p:nvSpPr>
        <p:spPr>
          <a:xfrm>
            <a:off x="0" y="6405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19" descr="Logo-grün-peter"/>
          <p:cNvPicPr/>
          <p:nvPr/>
        </p:nvPicPr>
        <p:blipFill>
          <a:blip r:embed="rId2"/>
          <a:stretch/>
        </p:blipFill>
        <p:spPr>
          <a:xfrm>
            <a:off x="7999560" y="71280"/>
            <a:ext cx="838080" cy="38124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35"/>
          <p:cNvGrpSpPr/>
          <p:nvPr/>
        </p:nvGrpSpPr>
        <p:grpSpPr>
          <a:xfrm>
            <a:off x="6207120" y="301680"/>
            <a:ext cx="1522440" cy="154080"/>
            <a:chOff x="6207120" y="301680"/>
            <a:chExt cx="1522440" cy="154080"/>
          </a:xfrm>
        </p:grpSpPr>
        <p:sp>
          <p:nvSpPr>
            <p:cNvPr id="64" name="AutoShape 22"/>
            <p:cNvSpPr/>
            <p:nvPr/>
          </p:nvSpPr>
          <p:spPr>
            <a:xfrm>
              <a:off x="6207120" y="301680"/>
              <a:ext cx="152244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Rectangle 23"/>
            <p:cNvSpPr/>
            <p:nvPr/>
          </p:nvSpPr>
          <p:spPr>
            <a:xfrm>
              <a:off x="6221520" y="314280"/>
              <a:ext cx="230040" cy="128520"/>
            </a:xfrm>
            <a:prstGeom prst="rect">
              <a:avLst/>
            </a:prstGeom>
            <a:solidFill>
              <a:srgbClr val="e77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6216480" y="309600"/>
              <a:ext cx="23832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6473880" y="314280"/>
              <a:ext cx="231840" cy="128520"/>
            </a:xfrm>
            <a:prstGeom prst="rect">
              <a:avLst/>
            </a:prstGeom>
            <a:solidFill>
              <a:srgbClr val="cc8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6470640" y="309600"/>
              <a:ext cx="23796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6726240" y="314280"/>
              <a:ext cx="230040" cy="128520"/>
            </a:xfrm>
            <a:prstGeom prst="rect">
              <a:avLst/>
            </a:prstGeom>
            <a:solidFill>
              <a:srgbClr val="ee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Freeform 28"/>
            <p:cNvSpPr/>
            <p:nvPr/>
          </p:nvSpPr>
          <p:spPr>
            <a:xfrm>
              <a:off x="6723000" y="309600"/>
              <a:ext cx="23832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6980400" y="314280"/>
              <a:ext cx="230040" cy="128520"/>
            </a:xfrm>
            <a:prstGeom prst="rect">
              <a:avLst/>
            </a:prstGeom>
            <a:solidFill>
              <a:srgbClr val="667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Freeform 30"/>
            <p:cNvSpPr/>
            <p:nvPr/>
          </p:nvSpPr>
          <p:spPr>
            <a:xfrm>
              <a:off x="6975360" y="309600"/>
              <a:ext cx="23832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Rectangle 31"/>
            <p:cNvSpPr/>
            <p:nvPr/>
          </p:nvSpPr>
          <p:spPr>
            <a:xfrm>
              <a:off x="7230960" y="314280"/>
              <a:ext cx="233640" cy="128520"/>
            </a:xfrm>
            <a:prstGeom prst="rect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7227720" y="309600"/>
              <a:ext cx="23976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Rectangle 33"/>
            <p:cNvSpPr/>
            <p:nvPr/>
          </p:nvSpPr>
          <p:spPr>
            <a:xfrm>
              <a:off x="7485120" y="314280"/>
              <a:ext cx="230040" cy="128520"/>
            </a:xfrm>
            <a:prstGeom prst="rect">
              <a:avLst/>
            </a:prstGeom>
            <a:solidFill>
              <a:srgbClr val="54b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7481880" y="309600"/>
              <a:ext cx="23796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30360"/>
            <a:ext cx="8435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6840" y="1854360"/>
            <a:ext cx="843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3542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33520" indent="-3603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973160" indent="-3603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13160" indent="-360360">
              <a:spcBef>
                <a:spcPts val="499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13160" indent="-360360">
              <a:spcBef>
                <a:spcPts val="499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13160" indent="-360360">
              <a:spcBef>
                <a:spcPts val="499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8351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roposed changes with regard to the implementation of technical specifications for Lane Departure Warning Systems (LDWS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Verdana"/>
              </a:rPr>
              <a:t>GRRF-65-20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68360" y="3212640"/>
            <a:ext cx="753264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meeting of GRRF informal group on AEBS and LD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aris, 2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/2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of June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r. Jost Ga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ederal Highway Research Institu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ZoneTexte 3"/>
          <p:cNvSpPr/>
          <p:nvPr/>
        </p:nvSpPr>
        <p:spPr>
          <a:xfrm>
            <a:off x="214200" y="14292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EBS/LDW-01-1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ußzeilenplatzhalter 4"/>
          <p:cNvSpPr/>
          <p:nvPr/>
        </p:nvSpPr>
        <p:spPr>
          <a:xfrm>
            <a:off x="457200" y="6381720"/>
            <a:ext cx="5267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r. Jost G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ection „Active Vehicle Safety, Emissions, Energy“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Foliennummernplatzhalter 5"/>
          <p:cNvSpPr/>
          <p:nvPr/>
        </p:nvSpPr>
        <p:spPr>
          <a:xfrm>
            <a:off x="6831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Folie No.  </a:t>
            </a:r>
            <a:fld id="{1E95C581-D08C-46F7-85F5-DC7C5DDCEF8E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0"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troduce technical specifications on                                 Lane Departure Warning Systems (LDW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 Regulation No. 79 (Steering equipme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ainly by inserting a new ann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sing the terms and definitions of ISO 17361:200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 algn="just">
              <a:spcBef>
                <a:spcPts val="400"/>
              </a:spcBef>
              <a:spcAft>
                <a:spcPts val="400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60360" indent="0" algn="just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Just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DWS corresponds to lateral guidance of the vehicle and thus directly to ste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t is already possible to get an approval according to Regulation No. 79 for LDWS as well as Lane Keeping Systems (facultativel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nly minimum requirements for mandatory fitment have still to be describ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 algn="just"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 algn="just"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liennummernplatzhalter 5"/>
          <p:cNvSpPr/>
          <p:nvPr/>
        </p:nvSpPr>
        <p:spPr>
          <a:xfrm>
            <a:off x="6831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Folie No.  </a:t>
            </a:r>
            <a:fld id="{B53ED499-125C-4946-9064-0E5A2DE05264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7120" y="713880"/>
            <a:ext cx="5510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DWS - </a:t>
            </a:r>
            <a:r>
              <a:rPr b="1" lang="de-DE" sz="1900" spc="-1" strike="noStrike">
                <a:solidFill>
                  <a:srgbClr val="000000"/>
                </a:solidFill>
                <a:latin typeface="Verdana"/>
              </a:rPr>
              <a:t>ISO 17361:2007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ntelligent Transport Systems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Lane departure warning systems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erformance requirements 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test proced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1 Lane Bound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2 Lane Depar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3 Warning Threshold (reference onl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4 Earliest Warning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5 Latest Warning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lnSpc>
                <a:spcPct val="140000"/>
              </a:lnSpc>
              <a:spcBef>
                <a:spcPts val="1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6300720" y="1125360"/>
            <a:ext cx="2260800" cy="4824720"/>
          </a:xfrm>
          <a:prstGeom prst="rect">
            <a:avLst/>
          </a:prstGeom>
          <a:ln w="0">
            <a:noFill/>
          </a:ln>
        </p:spPr>
      </p:pic>
      <p:sp>
        <p:nvSpPr>
          <p:cNvPr id="131" name="Fußzeilenplatzhalter 4"/>
          <p:cNvSpPr/>
          <p:nvPr/>
        </p:nvSpPr>
        <p:spPr>
          <a:xfrm>
            <a:off x="457200" y="6381720"/>
            <a:ext cx="5267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r. Jost G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ection „Active Vehicle Safety, Emissions, Energy“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liennummernplatzhalter 5"/>
          <p:cNvSpPr/>
          <p:nvPr/>
        </p:nvSpPr>
        <p:spPr>
          <a:xfrm>
            <a:off x="6831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Folie No.  </a:t>
            </a:r>
            <a:fld id="{ECBE61FF-4CCA-481A-B855-43A0D6FF6F50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6760" y="713880"/>
            <a:ext cx="7023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920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SO 17361:2007 – System Class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920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9200" indent="-3492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atest warning (beyond lane mark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6880" indent="-3434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assenger Car: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0.3 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6880" indent="-3434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eavy Duty Vehicle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1.0 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9200" indent="0">
              <a:lnSpc>
                <a:spcPct val="140000"/>
              </a:lnSpc>
              <a:spcBef>
                <a:spcPts val="1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Object 6"/>
          <p:cNvGraphicFramePr/>
          <p:nvPr/>
        </p:nvGraphicFramePr>
        <p:xfrm>
          <a:off x="1616040" y="1703520"/>
          <a:ext cx="7128000" cy="375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703520"/>
                    <a:ext cx="7128000" cy="37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Fußzeilenplatzhalter 4"/>
          <p:cNvSpPr/>
          <p:nvPr/>
        </p:nvSpPr>
        <p:spPr>
          <a:xfrm>
            <a:off x="457200" y="6381720"/>
            <a:ext cx="5267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r. Jost G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ection „Active Vehicle Safety, Emissions, Energy“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liennummernplatzhalter 5"/>
          <p:cNvSpPr/>
          <p:nvPr/>
        </p:nvSpPr>
        <p:spPr>
          <a:xfrm>
            <a:off x="6831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Folie No.  </a:t>
            </a:r>
            <a:fld id="{E79B13C7-2BC4-47A1-B2A7-72FDABDA26F9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14200" y="714240"/>
            <a:ext cx="867888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9840"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ake over the requirements (terms, definitions and test method) of ISO 17361:200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onsidering the technology of modern LDWS some requirements of the ISO Standard should be chang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8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sert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„Annex 7“</a:t>
            </a: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into Regulation No. 79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TEST REQUIREMENTS FOR VEHICLES FITTED WITH L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DEPARTURE WARNING SYSTE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1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Verdana"/>
              </a:rPr>
              <a:t>1. GENERAL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41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This annex defines the requirements for Lane Departure Warning Systems (LDWS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41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Verdana"/>
              </a:rPr>
              <a:t>2. DEFINITIONS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41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For the purposes of this annex the terms and definitions of ISO 17361:2007 will app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41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Verdana"/>
              </a:rPr>
              <a:t>3. DOCUMEN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Fußzeilenplatzhalter 4"/>
          <p:cNvSpPr/>
          <p:nvPr/>
        </p:nvSpPr>
        <p:spPr>
          <a:xfrm>
            <a:off x="457200" y="6381720"/>
            <a:ext cx="5267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r. Jost G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ection „Active Vehicle Safety, Emissions, Energy“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ußzeilenplatzhalter 4"/>
          <p:cNvSpPr/>
          <p:nvPr/>
        </p:nvSpPr>
        <p:spPr>
          <a:xfrm>
            <a:off x="457200" y="6381720"/>
            <a:ext cx="5267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r. Jost G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ection „Active Vehicle Safety, Emissions, Energy“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Foliennummernplatzhalter 5"/>
          <p:cNvSpPr/>
          <p:nvPr/>
        </p:nvSpPr>
        <p:spPr>
          <a:xfrm>
            <a:off x="6831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Folie No.  </a:t>
            </a:r>
            <a:fld id="{A03A5E00-7BD9-4AB8-8DC7-06539430C22E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Verdana"/>
              </a:rPr>
              <a:t>4. VERIFICATION AND T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4.1. The system may be fitted with a system on/off control that can be operated by the driver at all times. The LDWS shall </a:t>
            </a: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automatically be switched on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 when the ignition (start) device is set to the "ON" (run) posi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4.2. [The system shall meet the requirements for LDWS of </a:t>
            </a: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class II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 as defined in ISO 17361:2007, item 4.2.]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4.3. The system shall meet the requirements as defined in ISO 17361:2007, item 4.3. with following exceptions and supplement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433520" indent="0">
              <a:spcBef>
                <a:spcPts val="451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The LDWS shall be automatically activated when the vehicle speed exceeds [60 km/h]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433520" indent="-360360"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latest warning line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 (as defined in 3.17 in ISO 17361:2007) is located </a:t>
            </a: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[0,3 m]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 outside of the lane boundary for all vehicl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433520" indent="-360360"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The requirements for </a:t>
            </a: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the earliest warning line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 (4.3.2 subitem c in ISO 17361:2007) will </a:t>
            </a: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not apply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ußzeilenplatzhalter 4"/>
          <p:cNvSpPr/>
          <p:nvPr/>
        </p:nvSpPr>
        <p:spPr>
          <a:xfrm>
            <a:off x="457200" y="6381720"/>
            <a:ext cx="5267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r. Jost G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ection „Active Vehicle Safety, Emissions, Energy“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Foliennummernplatzhalter 5"/>
          <p:cNvSpPr/>
          <p:nvPr/>
        </p:nvSpPr>
        <p:spPr>
          <a:xfrm>
            <a:off x="6831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Folie No.  </a:t>
            </a:r>
            <a:fld id="{7CBD220D-4748-443A-BA05-E69864902009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Verdana"/>
              </a:rPr>
              <a:t>4. VERIFICATION AND TES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4.4 The test methods in ISO 17361:2007 item 5 will apply with the following exception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433520" indent="-360360"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Warning generation test (item 5.6.1 in ISO 17361:2007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433520" indent="0">
              <a:spcBef>
                <a:spcPts val="400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The system shall provide repeatable warnings within a zone of [30 cm] prior to crossing the latest warning line for each test case.</a:t>
            </a:r>
            <a:r>
              <a:rPr b="0" i="1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0360" indent="0" algn="just">
              <a:spcBef>
                <a:spcPts val="400"/>
              </a:spcBef>
              <a:spcAft>
                <a:spcPts val="400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1:43:09Z</dcterms:created>
  <dc:creator>Peter Herber</dc:creator>
  <dc:description>BASt MusterFolie
20061221</dc:description>
  <cp:keywords>BASt MusterFolie</cp:keywords>
  <dc:language>en-US</dc:language>
  <cp:lastModifiedBy>ofontaine</cp:lastModifiedBy>
  <cp:lastPrinted>2007-06-07T10:29:18Z</cp:lastPrinted>
  <dcterms:modified xsi:type="dcterms:W3CDTF">2009-07-10T13:23:47Z</dcterms:modified>
  <cp:revision>134</cp:revision>
  <dc:subject>BASt MusterFolie</dc:subject>
  <dc:title>BASt MusterFolie</dc:title>
</cp:coreProperties>
</file>