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A6DA-FCF5-48E0-B59F-7DA7A387A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8EDAF-1873-4BAD-8760-F48C299AD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E563-C92C-4DA1-AFA5-BEC9314E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2440" y="304920"/>
            <a:ext cx="5371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39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62320" y="61722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of this document, usage or publishing of its content, as a whole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or in parts, has to be confirmed by Continental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© Copyright by Continental,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324000" y="6454800"/>
            <a:ext cx="297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ental Automotive System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 Passive Safety &amp; 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iness Segment 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fld id="{AE32316B-51DC-4196-AD13-5E08283A9550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/ W.Mehr  / June.2009 / © Continental A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sg_strich"/>
          <p:cNvPicPr/>
          <p:nvPr/>
        </p:nvPicPr>
        <p:blipFill>
          <a:blip r:embed="rId2"/>
          <a:stretch/>
        </p:blipFill>
        <p:spPr>
          <a:xfrm>
            <a:off x="285840" y="6024600"/>
            <a:ext cx="8569080" cy="7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g_strich"/>
          <p:cNvPicPr/>
          <p:nvPr/>
        </p:nvPicPr>
        <p:blipFill>
          <a:blip r:embed="rId3"/>
          <a:stretch/>
        </p:blipFill>
        <p:spPr>
          <a:xfrm>
            <a:off x="298440" y="824040"/>
            <a:ext cx="8569440" cy="39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continental_255_153_0_RGB"/>
          <p:cNvPicPr/>
          <p:nvPr/>
        </p:nvPicPr>
        <p:blipFill>
          <a:blip r:embed="rId4"/>
          <a:stretch/>
        </p:blipFill>
        <p:spPr>
          <a:xfrm>
            <a:off x="6865920" y="6149880"/>
            <a:ext cx="199224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60" y="3887640"/>
            <a:ext cx="8704440" cy="18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Driver Assista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for Commercial Vehicles (CV‘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AEBS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fried Mehr, 25.06.2009,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87200" y="6124680"/>
            <a:ext cx="8782200" cy="7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continental_255_153_0_RGB"/>
          <p:cNvPicPr/>
          <p:nvPr/>
        </p:nvPicPr>
        <p:blipFill>
          <a:blip r:embed="rId1"/>
          <a:stretch/>
        </p:blipFill>
        <p:spPr>
          <a:xfrm>
            <a:off x="1682640" y="1792440"/>
            <a:ext cx="575784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4"/>
          <p:cNvSpPr/>
          <p:nvPr/>
        </p:nvSpPr>
        <p:spPr>
          <a:xfrm>
            <a:off x="6558120" y="316080"/>
            <a:ext cx="19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7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applications in the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4763880" y="3257640"/>
            <a:ext cx="2514600" cy="0"/>
          </a:xfrm>
          <a:prstGeom prst="line">
            <a:avLst/>
          </a:prstGeom>
          <a:ln w="507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981000"/>
            <a:ext cx="8496360" cy="495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 flipV="1">
            <a:off x="6784560" y="2263680"/>
            <a:ext cx="1800" cy="149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H="1" flipV="1">
            <a:off x="654696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 flipV="1">
            <a:off x="631044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 flipV="1">
            <a:off x="607392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5837400" y="2263680"/>
            <a:ext cx="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H="1" flipV="1">
            <a:off x="5598720" y="2263680"/>
            <a:ext cx="180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H="1" flipV="1">
            <a:off x="536256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4889520" y="2263680"/>
            <a:ext cx="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4656240" y="315756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H="1">
            <a:off x="4656240" y="291924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4656240" y="280044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4656240" y="268128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4656240" y="256212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4656240" y="303840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4650840" y="3397320"/>
            <a:ext cx="25974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4824360" y="2276640"/>
            <a:ext cx="27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532980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545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5761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6048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6264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480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6769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5083560" y="694080"/>
            <a:ext cx="3843360" cy="2979000"/>
            <a:chOff x="5083560" y="694080"/>
            <a:chExt cx="3843360" cy="2979000"/>
          </a:xfrm>
        </p:grpSpPr>
        <p:sp>
          <p:nvSpPr>
            <p:cNvPr id="81" name="Freeform 29"/>
            <p:cNvSpPr/>
            <p:nvPr/>
          </p:nvSpPr>
          <p:spPr>
            <a:xfrm rot="6715200">
              <a:off x="6576120" y="1567440"/>
              <a:ext cx="2575080" cy="1255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 rot="1460400">
              <a:off x="5328720" y="1252440"/>
              <a:ext cx="3111480" cy="1862280"/>
            </a:xfrm>
            <a:prstGeom prst="pi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6219720" y="3164040"/>
            <a:ext cx="700200" cy="7095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6921360" y="3324240"/>
            <a:ext cx="1068480" cy="7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6924600" y="3614760"/>
            <a:ext cx="1068480" cy="7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7623000" y="3130560"/>
            <a:ext cx="295560" cy="18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7631280" y="3699000"/>
            <a:ext cx="293400" cy="18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415200" y="3166920"/>
            <a:ext cx="295200" cy="71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6411960" y="3795840"/>
            <a:ext cx="293760" cy="71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V="1">
            <a:off x="6216480" y="3158640"/>
            <a:ext cx="168480" cy="3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216480" y="3498840"/>
            <a:ext cx="14292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6724800" y="3184560"/>
            <a:ext cx="169560" cy="5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3"/>
          <p:cNvGrpSpPr/>
          <p:nvPr/>
        </p:nvGrpSpPr>
        <p:grpSpPr>
          <a:xfrm>
            <a:off x="5905080" y="2492280"/>
            <a:ext cx="936720" cy="518400"/>
            <a:chOff x="5905080" y="2492280"/>
            <a:chExt cx="936720" cy="518400"/>
          </a:xfrm>
        </p:grpSpPr>
        <p:sp>
          <p:nvSpPr>
            <p:cNvPr id="94" name="Freeform 44"/>
            <p:cNvSpPr/>
            <p:nvPr/>
          </p:nvSpPr>
          <p:spPr>
            <a:xfrm rot="10800000">
              <a:off x="6564240" y="2890800"/>
              <a:ext cx="272520" cy="720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5"/>
            <p:cNvSpPr/>
            <p:nvPr/>
          </p:nvSpPr>
          <p:spPr>
            <a:xfrm rot="10800000">
              <a:off x="6570720" y="2540160"/>
              <a:ext cx="270000" cy="579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6"/>
            <p:cNvSpPr/>
            <p:nvPr/>
          </p:nvSpPr>
          <p:spPr>
            <a:xfrm rot="10800000">
              <a:off x="6565320" y="2594880"/>
              <a:ext cx="273960" cy="297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7"/>
            <p:cNvSpPr/>
            <p:nvPr/>
          </p:nvSpPr>
          <p:spPr>
            <a:xfrm rot="10800000">
              <a:off x="6413040" y="2542320"/>
              <a:ext cx="164160" cy="422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8"/>
            <p:cNvSpPr/>
            <p:nvPr/>
          </p:nvSpPr>
          <p:spPr>
            <a:xfrm rot="10800000">
              <a:off x="6570720" y="2892960"/>
              <a:ext cx="270000" cy="69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9"/>
            <p:cNvSpPr/>
            <p:nvPr/>
          </p:nvSpPr>
          <p:spPr>
            <a:xfrm rot="10800000">
              <a:off x="6568200" y="2536560"/>
              <a:ext cx="270000" cy="58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0"/>
            <p:cNvSpPr/>
            <p:nvPr/>
          </p:nvSpPr>
          <p:spPr>
            <a:xfrm flipH="1" flipV="1">
              <a:off x="6414120" y="2961000"/>
              <a:ext cx="154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1"/>
            <p:cNvSpPr/>
            <p:nvPr/>
          </p:nvSpPr>
          <p:spPr>
            <a:xfrm flipH="1" flipV="1">
              <a:off x="6416280" y="2536200"/>
              <a:ext cx="16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2"/>
            <p:cNvSpPr/>
            <p:nvPr/>
          </p:nvSpPr>
          <p:spPr>
            <a:xfrm rot="10800000">
              <a:off x="6438960" y="2547720"/>
              <a:ext cx="24480" cy="2088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3"/>
            <p:cNvGrpSpPr/>
            <p:nvPr/>
          </p:nvGrpSpPr>
          <p:grpSpPr>
            <a:xfrm>
              <a:off x="6459840" y="2546280"/>
              <a:ext cx="156600" cy="21960"/>
              <a:chOff x="6459840" y="2546280"/>
              <a:chExt cx="156600" cy="21960"/>
            </a:xfrm>
          </p:grpSpPr>
          <p:sp>
            <p:nvSpPr>
              <p:cNvPr id="104" name="Freeform 54"/>
              <p:cNvSpPr/>
              <p:nvPr/>
            </p:nvSpPr>
            <p:spPr>
              <a:xfrm rot="10800000">
                <a:off x="6459840" y="2546280"/>
                <a:ext cx="156600" cy="2196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 rot="10800000">
                <a:off x="6459840" y="2546280"/>
                <a:ext cx="156600" cy="21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56"/>
            <p:cNvSpPr/>
            <p:nvPr/>
          </p:nvSpPr>
          <p:spPr>
            <a:xfrm flipV="1">
              <a:off x="6437160" y="2546640"/>
              <a:ext cx="178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7"/>
            <p:cNvSpPr/>
            <p:nvPr/>
          </p:nvSpPr>
          <p:spPr>
            <a:xfrm>
              <a:off x="6435000" y="2544480"/>
              <a:ext cx="223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8"/>
            <p:cNvSpPr/>
            <p:nvPr/>
          </p:nvSpPr>
          <p:spPr>
            <a:xfrm rot="10800000">
              <a:off x="6440400" y="2927520"/>
              <a:ext cx="25920" cy="2340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59"/>
            <p:cNvGrpSpPr/>
            <p:nvPr/>
          </p:nvGrpSpPr>
          <p:grpSpPr>
            <a:xfrm>
              <a:off x="6463440" y="2931840"/>
              <a:ext cx="156600" cy="23040"/>
              <a:chOff x="6463440" y="2931840"/>
              <a:chExt cx="156600" cy="23040"/>
            </a:xfrm>
          </p:grpSpPr>
          <p:sp>
            <p:nvSpPr>
              <p:cNvPr id="110" name="Freeform 60"/>
              <p:cNvSpPr/>
              <p:nvPr/>
            </p:nvSpPr>
            <p:spPr>
              <a:xfrm rot="10800000">
                <a:off x="6463440" y="2931840"/>
                <a:ext cx="156600" cy="2304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 rot="10800000">
                <a:off x="6463440" y="2931840"/>
                <a:ext cx="156600" cy="23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Line 62"/>
            <p:cNvSpPr/>
            <p:nvPr/>
          </p:nvSpPr>
          <p:spPr>
            <a:xfrm flipV="1">
              <a:off x="6440760" y="2951280"/>
              <a:ext cx="178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3"/>
            <p:cNvSpPr/>
            <p:nvPr/>
          </p:nvSpPr>
          <p:spPr>
            <a:xfrm flipV="1">
              <a:off x="6438240" y="2931840"/>
              <a:ext cx="2196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4"/>
            <p:cNvSpPr/>
            <p:nvPr/>
          </p:nvSpPr>
          <p:spPr>
            <a:xfrm rot="10800000">
              <a:off x="5906520" y="2865600"/>
              <a:ext cx="396720" cy="968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5"/>
            <p:cNvSpPr/>
            <p:nvPr/>
          </p:nvSpPr>
          <p:spPr>
            <a:xfrm rot="10800000">
              <a:off x="5905080" y="2537640"/>
              <a:ext cx="394200" cy="968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6"/>
            <p:cNvSpPr/>
            <p:nvPr/>
          </p:nvSpPr>
          <p:spPr>
            <a:xfrm rot="10800000">
              <a:off x="5909760" y="2634480"/>
              <a:ext cx="349560" cy="2444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7"/>
            <p:cNvSpPr/>
            <p:nvPr/>
          </p:nvSpPr>
          <p:spPr>
            <a:xfrm rot="10800000">
              <a:off x="6297120" y="2540160"/>
              <a:ext cx="136800" cy="425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8"/>
            <p:cNvGrpSpPr/>
            <p:nvPr/>
          </p:nvGrpSpPr>
          <p:grpSpPr>
            <a:xfrm>
              <a:off x="5907600" y="2869560"/>
              <a:ext cx="397800" cy="94320"/>
              <a:chOff x="5907600" y="2869560"/>
              <a:chExt cx="397800" cy="94320"/>
            </a:xfrm>
          </p:grpSpPr>
          <p:sp>
            <p:nvSpPr>
              <p:cNvPr id="119" name="Freeform 69"/>
              <p:cNvSpPr/>
              <p:nvPr/>
            </p:nvSpPr>
            <p:spPr>
              <a:xfrm rot="10800000">
                <a:off x="5907600" y="2869560"/>
                <a:ext cx="397800" cy="943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 rot="10800000">
                <a:off x="5907600" y="2878920"/>
                <a:ext cx="397800" cy="849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71"/>
            <p:cNvSpPr/>
            <p:nvPr/>
          </p:nvSpPr>
          <p:spPr>
            <a:xfrm rot="10800000">
              <a:off x="5905440" y="2545200"/>
              <a:ext cx="390240" cy="95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2"/>
            <p:cNvSpPr/>
            <p:nvPr/>
          </p:nvSpPr>
          <p:spPr>
            <a:xfrm flipV="1">
              <a:off x="6299640" y="2961000"/>
              <a:ext cx="152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3"/>
            <p:cNvSpPr/>
            <p:nvPr/>
          </p:nvSpPr>
          <p:spPr>
            <a:xfrm flipV="1">
              <a:off x="6292080" y="2536200"/>
              <a:ext cx="157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4"/>
            <p:cNvSpPr/>
            <p:nvPr/>
          </p:nvSpPr>
          <p:spPr>
            <a:xfrm rot="10800000">
              <a:off x="6405120" y="2547720"/>
              <a:ext cx="23400" cy="2088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75"/>
            <p:cNvGrpSpPr/>
            <p:nvPr/>
          </p:nvGrpSpPr>
          <p:grpSpPr>
            <a:xfrm>
              <a:off x="6251040" y="2546280"/>
              <a:ext cx="159120" cy="21960"/>
              <a:chOff x="6251040" y="2546280"/>
              <a:chExt cx="159120" cy="21960"/>
            </a:xfrm>
          </p:grpSpPr>
          <p:sp>
            <p:nvSpPr>
              <p:cNvPr id="126" name="Freeform 76"/>
              <p:cNvSpPr/>
              <p:nvPr/>
            </p:nvSpPr>
            <p:spPr>
              <a:xfrm rot="10800000">
                <a:off x="6251040" y="2546280"/>
                <a:ext cx="159120" cy="2196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 rot="10800000">
                <a:off x="6251040" y="2546280"/>
                <a:ext cx="159120" cy="21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Line 78"/>
            <p:cNvSpPr/>
            <p:nvPr/>
          </p:nvSpPr>
          <p:spPr>
            <a:xfrm flipH="1" flipV="1">
              <a:off x="6251040" y="2546640"/>
              <a:ext cx="1814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9"/>
            <p:cNvSpPr/>
            <p:nvPr/>
          </p:nvSpPr>
          <p:spPr>
            <a:xfrm flipH="1">
              <a:off x="6410520" y="2544480"/>
              <a:ext cx="223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 rot="10800000">
              <a:off x="6404040" y="2932560"/>
              <a:ext cx="24480" cy="1980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81"/>
            <p:cNvGrpSpPr/>
            <p:nvPr/>
          </p:nvGrpSpPr>
          <p:grpSpPr>
            <a:xfrm>
              <a:off x="6247440" y="2931840"/>
              <a:ext cx="157680" cy="23040"/>
              <a:chOff x="6247440" y="2931840"/>
              <a:chExt cx="157680" cy="23040"/>
            </a:xfrm>
          </p:grpSpPr>
          <p:sp>
            <p:nvSpPr>
              <p:cNvPr id="132" name="Freeform 82"/>
              <p:cNvSpPr/>
              <p:nvPr/>
            </p:nvSpPr>
            <p:spPr>
              <a:xfrm rot="10800000">
                <a:off x="6247440" y="2931840"/>
                <a:ext cx="157680" cy="2304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 rot="10800000">
                <a:off x="6247440" y="2931840"/>
                <a:ext cx="157680" cy="23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84"/>
            <p:cNvSpPr/>
            <p:nvPr/>
          </p:nvSpPr>
          <p:spPr>
            <a:xfrm flipH="1" flipV="1">
              <a:off x="6248520" y="2951280"/>
              <a:ext cx="18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5"/>
            <p:cNvSpPr/>
            <p:nvPr/>
          </p:nvSpPr>
          <p:spPr>
            <a:xfrm flipH="1" flipV="1">
              <a:off x="6407640" y="2931840"/>
              <a:ext cx="2232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6"/>
            <p:cNvSpPr/>
            <p:nvPr/>
          </p:nvSpPr>
          <p:spPr>
            <a:xfrm rot="10800000">
              <a:off x="5936400" y="2602440"/>
              <a:ext cx="44640" cy="2592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7"/>
            <p:cNvSpPr/>
            <p:nvPr/>
          </p:nvSpPr>
          <p:spPr>
            <a:xfrm rot="10800000">
              <a:off x="5936400" y="2629440"/>
              <a:ext cx="44640" cy="320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8"/>
            <p:cNvSpPr/>
            <p:nvPr/>
          </p:nvSpPr>
          <p:spPr>
            <a:xfrm flipH="1" flipV="1">
              <a:off x="6302160" y="2612160"/>
              <a:ext cx="21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9"/>
            <p:cNvSpPr/>
            <p:nvPr/>
          </p:nvSpPr>
          <p:spPr>
            <a:xfrm flipH="1" flipV="1">
              <a:off x="6607800" y="2607480"/>
              <a:ext cx="108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0"/>
            <p:cNvSpPr/>
            <p:nvPr/>
          </p:nvSpPr>
          <p:spPr>
            <a:xfrm rot="10800000">
              <a:off x="6612840" y="2586600"/>
              <a:ext cx="69480" cy="32400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1"/>
            <p:cNvSpPr/>
            <p:nvPr/>
          </p:nvSpPr>
          <p:spPr>
            <a:xfrm rot="10800000">
              <a:off x="6669000" y="2575800"/>
              <a:ext cx="108000" cy="350280"/>
            </a:xfrm>
            <a:prstGeom prst="ellipse">
              <a:avLst/>
            </a:prstGeom>
            <a:solidFill>
              <a:srgbClr val="c7e9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2"/>
            <p:cNvSpPr/>
            <p:nvPr/>
          </p:nvSpPr>
          <p:spPr>
            <a:xfrm rot="10800000">
              <a:off x="6651360" y="2576160"/>
              <a:ext cx="69480" cy="35136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3"/>
            <p:cNvSpPr/>
            <p:nvPr/>
          </p:nvSpPr>
          <p:spPr>
            <a:xfrm flipH="1" flipV="1">
              <a:off x="5905080" y="2632320"/>
              <a:ext cx="252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4"/>
            <p:cNvSpPr/>
            <p:nvPr/>
          </p:nvSpPr>
          <p:spPr>
            <a:xfrm rot="10800000">
              <a:off x="6087960" y="2575800"/>
              <a:ext cx="108000" cy="350280"/>
            </a:xfrm>
            <a:prstGeom prst="ellipse">
              <a:avLst/>
            </a:prstGeom>
            <a:solidFill>
              <a:srgbClr val="c7e9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5"/>
            <p:cNvSpPr/>
            <p:nvPr/>
          </p:nvSpPr>
          <p:spPr>
            <a:xfrm rot="10800000">
              <a:off x="6150240" y="2577600"/>
              <a:ext cx="71640" cy="34776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6"/>
            <p:cNvSpPr/>
            <p:nvPr/>
          </p:nvSpPr>
          <p:spPr>
            <a:xfrm rot="10800000">
              <a:off x="6184800" y="2586600"/>
              <a:ext cx="117000" cy="32904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7"/>
            <p:cNvSpPr/>
            <p:nvPr/>
          </p:nvSpPr>
          <p:spPr>
            <a:xfrm rot="10800000">
              <a:off x="6220800" y="2963520"/>
              <a:ext cx="28440" cy="4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8"/>
            <p:cNvSpPr/>
            <p:nvPr/>
          </p:nvSpPr>
          <p:spPr>
            <a:xfrm rot="10800000">
              <a:off x="5934960" y="2875320"/>
              <a:ext cx="45720" cy="2340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9"/>
            <p:cNvSpPr/>
            <p:nvPr/>
          </p:nvSpPr>
          <p:spPr>
            <a:xfrm rot="10800000">
              <a:off x="5934960" y="2841840"/>
              <a:ext cx="45720" cy="34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0"/>
            <p:cNvSpPr/>
            <p:nvPr/>
          </p:nvSpPr>
          <p:spPr>
            <a:xfrm rot="10800000">
              <a:off x="6207120" y="2492280"/>
              <a:ext cx="31320" cy="46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1"/>
            <p:cNvSpPr/>
            <p:nvPr/>
          </p:nvSpPr>
          <p:spPr>
            <a:xfrm flipV="1">
              <a:off x="6612480" y="2576160"/>
              <a:ext cx="11196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2"/>
            <p:cNvSpPr/>
            <p:nvPr/>
          </p:nvSpPr>
          <p:spPr>
            <a:xfrm flipH="1" flipV="1">
              <a:off x="6141600" y="2577600"/>
              <a:ext cx="16272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3"/>
            <p:cNvSpPr/>
            <p:nvPr/>
          </p:nvSpPr>
          <p:spPr>
            <a:xfrm>
              <a:off x="6608880" y="2891520"/>
              <a:ext cx="11052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4"/>
            <p:cNvSpPr/>
            <p:nvPr/>
          </p:nvSpPr>
          <p:spPr>
            <a:xfrm flipH="1">
              <a:off x="6147720" y="2889720"/>
              <a:ext cx="155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5"/>
            <p:cNvSpPr/>
            <p:nvPr/>
          </p:nvSpPr>
          <p:spPr>
            <a:xfrm flipH="1" flipV="1">
              <a:off x="6839640" y="2597400"/>
              <a:ext cx="2160" cy="29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6"/>
            <p:cNvSpPr/>
            <p:nvPr/>
          </p:nvSpPr>
          <p:spPr>
            <a:xfrm flipV="1" rot="10800000">
              <a:off x="5907960" y="2864880"/>
              <a:ext cx="390240" cy="95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07"/>
          <p:cNvGrpSpPr/>
          <p:nvPr/>
        </p:nvGrpSpPr>
        <p:grpSpPr>
          <a:xfrm>
            <a:off x="5098320" y="3411000"/>
            <a:ext cx="3785040" cy="2895120"/>
            <a:chOff x="5098320" y="3411000"/>
            <a:chExt cx="3785040" cy="2895120"/>
          </a:xfrm>
        </p:grpSpPr>
        <p:sp>
          <p:nvSpPr>
            <p:cNvPr id="158" name="Freeform 108"/>
            <p:cNvSpPr/>
            <p:nvPr/>
          </p:nvSpPr>
          <p:spPr>
            <a:xfrm flipV="1" rot="15037200">
              <a:off x="6576120" y="4232160"/>
              <a:ext cx="2575080" cy="1255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9"/>
            <p:cNvSpPr/>
            <p:nvPr/>
          </p:nvSpPr>
          <p:spPr>
            <a:xfrm flipV="1" rot="20275200">
              <a:off x="5333760" y="3927240"/>
              <a:ext cx="3111480" cy="1861920"/>
            </a:xfrm>
            <a:prstGeom prst="pi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10"/>
          <p:cNvSpPr/>
          <p:nvPr/>
        </p:nvSpPr>
        <p:spPr>
          <a:xfrm flipV="1" rot="10500000">
            <a:off x="6757560" y="3805920"/>
            <a:ext cx="142920" cy="4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1"/>
          <p:cNvSpPr/>
          <p:nvPr/>
        </p:nvSpPr>
        <p:spPr>
          <a:xfrm flipV="1" rot="1003800">
            <a:off x="2125440" y="2903040"/>
            <a:ext cx="3851280" cy="1912680"/>
          </a:xfrm>
          <a:prstGeom prst="pi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2"/>
          <p:cNvSpPr/>
          <p:nvPr/>
        </p:nvSpPr>
        <p:spPr>
          <a:xfrm>
            <a:off x="2484360" y="2654280"/>
            <a:ext cx="151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3"/>
          <p:cNvSpPr/>
          <p:nvPr/>
        </p:nvSpPr>
        <p:spPr>
          <a:xfrm>
            <a:off x="612720" y="2955960"/>
            <a:ext cx="5537160" cy="115884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4"/>
          <p:cNvSpPr/>
          <p:nvPr/>
        </p:nvSpPr>
        <p:spPr>
          <a:xfrm>
            <a:off x="766800" y="3141720"/>
            <a:ext cx="1514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Long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6"/>
          <p:cNvSpPr/>
          <p:nvPr/>
        </p:nvSpPr>
        <p:spPr>
          <a:xfrm>
            <a:off x="6118200" y="1450800"/>
            <a:ext cx="1514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Short Range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7"/>
          <p:cNvSpPr/>
          <p:nvPr/>
        </p:nvSpPr>
        <p:spPr>
          <a:xfrm>
            <a:off x="584280" y="1884240"/>
            <a:ext cx="139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8"/>
          <p:cNvSpPr/>
          <p:nvPr/>
        </p:nvSpPr>
        <p:spPr>
          <a:xfrm>
            <a:off x="2540160" y="1903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9"/>
          <p:cNvSpPr/>
          <p:nvPr/>
        </p:nvSpPr>
        <p:spPr>
          <a:xfrm>
            <a:off x="6883560" y="1930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1"/>
          <p:cNvSpPr/>
          <p:nvPr/>
        </p:nvSpPr>
        <p:spPr>
          <a:xfrm>
            <a:off x="482760" y="5460840"/>
            <a:ext cx="847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ental = 10 years market experience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2" descr="futuretruck"/>
          <p:cNvPicPr/>
          <p:nvPr/>
        </p:nvPicPr>
        <p:blipFill>
          <a:blip r:embed="rId1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r Assistance  - “makes sen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EBA_EN_251108.wmv" descr=""/>
          <p:cNvPicPr/>
          <p:nvPr/>
        </p:nvPicPr>
        <p:blipFill>
          <a:blip r:embed="rId1"/>
          <a:stretch/>
        </p:blipFill>
        <p:spPr>
          <a:xfrm>
            <a:off x="307800" y="1057320"/>
            <a:ext cx="8534520" cy="4800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uturetruck"/>
          <p:cNvPicPr/>
          <p:nvPr/>
        </p:nvPicPr>
        <p:blipFill>
          <a:blip r:embed="rId2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1160" y="244440"/>
            <a:ext cx="8217000" cy="627120"/>
          </a:xfrm>
          <a:prstGeom prst="rect">
            <a:avLst/>
          </a:prstGeom>
          <a:noFill/>
          <a:ln w="0">
            <a:noFill/>
          </a:ln>
        </p:spPr>
        <p:txBody>
          <a:bodyPr lIns="78480" rIns="35640" tIns="39240" bIns="39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nsor portfolio is ready for AEBS and LD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6280" y="1144440"/>
            <a:ext cx="5181480" cy="252720"/>
          </a:xfrm>
          <a:prstGeom prst="rect">
            <a:avLst/>
          </a:prstGeom>
          <a:solidFill>
            <a:srgbClr val="ff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186600" y="1181160"/>
            <a:ext cx="2500200" cy="216000"/>
          </a:xfrm>
          <a:prstGeom prst="rect">
            <a:avLst/>
          </a:prstGeom>
          <a:solidFill>
            <a:srgbClr val="ff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73040" y="3722760"/>
            <a:ext cx="24987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4 GHz UWB Radar / short rang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ane Change Ass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CA type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172200" y="3706920"/>
            <a:ext cx="249876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MOS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D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 Det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ed Limit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lligent Headlamp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468360" y="1457280"/>
            <a:ext cx="2504880" cy="1943280"/>
            <a:chOff x="468360" y="1457280"/>
            <a:chExt cx="2504880" cy="1943280"/>
          </a:xfrm>
        </p:grpSpPr>
        <p:pic>
          <p:nvPicPr>
            <p:cNvPr id="180" name="Picture 8" descr="weisser kasten"/>
            <p:cNvPicPr/>
            <p:nvPr/>
          </p:nvPicPr>
          <p:blipFill>
            <a:blip r:embed="rId1">
              <a:lum contrast="-12000"/>
            </a:blip>
            <a:stretch/>
          </p:blipFill>
          <p:spPr>
            <a:xfrm>
              <a:off x="468360" y="1457280"/>
              <a:ext cx="25048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P1030893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836280" y="1708200"/>
              <a:ext cx="1763280" cy="138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0" descr="Camera%20Truck%20Cover%201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6184800" y="1457280"/>
            <a:ext cx="249876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ars300-bild"/>
          <p:cNvPicPr/>
          <p:nvPr/>
        </p:nvPicPr>
        <p:blipFill>
          <a:blip r:embed="rId4"/>
          <a:stretch/>
        </p:blipFill>
        <p:spPr>
          <a:xfrm>
            <a:off x="3200400" y="1442880"/>
            <a:ext cx="2457360" cy="2008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3143160" y="3706920"/>
            <a:ext cx="25005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7 GHz long-range Rad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 +  Stop&amp;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EBS (Advanced emergency breaking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futuretruck"/>
          <p:cNvPicPr/>
          <p:nvPr/>
        </p:nvPicPr>
        <p:blipFill>
          <a:blip r:embed="rId5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4" descr=""/>
          <p:cNvPicPr/>
          <p:nvPr/>
        </p:nvPicPr>
        <p:blipFill>
          <a:blip r:embed="rId1"/>
          <a:stretch/>
        </p:blipFill>
        <p:spPr>
          <a:xfrm>
            <a:off x="5695920" y="3076560"/>
            <a:ext cx="3191040" cy="879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ar for AEBS is mature and available in the third generation – approved by billions of Km on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95280" y="1120680"/>
            <a:ext cx="386568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. generation ARS2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oad sinc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beams, 9° field of view, 1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alig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generation ARS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oad since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beams, 56° field of view, 6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beams, 17° field of view, 20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 alignment b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 + Stop&amp;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B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70800" y="3319560"/>
            <a:ext cx="647640" cy="576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Sop3"/>
          <p:cNvPicPr/>
          <p:nvPr/>
        </p:nvPicPr>
        <p:blipFill>
          <a:blip r:embed="rId2"/>
          <a:stretch/>
        </p:blipFill>
        <p:spPr>
          <a:xfrm>
            <a:off x="3670200" y="1227240"/>
            <a:ext cx="2305080" cy="164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Daten-&amp;-Fakten-2008-Chassis-&amp;-Safety-Final_Page_16_Image_0002"/>
          <p:cNvPicPr/>
          <p:nvPr/>
        </p:nvPicPr>
        <p:blipFill>
          <a:blip r:embed="rId3"/>
          <a:stretch/>
        </p:blipFill>
        <p:spPr>
          <a:xfrm>
            <a:off x="4192560" y="4286160"/>
            <a:ext cx="17305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2080" y="304920"/>
            <a:ext cx="8467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ture of AEBS in CV‘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295280" y="1081080"/>
            <a:ext cx="5934240" cy="678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weight of CV‘s any collision becomes fatal. Sensors therefore mus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930320" y="2154240"/>
            <a:ext cx="5086440" cy="678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classify a potential collision as fast and early as possible. Mean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07800" y="3408480"/>
            <a:ext cx="2476800" cy="97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detect objects as early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067200" y="3433680"/>
            <a:ext cx="2705040" cy="97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classify relevant objects as fast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083280" y="3144960"/>
            <a:ext cx="2781360" cy="12632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measure range, speed and acceleration as best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 rot="5400000">
            <a:off x="2653920" y="3749400"/>
            <a:ext cx="504720" cy="390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 rot="5400000">
            <a:off x="5631840" y="3755880"/>
            <a:ext cx="504720" cy="390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4095720" y="1819440"/>
            <a:ext cx="600120" cy="295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1938240" y="2952720"/>
            <a:ext cx="600120" cy="4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Daten-&amp;-Fakten-2008-Chassis-&amp;-Safety-Final_Page_16_Image_0002"/>
          <p:cNvPicPr/>
          <p:nvPr/>
        </p:nvPicPr>
        <p:blipFill>
          <a:blip r:embed="rId1"/>
          <a:stretch/>
        </p:blipFill>
        <p:spPr>
          <a:xfrm>
            <a:off x="28440" y="4646520"/>
            <a:ext cx="1225800" cy="12002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1"/>
          <p:cNvSpPr/>
          <p:nvPr/>
        </p:nvSpPr>
        <p:spPr>
          <a:xfrm>
            <a:off x="1343160" y="4410000"/>
            <a:ext cx="1952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20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ensitivity under all weather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50° field of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768840" y="4397400"/>
            <a:ext cx="1952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teral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driving path prediction by stationary and moving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299280" y="4403880"/>
            <a:ext cx="27144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- and speed-measurement in one cy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“Doppler – Effect” to achieve higher precision of the speed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4" descr="futuretruck"/>
          <p:cNvPicPr/>
          <p:nvPr/>
        </p:nvPicPr>
        <p:blipFill>
          <a:blip r:embed="rId2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 The sensors are ready for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s for AEBS and LDW-Systems are available in a very mature status and tested over billions of Km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vironment sensor for an AEBS must have a certain performance to support a adequate functionality – Reduced specifications would question the benefit of an AEB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futuretruck"/>
          <p:cNvPicPr/>
          <p:nvPr/>
        </p:nvPicPr>
        <p:blipFill>
          <a:blip r:embed="rId1">
            <a:lum bright="-46000"/>
          </a:blip>
          <a:stretch/>
        </p:blipFill>
        <p:spPr>
          <a:xfrm>
            <a:off x="2978280" y="3652920"/>
            <a:ext cx="3216240" cy="2131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3200400" y="3914640"/>
            <a:ext cx="2724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 are read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ion Ze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7:04:42Z</dcterms:created>
  <dc:creator>Detlef Osteroth</dc:creator>
  <dc:description>IVECO Präsentation ADAS</dc:description>
  <dc:language>en-US</dc:language>
  <cp:lastModifiedBy>ofontaine</cp:lastModifiedBy>
  <dcterms:modified xsi:type="dcterms:W3CDTF">2009-07-10T13:22:36Z</dcterms:modified>
  <cp:revision>457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t von">
    <vt:lpwstr>Uwe Lüthin</vt:lpwstr>
  </property>
  <property fmtid="{D5CDD505-2E9C-101B-9397-08002B2CF9AE}" pid="3" name="Eigentümer">
    <vt:lpwstr>Uwe Lüthin</vt:lpwstr>
  </property>
  <property fmtid="{D5CDD505-2E9C-101B-9397-08002B2CF9AE}" pid="4" name="Erstellt von">
    <vt:lpwstr>Uwe Lüthin</vt:lpwstr>
  </property>
  <property fmtid="{D5CDD505-2E9C-101B-9397-08002B2CF9AE}" pid="5" name="Kunde">
    <vt:lpwstr>BMW</vt:lpwstr>
  </property>
</Properties>
</file>