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move the slide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767-0DA0-49B8-9A9A-4746EA8669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D869-BE4F-4FF9-A67E-755AA89A67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8257-BF15-4CBB-A568-E09F887BD4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CFD8-88AE-4439-8827-47FA994504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8F8A-208B-4EDC-9F2C-CD84320FD0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2A23-6F89-410A-A1E0-F709AD95DD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044F-A54B-471B-B1D5-67BFAC8FCC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F7BC-E33B-47AE-8E52-DB83512BA0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042D-E56C-4A2E-A960-69703BE8B7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CE91-8179-4517-A06D-3B89C93E4D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0950-5B7E-408B-8BC8-92677FE24B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1018-1434-47D2-8378-D59BB91EC0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91B8-3B94-40D2-A1A7-34C56DA3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34C6-1172-4D04-89BC-832692389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807D-5555-4F15-ABA0-80D2A9F84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14A9-0EEB-49F3-BD77-925A758C0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8E7F7-493E-4C22-8B8F-4E620A59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5C8C0-0C08-4EC0-B9F0-299D7883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00E0-5DA3-4987-8965-63F058B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7047C-25F2-403F-9058-DF4EFE74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02E2-D7B4-4DD3-8E98-0E8E7E5E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730080"/>
            <a:ext cx="83534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6BB96-ABEF-4933-A267-2928F64C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23784-B544-47A3-B702-2E936A2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3FF1-F7A5-4E1A-AE47-618B106EC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20DA9-31EB-41FF-8BE1-96627CD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4BBF7-30D8-4988-AA20-0F15332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F399-A83A-4621-B074-B24F6560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8DB79-6165-46E6-A633-010DB4C4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98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0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528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98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0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508C4-ABC4-43D1-A465-D161EA90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53CB-6E3A-46F1-9BEA-750AF844C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BF30-130C-45B5-B669-D8D7CFD2E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D162-C708-4FA7-9145-0439C116E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730080"/>
            <a:ext cx="83534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3DA2-6F44-448E-9595-D88387C70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4CE9-BA94-4B1F-88A3-3B51426C7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12A1-BB3C-4C67-9B43-8FCD53E37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6A1A-8D7D-4EA7-A164-09ADBDE16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54288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2" marL="901800" indent="-17964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3" marL="126216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4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5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6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" name="Line 7"/>
          <p:cNvSpPr/>
          <p:nvPr/>
        </p:nvSpPr>
        <p:spPr>
          <a:xfrm>
            <a:off x="250920" y="593640"/>
            <a:ext cx="86421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3" name="Picture 8" descr="Daimler_Logotype_042_CO"/>
          <p:cNvPicPr/>
          <p:nvPr/>
        </p:nvPicPr>
        <p:blipFill>
          <a:blip r:embed="rId2"/>
          <a:stretch/>
        </p:blipFill>
        <p:spPr>
          <a:xfrm>
            <a:off x="372960" y="176040"/>
            <a:ext cx="1560600" cy="2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7FD-C2ED-41F5-AE47-DD7EE5599EE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7812000" y="670716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Daimler Trucks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weiß"/>
          <p:cNvPicPr/>
          <p:nvPr/>
        </p:nvPicPr>
        <p:blipFill>
          <a:blip r:embed="rId2"/>
          <a:stretch/>
        </p:blipFill>
        <p:spPr>
          <a:xfrm>
            <a:off x="0" y="6599160"/>
            <a:ext cx="9140760" cy="25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aimler_Logotype_100_CO"/>
          <p:cNvPicPr/>
          <p:nvPr/>
        </p:nvPicPr>
        <p:blipFill>
          <a:blip r:embed="rId3"/>
          <a:stretch/>
        </p:blipFill>
        <p:spPr>
          <a:xfrm>
            <a:off x="2749680" y="838080"/>
            <a:ext cx="3643200" cy="493920"/>
          </a:xfrm>
          <a:prstGeom prst="rect">
            <a:avLst/>
          </a:prstGeom>
          <a:ln w="0">
            <a:noFill/>
          </a:ln>
        </p:spPr>
      </p:pic>
      <p:sp>
        <p:nvSpPr>
          <p:cNvPr id="45" name="Line 13"/>
          <p:cNvSpPr/>
          <p:nvPr/>
        </p:nvSpPr>
        <p:spPr>
          <a:xfrm>
            <a:off x="250920" y="2421000"/>
            <a:ext cx="8642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54288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2" marL="901800" indent="-17964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3" marL="126216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4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5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6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73080" y="670356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527A-EFB9-4C47-8204-DA2A1A75B07B}" type="datetime"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951600" y="6703560"/>
            <a:ext cx="1795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FF2-6D59-4BA0-AE97-05401E5BCA5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250920" y="6308640"/>
            <a:ext cx="8642160" cy="287280"/>
          </a:xfrm>
          <a:prstGeom prst="rect">
            <a:avLst/>
          </a:prstGeom>
          <a:solidFill>
            <a:srgbClr val="263f6a"/>
          </a:solidFill>
          <a:ln w="0">
            <a:noFill/>
          </a:ln>
        </p:spPr>
        <p:txBody>
          <a:bodyPr lIns="144000" rIns="144000" tIns="0" bIns="0" anchor="ctr">
            <a:noAutofit/>
          </a:bodyPr>
          <a:lstStyle>
            <a:lvl1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P/EM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6951600" y="6703920"/>
            <a:ext cx="17956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88B-A3A3-4EA0-8CE8-895C235F1123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50920" y="6308640"/>
            <a:ext cx="8642160" cy="287280"/>
          </a:xfrm>
          <a:prstGeom prst="rect">
            <a:avLst/>
          </a:prstGeom>
          <a:solidFill>
            <a:srgbClr val="263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0" bIns="0" anchor="ctr">
            <a:no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poS"/>
              </a:rPr>
              <a:t>TP/EMD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352000" cy="4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3f6a"/>
                </a:solidFill>
                <a:latin typeface="CorpoS"/>
              </a:rPr>
              <a:t>European State of the Art for AEBS systems 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4724280"/>
            <a:ext cx="83520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9ac9"/>
                </a:solidFill>
                <a:latin typeface="CorpoS"/>
              </a:rPr>
              <a:t>Stuttgart, May 2008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9ac9"/>
                </a:solidFill>
                <a:latin typeface="CorpoS"/>
              </a:rPr>
              <a:t>Dr. Jürgen Tros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8" name="ZoneTexte 5"/>
          <p:cNvSpPr/>
          <p:nvPr/>
        </p:nvSpPr>
        <p:spPr>
          <a:xfrm>
            <a:off x="6951600" y="285840"/>
            <a:ext cx="17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rpoS"/>
              </a:rPr>
              <a:t>AEBS/LDWS-01-03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079-5A85-44BA-A986-3AD34C6A0416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-135000" y="2708280"/>
            <a:ext cx="7929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designed to reduce the number of accidents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refore able to handle differential speeds high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an 70km/h (</a:t>
            </a: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ccident </a:t>
            </a: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eduction </a:t>
            </a: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ystem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main use case for AEBS systems is highway traffic, where truck speed is restric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o 80km/h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ue to the high mass involved in truck accidents even collisions with low differen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peed can lead to significant harms, pure collision mitigation systems are falling short i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voiding fatalities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ue to physical restrictions (friction, road curvature, traffic behavior, …) collision avoid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can not be achieved in all case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refore the target is to reduce the numbers of accidents as much as possibl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82" name="Picture 11" descr="FHZG rechts"/>
          <p:cNvPicPr/>
          <p:nvPr/>
        </p:nvPicPr>
        <p:blipFill>
          <a:blip r:embed="rId1"/>
          <a:stretch/>
        </p:blipFill>
        <p:spPr>
          <a:xfrm>
            <a:off x="5219640" y="1179360"/>
            <a:ext cx="3529080" cy="282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4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820-8D64-468E-BE9C-DCFA20E15412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-502560" y="2708280"/>
            <a:ext cx="997632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ystem has been introduced to vehicles us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t least one (the rear) axle air-suspended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o avoid performance reduction or misbehavior the forward looking sensor must be kept with high accurac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n a direction parallel to the road surface. 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For steel-suspended vehicles it can not be guaranteed that for all  load conditions the chassis remains in a dire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parallel to the road surfac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With the sensor chassis-mounted it is necessary to control the chassis position, what can be achieved by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chassis level control system based on at least one axle air-suspended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87" name="Picture 4" descr="SafetyTruckFullScreen2"/>
          <p:cNvPicPr/>
          <p:nvPr/>
        </p:nvPicPr>
        <p:blipFill>
          <a:blip r:embed="rId1"/>
          <a:stretch/>
        </p:blipFill>
        <p:spPr>
          <a:xfrm>
            <a:off x="3995640" y="1341360"/>
            <a:ext cx="3943440" cy="236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B241-EE1E-4F51-8F77-AA2A93AAA582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demonstration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6720" y="6556320"/>
            <a:ext cx="1582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Source: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01760" y="1989000"/>
            <a:ext cx="2916000" cy="2546640"/>
          </a:xfrm>
          <a:prstGeom prst="rect">
            <a:avLst/>
          </a:prstGeom>
          <a:solidFill>
            <a:srgbClr val="76787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control (-2 m/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orpo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99960" y="2757600"/>
            <a:ext cx="2732040" cy="3047760"/>
          </a:xfrm>
          <a:prstGeom prst="rect">
            <a:avLst/>
          </a:prstGeom>
          <a:gradFill rotWithShape="0">
            <a:gsLst>
              <a:gs pos="0">
                <a:srgbClr val="263f6a"/>
              </a:gs>
              <a:gs pos="100000">
                <a:srgbClr val="21365b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Op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95280" y="3301920"/>
            <a:ext cx="2552760" cy="151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dcb0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intermittent acous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897480" y="2322360"/>
            <a:ext cx="1440720" cy="305640"/>
          </a:xfrm>
          <a:prstGeom prst="rect">
            <a:avLst/>
          </a:prstGeom>
          <a:solidFill>
            <a:srgbClr val="d2d4d6"/>
          </a:solidFill>
          <a:ln w="9360">
            <a:solidFill>
              <a:srgbClr val="a0c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fb2b4"/>
                </a:solidFill>
                <a:latin typeface="CorpoS"/>
              </a:rPr>
              <a:t>ACC - function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11120" y="3014640"/>
            <a:ext cx="2536920" cy="365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+ ACC - acoustic double alert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5280" y="4119480"/>
            <a:ext cx="2306520" cy="5367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c84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aptic warning (-3 m/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rpo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98520" y="4640400"/>
            <a:ext cx="2549520" cy="945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dc2c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permanent acoustic w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emergency brak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orn and hazard flasher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10" name="Picture 23" descr="C:\Users\ofontaine\Desktop\Image1.png"/>
          <p:cNvPicPr/>
          <p:nvPr/>
        </p:nvPicPr>
        <p:blipFill>
          <a:blip r:embed="rId1"/>
          <a:stretch/>
        </p:blipFill>
        <p:spPr>
          <a:xfrm>
            <a:off x="3570120" y="1603440"/>
            <a:ext cx="54309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2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BF5-47E8-4BCD-950E-CF52AC9AE3CC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EBS (Active Brake Assist) in a nutshell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96720" y="6556320"/>
            <a:ext cx="1582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Source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15" name="Picture 16" descr="_MG_9463"/>
          <p:cNvPicPr/>
          <p:nvPr/>
        </p:nvPicPr>
        <p:blipFill>
          <a:blip r:embed="rId1"/>
          <a:stretch/>
        </p:blipFill>
        <p:spPr>
          <a:xfrm>
            <a:off x="2411280" y="1247760"/>
            <a:ext cx="6553440" cy="4368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14240"/>
            <a:ext cx="7201080" cy="3686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resentation 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IAA 2006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roduct Launch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12/2006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Approx. driv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kilometer at customer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&gt; 1.600.000.000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eedback from customer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eedback from public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Claims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poradic after launch, not qualified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Efficiency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poradic reports from driv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irst tendencies from statistics very promising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8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F56-C7A7-49E6-A6D2-A8697D0F263B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EBS (Active Brake Assist)– public feedback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1258920" y="3067200"/>
          <a:ext cx="86508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067200"/>
                    <a:ext cx="865080" cy="129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f9ac9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1258920" y="1542960"/>
          <a:ext cx="83196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42960"/>
                    <a:ext cx="831960" cy="1324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f9ac9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Text Box 9"/>
          <p:cNvSpPr/>
          <p:nvPr/>
        </p:nvSpPr>
        <p:spPr>
          <a:xfrm>
            <a:off x="2268360" y="154296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Nomination for German Future Award 2002 (Innovation Award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Gelber Engel 2007 (Innovation Award from ADAC)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afety Award of Autosalon Brussels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European Safety Award for Heavy Duty Vehicles 2007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865080" cy="115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f9ac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7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D86D-2FB8-4AF9-9B1A-980F79C48B6B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EBS (Active Brake Assist) – functional overview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95280" y="1486080"/>
            <a:ext cx="6799320" cy="453528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401760" y="1601640"/>
            <a:ext cx="5568840" cy="35424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Op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01760" y="2016000"/>
            <a:ext cx="5568840" cy="35424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cous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01760" y="2428920"/>
            <a:ext cx="5568840" cy="35568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Radio/phone - mut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01760" y="2843280"/>
            <a:ext cx="5568840" cy="35568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Hap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graphicFrame>
        <p:nvGraphicFramePr>
          <p:cNvPr id="134" name="Object 17"/>
          <p:cNvGraphicFramePr/>
          <p:nvPr/>
        </p:nvGraphicFramePr>
        <p:xfrm>
          <a:off x="2138400" y="1484280"/>
          <a:ext cx="5070600" cy="21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1484280"/>
                    <a:ext cx="50706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8"/>
          <p:cNvSpPr/>
          <p:nvPr/>
        </p:nvSpPr>
        <p:spPr>
          <a:xfrm>
            <a:off x="398520" y="3514680"/>
            <a:ext cx="4460760" cy="75420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’s activities I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98520" y="4332240"/>
            <a:ext cx="5643360" cy="75420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’s activities II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938240" y="3513240"/>
            <a:ext cx="3233880" cy="757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058840" y="3573360"/>
            <a:ext cx="30528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poS"/>
              </a:rPr>
              <a:t>Using turn signals, braking or accelerating before or while warning phase 1 – 3 reduces system reaction to optic warning.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98520" y="5157720"/>
            <a:ext cx="5835600" cy="75420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’s activities III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5172120" y="1542960"/>
            <a:ext cx="0" cy="36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938240" y="5156280"/>
            <a:ext cx="5256360" cy="753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2122560" y="5460840"/>
            <a:ext cx="345744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poS"/>
              </a:rPr>
              <a:t>System can be switched off at any time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7308720" y="5426280"/>
            <a:ext cx="1692360" cy="472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</a:rPr>
              <a:t>Reaction on driver’s activities 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1930320" y="4348080"/>
            <a:ext cx="4248360" cy="722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2124000" y="4626000"/>
            <a:ext cx="3400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poS"/>
              </a:rPr>
              <a:t>Kick Down interrupts even emergency braking.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257A-1A09-4A3F-A98F-9A7683F56934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9" name="Rectangle 63"/>
          <p:cNvSpPr/>
          <p:nvPr/>
        </p:nvSpPr>
        <p:spPr>
          <a:xfrm>
            <a:off x="4368960" y="1989000"/>
            <a:ext cx="4593960" cy="35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0" name="Rectangle 64"/>
          <p:cNvSpPr/>
          <p:nvPr/>
        </p:nvSpPr>
        <p:spPr>
          <a:xfrm>
            <a:off x="4297320" y="2389320"/>
            <a:ext cx="4594320" cy="32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4226040" y="2852640"/>
            <a:ext cx="4593960" cy="29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2" name="Rectangle 61"/>
          <p:cNvSpPr/>
          <p:nvPr/>
        </p:nvSpPr>
        <p:spPr>
          <a:xfrm>
            <a:off x="4138560" y="3252960"/>
            <a:ext cx="4594320" cy="29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f9ac9"/>
                </a:solidFill>
                <a:latin typeface="CorpoS"/>
              </a:rPr>
              <a:t>Active Brake Assist  - customer reaction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067280" y="3684600"/>
          <a:ext cx="4593960" cy="2654280"/>
        </p:xfrm>
        <a:graphic>
          <a:graphicData uri="http://schemas.openxmlformats.org/drawingml/2006/table">
            <a:tbl>
              <a:tblPr/>
              <a:tblGrid>
                <a:gridCol w="459396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r is satisfied with system perform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iterally) Since truck is mainly used in Italy, warnings are issued more often, but this is caused by the driving behavior /mentality of drivers, who are used to overtake trucks and cut in close to the tr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urious (false) warnings are seldom.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rs additional comment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r is more willing to abstain from his TV than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om ABA/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is always switched 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ly warnings while tailgat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Text Box 58"/>
          <p:cNvSpPr/>
          <p:nvPr/>
        </p:nvSpPr>
        <p:spPr>
          <a:xfrm>
            <a:off x="324000" y="3789360"/>
            <a:ext cx="3600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Customer reaction has been evaluated explicitly after start of production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Customer reaction mainly 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about complete system layout of ACC and Active Brake Assis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Difficult to distinguish between ACC and ABA.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Warning level is acceptable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56" name="Picture 100" descr="Verantwortung fahrer"/>
          <p:cNvPicPr/>
          <p:nvPr/>
        </p:nvPicPr>
        <p:blipFill>
          <a:blip r:embed="rId1"/>
          <a:stretch/>
        </p:blipFill>
        <p:spPr>
          <a:xfrm>
            <a:off x="431640" y="1798560"/>
            <a:ext cx="3492720" cy="163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8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60A-DBB5-43AA-8806-F7A1B6FDA46B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95280" y="1700280"/>
            <a:ext cx="59770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has  the capability to be switched off at any tim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ccording to the „Vienna convention“ the driver shall be capab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n any situation to control the vehicl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f the system design leads to a significant level of “early” warning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n some traffic situations, better acceptance can be achieved, if  the is driver able to switch off the system temporarily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proven layout gives in practice a switched off rate of 1% or less, so th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“off – switch” does not reduce the efficiency of the system significantly.  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rcRect l="4335" t="1842" r="4335" b="38139"/>
          <a:stretch/>
        </p:blipFill>
        <p:spPr>
          <a:xfrm>
            <a:off x="6588000" y="1916280"/>
            <a:ext cx="152100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f9ac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3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5DB-346D-4E49-ACF8-C22F768C24A1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20560" y="1243080"/>
            <a:ext cx="736452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using a warning cascade in advance to the emergency braking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s reaction during the warning cascade interrupts the warning cascade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reduces system reaction to optic warning and therefore avoids the emergency braking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One intention of the system should be to initiate drivers reaction to avoi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critical situation that requires emergency braking.   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warning must be early enough to enable drivers reaction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re are a lot of signals and warnings from integrated or nomadic device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ystem HMI must raise the urgency of the situation suppressing all other signal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(This is not a matter of loudness!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611280" y="4433760"/>
            <a:ext cx="6984720" cy="2019600"/>
            <a:chOff x="611280" y="4433760"/>
            <a:chExt cx="6984720" cy="2019600"/>
          </a:xfrm>
        </p:grpSpPr>
        <p:sp>
          <p:nvSpPr>
            <p:cNvPr id="167" name="Rectangle 5"/>
            <p:cNvSpPr/>
            <p:nvPr/>
          </p:nvSpPr>
          <p:spPr>
            <a:xfrm>
              <a:off x="611280" y="4545720"/>
              <a:ext cx="5714280" cy="33840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Optic warning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11280" y="4941720"/>
              <a:ext cx="5714280" cy="33840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Acoustic warning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11280" y="5336640"/>
              <a:ext cx="5714280" cy="33984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Radio/phone - mute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611280" y="5732640"/>
              <a:ext cx="5714280" cy="33984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Haptic warning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graphicFrame>
          <p:nvGraphicFramePr>
            <p:cNvPr id="171" name="Object 9"/>
            <p:cNvGraphicFramePr/>
            <p:nvPr/>
          </p:nvGraphicFramePr>
          <p:xfrm>
            <a:off x="2393280" y="4433760"/>
            <a:ext cx="5202720" cy="201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3280" y="4433760"/>
                      <a:ext cx="5202720" cy="201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DD6-C8C0-4F18-A94A-9A501149BD1F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79280" y="2205000"/>
            <a:ext cx="82328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recognizing moving targets (cars, trucks, motor cycles, …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s long as they are mov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nd even if they come to a complete stop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up to now not recognizing targets that were never detected moving faster than 10km/h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main use case for AEBS systems is highway traffic, where platoon driving 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 usual way of traveling for trucks, therefore observing moving targets allows a hig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efficiency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o exclude additional risk of accidents braking by fault must be avoided under all circumstances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Even the correct recognition of moving targets in the majority of all traffic scenarios needs a lot of experience (7 years of development, several millions of test kilometers)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ince critical situations with stationary targets involved are more seldom and much harder to detect correctly, the system design excludes targets that were never detected traveling faster than 10km/h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1749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77" name="Picture 4" descr="_MG_9463"/>
          <p:cNvPicPr/>
          <p:nvPr/>
        </p:nvPicPr>
        <p:blipFill>
          <a:blip r:embed="rId1"/>
          <a:stretch/>
        </p:blipFill>
        <p:spPr>
          <a:xfrm>
            <a:off x="5796000" y="1301760"/>
            <a:ext cx="31687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8:12:55Z</dcterms:created>
  <dc:creator>e2can</dc:creator>
  <dc:description>Template Version 1.4</dc:description>
  <dc:language>en-US</dc:language>
  <cp:lastModifiedBy>ofontaine</cp:lastModifiedBy>
  <dcterms:modified xsi:type="dcterms:W3CDTF">2009-07-10T13:19:38Z</dcterms:modified>
  <cp:revision>26</cp:revision>
  <dc:subject/>
  <dc:title>New Daimler Trucks Template</dc:title>
</cp:coreProperties>
</file>