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move the slide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4176-533A-4FD9-8910-A025378DA21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7FF0-30C6-4E16-8540-8ABD9C833D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8B67-AD45-4387-8F62-15DE2819E1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710B-6C2B-4C7E-9317-CEC87D6E203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1A68-61ED-4981-BF81-EC2660A8A9D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C0D6-9BDC-41D2-A16D-40F64CB3B5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F26F-C900-4135-9550-89ABC2B611F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815D-A775-402B-91BC-964ED3DAD9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797C-EC27-43AC-9B50-414B3E74E39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D0BE-81FA-4B60-81A6-E378CA81817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EBD3-9514-45C3-9A39-B78416948A3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2D2C-8681-4993-9AF4-6DDEA534823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9284-B20A-4EF4-921C-685C50FC3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835344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4107960"/>
            <a:ext cx="835344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1471-7B44-43A0-B906-8371A93F3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4107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107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7155-DCEF-4B03-9F8B-44B2CD2F7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542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42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4107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4107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107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5EB44-A811-4110-9E40-0DC057B88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ABE95-D2EC-48A8-87D7-A2EC448F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9C1EC-7D03-478B-B5F4-333B9588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24063-2D3C-4FB1-8542-4C333A10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C79D4-12A2-4688-89A0-66883CF1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83588-D8E5-4BA7-B367-4AA1CB97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5280" y="730080"/>
            <a:ext cx="83534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9E621-C3E3-4D3F-861A-720E0D9A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107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CA20B-6B99-4ADC-8757-1DBA0609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329C8-D959-4397-AED1-28A5A60E9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5680" y="4107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60954-4401-4E0D-8E73-C5A44F34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5280" y="4107960"/>
            <a:ext cx="835344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92526-CD74-4F5A-97FE-DC5F2DC1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835344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5280" y="4107960"/>
            <a:ext cx="835344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5A225-1D04-4EF9-BE8B-53250F6F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5280" y="4107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5680" y="4107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F4820-7290-4B32-8095-DAA63BB3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9840" y="1542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4040" y="1542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5280" y="4107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9840" y="4107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4040" y="4107960"/>
            <a:ext cx="268956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0C7CB-AA40-47CD-9D70-5256B2BB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39461-9D8D-49B6-B7B3-183A74A81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62210-5E20-4802-A7A7-47B386F3D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DC14-2A49-4D54-985B-475B4BBB2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730080"/>
            <a:ext cx="83534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37539-AECD-4D3B-B4D0-78ED298EB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4107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449BF-CC38-423D-B596-DCD2BB600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107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E6D40-55F9-4D7E-98A4-9D56D0EDC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542960"/>
            <a:ext cx="407628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4107960"/>
            <a:ext cx="835344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226EA-4B6D-4196-91A0-A7BC54644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54288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2" marL="901800" indent="-17964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3" marL="126216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4" marL="162252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5" marL="162252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6" marL="162252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2" name="Line 7"/>
          <p:cNvSpPr/>
          <p:nvPr/>
        </p:nvSpPr>
        <p:spPr>
          <a:xfrm>
            <a:off x="250920" y="593640"/>
            <a:ext cx="86421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3" name="Picture 8" descr="Daimler_Logotype_042_CO"/>
          <p:cNvPicPr/>
          <p:nvPr/>
        </p:nvPicPr>
        <p:blipFill>
          <a:blip r:embed="rId2"/>
          <a:stretch/>
        </p:blipFill>
        <p:spPr>
          <a:xfrm>
            <a:off x="372960" y="176040"/>
            <a:ext cx="1560600" cy="24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95280" y="6705360"/>
            <a:ext cx="417528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953040" y="6705360"/>
            <a:ext cx="17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B373-B669-41F9-AAD2-AD73E995718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6"/>
          <p:cNvSpPr/>
          <p:nvPr/>
        </p:nvSpPr>
        <p:spPr>
          <a:xfrm>
            <a:off x="7812000" y="670716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Daimler Trucks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2" descr="weiß"/>
          <p:cNvPicPr/>
          <p:nvPr/>
        </p:nvPicPr>
        <p:blipFill>
          <a:blip r:embed="rId2"/>
          <a:stretch/>
        </p:blipFill>
        <p:spPr>
          <a:xfrm>
            <a:off x="0" y="6599160"/>
            <a:ext cx="9140760" cy="25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aimler_Logotype_100_CO"/>
          <p:cNvPicPr/>
          <p:nvPr/>
        </p:nvPicPr>
        <p:blipFill>
          <a:blip r:embed="rId3"/>
          <a:stretch/>
        </p:blipFill>
        <p:spPr>
          <a:xfrm>
            <a:off x="2749680" y="838080"/>
            <a:ext cx="3643200" cy="493920"/>
          </a:xfrm>
          <a:prstGeom prst="rect">
            <a:avLst/>
          </a:prstGeom>
          <a:ln w="0">
            <a:noFill/>
          </a:ln>
        </p:spPr>
      </p:pic>
      <p:sp>
        <p:nvSpPr>
          <p:cNvPr id="45" name="Line 13"/>
          <p:cNvSpPr/>
          <p:nvPr/>
        </p:nvSpPr>
        <p:spPr>
          <a:xfrm>
            <a:off x="250920" y="2421000"/>
            <a:ext cx="8642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95280" y="1542960"/>
            <a:ext cx="835344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1" marL="54288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2" marL="901800" indent="-17964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3" marL="126216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4" marL="162252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5" marL="162252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lvl="6" marL="1622520" indent="-181080">
              <a:lnSpc>
                <a:spcPct val="108000"/>
              </a:lnSpc>
              <a:spcAft>
                <a:spcPts val="938"/>
              </a:spcAft>
              <a:buClr>
                <a:srgbClr val="000000"/>
              </a:buClr>
              <a:buSzPct val="75000"/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9ac9"/>
                </a:solidFill>
                <a:latin typeface="CorpoS"/>
              </a:rPr>
              <a:t>Click to edit the title text format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73080" y="6703560"/>
            <a:ext cx="213372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33B1-2E12-43DE-85BC-B646F7CA44BF}" type="datetime"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951600" y="6703560"/>
            <a:ext cx="17956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EDD-6BD1-4F35-ADD0-7AFA907AE59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250920" y="6308640"/>
            <a:ext cx="8642160" cy="287280"/>
          </a:xfrm>
          <a:prstGeom prst="rect">
            <a:avLst/>
          </a:prstGeom>
          <a:solidFill>
            <a:srgbClr val="263f6a"/>
          </a:solidFill>
          <a:ln w="0">
            <a:noFill/>
          </a:ln>
        </p:spPr>
        <p:txBody>
          <a:bodyPr lIns="144000" rIns="144000" tIns="0" bIns="0" anchor="ctr">
            <a:noAutofit/>
          </a:bodyPr>
          <a:lstStyle>
            <a:lvl1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P/EM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6951600" y="6703920"/>
            <a:ext cx="179568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7198-BAB4-4B6F-8F83-2EE4A4C693C1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50920" y="6308640"/>
            <a:ext cx="8642160" cy="287280"/>
          </a:xfrm>
          <a:prstGeom prst="rect">
            <a:avLst/>
          </a:prstGeom>
          <a:solidFill>
            <a:srgbClr val="263f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0" bIns="0" anchor="ctr">
            <a:noAutofit/>
          </a:bodyPr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poS"/>
              </a:rPr>
              <a:t>TP/EMD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352000" cy="4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2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3f6a"/>
                </a:solidFill>
                <a:latin typeface="CorpoS"/>
              </a:rPr>
              <a:t>European State of the Art for AEBS systems 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5280" y="4724280"/>
            <a:ext cx="835200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9ac9"/>
                </a:solidFill>
                <a:latin typeface="CorpoS"/>
              </a:rPr>
              <a:t>Stuttgart, May 2008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9ac9"/>
                </a:solidFill>
                <a:latin typeface="CorpoS"/>
              </a:rPr>
              <a:t>Dr. Jürgen Trost</a:t>
            </a: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98" name="ZoneTexte 5"/>
          <p:cNvSpPr/>
          <p:nvPr/>
        </p:nvSpPr>
        <p:spPr>
          <a:xfrm>
            <a:off x="6951600" y="285840"/>
            <a:ext cx="17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rpoS"/>
              </a:rPr>
              <a:t>AEBS/LDWS-01-03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79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E5E2-0D9A-485E-8754-C1B3DE36F283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ctive Brake Assist – technical attributes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-135000" y="2708280"/>
            <a:ext cx="7929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system is designed to reduce the number of accidents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refore able to handle differential speeds high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an 70km/h (</a:t>
            </a: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ccident </a:t>
            </a: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eduction </a:t>
            </a: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ystem)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Rationale: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main use case for AEBS systems is highway traffic, where truck speed is restrict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o 80km/h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Due to the high mass involved in truck accidents even collisions with low differenti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speed can lead to significant harms, pure collision mitigation systems are falling short i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avoiding fatalities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Due to physical restrictions (friction, road curvature, traffic behavior, …) collision avoid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can not be achieved in all cases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refore the target is to reduce the numbers of accidents as much as possible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82" name="Picture 11" descr="FHZG rechts"/>
          <p:cNvPicPr/>
          <p:nvPr/>
        </p:nvPicPr>
        <p:blipFill>
          <a:blip r:embed="rId1"/>
          <a:stretch/>
        </p:blipFill>
        <p:spPr>
          <a:xfrm>
            <a:off x="5219640" y="1179360"/>
            <a:ext cx="3529080" cy="282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4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BF58-2B00-4680-8F9C-49C3537E6009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ctive Brake Assist – technical attributes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-502560" y="2708280"/>
            <a:ext cx="997632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system has been introduced to vehicles usi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at least one (the rear) axle air-suspended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Rationale: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o avoid performance reduction or misbehavior the forward looking sensor must be kept with high accuracy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in a direction parallel to the road surface. 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For steel-suspended vehicles it can not be guaranteed that for all  load conditions the chassis remains in a direc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parallel to the road surface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With the sensor chassis-mounted it is necessary to control the chassis position, what can be achieved by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chassis level control system based on at least one axle air-suspended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87" name="Picture 4" descr="SafetyTruckFullScreen2"/>
          <p:cNvPicPr/>
          <p:nvPr/>
        </p:nvPicPr>
        <p:blipFill>
          <a:blip r:embed="rId1"/>
          <a:stretch/>
        </p:blipFill>
        <p:spPr>
          <a:xfrm>
            <a:off x="3995640" y="1341360"/>
            <a:ext cx="3943440" cy="2360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0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CF95-C08D-4166-A420-1D75D0BC0AD8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ctive Brake Assist – demonstration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96720" y="6556320"/>
            <a:ext cx="1582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Source: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401760" y="1989000"/>
            <a:ext cx="2916000" cy="2546640"/>
          </a:xfrm>
          <a:prstGeom prst="rect">
            <a:avLst/>
          </a:prstGeom>
          <a:solidFill>
            <a:srgbClr val="76787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poS"/>
              </a:rPr>
              <a:t>control (-2 m/s</a:t>
            </a:r>
            <a:r>
              <a:rPr b="0" lang="en-US" sz="1400" spc="-1" strike="noStrike" baseline="30000">
                <a:solidFill>
                  <a:srgbClr val="ffffff"/>
                </a:solidFill>
                <a:latin typeface="Corpo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Corpo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399960" y="2757600"/>
            <a:ext cx="2732040" cy="3047760"/>
          </a:xfrm>
          <a:prstGeom prst="rect">
            <a:avLst/>
          </a:prstGeom>
          <a:gradFill rotWithShape="0">
            <a:gsLst>
              <a:gs pos="0">
                <a:srgbClr val="263f6a"/>
              </a:gs>
              <a:gs pos="100000">
                <a:srgbClr val="21365b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poS"/>
              </a:rPr>
              <a:t>Optic warning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95280" y="3301920"/>
            <a:ext cx="2552760" cy="151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dcb0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intermittent acoustic warning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897480" y="2322360"/>
            <a:ext cx="1440720" cy="305640"/>
          </a:xfrm>
          <a:prstGeom prst="rect">
            <a:avLst/>
          </a:prstGeom>
          <a:solidFill>
            <a:srgbClr val="d2d4d6"/>
          </a:solidFill>
          <a:ln w="9360">
            <a:solidFill>
              <a:srgbClr val="a0c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fb2b4"/>
                </a:solidFill>
                <a:latin typeface="CorpoS"/>
              </a:rPr>
              <a:t>ACC - function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411120" y="3014640"/>
            <a:ext cx="2536920" cy="3650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818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poS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CorpoS"/>
              </a:rPr>
              <a:t>+ ACC - acoustic double alert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95280" y="4119480"/>
            <a:ext cx="2306520" cy="5367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dc84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haptic warning (-3 m/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rpoS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98520" y="4640400"/>
            <a:ext cx="2549520" cy="945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dc2c00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permanent acoustic warn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emergency braking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horn and hazard flasher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10" name="Picture 23" descr="C:\Users\ofontaine\Desktop\Image1.png"/>
          <p:cNvPicPr/>
          <p:nvPr/>
        </p:nvPicPr>
        <p:blipFill>
          <a:blip r:embed="rId1"/>
          <a:stretch/>
        </p:blipFill>
        <p:spPr>
          <a:xfrm>
            <a:off x="3570120" y="1603440"/>
            <a:ext cx="543096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12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79A1-B57B-40DB-AE50-1FA8DED0B016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EBS (Active Brake Assist) in a nutshell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96720" y="6556320"/>
            <a:ext cx="1582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Source</a:t>
            </a:r>
            <a:r>
              <a:rPr b="0" lang="de-DE" sz="900" spc="-1" strike="noStrike">
                <a:solidFill>
                  <a:srgbClr val="000000"/>
                </a:solidFill>
                <a:latin typeface="CorpoS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15" name="Picture 16" descr="_MG_9463"/>
          <p:cNvPicPr/>
          <p:nvPr/>
        </p:nvPicPr>
        <p:blipFill>
          <a:blip r:embed="rId1"/>
          <a:stretch/>
        </p:blipFill>
        <p:spPr>
          <a:xfrm>
            <a:off x="2411280" y="1247760"/>
            <a:ext cx="6553440" cy="43689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614240"/>
            <a:ext cx="7201080" cy="3686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99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ts val="1899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Presentation :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IAA 2006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ts val="1899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Product Launch: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12/2006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ts val="1899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Approx. driv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kilometer at customer: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&gt; 1.600.000.000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ts val="1899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Feedback from customer: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ts val="1899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Feedback from public: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ts val="1899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Claims: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poradic after launch, not qualified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indent="0">
              <a:lnSpc>
                <a:spcPts val="1899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Efficiency: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poradic reports from drive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first tendencies from statistics very promising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18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A9FB-DC14-42AA-994A-F1BA8E4E0DE6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EBS (Active Brake Assist)– public feedback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1258920" y="3067200"/>
          <a:ext cx="86508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067200"/>
                    <a:ext cx="865080" cy="1296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3f9ac9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2" name="Object 8"/>
          <p:cNvGraphicFramePr/>
          <p:nvPr/>
        </p:nvGraphicFramePr>
        <p:xfrm>
          <a:off x="1258920" y="1542960"/>
          <a:ext cx="83196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42960"/>
                    <a:ext cx="831960" cy="1324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3f9ac9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4" name="Text Box 9"/>
          <p:cNvSpPr/>
          <p:nvPr/>
        </p:nvSpPr>
        <p:spPr>
          <a:xfrm>
            <a:off x="2268360" y="1542960"/>
            <a:ext cx="74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Nomination for German Future Award 2002 (Innovation Award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Gelber Engel 2007 (Innovation Award from ADAC)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Safety Award of Autosalon Brussels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European Safety Award for Heavy Duty Vehicles 2007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rpo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865080" cy="1152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f9ac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7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A431-0537-4325-85F5-B885742CC6B9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EBS (Active Brake Assist) – functional overview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95280" y="1486080"/>
            <a:ext cx="6799320" cy="4535280"/>
          </a:xfrm>
          <a:prstGeom prst="rect">
            <a:avLst/>
          </a:prstGeom>
          <a:solidFill>
            <a:srgbClr val="d2d4d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401760" y="1601640"/>
            <a:ext cx="5568840" cy="354240"/>
          </a:xfrm>
          <a:prstGeom prst="rect">
            <a:avLst/>
          </a:prstGeom>
          <a:solidFill>
            <a:srgbClr val="d2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Optic warning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401760" y="2016000"/>
            <a:ext cx="5568840" cy="354240"/>
          </a:xfrm>
          <a:prstGeom prst="rect">
            <a:avLst/>
          </a:prstGeom>
          <a:solidFill>
            <a:srgbClr val="d2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Acoustic warning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401760" y="2428920"/>
            <a:ext cx="5568840" cy="355680"/>
          </a:xfrm>
          <a:prstGeom prst="rect">
            <a:avLst/>
          </a:prstGeom>
          <a:solidFill>
            <a:srgbClr val="d2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Radio/phone - mute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401760" y="2843280"/>
            <a:ext cx="5568840" cy="355680"/>
          </a:xfrm>
          <a:prstGeom prst="rect">
            <a:avLst/>
          </a:prstGeom>
          <a:solidFill>
            <a:srgbClr val="d2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Haptic warning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graphicFrame>
        <p:nvGraphicFramePr>
          <p:cNvPr id="134" name="Object 17"/>
          <p:cNvGraphicFramePr/>
          <p:nvPr/>
        </p:nvGraphicFramePr>
        <p:xfrm>
          <a:off x="2138400" y="1484280"/>
          <a:ext cx="5070600" cy="21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8400" y="1484280"/>
                    <a:ext cx="507060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8"/>
          <p:cNvSpPr/>
          <p:nvPr/>
        </p:nvSpPr>
        <p:spPr>
          <a:xfrm>
            <a:off x="398520" y="3514680"/>
            <a:ext cx="4460760" cy="754200"/>
          </a:xfrm>
          <a:prstGeom prst="rect">
            <a:avLst/>
          </a:prstGeom>
          <a:solidFill>
            <a:srgbClr val="d2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Driver’s activities I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398520" y="4332240"/>
            <a:ext cx="5643360" cy="754200"/>
          </a:xfrm>
          <a:prstGeom prst="rect">
            <a:avLst/>
          </a:prstGeom>
          <a:solidFill>
            <a:srgbClr val="d2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Driver’s activities II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1938240" y="3513240"/>
            <a:ext cx="3233880" cy="757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2058840" y="3573360"/>
            <a:ext cx="30528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rpoS"/>
              </a:rPr>
              <a:t>Using turn signals, braking or accelerating before or while warning phase 1 – 3 reduces system reaction to optic warning.</a:t>
            </a: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398520" y="5157720"/>
            <a:ext cx="5835600" cy="754200"/>
          </a:xfrm>
          <a:prstGeom prst="rect">
            <a:avLst/>
          </a:prstGeom>
          <a:solidFill>
            <a:srgbClr val="d2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Driver’s activities III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5172120" y="1542960"/>
            <a:ext cx="0" cy="36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938240" y="5156280"/>
            <a:ext cx="5256360" cy="753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2122560" y="5460840"/>
            <a:ext cx="345744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rpoS"/>
              </a:rPr>
              <a:t>System can be switched off at any time</a:t>
            </a: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7308720" y="5426280"/>
            <a:ext cx="1692360" cy="4726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poS"/>
              </a:rPr>
              <a:t>Reaction on driver’s activities 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1930320" y="4348080"/>
            <a:ext cx="4248360" cy="7225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2124000" y="4626000"/>
            <a:ext cx="34005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rpoS"/>
              </a:rPr>
              <a:t>Kick Down interrupts even emergency braking.</a:t>
            </a:r>
            <a:endParaRPr b="0" lang="en-US" sz="1300" spc="-1" strike="noStrike">
              <a:solidFill>
                <a:srgbClr val="000000"/>
              </a:solidFill>
              <a:latin typeface="Corp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9578-E147-4847-B4A8-0B8FA3E82419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49" name="Rectangle 63"/>
          <p:cNvSpPr/>
          <p:nvPr/>
        </p:nvSpPr>
        <p:spPr>
          <a:xfrm>
            <a:off x="4368960" y="1989000"/>
            <a:ext cx="4593960" cy="35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river is satisfied with system performance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0" name="Rectangle 64"/>
          <p:cNvSpPr/>
          <p:nvPr/>
        </p:nvSpPr>
        <p:spPr>
          <a:xfrm>
            <a:off x="4297320" y="2389320"/>
            <a:ext cx="4594320" cy="32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river is satisfied with system performance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4226040" y="2852640"/>
            <a:ext cx="4593960" cy="29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river is satisfied with system performance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2" name="Rectangle 61"/>
          <p:cNvSpPr/>
          <p:nvPr/>
        </p:nvSpPr>
        <p:spPr>
          <a:xfrm>
            <a:off x="4138560" y="3252960"/>
            <a:ext cx="4594320" cy="29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river is satisfied with system performance</a:t>
            </a:r>
            <a:endParaRPr b="0" lang="en-US" sz="12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f9ac9"/>
                </a:solidFill>
                <a:latin typeface="CorpoS"/>
              </a:rPr>
              <a:t>Active Brake Assist  - customer reaction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067280" y="3684600"/>
          <a:ext cx="4593960" cy="2654280"/>
        </p:xfrm>
        <a:graphic>
          <a:graphicData uri="http://schemas.openxmlformats.org/drawingml/2006/table">
            <a:tbl>
              <a:tblPr/>
              <a:tblGrid>
                <a:gridCol w="459396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iver is satisfied with system performan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Literally) Since truck is mainly used in Italy, warnings are issued more often, but this is caused by the driving behavior /mentality of drivers, who are used to overtake trucks and cut in close to the truc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urious (false) warnings are seldom.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ivers additional comment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iver is more willing to abstain from his TV than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om ABA/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v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is always switched 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ativ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rly warnings while tailgat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po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Text Box 58"/>
          <p:cNvSpPr/>
          <p:nvPr/>
        </p:nvSpPr>
        <p:spPr>
          <a:xfrm>
            <a:off x="324000" y="3789360"/>
            <a:ext cx="3600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poS"/>
              </a:rPr>
              <a:t>Customer reaction has been evaluated explicitly after start of production 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poS"/>
              </a:rPr>
              <a:t>Customer reaction mainly posi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rpoS"/>
              </a:rPr>
              <a:t>about complete system layout of ACC and Active Brake Assis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rpoS"/>
              </a:rPr>
              <a:t>Difficult to distinguish between ACC and ABA. 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  <a:p>
            <a:pPr marL="176040" indent="-17604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poS"/>
              </a:rPr>
              <a:t>Warning level is acceptable.</a:t>
            </a:r>
            <a:endParaRPr b="0" lang="en-US" sz="16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56" name="Picture 100" descr="Verantwortung fahrer"/>
          <p:cNvPicPr/>
          <p:nvPr/>
        </p:nvPicPr>
        <p:blipFill>
          <a:blip r:embed="rId1"/>
          <a:stretch/>
        </p:blipFill>
        <p:spPr>
          <a:xfrm>
            <a:off x="431640" y="1798560"/>
            <a:ext cx="3492720" cy="163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8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270E-D1BB-4186-A3BC-46F3131DAFC5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ctive Brake Assist – technical attributes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95280" y="1700280"/>
            <a:ext cx="597708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system has  the capability to be switched off at any time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Rationale: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According to the „Vienna convention“ the driver shall be capabl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in any situation to control the vehicle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If the system design leads to a significant level of “early” warning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in some traffic situations, better acceptance can be achieved, if  the is driver able to switch off the system temporarily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proven layout gives in practice a switched off rate of 1% or less, so th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“off – switch” does not reduce the efficiency of the system significantly.  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rcRect l="4335" t="1842" r="4335" b="38139"/>
          <a:stretch/>
        </p:blipFill>
        <p:spPr>
          <a:xfrm>
            <a:off x="6588000" y="1916280"/>
            <a:ext cx="1521000" cy="2147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f9ac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63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E78D-A9E2-443C-AD80-963AB9DCFA6A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ctive Brake Assist – technical attributes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20560" y="1243080"/>
            <a:ext cx="736452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system is using a warning cascade in advance to the emergency braking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drivers reaction during the warning cascade interrupts the warning cascade 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reduces system reaction to optic warning and therefore avoids the emergency braking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Rationale: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One intention of the system should be to initiate drivers reaction to avoi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critical situation that requires emergency braking.   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warning must be early enough to enable drivers reaction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re are a lot of signals and warnings from integrated or nomadic device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system HMI must raise the urgency of the situation suppressing all other signal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(This is not a matter of loudness!)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611280" y="4433760"/>
            <a:ext cx="6984720" cy="2019600"/>
            <a:chOff x="611280" y="4433760"/>
            <a:chExt cx="6984720" cy="2019600"/>
          </a:xfrm>
        </p:grpSpPr>
        <p:sp>
          <p:nvSpPr>
            <p:cNvPr id="167" name="Rectangle 5"/>
            <p:cNvSpPr/>
            <p:nvPr/>
          </p:nvSpPr>
          <p:spPr>
            <a:xfrm>
              <a:off x="611280" y="4545720"/>
              <a:ext cx="5714280" cy="338400"/>
            </a:xfrm>
            <a:prstGeom prst="rect">
              <a:avLst/>
            </a:prstGeom>
            <a:solidFill>
              <a:srgbClr val="d2d4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spcAft>
                  <a:spcPts val="624"/>
                </a:spcAft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rpoS"/>
                </a:rPr>
                <a:t>Optic warning</a:t>
              </a:r>
              <a:endParaRPr b="0" lang="en-US" sz="10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611280" y="4941720"/>
              <a:ext cx="5714280" cy="338400"/>
            </a:xfrm>
            <a:prstGeom prst="rect">
              <a:avLst/>
            </a:prstGeom>
            <a:solidFill>
              <a:srgbClr val="d2d4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spcAft>
                  <a:spcPts val="624"/>
                </a:spcAft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rpoS"/>
                </a:rPr>
                <a:t>Acoustic warning</a:t>
              </a:r>
              <a:endParaRPr b="0" lang="en-US" sz="10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611280" y="5336640"/>
              <a:ext cx="5714280" cy="339840"/>
            </a:xfrm>
            <a:prstGeom prst="rect">
              <a:avLst/>
            </a:prstGeom>
            <a:solidFill>
              <a:srgbClr val="d2d4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spcAft>
                  <a:spcPts val="624"/>
                </a:spcAft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rpoS"/>
                </a:rPr>
                <a:t>Radio/phone - mute</a:t>
              </a:r>
              <a:endParaRPr b="0" lang="en-US" sz="10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611280" y="5732640"/>
              <a:ext cx="5714280" cy="339840"/>
            </a:xfrm>
            <a:prstGeom prst="rect">
              <a:avLst/>
            </a:prstGeom>
            <a:solidFill>
              <a:srgbClr val="d2d4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spcAft>
                  <a:spcPts val="624"/>
                </a:spcAft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rpoS"/>
                </a:rPr>
                <a:t>Haptic warning</a:t>
              </a:r>
              <a:endParaRPr b="0" lang="en-US" sz="1000" spc="-1" strike="noStrike">
                <a:solidFill>
                  <a:srgbClr val="000000"/>
                </a:solidFill>
                <a:latin typeface="CorpoS"/>
              </a:endParaRPr>
            </a:p>
          </p:txBody>
        </p:sp>
        <p:graphicFrame>
          <p:nvGraphicFramePr>
            <p:cNvPr id="171" name="Object 9"/>
            <p:cNvGraphicFramePr/>
            <p:nvPr/>
          </p:nvGraphicFramePr>
          <p:xfrm>
            <a:off x="2393280" y="4433760"/>
            <a:ext cx="5202720" cy="2019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93280" y="4433760"/>
                      <a:ext cx="5202720" cy="201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3"/>
          <p:cNvSpPr/>
          <p:nvPr/>
        </p:nvSpPr>
        <p:spPr>
          <a:xfrm>
            <a:off x="395280" y="6705720"/>
            <a:ext cx="4175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rpoS"/>
              </a:rPr>
              <a:t>TP/EMD </a:t>
            </a:r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74" name="Espace réservé du numéro de diapositive 4"/>
          <p:cNvSpPr/>
          <p:nvPr/>
        </p:nvSpPr>
        <p:spPr>
          <a:xfrm>
            <a:off x="6953400" y="6705720"/>
            <a:ext cx="1795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6A02-E807-487C-81EE-E8B6019705B7}" type="slidenum">
              <a:rPr b="0" lang="en-US" sz="900" spc="-1" strike="noStrike">
                <a:solidFill>
                  <a:srgbClr val="000000"/>
                </a:solidFill>
                <a:latin typeface="Corpo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rpo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730080"/>
            <a:ext cx="8353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3164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9ac9"/>
                </a:solidFill>
                <a:latin typeface="CorpoS"/>
              </a:rPr>
              <a:t>Active Brake Assist – technical attributes</a:t>
            </a:r>
            <a:endParaRPr b="1" lang="en-US" sz="2800" spc="-1" strike="noStrike">
              <a:solidFill>
                <a:srgbClr val="3f9ac9"/>
              </a:solidFill>
              <a:latin typeface="Corpo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79280" y="2205000"/>
            <a:ext cx="82328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system is recognizing moving targets (cars, trucks, motor cycles, …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as long as they are movi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and even if they come to a complete stop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system is up to now not recognizing targets that were never detected moving faster than 10km/h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poS"/>
              </a:rPr>
              <a:t>Rationale: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he main use case for AEBS systems is highway traffic, where platoon driving 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a usual way of traveling for trucks, therefore observing moving targets allows a hig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efficiency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To exclude additional risk of accidents braking by fault must be avoided under all circumstances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Even the correct recognition of moving targets in the majority of all traffic scenarios needs a lot of experience (7 years of development, several millions of test kilometers)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876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Since critical situations with stationary targets involved are more seldom and much harder to detect correctly, the system design excludes targets that were never detected traveling faster than 10km/h.</a:t>
            </a: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  <a:p>
            <a:pPr marL="179280" indent="-179280">
              <a:spcAft>
                <a:spcPts val="1749"/>
              </a:spcAft>
              <a:buClr>
                <a:srgbClr val="000000"/>
              </a:buClr>
              <a:buFont typeface="Corpo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poS"/>
            </a:endParaRPr>
          </a:p>
        </p:txBody>
      </p:sp>
      <p:pic>
        <p:nvPicPr>
          <p:cNvPr id="177" name="Picture 4" descr="_MG_9463"/>
          <p:cNvPicPr/>
          <p:nvPr/>
        </p:nvPicPr>
        <p:blipFill>
          <a:blip r:embed="rId1"/>
          <a:stretch/>
        </p:blipFill>
        <p:spPr>
          <a:xfrm>
            <a:off x="5796000" y="1301760"/>
            <a:ext cx="31687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8:12:55Z</dcterms:created>
  <dc:creator>e2can</dc:creator>
  <dc:description>Template Version 1.4</dc:description>
  <dc:language>en-US</dc:language>
  <cp:lastModifiedBy>ofontaine</cp:lastModifiedBy>
  <dcterms:modified xsi:type="dcterms:W3CDTF">2009-07-10T13:19:38Z</dcterms:modified>
  <cp:revision>26</cp:revision>
  <dc:subject/>
  <dc:title>New Daimler Trucks Template</dc:title>
</cp:coreProperties>
</file>