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31.wmf" ContentType="image/x-wmf"/>
  <Override PartName="/ppt/media/image6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0.png" ContentType="image/png"/>
  <Override PartName="/ppt/media/image59.wmf" ContentType="image/x-wmf"/>
  <Override PartName="/ppt/media/image22.wmf" ContentType="image/x-wmf"/>
  <Override PartName="/ppt/media/image61.png" ContentType="image/png"/>
  <Override PartName="/ppt/media/image69.wmf" ContentType="image/x-wmf"/>
  <Override PartName="/ppt/media/image3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70.wmf" ContentType="image/x-wmf"/>
  <Override PartName="/ppt/media/image28.wmf" ContentType="image/x-wmf"/>
  <Override PartName="/ppt/media/image67.wmf" ContentType="image/x-wmf"/>
  <Override PartName="/ppt/media/image30.wmf" ContentType="image/x-wmf"/>
  <Override PartName="/ppt/media/image65.wmf" ContentType="image/x-wmf"/>
  <Override PartName="/ppt/media/image2.wmf" ContentType="image/x-wmf"/>
  <Override PartName="/ppt/media/image14.wmf" ContentType="image/x-wmf"/>
  <Override PartName="/ppt/media/image23.wmf" ContentType="image/x-wmf"/>
  <Override PartName="/ppt/media/image66.png" ContentType="image/png"/>
  <Override PartName="/ppt/media/image27.wmf" ContentType="image/x-wmf"/>
  <Override PartName="/ppt/media/image64.wmf" ContentType="image/x-wmf"/>
  <Override PartName="/ppt/media/image24.png" ContentType="image/png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5136-A9CC-4EAD-ABB2-43AA8869B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スライド番号プレースホルダ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03F9-B98D-4B28-813C-57247DA96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スライド番号プレースホルダ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D522-E30E-4E79-9BF9-F0A48E55B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スライド番号プレースホルダ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13CC-6F08-4C46-A686-DB9A56D77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スライド番号プレースホルダ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1F77-4D59-4CD1-828D-24BF76CE2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6F7-FDA7-4DFE-9EA9-F8AA1CB1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DDB-7D3C-46AA-AEE7-245AAE79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B64-DE23-48F4-85A1-E1C5759A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0E2-741D-41D0-AEC3-5E29E35E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F7A2-DC5E-4717-99AB-C2D1AB90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8D0F-785C-4F4C-ABB9-4F3A19A6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D728-99A1-42B8-A9DA-59F8FACE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0402-8630-4E6D-8761-82D2852B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399C-316D-44BD-8F7F-09CC2903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AB49-3C11-4A3D-A7BD-610E4397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4F67-762E-4135-BB64-B2F0C0E6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F9D-DFC7-4A25-9EF8-8F5BB396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9818-52CD-4262-A33C-772D3EDC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5136-2CE5-44D7-A277-EEB0E7BD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73DB-71F2-4E69-AD16-266689B4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42FA-3B79-44F2-84E9-85CF5471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20FD-A240-4899-9A56-FFEE97A8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42E4-027A-46C4-AD8E-33802701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8D9D-51DF-49B5-BF3B-79833750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B88C-AA3A-46CE-B62C-F96AB538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6511-BD93-483D-93FB-E6DC1E32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E236-250A-4498-A230-74429CA3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DDE-4319-4426-B40E-DDD41E38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60D0-30AF-44B2-9FB4-B577ACC1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136D-BC8C-4911-95F9-4B99B592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5143-78CC-4514-83AF-B119950D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B73F-B4E2-48AA-A2E7-48C8FC7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5984-4918-4BA7-B573-873D6A8C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307C4-3404-450F-B310-2F87FFB7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37D46-7033-4454-8ECB-75E02789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9E2E5-B466-44A7-A174-F42F6B72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1B043-2ED2-42BF-A3F7-1C5E0581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17D81-1B5D-4CB3-9C8A-D7680E14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A7C-FCC2-404D-AC62-B8A151B2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79953-DB70-403B-8CC5-B8A86E18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6DF9-6AFF-4026-8258-6817A344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9C4B9-A1DE-4F62-A2C8-182B1E2F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7FBF1-238F-469A-B75E-6694780F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2B90E-8C80-43DB-9989-8BD701DA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3C91-CAC8-4B0C-AA2A-44EBFC8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67ABE-CE64-41C0-A1A1-6EC3AD3E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B9F8B-D1D3-40C0-897E-EAAF190B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44CF-D5F1-464F-88D8-26135447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28A-7EB8-4A89-B786-53B9F2D7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E6A-BCB5-44E8-ABED-AC822E27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3E8-2D1E-4971-B16C-C5A57310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D97-ACBC-42A0-87BE-516AC75B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126-A098-4763-B575-B08D2920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22D8-6F73-453F-8182-179525DD933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5721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938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0BB5-52CD-409D-9BA2-85B1A7DFD9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5721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BF38-F17B-4C8D-8E52-4DC08505D9F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457200" y="657216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8106-F493-4532-AF3C-6CA0698D9D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image" Target="../media/image7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21BD-F64F-4158-BE04-5818120184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2600" y="1523880"/>
            <a:ext cx="82868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Result of Japan’s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und Robin Engine Test:</a:t>
            </a: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asurement of PM and P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23640" y="3962520"/>
            <a:ext cx="8210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30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P Inform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Traffic Safety and Environment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 Automobile Research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1" descr=""/>
          <p:cNvPicPr/>
          <p:nvPr/>
        </p:nvPicPr>
        <p:blipFill>
          <a:blip r:embed="rId1"/>
          <a:stretch/>
        </p:blipFill>
        <p:spPr>
          <a:xfrm>
            <a:off x="15840" y="692280"/>
            <a:ext cx="4484880" cy="261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"/>
          <p:cNvPicPr/>
          <p:nvPr/>
        </p:nvPicPr>
        <p:blipFill>
          <a:blip r:embed="rId2"/>
          <a:stretch/>
        </p:blipFill>
        <p:spPr>
          <a:xfrm>
            <a:off x="4479840" y="3257640"/>
            <a:ext cx="4484880" cy="261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8" descr=""/>
          <p:cNvPicPr/>
          <p:nvPr/>
        </p:nvPicPr>
        <p:blipFill>
          <a:blip r:embed="rId3"/>
          <a:stretch/>
        </p:blipFill>
        <p:spPr>
          <a:xfrm>
            <a:off x="4479840" y="692280"/>
            <a:ext cx="4484880" cy="261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9" descr=""/>
          <p:cNvPicPr/>
          <p:nvPr/>
        </p:nvPicPr>
        <p:blipFill>
          <a:blip r:embed="rId4"/>
          <a:stretch/>
        </p:blipFill>
        <p:spPr>
          <a:xfrm>
            <a:off x="0" y="3257640"/>
            <a:ext cx="4484520" cy="2619360"/>
          </a:xfrm>
          <a:prstGeom prst="rect">
            <a:avLst/>
          </a:prstGeom>
          <a:ln w="0">
            <a:noFill/>
          </a:ln>
        </p:spPr>
      </p:pic>
      <p:sp>
        <p:nvSpPr>
          <p:cNvPr id="222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55F9-308B-4198-BF77-4CF3F939F87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Gaseous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miss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66760" y="5873760"/>
            <a:ext cx="8121600" cy="5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CO &amp; HC: Slight differences in the result among labs in some modes; good repeatabil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NO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amp; C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 Almost the same results among labs; good repeatabil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422960" cy="258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7" descr=""/>
          <p:cNvPicPr/>
          <p:nvPr/>
        </p:nvPicPr>
        <p:blipFill>
          <a:blip r:embed="rId2"/>
          <a:stretch/>
        </p:blipFill>
        <p:spPr>
          <a:xfrm>
            <a:off x="4613400" y="620640"/>
            <a:ext cx="4422600" cy="2583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8" descr=""/>
          <p:cNvPicPr/>
          <p:nvPr/>
        </p:nvPicPr>
        <p:blipFill>
          <a:blip r:embed="rId3"/>
          <a:stretch/>
        </p:blipFill>
        <p:spPr>
          <a:xfrm>
            <a:off x="179280" y="3151080"/>
            <a:ext cx="4422960" cy="2583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9" descr=""/>
          <p:cNvPicPr/>
          <p:nvPr/>
        </p:nvPicPr>
        <p:blipFill>
          <a:blip r:embed="rId4"/>
          <a:stretch/>
        </p:blipFill>
        <p:spPr>
          <a:xfrm>
            <a:off x="4613400" y="3151080"/>
            <a:ext cx="4422600" cy="2583000"/>
          </a:xfrm>
          <a:prstGeom prst="rect">
            <a:avLst/>
          </a:prstGeom>
          <a:ln w="0">
            <a:noFill/>
          </a:ln>
        </p:spPr>
      </p:pic>
      <p:sp>
        <p:nvSpPr>
          <p:cNvPr id="229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EF6D-9C06-495D-B5D0-93B19B6BB4C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M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miss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898560" y="836640"/>
            <a:ext cx="2376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unnel blank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318280" y="836640"/>
            <a:ext cx="2232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14200" y="5589720"/>
            <a:ext cx="8642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B correction, emission levels of Lab. A were significantly higher than the others; After TB correction, emission levels of Lab. 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Lab. 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became almost the s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M emission:</a:t>
            </a:r>
            <a:r>
              <a:rPr b="0" i="1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JE05 &gt; WHTC-Hot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WHTC-Cold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WH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318280" y="1268280"/>
            <a:ext cx="941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898560" y="3789360"/>
            <a:ext cx="1116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898560" y="3357720"/>
            <a:ext cx="2376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unnel blank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898560" y="1268280"/>
            <a:ext cx="941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5318280" y="3357720"/>
            <a:ext cx="2232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318280" y="3789360"/>
            <a:ext cx="1116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3" descr=""/>
          <p:cNvPicPr/>
          <p:nvPr/>
        </p:nvPicPr>
        <p:blipFill>
          <a:blip r:embed="rId1"/>
          <a:stretch/>
        </p:blipFill>
        <p:spPr>
          <a:xfrm>
            <a:off x="34920" y="1314360"/>
            <a:ext cx="4538520" cy="2652840"/>
          </a:xfrm>
          <a:prstGeom prst="rect">
            <a:avLst/>
          </a:prstGeom>
          <a:ln w="0">
            <a:noFill/>
          </a:ln>
        </p:spPr>
      </p:pic>
      <p:sp>
        <p:nvSpPr>
          <p:cNvPr id="241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B44B-9A83-4847-846B-202BEB0E485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N (Number) Emission  -Full Tunnel-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57120" y="4137120"/>
            <a:ext cx="86425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The emission levels in WHTC-C/H of Lab. A and Lab. B were almost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* The emission level in WHSC of Lab. A and that in JE05 of Lab. B were about 3   times higher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800" spc="-1" strike="noStrike">
                <a:solidFill>
                  <a:srgbClr val="c00000"/>
                </a:solidFill>
                <a:latin typeface="Arial"/>
              </a:rPr>
              <a:t>　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Also, even when the same PNCS was used, the result differed between la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"/>
          <p:cNvPicPr/>
          <p:nvPr/>
        </p:nvPicPr>
        <p:blipFill>
          <a:blip r:embed="rId2"/>
          <a:stretch/>
        </p:blipFill>
        <p:spPr>
          <a:xfrm>
            <a:off x="4586400" y="1293840"/>
            <a:ext cx="4511520" cy="26352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0"/>
          <p:cNvSpPr/>
          <p:nvPr/>
        </p:nvSpPr>
        <p:spPr>
          <a:xfrm>
            <a:off x="900000" y="1144440"/>
            <a:ext cx="14400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Lab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5940360" y="1125360"/>
            <a:ext cx="17208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nd-Robi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849A-FBE9-4D12-A477-E769D6EE933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N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(Number) Emission  -Partial Tunnel-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357120" y="4235400"/>
            <a:ext cx="8642520" cy="20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n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The emission levels of Lab. A</a:t>
            </a:r>
            <a:r>
              <a:rPr b="0" i="1" lang="ja-JP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and Lab. B were the same as the full tunnel, except for JE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* The emission level in JE05 of Lab. B was about double the level in the full</a:t>
            </a:r>
            <a:r>
              <a:rPr b="0" i="1" lang="ja-JP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tu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c00000"/>
                </a:solidFill>
                <a:latin typeface="Arial"/>
              </a:rPr>
              <a:t>　</a:t>
            </a: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Also, even when the same-model PNCS was used, the result differed between la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N emission:</a:t>
            </a: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JE05 &gt; WHTC-Cold  &gt; WHTC-Hot </a:t>
            </a:r>
            <a:r>
              <a:rPr b="0" i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 WH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The emission-level order of WHTC-Cold differed between PM</a:t>
            </a: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and P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1"/>
          <a:stretch/>
        </p:blipFill>
        <p:spPr>
          <a:xfrm>
            <a:off x="33480" y="1281240"/>
            <a:ext cx="4538520" cy="2652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"/>
          <p:cNvPicPr/>
          <p:nvPr/>
        </p:nvPicPr>
        <p:blipFill>
          <a:blip r:embed="rId2"/>
          <a:stretch/>
        </p:blipFill>
        <p:spPr>
          <a:xfrm>
            <a:off x="4570560" y="1281240"/>
            <a:ext cx="4538520" cy="26524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1"/>
          <p:cNvSpPr/>
          <p:nvPr/>
        </p:nvSpPr>
        <p:spPr>
          <a:xfrm>
            <a:off x="900000" y="1125360"/>
            <a:ext cx="158436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nd-Robi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6156360" y="1125360"/>
            <a:ext cx="128916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062D-816B-4025-9C8B-7FE99501AF5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mparison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V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for PM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927000" y="1168560"/>
            <a:ext cx="3414960" cy="2189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5118120" y="1168560"/>
            <a:ext cx="3414600" cy="21891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108000" y="5803920"/>
            <a:ext cx="8820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B correction on 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owered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emission levels, causing COV to be hig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TB correction reduced the standard deviation (g/kWh),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sulting in smaller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692360" y="981000"/>
            <a:ext cx="1727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B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012000" y="981000"/>
            <a:ext cx="1726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B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"/>
          <p:cNvPicPr/>
          <p:nvPr/>
        </p:nvPicPr>
        <p:blipFill>
          <a:blip r:embed="rId3"/>
          <a:stretch/>
        </p:blipFill>
        <p:spPr>
          <a:xfrm>
            <a:off x="853920" y="3538440"/>
            <a:ext cx="3414960" cy="2189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"/>
          <p:cNvPicPr/>
          <p:nvPr/>
        </p:nvPicPr>
        <p:blipFill>
          <a:blip r:embed="rId4"/>
          <a:stretch/>
        </p:blipFill>
        <p:spPr>
          <a:xfrm>
            <a:off x="5045040" y="3538440"/>
            <a:ext cx="3414600" cy="21891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3"/>
          <p:cNvSpPr/>
          <p:nvPr/>
        </p:nvSpPr>
        <p:spPr>
          <a:xfrm>
            <a:off x="1692360" y="3357720"/>
            <a:ext cx="1727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o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B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6012000" y="3357720"/>
            <a:ext cx="1726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B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8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300560" cy="2511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9" descr=""/>
          <p:cNvPicPr/>
          <p:nvPr/>
        </p:nvPicPr>
        <p:blipFill>
          <a:blip r:embed="rId2"/>
          <a:stretch/>
        </p:blipFill>
        <p:spPr>
          <a:xfrm>
            <a:off x="4719600" y="765000"/>
            <a:ext cx="4300560" cy="2511720"/>
          </a:xfrm>
          <a:prstGeom prst="rect">
            <a:avLst/>
          </a:prstGeom>
          <a:ln w="0">
            <a:noFill/>
          </a:ln>
        </p:spPr>
      </p:pic>
      <p:sp>
        <p:nvSpPr>
          <p:cNvPr id="267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01A2-787A-4242-9496-56803EFB33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mparison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V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for P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24000" y="5665680"/>
            <a:ext cx="88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V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 PN: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 No large difference between full tunnel and micro tunnel dilutions; around the same leve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COV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20%-70%;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lmost the same level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 as PM without TB corr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826920" y="981000"/>
            <a:ext cx="1438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0" descr=""/>
          <p:cNvPicPr/>
          <p:nvPr/>
        </p:nvPicPr>
        <p:blipFill>
          <a:blip r:embed="rId3"/>
          <a:stretch/>
        </p:blipFill>
        <p:spPr>
          <a:xfrm>
            <a:off x="262080" y="3214800"/>
            <a:ext cx="4300560" cy="2511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1" descr=""/>
          <p:cNvPicPr/>
          <p:nvPr/>
        </p:nvPicPr>
        <p:blipFill>
          <a:blip r:embed="rId4"/>
          <a:stretch/>
        </p:blipFill>
        <p:spPr>
          <a:xfrm>
            <a:off x="4719600" y="3222720"/>
            <a:ext cx="4300560" cy="25113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2"/>
          <p:cNvSpPr/>
          <p:nvPr/>
        </p:nvSpPr>
        <p:spPr>
          <a:xfrm>
            <a:off x="826920" y="3429000"/>
            <a:ext cx="1438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3"/>
          <p:cNvSpPr/>
          <p:nvPr/>
        </p:nvSpPr>
        <p:spPr>
          <a:xfrm>
            <a:off x="5292720" y="981000"/>
            <a:ext cx="17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5292720" y="3429000"/>
            <a:ext cx="17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4"/>
          <p:cNvSpPr/>
          <p:nvPr/>
        </p:nvSpPr>
        <p:spPr>
          <a:xfrm>
            <a:off x="2627280" y="981000"/>
            <a:ext cx="72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R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5"/>
          <p:cNvSpPr/>
          <p:nvPr/>
        </p:nvSpPr>
        <p:spPr>
          <a:xfrm>
            <a:off x="2627280" y="3429000"/>
            <a:ext cx="720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L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6"/>
          <p:cNvSpPr/>
          <p:nvPr/>
        </p:nvSpPr>
        <p:spPr>
          <a:xfrm>
            <a:off x="5292720" y="1278000"/>
            <a:ext cx="1655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noth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ype PN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7"/>
          <p:cNvSpPr/>
          <p:nvPr/>
        </p:nvSpPr>
        <p:spPr>
          <a:xfrm>
            <a:off x="5292720" y="3726000"/>
            <a:ext cx="1511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ype PN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M Emission in ETC and ESC Mo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unique tendency in the emission level and COV was observed in either ETC or ES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角丸四角形吹き出し 4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2"/>
          <a:stretch/>
        </p:blipFill>
        <p:spPr>
          <a:xfrm>
            <a:off x="108000" y="990720"/>
            <a:ext cx="4303800" cy="3230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3"/>
          <a:stretch/>
        </p:blipFill>
        <p:spPr>
          <a:xfrm>
            <a:off x="4516560" y="990720"/>
            <a:ext cx="4303440" cy="32302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12"/>
          <p:cNvSpPr/>
          <p:nvPr/>
        </p:nvSpPr>
        <p:spPr>
          <a:xfrm>
            <a:off x="1908000" y="907920"/>
            <a:ext cx="151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6300720" y="907920"/>
            <a:ext cx="1511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725680" y="65595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465800" y="1052640"/>
            <a:ext cx="4282920" cy="3214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4303800" cy="32302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N Emission in ETC and ESC Mo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ion of PN and PM was good in both ETC and ESC, similarly to WHTC Ho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V were relatively high in ETC and ESC, which is presumed to have been caused by the conditions being not uniform due to the simple preconditioning proced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角丸四角形吹き出し 4" descr=""/>
          <p:cNvPicPr/>
          <p:nvPr/>
        </p:nvPicPr>
        <p:blipFill>
          <a:blip r:embed="rId3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7"/>
          <p:cNvSpPr/>
          <p:nvPr/>
        </p:nvSpPr>
        <p:spPr>
          <a:xfrm>
            <a:off x="1908000" y="907920"/>
            <a:ext cx="1511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6300720" y="907920"/>
            <a:ext cx="1511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755560" y="6564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FB95-1AB7-4BBB-92B4-E9E5EA98459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ffect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Tunnel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Blank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Measured</a:t>
            </a:r>
            <a:r>
              <a:rPr b="0" lang="ja-JP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values</a:t>
            </a:r>
            <a:r>
              <a:rPr b="0" lang="ja-JP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500040" y="1000080"/>
            <a:ext cx="38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PM trapped (mg/30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4572000" y="981000"/>
            <a:ext cx="385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N (#/cc/30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428760" y="4149720"/>
            <a:ext cx="81439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 levels of PM were high with test of the part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of Lab.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 levels were higher with SPCS system than Matter system in this researc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 levels of the same-model system were around the same level in any laboratory.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umably due to the noise from CPC and differences in the dilution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tretch/>
        </p:blipFill>
        <p:spPr>
          <a:xfrm>
            <a:off x="34920" y="1413000"/>
            <a:ext cx="4513320" cy="2635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5129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5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422960" cy="2583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7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4422960" cy="2582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"/>
          <p:cNvPicPr/>
          <p:nvPr/>
        </p:nvPicPr>
        <p:blipFill>
          <a:blip r:embed="rId3"/>
          <a:stretch/>
        </p:blipFill>
        <p:spPr>
          <a:xfrm>
            <a:off x="4370400" y="620640"/>
            <a:ext cx="4449600" cy="25988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" descr=""/>
          <p:cNvPicPr/>
          <p:nvPr/>
        </p:nvPicPr>
        <p:blipFill>
          <a:blip r:embed="rId4"/>
          <a:stretch/>
        </p:blipFill>
        <p:spPr>
          <a:xfrm>
            <a:off x="4370400" y="3135240"/>
            <a:ext cx="4449600" cy="25988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ffect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unnel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Blank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onverted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o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mode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mission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C332-2CCF-4C2D-AF5E-01580822559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28760" y="59500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 levels of PM were high with the part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of Lab. A, and its contribution to the emission was also hi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042920" y="836640"/>
            <a:ext cx="2665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 calculated from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B-PM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391000" y="836640"/>
            <a:ext cx="1125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M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391000" y="1147680"/>
            <a:ext cx="941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971640" y="3697200"/>
            <a:ext cx="1116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038240" y="1144440"/>
            <a:ext cx="941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400720" y="3692520"/>
            <a:ext cx="1116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971640" y="3357720"/>
            <a:ext cx="2665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 calculated from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B-PM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91000" y="3357720"/>
            <a:ext cx="1125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M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88D4-F8FE-495F-A66C-754D5230ADD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utline and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in 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Factors Affecting the Measurem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8100-AA04-43DB-84E3-7AFF3544C4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ffect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unnel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Blank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onverted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o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mode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mission</a:t>
            </a:r>
            <a:r>
              <a:rPr b="0" lang="ja-JP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250920" y="4314960"/>
            <a:ext cx="8642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effect of TB is affected by Vmix and power output of engine, the level of effect differs among m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With Matter, TB contribution was about 1/100 to 1/1000; low effect on e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With SPCS, TB contribution was about 1/10 to 1/100; effect on some m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The difference in the level of effect between Matter and SP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ossibly due to the difference in the dilution method and the CPC noise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428760" y="857160"/>
            <a:ext cx="1357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5" descr=""/>
          <p:cNvPicPr/>
          <p:nvPr/>
        </p:nvPicPr>
        <p:blipFill>
          <a:blip r:embed="rId1"/>
          <a:stretch/>
        </p:blipFill>
        <p:spPr>
          <a:xfrm>
            <a:off x="34920" y="1484280"/>
            <a:ext cx="4533840" cy="2648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6" descr=""/>
          <p:cNvPicPr/>
          <p:nvPr/>
        </p:nvPicPr>
        <p:blipFill>
          <a:blip r:embed="rId2"/>
          <a:stretch/>
        </p:blipFill>
        <p:spPr>
          <a:xfrm>
            <a:off x="4575240" y="1484280"/>
            <a:ext cx="4533840" cy="26481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900000" y="134136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mission calculated from TB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5364000" y="134136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54A9-F525-4EBD-BD7A-83ACF8EE086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mpact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PN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Tolerance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on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PN</a:t>
            </a:r>
            <a:r>
              <a:rPr b="0" lang="ja-JP" sz="3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miss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285840" y="4840200"/>
            <a:ext cx="864216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the set dilution ratio was higher in Matter than SPCS, the level of effect was also higher in Mat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the equipment specifications differed for each lab, the level of effect also differed for each test cond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the number of particles within the limit, 0.5 particle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was kept being measured, the calculated levels were the same as or exceeded the measured PN emission levels in some modes (WHTC-Hot, WHSC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250920" y="10731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arding check procedure of R83 on pre-measurement (0.5 particle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less when equipped with HEPA filter), the level of effect of this being measured as TB was calculated using the measured Vmix and power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4" descr=""/>
          <p:cNvPicPr/>
          <p:nvPr/>
        </p:nvPicPr>
        <p:blipFill>
          <a:blip r:embed="rId1"/>
          <a:stretch/>
        </p:blipFill>
        <p:spPr>
          <a:xfrm>
            <a:off x="34920" y="2205000"/>
            <a:ext cx="4533840" cy="26481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4533840" cy="26481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6"/>
          <p:cNvSpPr/>
          <p:nvPr/>
        </p:nvSpPr>
        <p:spPr>
          <a:xfrm>
            <a:off x="900000" y="20750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mission calculated from 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5364000" y="20750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3FC6-027A-4C8F-8F94-6FAF047EC5B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onte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0040" y="1214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and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derstanding the Factors Affecting the Measuremen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rrelation of Two Coun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nsitiveness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hods: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M &amp;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ffect of Filter Material on PM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67C5-D3CD-4AC2-8A3E-37C34F68F25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rrelation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PCS-1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and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at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250920" y="5187960"/>
            <a:ext cx="8642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lation of the two PNCSs was very good (coefficient of determination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 0.9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 linear approximation slopes had the value of about 0.8, which means the emissions measured by SPCS-1 were lower than those by Matter by about 2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角丸四角形吹き出し 10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0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348080" cy="3673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1" descr=""/>
          <p:cNvPicPr/>
          <p:nvPr/>
        </p:nvPicPr>
        <p:blipFill>
          <a:blip r:embed="rId3"/>
          <a:stretch/>
        </p:blipFill>
        <p:spPr>
          <a:xfrm>
            <a:off x="4430880" y="1509840"/>
            <a:ext cx="4348080" cy="3673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0"/>
          <p:cNvSpPr/>
          <p:nvPr/>
        </p:nvSpPr>
        <p:spPr>
          <a:xfrm>
            <a:off x="2843280" y="1173240"/>
            <a:ext cx="144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732720" y="120168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F31F-D982-4890-ACBD-A258B96337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Possible Factors for the Differences in the Result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fferences in the correction method between two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er (JARI’s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160" indent="-315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type: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 particles produced by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aporization and condensatio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0160" indent="-315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: About 80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particles/c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CS (Horiba’s met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0160" indent="-315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type: NaCl particles produced wi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to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0160" indent="-31572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: Varies depending on the 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u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C measurement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Fr calibration was performed on both systems according to the R83 regulations; however, there was a difference of 20% or more in their measurement results.</a:t>
            </a:r>
            <a:br>
              <a:rPr sz="2100"/>
            </a:br>
            <a:r>
              <a:rPr b="0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Hence, the above factors need to be studied/discuss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nce the possibility of the differences in the calibration method affecting the results cannot be denied,</a:t>
            </a:r>
            <a:r>
              <a:rPr b="0" lang="ja-JP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more detailed calibration procedures should be specifi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角丸四角形吹き出し 4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7453-4825-4B35-ABE2-10E07DCF290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ensitiveness of the Method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250920" y="4268880"/>
            <a:ext cx="86421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PM: Mode ratio (Hot/Cold) of the PM weight was constant, with or without soot lo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PN: Ratio (Hot/Cold) of the PN count was decreased by repetition, with or without soot lo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t is possible that DPF and other conditions cause experimental err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o improve the repeatability of PN measurement, more strict test procedures are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角丸四角形吹き出し 4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grpSp>
        <p:nvGrpSpPr>
          <p:cNvPr id="353" name="グループ化 11"/>
          <p:cNvGrpSpPr/>
          <p:nvPr/>
        </p:nvGrpSpPr>
        <p:grpSpPr>
          <a:xfrm>
            <a:off x="142920" y="2143080"/>
            <a:ext cx="4305240" cy="2089080"/>
            <a:chOff x="142920" y="2143080"/>
            <a:chExt cx="4305240" cy="2089080"/>
          </a:xfrm>
        </p:grpSpPr>
        <p:pic>
          <p:nvPicPr>
            <p:cNvPr id="354" name="Picture 11" descr=""/>
            <p:cNvPicPr/>
            <p:nvPr/>
          </p:nvPicPr>
          <p:blipFill>
            <a:blip r:embed="rId2"/>
            <a:stretch/>
          </p:blipFill>
          <p:spPr>
            <a:xfrm>
              <a:off x="142920" y="2143080"/>
              <a:ext cx="211140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12" descr=""/>
            <p:cNvPicPr/>
            <p:nvPr/>
          </p:nvPicPr>
          <p:blipFill>
            <a:blip r:embed="rId3"/>
            <a:stretch/>
          </p:blipFill>
          <p:spPr>
            <a:xfrm>
              <a:off x="2286000" y="2143080"/>
              <a:ext cx="2162160" cy="20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グループ化 14"/>
          <p:cNvGrpSpPr/>
          <p:nvPr/>
        </p:nvGrpSpPr>
        <p:grpSpPr>
          <a:xfrm>
            <a:off x="4572000" y="2143080"/>
            <a:ext cx="4449600" cy="2143080"/>
            <a:chOff x="4572000" y="2143080"/>
            <a:chExt cx="4449600" cy="2143080"/>
          </a:xfrm>
        </p:grpSpPr>
        <p:pic>
          <p:nvPicPr>
            <p:cNvPr id="357" name="Picture 13" descr=""/>
            <p:cNvPicPr/>
            <p:nvPr/>
          </p:nvPicPr>
          <p:blipFill>
            <a:blip r:embed="rId4"/>
            <a:stretch/>
          </p:blipFill>
          <p:spPr>
            <a:xfrm>
              <a:off x="4572000" y="2143080"/>
              <a:ext cx="231372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4" descr=""/>
            <p:cNvPicPr/>
            <p:nvPr/>
          </p:nvPicPr>
          <p:blipFill>
            <a:blip r:embed="rId5"/>
            <a:stretch/>
          </p:blipFill>
          <p:spPr>
            <a:xfrm>
              <a:off x="6715440" y="2143080"/>
              <a:ext cx="2306160" cy="21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正方形/長方形 15"/>
          <p:cNvSpPr/>
          <p:nvPr/>
        </p:nvSpPr>
        <p:spPr>
          <a:xfrm>
            <a:off x="142920" y="1857240"/>
            <a:ext cx="4357800" cy="2428920"/>
          </a:xfrm>
          <a:prstGeom prst="rect">
            <a:avLst/>
          </a:prstGeom>
          <a:noFill/>
          <a:ln w="414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テキスト ボックス 16"/>
          <p:cNvSpPr/>
          <p:nvPr/>
        </p:nvSpPr>
        <p:spPr>
          <a:xfrm>
            <a:off x="357120" y="19288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/ soot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テキスト ボックス 17"/>
          <p:cNvSpPr/>
          <p:nvPr/>
        </p:nvSpPr>
        <p:spPr>
          <a:xfrm>
            <a:off x="2571840" y="19288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/o soot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テキスト ボックス 18"/>
          <p:cNvSpPr/>
          <p:nvPr/>
        </p:nvSpPr>
        <p:spPr>
          <a:xfrm>
            <a:off x="2000160" y="1643040"/>
            <a:ext cx="5716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正方形/長方形 19"/>
          <p:cNvSpPr/>
          <p:nvPr/>
        </p:nvSpPr>
        <p:spPr>
          <a:xfrm>
            <a:off x="4643280" y="1857240"/>
            <a:ext cx="4286520" cy="2428920"/>
          </a:xfrm>
          <a:prstGeom prst="rect">
            <a:avLst/>
          </a:prstGeom>
          <a:noFill/>
          <a:ln w="414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テキスト ボックス 20"/>
          <p:cNvSpPr/>
          <p:nvPr/>
        </p:nvSpPr>
        <p:spPr>
          <a:xfrm>
            <a:off x="4857840" y="19288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/ soot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テキスト ボックス 21"/>
          <p:cNvSpPr/>
          <p:nvPr/>
        </p:nvSpPr>
        <p:spPr>
          <a:xfrm>
            <a:off x="7072200" y="19288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/o soot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テキスト ボックス 22"/>
          <p:cNvSpPr/>
          <p:nvPr/>
        </p:nvSpPr>
        <p:spPr>
          <a:xfrm>
            <a:off x="6500880" y="1643040"/>
            <a:ext cx="5713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テキスト ボックス 23"/>
          <p:cNvSpPr/>
          <p:nvPr/>
        </p:nvSpPr>
        <p:spPr>
          <a:xfrm>
            <a:off x="357120" y="10717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s of the WHTC Hot tests repeated after WHTC Cold tests on that day (shown against the corresponding WHTC Cold test resul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8" descr=""/>
          <p:cNvPicPr/>
          <p:nvPr/>
        </p:nvPicPr>
        <p:blipFill>
          <a:blip r:embed="rId1"/>
          <a:stretch/>
        </p:blipFill>
        <p:spPr>
          <a:xfrm>
            <a:off x="250920" y="739800"/>
            <a:ext cx="3325680" cy="2473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9" descr=""/>
          <p:cNvPicPr/>
          <p:nvPr/>
        </p:nvPicPr>
        <p:blipFill>
          <a:blip r:embed="rId2"/>
          <a:stretch/>
        </p:blipFill>
        <p:spPr>
          <a:xfrm>
            <a:off x="4468680" y="765000"/>
            <a:ext cx="3326040" cy="2519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0" descr=""/>
          <p:cNvPicPr/>
          <p:nvPr/>
        </p:nvPicPr>
        <p:blipFill>
          <a:blip r:embed="rId3"/>
          <a:stretch/>
        </p:blipFill>
        <p:spPr>
          <a:xfrm>
            <a:off x="277920" y="2925720"/>
            <a:ext cx="3325680" cy="2519280"/>
          </a:xfrm>
          <a:prstGeom prst="rect">
            <a:avLst/>
          </a:prstGeom>
          <a:ln w="0">
            <a:noFill/>
          </a:ln>
        </p:spPr>
      </p:pic>
      <p:sp>
        <p:nvSpPr>
          <p:cNvPr id="371" name="スライド番号プレースホルダ 6"/>
          <p:cNvSpPr/>
          <p:nvPr/>
        </p:nvSpPr>
        <p:spPr>
          <a:xfrm>
            <a:off x="6877080" y="6400800"/>
            <a:ext cx="220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3BE3-DBED-4488-AD92-8495C0138D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16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ffect of Filter Material on PM Emiss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73" name="角丸四角形吹き出し 4" descr=""/>
          <p:cNvPicPr/>
          <p:nvPr/>
        </p:nvPicPr>
        <p:blipFill>
          <a:blip r:embed="rId4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324000" y="5357880"/>
            <a:ext cx="8642160" cy="10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 Since the effect of gas adsorption is small on Teflo filters, even the non-TB-corrected PM emissions measured with Teflo were lower than the TB-corrected emissions measured with TX40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 Change of filter from TX to Teflo lowered PM emission levels, causing COV to be high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 However, the use of Teflo made variations (standard deviation in g/kWh) smaller, resulting in the emissions around the same level as TB-corrected TX-filter emissions (WHTC-Cold &amp; Hot) or smaller (WHSC &amp; JE05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349800" y="981000"/>
            <a:ext cx="93492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3635280" y="3141720"/>
            <a:ext cx="93528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7812000" y="907920"/>
            <a:ext cx="93528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tandar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v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C3E8-C71B-447C-A6E8-6360D7C379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nclusion 1: Results of Repeated Test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4000" y="1182240"/>
            <a:ext cx="82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M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fore TB correction, emission levels of the partial tunnel tended to be higher than the full tunnel, but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"/>
              </a:rPr>
              <a:t>TB correction reduced the difference between partial and full tunnels as well as the difference between lab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B correction lowered the emission levels, causing the apparent COV to be higher. However,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"/>
              </a:rPr>
              <a:t>it made the standard deviation (variations) small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son between labs: The PN emission levels in WHTC-Cold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Hot were the same between labs, but there were about 2- to 7-fold differences in WHSC and JE05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son between full and partial tunnels: In Lab. A, the emission levels were the same between full and partial tunnels, but in Lab. B, the partial tunnel emissions were double the full tunnel emissions in JE05. It is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"/>
              </a:rPr>
              <a:t>important to investigate the factors affecting the results, such as the differences in the dilution ratio, test environment, etc. among lab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V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M COV and PN COV were mostly around the same leve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However, for PN, since the measurement results are largely affected by engine factors such as deposition conditions of DPF, more detailed test procedures are necessar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relation of PM and PN emiss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emissions from engines equipped with DPF,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"/>
              </a:rPr>
              <a:t>correlation of PM and PN emissions was smal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B correc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M: The correction reduced the difference among lab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N: Depending on the equipment specs. (CVS flow rate) or test mode (power output),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calculation errors that exceed the levels of measured emissions from engine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 possible to generat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ed on the current technologies, it is necessary to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"/>
              </a:rPr>
              <a:t>give sufficient consideration to the lower limit that is measurabl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97CA-5CD7-4C67-8BA2-B1296C3197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clusion 2: Factors Affecting the Results of PN Measur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28760" y="1352160"/>
            <a:ext cx="8286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the correlation of the two PNCSs used in this test was good,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a difference of about 2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sensitivity was observed betwee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PCS</a:t>
            </a:r>
            <a:r>
              <a:rPr b="0" lang="ja-JP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and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fference in the sensitivity of PNC can be corrected using the sufficient correction scheme that is currently available. However,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the VPR PCRF correction method varies among manufactur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inimize differences in the measurement results,</a:t>
            </a:r>
            <a:r>
              <a:rPr b="0" lang="ja-JP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it is necessary to prescribe more detailed provisions on those items that would affect the measurement results, such as the correction meth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N emissions in the repeated tests decreased continuously. Therefore, it is necessary to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establish detailed test procedures for PN measurement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giving sufficient consideration to the loading conditions of DP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EB32-9616-4215-95AB-8613D44BA7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asks for Particle Number Measuremen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985680"/>
            <a:ext cx="822960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easure PN with good reproducibility, it i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ecessary to establish strict test proced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ing the preconditioning condi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correction on PM is an effective method for mitigating differences among labs and/or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equipment differences or test mode, it is possible that tunnel blank/system blank-level particle concentrations will contribute to the PN emi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ja-JP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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ufficient consideration should be given to the lower limit for measu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rafting the provisions on the PN calibration method, it is desirable to make modifications to the detai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CRF correction and its allowable ran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rict regulations on particle species and concentration, etc. for calibration partic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20F8-1E36-4F75-A68A-60F4E3F7E98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Outline</a:t>
            </a:r>
            <a:r>
              <a:rPr b="0" lang="ja-JP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and</a:t>
            </a:r>
            <a:r>
              <a:rPr b="0" lang="ja-JP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Objectiv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pan’s round robin test, the measurement of PN and PM using HD engines, was conducted at two laboratories (NTSEL and JARI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ound robin test in Japan had the following two objectiv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erform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testing according to Validation Exercise</a:t>
            </a:r>
            <a:r>
              <a:rPr b="0" lang="ja-JP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NTSEL and JARI and supply data to P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tudy the optimum measurement method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the PN-measurement method and filter-weight method and provide data that will help determine the measurement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16E8-79A5-4FC8-8145-A01CE6ED40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endi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st System Dia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lation of PN and PN emi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Dilution Ratio in PN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Introducing-Hose Temp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Introducing-Pipe 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f Micro Tunnel Sampling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スライド番号プレースホルダ 3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8D0E-1C9A-4242-B8E8-B63B277F7BB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8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est System Overview (NTS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tretch/>
        </p:blipFill>
        <p:spPr>
          <a:xfrm>
            <a:off x="2214720" y="857160"/>
            <a:ext cx="435744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 3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2C9C-D14D-4DEA-A09E-610F2EFAB4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"/>
          <p:cNvGrpSpPr/>
          <p:nvPr/>
        </p:nvGrpSpPr>
        <p:grpSpPr>
          <a:xfrm>
            <a:off x="1042920" y="1341360"/>
            <a:ext cx="7487640" cy="4598280"/>
            <a:chOff x="1042920" y="1341360"/>
            <a:chExt cx="7487640" cy="4598280"/>
          </a:xfrm>
        </p:grpSpPr>
        <p:sp>
          <p:nvSpPr>
            <p:cNvPr id="395" name="Rectangle 3"/>
            <p:cNvSpPr/>
            <p:nvPr/>
          </p:nvSpPr>
          <p:spPr>
            <a:xfrm>
              <a:off x="2989080" y="2760480"/>
              <a:ext cx="100800" cy="1969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4"/>
            <p:cNvSpPr/>
            <p:nvPr/>
          </p:nvSpPr>
          <p:spPr>
            <a:xfrm flipV="1">
              <a:off x="2989080" y="2760120"/>
              <a:ext cx="0" cy="19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"/>
            <p:cNvSpPr/>
            <p:nvPr/>
          </p:nvSpPr>
          <p:spPr>
            <a:xfrm flipV="1">
              <a:off x="3090960" y="2760120"/>
              <a:ext cx="0" cy="19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6"/>
            <p:cNvSpPr/>
            <p:nvPr/>
          </p:nvSpPr>
          <p:spPr>
            <a:xfrm>
              <a:off x="2726280" y="5245200"/>
              <a:ext cx="262800" cy="9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テキスト ボックス 12"/>
            <p:cNvSpPr/>
            <p:nvPr/>
          </p:nvSpPr>
          <p:spPr>
            <a:xfrm>
              <a:off x="7719120" y="1768680"/>
              <a:ext cx="704880" cy="33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F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テキスト ボックス 15"/>
            <p:cNvSpPr/>
            <p:nvPr/>
          </p:nvSpPr>
          <p:spPr>
            <a:xfrm>
              <a:off x="1042920" y="1557000"/>
              <a:ext cx="939960" cy="580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lution A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9"/>
            <p:cNvGrpSpPr/>
            <p:nvPr/>
          </p:nvGrpSpPr>
          <p:grpSpPr>
            <a:xfrm>
              <a:off x="1783080" y="2273760"/>
              <a:ext cx="6005880" cy="824040"/>
              <a:chOff x="1783080" y="2273760"/>
              <a:chExt cx="6005880" cy="824040"/>
            </a:xfrm>
          </p:grpSpPr>
          <p:sp>
            <p:nvSpPr>
              <p:cNvPr id="402" name="正方形/長方形 4"/>
              <p:cNvSpPr/>
              <p:nvPr/>
            </p:nvSpPr>
            <p:spPr>
              <a:xfrm>
                <a:off x="1783080" y="2273760"/>
                <a:ext cx="6005880" cy="816480"/>
              </a:xfrm>
              <a:prstGeom prst="rect">
                <a:avLst/>
              </a:prstGeom>
              <a:noFill/>
              <a:ln w="25560">
                <a:solidFill>
                  <a:srgbClr val="95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正方形/長方形 5"/>
              <p:cNvSpPr/>
              <p:nvPr/>
            </p:nvSpPr>
            <p:spPr>
              <a:xfrm>
                <a:off x="1783080" y="2273760"/>
                <a:ext cx="439200" cy="81648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95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正方形/長方形 7"/>
              <p:cNvSpPr/>
              <p:nvPr/>
            </p:nvSpPr>
            <p:spPr>
              <a:xfrm>
                <a:off x="2222280" y="2273760"/>
                <a:ext cx="439200" cy="816480"/>
              </a:xfrm>
              <a:prstGeom prst="rect">
                <a:avLst/>
              </a:prstGeom>
              <a:solidFill>
                <a:srgbClr val="d9d9d9"/>
              </a:solidFill>
              <a:ln w="25560">
                <a:solidFill>
                  <a:srgbClr val="956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テキスト ボックス 16"/>
              <p:cNvSpPr/>
              <p:nvPr/>
            </p:nvSpPr>
            <p:spPr>
              <a:xfrm>
                <a:off x="1856160" y="2493720"/>
                <a:ext cx="292680" cy="246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テキスト ボックス 17"/>
              <p:cNvSpPr/>
              <p:nvPr/>
            </p:nvSpPr>
            <p:spPr>
              <a:xfrm>
                <a:off x="2295360" y="2273760"/>
                <a:ext cx="366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EP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テキスト ボックス 18"/>
              <p:cNvSpPr/>
              <p:nvPr/>
            </p:nvSpPr>
            <p:spPr>
              <a:xfrm>
                <a:off x="4125960" y="2493720"/>
                <a:ext cx="175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ull dilution tu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AutoShape 16"/>
            <p:cNvSpPr/>
            <p:nvPr/>
          </p:nvSpPr>
          <p:spPr>
            <a:xfrm flipV="1">
              <a:off x="1091160" y="2167200"/>
              <a:ext cx="691920" cy="74124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17"/>
            <p:cNvSpPr/>
            <p:nvPr/>
          </p:nvSpPr>
          <p:spPr>
            <a:xfrm flipV="1" rot="16200000">
              <a:off x="7813800" y="2085480"/>
              <a:ext cx="691920" cy="74124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18"/>
            <p:cNvGrpSpPr/>
            <p:nvPr/>
          </p:nvGrpSpPr>
          <p:grpSpPr>
            <a:xfrm>
              <a:off x="3517560" y="4163400"/>
              <a:ext cx="1472400" cy="1003320"/>
              <a:chOff x="3517560" y="4163400"/>
              <a:chExt cx="1472400" cy="1003320"/>
            </a:xfrm>
          </p:grpSpPr>
          <p:sp>
            <p:nvSpPr>
              <p:cNvPr id="411" name="Rectangle 19"/>
              <p:cNvSpPr/>
              <p:nvPr/>
            </p:nvSpPr>
            <p:spPr>
              <a:xfrm>
                <a:off x="4888440" y="4506120"/>
                <a:ext cx="101520" cy="126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20"/>
              <p:cNvSpPr/>
              <p:nvPr/>
            </p:nvSpPr>
            <p:spPr>
              <a:xfrm>
                <a:off x="3517560" y="4506120"/>
                <a:ext cx="101880" cy="126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21"/>
              <p:cNvSpPr/>
              <p:nvPr/>
            </p:nvSpPr>
            <p:spPr>
              <a:xfrm>
                <a:off x="3517560" y="4455360"/>
                <a:ext cx="2520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22"/>
              <p:cNvSpPr/>
              <p:nvPr/>
            </p:nvSpPr>
            <p:spPr>
              <a:xfrm>
                <a:off x="3619440" y="4354200"/>
                <a:ext cx="24840" cy="45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23"/>
              <p:cNvSpPr/>
              <p:nvPr/>
            </p:nvSpPr>
            <p:spPr>
              <a:xfrm>
                <a:off x="3644640" y="4201920"/>
                <a:ext cx="228240" cy="76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24"/>
              <p:cNvSpPr/>
              <p:nvPr/>
            </p:nvSpPr>
            <p:spPr>
              <a:xfrm>
                <a:off x="4660200" y="4201920"/>
                <a:ext cx="228240" cy="76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25"/>
              <p:cNvSpPr/>
              <p:nvPr/>
            </p:nvSpPr>
            <p:spPr>
              <a:xfrm>
                <a:off x="3593520" y="4963680"/>
                <a:ext cx="1345680" cy="203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26"/>
              <p:cNvSpPr/>
              <p:nvPr/>
            </p:nvSpPr>
            <p:spPr>
              <a:xfrm>
                <a:off x="4888440" y="4354200"/>
                <a:ext cx="24840" cy="45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27"/>
              <p:cNvSpPr/>
              <p:nvPr/>
            </p:nvSpPr>
            <p:spPr>
              <a:xfrm>
                <a:off x="4964760" y="4455360"/>
                <a:ext cx="2520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28"/>
              <p:cNvSpPr/>
              <p:nvPr/>
            </p:nvSpPr>
            <p:spPr>
              <a:xfrm>
                <a:off x="3880800" y="4163400"/>
                <a:ext cx="767880" cy="78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29"/>
              <p:cNvSpPr/>
              <p:nvPr/>
            </p:nvSpPr>
            <p:spPr>
              <a:xfrm>
                <a:off x="4126680" y="4506840"/>
                <a:ext cx="2541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0"/>
            <p:cNvGrpSpPr/>
            <p:nvPr/>
          </p:nvGrpSpPr>
          <p:grpSpPr>
            <a:xfrm>
              <a:off x="1202400" y="4071960"/>
              <a:ext cx="2309400" cy="1420920"/>
              <a:chOff x="1202400" y="4071960"/>
              <a:chExt cx="2309400" cy="1420920"/>
            </a:xfrm>
          </p:grpSpPr>
          <p:grpSp>
            <p:nvGrpSpPr>
              <p:cNvPr id="423" name="Group 31"/>
              <p:cNvGrpSpPr/>
              <p:nvPr/>
            </p:nvGrpSpPr>
            <p:grpSpPr>
              <a:xfrm>
                <a:off x="1202400" y="4071960"/>
                <a:ext cx="2309400" cy="1420920"/>
                <a:chOff x="1202400" y="4071960"/>
                <a:chExt cx="2309400" cy="1420920"/>
              </a:xfrm>
            </p:grpSpPr>
            <p:sp>
              <p:nvSpPr>
                <p:cNvPr id="424" name="Rectangle 32"/>
                <p:cNvSpPr/>
                <p:nvPr/>
              </p:nvSpPr>
              <p:spPr>
                <a:xfrm>
                  <a:off x="2724840" y="4503240"/>
                  <a:ext cx="762480" cy="126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33"/>
                <p:cNvSpPr/>
                <p:nvPr/>
              </p:nvSpPr>
              <p:spPr>
                <a:xfrm>
                  <a:off x="1202400" y="4071960"/>
                  <a:ext cx="253440" cy="1015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34"/>
                <p:cNvSpPr/>
                <p:nvPr/>
              </p:nvSpPr>
              <p:spPr>
                <a:xfrm>
                  <a:off x="1278000" y="5087880"/>
                  <a:ext cx="101520" cy="354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35"/>
                <p:cNvSpPr/>
                <p:nvPr/>
              </p:nvSpPr>
              <p:spPr>
                <a:xfrm>
                  <a:off x="1202400" y="5442120"/>
                  <a:ext cx="253440" cy="5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Rectangle 36"/>
                <p:cNvSpPr/>
                <p:nvPr/>
              </p:nvSpPr>
              <p:spPr>
                <a:xfrm>
                  <a:off x="2496960" y="4198320"/>
                  <a:ext cx="227520" cy="761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37"/>
                <p:cNvSpPr/>
                <p:nvPr/>
              </p:nvSpPr>
              <p:spPr>
                <a:xfrm>
                  <a:off x="1506960" y="4071960"/>
                  <a:ext cx="990000" cy="1014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38"/>
                <p:cNvSpPr/>
                <p:nvPr/>
              </p:nvSpPr>
              <p:spPr>
                <a:xfrm>
                  <a:off x="1836360" y="5086440"/>
                  <a:ext cx="253800" cy="5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39"/>
                <p:cNvSpPr/>
                <p:nvPr/>
              </p:nvSpPr>
              <p:spPr>
                <a:xfrm>
                  <a:off x="1861200" y="5137560"/>
                  <a:ext cx="203760" cy="30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40"/>
                <p:cNvSpPr/>
                <p:nvPr/>
              </p:nvSpPr>
              <p:spPr>
                <a:xfrm>
                  <a:off x="1810440" y="5442120"/>
                  <a:ext cx="306000" cy="5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41"/>
                <p:cNvSpPr/>
                <p:nvPr/>
              </p:nvSpPr>
              <p:spPr>
                <a:xfrm>
                  <a:off x="3131640" y="4503240"/>
                  <a:ext cx="126720" cy="1267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42"/>
                <p:cNvSpPr/>
                <p:nvPr/>
              </p:nvSpPr>
              <p:spPr>
                <a:xfrm>
                  <a:off x="3487320" y="4452120"/>
                  <a:ext cx="244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Group 43"/>
              <p:cNvGrpSpPr/>
              <p:nvPr/>
            </p:nvGrpSpPr>
            <p:grpSpPr>
              <a:xfrm>
                <a:off x="1608480" y="4300560"/>
                <a:ext cx="1117440" cy="1041120"/>
                <a:chOff x="1608480" y="4300560"/>
                <a:chExt cx="1117440" cy="1041120"/>
              </a:xfrm>
            </p:grpSpPr>
            <p:sp>
              <p:nvSpPr>
                <p:cNvPr id="436" name="Line 44"/>
                <p:cNvSpPr/>
                <p:nvPr/>
              </p:nvSpPr>
              <p:spPr>
                <a:xfrm>
                  <a:off x="1710720" y="4833720"/>
                  <a:ext cx="50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45"/>
                <p:cNvSpPr/>
                <p:nvPr/>
              </p:nvSpPr>
              <p:spPr>
                <a:xfrm>
                  <a:off x="1608840" y="4327200"/>
                  <a:ext cx="101880" cy="4064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Arc 46"/>
                <p:cNvSpPr/>
                <p:nvPr/>
              </p:nvSpPr>
              <p:spPr>
                <a:xfrm flipV="1" rot="10800000">
                  <a:off x="1811880" y="4300560"/>
                  <a:ext cx="101520" cy="27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Arc 47"/>
                <p:cNvSpPr/>
                <p:nvPr/>
              </p:nvSpPr>
              <p:spPr>
                <a:xfrm flipV="1" rot="10800000">
                  <a:off x="2014920" y="4300560"/>
                  <a:ext cx="101520" cy="27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Arc 48"/>
                <p:cNvSpPr/>
                <p:nvPr/>
              </p:nvSpPr>
              <p:spPr>
                <a:xfrm flipV="1" rot="10800000">
                  <a:off x="1608480" y="4300560"/>
                  <a:ext cx="101880" cy="27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Arc 49"/>
                <p:cNvSpPr/>
                <p:nvPr/>
              </p:nvSpPr>
              <p:spPr>
                <a:xfrm flipV="1" rot="10800000">
                  <a:off x="2217600" y="4300560"/>
                  <a:ext cx="101880" cy="27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Arc 50"/>
                <p:cNvSpPr/>
                <p:nvPr/>
              </p:nvSpPr>
              <p:spPr>
                <a:xfrm flipH="1" flipV="1">
                  <a:off x="1608120" y="4731120"/>
                  <a:ext cx="101880" cy="10188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Arc 51"/>
                <p:cNvSpPr/>
                <p:nvPr/>
              </p:nvSpPr>
              <p:spPr>
                <a:xfrm flipV="1">
                  <a:off x="2217960" y="4731120"/>
                  <a:ext cx="101160" cy="10188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52"/>
                <p:cNvSpPr/>
                <p:nvPr/>
              </p:nvSpPr>
              <p:spPr>
                <a:xfrm>
                  <a:off x="1811880" y="4325400"/>
                  <a:ext cx="101520" cy="40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53"/>
                <p:cNvSpPr/>
                <p:nvPr/>
              </p:nvSpPr>
              <p:spPr>
                <a:xfrm>
                  <a:off x="2014920" y="4325400"/>
                  <a:ext cx="101520" cy="40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Rectangle 54"/>
                <p:cNvSpPr/>
                <p:nvPr/>
              </p:nvSpPr>
              <p:spPr>
                <a:xfrm>
                  <a:off x="2217960" y="4327200"/>
                  <a:ext cx="101880" cy="4064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55"/>
                <p:cNvSpPr/>
                <p:nvPr/>
              </p:nvSpPr>
              <p:spPr>
                <a:xfrm>
                  <a:off x="160884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56"/>
                <p:cNvSpPr/>
                <p:nvPr/>
              </p:nvSpPr>
              <p:spPr>
                <a:xfrm>
                  <a:off x="231948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57"/>
                <p:cNvSpPr/>
                <p:nvPr/>
              </p:nvSpPr>
              <p:spPr>
                <a:xfrm>
                  <a:off x="1710720" y="4731840"/>
                  <a:ext cx="507960" cy="10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58"/>
                <p:cNvSpPr/>
                <p:nvPr/>
              </p:nvSpPr>
              <p:spPr>
                <a:xfrm>
                  <a:off x="1710720" y="473184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59"/>
                <p:cNvSpPr/>
                <p:nvPr/>
              </p:nvSpPr>
              <p:spPr>
                <a:xfrm>
                  <a:off x="1913400" y="473184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60"/>
                <p:cNvSpPr/>
                <p:nvPr/>
              </p:nvSpPr>
              <p:spPr>
                <a:xfrm>
                  <a:off x="2116080" y="4731840"/>
                  <a:ext cx="10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61"/>
                <p:cNvSpPr/>
                <p:nvPr/>
              </p:nvSpPr>
              <p:spPr>
                <a:xfrm>
                  <a:off x="221796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62"/>
                <p:cNvSpPr/>
                <p:nvPr/>
              </p:nvSpPr>
              <p:spPr>
                <a:xfrm>
                  <a:off x="211608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63"/>
                <p:cNvSpPr/>
                <p:nvPr/>
              </p:nvSpPr>
              <p:spPr>
                <a:xfrm>
                  <a:off x="201492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64"/>
                <p:cNvSpPr/>
                <p:nvPr/>
              </p:nvSpPr>
              <p:spPr>
                <a:xfrm>
                  <a:off x="191340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65"/>
                <p:cNvSpPr/>
                <p:nvPr/>
              </p:nvSpPr>
              <p:spPr>
                <a:xfrm>
                  <a:off x="181188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66"/>
                <p:cNvSpPr/>
                <p:nvPr/>
              </p:nvSpPr>
              <p:spPr>
                <a:xfrm>
                  <a:off x="1710720" y="43254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67"/>
                <p:cNvSpPr/>
                <p:nvPr/>
              </p:nvSpPr>
              <p:spPr>
                <a:xfrm>
                  <a:off x="2116080" y="4833720"/>
                  <a:ext cx="101520" cy="40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68"/>
                <p:cNvSpPr/>
                <p:nvPr/>
              </p:nvSpPr>
              <p:spPr>
                <a:xfrm>
                  <a:off x="2116080" y="4833720"/>
                  <a:ext cx="0" cy="40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69"/>
                <p:cNvSpPr/>
                <p:nvPr/>
              </p:nvSpPr>
              <p:spPr>
                <a:xfrm>
                  <a:off x="2217960" y="4833720"/>
                  <a:ext cx="0" cy="40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Arc 70"/>
                <p:cNvSpPr/>
                <p:nvPr/>
              </p:nvSpPr>
              <p:spPr>
                <a:xfrm flipH="1" flipV="1">
                  <a:off x="2116080" y="5239080"/>
                  <a:ext cx="101520" cy="10188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Rectangle 71"/>
                <p:cNvSpPr/>
                <p:nvPr/>
              </p:nvSpPr>
              <p:spPr>
                <a:xfrm>
                  <a:off x="2217960" y="5239800"/>
                  <a:ext cx="507960" cy="101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72"/>
                <p:cNvSpPr/>
                <p:nvPr/>
              </p:nvSpPr>
              <p:spPr>
                <a:xfrm>
                  <a:off x="2217960" y="5341680"/>
                  <a:ext cx="50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73"/>
                <p:cNvSpPr/>
                <p:nvPr/>
              </p:nvSpPr>
              <p:spPr>
                <a:xfrm>
                  <a:off x="2217960" y="5239800"/>
                  <a:ext cx="50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6" name="Group 74"/>
            <p:cNvGrpSpPr/>
            <p:nvPr/>
          </p:nvGrpSpPr>
          <p:grpSpPr>
            <a:xfrm>
              <a:off x="2988720" y="4732560"/>
              <a:ext cx="102240" cy="608040"/>
              <a:chOff x="2988720" y="4732560"/>
              <a:chExt cx="102240" cy="608040"/>
            </a:xfrm>
          </p:grpSpPr>
          <p:sp>
            <p:nvSpPr>
              <p:cNvPr id="467" name="Arc 75"/>
              <p:cNvSpPr/>
              <p:nvPr/>
            </p:nvSpPr>
            <p:spPr>
              <a:xfrm flipH="1" flipV="1" rot="16200000">
                <a:off x="2988360" y="5238360"/>
                <a:ext cx="101880" cy="10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76"/>
              <p:cNvSpPr/>
              <p:nvPr/>
            </p:nvSpPr>
            <p:spPr>
              <a:xfrm rot="16200000">
                <a:off x="2786400" y="4934880"/>
                <a:ext cx="506880" cy="101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77"/>
              <p:cNvSpPr/>
              <p:nvPr/>
            </p:nvSpPr>
            <p:spPr>
              <a:xfrm flipV="1">
                <a:off x="3090960" y="4732560"/>
                <a:ext cx="0" cy="50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78"/>
              <p:cNvSpPr/>
              <p:nvPr/>
            </p:nvSpPr>
            <p:spPr>
              <a:xfrm flipV="1">
                <a:off x="2989080" y="4732560"/>
                <a:ext cx="0" cy="50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Line 79"/>
            <p:cNvSpPr/>
            <p:nvPr/>
          </p:nvSpPr>
          <p:spPr>
            <a:xfrm>
              <a:off x="2724840" y="5240160"/>
              <a:ext cx="2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80"/>
            <p:cNvSpPr/>
            <p:nvPr/>
          </p:nvSpPr>
          <p:spPr>
            <a:xfrm>
              <a:off x="2724840" y="5342040"/>
              <a:ext cx="2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rc 81"/>
            <p:cNvSpPr/>
            <p:nvPr/>
          </p:nvSpPr>
          <p:spPr>
            <a:xfrm flipH="1" flipV="1" rot="5400000">
              <a:off x="2988000" y="2660400"/>
              <a:ext cx="101880" cy="10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82"/>
            <p:cNvSpPr/>
            <p:nvPr/>
          </p:nvSpPr>
          <p:spPr>
            <a:xfrm>
              <a:off x="3087000" y="2663280"/>
              <a:ext cx="262800" cy="9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83"/>
            <p:cNvSpPr/>
            <p:nvPr/>
          </p:nvSpPr>
          <p:spPr>
            <a:xfrm>
              <a:off x="3085920" y="2658240"/>
              <a:ext cx="26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84"/>
            <p:cNvSpPr/>
            <p:nvPr/>
          </p:nvSpPr>
          <p:spPr>
            <a:xfrm>
              <a:off x="3085920" y="2760480"/>
              <a:ext cx="26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85"/>
            <p:cNvSpPr/>
            <p:nvPr/>
          </p:nvSpPr>
          <p:spPr>
            <a:xfrm>
              <a:off x="3543480" y="2723400"/>
              <a:ext cx="730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86"/>
            <p:cNvSpPr/>
            <p:nvPr/>
          </p:nvSpPr>
          <p:spPr>
            <a:xfrm>
              <a:off x="3721680" y="2592720"/>
              <a:ext cx="730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87"/>
            <p:cNvSpPr/>
            <p:nvPr/>
          </p:nvSpPr>
          <p:spPr>
            <a:xfrm>
              <a:off x="3983400" y="2807280"/>
              <a:ext cx="730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88"/>
            <p:cNvSpPr/>
            <p:nvPr/>
          </p:nvSpPr>
          <p:spPr>
            <a:xfrm>
              <a:off x="4072320" y="2488320"/>
              <a:ext cx="73080" cy="72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89"/>
            <p:cNvSpPr/>
            <p:nvPr/>
          </p:nvSpPr>
          <p:spPr>
            <a:xfrm>
              <a:off x="3946320" y="2619000"/>
              <a:ext cx="730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90"/>
            <p:cNvSpPr/>
            <p:nvPr/>
          </p:nvSpPr>
          <p:spPr>
            <a:xfrm>
              <a:off x="3669120" y="2739240"/>
              <a:ext cx="73080" cy="73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91"/>
            <p:cNvSpPr/>
            <p:nvPr/>
          </p:nvSpPr>
          <p:spPr>
            <a:xfrm>
              <a:off x="3415320" y="269208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92"/>
            <p:cNvSpPr/>
            <p:nvPr/>
          </p:nvSpPr>
          <p:spPr>
            <a:xfrm>
              <a:off x="3551760" y="262944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93"/>
            <p:cNvSpPr/>
            <p:nvPr/>
          </p:nvSpPr>
          <p:spPr>
            <a:xfrm>
              <a:off x="3642840" y="268056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94"/>
            <p:cNvSpPr/>
            <p:nvPr/>
          </p:nvSpPr>
          <p:spPr>
            <a:xfrm>
              <a:off x="3817080" y="278640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95"/>
            <p:cNvSpPr/>
            <p:nvPr/>
          </p:nvSpPr>
          <p:spPr>
            <a:xfrm>
              <a:off x="3832920" y="269100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96"/>
            <p:cNvSpPr/>
            <p:nvPr/>
          </p:nvSpPr>
          <p:spPr>
            <a:xfrm>
              <a:off x="3874680" y="256140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97"/>
            <p:cNvSpPr/>
            <p:nvPr/>
          </p:nvSpPr>
          <p:spPr>
            <a:xfrm>
              <a:off x="3997440" y="273420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98"/>
            <p:cNvSpPr/>
            <p:nvPr/>
          </p:nvSpPr>
          <p:spPr>
            <a:xfrm>
              <a:off x="4060440" y="2620440"/>
              <a:ext cx="41760" cy="41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テキスト ボックス 12"/>
            <p:cNvSpPr/>
            <p:nvPr/>
          </p:nvSpPr>
          <p:spPr>
            <a:xfrm>
              <a:off x="1213920" y="3642840"/>
              <a:ext cx="1283040" cy="33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st eng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テキスト ボックス 12"/>
            <p:cNvSpPr/>
            <p:nvPr/>
          </p:nvSpPr>
          <p:spPr>
            <a:xfrm>
              <a:off x="3513600" y="5358960"/>
              <a:ext cx="1465920" cy="580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gine dynamome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01"/>
            <p:cNvSpPr/>
            <p:nvPr/>
          </p:nvSpPr>
          <p:spPr>
            <a:xfrm>
              <a:off x="6135120" y="2756160"/>
              <a:ext cx="41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02"/>
            <p:cNvSpPr/>
            <p:nvPr/>
          </p:nvSpPr>
          <p:spPr>
            <a:xfrm>
              <a:off x="6545520" y="2745720"/>
              <a:ext cx="0" cy="151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03"/>
            <p:cNvSpPr/>
            <p:nvPr/>
          </p:nvSpPr>
          <p:spPr>
            <a:xfrm>
              <a:off x="5366880" y="4285080"/>
              <a:ext cx="1174320" cy="157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NCS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tt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ET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06"/>
            <p:cNvSpPr/>
            <p:nvPr/>
          </p:nvSpPr>
          <p:spPr>
            <a:xfrm>
              <a:off x="4596840" y="1503360"/>
              <a:ext cx="2347560" cy="420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07"/>
            <p:cNvSpPr/>
            <p:nvPr/>
          </p:nvSpPr>
          <p:spPr>
            <a:xfrm>
              <a:off x="6935760" y="1503360"/>
              <a:ext cx="253440" cy="420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08"/>
            <p:cNvSpPr/>
            <p:nvPr/>
          </p:nvSpPr>
          <p:spPr>
            <a:xfrm>
              <a:off x="7179840" y="1503360"/>
              <a:ext cx="253800" cy="4208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09"/>
            <p:cNvSpPr/>
            <p:nvPr/>
          </p:nvSpPr>
          <p:spPr>
            <a:xfrm>
              <a:off x="6135120" y="2629440"/>
              <a:ext cx="41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10"/>
            <p:cNvSpPr/>
            <p:nvPr/>
          </p:nvSpPr>
          <p:spPr>
            <a:xfrm>
              <a:off x="6545520" y="1717920"/>
              <a:ext cx="0" cy="92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11"/>
            <p:cNvSpPr/>
            <p:nvPr/>
          </p:nvSpPr>
          <p:spPr>
            <a:xfrm flipH="1">
              <a:off x="6337080" y="1738800"/>
              <a:ext cx="20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2"/>
            <p:cNvSpPr/>
            <p:nvPr/>
          </p:nvSpPr>
          <p:spPr>
            <a:xfrm flipH="1">
              <a:off x="4322160" y="1708560"/>
              <a:ext cx="44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13"/>
            <p:cNvSpPr/>
            <p:nvPr/>
          </p:nvSpPr>
          <p:spPr>
            <a:xfrm>
              <a:off x="2972160" y="1341360"/>
              <a:ext cx="1351080" cy="705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icle Mas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14"/>
            <p:cNvSpPr/>
            <p:nvPr/>
          </p:nvSpPr>
          <p:spPr>
            <a:xfrm>
              <a:off x="4965840" y="1563480"/>
              <a:ext cx="136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nd tun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17"/>
            <p:cNvSpPr/>
            <p:nvPr/>
          </p:nvSpPr>
          <p:spPr>
            <a:xfrm>
              <a:off x="6638760" y="4278600"/>
              <a:ext cx="1174320" cy="157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NCS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rib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118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est System Overview (JARI Full Tunn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スライド番号プレースホルダ 3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CBCE-41F7-4325-BC0C-181FACF11B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est System Overview (JARI Micro Tunn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203640" y="3141720"/>
            <a:ext cx="3459240" cy="43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3255840" y="2998800"/>
            <a:ext cx="42840" cy="487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bebe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2916360" y="2050920"/>
            <a:ext cx="102960" cy="2292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6"/>
          <p:cNvSpPr/>
          <p:nvPr/>
        </p:nvSpPr>
        <p:spPr>
          <a:xfrm flipV="1">
            <a:off x="2916360" y="2035080"/>
            <a:ext cx="0" cy="230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7"/>
          <p:cNvSpPr/>
          <p:nvPr/>
        </p:nvSpPr>
        <p:spPr>
          <a:xfrm flipV="1">
            <a:off x="3017880" y="2035080"/>
            <a:ext cx="0" cy="230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"/>
          <p:cNvSpPr/>
          <p:nvPr/>
        </p:nvSpPr>
        <p:spPr>
          <a:xfrm>
            <a:off x="2652840" y="4859280"/>
            <a:ext cx="263520" cy="92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9"/>
          <p:cNvGrpSpPr/>
          <p:nvPr/>
        </p:nvGrpSpPr>
        <p:grpSpPr>
          <a:xfrm>
            <a:off x="3444840" y="3778200"/>
            <a:ext cx="1472760" cy="1003320"/>
            <a:chOff x="3444840" y="3778200"/>
            <a:chExt cx="1472760" cy="1003320"/>
          </a:xfrm>
        </p:grpSpPr>
        <p:sp>
          <p:nvSpPr>
            <p:cNvPr id="516" name="Rectangle 10"/>
            <p:cNvSpPr/>
            <p:nvPr/>
          </p:nvSpPr>
          <p:spPr>
            <a:xfrm>
              <a:off x="4816080" y="4120920"/>
              <a:ext cx="10152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1"/>
            <p:cNvSpPr/>
            <p:nvPr/>
          </p:nvSpPr>
          <p:spPr>
            <a:xfrm>
              <a:off x="3444840" y="4120920"/>
              <a:ext cx="10188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3444840" y="4070160"/>
              <a:ext cx="25200" cy="22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3"/>
            <p:cNvSpPr/>
            <p:nvPr/>
          </p:nvSpPr>
          <p:spPr>
            <a:xfrm>
              <a:off x="3546720" y="3969000"/>
              <a:ext cx="248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4"/>
            <p:cNvSpPr/>
            <p:nvPr/>
          </p:nvSpPr>
          <p:spPr>
            <a:xfrm>
              <a:off x="3571920" y="3816720"/>
              <a:ext cx="228240" cy="761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5"/>
            <p:cNvSpPr/>
            <p:nvPr/>
          </p:nvSpPr>
          <p:spPr>
            <a:xfrm>
              <a:off x="4587840" y="3816720"/>
              <a:ext cx="228240" cy="761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6"/>
            <p:cNvSpPr/>
            <p:nvPr/>
          </p:nvSpPr>
          <p:spPr>
            <a:xfrm>
              <a:off x="3520800" y="4578480"/>
              <a:ext cx="1346040" cy="20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7"/>
            <p:cNvSpPr/>
            <p:nvPr/>
          </p:nvSpPr>
          <p:spPr>
            <a:xfrm>
              <a:off x="4816080" y="3969000"/>
              <a:ext cx="24840" cy="45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18"/>
            <p:cNvSpPr/>
            <p:nvPr/>
          </p:nvSpPr>
          <p:spPr>
            <a:xfrm>
              <a:off x="4892400" y="4070160"/>
              <a:ext cx="25200" cy="22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9"/>
            <p:cNvSpPr/>
            <p:nvPr/>
          </p:nvSpPr>
          <p:spPr>
            <a:xfrm>
              <a:off x="3808080" y="3778200"/>
              <a:ext cx="768240" cy="78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4053960" y="4121640"/>
              <a:ext cx="25416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21"/>
          <p:cNvGrpSpPr/>
          <p:nvPr/>
        </p:nvGrpSpPr>
        <p:grpSpPr>
          <a:xfrm>
            <a:off x="1130400" y="3686040"/>
            <a:ext cx="2309400" cy="1422000"/>
            <a:chOff x="1130400" y="3686040"/>
            <a:chExt cx="2309400" cy="1422000"/>
          </a:xfrm>
        </p:grpSpPr>
        <p:grpSp>
          <p:nvGrpSpPr>
            <p:cNvPr id="528" name="Group 22"/>
            <p:cNvGrpSpPr/>
            <p:nvPr/>
          </p:nvGrpSpPr>
          <p:grpSpPr>
            <a:xfrm>
              <a:off x="1130400" y="3686040"/>
              <a:ext cx="2309400" cy="1422000"/>
              <a:chOff x="1130400" y="3686040"/>
              <a:chExt cx="2309400" cy="1422000"/>
            </a:xfrm>
          </p:grpSpPr>
          <p:sp>
            <p:nvSpPr>
              <p:cNvPr id="529" name="Rectangle 23"/>
              <p:cNvSpPr/>
              <p:nvPr/>
            </p:nvSpPr>
            <p:spPr>
              <a:xfrm>
                <a:off x="2652840" y="4117680"/>
                <a:ext cx="762480" cy="12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24"/>
              <p:cNvSpPr/>
              <p:nvPr/>
            </p:nvSpPr>
            <p:spPr>
              <a:xfrm>
                <a:off x="1130400" y="3686040"/>
                <a:ext cx="253440" cy="1016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25"/>
              <p:cNvSpPr/>
              <p:nvPr/>
            </p:nvSpPr>
            <p:spPr>
              <a:xfrm>
                <a:off x="1206000" y="4702680"/>
                <a:ext cx="101520" cy="35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26"/>
              <p:cNvSpPr/>
              <p:nvPr/>
            </p:nvSpPr>
            <p:spPr>
              <a:xfrm>
                <a:off x="1130400" y="5057280"/>
                <a:ext cx="253440" cy="50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27"/>
              <p:cNvSpPr/>
              <p:nvPr/>
            </p:nvSpPr>
            <p:spPr>
              <a:xfrm>
                <a:off x="2424960" y="3812760"/>
                <a:ext cx="227520" cy="76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8"/>
              <p:cNvSpPr/>
              <p:nvPr/>
            </p:nvSpPr>
            <p:spPr>
              <a:xfrm>
                <a:off x="1434960" y="3686040"/>
                <a:ext cx="990000" cy="1015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9"/>
              <p:cNvSpPr/>
              <p:nvPr/>
            </p:nvSpPr>
            <p:spPr>
              <a:xfrm>
                <a:off x="1764360" y="4701240"/>
                <a:ext cx="253800" cy="50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0"/>
              <p:cNvSpPr/>
              <p:nvPr/>
            </p:nvSpPr>
            <p:spPr>
              <a:xfrm>
                <a:off x="1789200" y="4752360"/>
                <a:ext cx="20376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1"/>
              <p:cNvSpPr/>
              <p:nvPr/>
            </p:nvSpPr>
            <p:spPr>
              <a:xfrm>
                <a:off x="1738440" y="5057280"/>
                <a:ext cx="306000" cy="50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32"/>
              <p:cNvSpPr/>
              <p:nvPr/>
            </p:nvSpPr>
            <p:spPr>
              <a:xfrm>
                <a:off x="3059640" y="4117680"/>
                <a:ext cx="126720" cy="126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"/>
              <p:cNvSpPr/>
              <p:nvPr/>
            </p:nvSpPr>
            <p:spPr>
              <a:xfrm>
                <a:off x="3415320" y="4066560"/>
                <a:ext cx="24480" cy="22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34"/>
            <p:cNvGrpSpPr/>
            <p:nvPr/>
          </p:nvGrpSpPr>
          <p:grpSpPr>
            <a:xfrm>
              <a:off x="1536480" y="3914640"/>
              <a:ext cx="1117440" cy="1041840"/>
              <a:chOff x="1536480" y="3914640"/>
              <a:chExt cx="1117440" cy="1041840"/>
            </a:xfrm>
          </p:grpSpPr>
          <p:sp>
            <p:nvSpPr>
              <p:cNvPr id="541" name="Line 35"/>
              <p:cNvSpPr/>
              <p:nvPr/>
            </p:nvSpPr>
            <p:spPr>
              <a:xfrm>
                <a:off x="1638720" y="4448160"/>
                <a:ext cx="5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6"/>
              <p:cNvSpPr/>
              <p:nvPr/>
            </p:nvSpPr>
            <p:spPr>
              <a:xfrm>
                <a:off x="1536840" y="3941280"/>
                <a:ext cx="101880" cy="406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Arc 37"/>
              <p:cNvSpPr/>
              <p:nvPr/>
            </p:nvSpPr>
            <p:spPr>
              <a:xfrm flipV="1" rot="10800000">
                <a:off x="1739880" y="3914640"/>
                <a:ext cx="101520" cy="273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Arc 38"/>
              <p:cNvSpPr/>
              <p:nvPr/>
            </p:nvSpPr>
            <p:spPr>
              <a:xfrm flipV="1" rot="10800000">
                <a:off x="1942920" y="3914640"/>
                <a:ext cx="101520" cy="273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Arc 39"/>
              <p:cNvSpPr/>
              <p:nvPr/>
            </p:nvSpPr>
            <p:spPr>
              <a:xfrm flipV="1" rot="10800000">
                <a:off x="1536480" y="3914640"/>
                <a:ext cx="101880" cy="273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rc 40"/>
              <p:cNvSpPr/>
              <p:nvPr/>
            </p:nvSpPr>
            <p:spPr>
              <a:xfrm flipV="1" rot="10800000">
                <a:off x="2145600" y="3914640"/>
                <a:ext cx="101880" cy="273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rc 41"/>
              <p:cNvSpPr/>
              <p:nvPr/>
            </p:nvSpPr>
            <p:spPr>
              <a:xfrm flipH="1" flipV="1">
                <a:off x="1536120" y="4345560"/>
                <a:ext cx="101880" cy="10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rc 42"/>
              <p:cNvSpPr/>
              <p:nvPr/>
            </p:nvSpPr>
            <p:spPr>
              <a:xfrm flipV="1">
                <a:off x="2145960" y="4345560"/>
                <a:ext cx="101160" cy="10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43"/>
              <p:cNvSpPr/>
              <p:nvPr/>
            </p:nvSpPr>
            <p:spPr>
              <a:xfrm>
                <a:off x="1739880" y="3939480"/>
                <a:ext cx="101520" cy="406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44"/>
              <p:cNvSpPr/>
              <p:nvPr/>
            </p:nvSpPr>
            <p:spPr>
              <a:xfrm>
                <a:off x="1942920" y="3939480"/>
                <a:ext cx="101520" cy="406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45"/>
              <p:cNvSpPr/>
              <p:nvPr/>
            </p:nvSpPr>
            <p:spPr>
              <a:xfrm>
                <a:off x="2145960" y="3941280"/>
                <a:ext cx="101880" cy="406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46"/>
              <p:cNvSpPr/>
              <p:nvPr/>
            </p:nvSpPr>
            <p:spPr>
              <a:xfrm>
                <a:off x="153684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47"/>
              <p:cNvSpPr/>
              <p:nvPr/>
            </p:nvSpPr>
            <p:spPr>
              <a:xfrm>
                <a:off x="224748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48"/>
              <p:cNvSpPr/>
              <p:nvPr/>
            </p:nvSpPr>
            <p:spPr>
              <a:xfrm>
                <a:off x="1638720" y="4346280"/>
                <a:ext cx="507960" cy="101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49"/>
              <p:cNvSpPr/>
              <p:nvPr/>
            </p:nvSpPr>
            <p:spPr>
              <a:xfrm>
                <a:off x="1638720" y="4346280"/>
                <a:ext cx="10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50"/>
              <p:cNvSpPr/>
              <p:nvPr/>
            </p:nvSpPr>
            <p:spPr>
              <a:xfrm>
                <a:off x="1841400" y="4346280"/>
                <a:ext cx="10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51"/>
              <p:cNvSpPr/>
              <p:nvPr/>
            </p:nvSpPr>
            <p:spPr>
              <a:xfrm>
                <a:off x="2044080" y="4346280"/>
                <a:ext cx="10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52"/>
              <p:cNvSpPr/>
              <p:nvPr/>
            </p:nvSpPr>
            <p:spPr>
              <a:xfrm>
                <a:off x="214596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53"/>
              <p:cNvSpPr/>
              <p:nvPr/>
            </p:nvSpPr>
            <p:spPr>
              <a:xfrm>
                <a:off x="204408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54"/>
              <p:cNvSpPr/>
              <p:nvPr/>
            </p:nvSpPr>
            <p:spPr>
              <a:xfrm>
                <a:off x="194292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55"/>
              <p:cNvSpPr/>
              <p:nvPr/>
            </p:nvSpPr>
            <p:spPr>
              <a:xfrm>
                <a:off x="184140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56"/>
              <p:cNvSpPr/>
              <p:nvPr/>
            </p:nvSpPr>
            <p:spPr>
              <a:xfrm>
                <a:off x="173988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57"/>
              <p:cNvSpPr/>
              <p:nvPr/>
            </p:nvSpPr>
            <p:spPr>
              <a:xfrm>
                <a:off x="1638720" y="3939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58"/>
              <p:cNvSpPr/>
              <p:nvPr/>
            </p:nvSpPr>
            <p:spPr>
              <a:xfrm>
                <a:off x="2044080" y="4448160"/>
                <a:ext cx="101520" cy="406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59"/>
              <p:cNvSpPr/>
              <p:nvPr/>
            </p:nvSpPr>
            <p:spPr>
              <a:xfrm>
                <a:off x="2044080" y="4448160"/>
                <a:ext cx="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60"/>
              <p:cNvSpPr/>
              <p:nvPr/>
            </p:nvSpPr>
            <p:spPr>
              <a:xfrm>
                <a:off x="2145960" y="4448160"/>
                <a:ext cx="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rc 61"/>
              <p:cNvSpPr/>
              <p:nvPr/>
            </p:nvSpPr>
            <p:spPr>
              <a:xfrm flipH="1" flipV="1">
                <a:off x="2044080" y="4853880"/>
                <a:ext cx="101520" cy="10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62"/>
              <p:cNvSpPr/>
              <p:nvPr/>
            </p:nvSpPr>
            <p:spPr>
              <a:xfrm>
                <a:off x="2145960" y="4854600"/>
                <a:ext cx="507960" cy="101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63"/>
              <p:cNvSpPr/>
              <p:nvPr/>
            </p:nvSpPr>
            <p:spPr>
              <a:xfrm>
                <a:off x="2145960" y="4956480"/>
                <a:ext cx="50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64"/>
              <p:cNvSpPr/>
              <p:nvPr/>
            </p:nvSpPr>
            <p:spPr>
              <a:xfrm>
                <a:off x="2145960" y="4854600"/>
                <a:ext cx="50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65"/>
          <p:cNvGrpSpPr/>
          <p:nvPr/>
        </p:nvGrpSpPr>
        <p:grpSpPr>
          <a:xfrm>
            <a:off x="2916360" y="4346280"/>
            <a:ext cx="101520" cy="608760"/>
            <a:chOff x="2916360" y="4346280"/>
            <a:chExt cx="101520" cy="608760"/>
          </a:xfrm>
        </p:grpSpPr>
        <p:sp>
          <p:nvSpPr>
            <p:cNvPr id="572" name="Arc 66"/>
            <p:cNvSpPr/>
            <p:nvPr/>
          </p:nvSpPr>
          <p:spPr>
            <a:xfrm flipH="1" flipV="1" rot="16200000">
              <a:off x="2916000" y="4852800"/>
              <a:ext cx="101880" cy="101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67"/>
            <p:cNvSpPr/>
            <p:nvPr/>
          </p:nvSpPr>
          <p:spPr>
            <a:xfrm rot="16200000">
              <a:off x="2713320" y="4548960"/>
              <a:ext cx="507240" cy="101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8"/>
            <p:cNvSpPr/>
            <p:nvPr/>
          </p:nvSpPr>
          <p:spPr>
            <a:xfrm flipV="1">
              <a:off x="3017880" y="434628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9"/>
            <p:cNvSpPr/>
            <p:nvPr/>
          </p:nvSpPr>
          <p:spPr>
            <a:xfrm flipV="1">
              <a:off x="2916360" y="434628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Line 70"/>
          <p:cNvSpPr/>
          <p:nvPr/>
        </p:nvSpPr>
        <p:spPr>
          <a:xfrm>
            <a:off x="2652840" y="485460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71"/>
          <p:cNvSpPr/>
          <p:nvPr/>
        </p:nvSpPr>
        <p:spPr>
          <a:xfrm>
            <a:off x="2652840" y="495612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テキスト ボックス 12"/>
          <p:cNvSpPr/>
          <p:nvPr/>
        </p:nvSpPr>
        <p:spPr>
          <a:xfrm>
            <a:off x="1214280" y="3286080"/>
            <a:ext cx="12826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テキスト ボックス 12"/>
          <p:cNvSpPr/>
          <p:nvPr/>
        </p:nvSpPr>
        <p:spPr>
          <a:xfrm>
            <a:off x="3440160" y="4973760"/>
            <a:ext cx="1466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ine dynamo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74"/>
          <p:cNvSpPr/>
          <p:nvPr/>
        </p:nvSpPr>
        <p:spPr>
          <a:xfrm>
            <a:off x="6472080" y="3394080"/>
            <a:ext cx="0" cy="85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5"/>
          <p:cNvSpPr/>
          <p:nvPr/>
        </p:nvSpPr>
        <p:spPr>
          <a:xfrm>
            <a:off x="5294160" y="4245120"/>
            <a:ext cx="1175040" cy="13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C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t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ET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6"/>
          <p:cNvSpPr/>
          <p:nvPr/>
        </p:nvSpPr>
        <p:spPr>
          <a:xfrm>
            <a:off x="6566040" y="4238640"/>
            <a:ext cx="1174680" cy="133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C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rib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77"/>
          <p:cNvGrpSpPr/>
          <p:nvPr/>
        </p:nvGrpSpPr>
        <p:grpSpPr>
          <a:xfrm>
            <a:off x="2941560" y="3332160"/>
            <a:ext cx="563400" cy="173160"/>
            <a:chOff x="2941560" y="3332160"/>
            <a:chExt cx="563400" cy="173160"/>
          </a:xfrm>
        </p:grpSpPr>
        <p:sp>
          <p:nvSpPr>
            <p:cNvPr id="584" name="Rectangle 78"/>
            <p:cNvSpPr/>
            <p:nvPr/>
          </p:nvSpPr>
          <p:spPr>
            <a:xfrm>
              <a:off x="2990520" y="3332160"/>
              <a:ext cx="514440" cy="4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79"/>
            <p:cNvSpPr/>
            <p:nvPr/>
          </p:nvSpPr>
          <p:spPr>
            <a:xfrm>
              <a:off x="2941560" y="3378240"/>
              <a:ext cx="5076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80"/>
            <p:cNvSpPr/>
            <p:nvPr/>
          </p:nvSpPr>
          <p:spPr>
            <a:xfrm flipH="1">
              <a:off x="2979000" y="333216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81"/>
            <p:cNvSpPr/>
            <p:nvPr/>
          </p:nvSpPr>
          <p:spPr>
            <a:xfrm flipH="1">
              <a:off x="2993400" y="337824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rc 82"/>
            <p:cNvSpPr/>
            <p:nvPr/>
          </p:nvSpPr>
          <p:spPr>
            <a:xfrm flipH="1">
              <a:off x="2941560" y="3332160"/>
              <a:ext cx="48960" cy="493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83"/>
            <p:cNvSpPr/>
            <p:nvPr/>
          </p:nvSpPr>
          <p:spPr>
            <a:xfrm>
              <a:off x="2943000" y="337752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84"/>
            <p:cNvSpPr/>
            <p:nvPr/>
          </p:nvSpPr>
          <p:spPr>
            <a:xfrm>
              <a:off x="2992320" y="337752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85"/>
          <p:cNvGrpSpPr/>
          <p:nvPr/>
        </p:nvGrpSpPr>
        <p:grpSpPr>
          <a:xfrm>
            <a:off x="3524400" y="3224160"/>
            <a:ext cx="401040" cy="217080"/>
            <a:chOff x="3524400" y="3224160"/>
            <a:chExt cx="401040" cy="217080"/>
          </a:xfrm>
        </p:grpSpPr>
        <p:sp>
          <p:nvSpPr>
            <p:cNvPr id="592" name="Oval 86"/>
            <p:cNvSpPr/>
            <p:nvPr/>
          </p:nvSpPr>
          <p:spPr>
            <a:xfrm>
              <a:off x="3594240" y="3354840"/>
              <a:ext cx="39960" cy="40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87"/>
            <p:cNvSpPr/>
            <p:nvPr/>
          </p:nvSpPr>
          <p:spPr>
            <a:xfrm>
              <a:off x="3692160" y="3281760"/>
              <a:ext cx="41040" cy="41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88"/>
            <p:cNvSpPr/>
            <p:nvPr/>
          </p:nvSpPr>
          <p:spPr>
            <a:xfrm>
              <a:off x="3836520" y="3400200"/>
              <a:ext cx="39960" cy="41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89"/>
            <p:cNvSpPr/>
            <p:nvPr/>
          </p:nvSpPr>
          <p:spPr>
            <a:xfrm>
              <a:off x="3885480" y="3224160"/>
              <a:ext cx="39960" cy="41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90"/>
            <p:cNvSpPr/>
            <p:nvPr/>
          </p:nvSpPr>
          <p:spPr>
            <a:xfrm>
              <a:off x="3816360" y="3296880"/>
              <a:ext cx="39960" cy="39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91"/>
            <p:cNvSpPr/>
            <p:nvPr/>
          </p:nvSpPr>
          <p:spPr>
            <a:xfrm>
              <a:off x="3663360" y="3363480"/>
              <a:ext cx="41040" cy="40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92"/>
            <p:cNvSpPr/>
            <p:nvPr/>
          </p:nvSpPr>
          <p:spPr>
            <a:xfrm>
              <a:off x="3524400" y="3337200"/>
              <a:ext cx="22680" cy="22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93"/>
            <p:cNvSpPr/>
            <p:nvPr/>
          </p:nvSpPr>
          <p:spPr>
            <a:xfrm>
              <a:off x="3598560" y="3301920"/>
              <a:ext cx="23400" cy="23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94"/>
            <p:cNvSpPr/>
            <p:nvPr/>
          </p:nvSpPr>
          <p:spPr>
            <a:xfrm>
              <a:off x="3649320" y="3331080"/>
              <a:ext cx="22680" cy="22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95"/>
            <p:cNvSpPr/>
            <p:nvPr/>
          </p:nvSpPr>
          <p:spPr>
            <a:xfrm>
              <a:off x="3745440" y="3389040"/>
              <a:ext cx="22680" cy="23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96"/>
            <p:cNvSpPr/>
            <p:nvPr/>
          </p:nvSpPr>
          <p:spPr>
            <a:xfrm>
              <a:off x="3753360" y="3336120"/>
              <a:ext cx="23400" cy="23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97"/>
            <p:cNvSpPr/>
            <p:nvPr/>
          </p:nvSpPr>
          <p:spPr>
            <a:xfrm>
              <a:off x="3777120" y="3265200"/>
              <a:ext cx="22680" cy="22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98"/>
            <p:cNvSpPr/>
            <p:nvPr/>
          </p:nvSpPr>
          <p:spPr>
            <a:xfrm>
              <a:off x="3844440" y="3359880"/>
              <a:ext cx="23400" cy="234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9"/>
            <p:cNvSpPr/>
            <p:nvPr/>
          </p:nvSpPr>
          <p:spPr>
            <a:xfrm>
              <a:off x="3879360" y="3297600"/>
              <a:ext cx="22320" cy="22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AutoShape 100"/>
          <p:cNvSpPr/>
          <p:nvPr/>
        </p:nvSpPr>
        <p:spPr>
          <a:xfrm>
            <a:off x="3278160" y="3191040"/>
            <a:ext cx="244440" cy="96840"/>
          </a:xfrm>
          <a:prstGeom prst="rightArrow">
            <a:avLst>
              <a:gd name="adj1" fmla="val 50000"/>
              <a:gd name="adj2" fmla="val 63104"/>
            </a:avLst>
          </a:prstGeom>
          <a:gradFill rotWithShape="0">
            <a:gsLst>
              <a:gs pos="0">
                <a:srgbClr val="0000ff"/>
              </a:gs>
              <a:gs pos="50000">
                <a:srgbClr val="bebe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01"/>
          <p:cNvSpPr/>
          <p:nvPr/>
        </p:nvSpPr>
        <p:spPr>
          <a:xfrm>
            <a:off x="3278160" y="3413160"/>
            <a:ext cx="244440" cy="96840"/>
          </a:xfrm>
          <a:prstGeom prst="rightArrow">
            <a:avLst>
              <a:gd name="adj1" fmla="val 50000"/>
              <a:gd name="adj2" fmla="val 63104"/>
            </a:avLst>
          </a:prstGeom>
          <a:gradFill rotWithShape="0">
            <a:gsLst>
              <a:gs pos="0">
                <a:srgbClr val="0000ff"/>
              </a:gs>
              <a:gs pos="50000">
                <a:srgbClr val="bebe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テキスト ボックス 15"/>
          <p:cNvSpPr/>
          <p:nvPr/>
        </p:nvSpPr>
        <p:spPr>
          <a:xfrm>
            <a:off x="3059280" y="2631960"/>
            <a:ext cx="1269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lution 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03"/>
          <p:cNvSpPr/>
          <p:nvPr/>
        </p:nvSpPr>
        <p:spPr>
          <a:xfrm>
            <a:off x="6062760" y="3384720"/>
            <a:ext cx="40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04"/>
          <p:cNvSpPr/>
          <p:nvPr/>
        </p:nvSpPr>
        <p:spPr>
          <a:xfrm>
            <a:off x="6640560" y="3346560"/>
            <a:ext cx="439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05"/>
          <p:cNvSpPr/>
          <p:nvPr/>
        </p:nvSpPr>
        <p:spPr>
          <a:xfrm>
            <a:off x="7080120" y="3160800"/>
            <a:ext cx="1351080" cy="70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le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06"/>
          <p:cNvSpPr/>
          <p:nvPr/>
        </p:nvSpPr>
        <p:spPr>
          <a:xfrm>
            <a:off x="2771640" y="1413000"/>
            <a:ext cx="360360" cy="576000"/>
          </a:xfrm>
          <a:prstGeom prst="upArrow">
            <a:avLst>
              <a:gd name="adj1" fmla="val 50000"/>
              <a:gd name="adj2" fmla="val 399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07"/>
          <p:cNvSpPr/>
          <p:nvPr/>
        </p:nvSpPr>
        <p:spPr>
          <a:xfrm>
            <a:off x="3132000" y="162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テキスト ボックス 12"/>
          <p:cNvSpPr/>
          <p:nvPr/>
        </p:nvSpPr>
        <p:spPr>
          <a:xfrm>
            <a:off x="4140360" y="3179880"/>
            <a:ext cx="16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 Tu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E0EF-B911-4080-8AE8-EFF9533747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rrelation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M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and</a:t>
            </a:r>
            <a:r>
              <a:rPr b="0" lang="ja-JP" sz="3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N emiss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428760" y="5786280"/>
            <a:ext cx="8143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of PM and P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low at the emission levels of DPF-equipped engi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hip between PM and PN emissions was likely to differ among mo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0"/>
          <p:cNvSpPr/>
          <p:nvPr/>
        </p:nvSpPr>
        <p:spPr>
          <a:xfrm>
            <a:off x="3419640" y="1600200"/>
            <a:ext cx="2819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2" descr=""/>
          <p:cNvPicPr/>
          <p:nvPr/>
        </p:nvPicPr>
        <p:blipFill>
          <a:blip r:embed="rId1"/>
          <a:stretch/>
        </p:blipFill>
        <p:spPr>
          <a:xfrm>
            <a:off x="34920" y="1125360"/>
            <a:ext cx="3587760" cy="2097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3" descr=""/>
          <p:cNvPicPr/>
          <p:nvPr/>
        </p:nvPicPr>
        <p:blipFill>
          <a:blip r:embed="rId2"/>
          <a:stretch/>
        </p:blipFill>
        <p:spPr>
          <a:xfrm>
            <a:off x="34920" y="3575160"/>
            <a:ext cx="3581280" cy="20923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4" descr=""/>
          <p:cNvPicPr/>
          <p:nvPr/>
        </p:nvPicPr>
        <p:blipFill>
          <a:blip r:embed="rId3"/>
          <a:stretch/>
        </p:blipFill>
        <p:spPr>
          <a:xfrm>
            <a:off x="2813040" y="1133640"/>
            <a:ext cx="3587760" cy="2097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5" descr=""/>
          <p:cNvPicPr/>
          <p:nvPr/>
        </p:nvPicPr>
        <p:blipFill>
          <a:blip r:embed="rId4"/>
          <a:stretch/>
        </p:blipFill>
        <p:spPr>
          <a:xfrm>
            <a:off x="5562720" y="1133640"/>
            <a:ext cx="3587760" cy="2097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6" descr=""/>
          <p:cNvPicPr/>
          <p:nvPr/>
        </p:nvPicPr>
        <p:blipFill>
          <a:blip r:embed="rId5"/>
          <a:stretch/>
        </p:blipFill>
        <p:spPr>
          <a:xfrm>
            <a:off x="2771640" y="3573360"/>
            <a:ext cx="3581640" cy="20923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7" descr=""/>
          <p:cNvPicPr/>
          <p:nvPr/>
        </p:nvPicPr>
        <p:blipFill>
          <a:blip r:embed="rId6"/>
          <a:stretch/>
        </p:blipFill>
        <p:spPr>
          <a:xfrm>
            <a:off x="5508720" y="3575160"/>
            <a:ext cx="3581280" cy="209232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8"/>
          <p:cNvSpPr/>
          <p:nvPr/>
        </p:nvSpPr>
        <p:spPr>
          <a:xfrm>
            <a:off x="692280" y="879480"/>
            <a:ext cx="20793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 tu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Lab. 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PC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20"/>
          <p:cNvSpPr/>
          <p:nvPr/>
        </p:nvSpPr>
        <p:spPr>
          <a:xfrm>
            <a:off x="3419640" y="879480"/>
            <a:ext cx="20793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 tu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Lab. B </a:t>
            </a:r>
            <a:r>
              <a:rPr b="1" lang="en-US" sz="1200" spc="-1" strike="noStrike">
                <a:solidFill>
                  <a:srgbClr val="006633"/>
                </a:solidFill>
                <a:latin typeface="Arial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1"/>
          <p:cNvSpPr/>
          <p:nvPr/>
        </p:nvSpPr>
        <p:spPr>
          <a:xfrm>
            <a:off x="6156360" y="879480"/>
            <a:ext cx="20797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ull tu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Lab. B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PC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539640" y="3357720"/>
            <a:ext cx="2303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 tu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Lab. 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PC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3276720" y="3357720"/>
            <a:ext cx="2303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 tu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Lab. B </a:t>
            </a:r>
            <a:r>
              <a:rPr b="1" lang="en-US" sz="1200" spc="-1" strike="noStrike">
                <a:solidFill>
                  <a:srgbClr val="006633"/>
                </a:solidFill>
                <a:latin typeface="Arial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6012000" y="3357720"/>
            <a:ext cx="2303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artial tu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Lab. B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PC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37" descr=""/>
          <p:cNvPicPr/>
          <p:nvPr/>
        </p:nvPicPr>
        <p:blipFill>
          <a:blip r:embed="rId1"/>
          <a:stretch/>
        </p:blipFill>
        <p:spPr>
          <a:xfrm>
            <a:off x="1028880" y="907920"/>
            <a:ext cx="3314520" cy="21891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8" descr=""/>
          <p:cNvPicPr/>
          <p:nvPr/>
        </p:nvPicPr>
        <p:blipFill>
          <a:blip r:embed="rId2"/>
          <a:stretch/>
        </p:blipFill>
        <p:spPr>
          <a:xfrm>
            <a:off x="5365800" y="907920"/>
            <a:ext cx="3022560" cy="21891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9" descr=""/>
          <p:cNvPicPr/>
          <p:nvPr/>
        </p:nvPicPr>
        <p:blipFill>
          <a:blip r:embed="rId3"/>
          <a:stretch/>
        </p:blipFill>
        <p:spPr>
          <a:xfrm>
            <a:off x="1028880" y="3249720"/>
            <a:ext cx="3314520" cy="21891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0" descr=""/>
          <p:cNvPicPr/>
          <p:nvPr/>
        </p:nvPicPr>
        <p:blipFill>
          <a:blip r:embed="rId4"/>
          <a:stretch/>
        </p:blipFill>
        <p:spPr>
          <a:xfrm>
            <a:off x="5365800" y="3249720"/>
            <a:ext cx="3022560" cy="2189160"/>
          </a:xfrm>
          <a:prstGeom prst="rect">
            <a:avLst/>
          </a:prstGeom>
          <a:ln w="0">
            <a:noFill/>
          </a:ln>
        </p:spPr>
      </p:pic>
      <p:sp>
        <p:nvSpPr>
          <p:cNvPr id="635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F984-FAB4-4B76-AD59-6CE9B183DB8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ffect of Dilution Ratio (PND1, PND2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14200" y="1000080"/>
            <a:ext cx="928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D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642960" y="5357880"/>
            <a:ext cx="81439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ND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was indicated that changes in the dilution ratio might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ffect the measurement results sligh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ND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he effect 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surement results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was 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dilution ratio range under PMP Recomm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214200" y="3214800"/>
            <a:ext cx="928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D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角丸四角形吹き出し 27" descr=""/>
          <p:cNvPicPr/>
          <p:nvPr/>
        </p:nvPicPr>
        <p:blipFill>
          <a:blip r:embed="rId5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sp>
        <p:nvSpPr>
          <p:cNvPr id="641" name="Line 41"/>
          <p:cNvSpPr/>
          <p:nvPr/>
        </p:nvSpPr>
        <p:spPr>
          <a:xfrm>
            <a:off x="3726000" y="3438360"/>
            <a:ext cx="48564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2"/>
          <p:cNvSpPr/>
          <p:nvPr/>
        </p:nvSpPr>
        <p:spPr>
          <a:xfrm>
            <a:off x="2771640" y="3141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MP 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44"/>
          <p:cNvSpPr/>
          <p:nvPr/>
        </p:nvSpPr>
        <p:spPr>
          <a:xfrm>
            <a:off x="6324480" y="3408480"/>
            <a:ext cx="3351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5"/>
          <p:cNvSpPr/>
          <p:nvPr/>
        </p:nvSpPr>
        <p:spPr>
          <a:xfrm>
            <a:off x="6227640" y="83664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MP 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6"/>
          <p:cNvSpPr/>
          <p:nvPr/>
        </p:nvSpPr>
        <p:spPr>
          <a:xfrm>
            <a:off x="1979640" y="1090440"/>
            <a:ext cx="12970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7"/>
          <p:cNvSpPr/>
          <p:nvPr/>
        </p:nvSpPr>
        <p:spPr>
          <a:xfrm>
            <a:off x="2050920" y="83664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MP 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49"/>
          <p:cNvSpPr/>
          <p:nvPr/>
        </p:nvSpPr>
        <p:spPr>
          <a:xfrm>
            <a:off x="6165720" y="1071720"/>
            <a:ext cx="20782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8"/>
          <p:cNvSpPr/>
          <p:nvPr/>
        </p:nvSpPr>
        <p:spPr>
          <a:xfrm>
            <a:off x="6299280" y="31068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MP 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CF6B-F7AB-424F-B53C-C9A900D5B3F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ffect of Introducing-Hose Temperatu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250920" y="4525920"/>
            <a:ext cx="86421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In WHTC-Cold mode, the PN (full flow/partial flow) decreased when the sample-introducing-hose temperature was 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or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 effect of temperature was observed in the repeated tests in WHTC-Hot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nclusion: If the hot hose is used, there will be no effect on the particle l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角丸四角形吹き出し 4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"/>
          <p:cNvPicPr/>
          <p:nvPr/>
        </p:nvPicPr>
        <p:blipFill>
          <a:blip r:embed="rId2"/>
          <a:stretch/>
        </p:blipFill>
        <p:spPr>
          <a:xfrm>
            <a:off x="1496880" y="1428840"/>
            <a:ext cx="5504040" cy="3306600"/>
          </a:xfrm>
          <a:prstGeom prst="rect">
            <a:avLst/>
          </a:prstGeom>
          <a:ln w="0">
            <a:noFill/>
          </a:ln>
        </p:spPr>
      </p:pic>
      <p:sp>
        <p:nvSpPr>
          <p:cNvPr id="654" name="テキスト ボックス 7"/>
          <p:cNvSpPr/>
          <p:nvPr/>
        </p:nvSpPr>
        <p:spPr>
          <a:xfrm>
            <a:off x="1714680" y="928800"/>
            <a:ext cx="55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of introducing-hose heating on the particle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A6D3-2A2E-4F70-BA8C-BD64E379C21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ffect of Introducing-Pipe Lengt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250920" y="4525920"/>
            <a:ext cx="86421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Com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n WHTC-Cold mode, the PN decreased by 10% compared to the Hot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n WHTC-Hot mode, no effect of exhaust pipe length was ob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When sample was taken from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unnel, the PN (full flow/partial flow) increased (cause unknow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Conclusion: No effect of exhaust pipe length was confirm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角丸四角形吹き出し 4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8" descr=""/>
          <p:cNvPicPr/>
          <p:nvPr/>
        </p:nvPicPr>
        <p:blipFill>
          <a:blip r:embed="rId2"/>
          <a:stretch/>
        </p:blipFill>
        <p:spPr>
          <a:xfrm>
            <a:off x="1571760" y="1627200"/>
            <a:ext cx="5290920" cy="3179880"/>
          </a:xfrm>
          <a:prstGeom prst="rect">
            <a:avLst/>
          </a:prstGeom>
          <a:ln w="0">
            <a:noFill/>
          </a:ln>
        </p:spPr>
      </p:pic>
      <p:sp>
        <p:nvSpPr>
          <p:cNvPr id="660" name="テキスト ボックス 7"/>
          <p:cNvSpPr/>
          <p:nvPr/>
        </p:nvSpPr>
        <p:spPr>
          <a:xfrm>
            <a:off x="1714680" y="105732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in the particle loss depending on the introducing-pipe length and sampling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16" descr=""/>
          <p:cNvPicPr/>
          <p:nvPr/>
        </p:nvPicPr>
        <p:blipFill>
          <a:blip r:embed="rId1"/>
          <a:stretch/>
        </p:blipFill>
        <p:spPr>
          <a:xfrm>
            <a:off x="457200" y="1636560"/>
            <a:ext cx="4038480" cy="33051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7" descr=""/>
          <p:cNvPicPr/>
          <p:nvPr/>
        </p:nvPicPr>
        <p:blipFill>
          <a:blip r:embed="rId2"/>
          <a:stretch/>
        </p:blipFill>
        <p:spPr>
          <a:xfrm>
            <a:off x="4648320" y="1636560"/>
            <a:ext cx="4038480" cy="3305160"/>
          </a:xfrm>
          <a:prstGeom prst="rect">
            <a:avLst/>
          </a:prstGeom>
          <a:ln w="0">
            <a:noFill/>
          </a:ln>
        </p:spPr>
      </p:pic>
      <p:sp>
        <p:nvSpPr>
          <p:cNvPr id="663" name="スライド番号プレースホルダ 6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2205-66A9-4D2E-98E3-787EE3F465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ffect of PT Sampling Posi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1189080" y="1243080"/>
            <a:ext cx="331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6000840" y="1285920"/>
            <a:ext cx="266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 (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214200" y="4929120"/>
            <a:ext cx="8642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spcBef>
                <a:spcPts val="1125"/>
              </a:spcBef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The average of the measurement results indicated that sampling position changes tended to decrease particle emissions for both PM and P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1125"/>
              </a:spcBef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However, there were relatively large variations in the results; hence, statistically speaking, it can be judged that there is little effect of the exhaust pipe length on the P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N emission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1258920" y="171468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: WHTC-H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5688000" y="179532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: WHTC-H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角丸四角形吹き出し 14" descr=""/>
          <p:cNvPicPr/>
          <p:nvPr/>
        </p:nvPicPr>
        <p:blipFill>
          <a:blip r:embed="rId3"/>
          <a:stretch/>
        </p:blipFill>
        <p:spPr>
          <a:xfrm>
            <a:off x="7699320" y="-19080"/>
            <a:ext cx="1463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Full/Partial Ratio and PM &amp; PN Emission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179280" y="5978520"/>
            <a:ext cx="864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spcBef>
                <a:spcPts val="1001"/>
              </a:spcBef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Full/Partia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V was improved for PN; therefore, the variations observed in the PN measurements are presumed to have been caused by variations in the engine exha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角丸四角形吹き出し 4" descr=""/>
          <p:cNvPicPr/>
          <p:nvPr/>
        </p:nvPicPr>
        <p:blipFill>
          <a:blip r:embed="rId1"/>
          <a:stretch/>
        </p:blipFill>
        <p:spPr>
          <a:xfrm>
            <a:off x="7480440" y="-19080"/>
            <a:ext cx="1682640" cy="5367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9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3591000" cy="2695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1" descr=""/>
          <p:cNvPicPr/>
          <p:nvPr/>
        </p:nvPicPr>
        <p:blipFill>
          <a:blip r:embed="rId3"/>
          <a:stretch/>
        </p:blipFill>
        <p:spPr>
          <a:xfrm>
            <a:off x="4730760" y="765000"/>
            <a:ext cx="3591000" cy="26956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3" descr=""/>
          <p:cNvPicPr/>
          <p:nvPr/>
        </p:nvPicPr>
        <p:blipFill>
          <a:blip r:embed="rId4"/>
          <a:stretch/>
        </p:blipFill>
        <p:spPr>
          <a:xfrm>
            <a:off x="539640" y="3357720"/>
            <a:ext cx="3591000" cy="26953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5" descr=""/>
          <p:cNvPicPr/>
          <p:nvPr/>
        </p:nvPicPr>
        <p:blipFill>
          <a:blip r:embed="rId5"/>
          <a:stretch/>
        </p:blipFill>
        <p:spPr>
          <a:xfrm>
            <a:off x="4730760" y="3357720"/>
            <a:ext cx="3591000" cy="26953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8730360" y="657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96CC-60E2-4850-A417-3DC2509071D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pecifications of Test Engine and Fue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43080" y="1535040"/>
          <a:ext cx="6572160" cy="3014640"/>
        </p:xfrm>
        <a:graphic>
          <a:graphicData uri="http://schemas.openxmlformats.org/drawingml/2006/table">
            <a:tbl>
              <a:tblPr/>
              <a:tblGrid>
                <a:gridCol w="3139920"/>
                <a:gridCol w="343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O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8E-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lin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cyl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I.C.,T.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e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8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jectio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l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x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b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F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Cat.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e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kW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r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JP,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ly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3"/>
          <p:cNvSpPr/>
          <p:nvPr/>
        </p:nvSpPr>
        <p:spPr>
          <a:xfrm>
            <a:off x="557280" y="108576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57200" y="474984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formity with RF-06-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9072-06FE-4B2F-BEB9-2DA343552C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4628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Specifications of Full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Partial</a:t>
            </a: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Tunnel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57160" y="1335240"/>
          <a:ext cx="7429680" cy="4290840"/>
        </p:xfrm>
        <a:graphic>
          <a:graphicData uri="http://schemas.openxmlformats.org/drawingml/2006/table">
            <a:tbl>
              <a:tblPr/>
              <a:tblGrid>
                <a:gridCol w="1143000"/>
                <a:gridCol w="2948040"/>
                <a:gridCol w="1670040"/>
                <a:gridCol w="1668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b. 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b. 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ne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7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S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d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ne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ution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nel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4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4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lit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47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47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スライド番号プレースホルダ 6"/>
          <p:cNvSpPr/>
          <p:nvPr/>
        </p:nvSpPr>
        <p:spPr>
          <a:xfrm>
            <a:off x="6943680" y="6367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B512-E5BD-4E8D-81D3-7EF247B3759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Particle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Number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Counting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System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06280"/>
            <a:ext cx="829152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Horiba systems and 1 Matter system were used. One of the Horiba systems was used by both laboratories as common syst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57160" y="2033640"/>
          <a:ext cx="7572600" cy="2125440"/>
        </p:xfrm>
        <a:graphic>
          <a:graphicData uri="http://schemas.openxmlformats.org/drawingml/2006/table">
            <a:tbl>
              <a:tblPr/>
              <a:tblGrid>
                <a:gridCol w="857520"/>
                <a:gridCol w="785520"/>
                <a:gridCol w="1785960"/>
                <a:gridCol w="1214640"/>
                <a:gridCol w="1214280"/>
                <a:gridCol w="1714680"/>
              </a:tblGrid>
              <a:tr h="77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N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D1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ution ratio se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D2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ution ratio se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 b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CS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A-1000SPC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EL (Fu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I (Full/Partia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CS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b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A-1000SPC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EL (Partia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19+ASET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I (Full/Partia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42"/>
          <p:cNvSpPr/>
          <p:nvPr/>
        </p:nvSpPr>
        <p:spPr>
          <a:xfrm>
            <a:off x="428760" y="4162320"/>
            <a:ext cx="81756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imultaneous measurement with full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d partial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unnels in the same 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2 SPC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ed measurement at the same sampling point using 1 SPCS and 1 Matter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asurement with full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unnel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d that with partial</a:t>
            </a:r>
            <a:r>
              <a:rPr b="0" lang="ja-JP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unnel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perform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 separate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"/>
          <p:cNvPicPr/>
          <p:nvPr/>
        </p:nvPicPr>
        <p:blipFill>
          <a:blip r:embed="rId1"/>
          <a:stretch/>
        </p:blipFill>
        <p:spPr>
          <a:xfrm>
            <a:off x="250920" y="3913200"/>
            <a:ext cx="3744720" cy="2944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PNCS Data to Calculate Emiss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3941280"/>
            <a:ext cx="4038480" cy="25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 problem with PNC provisions (cut-off point, correlation with reference meter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 to PCRF, all systems were within the specified range; however,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r(50nm)/Fr(100nm) ratio was below 1 in one system. Possibly problemati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2"/>
          <a:stretch/>
        </p:blipFill>
        <p:spPr>
          <a:xfrm>
            <a:off x="250920" y="1204920"/>
            <a:ext cx="4176720" cy="2440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324000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1"/>
          <p:cNvSpPr/>
          <p:nvPr/>
        </p:nvSpPr>
        <p:spPr>
          <a:xfrm>
            <a:off x="324000" y="873000"/>
            <a:ext cx="2592360" cy="30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NC cut-off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572000" y="873000"/>
            <a:ext cx="3168720" cy="30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ity check against electro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324000" y="3573360"/>
            <a:ext cx="2592360" cy="30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F reg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785080" y="6556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09BF-418C-422E-91DD-C217A95537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786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Daily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Schedule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of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the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Round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Robin</a:t>
            </a:r>
            <a:r>
              <a:rPr b="0" lang="ja-JP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Tes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280" y="1047600"/>
          <a:ext cx="4638600" cy="4479840"/>
        </p:xfrm>
        <a:graphic>
          <a:graphicData uri="http://schemas.openxmlformats.org/drawingml/2006/table">
            <a:tbl>
              <a:tblPr/>
              <a:tblGrid>
                <a:gridCol w="352440"/>
                <a:gridCol w="1428840"/>
                <a:gridCol w="1428480"/>
                <a:gridCol w="1428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. - F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lab’s own test for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_WHTC#1~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in so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_WHTC#1~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SC#1~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d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d 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top 1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top 1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liminary JE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liminary JE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top 1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 stop  1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JE05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JE05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95"/>
          <p:cNvSpPr/>
          <p:nvPr/>
        </p:nvSpPr>
        <p:spPr>
          <a:xfrm>
            <a:off x="324000" y="5661000"/>
            <a:ext cx="84247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V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 Functional Verification (Daily check of PNCS, etc.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Protocol (Idle 6 min.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SC mode9 10 min.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gine stop 5 min.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Curve (Not to be recorded; To be checked at rated operation before JE05 test; rated output on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P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zation Mode Protocol (JE05 test to be defined as S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6"/>
          <p:cNvSpPr/>
          <p:nvPr/>
        </p:nvSpPr>
        <p:spPr>
          <a:xfrm>
            <a:off x="5148360" y="1131840"/>
            <a:ext cx="4078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blank (TB) measur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time: 30 mi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timing: At start and        completion of daily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スライド番号プレースホルダ 5"/>
          <p:cNvSpPr/>
          <p:nvPr/>
        </p:nvSpPr>
        <p:spPr>
          <a:xfrm>
            <a:off x="6939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4E78-EC42-4673-A0D8-C6EE2A79B3C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ine and Obj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und Robin Test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standing the Factors Affecting the Measurement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5:40:50Z</dcterms:created>
  <dc:creator>JARI</dc:creator>
  <dc:description/>
  <dc:language>en-US</dc:language>
  <cp:lastModifiedBy>JARI</cp:lastModifiedBy>
  <dcterms:modified xsi:type="dcterms:W3CDTF">2009-03-23T09:33:09Z</dcterms:modified>
  <cp:revision>308</cp:revision>
  <dc:subject/>
  <dc:title>粒子数，粒子重量計測に関する国内ラウンドロビン試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7285124</vt:r8>
  </property>
  <property fmtid="{D5CDD505-2E9C-101B-9397-08002B2CF9AE}" pid="3" name="_AuthorEmail">
    <vt:lpwstr>Chris.Parkin@dft.gsi.gov.uk</vt:lpwstr>
  </property>
  <property fmtid="{D5CDD505-2E9C-101B-9397-08002B2CF9AE}" pid="4" name="_AuthorEmailDisplayName">
    <vt:lpwstr>Chris Parkin</vt:lpwstr>
  </property>
  <property fmtid="{D5CDD505-2E9C-101B-9397-08002B2CF9AE}" pid="5" name="_EmailSubject">
    <vt:lpwstr>PMP - Presentations From 30th March Meeting (sixth &amp; final installment)</vt:lpwstr>
  </property>
  <property fmtid="{D5CDD505-2E9C-101B-9397-08002B2CF9AE}" pid="6" name="_NewReviewCycle">
    <vt:lpwstr/>
  </property>
</Properties>
</file>