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9440" y="0"/>
            <a:ext cx="28972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0280" y="747360"/>
            <a:ext cx="500364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040" y="4726080"/>
            <a:ext cx="49546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9451800"/>
            <a:ext cx="29732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9440" y="9451800"/>
            <a:ext cx="28972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E5DD0F-BF4F-4B0E-8301-AB206639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5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Good Correlation, </a:t>
            </a:r>
            <a:br>
              <a:rPr sz="1200"/>
            </a:b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SPCS treated online data with running average</a:t>
            </a:r>
            <a:br>
              <a:rPr sz="1200"/>
            </a:b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The partial flow system indicated lower background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519610A0-EB02-4B2F-A0A5-2958A60746AA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5A2F3E99-800D-4091-9E43-19F146FEDB0C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9FBB3D71-B73A-430F-8108-BA9211BA0C44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C99B46E1-01FC-4611-8F99-6C369CE0682E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55EA768A-CCA0-4172-B3EB-044B21A1D4DF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7A0562B8-575E-4B90-95AC-403A7D93F9C8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Bakgrund + tillåten differens i vägning 5 mikrog ger ca 0,2 mg/kWh i osäker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ED73B61B-0944-4029-9F17-4D2ECD0D0BB6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Good Correlation, WHTC most important (Background levels of less impor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BCEB7EA6-4457-4F18-8F65-02395C80817C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7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F3C90516-F408-4C83-88B2-522144A0CFBE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894960" y="4713120"/>
            <a:ext cx="4984920" cy="5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ood Correlation, Good Repeatability, 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APC ~30% higher than SPCS, SPCS has not taken PCRF (Particle Concentration Reduction Factor) into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5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Good Correlation, </a:t>
            </a:r>
            <a:br>
              <a:rPr sz="1200"/>
            </a:b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SPCS treated online data with running average</a:t>
            </a:r>
            <a:br>
              <a:rPr sz="1200"/>
            </a:b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The partial flow system indicated lower background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2575F48D-9E1E-41DB-BBD7-D2281E0AD157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6448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580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6448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580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280" y="318960"/>
            <a:ext cx="66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6448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9580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352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6448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9580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280" y="318960"/>
            <a:ext cx="66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7964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81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1792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179280">
              <a:lnSpc>
                <a:spcPct val="110000"/>
              </a:lnSpc>
              <a:spcAft>
                <a:spcPts val="1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179280">
              <a:lnSpc>
                <a:spcPct val="110000"/>
              </a:lnSpc>
              <a:spcAft>
                <a:spcPts val="1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521400"/>
            <a:ext cx="4921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05560" y="6521400"/>
            <a:ext cx="2120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79DD-CF8E-43C1-80EF-9C6C685EBA2D}" type="slidenum">
              <a:rPr b="0" lang="en-US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8480" y="6521400"/>
            <a:ext cx="6131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4f4f4"/>
                </a:solidFill>
                <a:latin typeface="Verdana"/>
              </a:rPr>
              <a:t>Jan Gåsste, AVL MTC, 2008.08.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2705040" y="7086600"/>
            <a:ext cx="3733920" cy="380880"/>
            <a:chOff x="2705040" y="7086600"/>
            <a:chExt cx="3733920" cy="380880"/>
          </a:xfrm>
        </p:grpSpPr>
        <p:sp>
          <p:nvSpPr>
            <p:cNvPr id="7" name=""/>
            <p:cNvSpPr/>
            <p:nvPr/>
          </p:nvSpPr>
          <p:spPr>
            <a:xfrm>
              <a:off x="2705040" y="7086600"/>
              <a:ext cx="685800" cy="380880"/>
            </a:xfrm>
            <a:prstGeom prst="rect">
              <a:avLst/>
            </a:prstGeom>
            <a:solidFill>
              <a:srgbClr val="005a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67160" y="7086600"/>
              <a:ext cx="685800" cy="380880"/>
            </a:xfrm>
            <a:prstGeom prst="rect">
              <a:avLst/>
            </a:prstGeom>
            <a:solidFill>
              <a:srgbClr val="b0df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29280" y="7086600"/>
              <a:ext cx="685800" cy="3808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91040" y="7086600"/>
              <a:ext cx="685800" cy="3808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53160" y="7086600"/>
              <a:ext cx="685800" cy="3808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17160"/>
            <a:ext cx="518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21400"/>
            <a:ext cx="4921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41400"/>
            <a:ext cx="9144000" cy="501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2705040" y="7010280"/>
            <a:ext cx="3733920" cy="380880"/>
            <a:chOff x="2705040" y="7010280"/>
            <a:chExt cx="3733920" cy="380880"/>
          </a:xfrm>
        </p:grpSpPr>
        <p:sp>
          <p:nvSpPr>
            <p:cNvPr id="54" name=""/>
            <p:cNvSpPr/>
            <p:nvPr/>
          </p:nvSpPr>
          <p:spPr>
            <a:xfrm>
              <a:off x="2705040" y="7010280"/>
              <a:ext cx="685800" cy="380880"/>
            </a:xfrm>
            <a:prstGeom prst="rect">
              <a:avLst/>
            </a:prstGeom>
            <a:solidFill>
              <a:srgbClr val="005a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7010280"/>
              <a:ext cx="685800" cy="380880"/>
            </a:xfrm>
            <a:prstGeom prst="rect">
              <a:avLst/>
            </a:prstGeom>
            <a:solidFill>
              <a:srgbClr val="b0df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29280" y="7010280"/>
              <a:ext cx="685800" cy="3808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91040" y="7010280"/>
              <a:ext cx="685800" cy="3808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53160" y="7010280"/>
              <a:ext cx="685800" cy="3808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  <a:p>
            <a:pPr lvl="1" marL="663480" indent="-48420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7964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9856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892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8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8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828800"/>
            <a:ext cx="63370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Jan Gåsste, AVL M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ua Lu-Karlsson, Sc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London, 2009-03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PMP Heavy-Duty Inter‑Laboratory Exercise  </a:t>
            </a:r>
            <a:br>
              <a:rPr sz="2000"/>
            </a:b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Validation Exercise at AVL M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: On Line PN Emission Measurements in the ESC test with all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0" y="1222200"/>
            <a:ext cx="9144000" cy="563580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1187280" y="1700280"/>
            <a:ext cx="1103400" cy="4392720"/>
            <a:chOff x="1187280" y="1700280"/>
            <a:chExt cx="1103400" cy="4392720"/>
          </a:xfrm>
        </p:grpSpPr>
        <p:sp>
          <p:nvSpPr>
            <p:cNvPr id="780" name=""/>
            <p:cNvSpPr/>
            <p:nvPr/>
          </p:nvSpPr>
          <p:spPr>
            <a:xfrm>
              <a:off x="2290680" y="1700280"/>
              <a:ext cx="0" cy="439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71040" y="2327760"/>
              <a:ext cx="33912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d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87280" y="2530440"/>
              <a:ext cx="11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539640" y="1230120"/>
            <a:ext cx="741708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SC showed lower PN-emissions compared to ESC and the ETC showed lower emissions than both the warm and the cold WH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ull Flow System showed higher PM-emissions compared to the partial flow system and poor correlation between the two sampling systems at this low PM leve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ull Flow System showed higher PN-emissions compared to the partial flow system for all cycles except the cold WHTC and good correlation between the two sampling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correlation was shown between the Golden Instrument and our extra APC489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line data had a similar trace independent of the manufacturer of the PMP-system. This indicates that the PMP method is robu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Summary /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042560" y="1680120"/>
            <a:ext cx="7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9640" y="1267560"/>
            <a:ext cx="741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M emissions generally very low with the tested eng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42560" y="1680120"/>
            <a:ext cx="7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0" y="1187280"/>
            <a:ext cx="4768920" cy="47721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5048280" y="1681200"/>
            <a:ext cx="397512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Don’t hesitate to contac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 Gåsst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L MT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.O. Box 223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-136 23 Hanin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eden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on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46 8 500 656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46 8 500 656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x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46 8 500 283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.gasste@avlmt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e pag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avl.com/m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568" t="37285" r="0" b="9929"/>
          <a:stretch/>
        </p:blipFill>
        <p:spPr>
          <a:xfrm>
            <a:off x="0" y="9907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620360"/>
            <a:ext cx="4786560" cy="3248280"/>
          </a:xfrm>
          <a:prstGeom prst="rect">
            <a:avLst/>
          </a:prstGeom>
          <a:solidFill>
            <a:srgbClr val="000057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216000" rIns="216000" tIns="216000" bIns="216000" anchor="ctr">
            <a:normAutofit/>
          </a:bodyPr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4f4f4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4f4f4"/>
                </a:solidFill>
                <a:latin typeface="Arial"/>
              </a:rPr>
              <a:t>Test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4f4f4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4f4f4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Validation Exercise at AVL M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568" t="37285" r="0" b="9929"/>
          <a:stretch/>
        </p:blipFill>
        <p:spPr>
          <a:xfrm>
            <a:off x="0" y="9907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620360"/>
            <a:ext cx="4786560" cy="3248280"/>
          </a:xfrm>
          <a:prstGeom prst="rect">
            <a:avLst/>
          </a:prstGeom>
          <a:solidFill>
            <a:srgbClr val="000057">
              <a:alpha val="60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216000" rIns="216000" tIns="216000" bIns="216000" anchor="ctr">
            <a:normAutofit fontScale="96000"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4f4"/>
                </a:solidFill>
                <a:latin typeface="Arial"/>
              </a:rPr>
              <a:t>This study is a part of the PMP Validation Program and it is financed by the Swedish Road Administ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4f4"/>
                </a:solidFill>
                <a:latin typeface="Arial"/>
              </a:rPr>
              <a:t>The validation program stipulated the use of both full flow and partial flow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4f4"/>
                </a:solidFill>
                <a:latin typeface="Arial"/>
              </a:rPr>
              <a:t>Three different PMP-systems were used for PN measurements at our l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Test Se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022720" y="1256040"/>
            <a:ext cx="3830040" cy="5492160"/>
            <a:chOff x="5022720" y="1256040"/>
            <a:chExt cx="3830040" cy="5492160"/>
          </a:xfrm>
        </p:grpSpPr>
        <p:sp>
          <p:nvSpPr>
            <p:cNvPr id="114" name=""/>
            <p:cNvSpPr/>
            <p:nvPr/>
          </p:nvSpPr>
          <p:spPr>
            <a:xfrm>
              <a:off x="6022080" y="5725080"/>
              <a:ext cx="72720" cy="291600"/>
            </a:xfrm>
            <a:custGeom>
              <a:avLst/>
              <a:gdLst/>
              <a:ahLst/>
              <a:rect l="l" t="t" r="r" b="b"/>
              <a:pathLst>
                <a:path w="128" h="490">
                  <a:moveTo>
                    <a:pt x="75" y="10"/>
                  </a:moveTo>
                  <a:lnTo>
                    <a:pt x="75" y="419"/>
                  </a:lnTo>
                  <a:cubicBezTo>
                    <a:pt x="75" y="425"/>
                    <a:pt x="70" y="430"/>
                    <a:pt x="64" y="430"/>
                  </a:cubicBezTo>
                  <a:cubicBezTo>
                    <a:pt x="59" y="430"/>
                    <a:pt x="54" y="425"/>
                    <a:pt x="54" y="419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362"/>
                  </a:moveTo>
                  <a:lnTo>
                    <a:pt x="64" y="490"/>
                  </a:lnTo>
                  <a:lnTo>
                    <a:pt x="0" y="362"/>
                  </a:lnTo>
                  <a:lnTo>
                    <a:pt x="128" y="362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12240" y="1256040"/>
              <a:ext cx="2241000" cy="142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5400" y="3042360"/>
              <a:ext cx="0" cy="11412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43880" y="2594880"/>
              <a:ext cx="120780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PC 489 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AVL MTC’s 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Extra Instru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292520" y="1664280"/>
              <a:ext cx="0" cy="148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6816600" y="2238480"/>
              <a:ext cx="13892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m heated line 47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09480" y="6031800"/>
              <a:ext cx="407880" cy="9000"/>
            </a:xfrm>
            <a:custGeom>
              <a:avLst/>
              <a:gdLst/>
              <a:ahLst/>
              <a:rect l="l" t="t" r="r" b="b"/>
              <a:pathLst>
                <a:path w="721" h="16">
                  <a:moveTo>
                    <a:pt x="8" y="0"/>
                  </a:moveTo>
                  <a:lnTo>
                    <a:pt x="8" y="0"/>
                  </a:lnTo>
                  <a:cubicBezTo>
                    <a:pt x="13" y="0"/>
                    <a:pt x="16" y="4"/>
                    <a:pt x="16" y="8"/>
                  </a:cubicBezTo>
                  <a:cubicBezTo>
                    <a:pt x="16" y="13"/>
                    <a:pt x="13" y="16"/>
                    <a:pt x="8" y="16"/>
                  </a:cubicBez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40" y="0"/>
                  </a:moveTo>
                  <a:lnTo>
                    <a:pt x="41" y="0"/>
                  </a:lnTo>
                  <a:cubicBezTo>
                    <a:pt x="45" y="0"/>
                    <a:pt x="49" y="4"/>
                    <a:pt x="49" y="8"/>
                  </a:cubicBezTo>
                  <a:cubicBezTo>
                    <a:pt x="49" y="13"/>
                    <a:pt x="45" y="16"/>
                    <a:pt x="41" y="16"/>
                  </a:cubicBezTo>
                  <a:lnTo>
                    <a:pt x="40" y="16"/>
                  </a:lnTo>
                  <a:cubicBezTo>
                    <a:pt x="36" y="16"/>
                    <a:pt x="32" y="13"/>
                    <a:pt x="32" y="8"/>
                  </a:cubicBezTo>
                  <a:cubicBezTo>
                    <a:pt x="32" y="4"/>
                    <a:pt x="36" y="0"/>
                    <a:pt x="40" y="0"/>
                  </a:cubicBezTo>
                  <a:close/>
                  <a:moveTo>
                    <a:pt x="73" y="0"/>
                  </a:moveTo>
                  <a:lnTo>
                    <a:pt x="73" y="0"/>
                  </a:lnTo>
                  <a:cubicBezTo>
                    <a:pt x="77" y="0"/>
                    <a:pt x="81" y="4"/>
                    <a:pt x="81" y="8"/>
                  </a:cubicBezTo>
                  <a:cubicBezTo>
                    <a:pt x="81" y="13"/>
                    <a:pt x="77" y="16"/>
                    <a:pt x="73" y="16"/>
                  </a:cubicBezTo>
                  <a:lnTo>
                    <a:pt x="73" y="16"/>
                  </a:lnTo>
                  <a:cubicBezTo>
                    <a:pt x="68" y="16"/>
                    <a:pt x="65" y="13"/>
                    <a:pt x="65" y="8"/>
                  </a:cubicBezTo>
                  <a:cubicBezTo>
                    <a:pt x="65" y="4"/>
                    <a:pt x="68" y="0"/>
                    <a:pt x="73" y="0"/>
                  </a:cubicBezTo>
                  <a:close/>
                  <a:moveTo>
                    <a:pt x="105" y="0"/>
                  </a:moveTo>
                  <a:lnTo>
                    <a:pt x="105" y="0"/>
                  </a:lnTo>
                  <a:cubicBezTo>
                    <a:pt x="109" y="0"/>
                    <a:pt x="113" y="4"/>
                    <a:pt x="113" y="8"/>
                  </a:cubicBezTo>
                  <a:cubicBezTo>
                    <a:pt x="113" y="13"/>
                    <a:pt x="109" y="16"/>
                    <a:pt x="105" y="16"/>
                  </a:cubicBezTo>
                  <a:lnTo>
                    <a:pt x="105" y="16"/>
                  </a:lnTo>
                  <a:cubicBezTo>
                    <a:pt x="100" y="16"/>
                    <a:pt x="97" y="13"/>
                    <a:pt x="97" y="8"/>
                  </a:cubicBezTo>
                  <a:cubicBezTo>
                    <a:pt x="97" y="4"/>
                    <a:pt x="100" y="0"/>
                    <a:pt x="105" y="0"/>
                  </a:cubicBezTo>
                  <a:close/>
                  <a:moveTo>
                    <a:pt x="137" y="0"/>
                  </a:moveTo>
                  <a:lnTo>
                    <a:pt x="137" y="0"/>
                  </a:lnTo>
                  <a:cubicBezTo>
                    <a:pt x="141" y="0"/>
                    <a:pt x="145" y="4"/>
                    <a:pt x="145" y="8"/>
                  </a:cubicBezTo>
                  <a:cubicBezTo>
                    <a:pt x="145" y="13"/>
                    <a:pt x="141" y="16"/>
                    <a:pt x="137" y="16"/>
                  </a:cubicBezTo>
                  <a:lnTo>
                    <a:pt x="137" y="16"/>
                  </a:lnTo>
                  <a:cubicBezTo>
                    <a:pt x="132" y="16"/>
                    <a:pt x="129" y="13"/>
                    <a:pt x="129" y="8"/>
                  </a:cubicBezTo>
                  <a:cubicBezTo>
                    <a:pt x="129" y="4"/>
                    <a:pt x="132" y="0"/>
                    <a:pt x="137" y="0"/>
                  </a:cubicBezTo>
                  <a:close/>
                  <a:moveTo>
                    <a:pt x="169" y="0"/>
                  </a:moveTo>
                  <a:lnTo>
                    <a:pt x="169" y="0"/>
                  </a:lnTo>
                  <a:cubicBezTo>
                    <a:pt x="173" y="0"/>
                    <a:pt x="177" y="4"/>
                    <a:pt x="177" y="8"/>
                  </a:cubicBezTo>
                  <a:cubicBezTo>
                    <a:pt x="177" y="13"/>
                    <a:pt x="173" y="16"/>
                    <a:pt x="169" y="16"/>
                  </a:cubicBezTo>
                  <a:lnTo>
                    <a:pt x="169" y="16"/>
                  </a:lnTo>
                  <a:cubicBezTo>
                    <a:pt x="164" y="16"/>
                    <a:pt x="161" y="13"/>
                    <a:pt x="161" y="8"/>
                  </a:cubicBezTo>
                  <a:cubicBezTo>
                    <a:pt x="161" y="4"/>
                    <a:pt x="164" y="0"/>
                    <a:pt x="169" y="0"/>
                  </a:cubicBezTo>
                  <a:close/>
                  <a:moveTo>
                    <a:pt x="201" y="0"/>
                  </a:moveTo>
                  <a:lnTo>
                    <a:pt x="201" y="0"/>
                  </a:lnTo>
                  <a:cubicBezTo>
                    <a:pt x="205" y="0"/>
                    <a:pt x="209" y="4"/>
                    <a:pt x="209" y="8"/>
                  </a:cubicBezTo>
                  <a:cubicBezTo>
                    <a:pt x="209" y="13"/>
                    <a:pt x="205" y="16"/>
                    <a:pt x="201" y="16"/>
                  </a:cubicBezTo>
                  <a:lnTo>
                    <a:pt x="201" y="16"/>
                  </a:lnTo>
                  <a:cubicBezTo>
                    <a:pt x="196" y="16"/>
                    <a:pt x="193" y="13"/>
                    <a:pt x="193" y="8"/>
                  </a:cubicBezTo>
                  <a:cubicBezTo>
                    <a:pt x="193" y="4"/>
                    <a:pt x="196" y="0"/>
                    <a:pt x="201" y="0"/>
                  </a:cubicBezTo>
                  <a:close/>
                  <a:moveTo>
                    <a:pt x="233" y="0"/>
                  </a:moveTo>
                  <a:lnTo>
                    <a:pt x="233" y="0"/>
                  </a:lnTo>
                  <a:cubicBezTo>
                    <a:pt x="237" y="0"/>
                    <a:pt x="241" y="4"/>
                    <a:pt x="241" y="8"/>
                  </a:cubicBezTo>
                  <a:cubicBezTo>
                    <a:pt x="241" y="13"/>
                    <a:pt x="237" y="16"/>
                    <a:pt x="233" y="16"/>
                  </a:cubicBezTo>
                  <a:lnTo>
                    <a:pt x="233" y="16"/>
                  </a:lnTo>
                  <a:cubicBezTo>
                    <a:pt x="228" y="16"/>
                    <a:pt x="225" y="13"/>
                    <a:pt x="225" y="8"/>
                  </a:cubicBezTo>
                  <a:cubicBezTo>
                    <a:pt x="225" y="4"/>
                    <a:pt x="228" y="0"/>
                    <a:pt x="233" y="0"/>
                  </a:cubicBezTo>
                  <a:close/>
                  <a:moveTo>
                    <a:pt x="265" y="0"/>
                  </a:moveTo>
                  <a:lnTo>
                    <a:pt x="265" y="0"/>
                  </a:lnTo>
                  <a:cubicBezTo>
                    <a:pt x="269" y="0"/>
                    <a:pt x="273" y="4"/>
                    <a:pt x="273" y="8"/>
                  </a:cubicBezTo>
                  <a:cubicBezTo>
                    <a:pt x="273" y="13"/>
                    <a:pt x="269" y="16"/>
                    <a:pt x="265" y="16"/>
                  </a:cubicBezTo>
                  <a:lnTo>
                    <a:pt x="265" y="16"/>
                  </a:lnTo>
                  <a:cubicBezTo>
                    <a:pt x="260" y="16"/>
                    <a:pt x="257" y="13"/>
                    <a:pt x="257" y="8"/>
                  </a:cubicBezTo>
                  <a:cubicBezTo>
                    <a:pt x="257" y="4"/>
                    <a:pt x="260" y="0"/>
                    <a:pt x="265" y="0"/>
                  </a:cubicBezTo>
                  <a:close/>
                  <a:moveTo>
                    <a:pt x="297" y="0"/>
                  </a:moveTo>
                  <a:lnTo>
                    <a:pt x="297" y="0"/>
                  </a:lnTo>
                  <a:cubicBezTo>
                    <a:pt x="301" y="0"/>
                    <a:pt x="305" y="4"/>
                    <a:pt x="305" y="8"/>
                  </a:cubicBezTo>
                  <a:cubicBezTo>
                    <a:pt x="305" y="13"/>
                    <a:pt x="301" y="16"/>
                    <a:pt x="297" y="16"/>
                  </a:cubicBezTo>
                  <a:lnTo>
                    <a:pt x="297" y="16"/>
                  </a:lnTo>
                  <a:cubicBezTo>
                    <a:pt x="292" y="16"/>
                    <a:pt x="289" y="13"/>
                    <a:pt x="289" y="8"/>
                  </a:cubicBezTo>
                  <a:cubicBezTo>
                    <a:pt x="289" y="4"/>
                    <a:pt x="292" y="0"/>
                    <a:pt x="297" y="0"/>
                  </a:cubicBezTo>
                  <a:close/>
                  <a:moveTo>
                    <a:pt x="329" y="0"/>
                  </a:moveTo>
                  <a:lnTo>
                    <a:pt x="329" y="0"/>
                  </a:lnTo>
                  <a:cubicBezTo>
                    <a:pt x="333" y="0"/>
                    <a:pt x="337" y="4"/>
                    <a:pt x="337" y="8"/>
                  </a:cubicBezTo>
                  <a:cubicBezTo>
                    <a:pt x="337" y="13"/>
                    <a:pt x="333" y="16"/>
                    <a:pt x="329" y="16"/>
                  </a:cubicBezTo>
                  <a:lnTo>
                    <a:pt x="329" y="16"/>
                  </a:lnTo>
                  <a:cubicBezTo>
                    <a:pt x="324" y="16"/>
                    <a:pt x="321" y="13"/>
                    <a:pt x="321" y="8"/>
                  </a:cubicBezTo>
                  <a:cubicBezTo>
                    <a:pt x="321" y="4"/>
                    <a:pt x="324" y="0"/>
                    <a:pt x="329" y="0"/>
                  </a:cubicBezTo>
                  <a:close/>
                  <a:moveTo>
                    <a:pt x="361" y="0"/>
                  </a:moveTo>
                  <a:lnTo>
                    <a:pt x="361" y="0"/>
                  </a:lnTo>
                  <a:cubicBezTo>
                    <a:pt x="365" y="0"/>
                    <a:pt x="369" y="4"/>
                    <a:pt x="369" y="8"/>
                  </a:cubicBezTo>
                  <a:cubicBezTo>
                    <a:pt x="369" y="13"/>
                    <a:pt x="365" y="16"/>
                    <a:pt x="361" y="16"/>
                  </a:cubicBezTo>
                  <a:lnTo>
                    <a:pt x="361" y="16"/>
                  </a:lnTo>
                  <a:cubicBezTo>
                    <a:pt x="356" y="16"/>
                    <a:pt x="353" y="13"/>
                    <a:pt x="353" y="8"/>
                  </a:cubicBezTo>
                  <a:cubicBezTo>
                    <a:pt x="353" y="4"/>
                    <a:pt x="356" y="0"/>
                    <a:pt x="361" y="0"/>
                  </a:cubicBezTo>
                  <a:close/>
                  <a:moveTo>
                    <a:pt x="393" y="0"/>
                  </a:moveTo>
                  <a:lnTo>
                    <a:pt x="393" y="0"/>
                  </a:lnTo>
                  <a:cubicBezTo>
                    <a:pt x="397" y="0"/>
                    <a:pt x="401" y="4"/>
                    <a:pt x="401" y="8"/>
                  </a:cubicBezTo>
                  <a:cubicBezTo>
                    <a:pt x="401" y="13"/>
                    <a:pt x="397" y="16"/>
                    <a:pt x="393" y="16"/>
                  </a:cubicBezTo>
                  <a:lnTo>
                    <a:pt x="393" y="16"/>
                  </a:lnTo>
                  <a:cubicBezTo>
                    <a:pt x="388" y="16"/>
                    <a:pt x="385" y="13"/>
                    <a:pt x="385" y="8"/>
                  </a:cubicBezTo>
                  <a:cubicBezTo>
                    <a:pt x="385" y="4"/>
                    <a:pt x="388" y="0"/>
                    <a:pt x="393" y="0"/>
                  </a:cubicBezTo>
                  <a:close/>
                  <a:moveTo>
                    <a:pt x="425" y="0"/>
                  </a:moveTo>
                  <a:lnTo>
                    <a:pt x="425" y="0"/>
                  </a:lnTo>
                  <a:cubicBezTo>
                    <a:pt x="429" y="0"/>
                    <a:pt x="433" y="4"/>
                    <a:pt x="433" y="8"/>
                  </a:cubicBezTo>
                  <a:cubicBezTo>
                    <a:pt x="433" y="13"/>
                    <a:pt x="429" y="16"/>
                    <a:pt x="425" y="16"/>
                  </a:cubicBezTo>
                  <a:lnTo>
                    <a:pt x="425" y="16"/>
                  </a:lnTo>
                  <a:cubicBezTo>
                    <a:pt x="420" y="16"/>
                    <a:pt x="417" y="13"/>
                    <a:pt x="417" y="8"/>
                  </a:cubicBezTo>
                  <a:cubicBezTo>
                    <a:pt x="417" y="4"/>
                    <a:pt x="420" y="0"/>
                    <a:pt x="425" y="0"/>
                  </a:cubicBezTo>
                  <a:close/>
                  <a:moveTo>
                    <a:pt x="457" y="0"/>
                  </a:moveTo>
                  <a:lnTo>
                    <a:pt x="457" y="0"/>
                  </a:lnTo>
                  <a:cubicBezTo>
                    <a:pt x="461" y="0"/>
                    <a:pt x="465" y="4"/>
                    <a:pt x="465" y="8"/>
                  </a:cubicBezTo>
                  <a:cubicBezTo>
                    <a:pt x="465" y="13"/>
                    <a:pt x="461" y="16"/>
                    <a:pt x="457" y="16"/>
                  </a:cubicBezTo>
                  <a:lnTo>
                    <a:pt x="457" y="16"/>
                  </a:lnTo>
                  <a:cubicBezTo>
                    <a:pt x="452" y="16"/>
                    <a:pt x="449" y="13"/>
                    <a:pt x="449" y="8"/>
                  </a:cubicBezTo>
                  <a:cubicBezTo>
                    <a:pt x="449" y="4"/>
                    <a:pt x="452" y="0"/>
                    <a:pt x="457" y="0"/>
                  </a:cubicBezTo>
                  <a:close/>
                  <a:moveTo>
                    <a:pt x="489" y="0"/>
                  </a:moveTo>
                  <a:lnTo>
                    <a:pt x="489" y="0"/>
                  </a:lnTo>
                  <a:cubicBezTo>
                    <a:pt x="493" y="0"/>
                    <a:pt x="497" y="4"/>
                    <a:pt x="497" y="8"/>
                  </a:cubicBezTo>
                  <a:cubicBezTo>
                    <a:pt x="497" y="13"/>
                    <a:pt x="493" y="16"/>
                    <a:pt x="489" y="16"/>
                  </a:cubicBezTo>
                  <a:lnTo>
                    <a:pt x="489" y="16"/>
                  </a:lnTo>
                  <a:cubicBezTo>
                    <a:pt x="484" y="16"/>
                    <a:pt x="481" y="13"/>
                    <a:pt x="481" y="8"/>
                  </a:cubicBezTo>
                  <a:cubicBezTo>
                    <a:pt x="481" y="4"/>
                    <a:pt x="484" y="0"/>
                    <a:pt x="489" y="0"/>
                  </a:cubicBezTo>
                  <a:close/>
                  <a:moveTo>
                    <a:pt x="521" y="0"/>
                  </a:moveTo>
                  <a:lnTo>
                    <a:pt x="521" y="0"/>
                  </a:lnTo>
                  <a:cubicBezTo>
                    <a:pt x="525" y="0"/>
                    <a:pt x="529" y="4"/>
                    <a:pt x="529" y="8"/>
                  </a:cubicBezTo>
                  <a:cubicBezTo>
                    <a:pt x="529" y="13"/>
                    <a:pt x="525" y="16"/>
                    <a:pt x="521" y="16"/>
                  </a:cubicBezTo>
                  <a:lnTo>
                    <a:pt x="521" y="16"/>
                  </a:lnTo>
                  <a:cubicBezTo>
                    <a:pt x="516" y="16"/>
                    <a:pt x="513" y="13"/>
                    <a:pt x="513" y="8"/>
                  </a:cubicBezTo>
                  <a:cubicBezTo>
                    <a:pt x="513" y="4"/>
                    <a:pt x="516" y="0"/>
                    <a:pt x="521" y="0"/>
                  </a:cubicBezTo>
                  <a:close/>
                  <a:moveTo>
                    <a:pt x="553" y="0"/>
                  </a:moveTo>
                  <a:lnTo>
                    <a:pt x="553" y="0"/>
                  </a:lnTo>
                  <a:cubicBezTo>
                    <a:pt x="557" y="0"/>
                    <a:pt x="561" y="4"/>
                    <a:pt x="561" y="8"/>
                  </a:cubicBezTo>
                  <a:cubicBezTo>
                    <a:pt x="561" y="13"/>
                    <a:pt x="557" y="16"/>
                    <a:pt x="553" y="16"/>
                  </a:cubicBezTo>
                  <a:lnTo>
                    <a:pt x="553" y="16"/>
                  </a:lnTo>
                  <a:cubicBezTo>
                    <a:pt x="548" y="16"/>
                    <a:pt x="545" y="13"/>
                    <a:pt x="545" y="8"/>
                  </a:cubicBezTo>
                  <a:cubicBezTo>
                    <a:pt x="545" y="4"/>
                    <a:pt x="548" y="0"/>
                    <a:pt x="553" y="0"/>
                  </a:cubicBezTo>
                  <a:close/>
                  <a:moveTo>
                    <a:pt x="585" y="0"/>
                  </a:moveTo>
                  <a:lnTo>
                    <a:pt x="585" y="0"/>
                  </a:lnTo>
                  <a:cubicBezTo>
                    <a:pt x="589" y="0"/>
                    <a:pt x="593" y="4"/>
                    <a:pt x="593" y="8"/>
                  </a:cubicBezTo>
                  <a:cubicBezTo>
                    <a:pt x="593" y="13"/>
                    <a:pt x="589" y="16"/>
                    <a:pt x="585" y="16"/>
                  </a:cubicBezTo>
                  <a:lnTo>
                    <a:pt x="585" y="16"/>
                  </a:lnTo>
                  <a:cubicBezTo>
                    <a:pt x="580" y="16"/>
                    <a:pt x="577" y="13"/>
                    <a:pt x="577" y="8"/>
                  </a:cubicBezTo>
                  <a:cubicBezTo>
                    <a:pt x="577" y="4"/>
                    <a:pt x="580" y="0"/>
                    <a:pt x="585" y="0"/>
                  </a:cubicBezTo>
                  <a:close/>
                  <a:moveTo>
                    <a:pt x="617" y="0"/>
                  </a:moveTo>
                  <a:lnTo>
                    <a:pt x="617" y="0"/>
                  </a:lnTo>
                  <a:cubicBezTo>
                    <a:pt x="621" y="0"/>
                    <a:pt x="625" y="4"/>
                    <a:pt x="625" y="8"/>
                  </a:cubicBezTo>
                  <a:cubicBezTo>
                    <a:pt x="625" y="13"/>
                    <a:pt x="621" y="16"/>
                    <a:pt x="617" y="16"/>
                  </a:cubicBezTo>
                  <a:lnTo>
                    <a:pt x="617" y="16"/>
                  </a:lnTo>
                  <a:cubicBezTo>
                    <a:pt x="612" y="16"/>
                    <a:pt x="609" y="13"/>
                    <a:pt x="609" y="8"/>
                  </a:cubicBezTo>
                  <a:cubicBezTo>
                    <a:pt x="609" y="4"/>
                    <a:pt x="612" y="0"/>
                    <a:pt x="617" y="0"/>
                  </a:cubicBezTo>
                  <a:close/>
                  <a:moveTo>
                    <a:pt x="649" y="0"/>
                  </a:moveTo>
                  <a:lnTo>
                    <a:pt x="649" y="0"/>
                  </a:lnTo>
                  <a:cubicBezTo>
                    <a:pt x="653" y="0"/>
                    <a:pt x="657" y="4"/>
                    <a:pt x="657" y="8"/>
                  </a:cubicBezTo>
                  <a:cubicBezTo>
                    <a:pt x="657" y="13"/>
                    <a:pt x="653" y="16"/>
                    <a:pt x="649" y="16"/>
                  </a:cubicBezTo>
                  <a:lnTo>
                    <a:pt x="649" y="16"/>
                  </a:lnTo>
                  <a:cubicBezTo>
                    <a:pt x="644" y="16"/>
                    <a:pt x="641" y="13"/>
                    <a:pt x="641" y="8"/>
                  </a:cubicBezTo>
                  <a:cubicBezTo>
                    <a:pt x="641" y="4"/>
                    <a:pt x="644" y="0"/>
                    <a:pt x="649" y="0"/>
                  </a:cubicBezTo>
                  <a:close/>
                  <a:moveTo>
                    <a:pt x="681" y="0"/>
                  </a:moveTo>
                  <a:lnTo>
                    <a:pt x="681" y="0"/>
                  </a:lnTo>
                  <a:cubicBezTo>
                    <a:pt x="685" y="0"/>
                    <a:pt x="689" y="4"/>
                    <a:pt x="689" y="8"/>
                  </a:cubicBezTo>
                  <a:cubicBezTo>
                    <a:pt x="689" y="13"/>
                    <a:pt x="685" y="16"/>
                    <a:pt x="681" y="16"/>
                  </a:cubicBezTo>
                  <a:lnTo>
                    <a:pt x="681" y="16"/>
                  </a:lnTo>
                  <a:cubicBezTo>
                    <a:pt x="676" y="16"/>
                    <a:pt x="673" y="13"/>
                    <a:pt x="673" y="8"/>
                  </a:cubicBezTo>
                  <a:cubicBezTo>
                    <a:pt x="673" y="4"/>
                    <a:pt x="676" y="0"/>
                    <a:pt x="681" y="0"/>
                  </a:cubicBezTo>
                  <a:close/>
                  <a:moveTo>
                    <a:pt x="713" y="0"/>
                  </a:moveTo>
                  <a:lnTo>
                    <a:pt x="713" y="0"/>
                  </a:lnTo>
                  <a:cubicBezTo>
                    <a:pt x="717" y="0"/>
                    <a:pt x="721" y="4"/>
                    <a:pt x="721" y="8"/>
                  </a:cubicBezTo>
                  <a:cubicBezTo>
                    <a:pt x="721" y="13"/>
                    <a:pt x="717" y="16"/>
                    <a:pt x="713" y="16"/>
                  </a:cubicBezTo>
                  <a:lnTo>
                    <a:pt x="713" y="16"/>
                  </a:lnTo>
                  <a:cubicBezTo>
                    <a:pt x="708" y="16"/>
                    <a:pt x="705" y="13"/>
                    <a:pt x="705" y="8"/>
                  </a:cubicBezTo>
                  <a:cubicBezTo>
                    <a:pt x="705" y="4"/>
                    <a:pt x="708" y="0"/>
                    <a:pt x="713" y="0"/>
                  </a:cubicBez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7480" y="6230520"/>
              <a:ext cx="407880" cy="9360"/>
            </a:xfrm>
            <a:custGeom>
              <a:avLst/>
              <a:gdLst/>
              <a:ahLst/>
              <a:rect l="l" t="t" r="r" b="b"/>
              <a:pathLst>
                <a:path w="721" h="16">
                  <a:moveTo>
                    <a:pt x="8" y="0"/>
                  </a:moveTo>
                  <a:lnTo>
                    <a:pt x="8" y="0"/>
                  </a:lnTo>
                  <a:cubicBezTo>
                    <a:pt x="13" y="0"/>
                    <a:pt x="16" y="4"/>
                    <a:pt x="16" y="8"/>
                  </a:cubicBezTo>
                  <a:cubicBezTo>
                    <a:pt x="16" y="13"/>
                    <a:pt x="13" y="16"/>
                    <a:pt x="8" y="16"/>
                  </a:cubicBez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40" y="0"/>
                  </a:moveTo>
                  <a:lnTo>
                    <a:pt x="41" y="0"/>
                  </a:lnTo>
                  <a:cubicBezTo>
                    <a:pt x="45" y="0"/>
                    <a:pt x="49" y="4"/>
                    <a:pt x="49" y="8"/>
                  </a:cubicBezTo>
                  <a:cubicBezTo>
                    <a:pt x="49" y="13"/>
                    <a:pt x="45" y="16"/>
                    <a:pt x="41" y="16"/>
                  </a:cubicBezTo>
                  <a:lnTo>
                    <a:pt x="40" y="16"/>
                  </a:lnTo>
                  <a:cubicBezTo>
                    <a:pt x="36" y="16"/>
                    <a:pt x="32" y="13"/>
                    <a:pt x="32" y="8"/>
                  </a:cubicBezTo>
                  <a:cubicBezTo>
                    <a:pt x="32" y="4"/>
                    <a:pt x="36" y="0"/>
                    <a:pt x="40" y="0"/>
                  </a:cubicBezTo>
                  <a:close/>
                  <a:moveTo>
                    <a:pt x="73" y="0"/>
                  </a:moveTo>
                  <a:lnTo>
                    <a:pt x="73" y="0"/>
                  </a:lnTo>
                  <a:cubicBezTo>
                    <a:pt x="77" y="0"/>
                    <a:pt x="81" y="4"/>
                    <a:pt x="81" y="8"/>
                  </a:cubicBezTo>
                  <a:cubicBezTo>
                    <a:pt x="81" y="13"/>
                    <a:pt x="77" y="16"/>
                    <a:pt x="73" y="16"/>
                  </a:cubicBezTo>
                  <a:lnTo>
                    <a:pt x="73" y="16"/>
                  </a:lnTo>
                  <a:cubicBezTo>
                    <a:pt x="68" y="16"/>
                    <a:pt x="65" y="13"/>
                    <a:pt x="65" y="8"/>
                  </a:cubicBezTo>
                  <a:cubicBezTo>
                    <a:pt x="65" y="4"/>
                    <a:pt x="68" y="0"/>
                    <a:pt x="73" y="0"/>
                  </a:cubicBezTo>
                  <a:close/>
                  <a:moveTo>
                    <a:pt x="105" y="0"/>
                  </a:moveTo>
                  <a:lnTo>
                    <a:pt x="105" y="0"/>
                  </a:lnTo>
                  <a:cubicBezTo>
                    <a:pt x="109" y="0"/>
                    <a:pt x="113" y="4"/>
                    <a:pt x="113" y="8"/>
                  </a:cubicBezTo>
                  <a:cubicBezTo>
                    <a:pt x="113" y="13"/>
                    <a:pt x="109" y="16"/>
                    <a:pt x="105" y="16"/>
                  </a:cubicBezTo>
                  <a:lnTo>
                    <a:pt x="105" y="16"/>
                  </a:lnTo>
                  <a:cubicBezTo>
                    <a:pt x="100" y="16"/>
                    <a:pt x="97" y="13"/>
                    <a:pt x="97" y="8"/>
                  </a:cubicBezTo>
                  <a:cubicBezTo>
                    <a:pt x="97" y="4"/>
                    <a:pt x="100" y="0"/>
                    <a:pt x="105" y="0"/>
                  </a:cubicBezTo>
                  <a:close/>
                  <a:moveTo>
                    <a:pt x="137" y="0"/>
                  </a:moveTo>
                  <a:lnTo>
                    <a:pt x="137" y="0"/>
                  </a:lnTo>
                  <a:cubicBezTo>
                    <a:pt x="141" y="0"/>
                    <a:pt x="145" y="4"/>
                    <a:pt x="145" y="8"/>
                  </a:cubicBezTo>
                  <a:cubicBezTo>
                    <a:pt x="145" y="13"/>
                    <a:pt x="141" y="16"/>
                    <a:pt x="137" y="16"/>
                  </a:cubicBezTo>
                  <a:lnTo>
                    <a:pt x="137" y="16"/>
                  </a:lnTo>
                  <a:cubicBezTo>
                    <a:pt x="132" y="16"/>
                    <a:pt x="129" y="13"/>
                    <a:pt x="129" y="8"/>
                  </a:cubicBezTo>
                  <a:cubicBezTo>
                    <a:pt x="129" y="4"/>
                    <a:pt x="132" y="0"/>
                    <a:pt x="137" y="0"/>
                  </a:cubicBezTo>
                  <a:close/>
                  <a:moveTo>
                    <a:pt x="169" y="0"/>
                  </a:moveTo>
                  <a:lnTo>
                    <a:pt x="169" y="0"/>
                  </a:lnTo>
                  <a:cubicBezTo>
                    <a:pt x="173" y="0"/>
                    <a:pt x="177" y="4"/>
                    <a:pt x="177" y="8"/>
                  </a:cubicBezTo>
                  <a:cubicBezTo>
                    <a:pt x="177" y="13"/>
                    <a:pt x="173" y="16"/>
                    <a:pt x="169" y="16"/>
                  </a:cubicBezTo>
                  <a:lnTo>
                    <a:pt x="169" y="16"/>
                  </a:lnTo>
                  <a:cubicBezTo>
                    <a:pt x="164" y="16"/>
                    <a:pt x="161" y="13"/>
                    <a:pt x="161" y="8"/>
                  </a:cubicBezTo>
                  <a:cubicBezTo>
                    <a:pt x="161" y="4"/>
                    <a:pt x="164" y="0"/>
                    <a:pt x="169" y="0"/>
                  </a:cubicBezTo>
                  <a:close/>
                  <a:moveTo>
                    <a:pt x="201" y="0"/>
                  </a:moveTo>
                  <a:lnTo>
                    <a:pt x="201" y="0"/>
                  </a:lnTo>
                  <a:cubicBezTo>
                    <a:pt x="205" y="0"/>
                    <a:pt x="209" y="4"/>
                    <a:pt x="209" y="8"/>
                  </a:cubicBezTo>
                  <a:cubicBezTo>
                    <a:pt x="209" y="13"/>
                    <a:pt x="205" y="16"/>
                    <a:pt x="201" y="16"/>
                  </a:cubicBezTo>
                  <a:lnTo>
                    <a:pt x="201" y="16"/>
                  </a:lnTo>
                  <a:cubicBezTo>
                    <a:pt x="196" y="16"/>
                    <a:pt x="193" y="13"/>
                    <a:pt x="193" y="8"/>
                  </a:cubicBezTo>
                  <a:cubicBezTo>
                    <a:pt x="193" y="4"/>
                    <a:pt x="196" y="0"/>
                    <a:pt x="201" y="0"/>
                  </a:cubicBezTo>
                  <a:close/>
                  <a:moveTo>
                    <a:pt x="233" y="0"/>
                  </a:moveTo>
                  <a:lnTo>
                    <a:pt x="233" y="0"/>
                  </a:lnTo>
                  <a:cubicBezTo>
                    <a:pt x="237" y="0"/>
                    <a:pt x="241" y="4"/>
                    <a:pt x="241" y="8"/>
                  </a:cubicBezTo>
                  <a:cubicBezTo>
                    <a:pt x="241" y="13"/>
                    <a:pt x="237" y="16"/>
                    <a:pt x="233" y="16"/>
                  </a:cubicBezTo>
                  <a:lnTo>
                    <a:pt x="233" y="16"/>
                  </a:lnTo>
                  <a:cubicBezTo>
                    <a:pt x="228" y="16"/>
                    <a:pt x="225" y="13"/>
                    <a:pt x="225" y="8"/>
                  </a:cubicBezTo>
                  <a:cubicBezTo>
                    <a:pt x="225" y="4"/>
                    <a:pt x="228" y="0"/>
                    <a:pt x="233" y="0"/>
                  </a:cubicBezTo>
                  <a:close/>
                  <a:moveTo>
                    <a:pt x="265" y="0"/>
                  </a:moveTo>
                  <a:lnTo>
                    <a:pt x="265" y="0"/>
                  </a:lnTo>
                  <a:cubicBezTo>
                    <a:pt x="269" y="0"/>
                    <a:pt x="273" y="4"/>
                    <a:pt x="273" y="8"/>
                  </a:cubicBezTo>
                  <a:cubicBezTo>
                    <a:pt x="273" y="13"/>
                    <a:pt x="269" y="16"/>
                    <a:pt x="265" y="16"/>
                  </a:cubicBezTo>
                  <a:lnTo>
                    <a:pt x="265" y="16"/>
                  </a:lnTo>
                  <a:cubicBezTo>
                    <a:pt x="260" y="16"/>
                    <a:pt x="257" y="13"/>
                    <a:pt x="257" y="8"/>
                  </a:cubicBezTo>
                  <a:cubicBezTo>
                    <a:pt x="257" y="4"/>
                    <a:pt x="260" y="0"/>
                    <a:pt x="265" y="0"/>
                  </a:cubicBezTo>
                  <a:close/>
                  <a:moveTo>
                    <a:pt x="297" y="0"/>
                  </a:moveTo>
                  <a:lnTo>
                    <a:pt x="297" y="0"/>
                  </a:lnTo>
                  <a:cubicBezTo>
                    <a:pt x="301" y="0"/>
                    <a:pt x="305" y="4"/>
                    <a:pt x="305" y="8"/>
                  </a:cubicBezTo>
                  <a:cubicBezTo>
                    <a:pt x="305" y="13"/>
                    <a:pt x="301" y="16"/>
                    <a:pt x="297" y="16"/>
                  </a:cubicBezTo>
                  <a:lnTo>
                    <a:pt x="297" y="16"/>
                  </a:lnTo>
                  <a:cubicBezTo>
                    <a:pt x="292" y="16"/>
                    <a:pt x="289" y="13"/>
                    <a:pt x="289" y="8"/>
                  </a:cubicBezTo>
                  <a:cubicBezTo>
                    <a:pt x="289" y="4"/>
                    <a:pt x="292" y="0"/>
                    <a:pt x="297" y="0"/>
                  </a:cubicBezTo>
                  <a:close/>
                  <a:moveTo>
                    <a:pt x="329" y="0"/>
                  </a:moveTo>
                  <a:lnTo>
                    <a:pt x="329" y="0"/>
                  </a:lnTo>
                  <a:cubicBezTo>
                    <a:pt x="333" y="0"/>
                    <a:pt x="337" y="4"/>
                    <a:pt x="337" y="8"/>
                  </a:cubicBezTo>
                  <a:cubicBezTo>
                    <a:pt x="337" y="13"/>
                    <a:pt x="333" y="16"/>
                    <a:pt x="329" y="16"/>
                  </a:cubicBezTo>
                  <a:lnTo>
                    <a:pt x="329" y="16"/>
                  </a:lnTo>
                  <a:cubicBezTo>
                    <a:pt x="324" y="16"/>
                    <a:pt x="321" y="13"/>
                    <a:pt x="321" y="8"/>
                  </a:cubicBezTo>
                  <a:cubicBezTo>
                    <a:pt x="321" y="4"/>
                    <a:pt x="324" y="0"/>
                    <a:pt x="329" y="0"/>
                  </a:cubicBezTo>
                  <a:close/>
                  <a:moveTo>
                    <a:pt x="361" y="0"/>
                  </a:moveTo>
                  <a:lnTo>
                    <a:pt x="361" y="0"/>
                  </a:lnTo>
                  <a:cubicBezTo>
                    <a:pt x="365" y="0"/>
                    <a:pt x="369" y="4"/>
                    <a:pt x="369" y="8"/>
                  </a:cubicBezTo>
                  <a:cubicBezTo>
                    <a:pt x="369" y="13"/>
                    <a:pt x="365" y="16"/>
                    <a:pt x="361" y="16"/>
                  </a:cubicBezTo>
                  <a:lnTo>
                    <a:pt x="361" y="16"/>
                  </a:lnTo>
                  <a:cubicBezTo>
                    <a:pt x="356" y="16"/>
                    <a:pt x="353" y="13"/>
                    <a:pt x="353" y="8"/>
                  </a:cubicBezTo>
                  <a:cubicBezTo>
                    <a:pt x="353" y="4"/>
                    <a:pt x="356" y="0"/>
                    <a:pt x="361" y="0"/>
                  </a:cubicBezTo>
                  <a:close/>
                  <a:moveTo>
                    <a:pt x="393" y="0"/>
                  </a:moveTo>
                  <a:lnTo>
                    <a:pt x="393" y="0"/>
                  </a:lnTo>
                  <a:cubicBezTo>
                    <a:pt x="397" y="0"/>
                    <a:pt x="401" y="4"/>
                    <a:pt x="401" y="8"/>
                  </a:cubicBezTo>
                  <a:cubicBezTo>
                    <a:pt x="401" y="13"/>
                    <a:pt x="397" y="16"/>
                    <a:pt x="393" y="16"/>
                  </a:cubicBezTo>
                  <a:lnTo>
                    <a:pt x="393" y="16"/>
                  </a:lnTo>
                  <a:cubicBezTo>
                    <a:pt x="388" y="16"/>
                    <a:pt x="385" y="13"/>
                    <a:pt x="385" y="8"/>
                  </a:cubicBezTo>
                  <a:cubicBezTo>
                    <a:pt x="385" y="4"/>
                    <a:pt x="388" y="0"/>
                    <a:pt x="393" y="0"/>
                  </a:cubicBezTo>
                  <a:close/>
                  <a:moveTo>
                    <a:pt x="425" y="0"/>
                  </a:moveTo>
                  <a:lnTo>
                    <a:pt x="425" y="0"/>
                  </a:lnTo>
                  <a:cubicBezTo>
                    <a:pt x="429" y="0"/>
                    <a:pt x="433" y="4"/>
                    <a:pt x="433" y="8"/>
                  </a:cubicBezTo>
                  <a:cubicBezTo>
                    <a:pt x="433" y="13"/>
                    <a:pt x="429" y="16"/>
                    <a:pt x="425" y="16"/>
                  </a:cubicBezTo>
                  <a:lnTo>
                    <a:pt x="425" y="16"/>
                  </a:lnTo>
                  <a:cubicBezTo>
                    <a:pt x="420" y="16"/>
                    <a:pt x="417" y="13"/>
                    <a:pt x="417" y="8"/>
                  </a:cubicBezTo>
                  <a:cubicBezTo>
                    <a:pt x="417" y="4"/>
                    <a:pt x="420" y="0"/>
                    <a:pt x="425" y="0"/>
                  </a:cubicBezTo>
                  <a:close/>
                  <a:moveTo>
                    <a:pt x="457" y="0"/>
                  </a:moveTo>
                  <a:lnTo>
                    <a:pt x="457" y="0"/>
                  </a:lnTo>
                  <a:cubicBezTo>
                    <a:pt x="461" y="0"/>
                    <a:pt x="465" y="4"/>
                    <a:pt x="465" y="8"/>
                  </a:cubicBezTo>
                  <a:cubicBezTo>
                    <a:pt x="465" y="13"/>
                    <a:pt x="461" y="16"/>
                    <a:pt x="457" y="16"/>
                  </a:cubicBezTo>
                  <a:lnTo>
                    <a:pt x="457" y="16"/>
                  </a:lnTo>
                  <a:cubicBezTo>
                    <a:pt x="452" y="16"/>
                    <a:pt x="449" y="13"/>
                    <a:pt x="449" y="8"/>
                  </a:cubicBezTo>
                  <a:cubicBezTo>
                    <a:pt x="449" y="4"/>
                    <a:pt x="452" y="0"/>
                    <a:pt x="457" y="0"/>
                  </a:cubicBezTo>
                  <a:close/>
                  <a:moveTo>
                    <a:pt x="489" y="0"/>
                  </a:moveTo>
                  <a:lnTo>
                    <a:pt x="489" y="0"/>
                  </a:lnTo>
                  <a:cubicBezTo>
                    <a:pt x="493" y="0"/>
                    <a:pt x="497" y="4"/>
                    <a:pt x="497" y="8"/>
                  </a:cubicBezTo>
                  <a:cubicBezTo>
                    <a:pt x="497" y="13"/>
                    <a:pt x="493" y="16"/>
                    <a:pt x="489" y="16"/>
                  </a:cubicBezTo>
                  <a:lnTo>
                    <a:pt x="489" y="16"/>
                  </a:lnTo>
                  <a:cubicBezTo>
                    <a:pt x="484" y="16"/>
                    <a:pt x="481" y="13"/>
                    <a:pt x="481" y="8"/>
                  </a:cubicBezTo>
                  <a:cubicBezTo>
                    <a:pt x="481" y="4"/>
                    <a:pt x="484" y="0"/>
                    <a:pt x="489" y="0"/>
                  </a:cubicBezTo>
                  <a:close/>
                  <a:moveTo>
                    <a:pt x="521" y="0"/>
                  </a:moveTo>
                  <a:lnTo>
                    <a:pt x="521" y="0"/>
                  </a:lnTo>
                  <a:cubicBezTo>
                    <a:pt x="525" y="0"/>
                    <a:pt x="529" y="4"/>
                    <a:pt x="529" y="8"/>
                  </a:cubicBezTo>
                  <a:cubicBezTo>
                    <a:pt x="529" y="13"/>
                    <a:pt x="525" y="16"/>
                    <a:pt x="521" y="16"/>
                  </a:cubicBezTo>
                  <a:lnTo>
                    <a:pt x="521" y="16"/>
                  </a:lnTo>
                  <a:cubicBezTo>
                    <a:pt x="516" y="16"/>
                    <a:pt x="513" y="13"/>
                    <a:pt x="513" y="8"/>
                  </a:cubicBezTo>
                  <a:cubicBezTo>
                    <a:pt x="513" y="4"/>
                    <a:pt x="516" y="0"/>
                    <a:pt x="521" y="0"/>
                  </a:cubicBezTo>
                  <a:close/>
                  <a:moveTo>
                    <a:pt x="553" y="0"/>
                  </a:moveTo>
                  <a:lnTo>
                    <a:pt x="553" y="0"/>
                  </a:lnTo>
                  <a:cubicBezTo>
                    <a:pt x="557" y="0"/>
                    <a:pt x="561" y="4"/>
                    <a:pt x="561" y="8"/>
                  </a:cubicBezTo>
                  <a:cubicBezTo>
                    <a:pt x="561" y="13"/>
                    <a:pt x="557" y="16"/>
                    <a:pt x="553" y="16"/>
                  </a:cubicBezTo>
                  <a:lnTo>
                    <a:pt x="553" y="16"/>
                  </a:lnTo>
                  <a:cubicBezTo>
                    <a:pt x="548" y="16"/>
                    <a:pt x="545" y="13"/>
                    <a:pt x="545" y="8"/>
                  </a:cubicBezTo>
                  <a:cubicBezTo>
                    <a:pt x="545" y="4"/>
                    <a:pt x="548" y="0"/>
                    <a:pt x="553" y="0"/>
                  </a:cubicBezTo>
                  <a:close/>
                  <a:moveTo>
                    <a:pt x="585" y="0"/>
                  </a:moveTo>
                  <a:lnTo>
                    <a:pt x="585" y="0"/>
                  </a:lnTo>
                  <a:cubicBezTo>
                    <a:pt x="589" y="0"/>
                    <a:pt x="593" y="4"/>
                    <a:pt x="593" y="8"/>
                  </a:cubicBezTo>
                  <a:cubicBezTo>
                    <a:pt x="593" y="13"/>
                    <a:pt x="589" y="16"/>
                    <a:pt x="585" y="16"/>
                  </a:cubicBezTo>
                  <a:lnTo>
                    <a:pt x="585" y="16"/>
                  </a:lnTo>
                  <a:cubicBezTo>
                    <a:pt x="580" y="16"/>
                    <a:pt x="577" y="13"/>
                    <a:pt x="577" y="8"/>
                  </a:cubicBezTo>
                  <a:cubicBezTo>
                    <a:pt x="577" y="4"/>
                    <a:pt x="580" y="0"/>
                    <a:pt x="585" y="0"/>
                  </a:cubicBezTo>
                  <a:close/>
                  <a:moveTo>
                    <a:pt x="617" y="0"/>
                  </a:moveTo>
                  <a:lnTo>
                    <a:pt x="617" y="0"/>
                  </a:lnTo>
                  <a:cubicBezTo>
                    <a:pt x="621" y="0"/>
                    <a:pt x="625" y="4"/>
                    <a:pt x="625" y="8"/>
                  </a:cubicBezTo>
                  <a:cubicBezTo>
                    <a:pt x="625" y="13"/>
                    <a:pt x="621" y="16"/>
                    <a:pt x="617" y="16"/>
                  </a:cubicBezTo>
                  <a:lnTo>
                    <a:pt x="617" y="16"/>
                  </a:lnTo>
                  <a:cubicBezTo>
                    <a:pt x="612" y="16"/>
                    <a:pt x="609" y="13"/>
                    <a:pt x="609" y="8"/>
                  </a:cubicBezTo>
                  <a:cubicBezTo>
                    <a:pt x="609" y="4"/>
                    <a:pt x="612" y="0"/>
                    <a:pt x="617" y="0"/>
                  </a:cubicBezTo>
                  <a:close/>
                  <a:moveTo>
                    <a:pt x="649" y="0"/>
                  </a:moveTo>
                  <a:lnTo>
                    <a:pt x="649" y="0"/>
                  </a:lnTo>
                  <a:cubicBezTo>
                    <a:pt x="653" y="0"/>
                    <a:pt x="657" y="4"/>
                    <a:pt x="657" y="8"/>
                  </a:cubicBezTo>
                  <a:cubicBezTo>
                    <a:pt x="657" y="13"/>
                    <a:pt x="653" y="16"/>
                    <a:pt x="649" y="16"/>
                  </a:cubicBezTo>
                  <a:lnTo>
                    <a:pt x="649" y="16"/>
                  </a:lnTo>
                  <a:cubicBezTo>
                    <a:pt x="644" y="16"/>
                    <a:pt x="641" y="13"/>
                    <a:pt x="641" y="8"/>
                  </a:cubicBezTo>
                  <a:cubicBezTo>
                    <a:pt x="641" y="4"/>
                    <a:pt x="644" y="0"/>
                    <a:pt x="649" y="0"/>
                  </a:cubicBezTo>
                  <a:close/>
                  <a:moveTo>
                    <a:pt x="681" y="0"/>
                  </a:moveTo>
                  <a:lnTo>
                    <a:pt x="681" y="0"/>
                  </a:lnTo>
                  <a:cubicBezTo>
                    <a:pt x="685" y="0"/>
                    <a:pt x="689" y="4"/>
                    <a:pt x="689" y="8"/>
                  </a:cubicBezTo>
                  <a:cubicBezTo>
                    <a:pt x="689" y="13"/>
                    <a:pt x="685" y="16"/>
                    <a:pt x="681" y="16"/>
                  </a:cubicBezTo>
                  <a:lnTo>
                    <a:pt x="681" y="16"/>
                  </a:lnTo>
                  <a:cubicBezTo>
                    <a:pt x="676" y="16"/>
                    <a:pt x="673" y="13"/>
                    <a:pt x="673" y="8"/>
                  </a:cubicBezTo>
                  <a:cubicBezTo>
                    <a:pt x="673" y="4"/>
                    <a:pt x="676" y="0"/>
                    <a:pt x="681" y="0"/>
                  </a:cubicBezTo>
                  <a:close/>
                  <a:moveTo>
                    <a:pt x="713" y="0"/>
                  </a:moveTo>
                  <a:lnTo>
                    <a:pt x="713" y="0"/>
                  </a:lnTo>
                  <a:cubicBezTo>
                    <a:pt x="717" y="0"/>
                    <a:pt x="721" y="4"/>
                    <a:pt x="721" y="8"/>
                  </a:cubicBezTo>
                  <a:cubicBezTo>
                    <a:pt x="721" y="13"/>
                    <a:pt x="717" y="16"/>
                    <a:pt x="713" y="16"/>
                  </a:cubicBezTo>
                  <a:lnTo>
                    <a:pt x="713" y="16"/>
                  </a:lnTo>
                  <a:cubicBezTo>
                    <a:pt x="708" y="16"/>
                    <a:pt x="705" y="13"/>
                    <a:pt x="705" y="8"/>
                  </a:cubicBezTo>
                  <a:cubicBezTo>
                    <a:pt x="705" y="4"/>
                    <a:pt x="708" y="0"/>
                    <a:pt x="713" y="0"/>
                  </a:cubicBez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3080" y="6255000"/>
              <a:ext cx="72720" cy="261720"/>
            </a:xfrm>
            <a:custGeom>
              <a:avLst/>
              <a:gdLst/>
              <a:ahLst/>
              <a:rect l="l" t="t" r="r" b="b"/>
              <a:pathLst>
                <a:path w="128" h="443">
                  <a:moveTo>
                    <a:pt x="54" y="432"/>
                  </a:move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lnTo>
                    <a:pt x="75" y="432"/>
                  </a:lnTo>
                  <a:cubicBezTo>
                    <a:pt x="75" y="438"/>
                    <a:pt x="70" y="443"/>
                    <a:pt x="64" y="443"/>
                  </a:cubicBezTo>
                  <a:cubicBezTo>
                    <a:pt x="59" y="443"/>
                    <a:pt x="54" y="438"/>
                    <a:pt x="54" y="432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71720" y="5821920"/>
              <a:ext cx="5022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63 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29200" y="4296600"/>
              <a:ext cx="72720" cy="826560"/>
            </a:xfrm>
            <a:custGeom>
              <a:avLst/>
              <a:gdLst/>
              <a:ahLst/>
              <a:rect l="l" t="t" r="r" b="b"/>
              <a:pathLst>
                <a:path w="128" h="1392">
                  <a:moveTo>
                    <a:pt x="75" y="72"/>
                  </a:moveTo>
                  <a:lnTo>
                    <a:pt x="75" y="1321"/>
                  </a:lnTo>
                  <a:cubicBezTo>
                    <a:pt x="75" y="1327"/>
                    <a:pt x="70" y="1332"/>
                    <a:pt x="64" y="1332"/>
                  </a:cubicBezTo>
                  <a:cubicBezTo>
                    <a:pt x="59" y="1332"/>
                    <a:pt x="54" y="1327"/>
                    <a:pt x="54" y="1321"/>
                  </a:cubicBez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  <a:moveTo>
                    <a:pt x="128" y="1264"/>
                  </a:moveTo>
                  <a:lnTo>
                    <a:pt x="64" y="1392"/>
                  </a:lnTo>
                  <a:lnTo>
                    <a:pt x="0" y="1264"/>
                  </a:lnTo>
                  <a:lnTo>
                    <a:pt x="128" y="1264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24600" y="4549320"/>
              <a:ext cx="459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01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29200" y="5123160"/>
              <a:ext cx="72720" cy="580320"/>
            </a:xfrm>
            <a:custGeom>
              <a:avLst/>
              <a:gdLst/>
              <a:ahLst/>
              <a:rect l="l" t="t" r="r" b="b"/>
              <a:pathLst>
                <a:path w="128" h="976">
                  <a:moveTo>
                    <a:pt x="75" y="72"/>
                  </a:moveTo>
                  <a:lnTo>
                    <a:pt x="75" y="905"/>
                  </a:lnTo>
                  <a:cubicBezTo>
                    <a:pt x="75" y="911"/>
                    <a:pt x="70" y="916"/>
                    <a:pt x="64" y="916"/>
                  </a:cubicBezTo>
                  <a:cubicBezTo>
                    <a:pt x="59" y="916"/>
                    <a:pt x="54" y="911"/>
                    <a:pt x="54" y="905"/>
                  </a:cubicBez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  <a:moveTo>
                    <a:pt x="128" y="848"/>
                  </a:moveTo>
                  <a:lnTo>
                    <a:pt x="64" y="976"/>
                  </a:lnTo>
                  <a:lnTo>
                    <a:pt x="0" y="848"/>
                  </a:lnTo>
                  <a:lnTo>
                    <a:pt x="128" y="848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24600" y="5384880"/>
              <a:ext cx="459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791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48120" y="4078440"/>
              <a:ext cx="1324080" cy="75240"/>
            </a:xfrm>
            <a:custGeom>
              <a:avLst/>
              <a:gdLst/>
              <a:ahLst/>
              <a:rect l="l" t="t" r="r" b="b"/>
              <a:pathLst>
                <a:path w="2336" h="128">
                  <a:moveTo>
                    <a:pt x="72" y="54"/>
                  </a:moveTo>
                  <a:lnTo>
                    <a:pt x="2265" y="54"/>
                  </a:lnTo>
                  <a:cubicBezTo>
                    <a:pt x="2271" y="54"/>
                    <a:pt x="2276" y="59"/>
                    <a:pt x="2276" y="64"/>
                  </a:cubicBezTo>
                  <a:cubicBezTo>
                    <a:pt x="2276" y="70"/>
                    <a:pt x="2271" y="75"/>
                    <a:pt x="2265" y="75"/>
                  </a:cubicBezTo>
                  <a:lnTo>
                    <a:pt x="72" y="75"/>
                  </a:lnTo>
                  <a:cubicBezTo>
                    <a:pt x="66" y="75"/>
                    <a:pt x="61" y="70"/>
                    <a:pt x="61" y="64"/>
                  </a:cubicBezTo>
                  <a:cubicBezTo>
                    <a:pt x="61" y="59"/>
                    <a:pt x="66" y="54"/>
                    <a:pt x="72" y="54"/>
                  </a:cubicBezTo>
                  <a:close/>
                  <a:moveTo>
                    <a:pt x="128" y="128"/>
                  </a:moveTo>
                  <a:lnTo>
                    <a:pt x="0" y="64"/>
                  </a:lnTo>
                  <a:lnTo>
                    <a:pt x="128" y="0"/>
                  </a:lnTo>
                  <a:lnTo>
                    <a:pt x="128" y="128"/>
                  </a:lnTo>
                  <a:close/>
                  <a:moveTo>
                    <a:pt x="2208" y="0"/>
                  </a:moveTo>
                  <a:lnTo>
                    <a:pt x="2336" y="64"/>
                  </a:lnTo>
                  <a:lnTo>
                    <a:pt x="2208" y="128"/>
                  </a:lnTo>
                  <a:lnTo>
                    <a:pt x="2208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95680" y="3564720"/>
              <a:ext cx="3277800" cy="1099440"/>
              <a:chOff x="5395680" y="3564720"/>
              <a:chExt cx="3277800" cy="1099440"/>
            </a:xfrm>
          </p:grpSpPr>
          <p:sp>
            <p:nvSpPr>
              <p:cNvPr id="130" name=""/>
              <p:cNvSpPr/>
              <p:nvPr/>
            </p:nvSpPr>
            <p:spPr>
              <a:xfrm>
                <a:off x="6040080" y="4200840"/>
                <a:ext cx="90720" cy="198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40080" y="4221000"/>
                <a:ext cx="90720" cy="93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40080" y="4230360"/>
                <a:ext cx="90720" cy="900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40080" y="4239360"/>
                <a:ext cx="90720" cy="93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0080" y="4249080"/>
                <a:ext cx="90720" cy="93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40080" y="4258440"/>
                <a:ext cx="90720" cy="187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40080" y="4277160"/>
                <a:ext cx="90720" cy="93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40080" y="4286880"/>
                <a:ext cx="90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58920" y="3707280"/>
                <a:ext cx="1270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58920" y="3707280"/>
                <a:ext cx="127080" cy="93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58920" y="3716640"/>
                <a:ext cx="127080" cy="1872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58920" y="3735720"/>
                <a:ext cx="127080" cy="93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58920" y="3745080"/>
                <a:ext cx="127080" cy="9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58920" y="3754080"/>
                <a:ext cx="12708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58920" y="3773160"/>
                <a:ext cx="127080" cy="93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8920" y="3773160"/>
                <a:ext cx="127080" cy="187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8920" y="3791880"/>
                <a:ext cx="127080" cy="1044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8920" y="3802680"/>
                <a:ext cx="127080" cy="187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8920" y="3821400"/>
                <a:ext cx="127080" cy="93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58920" y="3821400"/>
                <a:ext cx="127080" cy="187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58920" y="3840480"/>
                <a:ext cx="127080" cy="93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58920" y="3840480"/>
                <a:ext cx="127080" cy="93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58920" y="3849840"/>
                <a:ext cx="127080" cy="1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8920" y="3868560"/>
                <a:ext cx="127080" cy="93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8920" y="3877920"/>
                <a:ext cx="127080" cy="93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58920" y="3887280"/>
                <a:ext cx="127080" cy="9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58920" y="3897000"/>
                <a:ext cx="127080" cy="93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58920" y="3906360"/>
                <a:ext cx="127080" cy="187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58920" y="3925080"/>
                <a:ext cx="127080" cy="90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58920" y="3934440"/>
                <a:ext cx="127080" cy="201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58920" y="3954600"/>
                <a:ext cx="127080" cy="90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58920" y="3954600"/>
                <a:ext cx="127080" cy="183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58920" y="3973320"/>
                <a:ext cx="127080" cy="93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58920" y="3982680"/>
                <a:ext cx="1270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58920" y="4001760"/>
                <a:ext cx="127080" cy="9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58920" y="4011120"/>
                <a:ext cx="127080" cy="93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58920" y="4020480"/>
                <a:ext cx="127080" cy="900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58920" y="4029840"/>
                <a:ext cx="127080" cy="93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58920" y="4039200"/>
                <a:ext cx="127080" cy="18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8920" y="4058280"/>
                <a:ext cx="127080" cy="936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58920" y="4067640"/>
                <a:ext cx="127080" cy="1980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58920" y="4087800"/>
                <a:ext cx="127080" cy="93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8920" y="4087800"/>
                <a:ext cx="127080" cy="18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58920" y="4106520"/>
                <a:ext cx="127080" cy="93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58920" y="4115880"/>
                <a:ext cx="127080" cy="93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58920" y="4125600"/>
                <a:ext cx="127080" cy="900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58920" y="4125600"/>
                <a:ext cx="127080" cy="18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58920" y="4143960"/>
                <a:ext cx="127080" cy="9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58920" y="4153680"/>
                <a:ext cx="127080" cy="936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58920" y="4163040"/>
                <a:ext cx="127080" cy="9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58920" y="4172400"/>
                <a:ext cx="127080" cy="1872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8920" y="4191480"/>
                <a:ext cx="127080" cy="93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8920" y="4200840"/>
                <a:ext cx="127080" cy="10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8920" y="4211280"/>
                <a:ext cx="127080" cy="93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58920" y="4221000"/>
                <a:ext cx="127080" cy="183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58920" y="4239360"/>
                <a:ext cx="127080" cy="93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58920" y="4249080"/>
                <a:ext cx="127080" cy="93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8920" y="4258440"/>
                <a:ext cx="127080" cy="936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58920" y="4267800"/>
                <a:ext cx="12708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8920" y="3716640"/>
                <a:ext cx="118080" cy="560520"/>
              </a:xfrm>
              <a:custGeom>
                <a:avLst/>
                <a:gdLst/>
                <a:ahLst/>
                <a:rect l="l" t="t" r="r" b="b"/>
                <a:pathLst>
                  <a:path w="92" h="417">
                    <a:moveTo>
                      <a:pt x="46" y="0"/>
                    </a:moveTo>
                    <a:cubicBezTo>
                      <a:pt x="21" y="0"/>
                      <a:pt x="0" y="94"/>
                      <a:pt x="0" y="208"/>
                    </a:cubicBezTo>
                    <a:cubicBezTo>
                      <a:pt x="0" y="324"/>
                      <a:pt x="21" y="417"/>
                      <a:pt x="46" y="417"/>
                    </a:cubicBezTo>
                    <a:cubicBezTo>
                      <a:pt x="72" y="417"/>
                      <a:pt x="92" y="324"/>
                      <a:pt x="92" y="208"/>
                    </a:cubicBezTo>
                    <a:cubicBezTo>
                      <a:pt x="92" y="94"/>
                      <a:pt x="72" y="0"/>
                      <a:pt x="46" y="0"/>
                    </a:cubicBez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31920" y="3707280"/>
                <a:ext cx="90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31920" y="3716640"/>
                <a:ext cx="90720" cy="93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31920" y="3726000"/>
                <a:ext cx="90720" cy="93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1920" y="3735720"/>
                <a:ext cx="90720" cy="183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1920" y="3754080"/>
                <a:ext cx="90720" cy="936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1920" y="3754080"/>
                <a:ext cx="90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1920" y="3773160"/>
                <a:ext cx="90720" cy="93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1920" y="3782520"/>
                <a:ext cx="90720" cy="198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1920" y="3802680"/>
                <a:ext cx="90720" cy="936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31920" y="3802680"/>
                <a:ext cx="90720" cy="187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31920" y="3821400"/>
                <a:ext cx="90720" cy="93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31920" y="3831120"/>
                <a:ext cx="90720" cy="936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31920" y="3840480"/>
                <a:ext cx="90720" cy="93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731920" y="3840480"/>
                <a:ext cx="90720" cy="183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731920" y="3859200"/>
                <a:ext cx="90720" cy="9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31920" y="3868560"/>
                <a:ext cx="90720" cy="93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31920" y="3877920"/>
                <a:ext cx="90720" cy="93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31920" y="3887280"/>
                <a:ext cx="90720" cy="18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1920" y="3906360"/>
                <a:ext cx="90720" cy="93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31920" y="3906360"/>
                <a:ext cx="90720" cy="187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31920" y="3925080"/>
                <a:ext cx="90720" cy="90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1920" y="3934440"/>
                <a:ext cx="90720" cy="201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31920" y="3954600"/>
                <a:ext cx="90720" cy="90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31920" y="3963960"/>
                <a:ext cx="90720" cy="93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31920" y="3973320"/>
                <a:ext cx="90720" cy="93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31920" y="3982680"/>
                <a:ext cx="9072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31920" y="4001760"/>
                <a:ext cx="90720" cy="9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31920" y="4011120"/>
                <a:ext cx="90720" cy="93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31920" y="4020480"/>
                <a:ext cx="90720" cy="900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31920" y="4029840"/>
                <a:ext cx="90720" cy="93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31920" y="4039200"/>
                <a:ext cx="90720" cy="18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31920" y="4058280"/>
                <a:ext cx="90720" cy="936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31920" y="4067640"/>
                <a:ext cx="90720" cy="1044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31920" y="4078080"/>
                <a:ext cx="90720" cy="93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31920" y="4087800"/>
                <a:ext cx="90720" cy="18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31920" y="4106520"/>
                <a:ext cx="90720" cy="93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31920" y="4115880"/>
                <a:ext cx="90720" cy="93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31920" y="4125600"/>
                <a:ext cx="90720" cy="900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31920" y="4125600"/>
                <a:ext cx="90720" cy="18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31920" y="4143960"/>
                <a:ext cx="90720" cy="9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31920" y="4153680"/>
                <a:ext cx="90720" cy="936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31920" y="4163040"/>
                <a:ext cx="90720" cy="9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731920" y="4172400"/>
                <a:ext cx="90720" cy="936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31920" y="4181760"/>
                <a:ext cx="90720" cy="93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31920" y="4191480"/>
                <a:ext cx="90720" cy="198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31920" y="4211280"/>
                <a:ext cx="90720" cy="93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31920" y="4221000"/>
                <a:ext cx="90720" cy="183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31920" y="4239360"/>
                <a:ext cx="90720" cy="93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31920" y="4239360"/>
                <a:ext cx="90720" cy="1872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31920" y="4258440"/>
                <a:ext cx="90720" cy="936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31920" y="4267800"/>
                <a:ext cx="90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96960" y="4119840"/>
                <a:ext cx="77652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ilution tunn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420960" y="3707280"/>
                <a:ext cx="21862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20960" y="3716640"/>
                <a:ext cx="2186280" cy="93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20960" y="3726000"/>
                <a:ext cx="2186280" cy="93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20960" y="3735720"/>
                <a:ext cx="2186280" cy="93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20960" y="3745080"/>
                <a:ext cx="2186280" cy="9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420960" y="3754080"/>
                <a:ext cx="218628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20960" y="3773160"/>
                <a:ext cx="2186280" cy="93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960" y="3782520"/>
                <a:ext cx="2186280" cy="198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20960" y="3802680"/>
                <a:ext cx="2186280" cy="936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20960" y="3802680"/>
                <a:ext cx="2186280" cy="187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0960" y="3821400"/>
                <a:ext cx="2186280" cy="93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20960" y="3831120"/>
                <a:ext cx="2186280" cy="936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20960" y="3840480"/>
                <a:ext cx="2186280" cy="93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20960" y="3840480"/>
                <a:ext cx="2186280" cy="183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20960" y="3859200"/>
                <a:ext cx="2186280" cy="9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960" y="3868560"/>
                <a:ext cx="2186280" cy="93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20960" y="3877920"/>
                <a:ext cx="2186280" cy="93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420960" y="3887280"/>
                <a:ext cx="2186280" cy="18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20960" y="3906360"/>
                <a:ext cx="2186280" cy="93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420960" y="3915720"/>
                <a:ext cx="2186280" cy="93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20960" y="3925080"/>
                <a:ext cx="2186280" cy="90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20960" y="3934440"/>
                <a:ext cx="2186280" cy="201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420960" y="3954600"/>
                <a:ext cx="2186280" cy="90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960" y="3963960"/>
                <a:ext cx="2186280" cy="93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20960" y="3973320"/>
                <a:ext cx="2186280" cy="93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20960" y="3982680"/>
                <a:ext cx="21862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420960" y="4001760"/>
                <a:ext cx="2186280" cy="9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20960" y="4011120"/>
                <a:ext cx="2186280" cy="93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20960" y="4020480"/>
                <a:ext cx="2186280" cy="18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20960" y="4039200"/>
                <a:ext cx="2186280" cy="93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20960" y="4039200"/>
                <a:ext cx="2186280" cy="18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20960" y="4058280"/>
                <a:ext cx="2186280" cy="936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420960" y="4067640"/>
                <a:ext cx="2186280" cy="1980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20960" y="4087800"/>
                <a:ext cx="2186280" cy="93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20960" y="4097160"/>
                <a:ext cx="2186280" cy="9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20960" y="4106520"/>
                <a:ext cx="2186280" cy="93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0960" y="4115880"/>
                <a:ext cx="2186280" cy="93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20960" y="4125600"/>
                <a:ext cx="2186280" cy="900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20960" y="4134600"/>
                <a:ext cx="2186280" cy="9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20960" y="4143960"/>
                <a:ext cx="2186280" cy="9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20960" y="4153680"/>
                <a:ext cx="2186280" cy="187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960" y="4172400"/>
                <a:ext cx="2186280" cy="9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20960" y="4172400"/>
                <a:ext cx="2186280" cy="1872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20960" y="4191480"/>
                <a:ext cx="2186280" cy="93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20960" y="4200840"/>
                <a:ext cx="2186280" cy="198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20960" y="4221000"/>
                <a:ext cx="2186280" cy="93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20960" y="4230360"/>
                <a:ext cx="2186280" cy="900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20960" y="4239360"/>
                <a:ext cx="2186280" cy="93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20960" y="4249080"/>
                <a:ext cx="2186280" cy="93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20960" y="4258440"/>
                <a:ext cx="2186280" cy="187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20960" y="4277160"/>
                <a:ext cx="2186280" cy="93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29960" y="3716640"/>
                <a:ext cx="2168280" cy="569880"/>
              </a:xfrm>
              <a:prstGeom prst="rect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5395680" y="3564720"/>
                <a:ext cx="23580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5395680" y="4314240"/>
                <a:ext cx="235800" cy="12348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5586480" y="3564720"/>
                <a:ext cx="23580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396040" y="3565080"/>
                <a:ext cx="190800" cy="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5704920" y="3564720"/>
                <a:ext cx="22572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05280" y="3565080"/>
                <a:ext cx="0" cy="5616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5822640" y="4382280"/>
                <a:ext cx="107640" cy="5616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894640" y="3564720"/>
                <a:ext cx="22716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5280" y="3565080"/>
                <a:ext cx="189360" cy="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60680" y="4519440"/>
                <a:ext cx="34380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HE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6012720" y="3564720"/>
                <a:ext cx="22716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13080" y="3565080"/>
                <a:ext cx="0" cy="5616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122160" y="4382280"/>
                <a:ext cx="118080" cy="5616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6203880" y="3564720"/>
                <a:ext cx="22572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13080" y="3565080"/>
                <a:ext cx="190800" cy="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5396040" y="3565080"/>
                <a:ext cx="0" cy="7495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60120" y="3707280"/>
                <a:ext cx="126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60120" y="3707280"/>
                <a:ext cx="126720" cy="93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60120" y="3716640"/>
                <a:ext cx="126720" cy="1872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60120" y="3735720"/>
                <a:ext cx="126720" cy="93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60120" y="3745080"/>
                <a:ext cx="126720" cy="9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60120" y="3754080"/>
                <a:ext cx="126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60120" y="3773160"/>
                <a:ext cx="126720" cy="93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60120" y="3773160"/>
                <a:ext cx="126720" cy="187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60120" y="3791880"/>
                <a:ext cx="126720" cy="1044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60120" y="3802680"/>
                <a:ext cx="126720" cy="187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60120" y="3821400"/>
                <a:ext cx="126720" cy="93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60120" y="3821400"/>
                <a:ext cx="126720" cy="187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60120" y="3840480"/>
                <a:ext cx="126720" cy="93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60120" y="3840480"/>
                <a:ext cx="126720" cy="93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60120" y="3849840"/>
                <a:ext cx="126720" cy="1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60120" y="3868560"/>
                <a:ext cx="126720" cy="93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60120" y="3877920"/>
                <a:ext cx="126720" cy="93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60120" y="3887280"/>
                <a:ext cx="126720" cy="9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60120" y="3897000"/>
                <a:ext cx="126720" cy="93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60120" y="3906360"/>
                <a:ext cx="126720" cy="187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460120" y="3925440"/>
              <a:ext cx="126720" cy="9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60120" y="3934800"/>
              <a:ext cx="126720" cy="201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60120" y="3954960"/>
              <a:ext cx="126720" cy="90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0120" y="3954960"/>
              <a:ext cx="126720" cy="18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0120" y="3973680"/>
              <a:ext cx="12672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60120" y="3983040"/>
              <a:ext cx="126720" cy="18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60120" y="4002120"/>
              <a:ext cx="12672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60120" y="4011480"/>
              <a:ext cx="12672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60120" y="4020840"/>
              <a:ext cx="126720" cy="90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60120" y="4030200"/>
              <a:ext cx="12672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60120" y="4039560"/>
              <a:ext cx="126720" cy="18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60120" y="4058280"/>
              <a:ext cx="12672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60120" y="4068000"/>
              <a:ext cx="126720" cy="198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60120" y="4088160"/>
              <a:ext cx="126720" cy="9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60120" y="4088160"/>
              <a:ext cx="126720" cy="18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60120" y="4106880"/>
              <a:ext cx="12672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60120" y="4116240"/>
              <a:ext cx="12672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60120" y="4125960"/>
              <a:ext cx="126720" cy="900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60120" y="4125960"/>
              <a:ext cx="126720" cy="1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60120" y="4144320"/>
              <a:ext cx="12672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60120" y="4153680"/>
              <a:ext cx="12672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60120" y="4163400"/>
              <a:ext cx="12672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4172760"/>
              <a:ext cx="126720" cy="1872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60120" y="4191480"/>
              <a:ext cx="12672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60120" y="4201200"/>
              <a:ext cx="126720" cy="104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60120" y="4211640"/>
              <a:ext cx="12672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60120" y="4221360"/>
              <a:ext cx="126720" cy="18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60120" y="4239720"/>
              <a:ext cx="12672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60120" y="4249080"/>
              <a:ext cx="12672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60120" y="4258800"/>
              <a:ext cx="12672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60120" y="4268160"/>
              <a:ext cx="126720" cy="18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69120" y="3717000"/>
              <a:ext cx="109080" cy="560520"/>
            </a:xfrm>
            <a:custGeom>
              <a:avLst/>
              <a:gdLst/>
              <a:ahLst/>
              <a:rect l="l" t="t" r="r" b="b"/>
              <a:pathLst>
                <a:path w="85" h="417">
                  <a:moveTo>
                    <a:pt x="42" y="0"/>
                  </a:moveTo>
                  <a:cubicBezTo>
                    <a:pt x="19" y="0"/>
                    <a:pt x="0" y="94"/>
                    <a:pt x="0" y="208"/>
                  </a:cubicBezTo>
                  <a:cubicBezTo>
                    <a:pt x="0" y="324"/>
                    <a:pt x="19" y="417"/>
                    <a:pt x="42" y="417"/>
                  </a:cubicBezTo>
                  <a:cubicBezTo>
                    <a:pt x="66" y="417"/>
                    <a:pt x="85" y="324"/>
                    <a:pt x="85" y="208"/>
                  </a:cubicBezTo>
                  <a:cubicBezTo>
                    <a:pt x="85" y="94"/>
                    <a:pt x="66" y="0"/>
                    <a:pt x="42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31840" y="3679560"/>
              <a:ext cx="19080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31840" y="3679560"/>
              <a:ext cx="190800" cy="7592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31000" y="3679560"/>
              <a:ext cx="19080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31000" y="3679560"/>
              <a:ext cx="190800" cy="7592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0240" y="3679560"/>
              <a:ext cx="18936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0240" y="3679560"/>
              <a:ext cx="189360" cy="7592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814360" y="3992760"/>
              <a:ext cx="44640" cy="9360"/>
              <a:chOff x="5814360" y="3992760"/>
              <a:chExt cx="44640" cy="9360"/>
            </a:xfrm>
          </p:grpSpPr>
          <p:sp>
            <p:nvSpPr>
              <p:cNvPr id="369" name=""/>
              <p:cNvSpPr/>
              <p:nvPr/>
            </p:nvSpPr>
            <p:spPr>
              <a:xfrm>
                <a:off x="5814360" y="399276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80" h="16">
                    <a:moveTo>
                      <a:pt x="6" y="0"/>
                    </a:moveTo>
                    <a:lnTo>
                      <a:pt x="75" y="0"/>
                    </a:lnTo>
                    <a:cubicBezTo>
                      <a:pt x="78" y="0"/>
                      <a:pt x="80" y="3"/>
                      <a:pt x="80" y="8"/>
                    </a:cubicBezTo>
                    <a:cubicBezTo>
                      <a:pt x="80" y="12"/>
                      <a:pt x="78" y="16"/>
                      <a:pt x="75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14360" y="399276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80" h="16">
                    <a:moveTo>
                      <a:pt x="6" y="0"/>
                    </a:moveTo>
                    <a:lnTo>
                      <a:pt x="75" y="0"/>
                    </a:lnTo>
                    <a:cubicBezTo>
                      <a:pt x="78" y="0"/>
                      <a:pt x="80" y="3"/>
                      <a:pt x="80" y="8"/>
                    </a:cubicBezTo>
                    <a:cubicBezTo>
                      <a:pt x="80" y="12"/>
                      <a:pt x="78" y="16"/>
                      <a:pt x="75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140160" y="3992760"/>
              <a:ext cx="35640" cy="9360"/>
              <a:chOff x="6140160" y="3992760"/>
              <a:chExt cx="35640" cy="9360"/>
            </a:xfrm>
          </p:grpSpPr>
          <p:sp>
            <p:nvSpPr>
              <p:cNvPr id="372" name=""/>
              <p:cNvSpPr/>
              <p:nvPr/>
            </p:nvSpPr>
            <p:spPr>
              <a:xfrm>
                <a:off x="6140160" y="3992760"/>
                <a:ext cx="35640" cy="9360"/>
              </a:xfrm>
              <a:custGeom>
                <a:avLst/>
                <a:gdLst/>
                <a:ahLst/>
                <a:rect l="l" t="t" r="r" b="b"/>
                <a:pathLst>
                  <a:path w="64" h="16">
                    <a:moveTo>
                      <a:pt x="6" y="0"/>
                    </a:moveTo>
                    <a:lnTo>
                      <a:pt x="59" y="0"/>
                    </a:lnTo>
                    <a:cubicBezTo>
                      <a:pt x="62" y="0"/>
                      <a:pt x="64" y="3"/>
                      <a:pt x="64" y="8"/>
                    </a:cubicBezTo>
                    <a:cubicBezTo>
                      <a:pt x="64" y="12"/>
                      <a:pt x="62" y="16"/>
                      <a:pt x="59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140160" y="3992760"/>
                <a:ext cx="35640" cy="9360"/>
              </a:xfrm>
              <a:custGeom>
                <a:avLst/>
                <a:gdLst/>
                <a:ahLst/>
                <a:rect l="l" t="t" r="r" b="b"/>
                <a:pathLst>
                  <a:path w="64" h="16">
                    <a:moveTo>
                      <a:pt x="6" y="0"/>
                    </a:moveTo>
                    <a:lnTo>
                      <a:pt x="59" y="0"/>
                    </a:lnTo>
                    <a:cubicBezTo>
                      <a:pt x="62" y="0"/>
                      <a:pt x="64" y="3"/>
                      <a:pt x="64" y="8"/>
                    </a:cubicBezTo>
                    <a:cubicBezTo>
                      <a:pt x="64" y="12"/>
                      <a:pt x="62" y="16"/>
                      <a:pt x="59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6429960" y="3992760"/>
              <a:ext cx="118080" cy="9360"/>
              <a:chOff x="6429960" y="3992760"/>
              <a:chExt cx="118080" cy="9360"/>
            </a:xfrm>
          </p:grpSpPr>
          <p:sp>
            <p:nvSpPr>
              <p:cNvPr id="375" name=""/>
              <p:cNvSpPr/>
              <p:nvPr/>
            </p:nvSpPr>
            <p:spPr>
              <a:xfrm>
                <a:off x="6429960" y="3992760"/>
                <a:ext cx="118080" cy="9360"/>
              </a:xfrm>
              <a:custGeom>
                <a:avLst/>
                <a:gdLst/>
                <a:ahLst/>
                <a:rect l="l" t="t" r="r" b="b"/>
                <a:pathLst>
                  <a:path w="208" h="16">
                    <a:moveTo>
                      <a:pt x="6" y="0"/>
                    </a:moveTo>
                    <a:lnTo>
                      <a:pt x="83" y="0"/>
                    </a:lnTo>
                    <a:cubicBezTo>
                      <a:pt x="85" y="0"/>
                      <a:pt x="88" y="3"/>
                      <a:pt x="88" y="8"/>
                    </a:cubicBezTo>
                    <a:cubicBezTo>
                      <a:pt x="88" y="12"/>
                      <a:pt x="85" y="16"/>
                      <a:pt x="83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  <a:moveTo>
                      <a:pt x="137" y="0"/>
                    </a:moveTo>
                    <a:lnTo>
                      <a:pt x="137" y="0"/>
                    </a:lnTo>
                    <a:cubicBezTo>
                      <a:pt x="140" y="0"/>
                      <a:pt x="143" y="3"/>
                      <a:pt x="143" y="8"/>
                    </a:cubicBezTo>
                    <a:cubicBezTo>
                      <a:pt x="143" y="12"/>
                      <a:pt x="140" y="16"/>
                      <a:pt x="137" y="16"/>
                    </a:cubicBezTo>
                    <a:cubicBezTo>
                      <a:pt x="134" y="16"/>
                      <a:pt x="132" y="12"/>
                      <a:pt x="132" y="8"/>
                    </a:cubicBezTo>
                    <a:cubicBezTo>
                      <a:pt x="132" y="3"/>
                      <a:pt x="134" y="0"/>
                      <a:pt x="137" y="0"/>
                    </a:cubicBezTo>
                    <a:close/>
                    <a:moveTo>
                      <a:pt x="192" y="0"/>
                    </a:moveTo>
                    <a:lnTo>
                      <a:pt x="203" y="0"/>
                    </a:lnTo>
                    <a:cubicBezTo>
                      <a:pt x="206" y="0"/>
                      <a:pt x="208" y="3"/>
                      <a:pt x="208" y="8"/>
                    </a:cubicBezTo>
                    <a:cubicBezTo>
                      <a:pt x="208" y="12"/>
                      <a:pt x="206" y="16"/>
                      <a:pt x="203" y="16"/>
                    </a:cubicBezTo>
                    <a:lnTo>
                      <a:pt x="192" y="16"/>
                    </a:lnTo>
                    <a:cubicBezTo>
                      <a:pt x="189" y="16"/>
                      <a:pt x="187" y="12"/>
                      <a:pt x="187" y="8"/>
                    </a:cubicBezTo>
                    <a:cubicBezTo>
                      <a:pt x="187" y="3"/>
                      <a:pt x="189" y="0"/>
                      <a:pt x="19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29960" y="3992760"/>
                <a:ext cx="118080" cy="9360"/>
              </a:xfrm>
              <a:custGeom>
                <a:avLst/>
                <a:gdLst/>
                <a:ahLst/>
                <a:rect l="l" t="t" r="r" b="b"/>
                <a:pathLst>
                  <a:path w="208" h="16">
                    <a:moveTo>
                      <a:pt x="6" y="0"/>
                    </a:moveTo>
                    <a:lnTo>
                      <a:pt x="83" y="0"/>
                    </a:lnTo>
                    <a:cubicBezTo>
                      <a:pt x="85" y="0"/>
                      <a:pt x="88" y="3"/>
                      <a:pt x="88" y="8"/>
                    </a:cubicBezTo>
                    <a:cubicBezTo>
                      <a:pt x="88" y="12"/>
                      <a:pt x="85" y="16"/>
                      <a:pt x="83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  <a:moveTo>
                      <a:pt x="137" y="0"/>
                    </a:moveTo>
                    <a:lnTo>
                      <a:pt x="137" y="0"/>
                    </a:lnTo>
                    <a:cubicBezTo>
                      <a:pt x="140" y="0"/>
                      <a:pt x="143" y="3"/>
                      <a:pt x="143" y="8"/>
                    </a:cubicBezTo>
                    <a:cubicBezTo>
                      <a:pt x="143" y="12"/>
                      <a:pt x="140" y="16"/>
                      <a:pt x="137" y="16"/>
                    </a:cubicBezTo>
                    <a:cubicBezTo>
                      <a:pt x="134" y="16"/>
                      <a:pt x="132" y="12"/>
                      <a:pt x="132" y="8"/>
                    </a:cubicBezTo>
                    <a:cubicBezTo>
                      <a:pt x="132" y="3"/>
                      <a:pt x="134" y="0"/>
                      <a:pt x="137" y="0"/>
                    </a:cubicBezTo>
                    <a:close/>
                    <a:moveTo>
                      <a:pt x="192" y="0"/>
                    </a:moveTo>
                    <a:lnTo>
                      <a:pt x="203" y="0"/>
                    </a:lnTo>
                    <a:cubicBezTo>
                      <a:pt x="206" y="0"/>
                      <a:pt x="208" y="3"/>
                      <a:pt x="208" y="8"/>
                    </a:cubicBezTo>
                    <a:cubicBezTo>
                      <a:pt x="208" y="12"/>
                      <a:pt x="206" y="16"/>
                      <a:pt x="203" y="16"/>
                    </a:cubicBezTo>
                    <a:lnTo>
                      <a:pt x="192" y="16"/>
                    </a:lnTo>
                    <a:cubicBezTo>
                      <a:pt x="189" y="16"/>
                      <a:pt x="187" y="12"/>
                      <a:pt x="187" y="8"/>
                    </a:cubicBezTo>
                    <a:cubicBezTo>
                      <a:pt x="187" y="3"/>
                      <a:pt x="189" y="0"/>
                      <a:pt x="192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419440" y="4520880"/>
              <a:ext cx="3222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E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75400" y="4230720"/>
              <a:ext cx="10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5480" y="4230720"/>
              <a:ext cx="9000" cy="9360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85480" y="4230720"/>
              <a:ext cx="9000" cy="93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94480" y="4230720"/>
              <a:ext cx="9000" cy="9360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03480" y="4230720"/>
              <a:ext cx="8640" cy="9360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03480" y="4230720"/>
              <a:ext cx="8640" cy="9360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12120" y="4230720"/>
              <a:ext cx="9000" cy="936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1120" y="4230720"/>
              <a:ext cx="9000" cy="9360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1120" y="4230720"/>
              <a:ext cx="9000" cy="93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30120" y="4230720"/>
              <a:ext cx="9000" cy="93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39120" y="4230720"/>
              <a:ext cx="9000" cy="936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48120" y="4230720"/>
              <a:ext cx="9000" cy="936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48120" y="4230720"/>
              <a:ext cx="9000" cy="9360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57120" y="4230720"/>
              <a:ext cx="9000" cy="9360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66480" y="4230720"/>
              <a:ext cx="9000" cy="9360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66480" y="4230720"/>
              <a:ext cx="9000" cy="9360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75480" y="4230720"/>
              <a:ext cx="8640" cy="936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84120" y="4230720"/>
              <a:ext cx="9000" cy="93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4120" y="4230720"/>
              <a:ext cx="9000" cy="9360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93120" y="4230720"/>
              <a:ext cx="9000" cy="9360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02120" y="4230720"/>
              <a:ext cx="9000" cy="936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1120" y="4230720"/>
              <a:ext cx="10080" cy="936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11120" y="4230720"/>
              <a:ext cx="10080" cy="9360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21200" y="4230720"/>
              <a:ext cx="9000" cy="9360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30200" y="4230720"/>
              <a:ext cx="9000" cy="93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30200" y="4230720"/>
              <a:ext cx="9000" cy="9360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85480" y="4239720"/>
              <a:ext cx="144720" cy="7524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75400" y="4258800"/>
              <a:ext cx="10080" cy="280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5480" y="4258800"/>
              <a:ext cx="9000" cy="2808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85480" y="4258800"/>
              <a:ext cx="9000" cy="2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4480" y="4258800"/>
              <a:ext cx="9000" cy="28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03480" y="4258800"/>
              <a:ext cx="8640" cy="28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3480" y="4258800"/>
              <a:ext cx="8640" cy="280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2120" y="4258800"/>
              <a:ext cx="9000" cy="28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1120" y="4258800"/>
              <a:ext cx="9000" cy="280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1120" y="4258800"/>
              <a:ext cx="9000" cy="280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30120" y="4258800"/>
              <a:ext cx="9000" cy="280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39120" y="4258800"/>
              <a:ext cx="9000" cy="2808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48120" y="4258800"/>
              <a:ext cx="9000" cy="280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48120" y="4258800"/>
              <a:ext cx="9000" cy="2808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57120" y="4258800"/>
              <a:ext cx="9000" cy="2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66480" y="4258800"/>
              <a:ext cx="9000" cy="2808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66480" y="4258800"/>
              <a:ext cx="9000" cy="280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75480" y="4258800"/>
              <a:ext cx="8640" cy="2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84120" y="4258800"/>
              <a:ext cx="9000" cy="280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84120" y="4258800"/>
              <a:ext cx="9000" cy="28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93120" y="4258800"/>
              <a:ext cx="9000" cy="2808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2120" y="4258800"/>
              <a:ext cx="9000" cy="28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11120" y="4258800"/>
              <a:ext cx="10080" cy="2808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11120" y="4258800"/>
              <a:ext cx="10080" cy="2808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21200" y="4258800"/>
              <a:ext cx="9000" cy="2808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30200" y="4258800"/>
              <a:ext cx="9000" cy="2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30200" y="4258800"/>
              <a:ext cx="9000" cy="2808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65360" y="4068000"/>
              <a:ext cx="144720" cy="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1440" y="4039560"/>
              <a:ext cx="81720" cy="576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0" y="0"/>
                  </a:moveTo>
                  <a:lnTo>
                    <a:pt x="64" y="21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7200" y="4020840"/>
              <a:ext cx="54000" cy="361440"/>
            </a:xfrm>
            <a:custGeom>
              <a:avLst/>
              <a:gdLst/>
              <a:ahLst/>
              <a:rect l="l" t="t" r="r" b="b"/>
              <a:pathLst>
                <a:path w="42" h="269">
                  <a:moveTo>
                    <a:pt x="42" y="269"/>
                  </a:move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516160" y="3707640"/>
              <a:ext cx="1270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16160" y="3707640"/>
              <a:ext cx="127080" cy="936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516160" y="3717000"/>
              <a:ext cx="127080" cy="187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16160" y="3736080"/>
              <a:ext cx="127080" cy="936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16160" y="3745440"/>
              <a:ext cx="127080" cy="900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516160" y="3754440"/>
              <a:ext cx="127080" cy="1872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516160" y="3773520"/>
              <a:ext cx="127080" cy="936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16160" y="3773520"/>
              <a:ext cx="127080" cy="18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516160" y="3792240"/>
              <a:ext cx="127080" cy="1044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16160" y="3803040"/>
              <a:ext cx="127080" cy="1872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516160" y="3821760"/>
              <a:ext cx="127080" cy="936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516160" y="3821760"/>
              <a:ext cx="127080" cy="1872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16160" y="3840840"/>
              <a:ext cx="127080" cy="9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16160" y="3840840"/>
              <a:ext cx="127080" cy="9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516160" y="3850200"/>
              <a:ext cx="127080" cy="183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16160" y="3868920"/>
              <a:ext cx="127080" cy="936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6160" y="3878280"/>
              <a:ext cx="127080" cy="936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16160" y="3887640"/>
              <a:ext cx="127080" cy="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16160" y="3897360"/>
              <a:ext cx="127080" cy="936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516160" y="3906720"/>
              <a:ext cx="127080" cy="187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516160" y="3925440"/>
              <a:ext cx="127080" cy="9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16160" y="3934800"/>
              <a:ext cx="127080" cy="201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516160" y="3954960"/>
              <a:ext cx="127080" cy="90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16160" y="3954960"/>
              <a:ext cx="127080" cy="18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16160" y="3973680"/>
              <a:ext cx="12708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516160" y="3983040"/>
              <a:ext cx="127080" cy="18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516160" y="4002120"/>
              <a:ext cx="12708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516160" y="4011480"/>
              <a:ext cx="12708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16160" y="4020840"/>
              <a:ext cx="127080" cy="90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516160" y="4030200"/>
              <a:ext cx="12708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16160" y="4039560"/>
              <a:ext cx="127080" cy="18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516160" y="4058280"/>
              <a:ext cx="12708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16160" y="4068000"/>
              <a:ext cx="127080" cy="198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16160" y="4088160"/>
              <a:ext cx="127080" cy="9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516160" y="4088160"/>
              <a:ext cx="127080" cy="18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516160" y="4106880"/>
              <a:ext cx="12708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16160" y="4116240"/>
              <a:ext cx="12708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16160" y="4125960"/>
              <a:ext cx="127080" cy="900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516160" y="4125960"/>
              <a:ext cx="127080" cy="1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16160" y="4144320"/>
              <a:ext cx="12708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16160" y="4153680"/>
              <a:ext cx="12708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516160" y="4163400"/>
              <a:ext cx="12708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16160" y="4172760"/>
              <a:ext cx="127080" cy="1872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16160" y="4191480"/>
              <a:ext cx="12708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16160" y="4201200"/>
              <a:ext cx="127080" cy="104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16160" y="4211640"/>
              <a:ext cx="12708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16160" y="4221360"/>
              <a:ext cx="127080" cy="18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16160" y="4239720"/>
              <a:ext cx="12708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516160" y="4249080"/>
              <a:ext cx="12708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516160" y="4258800"/>
              <a:ext cx="12708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16160" y="4268160"/>
              <a:ext cx="127080" cy="18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526600" y="3717000"/>
              <a:ext cx="116640" cy="560520"/>
            </a:xfrm>
            <a:custGeom>
              <a:avLst/>
              <a:gdLst/>
              <a:ahLst/>
              <a:rect l="l" t="t" r="r" b="b"/>
              <a:pathLst>
                <a:path w="91" h="417">
                  <a:moveTo>
                    <a:pt x="45" y="0"/>
                  </a:moveTo>
                  <a:cubicBezTo>
                    <a:pt x="20" y="0"/>
                    <a:pt x="0" y="94"/>
                    <a:pt x="0" y="208"/>
                  </a:cubicBezTo>
                  <a:cubicBezTo>
                    <a:pt x="0" y="324"/>
                    <a:pt x="20" y="417"/>
                    <a:pt x="45" y="417"/>
                  </a:cubicBezTo>
                  <a:cubicBezTo>
                    <a:pt x="71" y="417"/>
                    <a:pt x="91" y="324"/>
                    <a:pt x="91" y="208"/>
                  </a:cubicBezTo>
                  <a:cubicBezTo>
                    <a:pt x="91" y="94"/>
                    <a:pt x="71" y="0"/>
                    <a:pt x="45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98520" y="3707640"/>
              <a:ext cx="90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98520" y="3717000"/>
              <a:ext cx="90720" cy="936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98520" y="3726360"/>
              <a:ext cx="90720" cy="9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98520" y="3736080"/>
              <a:ext cx="90720" cy="1836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98520" y="3754440"/>
              <a:ext cx="90720" cy="93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98520" y="3754440"/>
              <a:ext cx="90720" cy="1872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98520" y="3773520"/>
              <a:ext cx="90720" cy="936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98520" y="3782880"/>
              <a:ext cx="90720" cy="198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98520" y="3803040"/>
              <a:ext cx="90720" cy="936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98520" y="3803040"/>
              <a:ext cx="90720" cy="1872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98520" y="3821760"/>
              <a:ext cx="90720" cy="936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98520" y="3831480"/>
              <a:ext cx="90720" cy="936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98520" y="3840840"/>
              <a:ext cx="90720" cy="9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98520" y="3840840"/>
              <a:ext cx="90720" cy="18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98520" y="3859560"/>
              <a:ext cx="90720" cy="93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98520" y="3868920"/>
              <a:ext cx="90720" cy="936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98520" y="3878280"/>
              <a:ext cx="90720" cy="936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98520" y="3887640"/>
              <a:ext cx="90720" cy="1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98520" y="3906720"/>
              <a:ext cx="90720" cy="936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98520" y="3906720"/>
              <a:ext cx="90720" cy="187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98520" y="3925440"/>
              <a:ext cx="90720" cy="9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98520" y="3934800"/>
              <a:ext cx="90720" cy="201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98520" y="3954960"/>
              <a:ext cx="90720" cy="90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98520" y="3964320"/>
              <a:ext cx="90720" cy="9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98520" y="3973680"/>
              <a:ext cx="9072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98520" y="3983040"/>
              <a:ext cx="90720" cy="18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98520" y="4002120"/>
              <a:ext cx="9072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98520" y="4011480"/>
              <a:ext cx="9072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98520" y="4020840"/>
              <a:ext cx="90720" cy="90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98520" y="4030200"/>
              <a:ext cx="9072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98520" y="4039560"/>
              <a:ext cx="90720" cy="18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98520" y="4058280"/>
              <a:ext cx="9072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98520" y="4068000"/>
              <a:ext cx="90720" cy="1044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98520" y="4078440"/>
              <a:ext cx="90720" cy="9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98520" y="4088160"/>
              <a:ext cx="90720" cy="18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98520" y="4106880"/>
              <a:ext cx="9072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98520" y="4116240"/>
              <a:ext cx="9072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98520" y="4125960"/>
              <a:ext cx="90720" cy="900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98520" y="4125960"/>
              <a:ext cx="90720" cy="1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98520" y="4144320"/>
              <a:ext cx="9072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98520" y="4153680"/>
              <a:ext cx="9072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98520" y="4163400"/>
              <a:ext cx="9072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98520" y="4172760"/>
              <a:ext cx="90720" cy="93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98520" y="4182120"/>
              <a:ext cx="9072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498520" y="4191480"/>
              <a:ext cx="90720" cy="198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498520" y="4211640"/>
              <a:ext cx="9072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98520" y="4221360"/>
              <a:ext cx="90720" cy="18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98520" y="4239720"/>
              <a:ext cx="9072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98520" y="4239720"/>
              <a:ext cx="90720" cy="187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98520" y="4258800"/>
              <a:ext cx="9072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498520" y="4268160"/>
              <a:ext cx="90720" cy="18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6539040" y="3992760"/>
              <a:ext cx="2023200" cy="9360"/>
              <a:chOff x="6539040" y="3992760"/>
              <a:chExt cx="2023200" cy="9360"/>
            </a:xfrm>
          </p:grpSpPr>
          <p:sp>
            <p:nvSpPr>
              <p:cNvPr id="538" name=""/>
              <p:cNvSpPr/>
              <p:nvPr/>
            </p:nvSpPr>
            <p:spPr>
              <a:xfrm>
                <a:off x="6539040" y="3992760"/>
                <a:ext cx="2023200" cy="9360"/>
              </a:xfrm>
              <a:custGeom>
                <a:avLst/>
                <a:gdLst/>
                <a:ahLst/>
                <a:rect l="l" t="t" r="r" b="b"/>
                <a:pathLst>
                  <a:path w="3568" h="16">
                    <a:moveTo>
                      <a:pt x="6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8"/>
                    </a:cubicBezTo>
                    <a:cubicBezTo>
                      <a:pt x="90" y="12"/>
                      <a:pt x="87" y="16"/>
                      <a:pt x="84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  <a:moveTo>
                      <a:pt x="140" y="0"/>
                    </a:moveTo>
                    <a:lnTo>
                      <a:pt x="140" y="0"/>
                    </a:lnTo>
                    <a:cubicBezTo>
                      <a:pt x="143" y="0"/>
                      <a:pt x="146" y="3"/>
                      <a:pt x="146" y="8"/>
                    </a:cubicBezTo>
                    <a:cubicBezTo>
                      <a:pt x="146" y="12"/>
                      <a:pt x="143" y="16"/>
                      <a:pt x="140" y="16"/>
                    </a:cubicBezTo>
                    <a:cubicBezTo>
                      <a:pt x="137" y="16"/>
                      <a:pt x="135" y="12"/>
                      <a:pt x="135" y="8"/>
                    </a:cubicBezTo>
                    <a:cubicBezTo>
                      <a:pt x="135" y="3"/>
                      <a:pt x="137" y="0"/>
                      <a:pt x="140" y="0"/>
                    </a:cubicBezTo>
                    <a:close/>
                    <a:moveTo>
                      <a:pt x="196" y="0"/>
                    </a:moveTo>
                    <a:lnTo>
                      <a:pt x="275" y="0"/>
                    </a:lnTo>
                    <a:cubicBezTo>
                      <a:pt x="277" y="0"/>
                      <a:pt x="280" y="3"/>
                      <a:pt x="280" y="8"/>
                    </a:cubicBezTo>
                    <a:cubicBezTo>
                      <a:pt x="280" y="12"/>
                      <a:pt x="277" y="16"/>
                      <a:pt x="275" y="16"/>
                    </a:cubicBezTo>
                    <a:lnTo>
                      <a:pt x="196" y="16"/>
                    </a:lnTo>
                    <a:cubicBezTo>
                      <a:pt x="193" y="16"/>
                      <a:pt x="191" y="12"/>
                      <a:pt x="191" y="8"/>
                    </a:cubicBezTo>
                    <a:cubicBezTo>
                      <a:pt x="191" y="3"/>
                      <a:pt x="193" y="0"/>
                      <a:pt x="196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3" y="0"/>
                      <a:pt x="336" y="3"/>
                      <a:pt x="336" y="8"/>
                    </a:cubicBezTo>
                    <a:cubicBezTo>
                      <a:pt x="336" y="12"/>
                      <a:pt x="333" y="16"/>
                      <a:pt x="330" y="16"/>
                    </a:cubicBezTo>
                    <a:cubicBezTo>
                      <a:pt x="328" y="16"/>
                      <a:pt x="325" y="12"/>
                      <a:pt x="325" y="8"/>
                    </a:cubicBezTo>
                    <a:cubicBezTo>
                      <a:pt x="325" y="3"/>
                      <a:pt x="328" y="0"/>
                      <a:pt x="330" y="0"/>
                    </a:cubicBezTo>
                    <a:close/>
                    <a:moveTo>
                      <a:pt x="386" y="0"/>
                    </a:moveTo>
                    <a:lnTo>
                      <a:pt x="465" y="0"/>
                    </a:lnTo>
                    <a:cubicBezTo>
                      <a:pt x="467" y="0"/>
                      <a:pt x="470" y="3"/>
                      <a:pt x="470" y="8"/>
                    </a:cubicBezTo>
                    <a:cubicBezTo>
                      <a:pt x="470" y="12"/>
                      <a:pt x="467" y="16"/>
                      <a:pt x="465" y="16"/>
                    </a:cubicBezTo>
                    <a:lnTo>
                      <a:pt x="386" y="16"/>
                    </a:lnTo>
                    <a:cubicBezTo>
                      <a:pt x="384" y="16"/>
                      <a:pt x="381" y="12"/>
                      <a:pt x="381" y="8"/>
                    </a:cubicBezTo>
                    <a:cubicBezTo>
                      <a:pt x="381" y="3"/>
                      <a:pt x="384" y="0"/>
                      <a:pt x="386" y="0"/>
                    </a:cubicBezTo>
                    <a:close/>
                    <a:moveTo>
                      <a:pt x="521" y="0"/>
                    </a:moveTo>
                    <a:lnTo>
                      <a:pt x="521" y="0"/>
                    </a:lnTo>
                    <a:cubicBezTo>
                      <a:pt x="523" y="0"/>
                      <a:pt x="526" y="3"/>
                      <a:pt x="526" y="8"/>
                    </a:cubicBezTo>
                    <a:cubicBezTo>
                      <a:pt x="526" y="12"/>
                      <a:pt x="523" y="16"/>
                      <a:pt x="521" y="16"/>
                    </a:cubicBezTo>
                    <a:cubicBezTo>
                      <a:pt x="518" y="16"/>
                      <a:pt x="515" y="12"/>
                      <a:pt x="515" y="8"/>
                    </a:cubicBezTo>
                    <a:cubicBezTo>
                      <a:pt x="515" y="3"/>
                      <a:pt x="518" y="0"/>
                      <a:pt x="521" y="0"/>
                    </a:cubicBezTo>
                    <a:close/>
                    <a:moveTo>
                      <a:pt x="576" y="0"/>
                    </a:moveTo>
                    <a:lnTo>
                      <a:pt x="655" y="0"/>
                    </a:lnTo>
                    <a:cubicBezTo>
                      <a:pt x="658" y="0"/>
                      <a:pt x="660" y="3"/>
                      <a:pt x="660" y="8"/>
                    </a:cubicBezTo>
                    <a:cubicBezTo>
                      <a:pt x="660" y="12"/>
                      <a:pt x="658" y="16"/>
                      <a:pt x="655" y="16"/>
                    </a:cubicBezTo>
                    <a:lnTo>
                      <a:pt x="576" y="16"/>
                    </a:lnTo>
                    <a:cubicBezTo>
                      <a:pt x="574" y="16"/>
                      <a:pt x="571" y="12"/>
                      <a:pt x="571" y="8"/>
                    </a:cubicBezTo>
                    <a:cubicBezTo>
                      <a:pt x="571" y="3"/>
                      <a:pt x="574" y="0"/>
                      <a:pt x="576" y="0"/>
                    </a:cubicBezTo>
                    <a:close/>
                    <a:moveTo>
                      <a:pt x="711" y="0"/>
                    </a:moveTo>
                    <a:lnTo>
                      <a:pt x="711" y="0"/>
                    </a:lnTo>
                    <a:cubicBezTo>
                      <a:pt x="714" y="0"/>
                      <a:pt x="716" y="3"/>
                      <a:pt x="716" y="8"/>
                    </a:cubicBezTo>
                    <a:cubicBezTo>
                      <a:pt x="716" y="12"/>
                      <a:pt x="714" y="16"/>
                      <a:pt x="711" y="16"/>
                    </a:cubicBezTo>
                    <a:cubicBezTo>
                      <a:pt x="708" y="16"/>
                      <a:pt x="705" y="12"/>
                      <a:pt x="705" y="8"/>
                    </a:cubicBezTo>
                    <a:cubicBezTo>
                      <a:pt x="705" y="3"/>
                      <a:pt x="708" y="0"/>
                      <a:pt x="711" y="0"/>
                    </a:cubicBezTo>
                    <a:close/>
                    <a:moveTo>
                      <a:pt x="767" y="0"/>
                    </a:moveTo>
                    <a:lnTo>
                      <a:pt x="845" y="0"/>
                    </a:lnTo>
                    <a:cubicBezTo>
                      <a:pt x="848" y="0"/>
                      <a:pt x="851" y="3"/>
                      <a:pt x="851" y="8"/>
                    </a:cubicBezTo>
                    <a:cubicBezTo>
                      <a:pt x="851" y="12"/>
                      <a:pt x="848" y="16"/>
                      <a:pt x="845" y="16"/>
                    </a:cubicBezTo>
                    <a:lnTo>
                      <a:pt x="767" y="16"/>
                    </a:lnTo>
                    <a:cubicBezTo>
                      <a:pt x="764" y="16"/>
                      <a:pt x="761" y="12"/>
                      <a:pt x="761" y="8"/>
                    </a:cubicBezTo>
                    <a:cubicBezTo>
                      <a:pt x="761" y="3"/>
                      <a:pt x="764" y="0"/>
                      <a:pt x="767" y="0"/>
                    </a:cubicBezTo>
                    <a:close/>
                    <a:moveTo>
                      <a:pt x="901" y="0"/>
                    </a:moveTo>
                    <a:lnTo>
                      <a:pt x="901" y="0"/>
                    </a:lnTo>
                    <a:cubicBezTo>
                      <a:pt x="904" y="0"/>
                      <a:pt x="906" y="3"/>
                      <a:pt x="906" y="8"/>
                    </a:cubicBezTo>
                    <a:cubicBezTo>
                      <a:pt x="906" y="12"/>
                      <a:pt x="904" y="16"/>
                      <a:pt x="901" y="16"/>
                    </a:cubicBezTo>
                    <a:cubicBezTo>
                      <a:pt x="898" y="16"/>
                      <a:pt x="895" y="12"/>
                      <a:pt x="895" y="8"/>
                    </a:cubicBezTo>
                    <a:cubicBezTo>
                      <a:pt x="895" y="3"/>
                      <a:pt x="898" y="0"/>
                      <a:pt x="901" y="0"/>
                    </a:cubicBezTo>
                    <a:close/>
                    <a:moveTo>
                      <a:pt x="957" y="0"/>
                    </a:moveTo>
                    <a:lnTo>
                      <a:pt x="1035" y="0"/>
                    </a:lnTo>
                    <a:cubicBezTo>
                      <a:pt x="1038" y="0"/>
                      <a:pt x="1041" y="3"/>
                      <a:pt x="1041" y="8"/>
                    </a:cubicBezTo>
                    <a:cubicBezTo>
                      <a:pt x="1041" y="12"/>
                      <a:pt x="1038" y="16"/>
                      <a:pt x="1035" y="16"/>
                    </a:cubicBezTo>
                    <a:lnTo>
                      <a:pt x="957" y="16"/>
                    </a:lnTo>
                    <a:cubicBezTo>
                      <a:pt x="954" y="16"/>
                      <a:pt x="951" y="12"/>
                      <a:pt x="951" y="8"/>
                    </a:cubicBezTo>
                    <a:cubicBezTo>
                      <a:pt x="951" y="3"/>
                      <a:pt x="954" y="0"/>
                      <a:pt x="957" y="0"/>
                    </a:cubicBezTo>
                    <a:close/>
                    <a:moveTo>
                      <a:pt x="1091" y="0"/>
                    </a:moveTo>
                    <a:lnTo>
                      <a:pt x="1091" y="0"/>
                    </a:lnTo>
                    <a:cubicBezTo>
                      <a:pt x="1094" y="0"/>
                      <a:pt x="1097" y="3"/>
                      <a:pt x="1097" y="8"/>
                    </a:cubicBezTo>
                    <a:cubicBezTo>
                      <a:pt x="1097" y="12"/>
                      <a:pt x="1094" y="16"/>
                      <a:pt x="1091" y="16"/>
                    </a:cubicBezTo>
                    <a:cubicBezTo>
                      <a:pt x="1088" y="16"/>
                      <a:pt x="1085" y="12"/>
                      <a:pt x="1085" y="8"/>
                    </a:cubicBezTo>
                    <a:cubicBezTo>
                      <a:pt x="1085" y="3"/>
                      <a:pt x="1088" y="0"/>
                      <a:pt x="1091" y="0"/>
                    </a:cubicBezTo>
                    <a:close/>
                    <a:moveTo>
                      <a:pt x="1147" y="0"/>
                    </a:moveTo>
                    <a:lnTo>
                      <a:pt x="1225" y="0"/>
                    </a:lnTo>
                    <a:cubicBezTo>
                      <a:pt x="1228" y="0"/>
                      <a:pt x="1231" y="3"/>
                      <a:pt x="1231" y="8"/>
                    </a:cubicBezTo>
                    <a:cubicBezTo>
                      <a:pt x="1231" y="12"/>
                      <a:pt x="1228" y="16"/>
                      <a:pt x="1225" y="16"/>
                    </a:cubicBezTo>
                    <a:lnTo>
                      <a:pt x="1147" y="16"/>
                    </a:lnTo>
                    <a:cubicBezTo>
                      <a:pt x="1144" y="16"/>
                      <a:pt x="1141" y="12"/>
                      <a:pt x="1141" y="8"/>
                    </a:cubicBezTo>
                    <a:cubicBezTo>
                      <a:pt x="1141" y="3"/>
                      <a:pt x="1144" y="0"/>
                      <a:pt x="1147" y="0"/>
                    </a:cubicBezTo>
                    <a:close/>
                    <a:moveTo>
                      <a:pt x="1281" y="0"/>
                    </a:moveTo>
                    <a:lnTo>
                      <a:pt x="1281" y="0"/>
                    </a:lnTo>
                    <a:cubicBezTo>
                      <a:pt x="1284" y="0"/>
                      <a:pt x="1287" y="3"/>
                      <a:pt x="1287" y="8"/>
                    </a:cubicBezTo>
                    <a:cubicBezTo>
                      <a:pt x="1287" y="12"/>
                      <a:pt x="1284" y="16"/>
                      <a:pt x="1281" y="16"/>
                    </a:cubicBezTo>
                    <a:cubicBezTo>
                      <a:pt x="1278" y="16"/>
                      <a:pt x="1276" y="12"/>
                      <a:pt x="1276" y="8"/>
                    </a:cubicBezTo>
                    <a:cubicBezTo>
                      <a:pt x="1276" y="3"/>
                      <a:pt x="1278" y="0"/>
                      <a:pt x="1281" y="0"/>
                    </a:cubicBezTo>
                    <a:close/>
                    <a:moveTo>
                      <a:pt x="1337" y="0"/>
                    </a:moveTo>
                    <a:lnTo>
                      <a:pt x="1415" y="0"/>
                    </a:lnTo>
                    <a:cubicBezTo>
                      <a:pt x="1418" y="0"/>
                      <a:pt x="1421" y="3"/>
                      <a:pt x="1421" y="8"/>
                    </a:cubicBezTo>
                    <a:cubicBezTo>
                      <a:pt x="1421" y="12"/>
                      <a:pt x="1418" y="16"/>
                      <a:pt x="1415" y="16"/>
                    </a:cubicBezTo>
                    <a:lnTo>
                      <a:pt x="1337" y="16"/>
                    </a:lnTo>
                    <a:cubicBezTo>
                      <a:pt x="1334" y="16"/>
                      <a:pt x="1331" y="12"/>
                      <a:pt x="1331" y="8"/>
                    </a:cubicBezTo>
                    <a:cubicBezTo>
                      <a:pt x="1331" y="3"/>
                      <a:pt x="1334" y="0"/>
                      <a:pt x="1337" y="0"/>
                    </a:cubicBezTo>
                    <a:close/>
                    <a:moveTo>
                      <a:pt x="1471" y="0"/>
                    </a:moveTo>
                    <a:lnTo>
                      <a:pt x="1471" y="0"/>
                    </a:lnTo>
                    <a:cubicBezTo>
                      <a:pt x="1474" y="0"/>
                      <a:pt x="1477" y="3"/>
                      <a:pt x="1477" y="8"/>
                    </a:cubicBezTo>
                    <a:cubicBezTo>
                      <a:pt x="1477" y="12"/>
                      <a:pt x="1474" y="16"/>
                      <a:pt x="1471" y="16"/>
                    </a:cubicBezTo>
                    <a:cubicBezTo>
                      <a:pt x="1468" y="16"/>
                      <a:pt x="1466" y="12"/>
                      <a:pt x="1466" y="8"/>
                    </a:cubicBezTo>
                    <a:cubicBezTo>
                      <a:pt x="1466" y="3"/>
                      <a:pt x="1468" y="0"/>
                      <a:pt x="1471" y="0"/>
                    </a:cubicBezTo>
                    <a:close/>
                    <a:moveTo>
                      <a:pt x="1527" y="0"/>
                    </a:moveTo>
                    <a:lnTo>
                      <a:pt x="1606" y="0"/>
                    </a:lnTo>
                    <a:cubicBezTo>
                      <a:pt x="1608" y="0"/>
                      <a:pt x="1611" y="3"/>
                      <a:pt x="1611" y="8"/>
                    </a:cubicBezTo>
                    <a:cubicBezTo>
                      <a:pt x="1611" y="12"/>
                      <a:pt x="1608" y="16"/>
                      <a:pt x="1606" y="16"/>
                    </a:cubicBezTo>
                    <a:lnTo>
                      <a:pt x="1527" y="16"/>
                    </a:lnTo>
                    <a:cubicBezTo>
                      <a:pt x="1524" y="16"/>
                      <a:pt x="1522" y="12"/>
                      <a:pt x="1522" y="8"/>
                    </a:cubicBezTo>
                    <a:cubicBezTo>
                      <a:pt x="1522" y="3"/>
                      <a:pt x="1524" y="0"/>
                      <a:pt x="1527" y="0"/>
                    </a:cubicBezTo>
                    <a:close/>
                    <a:moveTo>
                      <a:pt x="1661" y="0"/>
                    </a:moveTo>
                    <a:lnTo>
                      <a:pt x="1661" y="0"/>
                    </a:lnTo>
                    <a:cubicBezTo>
                      <a:pt x="1664" y="0"/>
                      <a:pt x="1667" y="3"/>
                      <a:pt x="1667" y="8"/>
                    </a:cubicBezTo>
                    <a:cubicBezTo>
                      <a:pt x="1667" y="12"/>
                      <a:pt x="1664" y="16"/>
                      <a:pt x="1661" y="16"/>
                    </a:cubicBezTo>
                    <a:cubicBezTo>
                      <a:pt x="1659" y="16"/>
                      <a:pt x="1656" y="12"/>
                      <a:pt x="1656" y="8"/>
                    </a:cubicBezTo>
                    <a:cubicBezTo>
                      <a:pt x="1656" y="3"/>
                      <a:pt x="1659" y="0"/>
                      <a:pt x="1661" y="0"/>
                    </a:cubicBezTo>
                    <a:close/>
                    <a:moveTo>
                      <a:pt x="1717" y="0"/>
                    </a:moveTo>
                    <a:lnTo>
                      <a:pt x="1796" y="0"/>
                    </a:lnTo>
                    <a:cubicBezTo>
                      <a:pt x="1798" y="0"/>
                      <a:pt x="1801" y="3"/>
                      <a:pt x="1801" y="8"/>
                    </a:cubicBezTo>
                    <a:cubicBezTo>
                      <a:pt x="1801" y="12"/>
                      <a:pt x="1798" y="16"/>
                      <a:pt x="1796" y="16"/>
                    </a:cubicBezTo>
                    <a:lnTo>
                      <a:pt x="1717" y="16"/>
                    </a:lnTo>
                    <a:cubicBezTo>
                      <a:pt x="1715" y="16"/>
                      <a:pt x="1712" y="12"/>
                      <a:pt x="1712" y="8"/>
                    </a:cubicBezTo>
                    <a:cubicBezTo>
                      <a:pt x="1712" y="3"/>
                      <a:pt x="1715" y="0"/>
                      <a:pt x="1717" y="0"/>
                    </a:cubicBezTo>
                    <a:close/>
                    <a:moveTo>
                      <a:pt x="1852" y="0"/>
                    </a:moveTo>
                    <a:lnTo>
                      <a:pt x="1852" y="0"/>
                    </a:lnTo>
                    <a:cubicBezTo>
                      <a:pt x="1854" y="0"/>
                      <a:pt x="1857" y="3"/>
                      <a:pt x="1857" y="8"/>
                    </a:cubicBezTo>
                    <a:cubicBezTo>
                      <a:pt x="1857" y="12"/>
                      <a:pt x="1854" y="16"/>
                      <a:pt x="1852" y="16"/>
                    </a:cubicBezTo>
                    <a:cubicBezTo>
                      <a:pt x="1849" y="16"/>
                      <a:pt x="1846" y="12"/>
                      <a:pt x="1846" y="8"/>
                    </a:cubicBezTo>
                    <a:cubicBezTo>
                      <a:pt x="1846" y="3"/>
                      <a:pt x="1849" y="0"/>
                      <a:pt x="1852" y="0"/>
                    </a:cubicBezTo>
                    <a:close/>
                    <a:moveTo>
                      <a:pt x="1908" y="0"/>
                    </a:moveTo>
                    <a:lnTo>
                      <a:pt x="1986" y="0"/>
                    </a:lnTo>
                    <a:cubicBezTo>
                      <a:pt x="1989" y="0"/>
                      <a:pt x="1991" y="3"/>
                      <a:pt x="1991" y="8"/>
                    </a:cubicBezTo>
                    <a:cubicBezTo>
                      <a:pt x="1991" y="12"/>
                      <a:pt x="1989" y="16"/>
                      <a:pt x="1986" y="16"/>
                    </a:cubicBezTo>
                    <a:lnTo>
                      <a:pt x="1908" y="16"/>
                    </a:lnTo>
                    <a:cubicBezTo>
                      <a:pt x="1905" y="16"/>
                      <a:pt x="1902" y="12"/>
                      <a:pt x="1902" y="8"/>
                    </a:cubicBezTo>
                    <a:cubicBezTo>
                      <a:pt x="1902" y="3"/>
                      <a:pt x="1905" y="0"/>
                      <a:pt x="1908" y="0"/>
                    </a:cubicBezTo>
                    <a:close/>
                    <a:moveTo>
                      <a:pt x="2042" y="0"/>
                    </a:moveTo>
                    <a:lnTo>
                      <a:pt x="2042" y="0"/>
                    </a:lnTo>
                    <a:cubicBezTo>
                      <a:pt x="2045" y="0"/>
                      <a:pt x="2047" y="3"/>
                      <a:pt x="2047" y="8"/>
                    </a:cubicBezTo>
                    <a:cubicBezTo>
                      <a:pt x="2047" y="12"/>
                      <a:pt x="2045" y="16"/>
                      <a:pt x="2042" y="16"/>
                    </a:cubicBezTo>
                    <a:cubicBezTo>
                      <a:pt x="2039" y="16"/>
                      <a:pt x="2036" y="12"/>
                      <a:pt x="2036" y="8"/>
                    </a:cubicBezTo>
                    <a:cubicBezTo>
                      <a:pt x="2036" y="3"/>
                      <a:pt x="2039" y="0"/>
                      <a:pt x="2042" y="0"/>
                    </a:cubicBezTo>
                    <a:close/>
                    <a:moveTo>
                      <a:pt x="2098" y="0"/>
                    </a:moveTo>
                    <a:lnTo>
                      <a:pt x="2176" y="0"/>
                    </a:lnTo>
                    <a:cubicBezTo>
                      <a:pt x="2179" y="0"/>
                      <a:pt x="2182" y="3"/>
                      <a:pt x="2182" y="8"/>
                    </a:cubicBezTo>
                    <a:cubicBezTo>
                      <a:pt x="2182" y="12"/>
                      <a:pt x="2179" y="16"/>
                      <a:pt x="2176" y="16"/>
                    </a:cubicBezTo>
                    <a:lnTo>
                      <a:pt x="2098" y="16"/>
                    </a:lnTo>
                    <a:cubicBezTo>
                      <a:pt x="2095" y="16"/>
                      <a:pt x="2092" y="12"/>
                      <a:pt x="2092" y="8"/>
                    </a:cubicBezTo>
                    <a:cubicBezTo>
                      <a:pt x="2092" y="3"/>
                      <a:pt x="2095" y="0"/>
                      <a:pt x="2098" y="0"/>
                    </a:cubicBezTo>
                    <a:close/>
                    <a:moveTo>
                      <a:pt x="2232" y="0"/>
                    </a:moveTo>
                    <a:lnTo>
                      <a:pt x="2232" y="0"/>
                    </a:lnTo>
                    <a:cubicBezTo>
                      <a:pt x="2235" y="0"/>
                      <a:pt x="2237" y="3"/>
                      <a:pt x="2237" y="8"/>
                    </a:cubicBezTo>
                    <a:cubicBezTo>
                      <a:pt x="2237" y="12"/>
                      <a:pt x="2235" y="16"/>
                      <a:pt x="2232" y="16"/>
                    </a:cubicBezTo>
                    <a:cubicBezTo>
                      <a:pt x="2229" y="16"/>
                      <a:pt x="2226" y="12"/>
                      <a:pt x="2226" y="8"/>
                    </a:cubicBezTo>
                    <a:cubicBezTo>
                      <a:pt x="2226" y="3"/>
                      <a:pt x="2229" y="0"/>
                      <a:pt x="2232" y="0"/>
                    </a:cubicBezTo>
                    <a:close/>
                    <a:moveTo>
                      <a:pt x="2288" y="0"/>
                    </a:moveTo>
                    <a:lnTo>
                      <a:pt x="2366" y="0"/>
                    </a:lnTo>
                    <a:cubicBezTo>
                      <a:pt x="2370" y="0"/>
                      <a:pt x="2372" y="3"/>
                      <a:pt x="2372" y="8"/>
                    </a:cubicBezTo>
                    <a:cubicBezTo>
                      <a:pt x="2372" y="12"/>
                      <a:pt x="2370" y="16"/>
                      <a:pt x="2366" y="16"/>
                    </a:cubicBezTo>
                    <a:lnTo>
                      <a:pt x="2288" y="16"/>
                    </a:lnTo>
                    <a:cubicBezTo>
                      <a:pt x="2285" y="16"/>
                      <a:pt x="2282" y="12"/>
                      <a:pt x="2282" y="8"/>
                    </a:cubicBezTo>
                    <a:cubicBezTo>
                      <a:pt x="2282" y="3"/>
                      <a:pt x="2285" y="0"/>
                      <a:pt x="2288" y="0"/>
                    </a:cubicBezTo>
                    <a:close/>
                    <a:moveTo>
                      <a:pt x="2422" y="0"/>
                    </a:moveTo>
                    <a:lnTo>
                      <a:pt x="2422" y="0"/>
                    </a:lnTo>
                    <a:cubicBezTo>
                      <a:pt x="2426" y="0"/>
                      <a:pt x="2428" y="3"/>
                      <a:pt x="2428" y="8"/>
                    </a:cubicBezTo>
                    <a:cubicBezTo>
                      <a:pt x="2428" y="12"/>
                      <a:pt x="2426" y="16"/>
                      <a:pt x="2422" y="16"/>
                    </a:cubicBezTo>
                    <a:cubicBezTo>
                      <a:pt x="2419" y="16"/>
                      <a:pt x="2416" y="12"/>
                      <a:pt x="2416" y="8"/>
                    </a:cubicBezTo>
                    <a:cubicBezTo>
                      <a:pt x="2416" y="3"/>
                      <a:pt x="2419" y="0"/>
                      <a:pt x="2422" y="0"/>
                    </a:cubicBezTo>
                    <a:close/>
                    <a:moveTo>
                      <a:pt x="2478" y="0"/>
                    </a:moveTo>
                    <a:lnTo>
                      <a:pt x="2556" y="0"/>
                    </a:lnTo>
                    <a:cubicBezTo>
                      <a:pt x="2560" y="0"/>
                      <a:pt x="2562" y="3"/>
                      <a:pt x="2562" y="8"/>
                    </a:cubicBezTo>
                    <a:cubicBezTo>
                      <a:pt x="2562" y="12"/>
                      <a:pt x="2560" y="16"/>
                      <a:pt x="2556" y="16"/>
                    </a:cubicBezTo>
                    <a:lnTo>
                      <a:pt x="2478" y="16"/>
                    </a:lnTo>
                    <a:cubicBezTo>
                      <a:pt x="2475" y="16"/>
                      <a:pt x="2472" y="12"/>
                      <a:pt x="2472" y="8"/>
                    </a:cubicBezTo>
                    <a:cubicBezTo>
                      <a:pt x="2472" y="3"/>
                      <a:pt x="2475" y="0"/>
                      <a:pt x="2478" y="0"/>
                    </a:cubicBezTo>
                    <a:close/>
                    <a:moveTo>
                      <a:pt x="2612" y="0"/>
                    </a:moveTo>
                    <a:lnTo>
                      <a:pt x="2612" y="0"/>
                    </a:lnTo>
                    <a:cubicBezTo>
                      <a:pt x="2616" y="0"/>
                      <a:pt x="2618" y="3"/>
                      <a:pt x="2618" y="8"/>
                    </a:cubicBezTo>
                    <a:cubicBezTo>
                      <a:pt x="2618" y="12"/>
                      <a:pt x="2616" y="16"/>
                      <a:pt x="2612" y="16"/>
                    </a:cubicBezTo>
                    <a:cubicBezTo>
                      <a:pt x="2609" y="16"/>
                      <a:pt x="2607" y="12"/>
                      <a:pt x="2607" y="8"/>
                    </a:cubicBezTo>
                    <a:cubicBezTo>
                      <a:pt x="2607" y="3"/>
                      <a:pt x="2609" y="0"/>
                      <a:pt x="2612" y="0"/>
                    </a:cubicBezTo>
                    <a:close/>
                    <a:moveTo>
                      <a:pt x="2668" y="0"/>
                    </a:moveTo>
                    <a:lnTo>
                      <a:pt x="2746" y="0"/>
                    </a:lnTo>
                    <a:cubicBezTo>
                      <a:pt x="2750" y="0"/>
                      <a:pt x="2752" y="3"/>
                      <a:pt x="2752" y="8"/>
                    </a:cubicBezTo>
                    <a:cubicBezTo>
                      <a:pt x="2752" y="12"/>
                      <a:pt x="2750" y="16"/>
                      <a:pt x="2746" y="16"/>
                    </a:cubicBezTo>
                    <a:lnTo>
                      <a:pt x="2668" y="16"/>
                    </a:lnTo>
                    <a:cubicBezTo>
                      <a:pt x="2665" y="16"/>
                      <a:pt x="2662" y="12"/>
                      <a:pt x="2662" y="8"/>
                    </a:cubicBezTo>
                    <a:cubicBezTo>
                      <a:pt x="2662" y="3"/>
                      <a:pt x="2665" y="0"/>
                      <a:pt x="2668" y="0"/>
                    </a:cubicBezTo>
                    <a:close/>
                    <a:moveTo>
                      <a:pt x="2802" y="0"/>
                    </a:moveTo>
                    <a:lnTo>
                      <a:pt x="2802" y="0"/>
                    </a:lnTo>
                    <a:cubicBezTo>
                      <a:pt x="2806" y="0"/>
                      <a:pt x="2808" y="3"/>
                      <a:pt x="2808" y="8"/>
                    </a:cubicBezTo>
                    <a:cubicBezTo>
                      <a:pt x="2808" y="12"/>
                      <a:pt x="2806" y="16"/>
                      <a:pt x="2802" y="16"/>
                    </a:cubicBezTo>
                    <a:cubicBezTo>
                      <a:pt x="2800" y="16"/>
                      <a:pt x="2797" y="12"/>
                      <a:pt x="2797" y="8"/>
                    </a:cubicBezTo>
                    <a:cubicBezTo>
                      <a:pt x="2797" y="3"/>
                      <a:pt x="2800" y="0"/>
                      <a:pt x="2802" y="0"/>
                    </a:cubicBezTo>
                    <a:close/>
                    <a:moveTo>
                      <a:pt x="2858" y="0"/>
                    </a:moveTo>
                    <a:lnTo>
                      <a:pt x="2937" y="0"/>
                    </a:lnTo>
                    <a:cubicBezTo>
                      <a:pt x="2940" y="0"/>
                      <a:pt x="2942" y="3"/>
                      <a:pt x="2942" y="8"/>
                    </a:cubicBezTo>
                    <a:cubicBezTo>
                      <a:pt x="2942" y="12"/>
                      <a:pt x="2940" y="16"/>
                      <a:pt x="2937" y="16"/>
                    </a:cubicBezTo>
                    <a:lnTo>
                      <a:pt x="2858" y="16"/>
                    </a:lnTo>
                    <a:cubicBezTo>
                      <a:pt x="2855" y="16"/>
                      <a:pt x="2853" y="12"/>
                      <a:pt x="2853" y="8"/>
                    </a:cubicBezTo>
                    <a:cubicBezTo>
                      <a:pt x="2853" y="3"/>
                      <a:pt x="2855" y="0"/>
                      <a:pt x="2858" y="0"/>
                    </a:cubicBezTo>
                    <a:close/>
                    <a:moveTo>
                      <a:pt x="2992" y="0"/>
                    </a:moveTo>
                    <a:lnTo>
                      <a:pt x="2992" y="0"/>
                    </a:lnTo>
                    <a:cubicBezTo>
                      <a:pt x="2996" y="0"/>
                      <a:pt x="2998" y="3"/>
                      <a:pt x="2998" y="8"/>
                    </a:cubicBezTo>
                    <a:cubicBezTo>
                      <a:pt x="2998" y="12"/>
                      <a:pt x="2996" y="16"/>
                      <a:pt x="2992" y="16"/>
                    </a:cubicBezTo>
                    <a:cubicBezTo>
                      <a:pt x="2990" y="16"/>
                      <a:pt x="2987" y="12"/>
                      <a:pt x="2987" y="8"/>
                    </a:cubicBezTo>
                    <a:cubicBezTo>
                      <a:pt x="2987" y="3"/>
                      <a:pt x="2990" y="0"/>
                      <a:pt x="2992" y="0"/>
                    </a:cubicBezTo>
                    <a:close/>
                    <a:moveTo>
                      <a:pt x="3048" y="0"/>
                    </a:moveTo>
                    <a:lnTo>
                      <a:pt x="3127" y="0"/>
                    </a:lnTo>
                    <a:cubicBezTo>
                      <a:pt x="3130" y="0"/>
                      <a:pt x="3132" y="3"/>
                      <a:pt x="3132" y="8"/>
                    </a:cubicBezTo>
                    <a:cubicBezTo>
                      <a:pt x="3132" y="12"/>
                      <a:pt x="3130" y="16"/>
                      <a:pt x="3127" y="16"/>
                    </a:cubicBezTo>
                    <a:lnTo>
                      <a:pt x="3048" y="16"/>
                    </a:lnTo>
                    <a:cubicBezTo>
                      <a:pt x="3046" y="16"/>
                      <a:pt x="3043" y="12"/>
                      <a:pt x="3043" y="8"/>
                    </a:cubicBezTo>
                    <a:cubicBezTo>
                      <a:pt x="3043" y="3"/>
                      <a:pt x="3046" y="0"/>
                      <a:pt x="3048" y="0"/>
                    </a:cubicBezTo>
                    <a:close/>
                    <a:moveTo>
                      <a:pt x="3183" y="0"/>
                    </a:moveTo>
                    <a:lnTo>
                      <a:pt x="3183" y="0"/>
                    </a:lnTo>
                    <a:cubicBezTo>
                      <a:pt x="3186" y="0"/>
                      <a:pt x="3188" y="3"/>
                      <a:pt x="3188" y="8"/>
                    </a:cubicBezTo>
                    <a:cubicBezTo>
                      <a:pt x="3188" y="12"/>
                      <a:pt x="3186" y="16"/>
                      <a:pt x="3183" y="16"/>
                    </a:cubicBezTo>
                    <a:cubicBezTo>
                      <a:pt x="3180" y="16"/>
                      <a:pt x="3177" y="12"/>
                      <a:pt x="3177" y="8"/>
                    </a:cubicBezTo>
                    <a:cubicBezTo>
                      <a:pt x="3177" y="3"/>
                      <a:pt x="3180" y="0"/>
                      <a:pt x="3183" y="0"/>
                    </a:cubicBezTo>
                    <a:close/>
                    <a:moveTo>
                      <a:pt x="3239" y="0"/>
                    </a:moveTo>
                    <a:lnTo>
                      <a:pt x="3317" y="0"/>
                    </a:lnTo>
                    <a:cubicBezTo>
                      <a:pt x="3320" y="0"/>
                      <a:pt x="3322" y="3"/>
                      <a:pt x="3322" y="8"/>
                    </a:cubicBezTo>
                    <a:cubicBezTo>
                      <a:pt x="3322" y="12"/>
                      <a:pt x="3320" y="16"/>
                      <a:pt x="3317" y="16"/>
                    </a:cubicBezTo>
                    <a:lnTo>
                      <a:pt x="3239" y="16"/>
                    </a:lnTo>
                    <a:cubicBezTo>
                      <a:pt x="3236" y="16"/>
                      <a:pt x="3233" y="12"/>
                      <a:pt x="3233" y="8"/>
                    </a:cubicBezTo>
                    <a:cubicBezTo>
                      <a:pt x="3233" y="3"/>
                      <a:pt x="3236" y="0"/>
                      <a:pt x="3239" y="0"/>
                    </a:cubicBezTo>
                    <a:close/>
                    <a:moveTo>
                      <a:pt x="3373" y="0"/>
                    </a:moveTo>
                    <a:lnTo>
                      <a:pt x="3373" y="0"/>
                    </a:lnTo>
                    <a:cubicBezTo>
                      <a:pt x="3376" y="0"/>
                      <a:pt x="3378" y="3"/>
                      <a:pt x="3378" y="8"/>
                    </a:cubicBezTo>
                    <a:cubicBezTo>
                      <a:pt x="3378" y="12"/>
                      <a:pt x="3376" y="16"/>
                      <a:pt x="3373" y="16"/>
                    </a:cubicBezTo>
                    <a:cubicBezTo>
                      <a:pt x="3370" y="16"/>
                      <a:pt x="3367" y="12"/>
                      <a:pt x="3367" y="8"/>
                    </a:cubicBezTo>
                    <a:cubicBezTo>
                      <a:pt x="3367" y="3"/>
                      <a:pt x="3370" y="0"/>
                      <a:pt x="3373" y="0"/>
                    </a:cubicBezTo>
                    <a:close/>
                    <a:moveTo>
                      <a:pt x="3429" y="0"/>
                    </a:moveTo>
                    <a:lnTo>
                      <a:pt x="3507" y="0"/>
                    </a:lnTo>
                    <a:cubicBezTo>
                      <a:pt x="3510" y="0"/>
                      <a:pt x="3513" y="3"/>
                      <a:pt x="3513" y="8"/>
                    </a:cubicBezTo>
                    <a:cubicBezTo>
                      <a:pt x="3513" y="12"/>
                      <a:pt x="3510" y="16"/>
                      <a:pt x="3507" y="16"/>
                    </a:cubicBezTo>
                    <a:lnTo>
                      <a:pt x="3429" y="16"/>
                    </a:lnTo>
                    <a:cubicBezTo>
                      <a:pt x="3426" y="16"/>
                      <a:pt x="3423" y="12"/>
                      <a:pt x="3423" y="8"/>
                    </a:cubicBezTo>
                    <a:cubicBezTo>
                      <a:pt x="3423" y="3"/>
                      <a:pt x="3426" y="0"/>
                      <a:pt x="3429" y="0"/>
                    </a:cubicBezTo>
                    <a:close/>
                    <a:moveTo>
                      <a:pt x="3563" y="0"/>
                    </a:moveTo>
                    <a:lnTo>
                      <a:pt x="3563" y="0"/>
                    </a:lnTo>
                    <a:cubicBezTo>
                      <a:pt x="3566" y="0"/>
                      <a:pt x="3568" y="3"/>
                      <a:pt x="3568" y="8"/>
                    </a:cubicBezTo>
                    <a:cubicBezTo>
                      <a:pt x="3568" y="12"/>
                      <a:pt x="3566" y="16"/>
                      <a:pt x="3563" y="16"/>
                    </a:cubicBezTo>
                    <a:cubicBezTo>
                      <a:pt x="3560" y="16"/>
                      <a:pt x="3557" y="12"/>
                      <a:pt x="3557" y="8"/>
                    </a:cubicBezTo>
                    <a:cubicBezTo>
                      <a:pt x="3557" y="3"/>
                      <a:pt x="3560" y="0"/>
                      <a:pt x="356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39040" y="3992760"/>
                <a:ext cx="2023200" cy="9360"/>
              </a:xfrm>
              <a:custGeom>
                <a:avLst/>
                <a:gdLst/>
                <a:ahLst/>
                <a:rect l="l" t="t" r="r" b="b"/>
                <a:pathLst>
                  <a:path w="3568" h="16">
                    <a:moveTo>
                      <a:pt x="6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8"/>
                    </a:cubicBezTo>
                    <a:cubicBezTo>
                      <a:pt x="90" y="12"/>
                      <a:pt x="87" y="16"/>
                      <a:pt x="84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  <a:moveTo>
                      <a:pt x="140" y="0"/>
                    </a:moveTo>
                    <a:lnTo>
                      <a:pt x="140" y="0"/>
                    </a:lnTo>
                    <a:cubicBezTo>
                      <a:pt x="143" y="0"/>
                      <a:pt x="146" y="3"/>
                      <a:pt x="146" y="8"/>
                    </a:cubicBezTo>
                    <a:cubicBezTo>
                      <a:pt x="146" y="12"/>
                      <a:pt x="143" y="16"/>
                      <a:pt x="140" y="16"/>
                    </a:cubicBezTo>
                    <a:cubicBezTo>
                      <a:pt x="137" y="16"/>
                      <a:pt x="135" y="12"/>
                      <a:pt x="135" y="8"/>
                    </a:cubicBezTo>
                    <a:cubicBezTo>
                      <a:pt x="135" y="3"/>
                      <a:pt x="137" y="0"/>
                      <a:pt x="140" y="0"/>
                    </a:cubicBezTo>
                    <a:close/>
                    <a:moveTo>
                      <a:pt x="196" y="0"/>
                    </a:moveTo>
                    <a:lnTo>
                      <a:pt x="275" y="0"/>
                    </a:lnTo>
                    <a:cubicBezTo>
                      <a:pt x="277" y="0"/>
                      <a:pt x="280" y="3"/>
                      <a:pt x="280" y="8"/>
                    </a:cubicBezTo>
                    <a:cubicBezTo>
                      <a:pt x="280" y="12"/>
                      <a:pt x="277" y="16"/>
                      <a:pt x="275" y="16"/>
                    </a:cubicBezTo>
                    <a:lnTo>
                      <a:pt x="196" y="16"/>
                    </a:lnTo>
                    <a:cubicBezTo>
                      <a:pt x="193" y="16"/>
                      <a:pt x="191" y="12"/>
                      <a:pt x="191" y="8"/>
                    </a:cubicBezTo>
                    <a:cubicBezTo>
                      <a:pt x="191" y="3"/>
                      <a:pt x="193" y="0"/>
                      <a:pt x="196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3" y="0"/>
                      <a:pt x="336" y="3"/>
                      <a:pt x="336" y="8"/>
                    </a:cubicBezTo>
                    <a:cubicBezTo>
                      <a:pt x="336" y="12"/>
                      <a:pt x="333" y="16"/>
                      <a:pt x="330" y="16"/>
                    </a:cubicBezTo>
                    <a:cubicBezTo>
                      <a:pt x="328" y="16"/>
                      <a:pt x="325" y="12"/>
                      <a:pt x="325" y="8"/>
                    </a:cubicBezTo>
                    <a:cubicBezTo>
                      <a:pt x="325" y="3"/>
                      <a:pt x="328" y="0"/>
                      <a:pt x="330" y="0"/>
                    </a:cubicBezTo>
                    <a:close/>
                    <a:moveTo>
                      <a:pt x="386" y="0"/>
                    </a:moveTo>
                    <a:lnTo>
                      <a:pt x="465" y="0"/>
                    </a:lnTo>
                    <a:cubicBezTo>
                      <a:pt x="467" y="0"/>
                      <a:pt x="470" y="3"/>
                      <a:pt x="470" y="8"/>
                    </a:cubicBezTo>
                    <a:cubicBezTo>
                      <a:pt x="470" y="12"/>
                      <a:pt x="467" y="16"/>
                      <a:pt x="465" y="16"/>
                    </a:cubicBezTo>
                    <a:lnTo>
                      <a:pt x="386" y="16"/>
                    </a:lnTo>
                    <a:cubicBezTo>
                      <a:pt x="384" y="16"/>
                      <a:pt x="381" y="12"/>
                      <a:pt x="381" y="8"/>
                    </a:cubicBezTo>
                    <a:cubicBezTo>
                      <a:pt x="381" y="3"/>
                      <a:pt x="384" y="0"/>
                      <a:pt x="386" y="0"/>
                    </a:cubicBezTo>
                    <a:close/>
                    <a:moveTo>
                      <a:pt x="521" y="0"/>
                    </a:moveTo>
                    <a:lnTo>
                      <a:pt x="521" y="0"/>
                    </a:lnTo>
                    <a:cubicBezTo>
                      <a:pt x="523" y="0"/>
                      <a:pt x="526" y="3"/>
                      <a:pt x="526" y="8"/>
                    </a:cubicBezTo>
                    <a:cubicBezTo>
                      <a:pt x="526" y="12"/>
                      <a:pt x="523" y="16"/>
                      <a:pt x="521" y="16"/>
                    </a:cubicBezTo>
                    <a:cubicBezTo>
                      <a:pt x="518" y="16"/>
                      <a:pt x="515" y="12"/>
                      <a:pt x="515" y="8"/>
                    </a:cubicBezTo>
                    <a:cubicBezTo>
                      <a:pt x="515" y="3"/>
                      <a:pt x="518" y="0"/>
                      <a:pt x="521" y="0"/>
                    </a:cubicBezTo>
                    <a:close/>
                    <a:moveTo>
                      <a:pt x="576" y="0"/>
                    </a:moveTo>
                    <a:lnTo>
                      <a:pt x="655" y="0"/>
                    </a:lnTo>
                    <a:cubicBezTo>
                      <a:pt x="658" y="0"/>
                      <a:pt x="660" y="3"/>
                      <a:pt x="660" y="8"/>
                    </a:cubicBezTo>
                    <a:cubicBezTo>
                      <a:pt x="660" y="12"/>
                      <a:pt x="658" y="16"/>
                      <a:pt x="655" y="16"/>
                    </a:cubicBezTo>
                    <a:lnTo>
                      <a:pt x="576" y="16"/>
                    </a:lnTo>
                    <a:cubicBezTo>
                      <a:pt x="574" y="16"/>
                      <a:pt x="571" y="12"/>
                      <a:pt x="571" y="8"/>
                    </a:cubicBezTo>
                    <a:cubicBezTo>
                      <a:pt x="571" y="3"/>
                      <a:pt x="574" y="0"/>
                      <a:pt x="576" y="0"/>
                    </a:cubicBezTo>
                    <a:close/>
                    <a:moveTo>
                      <a:pt x="711" y="0"/>
                    </a:moveTo>
                    <a:lnTo>
                      <a:pt x="711" y="0"/>
                    </a:lnTo>
                    <a:cubicBezTo>
                      <a:pt x="714" y="0"/>
                      <a:pt x="716" y="3"/>
                      <a:pt x="716" y="8"/>
                    </a:cubicBezTo>
                    <a:cubicBezTo>
                      <a:pt x="716" y="12"/>
                      <a:pt x="714" y="16"/>
                      <a:pt x="711" y="16"/>
                    </a:cubicBezTo>
                    <a:cubicBezTo>
                      <a:pt x="708" y="16"/>
                      <a:pt x="705" y="12"/>
                      <a:pt x="705" y="8"/>
                    </a:cubicBezTo>
                    <a:cubicBezTo>
                      <a:pt x="705" y="3"/>
                      <a:pt x="708" y="0"/>
                      <a:pt x="711" y="0"/>
                    </a:cubicBezTo>
                    <a:close/>
                    <a:moveTo>
                      <a:pt x="767" y="0"/>
                    </a:moveTo>
                    <a:lnTo>
                      <a:pt x="845" y="0"/>
                    </a:lnTo>
                    <a:cubicBezTo>
                      <a:pt x="848" y="0"/>
                      <a:pt x="851" y="3"/>
                      <a:pt x="851" y="8"/>
                    </a:cubicBezTo>
                    <a:cubicBezTo>
                      <a:pt x="851" y="12"/>
                      <a:pt x="848" y="16"/>
                      <a:pt x="845" y="16"/>
                    </a:cubicBezTo>
                    <a:lnTo>
                      <a:pt x="767" y="16"/>
                    </a:lnTo>
                    <a:cubicBezTo>
                      <a:pt x="764" y="16"/>
                      <a:pt x="761" y="12"/>
                      <a:pt x="761" y="8"/>
                    </a:cubicBezTo>
                    <a:cubicBezTo>
                      <a:pt x="761" y="3"/>
                      <a:pt x="764" y="0"/>
                      <a:pt x="767" y="0"/>
                    </a:cubicBezTo>
                    <a:close/>
                    <a:moveTo>
                      <a:pt x="901" y="0"/>
                    </a:moveTo>
                    <a:lnTo>
                      <a:pt x="901" y="0"/>
                    </a:lnTo>
                    <a:cubicBezTo>
                      <a:pt x="904" y="0"/>
                      <a:pt x="906" y="3"/>
                      <a:pt x="906" y="8"/>
                    </a:cubicBezTo>
                    <a:cubicBezTo>
                      <a:pt x="906" y="12"/>
                      <a:pt x="904" y="16"/>
                      <a:pt x="901" y="16"/>
                    </a:cubicBezTo>
                    <a:cubicBezTo>
                      <a:pt x="898" y="16"/>
                      <a:pt x="895" y="12"/>
                      <a:pt x="895" y="8"/>
                    </a:cubicBezTo>
                    <a:cubicBezTo>
                      <a:pt x="895" y="3"/>
                      <a:pt x="898" y="0"/>
                      <a:pt x="901" y="0"/>
                    </a:cubicBezTo>
                    <a:close/>
                    <a:moveTo>
                      <a:pt x="957" y="0"/>
                    </a:moveTo>
                    <a:lnTo>
                      <a:pt x="1035" y="0"/>
                    </a:lnTo>
                    <a:cubicBezTo>
                      <a:pt x="1038" y="0"/>
                      <a:pt x="1041" y="3"/>
                      <a:pt x="1041" y="8"/>
                    </a:cubicBezTo>
                    <a:cubicBezTo>
                      <a:pt x="1041" y="12"/>
                      <a:pt x="1038" y="16"/>
                      <a:pt x="1035" y="16"/>
                    </a:cubicBezTo>
                    <a:lnTo>
                      <a:pt x="957" y="16"/>
                    </a:lnTo>
                    <a:cubicBezTo>
                      <a:pt x="954" y="16"/>
                      <a:pt x="951" y="12"/>
                      <a:pt x="951" y="8"/>
                    </a:cubicBezTo>
                    <a:cubicBezTo>
                      <a:pt x="951" y="3"/>
                      <a:pt x="954" y="0"/>
                      <a:pt x="957" y="0"/>
                    </a:cubicBezTo>
                    <a:close/>
                    <a:moveTo>
                      <a:pt x="1091" y="0"/>
                    </a:moveTo>
                    <a:lnTo>
                      <a:pt x="1091" y="0"/>
                    </a:lnTo>
                    <a:cubicBezTo>
                      <a:pt x="1094" y="0"/>
                      <a:pt x="1097" y="3"/>
                      <a:pt x="1097" y="8"/>
                    </a:cubicBezTo>
                    <a:cubicBezTo>
                      <a:pt x="1097" y="12"/>
                      <a:pt x="1094" y="16"/>
                      <a:pt x="1091" y="16"/>
                    </a:cubicBezTo>
                    <a:cubicBezTo>
                      <a:pt x="1088" y="16"/>
                      <a:pt x="1085" y="12"/>
                      <a:pt x="1085" y="8"/>
                    </a:cubicBezTo>
                    <a:cubicBezTo>
                      <a:pt x="1085" y="3"/>
                      <a:pt x="1088" y="0"/>
                      <a:pt x="1091" y="0"/>
                    </a:cubicBezTo>
                    <a:close/>
                    <a:moveTo>
                      <a:pt x="1147" y="0"/>
                    </a:moveTo>
                    <a:lnTo>
                      <a:pt x="1225" y="0"/>
                    </a:lnTo>
                    <a:cubicBezTo>
                      <a:pt x="1228" y="0"/>
                      <a:pt x="1231" y="3"/>
                      <a:pt x="1231" y="8"/>
                    </a:cubicBezTo>
                    <a:cubicBezTo>
                      <a:pt x="1231" y="12"/>
                      <a:pt x="1228" y="16"/>
                      <a:pt x="1225" y="16"/>
                    </a:cubicBezTo>
                    <a:lnTo>
                      <a:pt x="1147" y="16"/>
                    </a:lnTo>
                    <a:cubicBezTo>
                      <a:pt x="1144" y="16"/>
                      <a:pt x="1141" y="12"/>
                      <a:pt x="1141" y="8"/>
                    </a:cubicBezTo>
                    <a:cubicBezTo>
                      <a:pt x="1141" y="3"/>
                      <a:pt x="1144" y="0"/>
                      <a:pt x="1147" y="0"/>
                    </a:cubicBezTo>
                    <a:close/>
                    <a:moveTo>
                      <a:pt x="1281" y="0"/>
                    </a:moveTo>
                    <a:lnTo>
                      <a:pt x="1281" y="0"/>
                    </a:lnTo>
                    <a:cubicBezTo>
                      <a:pt x="1284" y="0"/>
                      <a:pt x="1287" y="3"/>
                      <a:pt x="1287" y="8"/>
                    </a:cubicBezTo>
                    <a:cubicBezTo>
                      <a:pt x="1287" y="12"/>
                      <a:pt x="1284" y="16"/>
                      <a:pt x="1281" y="16"/>
                    </a:cubicBezTo>
                    <a:cubicBezTo>
                      <a:pt x="1278" y="16"/>
                      <a:pt x="1276" y="12"/>
                      <a:pt x="1276" y="8"/>
                    </a:cubicBezTo>
                    <a:cubicBezTo>
                      <a:pt x="1276" y="3"/>
                      <a:pt x="1278" y="0"/>
                      <a:pt x="1281" y="0"/>
                    </a:cubicBezTo>
                    <a:close/>
                    <a:moveTo>
                      <a:pt x="1337" y="0"/>
                    </a:moveTo>
                    <a:lnTo>
                      <a:pt x="1415" y="0"/>
                    </a:lnTo>
                    <a:cubicBezTo>
                      <a:pt x="1418" y="0"/>
                      <a:pt x="1421" y="3"/>
                      <a:pt x="1421" y="8"/>
                    </a:cubicBezTo>
                    <a:cubicBezTo>
                      <a:pt x="1421" y="12"/>
                      <a:pt x="1418" y="16"/>
                      <a:pt x="1415" y="16"/>
                    </a:cubicBezTo>
                    <a:lnTo>
                      <a:pt x="1337" y="16"/>
                    </a:lnTo>
                    <a:cubicBezTo>
                      <a:pt x="1334" y="16"/>
                      <a:pt x="1331" y="12"/>
                      <a:pt x="1331" y="8"/>
                    </a:cubicBezTo>
                    <a:cubicBezTo>
                      <a:pt x="1331" y="3"/>
                      <a:pt x="1334" y="0"/>
                      <a:pt x="1337" y="0"/>
                    </a:cubicBezTo>
                    <a:close/>
                    <a:moveTo>
                      <a:pt x="1471" y="0"/>
                    </a:moveTo>
                    <a:lnTo>
                      <a:pt x="1471" y="0"/>
                    </a:lnTo>
                    <a:cubicBezTo>
                      <a:pt x="1474" y="0"/>
                      <a:pt x="1477" y="3"/>
                      <a:pt x="1477" y="8"/>
                    </a:cubicBezTo>
                    <a:cubicBezTo>
                      <a:pt x="1477" y="12"/>
                      <a:pt x="1474" y="16"/>
                      <a:pt x="1471" y="16"/>
                    </a:cubicBezTo>
                    <a:cubicBezTo>
                      <a:pt x="1468" y="16"/>
                      <a:pt x="1466" y="12"/>
                      <a:pt x="1466" y="8"/>
                    </a:cubicBezTo>
                    <a:cubicBezTo>
                      <a:pt x="1466" y="3"/>
                      <a:pt x="1468" y="0"/>
                      <a:pt x="1471" y="0"/>
                    </a:cubicBezTo>
                    <a:close/>
                    <a:moveTo>
                      <a:pt x="1527" y="0"/>
                    </a:moveTo>
                    <a:lnTo>
                      <a:pt x="1606" y="0"/>
                    </a:lnTo>
                    <a:cubicBezTo>
                      <a:pt x="1608" y="0"/>
                      <a:pt x="1611" y="3"/>
                      <a:pt x="1611" y="8"/>
                    </a:cubicBezTo>
                    <a:cubicBezTo>
                      <a:pt x="1611" y="12"/>
                      <a:pt x="1608" y="16"/>
                      <a:pt x="1606" y="16"/>
                    </a:cubicBezTo>
                    <a:lnTo>
                      <a:pt x="1527" y="16"/>
                    </a:lnTo>
                    <a:cubicBezTo>
                      <a:pt x="1524" y="16"/>
                      <a:pt x="1522" y="12"/>
                      <a:pt x="1522" y="8"/>
                    </a:cubicBezTo>
                    <a:cubicBezTo>
                      <a:pt x="1522" y="3"/>
                      <a:pt x="1524" y="0"/>
                      <a:pt x="1527" y="0"/>
                    </a:cubicBezTo>
                    <a:close/>
                    <a:moveTo>
                      <a:pt x="1661" y="0"/>
                    </a:moveTo>
                    <a:lnTo>
                      <a:pt x="1661" y="0"/>
                    </a:lnTo>
                    <a:cubicBezTo>
                      <a:pt x="1664" y="0"/>
                      <a:pt x="1667" y="3"/>
                      <a:pt x="1667" y="8"/>
                    </a:cubicBezTo>
                    <a:cubicBezTo>
                      <a:pt x="1667" y="12"/>
                      <a:pt x="1664" y="16"/>
                      <a:pt x="1661" y="16"/>
                    </a:cubicBezTo>
                    <a:cubicBezTo>
                      <a:pt x="1659" y="16"/>
                      <a:pt x="1656" y="12"/>
                      <a:pt x="1656" y="8"/>
                    </a:cubicBezTo>
                    <a:cubicBezTo>
                      <a:pt x="1656" y="3"/>
                      <a:pt x="1659" y="0"/>
                      <a:pt x="1661" y="0"/>
                    </a:cubicBezTo>
                    <a:close/>
                    <a:moveTo>
                      <a:pt x="1717" y="0"/>
                    </a:moveTo>
                    <a:lnTo>
                      <a:pt x="1796" y="0"/>
                    </a:lnTo>
                    <a:cubicBezTo>
                      <a:pt x="1798" y="0"/>
                      <a:pt x="1801" y="3"/>
                      <a:pt x="1801" y="8"/>
                    </a:cubicBezTo>
                    <a:cubicBezTo>
                      <a:pt x="1801" y="12"/>
                      <a:pt x="1798" y="16"/>
                      <a:pt x="1796" y="16"/>
                    </a:cubicBezTo>
                    <a:lnTo>
                      <a:pt x="1717" y="16"/>
                    </a:lnTo>
                    <a:cubicBezTo>
                      <a:pt x="1715" y="16"/>
                      <a:pt x="1712" y="12"/>
                      <a:pt x="1712" y="8"/>
                    </a:cubicBezTo>
                    <a:cubicBezTo>
                      <a:pt x="1712" y="3"/>
                      <a:pt x="1715" y="0"/>
                      <a:pt x="1717" y="0"/>
                    </a:cubicBezTo>
                    <a:close/>
                    <a:moveTo>
                      <a:pt x="1852" y="0"/>
                    </a:moveTo>
                    <a:lnTo>
                      <a:pt x="1852" y="0"/>
                    </a:lnTo>
                    <a:cubicBezTo>
                      <a:pt x="1854" y="0"/>
                      <a:pt x="1857" y="3"/>
                      <a:pt x="1857" y="8"/>
                    </a:cubicBezTo>
                    <a:cubicBezTo>
                      <a:pt x="1857" y="12"/>
                      <a:pt x="1854" y="16"/>
                      <a:pt x="1852" y="16"/>
                    </a:cubicBezTo>
                    <a:cubicBezTo>
                      <a:pt x="1849" y="16"/>
                      <a:pt x="1846" y="12"/>
                      <a:pt x="1846" y="8"/>
                    </a:cubicBezTo>
                    <a:cubicBezTo>
                      <a:pt x="1846" y="3"/>
                      <a:pt x="1849" y="0"/>
                      <a:pt x="1852" y="0"/>
                    </a:cubicBezTo>
                    <a:close/>
                    <a:moveTo>
                      <a:pt x="1908" y="0"/>
                    </a:moveTo>
                    <a:lnTo>
                      <a:pt x="1986" y="0"/>
                    </a:lnTo>
                    <a:cubicBezTo>
                      <a:pt x="1989" y="0"/>
                      <a:pt x="1991" y="3"/>
                      <a:pt x="1991" y="8"/>
                    </a:cubicBezTo>
                    <a:cubicBezTo>
                      <a:pt x="1991" y="12"/>
                      <a:pt x="1989" y="16"/>
                      <a:pt x="1986" y="16"/>
                    </a:cubicBezTo>
                    <a:lnTo>
                      <a:pt x="1908" y="16"/>
                    </a:lnTo>
                    <a:cubicBezTo>
                      <a:pt x="1905" y="16"/>
                      <a:pt x="1902" y="12"/>
                      <a:pt x="1902" y="8"/>
                    </a:cubicBezTo>
                    <a:cubicBezTo>
                      <a:pt x="1902" y="3"/>
                      <a:pt x="1905" y="0"/>
                      <a:pt x="1908" y="0"/>
                    </a:cubicBezTo>
                    <a:close/>
                    <a:moveTo>
                      <a:pt x="2042" y="0"/>
                    </a:moveTo>
                    <a:lnTo>
                      <a:pt x="2042" y="0"/>
                    </a:lnTo>
                    <a:cubicBezTo>
                      <a:pt x="2045" y="0"/>
                      <a:pt x="2047" y="3"/>
                      <a:pt x="2047" y="8"/>
                    </a:cubicBezTo>
                    <a:cubicBezTo>
                      <a:pt x="2047" y="12"/>
                      <a:pt x="2045" y="16"/>
                      <a:pt x="2042" y="16"/>
                    </a:cubicBezTo>
                    <a:cubicBezTo>
                      <a:pt x="2039" y="16"/>
                      <a:pt x="2036" y="12"/>
                      <a:pt x="2036" y="8"/>
                    </a:cubicBezTo>
                    <a:cubicBezTo>
                      <a:pt x="2036" y="3"/>
                      <a:pt x="2039" y="0"/>
                      <a:pt x="2042" y="0"/>
                    </a:cubicBezTo>
                    <a:close/>
                    <a:moveTo>
                      <a:pt x="2098" y="0"/>
                    </a:moveTo>
                    <a:lnTo>
                      <a:pt x="2176" y="0"/>
                    </a:lnTo>
                    <a:cubicBezTo>
                      <a:pt x="2179" y="0"/>
                      <a:pt x="2182" y="3"/>
                      <a:pt x="2182" y="8"/>
                    </a:cubicBezTo>
                    <a:cubicBezTo>
                      <a:pt x="2182" y="12"/>
                      <a:pt x="2179" y="16"/>
                      <a:pt x="2176" y="16"/>
                    </a:cubicBezTo>
                    <a:lnTo>
                      <a:pt x="2098" y="16"/>
                    </a:lnTo>
                    <a:cubicBezTo>
                      <a:pt x="2095" y="16"/>
                      <a:pt x="2092" y="12"/>
                      <a:pt x="2092" y="8"/>
                    </a:cubicBezTo>
                    <a:cubicBezTo>
                      <a:pt x="2092" y="3"/>
                      <a:pt x="2095" y="0"/>
                      <a:pt x="2098" y="0"/>
                    </a:cubicBezTo>
                    <a:close/>
                    <a:moveTo>
                      <a:pt x="2232" y="0"/>
                    </a:moveTo>
                    <a:lnTo>
                      <a:pt x="2232" y="0"/>
                    </a:lnTo>
                    <a:cubicBezTo>
                      <a:pt x="2235" y="0"/>
                      <a:pt x="2237" y="3"/>
                      <a:pt x="2237" y="8"/>
                    </a:cubicBezTo>
                    <a:cubicBezTo>
                      <a:pt x="2237" y="12"/>
                      <a:pt x="2235" y="16"/>
                      <a:pt x="2232" y="16"/>
                    </a:cubicBezTo>
                    <a:cubicBezTo>
                      <a:pt x="2229" y="16"/>
                      <a:pt x="2226" y="12"/>
                      <a:pt x="2226" y="8"/>
                    </a:cubicBezTo>
                    <a:cubicBezTo>
                      <a:pt x="2226" y="3"/>
                      <a:pt x="2229" y="0"/>
                      <a:pt x="2232" y="0"/>
                    </a:cubicBezTo>
                    <a:close/>
                    <a:moveTo>
                      <a:pt x="2288" y="0"/>
                    </a:moveTo>
                    <a:lnTo>
                      <a:pt x="2366" y="0"/>
                    </a:lnTo>
                    <a:cubicBezTo>
                      <a:pt x="2370" y="0"/>
                      <a:pt x="2372" y="3"/>
                      <a:pt x="2372" y="8"/>
                    </a:cubicBezTo>
                    <a:cubicBezTo>
                      <a:pt x="2372" y="12"/>
                      <a:pt x="2370" y="16"/>
                      <a:pt x="2366" y="16"/>
                    </a:cubicBezTo>
                    <a:lnTo>
                      <a:pt x="2288" y="16"/>
                    </a:lnTo>
                    <a:cubicBezTo>
                      <a:pt x="2285" y="16"/>
                      <a:pt x="2282" y="12"/>
                      <a:pt x="2282" y="8"/>
                    </a:cubicBezTo>
                    <a:cubicBezTo>
                      <a:pt x="2282" y="3"/>
                      <a:pt x="2285" y="0"/>
                      <a:pt x="2288" y="0"/>
                    </a:cubicBezTo>
                    <a:close/>
                    <a:moveTo>
                      <a:pt x="2422" y="0"/>
                    </a:moveTo>
                    <a:lnTo>
                      <a:pt x="2422" y="0"/>
                    </a:lnTo>
                    <a:cubicBezTo>
                      <a:pt x="2426" y="0"/>
                      <a:pt x="2428" y="3"/>
                      <a:pt x="2428" y="8"/>
                    </a:cubicBezTo>
                    <a:cubicBezTo>
                      <a:pt x="2428" y="12"/>
                      <a:pt x="2426" y="16"/>
                      <a:pt x="2422" y="16"/>
                    </a:cubicBezTo>
                    <a:cubicBezTo>
                      <a:pt x="2419" y="16"/>
                      <a:pt x="2416" y="12"/>
                      <a:pt x="2416" y="8"/>
                    </a:cubicBezTo>
                    <a:cubicBezTo>
                      <a:pt x="2416" y="3"/>
                      <a:pt x="2419" y="0"/>
                      <a:pt x="2422" y="0"/>
                    </a:cubicBezTo>
                    <a:close/>
                    <a:moveTo>
                      <a:pt x="2478" y="0"/>
                    </a:moveTo>
                    <a:lnTo>
                      <a:pt x="2556" y="0"/>
                    </a:lnTo>
                    <a:cubicBezTo>
                      <a:pt x="2560" y="0"/>
                      <a:pt x="2562" y="3"/>
                      <a:pt x="2562" y="8"/>
                    </a:cubicBezTo>
                    <a:cubicBezTo>
                      <a:pt x="2562" y="12"/>
                      <a:pt x="2560" y="16"/>
                      <a:pt x="2556" y="16"/>
                    </a:cubicBezTo>
                    <a:lnTo>
                      <a:pt x="2478" y="16"/>
                    </a:lnTo>
                    <a:cubicBezTo>
                      <a:pt x="2475" y="16"/>
                      <a:pt x="2472" y="12"/>
                      <a:pt x="2472" y="8"/>
                    </a:cubicBezTo>
                    <a:cubicBezTo>
                      <a:pt x="2472" y="3"/>
                      <a:pt x="2475" y="0"/>
                      <a:pt x="2478" y="0"/>
                    </a:cubicBezTo>
                    <a:close/>
                    <a:moveTo>
                      <a:pt x="2612" y="0"/>
                    </a:moveTo>
                    <a:lnTo>
                      <a:pt x="2612" y="0"/>
                    </a:lnTo>
                    <a:cubicBezTo>
                      <a:pt x="2616" y="0"/>
                      <a:pt x="2618" y="3"/>
                      <a:pt x="2618" y="8"/>
                    </a:cubicBezTo>
                    <a:cubicBezTo>
                      <a:pt x="2618" y="12"/>
                      <a:pt x="2616" y="16"/>
                      <a:pt x="2612" y="16"/>
                    </a:cubicBezTo>
                    <a:cubicBezTo>
                      <a:pt x="2609" y="16"/>
                      <a:pt x="2607" y="12"/>
                      <a:pt x="2607" y="8"/>
                    </a:cubicBezTo>
                    <a:cubicBezTo>
                      <a:pt x="2607" y="3"/>
                      <a:pt x="2609" y="0"/>
                      <a:pt x="2612" y="0"/>
                    </a:cubicBezTo>
                    <a:close/>
                    <a:moveTo>
                      <a:pt x="2668" y="0"/>
                    </a:moveTo>
                    <a:lnTo>
                      <a:pt x="2746" y="0"/>
                    </a:lnTo>
                    <a:cubicBezTo>
                      <a:pt x="2750" y="0"/>
                      <a:pt x="2752" y="3"/>
                      <a:pt x="2752" y="8"/>
                    </a:cubicBezTo>
                    <a:cubicBezTo>
                      <a:pt x="2752" y="12"/>
                      <a:pt x="2750" y="16"/>
                      <a:pt x="2746" y="16"/>
                    </a:cubicBezTo>
                    <a:lnTo>
                      <a:pt x="2668" y="16"/>
                    </a:lnTo>
                    <a:cubicBezTo>
                      <a:pt x="2665" y="16"/>
                      <a:pt x="2662" y="12"/>
                      <a:pt x="2662" y="8"/>
                    </a:cubicBezTo>
                    <a:cubicBezTo>
                      <a:pt x="2662" y="3"/>
                      <a:pt x="2665" y="0"/>
                      <a:pt x="2668" y="0"/>
                    </a:cubicBezTo>
                    <a:close/>
                    <a:moveTo>
                      <a:pt x="2802" y="0"/>
                    </a:moveTo>
                    <a:lnTo>
                      <a:pt x="2802" y="0"/>
                    </a:lnTo>
                    <a:cubicBezTo>
                      <a:pt x="2806" y="0"/>
                      <a:pt x="2808" y="3"/>
                      <a:pt x="2808" y="8"/>
                    </a:cubicBezTo>
                    <a:cubicBezTo>
                      <a:pt x="2808" y="12"/>
                      <a:pt x="2806" y="16"/>
                      <a:pt x="2802" y="16"/>
                    </a:cubicBezTo>
                    <a:cubicBezTo>
                      <a:pt x="2800" y="16"/>
                      <a:pt x="2797" y="12"/>
                      <a:pt x="2797" y="8"/>
                    </a:cubicBezTo>
                    <a:cubicBezTo>
                      <a:pt x="2797" y="3"/>
                      <a:pt x="2800" y="0"/>
                      <a:pt x="2802" y="0"/>
                    </a:cubicBezTo>
                    <a:close/>
                    <a:moveTo>
                      <a:pt x="2858" y="0"/>
                    </a:moveTo>
                    <a:lnTo>
                      <a:pt x="2937" y="0"/>
                    </a:lnTo>
                    <a:cubicBezTo>
                      <a:pt x="2940" y="0"/>
                      <a:pt x="2942" y="3"/>
                      <a:pt x="2942" y="8"/>
                    </a:cubicBezTo>
                    <a:cubicBezTo>
                      <a:pt x="2942" y="12"/>
                      <a:pt x="2940" y="16"/>
                      <a:pt x="2937" y="16"/>
                    </a:cubicBezTo>
                    <a:lnTo>
                      <a:pt x="2858" y="16"/>
                    </a:lnTo>
                    <a:cubicBezTo>
                      <a:pt x="2855" y="16"/>
                      <a:pt x="2853" y="12"/>
                      <a:pt x="2853" y="8"/>
                    </a:cubicBezTo>
                    <a:cubicBezTo>
                      <a:pt x="2853" y="3"/>
                      <a:pt x="2855" y="0"/>
                      <a:pt x="2858" y="0"/>
                    </a:cubicBezTo>
                    <a:close/>
                    <a:moveTo>
                      <a:pt x="2992" y="0"/>
                    </a:moveTo>
                    <a:lnTo>
                      <a:pt x="2992" y="0"/>
                    </a:lnTo>
                    <a:cubicBezTo>
                      <a:pt x="2996" y="0"/>
                      <a:pt x="2998" y="3"/>
                      <a:pt x="2998" y="8"/>
                    </a:cubicBezTo>
                    <a:cubicBezTo>
                      <a:pt x="2998" y="12"/>
                      <a:pt x="2996" y="16"/>
                      <a:pt x="2992" y="16"/>
                    </a:cubicBezTo>
                    <a:cubicBezTo>
                      <a:pt x="2990" y="16"/>
                      <a:pt x="2987" y="12"/>
                      <a:pt x="2987" y="8"/>
                    </a:cubicBezTo>
                    <a:cubicBezTo>
                      <a:pt x="2987" y="3"/>
                      <a:pt x="2990" y="0"/>
                      <a:pt x="2992" y="0"/>
                    </a:cubicBezTo>
                    <a:close/>
                    <a:moveTo>
                      <a:pt x="3048" y="0"/>
                    </a:moveTo>
                    <a:lnTo>
                      <a:pt x="3127" y="0"/>
                    </a:lnTo>
                    <a:cubicBezTo>
                      <a:pt x="3130" y="0"/>
                      <a:pt x="3132" y="3"/>
                      <a:pt x="3132" y="8"/>
                    </a:cubicBezTo>
                    <a:cubicBezTo>
                      <a:pt x="3132" y="12"/>
                      <a:pt x="3130" y="16"/>
                      <a:pt x="3127" y="16"/>
                    </a:cubicBezTo>
                    <a:lnTo>
                      <a:pt x="3048" y="16"/>
                    </a:lnTo>
                    <a:cubicBezTo>
                      <a:pt x="3046" y="16"/>
                      <a:pt x="3043" y="12"/>
                      <a:pt x="3043" y="8"/>
                    </a:cubicBezTo>
                    <a:cubicBezTo>
                      <a:pt x="3043" y="3"/>
                      <a:pt x="3046" y="0"/>
                      <a:pt x="3048" y="0"/>
                    </a:cubicBezTo>
                    <a:close/>
                    <a:moveTo>
                      <a:pt x="3183" y="0"/>
                    </a:moveTo>
                    <a:lnTo>
                      <a:pt x="3183" y="0"/>
                    </a:lnTo>
                    <a:cubicBezTo>
                      <a:pt x="3186" y="0"/>
                      <a:pt x="3188" y="3"/>
                      <a:pt x="3188" y="8"/>
                    </a:cubicBezTo>
                    <a:cubicBezTo>
                      <a:pt x="3188" y="12"/>
                      <a:pt x="3186" y="16"/>
                      <a:pt x="3183" y="16"/>
                    </a:cubicBezTo>
                    <a:cubicBezTo>
                      <a:pt x="3180" y="16"/>
                      <a:pt x="3177" y="12"/>
                      <a:pt x="3177" y="8"/>
                    </a:cubicBezTo>
                    <a:cubicBezTo>
                      <a:pt x="3177" y="3"/>
                      <a:pt x="3180" y="0"/>
                      <a:pt x="3183" y="0"/>
                    </a:cubicBezTo>
                    <a:close/>
                    <a:moveTo>
                      <a:pt x="3239" y="0"/>
                    </a:moveTo>
                    <a:lnTo>
                      <a:pt x="3317" y="0"/>
                    </a:lnTo>
                    <a:cubicBezTo>
                      <a:pt x="3320" y="0"/>
                      <a:pt x="3322" y="3"/>
                      <a:pt x="3322" y="8"/>
                    </a:cubicBezTo>
                    <a:cubicBezTo>
                      <a:pt x="3322" y="12"/>
                      <a:pt x="3320" y="16"/>
                      <a:pt x="3317" y="16"/>
                    </a:cubicBezTo>
                    <a:lnTo>
                      <a:pt x="3239" y="16"/>
                    </a:lnTo>
                    <a:cubicBezTo>
                      <a:pt x="3236" y="16"/>
                      <a:pt x="3233" y="12"/>
                      <a:pt x="3233" y="8"/>
                    </a:cubicBezTo>
                    <a:cubicBezTo>
                      <a:pt x="3233" y="3"/>
                      <a:pt x="3236" y="0"/>
                      <a:pt x="3239" y="0"/>
                    </a:cubicBezTo>
                    <a:close/>
                    <a:moveTo>
                      <a:pt x="3373" y="0"/>
                    </a:moveTo>
                    <a:lnTo>
                      <a:pt x="3373" y="0"/>
                    </a:lnTo>
                    <a:cubicBezTo>
                      <a:pt x="3376" y="0"/>
                      <a:pt x="3378" y="3"/>
                      <a:pt x="3378" y="8"/>
                    </a:cubicBezTo>
                    <a:cubicBezTo>
                      <a:pt x="3378" y="12"/>
                      <a:pt x="3376" y="16"/>
                      <a:pt x="3373" y="16"/>
                    </a:cubicBezTo>
                    <a:cubicBezTo>
                      <a:pt x="3370" y="16"/>
                      <a:pt x="3367" y="12"/>
                      <a:pt x="3367" y="8"/>
                    </a:cubicBezTo>
                    <a:cubicBezTo>
                      <a:pt x="3367" y="3"/>
                      <a:pt x="3370" y="0"/>
                      <a:pt x="3373" y="0"/>
                    </a:cubicBezTo>
                    <a:close/>
                    <a:moveTo>
                      <a:pt x="3429" y="0"/>
                    </a:moveTo>
                    <a:lnTo>
                      <a:pt x="3507" y="0"/>
                    </a:lnTo>
                    <a:cubicBezTo>
                      <a:pt x="3510" y="0"/>
                      <a:pt x="3513" y="3"/>
                      <a:pt x="3513" y="8"/>
                    </a:cubicBezTo>
                    <a:cubicBezTo>
                      <a:pt x="3513" y="12"/>
                      <a:pt x="3510" y="16"/>
                      <a:pt x="3507" y="16"/>
                    </a:cubicBezTo>
                    <a:lnTo>
                      <a:pt x="3429" y="16"/>
                    </a:lnTo>
                    <a:cubicBezTo>
                      <a:pt x="3426" y="16"/>
                      <a:pt x="3423" y="12"/>
                      <a:pt x="3423" y="8"/>
                    </a:cubicBezTo>
                    <a:cubicBezTo>
                      <a:pt x="3423" y="3"/>
                      <a:pt x="3426" y="0"/>
                      <a:pt x="3429" y="0"/>
                    </a:cubicBezTo>
                    <a:close/>
                    <a:moveTo>
                      <a:pt x="3563" y="0"/>
                    </a:moveTo>
                    <a:lnTo>
                      <a:pt x="3563" y="0"/>
                    </a:lnTo>
                    <a:cubicBezTo>
                      <a:pt x="3566" y="0"/>
                      <a:pt x="3568" y="3"/>
                      <a:pt x="3568" y="8"/>
                    </a:cubicBezTo>
                    <a:cubicBezTo>
                      <a:pt x="3568" y="12"/>
                      <a:pt x="3566" y="16"/>
                      <a:pt x="3563" y="16"/>
                    </a:cubicBezTo>
                    <a:cubicBezTo>
                      <a:pt x="3560" y="16"/>
                      <a:pt x="3557" y="12"/>
                      <a:pt x="3557" y="8"/>
                    </a:cubicBezTo>
                    <a:cubicBezTo>
                      <a:pt x="3557" y="3"/>
                      <a:pt x="3560" y="0"/>
                      <a:pt x="3563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780520" y="4691520"/>
              <a:ext cx="169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17680" y="4691520"/>
              <a:ext cx="70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9520" y="4691520"/>
              <a:ext cx="387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arb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3120" y="4382640"/>
              <a:ext cx="235800" cy="12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63120" y="4382640"/>
              <a:ext cx="235800" cy="125388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90280" y="4638960"/>
              <a:ext cx="581040" cy="0"/>
            </a:xfrm>
            <a:prstGeom prst="line">
              <a:avLst/>
            </a:prstGeom>
            <a:ln cap="rnd"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96120" y="4340880"/>
              <a:ext cx="5950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Dilution 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35440" y="5703840"/>
              <a:ext cx="9000" cy="32220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35440" y="5703840"/>
              <a:ext cx="9000" cy="3222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44440" y="5703840"/>
              <a:ext cx="8640" cy="322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53440" y="5703840"/>
              <a:ext cx="9000" cy="32220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62440" y="5703840"/>
              <a:ext cx="9000" cy="322200"/>
            </a:xfrm>
            <a:prstGeom prst="rect">
              <a:avLst/>
            </a:pr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2440" y="5703840"/>
              <a:ext cx="9000" cy="32220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371440" y="5703840"/>
              <a:ext cx="9000" cy="32220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80440" y="5703840"/>
              <a:ext cx="9000" cy="32220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380440" y="5703840"/>
              <a:ext cx="9000" cy="32220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89440" y="5703840"/>
              <a:ext cx="10080" cy="32220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99520" y="5703840"/>
              <a:ext cx="9000" cy="3222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99520" y="5703840"/>
              <a:ext cx="9000" cy="32220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08520" y="5703840"/>
              <a:ext cx="9000" cy="322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17520" y="5703840"/>
              <a:ext cx="9000" cy="32220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26520" y="5703840"/>
              <a:ext cx="9000" cy="32220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426520" y="5703840"/>
              <a:ext cx="9000" cy="32220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435520" y="5703840"/>
              <a:ext cx="9000" cy="3222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44520" y="5703840"/>
              <a:ext cx="8640" cy="32220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44520" y="5703840"/>
              <a:ext cx="8640" cy="32220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453520" y="5703840"/>
              <a:ext cx="9000" cy="322200"/>
            </a:xfrm>
            <a:prstGeom prst="rect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462520" y="5703840"/>
              <a:ext cx="9000" cy="322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62520" y="5703840"/>
              <a:ext cx="9000" cy="32220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471520" y="5703840"/>
              <a:ext cx="9000" cy="3222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480520" y="5703840"/>
              <a:ext cx="9000" cy="322200"/>
            </a:xfrm>
            <a:prstGeom prst="rect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89520" y="5703840"/>
              <a:ext cx="9000" cy="32220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44440" y="5712840"/>
              <a:ext cx="135720" cy="303840"/>
            </a:xfrm>
            <a:custGeom>
              <a:avLst/>
              <a:gdLst/>
              <a:ahLst/>
              <a:rect l="l" t="t" r="r" b="b"/>
              <a:pathLst>
                <a:path w="106" h="226">
                  <a:moveTo>
                    <a:pt x="78" y="226"/>
                  </a:moveTo>
                  <a:lnTo>
                    <a:pt x="28" y="22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06" y="0"/>
                  </a:lnTo>
                  <a:lnTo>
                    <a:pt x="106" y="56"/>
                  </a:lnTo>
                  <a:lnTo>
                    <a:pt x="78" y="226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71440" y="5636520"/>
              <a:ext cx="81720" cy="7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71440" y="5636520"/>
              <a:ext cx="81720" cy="763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8399520" y="5750640"/>
              <a:ext cx="27000" cy="28080"/>
              <a:chOff x="8399520" y="5750640"/>
              <a:chExt cx="27000" cy="28080"/>
            </a:xfrm>
          </p:grpSpPr>
          <p:sp>
            <p:nvSpPr>
              <p:cNvPr id="576" name=""/>
              <p:cNvSpPr/>
              <p:nvPr/>
            </p:nvSpPr>
            <p:spPr>
              <a:xfrm>
                <a:off x="8399520" y="5750640"/>
                <a:ext cx="27000" cy="2808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399520" y="5750640"/>
                <a:ext cx="27000" cy="2808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8399520" y="5750640"/>
              <a:ext cx="27000" cy="28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81560" y="5636520"/>
              <a:ext cx="426960" cy="123480"/>
            </a:xfrm>
            <a:custGeom>
              <a:avLst/>
              <a:gdLst/>
              <a:ahLst/>
              <a:rect l="l" t="t" r="r" b="b"/>
              <a:pathLst>
                <a:path w="333" h="92">
                  <a:moveTo>
                    <a:pt x="0" y="0"/>
                  </a:moveTo>
                  <a:lnTo>
                    <a:pt x="0" y="92"/>
                  </a:lnTo>
                  <a:lnTo>
                    <a:pt x="333" y="92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408520" y="5484600"/>
              <a:ext cx="243720" cy="655920"/>
            </a:xfrm>
            <a:custGeom>
              <a:avLst/>
              <a:gdLst/>
              <a:ahLst/>
              <a:rect l="l" t="t" r="r" b="b"/>
              <a:pathLst>
                <a:path w="190" h="488">
                  <a:moveTo>
                    <a:pt x="0" y="113"/>
                  </a:moveTo>
                  <a:lnTo>
                    <a:pt x="0" y="0"/>
                  </a:lnTo>
                  <a:lnTo>
                    <a:pt x="190" y="0"/>
                  </a:lnTo>
                  <a:lnTo>
                    <a:pt x="190" y="488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535600" y="6140520"/>
              <a:ext cx="234720" cy="1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535600" y="6140520"/>
              <a:ext cx="234720" cy="151560"/>
            </a:xfrm>
            <a:prstGeom prst="rect">
              <a:avLst/>
            </a:prstGeom>
            <a:noFill/>
            <a:ln cap="rnd"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575560" y="6144480"/>
              <a:ext cx="189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P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135280" y="6082560"/>
              <a:ext cx="507960" cy="360"/>
            </a:xfrm>
            <a:custGeom>
              <a:avLst/>
              <a:gdLst/>
              <a:ahLst/>
              <a:rect l="l" t="t" r="r" b="b"/>
              <a:pathLst>
                <a:path w="896" h="0">
                  <a:moveTo>
                    <a:pt x="6" y="0"/>
                  </a:moveTo>
                  <a:lnTo>
                    <a:pt x="84" y="0"/>
                  </a:lnTo>
                  <a:cubicBezTo>
                    <a:pt x="87" y="0"/>
                    <a:pt x="90" y="0"/>
                    <a:pt x="90" y="0"/>
                  </a:cubicBezTo>
                  <a:cubicBezTo>
                    <a:pt x="90" y="0"/>
                    <a:pt x="87" y="0"/>
                    <a:pt x="84" y="0"/>
                  </a:cubicBezTo>
                  <a:lnTo>
                    <a:pt x="6" y="0"/>
                  </a:lnTo>
                  <a:cubicBezTo>
                    <a:pt x="3" y="0"/>
                    <a:pt x="0" y="0"/>
                    <a:pt x="0" y="0"/>
                  </a:cubicBezTo>
                  <a:cubicBezTo>
                    <a:pt x="0" y="0"/>
                    <a:pt x="3" y="0"/>
                    <a:pt x="6" y="0"/>
                  </a:cubicBezTo>
                  <a:close/>
                  <a:moveTo>
                    <a:pt x="140" y="0"/>
                  </a:moveTo>
                  <a:lnTo>
                    <a:pt x="219" y="0"/>
                  </a:lnTo>
                  <a:cubicBezTo>
                    <a:pt x="222" y="0"/>
                    <a:pt x="224" y="0"/>
                    <a:pt x="224" y="0"/>
                  </a:cubicBezTo>
                  <a:cubicBezTo>
                    <a:pt x="224" y="0"/>
                    <a:pt x="222" y="0"/>
                    <a:pt x="219" y="0"/>
                  </a:cubicBezTo>
                  <a:lnTo>
                    <a:pt x="140" y="0"/>
                  </a:lnTo>
                  <a:cubicBezTo>
                    <a:pt x="138" y="0"/>
                    <a:pt x="135" y="0"/>
                    <a:pt x="135" y="0"/>
                  </a:cubicBezTo>
                  <a:cubicBezTo>
                    <a:pt x="135" y="0"/>
                    <a:pt x="138" y="0"/>
                    <a:pt x="140" y="0"/>
                  </a:cubicBezTo>
                  <a:close/>
                  <a:moveTo>
                    <a:pt x="275" y="0"/>
                  </a:moveTo>
                  <a:lnTo>
                    <a:pt x="353" y="0"/>
                  </a:lnTo>
                  <a:cubicBezTo>
                    <a:pt x="356" y="0"/>
                    <a:pt x="359" y="0"/>
                    <a:pt x="359" y="0"/>
                  </a:cubicBezTo>
                  <a:cubicBezTo>
                    <a:pt x="359" y="0"/>
                    <a:pt x="356" y="0"/>
                    <a:pt x="353" y="0"/>
                  </a:cubicBezTo>
                  <a:lnTo>
                    <a:pt x="275" y="0"/>
                  </a:lnTo>
                  <a:cubicBezTo>
                    <a:pt x="272" y="0"/>
                    <a:pt x="269" y="0"/>
                    <a:pt x="269" y="0"/>
                  </a:cubicBezTo>
                  <a:cubicBezTo>
                    <a:pt x="269" y="0"/>
                    <a:pt x="272" y="0"/>
                    <a:pt x="275" y="0"/>
                  </a:cubicBezTo>
                  <a:close/>
                  <a:moveTo>
                    <a:pt x="409" y="0"/>
                  </a:moveTo>
                  <a:lnTo>
                    <a:pt x="488" y="0"/>
                  </a:lnTo>
                  <a:cubicBezTo>
                    <a:pt x="490" y="0"/>
                    <a:pt x="493" y="0"/>
                    <a:pt x="493" y="0"/>
                  </a:cubicBezTo>
                  <a:cubicBezTo>
                    <a:pt x="493" y="0"/>
                    <a:pt x="490" y="0"/>
                    <a:pt x="488" y="0"/>
                  </a:cubicBezTo>
                  <a:lnTo>
                    <a:pt x="409" y="0"/>
                  </a:lnTo>
                  <a:cubicBezTo>
                    <a:pt x="406" y="0"/>
                    <a:pt x="404" y="0"/>
                    <a:pt x="404" y="0"/>
                  </a:cubicBezTo>
                  <a:cubicBezTo>
                    <a:pt x="404" y="0"/>
                    <a:pt x="406" y="0"/>
                    <a:pt x="409" y="0"/>
                  </a:cubicBezTo>
                  <a:close/>
                  <a:moveTo>
                    <a:pt x="544" y="0"/>
                  </a:moveTo>
                  <a:lnTo>
                    <a:pt x="622" y="0"/>
                  </a:lnTo>
                  <a:cubicBezTo>
                    <a:pt x="625" y="0"/>
                    <a:pt x="628" y="0"/>
                    <a:pt x="628" y="0"/>
                  </a:cubicBezTo>
                  <a:cubicBezTo>
                    <a:pt x="628" y="0"/>
                    <a:pt x="625" y="0"/>
                    <a:pt x="622" y="0"/>
                  </a:cubicBezTo>
                  <a:lnTo>
                    <a:pt x="544" y="0"/>
                  </a:lnTo>
                  <a:cubicBezTo>
                    <a:pt x="541" y="0"/>
                    <a:pt x="538" y="0"/>
                    <a:pt x="538" y="0"/>
                  </a:cubicBezTo>
                  <a:cubicBezTo>
                    <a:pt x="538" y="0"/>
                    <a:pt x="541" y="0"/>
                    <a:pt x="544" y="0"/>
                  </a:cubicBezTo>
                  <a:close/>
                  <a:moveTo>
                    <a:pt x="678" y="0"/>
                  </a:moveTo>
                  <a:lnTo>
                    <a:pt x="756" y="0"/>
                  </a:lnTo>
                  <a:cubicBezTo>
                    <a:pt x="759" y="0"/>
                    <a:pt x="762" y="0"/>
                    <a:pt x="762" y="0"/>
                  </a:cubicBezTo>
                  <a:cubicBezTo>
                    <a:pt x="762" y="0"/>
                    <a:pt x="759" y="0"/>
                    <a:pt x="756" y="0"/>
                  </a:cubicBezTo>
                  <a:lnTo>
                    <a:pt x="678" y="0"/>
                  </a:lnTo>
                  <a:cubicBezTo>
                    <a:pt x="675" y="0"/>
                    <a:pt x="672" y="0"/>
                    <a:pt x="672" y="0"/>
                  </a:cubicBezTo>
                  <a:cubicBezTo>
                    <a:pt x="672" y="0"/>
                    <a:pt x="675" y="0"/>
                    <a:pt x="678" y="0"/>
                  </a:cubicBezTo>
                  <a:close/>
                  <a:moveTo>
                    <a:pt x="812" y="0"/>
                  </a:moveTo>
                  <a:lnTo>
                    <a:pt x="891" y="0"/>
                  </a:lnTo>
                  <a:cubicBezTo>
                    <a:pt x="894" y="0"/>
                    <a:pt x="896" y="0"/>
                    <a:pt x="896" y="0"/>
                  </a:cubicBezTo>
                  <a:cubicBezTo>
                    <a:pt x="896" y="0"/>
                    <a:pt x="894" y="0"/>
                    <a:pt x="891" y="0"/>
                  </a:cubicBezTo>
                  <a:lnTo>
                    <a:pt x="812" y="0"/>
                  </a:lnTo>
                  <a:cubicBezTo>
                    <a:pt x="810" y="0"/>
                    <a:pt x="807" y="0"/>
                    <a:pt x="807" y="0"/>
                  </a:cubicBezTo>
                  <a:cubicBezTo>
                    <a:pt x="807" y="0"/>
                    <a:pt x="810" y="0"/>
                    <a:pt x="812" y="0"/>
                  </a:cubicBezTo>
                  <a:close/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41440" y="6040800"/>
              <a:ext cx="1407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59160" y="6040800"/>
              <a:ext cx="70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11360" y="6040800"/>
              <a:ext cx="70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9680" y="6040800"/>
              <a:ext cx="1425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299440" y="4762800"/>
              <a:ext cx="280800" cy="0"/>
            </a:xfrm>
            <a:prstGeom prst="line">
              <a:avLst/>
            </a:prstGeom>
            <a:ln cap="rnd"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17360" y="4733280"/>
              <a:ext cx="81720" cy="576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4" y="43"/>
                  </a:moveTo>
                  <a:lnTo>
                    <a:pt x="0" y="22"/>
                  </a:lnTo>
                  <a:lnTo>
                    <a:pt x="64" y="0"/>
                  </a:lnTo>
                  <a:lnTo>
                    <a:pt x="64" y="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11840" y="6374520"/>
              <a:ext cx="1760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49360" y="6374520"/>
              <a:ext cx="2034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p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39680" y="4843440"/>
              <a:ext cx="1760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25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77560" y="4843440"/>
              <a:ext cx="2034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lp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057880" y="3807000"/>
              <a:ext cx="1407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04760" y="3807000"/>
              <a:ext cx="1058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284680" y="3816360"/>
              <a:ext cx="435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21040" y="3807000"/>
              <a:ext cx="356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50200" y="3807000"/>
              <a:ext cx="2034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190360" y="4524840"/>
              <a:ext cx="362880" cy="1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90360" y="4524840"/>
              <a:ext cx="362880" cy="189360"/>
            </a:xfrm>
            <a:prstGeom prst="rect">
              <a:avLst/>
            </a:prstGeom>
            <a:noFill/>
            <a:ln cap="rnd"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241120" y="4549320"/>
              <a:ext cx="3438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HE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3120" y="4382640"/>
              <a:ext cx="235800" cy="1121040"/>
            </a:xfrm>
            <a:custGeom>
              <a:avLst/>
              <a:gdLst/>
              <a:ahLst/>
              <a:rect l="l" t="t" r="r" b="b"/>
              <a:pathLst>
                <a:path w="184" h="834">
                  <a:moveTo>
                    <a:pt x="184" y="0"/>
                  </a:moveTo>
                  <a:lnTo>
                    <a:pt x="0" y="92"/>
                  </a:lnTo>
                  <a:lnTo>
                    <a:pt x="177" y="191"/>
                  </a:lnTo>
                  <a:lnTo>
                    <a:pt x="0" y="276"/>
                  </a:lnTo>
                  <a:lnTo>
                    <a:pt x="184" y="367"/>
                  </a:lnTo>
                  <a:lnTo>
                    <a:pt x="0" y="466"/>
                  </a:lnTo>
                  <a:lnTo>
                    <a:pt x="184" y="558"/>
                  </a:lnTo>
                  <a:lnTo>
                    <a:pt x="0" y="650"/>
                  </a:lnTo>
                  <a:lnTo>
                    <a:pt x="184" y="742"/>
                  </a:lnTo>
                  <a:lnTo>
                    <a:pt x="0" y="834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54200" y="5570640"/>
              <a:ext cx="525960" cy="245880"/>
            </a:xfrm>
            <a:custGeom>
              <a:avLst/>
              <a:gdLst/>
              <a:ahLst/>
              <a:rect l="l" t="t" r="r" b="b"/>
              <a:pathLst>
                <a:path w="410" h="183">
                  <a:moveTo>
                    <a:pt x="0" y="0"/>
                  </a:moveTo>
                  <a:lnTo>
                    <a:pt x="50" y="49"/>
                  </a:lnTo>
                  <a:lnTo>
                    <a:pt x="0" y="106"/>
                  </a:lnTo>
                  <a:lnTo>
                    <a:pt x="78" y="183"/>
                  </a:lnTo>
                  <a:lnTo>
                    <a:pt x="156" y="113"/>
                  </a:lnTo>
                  <a:lnTo>
                    <a:pt x="212" y="169"/>
                  </a:lnTo>
                  <a:lnTo>
                    <a:pt x="269" y="113"/>
                  </a:lnTo>
                  <a:lnTo>
                    <a:pt x="325" y="183"/>
                  </a:lnTo>
                  <a:lnTo>
                    <a:pt x="410" y="141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08440" y="5456160"/>
              <a:ext cx="180720" cy="550800"/>
            </a:xfrm>
            <a:custGeom>
              <a:avLst/>
              <a:gdLst/>
              <a:ahLst/>
              <a:rect l="l" t="t" r="r" b="b"/>
              <a:pathLst>
                <a:path w="141" h="410">
                  <a:moveTo>
                    <a:pt x="21" y="410"/>
                  </a:moveTo>
                  <a:lnTo>
                    <a:pt x="141" y="346"/>
                  </a:lnTo>
                  <a:lnTo>
                    <a:pt x="0" y="290"/>
                  </a:lnTo>
                  <a:lnTo>
                    <a:pt x="134" y="226"/>
                  </a:lnTo>
                  <a:lnTo>
                    <a:pt x="28" y="120"/>
                  </a:lnTo>
                  <a:lnTo>
                    <a:pt x="134" y="63"/>
                  </a:lnTo>
                  <a:lnTo>
                    <a:pt x="71" y="0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535600" y="5446800"/>
              <a:ext cx="234720" cy="845280"/>
            </a:xfrm>
            <a:custGeom>
              <a:avLst/>
              <a:gdLst/>
              <a:ahLst/>
              <a:rect l="l" t="t" r="r" b="b"/>
              <a:pathLst>
                <a:path w="183" h="629">
                  <a:moveTo>
                    <a:pt x="0" y="629"/>
                  </a:moveTo>
                  <a:lnTo>
                    <a:pt x="183" y="558"/>
                  </a:lnTo>
                  <a:lnTo>
                    <a:pt x="0" y="516"/>
                  </a:lnTo>
                  <a:lnTo>
                    <a:pt x="134" y="466"/>
                  </a:lnTo>
                  <a:lnTo>
                    <a:pt x="56" y="389"/>
                  </a:lnTo>
                  <a:lnTo>
                    <a:pt x="127" y="325"/>
                  </a:lnTo>
                  <a:lnTo>
                    <a:pt x="56" y="261"/>
                  </a:lnTo>
                  <a:lnTo>
                    <a:pt x="134" y="184"/>
                  </a:lnTo>
                  <a:lnTo>
                    <a:pt x="56" y="113"/>
                  </a:lnTo>
                  <a:lnTo>
                    <a:pt x="127" y="42"/>
                  </a:lnTo>
                  <a:lnTo>
                    <a:pt x="28" y="0"/>
                  </a:lnTo>
                  <a:lnTo>
                    <a:pt x="0" y="28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63880" y="3807000"/>
              <a:ext cx="12474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rimary dilution tu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96240" y="6193080"/>
              <a:ext cx="1623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22960" y="6193080"/>
              <a:ext cx="3160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40 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77840" y="6193080"/>
              <a:ext cx="2109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75400" y="4268160"/>
              <a:ext cx="10080" cy="20052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85480" y="4268160"/>
              <a:ext cx="9000" cy="200520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94480" y="4268160"/>
              <a:ext cx="9000" cy="200520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03480" y="4268160"/>
              <a:ext cx="8640" cy="2005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603480" y="4268160"/>
              <a:ext cx="8640" cy="200520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12120" y="4268160"/>
              <a:ext cx="9000" cy="200520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21120" y="4268160"/>
              <a:ext cx="9000" cy="20052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21120" y="4268160"/>
              <a:ext cx="9000" cy="20052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30120" y="4268160"/>
              <a:ext cx="9000" cy="200520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39120" y="4268160"/>
              <a:ext cx="9000" cy="200520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48120" y="4268160"/>
              <a:ext cx="9000" cy="200520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48120" y="4268160"/>
              <a:ext cx="9000" cy="200520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57120" y="4268160"/>
              <a:ext cx="9000" cy="200520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66480" y="4268160"/>
              <a:ext cx="9000" cy="20052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675480" y="4268160"/>
              <a:ext cx="8640" cy="200520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84120" y="4268160"/>
              <a:ext cx="9000" cy="200520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84120" y="4268160"/>
              <a:ext cx="9000" cy="200520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93120" y="4268160"/>
              <a:ext cx="9000" cy="200520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2120" y="4268160"/>
              <a:ext cx="9000" cy="20052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11120" y="4268160"/>
              <a:ext cx="10080" cy="200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11120" y="4268160"/>
              <a:ext cx="10080" cy="20052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21200" y="4268160"/>
              <a:ext cx="9000" cy="2005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30200" y="4268160"/>
              <a:ext cx="9000" cy="200520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0200" y="4268160"/>
              <a:ext cx="9000" cy="2005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85480" y="4277520"/>
              <a:ext cx="153720" cy="19958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47960" y="5731920"/>
              <a:ext cx="426960" cy="30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47960" y="5731920"/>
              <a:ext cx="426960" cy="3038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62080" y="5821920"/>
              <a:ext cx="2613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75400" y="4258800"/>
              <a:ext cx="10080" cy="280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85480" y="4258800"/>
              <a:ext cx="9000" cy="2808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85480" y="4258800"/>
              <a:ext cx="9000" cy="2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94480" y="4258800"/>
              <a:ext cx="9000" cy="28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03480" y="4258800"/>
              <a:ext cx="8640" cy="28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03480" y="4258800"/>
              <a:ext cx="8640" cy="280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2120" y="4258800"/>
              <a:ext cx="9000" cy="28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21120" y="4258800"/>
              <a:ext cx="9000" cy="280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21120" y="4258800"/>
              <a:ext cx="9000" cy="280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30120" y="4258800"/>
              <a:ext cx="9000" cy="280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39120" y="4258800"/>
              <a:ext cx="9000" cy="2808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48120" y="4258800"/>
              <a:ext cx="9000" cy="280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48120" y="4258800"/>
              <a:ext cx="9000" cy="2808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57120" y="4258800"/>
              <a:ext cx="9000" cy="2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66480" y="4258800"/>
              <a:ext cx="9000" cy="2808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66480" y="4258800"/>
              <a:ext cx="9000" cy="280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75480" y="4258800"/>
              <a:ext cx="8640" cy="2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84120" y="4258800"/>
              <a:ext cx="9000" cy="280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84120" y="4258800"/>
              <a:ext cx="9000" cy="28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93120" y="4258800"/>
              <a:ext cx="9000" cy="2808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02120" y="4258800"/>
              <a:ext cx="9000" cy="28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11120" y="4258800"/>
              <a:ext cx="10080" cy="2808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11120" y="4258800"/>
              <a:ext cx="10080" cy="2808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21200" y="4258800"/>
              <a:ext cx="9000" cy="2808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30200" y="4258800"/>
              <a:ext cx="9000" cy="2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30200" y="4258800"/>
              <a:ext cx="9000" cy="2808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40320" y="6245640"/>
              <a:ext cx="7156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40320" y="6245640"/>
              <a:ext cx="715680" cy="50256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07360" y="6429600"/>
              <a:ext cx="4852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94240" y="5094720"/>
              <a:ext cx="344880" cy="57600"/>
            </a:xfrm>
            <a:custGeom>
              <a:avLst/>
              <a:gdLst/>
              <a:ahLst/>
              <a:rect l="l" t="t" r="r" b="b"/>
              <a:pathLst>
                <a:path w="269" h="43">
                  <a:moveTo>
                    <a:pt x="0" y="0"/>
                  </a:moveTo>
                  <a:lnTo>
                    <a:pt x="269" y="0"/>
                  </a:lnTo>
                  <a:lnTo>
                    <a:pt x="269" y="43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41000" y="4980600"/>
              <a:ext cx="45288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63120" y="3404160"/>
              <a:ext cx="63720" cy="521280"/>
            </a:xfrm>
            <a:custGeom>
              <a:avLst/>
              <a:gdLst/>
              <a:ahLst/>
              <a:rect l="l" t="t" r="r" b="b"/>
              <a:pathLst>
                <a:path w="50" h="388">
                  <a:moveTo>
                    <a:pt x="50" y="0"/>
                  </a:moveTo>
                  <a:lnTo>
                    <a:pt x="50" y="388"/>
                  </a:lnTo>
                  <a:lnTo>
                    <a:pt x="0" y="388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01240" y="3336480"/>
              <a:ext cx="9000" cy="3132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10240" y="3336480"/>
              <a:ext cx="9000" cy="313200"/>
            </a:xfrm>
            <a:prstGeom prst="rect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10240" y="3336480"/>
              <a:ext cx="9000" cy="3132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19240" y="3336480"/>
              <a:ext cx="9000" cy="3132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28240" y="3336480"/>
              <a:ext cx="9000" cy="3132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28240" y="3336480"/>
              <a:ext cx="9000" cy="3132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37240" y="3336480"/>
              <a:ext cx="9000" cy="31320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46240" y="3336480"/>
              <a:ext cx="9000" cy="313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46240" y="3336480"/>
              <a:ext cx="9000" cy="31320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55240" y="3336480"/>
              <a:ext cx="9000" cy="3132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64240" y="3336480"/>
              <a:ext cx="8640" cy="31320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473240" y="3336480"/>
              <a:ext cx="9000" cy="31320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73240" y="3336480"/>
              <a:ext cx="9000" cy="31320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82240" y="3336480"/>
              <a:ext cx="10440" cy="3132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92680" y="3336480"/>
              <a:ext cx="8640" cy="31320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92680" y="3336480"/>
              <a:ext cx="8640" cy="3132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01320" y="3336480"/>
              <a:ext cx="9000" cy="3132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10320" y="3336480"/>
              <a:ext cx="9000" cy="31320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10320" y="3336480"/>
              <a:ext cx="9000" cy="31320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19320" y="3336480"/>
              <a:ext cx="9000" cy="31320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28320" y="3336480"/>
              <a:ext cx="9000" cy="313200"/>
            </a:xfrm>
            <a:prstGeom prst="rect">
              <a:avLst/>
            </a:pr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37320" y="3336480"/>
              <a:ext cx="9000" cy="313200"/>
            </a:xfrm>
            <a:prstGeom prst="rect">
              <a:avLst/>
            </a:pr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37320" y="3336480"/>
              <a:ext cx="9000" cy="3132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46320" y="3336480"/>
              <a:ext cx="9000" cy="31320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55320" y="3336480"/>
              <a:ext cx="8640" cy="31320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410240" y="3336480"/>
              <a:ext cx="145080" cy="303840"/>
            </a:xfrm>
            <a:custGeom>
              <a:avLst/>
              <a:gdLst/>
              <a:ahLst/>
              <a:rect l="l" t="t" r="r" b="b"/>
              <a:pathLst>
                <a:path w="113" h="226">
                  <a:moveTo>
                    <a:pt x="85" y="226"/>
                  </a:moveTo>
                  <a:lnTo>
                    <a:pt x="28" y="226"/>
                  </a:lnTo>
                  <a:lnTo>
                    <a:pt x="0" y="57"/>
                  </a:lnTo>
                  <a:lnTo>
                    <a:pt x="0" y="0"/>
                  </a:lnTo>
                  <a:lnTo>
                    <a:pt x="113" y="0"/>
                  </a:lnTo>
                  <a:lnTo>
                    <a:pt x="113" y="57"/>
                  </a:lnTo>
                  <a:lnTo>
                    <a:pt x="85" y="226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46240" y="3260160"/>
              <a:ext cx="72720" cy="7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46240" y="3260160"/>
              <a:ext cx="72720" cy="763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464240" y="3374280"/>
              <a:ext cx="36720" cy="38520"/>
              <a:chOff x="7464240" y="3374280"/>
              <a:chExt cx="36720" cy="38520"/>
            </a:xfrm>
          </p:grpSpPr>
          <p:sp>
            <p:nvSpPr>
              <p:cNvPr id="700" name=""/>
              <p:cNvSpPr/>
              <p:nvPr/>
            </p:nvSpPr>
            <p:spPr>
              <a:xfrm>
                <a:off x="7464240" y="3374280"/>
                <a:ext cx="36720" cy="3852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64240" y="3374280"/>
                <a:ext cx="36720" cy="3852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7464240" y="3374280"/>
              <a:ext cx="36720" cy="385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82240" y="3393000"/>
              <a:ext cx="436320" cy="12348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340" y="92"/>
                  </a:moveTo>
                  <a:lnTo>
                    <a:pt x="340" y="0"/>
                  </a:lnTo>
                  <a:lnTo>
                    <a:pt x="0" y="0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15040" y="3165840"/>
              <a:ext cx="2177280" cy="123480"/>
            </a:xfrm>
            <a:custGeom>
              <a:avLst/>
              <a:gdLst/>
              <a:ahLst/>
              <a:rect l="l" t="t" r="r" b="b"/>
              <a:pathLst>
                <a:path w="1697" h="92">
                  <a:moveTo>
                    <a:pt x="1697" y="92"/>
                  </a:moveTo>
                  <a:lnTo>
                    <a:pt x="1697" y="0"/>
                  </a:lnTo>
                  <a:lnTo>
                    <a:pt x="0" y="0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51040" y="3061080"/>
              <a:ext cx="20880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51040" y="3070440"/>
              <a:ext cx="20880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51040" y="3070440"/>
              <a:ext cx="20880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51040" y="3080160"/>
              <a:ext cx="20880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51040" y="3089520"/>
              <a:ext cx="20880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51040" y="3098880"/>
              <a:ext cx="208800" cy="90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51040" y="3107880"/>
              <a:ext cx="20880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51040" y="3117600"/>
              <a:ext cx="208800" cy="108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51040" y="3128400"/>
              <a:ext cx="208800" cy="90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51040" y="3137760"/>
              <a:ext cx="208800" cy="93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51040" y="3147120"/>
              <a:ext cx="20880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51040" y="3156480"/>
              <a:ext cx="20880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51040" y="3165840"/>
              <a:ext cx="208800" cy="9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51040" y="3175560"/>
              <a:ext cx="20880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51040" y="3184920"/>
              <a:ext cx="20880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51040" y="3184920"/>
              <a:ext cx="208800" cy="18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51040" y="3203640"/>
              <a:ext cx="208800" cy="90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51040" y="3203640"/>
              <a:ext cx="208800" cy="900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1040" y="3213000"/>
              <a:ext cx="208800" cy="93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51040" y="3222360"/>
              <a:ext cx="20880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51040" y="3231720"/>
              <a:ext cx="208800" cy="9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51040" y="3241080"/>
              <a:ext cx="20880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040" y="3250800"/>
              <a:ext cx="208800" cy="9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51040" y="3260160"/>
              <a:ext cx="208800" cy="104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51040" y="3270960"/>
              <a:ext cx="208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69040" y="3070440"/>
              <a:ext cx="182160" cy="189360"/>
            </a:xfrm>
            <a:prstGeom prst="ellipse">
              <a:avLst/>
            </a:prstGeom>
            <a:noFill/>
            <a:ln cap="rnd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73240" y="1550520"/>
              <a:ext cx="9000" cy="20808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82240" y="1550520"/>
              <a:ext cx="10440" cy="20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92680" y="1550520"/>
              <a:ext cx="8640" cy="2080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01320" y="1550520"/>
              <a:ext cx="9000" cy="20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0320" y="1550520"/>
              <a:ext cx="9000" cy="20808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46320" y="1550520"/>
              <a:ext cx="9000" cy="208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55320" y="1550520"/>
              <a:ext cx="8640" cy="20808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73320" y="1550520"/>
              <a:ext cx="9000" cy="2080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91320" y="1550520"/>
              <a:ext cx="9000" cy="20808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00320" y="1550520"/>
              <a:ext cx="9000" cy="20808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09320" y="1550520"/>
              <a:ext cx="9000" cy="208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18320" y="1550520"/>
              <a:ext cx="10080" cy="20808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37400" y="1550520"/>
              <a:ext cx="9000" cy="208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49440" y="4149720"/>
              <a:ext cx="11041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0 cm (50 c 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01040" y="1363680"/>
              <a:ext cx="147276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PCS-19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Golden Instrument 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84120" y="4068000"/>
              <a:ext cx="1261080" cy="76320"/>
            </a:xfrm>
            <a:custGeom>
              <a:avLst/>
              <a:gdLst/>
              <a:ahLst/>
              <a:rect l="l" t="t" r="r" b="b"/>
              <a:pathLst>
                <a:path w="2224" h="128">
                  <a:moveTo>
                    <a:pt x="72" y="54"/>
                  </a:moveTo>
                  <a:lnTo>
                    <a:pt x="2153" y="54"/>
                  </a:lnTo>
                  <a:cubicBezTo>
                    <a:pt x="2159" y="54"/>
                    <a:pt x="2164" y="59"/>
                    <a:pt x="2164" y="64"/>
                  </a:cubicBezTo>
                  <a:cubicBezTo>
                    <a:pt x="2164" y="70"/>
                    <a:pt x="2159" y="75"/>
                    <a:pt x="2153" y="75"/>
                  </a:cubicBezTo>
                  <a:lnTo>
                    <a:pt x="72" y="75"/>
                  </a:lnTo>
                  <a:cubicBezTo>
                    <a:pt x="66" y="75"/>
                    <a:pt x="61" y="70"/>
                    <a:pt x="61" y="64"/>
                  </a:cubicBezTo>
                  <a:cubicBezTo>
                    <a:pt x="61" y="59"/>
                    <a:pt x="66" y="54"/>
                    <a:pt x="72" y="54"/>
                  </a:cubicBezTo>
                  <a:close/>
                  <a:moveTo>
                    <a:pt x="128" y="128"/>
                  </a:moveTo>
                  <a:lnTo>
                    <a:pt x="0" y="64"/>
                  </a:lnTo>
                  <a:lnTo>
                    <a:pt x="128" y="0"/>
                  </a:lnTo>
                  <a:lnTo>
                    <a:pt x="128" y="128"/>
                  </a:lnTo>
                  <a:close/>
                  <a:moveTo>
                    <a:pt x="2096" y="0"/>
                  </a:moveTo>
                  <a:lnTo>
                    <a:pt x="2224" y="64"/>
                  </a:lnTo>
                  <a:lnTo>
                    <a:pt x="2096" y="128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82400" y="4401360"/>
              <a:ext cx="73080" cy="1253880"/>
            </a:xfrm>
            <a:custGeom>
              <a:avLst/>
              <a:gdLst/>
              <a:ahLst/>
              <a:rect l="l" t="t" r="r" b="b"/>
              <a:pathLst>
                <a:path w="128" h="2112">
                  <a:moveTo>
                    <a:pt x="75" y="72"/>
                  </a:moveTo>
                  <a:lnTo>
                    <a:pt x="75" y="2041"/>
                  </a:lnTo>
                  <a:cubicBezTo>
                    <a:pt x="75" y="2047"/>
                    <a:pt x="70" y="2052"/>
                    <a:pt x="64" y="2052"/>
                  </a:cubicBezTo>
                  <a:cubicBezTo>
                    <a:pt x="59" y="2052"/>
                    <a:pt x="54" y="2047"/>
                    <a:pt x="54" y="2041"/>
                  </a:cubicBez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  <a:moveTo>
                    <a:pt x="128" y="1984"/>
                  </a:moveTo>
                  <a:lnTo>
                    <a:pt x="64" y="2112"/>
                  </a:lnTo>
                  <a:lnTo>
                    <a:pt x="0" y="1984"/>
                  </a:lnTo>
                  <a:lnTo>
                    <a:pt x="128" y="1984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7112160" y="4849920"/>
              <a:ext cx="8906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0 cm (8 c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96880" y="4934880"/>
              <a:ext cx="143496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VL SPC 47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artial Flow Syste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904000" y="5237280"/>
              <a:ext cx="0" cy="2847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22720" y="5380920"/>
              <a:ext cx="147276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PCS-20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Golden Instrument 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2" name="" descr=""/>
          <p:cNvPicPr/>
          <p:nvPr/>
        </p:nvPicPr>
        <p:blipFill>
          <a:blip r:embed="rId1"/>
          <a:srcRect l="6560" t="19271" r="4191" b="0"/>
          <a:stretch/>
        </p:blipFill>
        <p:spPr>
          <a:xfrm>
            <a:off x="179280" y="1636560"/>
            <a:ext cx="4764240" cy="323244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cxnSp>
        <p:nvCxnSpPr>
          <p:cNvPr id="753" name=""/>
          <p:cNvCxnSpPr/>
          <p:nvPr/>
        </p:nvCxnSpPr>
        <p:spPr>
          <a:xfrm flipV="1" rot="16200000">
            <a:off x="3007080" y="3651480"/>
            <a:ext cx="2928240" cy="948240"/>
          </a:xfrm>
          <a:prstGeom prst="bentConnector5">
            <a:avLst>
              <a:gd name="adj1" fmla="val 258"/>
              <a:gd name="adj2" fmla="val 99658"/>
              <a:gd name="adj3" fmla="val 100159"/>
            </a:avLst>
          </a:prstGeom>
          <a:ln w="38160">
            <a:solidFill>
              <a:srgbClr val="fdcf27"/>
            </a:solidFill>
            <a:prstDash val="dash"/>
            <a:miter/>
            <a:tailEnd len="med" type="triangle" w="med"/>
          </a:ln>
        </p:spPr>
      </p:cxnSp>
      <p:cxnSp>
        <p:nvCxnSpPr>
          <p:cNvPr id="754" name=""/>
          <p:cNvCxnSpPr>
            <a:stCxn id="117" idx="0"/>
          </p:cNvCxnSpPr>
          <p:nvPr/>
        </p:nvCxnSpPr>
        <p:spPr>
          <a:xfrm rot="5400000">
            <a:off x="3189240" y="11880"/>
            <a:ext cx="675360" cy="5842440"/>
          </a:xfrm>
          <a:prstGeom prst="bentConnector4">
            <a:avLst>
              <a:gd name="adj1" fmla="val -33866"/>
              <a:gd name="adj2" fmla="val 99827"/>
            </a:avLst>
          </a:prstGeom>
          <a:ln w="38160">
            <a:solidFill>
              <a:srgbClr val="fdcf27"/>
            </a:solidFill>
            <a:prstDash val="dash"/>
            <a:miter/>
            <a:tailEnd len="med" type="triangle" w="med"/>
          </a:ln>
        </p:spPr>
      </p:cxnSp>
      <p:cxnSp>
        <p:nvCxnSpPr>
          <p:cNvPr id="755" name=""/>
          <p:cNvCxnSpPr>
            <a:stCxn id="745" idx="1"/>
          </p:cNvCxnSpPr>
          <p:nvPr/>
        </p:nvCxnSpPr>
        <p:spPr>
          <a:xfrm flipV="1" rot="10800000">
            <a:off x="1040760" y="1540440"/>
            <a:ext cx="5659920" cy="2439000"/>
          </a:xfrm>
          <a:prstGeom prst="bentConnector3">
            <a:avLst>
              <a:gd name="adj1" fmla="val 100000"/>
            </a:avLst>
          </a:prstGeom>
          <a:ln w="38160">
            <a:solidFill>
              <a:srgbClr val="fdcf27"/>
            </a:solidFill>
            <a:prstDash val="dash"/>
            <a:miter/>
            <a:tailEnd len="med" type="triangle" w="med"/>
          </a:ln>
        </p:spPr>
      </p:cxn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Test Programme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189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320840" y="1487520"/>
          <a:ext cx="5848200" cy="3122640"/>
        </p:xfrm>
        <a:graphic>
          <a:graphicData uri="http://schemas.openxmlformats.org/drawingml/2006/table">
            <a:tbl>
              <a:tblPr/>
              <a:tblGrid>
                <a:gridCol w="1949400"/>
                <a:gridCol w="1949400"/>
                <a:gridCol w="194940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 1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i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d WH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d WH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in so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in so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m WH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m WH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in mode #9 (WHS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in mode #9 (WHS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x 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Pr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9" name=""/>
          <p:cNvSpPr/>
          <p:nvPr/>
        </p:nvSpPr>
        <p:spPr>
          <a:xfrm>
            <a:off x="0" y="495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65200" y="4828320"/>
            <a:ext cx="48060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L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Lubricant cond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IFV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Instrument functional ve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WHT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World Harmonised Transien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WHS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World Harmonised Steady St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ET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European Transien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ES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European Steady St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CP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Continuity Protocol (5 min mode #7 (ESC) and 3 min i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P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Full load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Prep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15 min at mode #10 and 30 min at mode #7 (ES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</a:t>
            </a: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PM Emission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0" y="1228680"/>
            <a:ext cx="8964720" cy="561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3" name=""/>
          <p:cNvGraphicFramePr/>
          <p:nvPr/>
        </p:nvGraphicFramePr>
        <p:xfrm>
          <a:off x="4140360" y="1784520"/>
          <a:ext cx="4584600" cy="229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1784520"/>
                    <a:ext cx="4584600" cy="2292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5" name=""/>
          <p:cNvGraphicFramePr/>
          <p:nvPr/>
        </p:nvGraphicFramePr>
        <p:xfrm>
          <a:off x="0" y="2286000"/>
          <a:ext cx="9144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</a:t>
            </a: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PN Emission Measurement with the Golden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4643280" y="4191120"/>
          <a:ext cx="4321440" cy="2162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91120"/>
                    <a:ext cx="4321440" cy="2162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0" name=""/>
          <p:cNvGraphicFramePr/>
          <p:nvPr/>
        </p:nvGraphicFramePr>
        <p:xfrm>
          <a:off x="0" y="2286000"/>
          <a:ext cx="9144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539640" y="318960"/>
            <a:ext cx="71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: PN Emission Measurement with </a:t>
            </a: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SPCS 19 &amp; APC489 from C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643280" y="4197240"/>
          <a:ext cx="4295880" cy="214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97240"/>
                    <a:ext cx="4295880" cy="2148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: On Line PN Emission Measurements in cold WHTC test with all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6:41:24Z</dcterms:created>
  <dc:creator>janneg</dc:creator>
  <dc:description/>
  <dc:language>en-US</dc:language>
  <cp:lastModifiedBy>janneg</cp:lastModifiedBy>
  <dcterms:modified xsi:type="dcterms:W3CDTF">2009-03-29T20:44:11Z</dcterms:modified>
  <cp:revision>102</cp:revision>
  <dc:subject/>
  <dc:title>AVL HEADLINE  COMPANY KALEIDOSC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74124987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- Presentations From 30th March Meeting (fourth installment)</vt:lpwstr>
  </property>
  <property fmtid="{D5CDD505-2E9C-101B-9397-08002B2CF9AE}" pid="6" name="_NewReviewCycle">
    <vt:lpwstr/>
  </property>
</Properties>
</file>