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wmf" ContentType="image/x-wmf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1120" y="304920"/>
            <a:ext cx="76694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endParaRPr b="1" lang="en-US" sz="2000" spc="-1" strike="noStrike">
              <a:solidFill>
                <a:srgbClr val="006bb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2440" y="1306440"/>
            <a:ext cx="8439120" cy="252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2440" y="4070160"/>
            <a:ext cx="8439120" cy="252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1120" y="304920"/>
            <a:ext cx="76694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endParaRPr b="1" lang="en-US" sz="2000" spc="-1" strike="noStrike">
              <a:solidFill>
                <a:srgbClr val="006bb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52440" y="1306440"/>
            <a:ext cx="4118040" cy="252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6760" y="1306440"/>
            <a:ext cx="4118040" cy="252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52440" y="4070160"/>
            <a:ext cx="4118040" cy="252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6760" y="4070160"/>
            <a:ext cx="4118040" cy="252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1120" y="304920"/>
            <a:ext cx="76694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endParaRPr b="1" lang="en-US" sz="2000" spc="-1" strike="noStrike">
              <a:solidFill>
                <a:srgbClr val="006bb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52440" y="1306440"/>
            <a:ext cx="2717280" cy="252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05800" y="1306440"/>
            <a:ext cx="2717280" cy="252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59520" y="1306440"/>
            <a:ext cx="2717280" cy="252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52440" y="4070160"/>
            <a:ext cx="2717280" cy="252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05800" y="4070160"/>
            <a:ext cx="2717280" cy="252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59520" y="4070160"/>
            <a:ext cx="2717280" cy="252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1120" y="304920"/>
            <a:ext cx="76694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endParaRPr b="1" lang="en-US" sz="2000" spc="-1" strike="noStrike">
              <a:solidFill>
                <a:srgbClr val="006bb7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52440" y="1306440"/>
            <a:ext cx="843912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1120" y="304920"/>
            <a:ext cx="76694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endParaRPr b="1" lang="en-US" sz="2000" spc="-1" strike="noStrike">
              <a:solidFill>
                <a:srgbClr val="006bb7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52440" y="1306440"/>
            <a:ext cx="843912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1120" y="304920"/>
            <a:ext cx="76694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endParaRPr b="1" lang="en-US" sz="2000" spc="-1" strike="noStrike">
              <a:solidFill>
                <a:srgbClr val="006bb7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52440" y="1306440"/>
            <a:ext cx="41180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760" y="1306440"/>
            <a:ext cx="41180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1120" y="304920"/>
            <a:ext cx="76694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endParaRPr b="1" lang="en-US" sz="2000" spc="-1" strike="noStrike">
              <a:solidFill>
                <a:srgbClr val="006bb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41120" y="304920"/>
            <a:ext cx="7669440" cy="14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1120" y="304920"/>
            <a:ext cx="76694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endParaRPr b="1" lang="en-US" sz="2000" spc="-1" strike="noStrike">
              <a:solidFill>
                <a:srgbClr val="006bb7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52440" y="1306440"/>
            <a:ext cx="4118040" cy="252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306440"/>
            <a:ext cx="41180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52440" y="4070160"/>
            <a:ext cx="4118040" cy="252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1120" y="304920"/>
            <a:ext cx="76694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endParaRPr b="1" lang="en-US" sz="2000" spc="-1" strike="noStrike">
              <a:solidFill>
                <a:srgbClr val="006bb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52440" y="1306440"/>
            <a:ext cx="843912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1120" y="304920"/>
            <a:ext cx="76694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endParaRPr b="1" lang="en-US" sz="2000" spc="-1" strike="noStrike">
              <a:solidFill>
                <a:srgbClr val="006bb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52440" y="1306440"/>
            <a:ext cx="41180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306440"/>
            <a:ext cx="4118040" cy="252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6760" y="4070160"/>
            <a:ext cx="4118040" cy="252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1120" y="304920"/>
            <a:ext cx="76694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endParaRPr b="1" lang="en-US" sz="2000" spc="-1" strike="noStrike">
              <a:solidFill>
                <a:srgbClr val="006bb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52440" y="1306440"/>
            <a:ext cx="4118040" cy="252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760" y="1306440"/>
            <a:ext cx="4118040" cy="252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52440" y="4070160"/>
            <a:ext cx="8439120" cy="252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1120" y="304920"/>
            <a:ext cx="76694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endParaRPr b="1" lang="en-US" sz="2000" spc="-1" strike="noStrike">
              <a:solidFill>
                <a:srgbClr val="006bb7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52440" y="1306440"/>
            <a:ext cx="8439120" cy="252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2440" y="4070160"/>
            <a:ext cx="8439120" cy="252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1120" y="304920"/>
            <a:ext cx="76694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endParaRPr b="1" lang="en-US" sz="2000" spc="-1" strike="noStrike">
              <a:solidFill>
                <a:srgbClr val="006bb7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52440" y="1306440"/>
            <a:ext cx="4118040" cy="252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6760" y="1306440"/>
            <a:ext cx="4118040" cy="252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52440" y="4070160"/>
            <a:ext cx="4118040" cy="252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6760" y="4070160"/>
            <a:ext cx="4118040" cy="252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1120" y="304920"/>
            <a:ext cx="76694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endParaRPr b="1" lang="en-US" sz="2000" spc="-1" strike="noStrike">
              <a:solidFill>
                <a:srgbClr val="006bb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52440" y="1306440"/>
            <a:ext cx="2717280" cy="252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05800" y="1306440"/>
            <a:ext cx="2717280" cy="252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59520" y="1306440"/>
            <a:ext cx="2717280" cy="252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52440" y="4070160"/>
            <a:ext cx="2717280" cy="252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05800" y="4070160"/>
            <a:ext cx="2717280" cy="252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59520" y="4070160"/>
            <a:ext cx="2717280" cy="252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1120" y="304920"/>
            <a:ext cx="76694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endParaRPr b="1" lang="en-US" sz="2000" spc="-1" strike="noStrike">
              <a:solidFill>
                <a:srgbClr val="006bb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52440" y="1306440"/>
            <a:ext cx="843912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1120" y="304920"/>
            <a:ext cx="76694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endParaRPr b="1" lang="en-US" sz="2000" spc="-1" strike="noStrike">
              <a:solidFill>
                <a:srgbClr val="006bb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52440" y="1306440"/>
            <a:ext cx="41180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760" y="1306440"/>
            <a:ext cx="41180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1120" y="304920"/>
            <a:ext cx="76694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endParaRPr b="1" lang="en-US" sz="2000" spc="-1" strike="noStrike">
              <a:solidFill>
                <a:srgbClr val="006bb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1120" y="304920"/>
            <a:ext cx="7669440" cy="14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1120" y="304920"/>
            <a:ext cx="76694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endParaRPr b="1" lang="en-US" sz="2000" spc="-1" strike="noStrike">
              <a:solidFill>
                <a:srgbClr val="006bb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52440" y="1306440"/>
            <a:ext cx="4118040" cy="252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6760" y="1306440"/>
            <a:ext cx="41180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52440" y="4070160"/>
            <a:ext cx="4118040" cy="252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1120" y="304920"/>
            <a:ext cx="76694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endParaRPr b="1" lang="en-US" sz="2000" spc="-1" strike="noStrike">
              <a:solidFill>
                <a:srgbClr val="006bb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52440" y="1306440"/>
            <a:ext cx="41180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6760" y="1306440"/>
            <a:ext cx="4118040" cy="252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6760" y="4070160"/>
            <a:ext cx="4118040" cy="252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1120" y="304920"/>
            <a:ext cx="76694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endParaRPr b="1" lang="en-US" sz="2000" spc="-1" strike="noStrike">
              <a:solidFill>
                <a:srgbClr val="006bb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52440" y="1306440"/>
            <a:ext cx="4118040" cy="252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6760" y="1306440"/>
            <a:ext cx="4118040" cy="252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52440" y="4070160"/>
            <a:ext cx="8439120" cy="252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52440" y="1306440"/>
            <a:ext cx="843912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2880" indent="-272880">
              <a:spcBef>
                <a:spcPts val="1125"/>
              </a:spcBef>
              <a:buClr>
                <a:srgbClr val="a7a9ac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70000">
              <a:spcBef>
                <a:spcPts val="1125"/>
              </a:spcBef>
              <a:buClr>
                <a:srgbClr val="a7a9ac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63520">
              <a:spcBef>
                <a:spcPts val="1125"/>
              </a:spcBef>
              <a:buClr>
                <a:srgbClr val="a7a9a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90440" indent="-279360">
              <a:spcBef>
                <a:spcPts val="1125"/>
              </a:spcBef>
              <a:buClr>
                <a:srgbClr val="a7a9ac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60440" indent="-268200">
              <a:spcBef>
                <a:spcPts val="1125"/>
              </a:spcBef>
              <a:buClr>
                <a:srgbClr val="a7a9a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360440" indent="-26820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360440" indent="-26820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091360" y="366840"/>
            <a:ext cx="700200" cy="488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41120" y="304920"/>
            <a:ext cx="76694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1" lang="en-US" sz="2000" spc="-1" strike="noStrike">
                <a:solidFill>
                  <a:srgbClr val="006bb7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6bb7"/>
              </a:solidFill>
              <a:latin typeface="Arial"/>
            </a:endParaRPr>
          </a:p>
        </p:txBody>
      </p:sp>
      <p:pic>
        <p:nvPicPr>
          <p:cNvPr id="3" name="Picture 127" descr="E:\Business\2008\RSC Grafikstandard\colourbar_PANTONE293.jpg"/>
          <p:cNvPicPr/>
          <p:nvPr/>
        </p:nvPicPr>
        <p:blipFill>
          <a:blip r:embed="rId3"/>
          <a:stretch/>
        </p:blipFill>
        <p:spPr>
          <a:xfrm>
            <a:off x="0" y="6735600"/>
            <a:ext cx="9145440" cy="1224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791560" y="6742080"/>
            <a:ext cx="2444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2F2F5E3-378C-4F06-96B2-A22411304B5E}" type="slidenum">
              <a:rPr b="0" lang="en-GB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920000" y="0"/>
            <a:ext cx="0" cy="857160"/>
          </a:xfrm>
          <a:prstGeom prst="line">
            <a:avLst/>
          </a:prstGeom>
          <a:ln w="12600">
            <a:solidFill>
              <a:srgbClr val="a7a9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7763040" y="6742080"/>
            <a:ext cx="1027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1" lang="en-GB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Ricardo plc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6334200" y="6742080"/>
            <a:ext cx="14288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RD.08/######.#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456320" y="6475320"/>
            <a:ext cx="0" cy="260280"/>
          </a:xfrm>
          <a:prstGeom prst="line">
            <a:avLst/>
          </a:prstGeom>
          <a:ln w="12600">
            <a:solidFill>
              <a:srgbClr val="a7a9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604280" y="530280"/>
            <a:ext cx="768240" cy="5364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52080" y="1752120"/>
            <a:ext cx="69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1" lang="en-US" sz="2800" spc="-1" strike="noStrike">
                <a:solidFill>
                  <a:srgbClr val="006bb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6bb7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5880" y="6475320"/>
            <a:ext cx="1169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ricard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4157" t="25062" r="4803" b="27732"/>
          <a:stretch/>
        </p:blipFill>
        <p:spPr>
          <a:xfrm>
            <a:off x="3243240" y="6480000"/>
            <a:ext cx="4071960" cy="176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7" descr="E:\Business\2008\RSC Grafikstandard\colourbar_PANTONE293.jpg"/>
          <p:cNvPicPr/>
          <p:nvPr/>
        </p:nvPicPr>
        <p:blipFill>
          <a:blip r:embed="rId4"/>
          <a:stretch/>
        </p:blipFill>
        <p:spPr>
          <a:xfrm>
            <a:off x="0" y="6735600"/>
            <a:ext cx="9145440" cy="1224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456320" y="0"/>
            <a:ext cx="0" cy="1060560"/>
          </a:xfrm>
          <a:prstGeom prst="line">
            <a:avLst/>
          </a:prstGeom>
          <a:ln w="12600">
            <a:solidFill>
              <a:srgbClr val="a7a9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763040" y="6742080"/>
            <a:ext cx="1027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1" lang="en-GB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Ricardo plc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34200" y="6742080"/>
            <a:ext cx="14288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RD.08/######.#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8200" indent="0" algn="ctr"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73040" indent="73080" algn="ctr">
              <a:spcBef>
                <a:spcPts val="561"/>
              </a:spcBef>
              <a:buClr>
                <a:srgbClr val="a7a9ac"/>
              </a:buClr>
              <a:buFont typeface="Arial"/>
              <a:buChar char="•"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66720" indent="144360" algn="ctr">
              <a:spcBef>
                <a:spcPts val="561"/>
              </a:spcBef>
              <a:buClr>
                <a:srgbClr val="a7a9ac"/>
              </a:buClr>
              <a:buFont typeface="Arial"/>
              <a:buChar char="–"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852480" indent="239760" algn="ctr">
              <a:spcBef>
                <a:spcPts val="561"/>
              </a:spcBef>
              <a:buClr>
                <a:srgbClr val="a7a9ac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852480" indent="2397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852480" indent="2397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52080" y="1752120"/>
            <a:ext cx="69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1" lang="en-GB" sz="2800" spc="-1" strike="noStrike">
                <a:solidFill>
                  <a:srgbClr val="006bb7"/>
                </a:solidFill>
                <a:latin typeface="Arial"/>
              </a:rPr>
              <a:t>PMP HD_ILCE Informal Meeting at DfT London 30</a:t>
            </a:r>
            <a:r>
              <a:rPr b="1" lang="en-GB" sz="2800" spc="-1" strike="noStrike" baseline="30000">
                <a:solidFill>
                  <a:srgbClr val="006bb7"/>
                </a:solidFill>
                <a:latin typeface="Arial"/>
              </a:rPr>
              <a:t>th</a:t>
            </a:r>
            <a:r>
              <a:rPr b="1" lang="en-GB" sz="2800" spc="-1" strike="noStrike">
                <a:solidFill>
                  <a:srgbClr val="006bb7"/>
                </a:solidFill>
                <a:latin typeface="Arial"/>
              </a:rPr>
              <a:t> March 2009</a:t>
            </a:r>
            <a:endParaRPr b="1" lang="en-US" sz="2800" spc="-1" strike="noStrike">
              <a:solidFill>
                <a:srgbClr val="006bb7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52080" y="2971440"/>
            <a:ext cx="69627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eliminary results from VE testing of Iveco Cursor 8 at Ricardo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1120" y="304920"/>
            <a:ext cx="76694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1" lang="en-US" sz="2000" spc="-1" strike="noStrike">
                <a:solidFill>
                  <a:srgbClr val="006bb7"/>
                </a:solidFill>
                <a:latin typeface="Arial"/>
              </a:rPr>
              <a:t>Full flow Vs Partial Flow – Correlation between Number Data</a:t>
            </a:r>
            <a:endParaRPr b="1" lang="en-US" sz="2000" spc="-1" strike="noStrike">
              <a:solidFill>
                <a:srgbClr val="006bb7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439120" cy="2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marL="155520" indent="-155520">
              <a:lnSpc>
                <a:spcPct val="80000"/>
              </a:lnSpc>
              <a:spcBef>
                <a:spcPts val="1001"/>
              </a:spcBef>
              <a:buClr>
                <a:srgbClr val="a7a9ac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lts from cycles with highest emissions levels similar between full and partial 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5520" indent="-155520">
              <a:lnSpc>
                <a:spcPct val="80000"/>
              </a:lnSpc>
              <a:spcBef>
                <a:spcPts val="1001"/>
              </a:spcBef>
              <a:buClr>
                <a:srgbClr val="a7a9ac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st emissions cycles results only discriminated in partial flow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7543800" cy="46198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698480" y="2351160"/>
            <a:ext cx="3407040" cy="3440160"/>
          </a:xfrm>
          <a:prstGeom prst="rect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6480">
            <a:solidFill>
              <a:srgbClr val="a7a9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057400" y="3733920"/>
            <a:ext cx="26668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VS Backgro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1120" y="304560"/>
            <a:ext cx="7669440" cy="6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1" lang="en-US" sz="2000" spc="-1" strike="noStrike">
                <a:solidFill>
                  <a:srgbClr val="006bb7"/>
                </a:solidFill>
                <a:latin typeface="Arial"/>
              </a:rPr>
              <a:t>Full flow  - Correlation between Different Measurement Systems</a:t>
            </a:r>
            <a:endParaRPr b="1" lang="en-US" sz="2000" spc="-1" strike="noStrike">
              <a:solidFill>
                <a:srgbClr val="006bb7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439120" cy="3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marL="193680" indent="-193680">
              <a:lnSpc>
                <a:spcPct val="80000"/>
              </a:lnSpc>
              <a:spcBef>
                <a:spcPts val="1001"/>
              </a:spcBef>
              <a:buClr>
                <a:srgbClr val="a7a9ac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cellent (2%) agreement between Matter system and SPCS-19, both from CV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80000"/>
              </a:lnSpc>
              <a:spcBef>
                <a:spcPts val="1001"/>
              </a:spcBef>
              <a:buClr>
                <a:srgbClr val="a7a9ac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lution factors used for compari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54380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1120" y="304920"/>
            <a:ext cx="76694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1" lang="en-US" sz="2000" spc="-1" strike="noStrike">
                <a:solidFill>
                  <a:srgbClr val="006bb7"/>
                </a:solidFill>
                <a:latin typeface="Arial"/>
              </a:rPr>
              <a:t>Full flow Vs Partial Flow – Correlation between Mass Data</a:t>
            </a:r>
            <a:endParaRPr b="1" lang="en-US" sz="2000" spc="-1" strike="noStrike">
              <a:solidFill>
                <a:srgbClr val="006bb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439120" cy="2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marL="155520" indent="-155520">
              <a:lnSpc>
                <a:spcPct val="80000"/>
              </a:lnSpc>
              <a:spcBef>
                <a:spcPts val="1001"/>
              </a:spcBef>
              <a:buClr>
                <a:srgbClr val="a7a9ac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correlation between mass from different measurement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5520" indent="-155520">
              <a:lnSpc>
                <a:spcPct val="80000"/>
              </a:lnSpc>
              <a:spcBef>
                <a:spcPts val="1001"/>
              </a:spcBef>
              <a:buClr>
                <a:srgbClr val="a7a9ac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M from ESC cycle similar from both CVS and partial flow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133720"/>
            <a:ext cx="7010280" cy="43052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676520" y="5334120"/>
            <a:ext cx="838080" cy="609480"/>
          </a:xfrm>
          <a:prstGeom prst="ellipse">
            <a:avLst/>
          </a:prstGeom>
          <a:noFill/>
          <a:ln w="6480">
            <a:solidFill>
              <a:srgbClr val="dc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14600" y="4572000"/>
            <a:ext cx="1066680" cy="609480"/>
          </a:xfrm>
          <a:prstGeom prst="wedgeRectCallout">
            <a:avLst>
              <a:gd name="adj1" fmla="val -54912"/>
              <a:gd name="adj2" fmla="val 107550"/>
            </a:avLst>
          </a:prstGeom>
          <a:solidFill>
            <a:srgbClr val="ffffff"/>
          </a:solidFill>
          <a:ln w="6480">
            <a:solidFill>
              <a:srgbClr val="a7a9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ESC data similar between CVS and MDL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1120" y="304920"/>
            <a:ext cx="76694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1" lang="en-US" sz="2000" spc="-1" strike="noStrike">
                <a:solidFill>
                  <a:srgbClr val="006bb7"/>
                </a:solidFill>
                <a:latin typeface="Arial"/>
              </a:rPr>
              <a:t>Partial flow Mass Vs Partial Flow Number</a:t>
            </a:r>
            <a:endParaRPr b="1" lang="en-US" sz="2000" spc="-1" strike="noStrike">
              <a:solidFill>
                <a:srgbClr val="006bb7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52440" y="1066680"/>
            <a:ext cx="8439120" cy="2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marL="155520" indent="-155520">
              <a:lnSpc>
                <a:spcPct val="80000"/>
              </a:lnSpc>
              <a:spcBef>
                <a:spcPts val="1001"/>
              </a:spcBef>
              <a:buClr>
                <a:srgbClr val="a7a9ac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obvious correlation between mass and number, even with very low background partial flow system: mass method insensi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5520" indent="-155520">
              <a:lnSpc>
                <a:spcPct val="80000"/>
              </a:lnSpc>
              <a:spcBef>
                <a:spcPts val="1001"/>
              </a:spcBef>
              <a:buClr>
                <a:srgbClr val="a7a9ac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or correlation on log-log ch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143000" y="1905120"/>
            <a:ext cx="7009560" cy="4494960"/>
            <a:chOff x="1143000" y="1905120"/>
            <a:chExt cx="7009560" cy="4494960"/>
          </a:xfrm>
        </p:grpSpPr>
        <p:grpSp>
          <p:nvGrpSpPr>
            <p:cNvPr id="139" name=""/>
            <p:cNvGrpSpPr/>
            <p:nvPr/>
          </p:nvGrpSpPr>
          <p:grpSpPr>
            <a:xfrm>
              <a:off x="1143000" y="1905120"/>
              <a:ext cx="7009560" cy="4494960"/>
              <a:chOff x="1143000" y="1905120"/>
              <a:chExt cx="7009560" cy="4494960"/>
            </a:xfrm>
          </p:grpSpPr>
          <p:pic>
            <p:nvPicPr>
              <p:cNvPr id="14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43000" y="1905120"/>
                <a:ext cx="7009560" cy="449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" name=""/>
              <p:cNvSpPr/>
              <p:nvPr/>
            </p:nvSpPr>
            <p:spPr>
              <a:xfrm>
                <a:off x="5470560" y="3500280"/>
                <a:ext cx="229428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768240"/>
                    <a:tab algn="l" pos="1536840"/>
                    <a:tab algn="l" pos="2305080"/>
                    <a:tab algn="l" pos="3073320"/>
                    <a:tab algn="l" pos="3841920"/>
                    <a:tab algn="l" pos="4610160"/>
                    <a:tab algn="l" pos="5378400"/>
                    <a:tab algn="l" pos="6146640"/>
                    <a:tab algn="l" pos="6915240"/>
                    <a:tab algn="l" pos="7683480"/>
                    <a:tab algn="l" pos="8451720"/>
                    <a:tab algn="l" pos="9220320"/>
                    <a:tab algn="l" pos="9988560"/>
                    <a:tab algn="l" pos="10756800"/>
                  </a:tabLst>
                </a:pPr>
                <a:r>
                  <a:rPr b="1" lang="en-US" sz="1200" spc="-1" strike="noStrike">
                    <a:solidFill>
                      <a:srgbClr val="063de8"/>
                    </a:solidFill>
                    <a:latin typeface="Arial"/>
                  </a:rPr>
                  <a:t>No obvious relationship between PM and PN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 rot="739200">
              <a:off x="3689280" y="2835000"/>
              <a:ext cx="890640" cy="3058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89280" y="4563720"/>
              <a:ext cx="890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16360" y="4696920"/>
              <a:ext cx="636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768240"/>
                  <a:tab algn="l" pos="1536840"/>
                  <a:tab algn="l" pos="2305080"/>
                  <a:tab algn="l" pos="3073320"/>
                  <a:tab algn="l" pos="3841920"/>
                  <a:tab algn="l" pos="4610160"/>
                  <a:tab algn="l" pos="5378400"/>
                  <a:tab algn="l" pos="6146640"/>
                  <a:tab algn="l" pos="6915240"/>
                  <a:tab algn="l" pos="7683480"/>
                  <a:tab algn="l" pos="8451720"/>
                  <a:tab algn="l" pos="9220320"/>
                  <a:tab algn="l" pos="9988560"/>
                  <a:tab algn="l" pos="10756800"/>
                </a:tabLst>
              </a:pPr>
              <a:r>
                <a:rPr b="1" lang="en-US" sz="1000" spc="-1" strike="noStrike">
                  <a:solidFill>
                    <a:srgbClr val="063de8"/>
                  </a:solidFill>
                  <a:latin typeface="Arial"/>
                </a:rPr>
                <a:t>&lt;2mg spread in mas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3307320" y="2967840"/>
              <a:ext cx="0" cy="279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540520" y="4306320"/>
              <a:ext cx="641520" cy="7617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768240"/>
                  <a:tab algn="l" pos="1536840"/>
                  <a:tab algn="l" pos="2305080"/>
                  <a:tab algn="l" pos="3073320"/>
                  <a:tab algn="l" pos="3841920"/>
                  <a:tab algn="l" pos="4610160"/>
                  <a:tab algn="l" pos="5378400"/>
                  <a:tab algn="l" pos="6146640"/>
                  <a:tab algn="l" pos="6915240"/>
                  <a:tab algn="l" pos="7683480"/>
                  <a:tab algn="l" pos="8451720"/>
                  <a:tab algn="l" pos="9220320"/>
                  <a:tab algn="l" pos="9988560"/>
                  <a:tab algn="l" pos="10756800"/>
                </a:tabLst>
              </a:pPr>
              <a:r>
                <a:rPr b="1" lang="en-US" sz="1000" spc="-1" strike="noStrike">
                  <a:solidFill>
                    <a:srgbClr val="063de8"/>
                  </a:solidFill>
                  <a:latin typeface="Arial"/>
                </a:rPr>
                <a:t>400-fold range in particle number emissio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010280" cy="428292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1120" y="304920"/>
            <a:ext cx="76694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1" lang="en-US" sz="2000" spc="-1" strike="noStrike">
                <a:solidFill>
                  <a:srgbClr val="006bb7"/>
                </a:solidFill>
                <a:latin typeface="Arial"/>
              </a:rPr>
              <a:t>Which is the ‘best’ system?</a:t>
            </a:r>
            <a:endParaRPr b="1" lang="en-US" sz="2000" spc="-1" strike="noStrike">
              <a:solidFill>
                <a:srgbClr val="006bb7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2280" y="5181480"/>
            <a:ext cx="4496040" cy="1447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876"/>
              </a:spcBef>
              <a:buClr>
                <a:srgbClr val="a7a9ac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ing CoV as the discriminator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264600">
              <a:lnSpc>
                <a:spcPct val="90000"/>
              </a:lnSpc>
              <a:spcBef>
                <a:spcPts val="437"/>
              </a:spcBef>
              <a:buClr>
                <a:srgbClr val="a7a9ac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ckground corrected mass should be avoi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264600">
              <a:lnSpc>
                <a:spcPct val="90000"/>
              </a:lnSpc>
              <a:spcBef>
                <a:spcPts val="437"/>
              </a:spcBef>
              <a:buClr>
                <a:srgbClr val="a7a9ac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umber is generally better than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ct val="90000"/>
              </a:lnSpc>
              <a:spcBef>
                <a:spcPts val="876"/>
              </a:spcBef>
              <a:buClr>
                <a:srgbClr val="a7a9ac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tial flow PM has the lowest average C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ct val="90000"/>
              </a:lnSpc>
              <a:spcBef>
                <a:spcPts val="876"/>
              </a:spcBef>
              <a:buClr>
                <a:srgbClr val="a7a9ac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VS PN has the lowest particle number C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800600" y="5181480"/>
            <a:ext cx="4191120" cy="1447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72880" indent="-272880">
              <a:lnSpc>
                <a:spcPct val="90000"/>
              </a:lnSpc>
              <a:spcBef>
                <a:spcPts val="876"/>
              </a:spcBef>
              <a:buClr>
                <a:srgbClr val="a7a9ac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70000">
              <a:lnSpc>
                <a:spcPct val="90000"/>
              </a:lnSpc>
              <a:spcBef>
                <a:spcPts val="437"/>
              </a:spcBef>
              <a:buClr>
                <a:srgbClr val="a7a9ac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tial flow mass method lacks sensitiv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70000">
              <a:lnSpc>
                <a:spcPct val="90000"/>
              </a:lnSpc>
              <a:spcBef>
                <a:spcPts val="437"/>
              </a:spcBef>
              <a:buClr>
                <a:srgbClr val="a7a9ac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VS data has high backgro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876"/>
              </a:spcBef>
              <a:buClr>
                <a:srgbClr val="a7a9ac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ability not a good metric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876"/>
              </a:spcBef>
              <a:buClr>
                <a:srgbClr val="a7a9ac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firmation of observations in the ILCE_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1120" y="304920"/>
            <a:ext cx="76694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1" lang="en-US" sz="2000" spc="-1" strike="noStrike">
                <a:solidFill>
                  <a:srgbClr val="006bb7"/>
                </a:solidFill>
                <a:latin typeface="Arial"/>
              </a:rPr>
              <a:t>Summary</a:t>
            </a:r>
            <a:endParaRPr b="1" lang="en-US" sz="2000" spc="-1" strike="noStrike">
              <a:solidFill>
                <a:srgbClr val="006bb7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52440" y="1306440"/>
            <a:ext cx="843912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2880" indent="-272880">
              <a:spcBef>
                <a:spcPts val="1125"/>
              </a:spcBef>
              <a:buClr>
                <a:srgbClr val="a7a9ac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ements from Ricardo showed high particle and HC background in the CVS, but very low background from partial flow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70000">
              <a:spcBef>
                <a:spcPts val="561"/>
              </a:spcBef>
              <a:buClr>
                <a:srgbClr val="a7a9ac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VS &gt;20 years old and used for many projects including DPF re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63520">
              <a:spcBef>
                <a:spcPts val="561"/>
              </a:spcBef>
              <a:buClr>
                <a:srgbClr val="a7a9ac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PF calibration work may have contaminated the system leaving particle precursors that were not removed despite the PMP preconditio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70000">
              <a:spcBef>
                <a:spcPts val="561"/>
              </a:spcBef>
              <a:buClr>
                <a:srgbClr val="a7a9ac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al flow dilution system new, but also much more practical to clea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125"/>
              </a:spcBef>
              <a:buClr>
                <a:srgbClr val="a7a9ac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N from CVS did not correlate well with partial flow PN except for highest emissions cy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70000">
              <a:spcBef>
                <a:spcPts val="561"/>
              </a:spcBef>
              <a:buClr>
                <a:srgbClr val="a7a9ac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VS limit of detection for PN was ~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kWh and ~8mg/kWh for m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125"/>
              </a:spcBef>
              <a:buClr>
                <a:srgbClr val="a7a9ac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M from partial flow tunnel did not correlate with PN from partial flow or PM from full 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70000">
              <a:spcBef>
                <a:spcPts val="561"/>
              </a:spcBef>
              <a:buClr>
                <a:srgbClr val="a7a9ac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al flow limit of detection was &lt;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kWh and ~1mg/kWh for m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125"/>
              </a:spcBef>
              <a:buClr>
                <a:srgbClr val="a7a9ac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V not seen as a good metric for assessing particle number or mass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1120" y="304920"/>
            <a:ext cx="76694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1" lang="en-US" sz="2000" spc="-1" strike="noStrike">
                <a:solidFill>
                  <a:srgbClr val="006bb7"/>
                </a:solidFill>
                <a:latin typeface="Arial"/>
              </a:rPr>
              <a:t>For consideration</a:t>
            </a:r>
            <a:endParaRPr b="1" lang="en-US" sz="2000" spc="-1" strike="noStrike">
              <a:solidFill>
                <a:srgbClr val="006bb7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52440" y="1306440"/>
            <a:ext cx="843912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2880" indent="-272880">
              <a:spcBef>
                <a:spcPts val="1125"/>
              </a:spcBef>
              <a:buClr>
                <a:srgbClr val="a7a9ac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Ricardo CVS is representative of working CVS systems, then a PN limit of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kWh is unfeasible due to high background 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70000">
              <a:spcBef>
                <a:spcPts val="561"/>
              </a:spcBef>
              <a:buClr>
                <a:srgbClr val="a7a9ac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kWh is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63520">
              <a:spcBef>
                <a:spcPts val="561"/>
              </a:spcBef>
              <a:buClr>
                <a:srgbClr val="a7a9ac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h partial and full flow systems could be used at this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125"/>
              </a:spcBef>
              <a:buClr>
                <a:srgbClr val="a7a9ac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partial flow only were permitted, a much lower PN limit could be appl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125"/>
              </a:spcBef>
              <a:buClr>
                <a:srgbClr val="a7a9ac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PF regeneration has not been studied, and this could lead to higher backgrounds in all dilution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0">
              <a:spcBef>
                <a:spcPts val="56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112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4703" t="4541" r="7553" b="2988"/>
          <a:stretch/>
        </p:blipFill>
        <p:spPr>
          <a:xfrm>
            <a:off x="4343400" y="762120"/>
            <a:ext cx="4800600" cy="4468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152280" y="4648320"/>
          <a:ext cx="5257440" cy="1828440"/>
        </p:xfrm>
        <a:graphic>
          <a:graphicData uri="http://schemas.openxmlformats.org/drawingml/2006/table">
            <a:tbl>
              <a:tblPr/>
              <a:tblGrid>
                <a:gridCol w="970560"/>
                <a:gridCol w="1051560"/>
                <a:gridCol w="970560"/>
                <a:gridCol w="1051560"/>
                <a:gridCol w="1213200"/>
              </a:tblGrid>
              <a:tr h="275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Identifi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Instru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Partic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Size ran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Measurement(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SPCS-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GPMS-CV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sol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&gt;23n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total P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SPCS-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GPMS-MDL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solid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&gt;23n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total P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ME_3010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ALT-CV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sol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&gt;23n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total P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ME_3022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additiona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solid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&gt;7n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total P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DMS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addition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Solid &amp; volati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nm -1000n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size dist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total P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304920" y="1295280"/>
          <a:ext cx="3809520" cy="2666880"/>
        </p:xfrm>
        <a:graphic>
          <a:graphicData uri="http://schemas.openxmlformats.org/drawingml/2006/table">
            <a:tbl>
              <a:tblPr/>
              <a:tblGrid>
                <a:gridCol w="1207440"/>
                <a:gridCol w="1332000"/>
                <a:gridCol w="1270080"/>
              </a:tblGrid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V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DL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ow 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56m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litres/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lit rat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ume (1800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0m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0lit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M fl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litres/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litres/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ling fac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9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1120" y="304920"/>
            <a:ext cx="76694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1" lang="en-US" sz="2000" spc="-1" strike="noStrike">
                <a:solidFill>
                  <a:srgbClr val="006bb7"/>
                </a:solidFill>
                <a:latin typeface="Arial"/>
              </a:rPr>
              <a:t>Equipment – Instruments and Configuration</a:t>
            </a:r>
            <a:endParaRPr b="1" lang="en-US" sz="2000" spc="-1" strike="noStrike">
              <a:solidFill>
                <a:srgbClr val="006b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1120" y="304920"/>
            <a:ext cx="76694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1" lang="en-US" sz="2000" spc="-1" strike="noStrike">
                <a:solidFill>
                  <a:srgbClr val="006bb7"/>
                </a:solidFill>
                <a:latin typeface="Arial"/>
              </a:rPr>
              <a:t>Gaseous Emissions</a:t>
            </a:r>
            <a:endParaRPr b="1" lang="en-US" sz="2000" spc="-1" strike="noStrike">
              <a:solidFill>
                <a:srgbClr val="006bb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52440" y="1204560"/>
            <a:ext cx="843912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2880" indent="-272880">
              <a:spcBef>
                <a:spcPts val="1125"/>
              </a:spcBef>
              <a:buClr>
                <a:srgbClr val="a7a9ac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results from raw and dilute measurements except for HCs and to a lesser extent CO – indicates HC background in CV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7315200" cy="45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1120" y="304920"/>
            <a:ext cx="76694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1" lang="en-US" sz="2000" spc="-1" strike="noStrike">
                <a:solidFill>
                  <a:srgbClr val="006bb7"/>
                </a:solidFill>
                <a:latin typeface="Arial"/>
              </a:rPr>
              <a:t>Instrument Validations</a:t>
            </a:r>
            <a:endParaRPr b="1" lang="en-US" sz="2000" spc="-1" strike="noStrike">
              <a:solidFill>
                <a:srgbClr val="006bb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52440" y="1306440"/>
            <a:ext cx="8439120" cy="2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2880" indent="-272880">
              <a:spcBef>
                <a:spcPts val="1125"/>
              </a:spcBef>
              <a:buClr>
                <a:srgbClr val="a7a9ac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PNCs easily met zero check criter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7467480" cy="42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1120" y="304920"/>
            <a:ext cx="76694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1" lang="en-US" sz="2000" spc="-1" strike="noStrike">
                <a:solidFill>
                  <a:srgbClr val="006bb7"/>
                </a:solidFill>
                <a:latin typeface="Arial"/>
              </a:rPr>
              <a:t>Instrument Validations</a:t>
            </a:r>
            <a:endParaRPr b="1" lang="en-US" sz="2000" spc="-1" strike="noStrike">
              <a:solidFill>
                <a:srgbClr val="006bb7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439120" cy="2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3000"/>
          </a:bodyPr>
          <a:p>
            <a:pPr marL="117000" indent="-117000">
              <a:lnSpc>
                <a:spcPct val="80000"/>
              </a:lnSpc>
              <a:spcBef>
                <a:spcPts val="1001"/>
              </a:spcBef>
              <a:buClr>
                <a:srgbClr val="a7a9ac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CS systems easily met system zero criterion, but Matter system failed after the first few d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34000" indent="-115920">
              <a:lnSpc>
                <a:spcPct val="80000"/>
              </a:lnSpc>
              <a:spcBef>
                <a:spcPts val="462"/>
              </a:spcBef>
              <a:buClr>
                <a:srgbClr val="a7a9ac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isc wear led to high background particle numbers, so later data discarde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234000" indent="-115920">
              <a:lnSpc>
                <a:spcPct val="80000"/>
              </a:lnSpc>
              <a:spcBef>
                <a:spcPts val="462"/>
              </a:spcBef>
              <a:buClr>
                <a:srgbClr val="a7a9ac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atter working on new disc coatings for greater robustness; preliminary results encourag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295280" y="2035080"/>
            <a:ext cx="6248520" cy="43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1120" y="304920"/>
            <a:ext cx="76694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1" lang="en-US" sz="2000" spc="-1" strike="noStrike">
                <a:solidFill>
                  <a:srgbClr val="006bb7"/>
                </a:solidFill>
                <a:latin typeface="Arial"/>
              </a:rPr>
              <a:t>System Backgrounds</a:t>
            </a:r>
            <a:endParaRPr b="1" lang="en-US" sz="2000" spc="-1" strike="noStrike">
              <a:solidFill>
                <a:srgbClr val="006bb7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439120" cy="2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2880" indent="-272880">
              <a:spcBef>
                <a:spcPts val="1125"/>
              </a:spcBef>
              <a:buClr>
                <a:srgbClr val="a7a9ac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VS solid particle number backgrounds much higher than partial 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8458200" cy="26719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80880" y="4343400"/>
            <a:ext cx="4267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54000"/>
          </a:bodyPr>
          <a:p>
            <a:pPr marL="147240" indent="-147240">
              <a:spcBef>
                <a:spcPts val="1001"/>
              </a:spcBef>
              <a:buClr>
                <a:srgbClr val="a7a9ac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S shows variable accumulation mode to be pres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94120" indent="-145800">
              <a:spcBef>
                <a:spcPts val="499"/>
              </a:spcBef>
              <a:buClr>
                <a:srgbClr val="a7a9ac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id particle background probably historic soot and low volatility H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37040" indent="-142200">
              <a:spcBef>
                <a:spcPts val="499"/>
              </a:spcBef>
              <a:buClr>
                <a:srgbClr val="a7a9ac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ss background also exp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94120" indent="-145800">
              <a:spcBef>
                <a:spcPts val="499"/>
              </a:spcBef>
              <a:buClr>
                <a:srgbClr val="a7a9ac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latile background present as nucleation mode and also associated with accumulation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724280" y="4024440"/>
            <a:ext cx="4191120" cy="25732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971800" y="1600200"/>
            <a:ext cx="320040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Solid particle backgrou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1120" y="304920"/>
            <a:ext cx="76694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1" lang="en-US" sz="2000" spc="-1" strike="noStrike">
                <a:solidFill>
                  <a:srgbClr val="006bb7"/>
                </a:solidFill>
                <a:latin typeface="Arial"/>
              </a:rPr>
              <a:t>PM Measurements</a:t>
            </a:r>
            <a:endParaRPr b="1" lang="en-US" sz="2000" spc="-1" strike="noStrike">
              <a:solidFill>
                <a:srgbClr val="006bb7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52440" y="1306440"/>
            <a:ext cx="8439120" cy="3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2880" indent="-272880">
              <a:spcBef>
                <a:spcPts val="1001"/>
              </a:spcBef>
              <a:buClr>
                <a:srgbClr val="a7a9ac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l trend that CVS sampled filter masses are higher than partial flow ma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257480" y="1600200"/>
            <a:ext cx="6629400" cy="23954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80880" y="4114800"/>
            <a:ext cx="8534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40000"/>
          </a:bodyPr>
          <a:p>
            <a:pPr marL="109080" indent="-109080">
              <a:spcBef>
                <a:spcPts val="1125"/>
              </a:spcBef>
              <a:buClr>
                <a:srgbClr val="a7a9ac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LOD can be determined as 3 x standard deviation of the blank measureme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17800" indent="-108000">
              <a:spcBef>
                <a:spcPts val="524"/>
              </a:spcBef>
              <a:buClr>
                <a:srgbClr val="a7a9ac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Partial flow mass method LOD: 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700" spc="-1" strike="noStrike">
                <a:solidFill>
                  <a:srgbClr val="000000"/>
                </a:solidFill>
                <a:latin typeface="MS PGothic"/>
              </a:rPr>
              <a:t>s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= 35µg (equates to </a:t>
            </a: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1.1mg/kWh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ETC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217800" indent="-108000">
              <a:spcBef>
                <a:spcPts val="524"/>
              </a:spcBef>
              <a:buClr>
                <a:srgbClr val="a7a9ac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Full flow mass method LOD: 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700" spc="-1" strike="noStrike">
                <a:solidFill>
                  <a:srgbClr val="000000"/>
                </a:solidFill>
                <a:latin typeface="MS PGothic"/>
              </a:rPr>
              <a:t>s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= 108µg (equates to </a:t>
            </a: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8.3mg/kWh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ETC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5410080"/>
            <a:ext cx="84391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72880" indent="-272880">
              <a:spcBef>
                <a:spcPts val="1125"/>
              </a:spcBef>
              <a:buClr>
                <a:srgbClr val="a7a9ac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al flow system 7 times more sensitive than full flow for mass measu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1120" y="304920"/>
            <a:ext cx="76694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1" lang="en-US" sz="2000" spc="-1" strike="noStrike">
                <a:solidFill>
                  <a:srgbClr val="006bb7"/>
                </a:solidFill>
                <a:latin typeface="Arial"/>
              </a:rPr>
              <a:t>PN Measurements</a:t>
            </a:r>
            <a:endParaRPr b="1" lang="en-US" sz="2000" spc="-1" strike="noStrike">
              <a:solidFill>
                <a:srgbClr val="006bb7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52440" y="1306440"/>
            <a:ext cx="8439120" cy="3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2880" indent="-272880">
              <a:spcBef>
                <a:spcPts val="1125"/>
              </a:spcBef>
              <a:buClr>
                <a:srgbClr val="a7a9ac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N emissions trends similar between CVS systems, different to partial 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7010280" cy="21891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352680" y="3962520"/>
            <a:ext cx="4419720" cy="27082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04920" y="4114800"/>
            <a:ext cx="28954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35000"/>
          </a:bodyPr>
          <a:p>
            <a:pPr marL="95400" indent="-95400">
              <a:spcBef>
                <a:spcPts val="1125"/>
              </a:spcBef>
              <a:buClr>
                <a:srgbClr val="a7a9ac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VS PN background much higher than partial 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1125"/>
              </a:spcBef>
              <a:buClr>
                <a:srgbClr val="a7a9ac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h systems indicate major transient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94320">
              <a:spcBef>
                <a:spcPts val="561"/>
              </a:spcBef>
              <a:buClr>
                <a:srgbClr val="a7a9ac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_WH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1120" y="304920"/>
            <a:ext cx="76694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1" lang="en-US" sz="2000" spc="-1" strike="noStrike">
                <a:solidFill>
                  <a:srgbClr val="006bb7"/>
                </a:solidFill>
                <a:latin typeface="Arial"/>
              </a:rPr>
              <a:t>PN Limit of Detection</a:t>
            </a:r>
            <a:endParaRPr b="1" lang="en-US" sz="2000" spc="-1" strike="noStrike">
              <a:solidFill>
                <a:srgbClr val="006bb7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52440" y="1306440"/>
            <a:ext cx="81057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2880" indent="-272880">
              <a:spcBef>
                <a:spcPts val="1125"/>
              </a:spcBef>
              <a:buClr>
                <a:srgbClr val="a7a9ac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LOD can be determined as 3 x standard deviation of the blank measureme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125"/>
              </a:spcBef>
              <a:buClr>
                <a:srgbClr val="a7a9ac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rtial flow  + SPCS-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70000">
              <a:spcBef>
                <a:spcPts val="561"/>
              </a:spcBef>
              <a:buClr>
                <a:srgbClr val="a7a9ac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D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15 particles/cm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n the tunnel (after dilution correc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70000">
              <a:spcBef>
                <a:spcPts val="561"/>
              </a:spcBef>
              <a:buClr>
                <a:srgbClr val="a7a9ac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quates to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~8.7x10</a:t>
            </a:r>
            <a:r>
              <a:rPr b="1" lang="en-GB" sz="18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particles/kWh over the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125"/>
              </a:spcBef>
              <a:buClr>
                <a:srgbClr val="a7a9ac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ull flow + SPCS-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70000">
              <a:spcBef>
                <a:spcPts val="561"/>
              </a:spcBef>
              <a:buClr>
                <a:srgbClr val="a7a9ac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D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3055 particles/cm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n the CVS (after dilution correc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70000">
              <a:spcBef>
                <a:spcPts val="561"/>
              </a:spcBef>
              <a:buClr>
                <a:srgbClr val="a7a9ac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quates to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~1.4x10</a:t>
            </a:r>
            <a:r>
              <a:rPr b="1" lang="en-GB" sz="18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particles/kWh over the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125"/>
              </a:spcBef>
              <a:buClr>
                <a:srgbClr val="a7a9ac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sed upon these results, the limit of detection for the partial flow system is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60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imes lower than for the full-flow syste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2T11:03:18Z</dcterms:created>
  <dc:creator>h04-guest</dc:creator>
  <dc:description/>
  <dc:language>en-US</dc:language>
  <cp:lastModifiedBy>Jon Andersson</cp:lastModifiedBy>
  <dcterms:modified xsi:type="dcterms:W3CDTF">2009-03-20T11:38:17Z</dcterms:modified>
  <cp:revision>2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392712102</vt:r8>
  </property>
  <property fmtid="{D5CDD505-2E9C-101B-9397-08002B2CF9AE}" pid="3" name="_AuthorEmail">
    <vt:lpwstr>Chris.Parkin@dft.gsi.gov.uk</vt:lpwstr>
  </property>
  <property fmtid="{D5CDD505-2E9C-101B-9397-08002B2CF9AE}" pid="4" name="_AuthorEmailDisplayName">
    <vt:lpwstr>Chris Parkin</vt:lpwstr>
  </property>
  <property fmtid="{D5CDD505-2E9C-101B-9397-08002B2CF9AE}" pid="5" name="_EmailSubject">
    <vt:lpwstr>PMP Informal Group Webpage Update</vt:lpwstr>
  </property>
  <property fmtid="{D5CDD505-2E9C-101B-9397-08002B2CF9AE}" pid="6" name="_NewReviewCycle">
    <vt:lpwstr/>
  </property>
</Properties>
</file>