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580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952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244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580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952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1120" y="304920"/>
            <a:ext cx="7669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80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9520" y="130644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244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580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9520" y="4070160"/>
            <a:ext cx="271728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1120" y="304920"/>
            <a:ext cx="76694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407016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06440"/>
            <a:ext cx="411804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2440" y="4070160"/>
            <a:ext cx="8439120" cy="25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1125"/>
              </a:spcBef>
              <a:buClr>
                <a:srgbClr val="a7a9a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1125"/>
              </a:spcBef>
              <a:buClr>
                <a:srgbClr val="a7a9a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90440" indent="-279360">
              <a:spcBef>
                <a:spcPts val="1125"/>
              </a:spcBef>
              <a:buClr>
                <a:srgbClr val="a7a9ac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60440" indent="-268200">
              <a:spcBef>
                <a:spcPts val="1125"/>
              </a:spcBef>
              <a:buClr>
                <a:srgbClr val="a7a9a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60440" indent="-268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60440" indent="-2682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91360" y="366840"/>
            <a:ext cx="700200" cy="4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pic>
        <p:nvPicPr>
          <p:cNvPr id="3" name="Picture 127" descr="E:\Business\2008\RSC Grafikstandard\colourbar_PANTONE293.jpg"/>
          <p:cNvPicPr/>
          <p:nvPr/>
        </p:nvPicPr>
        <p:blipFill>
          <a:blip r:embed="rId3"/>
          <a:stretch/>
        </p:blipFill>
        <p:spPr>
          <a:xfrm>
            <a:off x="0" y="6735600"/>
            <a:ext cx="9145440" cy="122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91560" y="6742080"/>
            <a:ext cx="244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A87243-217F-4D0B-B095-C528F742347E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20000" y="0"/>
            <a:ext cx="0" cy="85716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63040" y="6742080"/>
            <a:ext cx="1027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icardo plc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34200" y="6742080"/>
            <a:ext cx="14288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D.08/######.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56320" y="6475320"/>
            <a:ext cx="0" cy="26028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04280" y="530280"/>
            <a:ext cx="76824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800" spc="-1" strike="noStrike">
                <a:solidFill>
                  <a:srgbClr val="006bb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5880" y="6475320"/>
            <a:ext cx="11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ricard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4157" t="25062" r="4803" b="27732"/>
          <a:stretch/>
        </p:blipFill>
        <p:spPr>
          <a:xfrm>
            <a:off x="3243240" y="6480000"/>
            <a:ext cx="4071960" cy="17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E:\Business\2008\RSC Grafikstandard\colourbar_PANTONE293.jpg"/>
          <p:cNvPicPr/>
          <p:nvPr/>
        </p:nvPicPr>
        <p:blipFill>
          <a:blip r:embed="rId4"/>
          <a:stretch/>
        </p:blipFill>
        <p:spPr>
          <a:xfrm>
            <a:off x="0" y="6735600"/>
            <a:ext cx="9145440" cy="12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6320" y="0"/>
            <a:ext cx="0" cy="1060560"/>
          </a:xfrm>
          <a:prstGeom prst="line">
            <a:avLst/>
          </a:prstGeom>
          <a:ln w="1260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63040" y="6742080"/>
            <a:ext cx="1027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lang="en-GB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icardo plc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4200" y="6742080"/>
            <a:ext cx="14288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D.08/######.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3040" indent="73080" algn="ctr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144360" algn="ctr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52480" indent="239760" algn="ctr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52480" indent="239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52480" indent="239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080" y="175212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GB" sz="2800" spc="-1" strike="noStrike">
                <a:solidFill>
                  <a:srgbClr val="006bb7"/>
                </a:solidFill>
                <a:latin typeface="Arial"/>
              </a:rPr>
              <a:t>PMP HD_ILCE Informal Meeting at DfT London 30</a:t>
            </a:r>
            <a:r>
              <a:rPr b="1" lang="en-GB" sz="2800" spc="-1" strike="noStrike" baseline="30000">
                <a:solidFill>
                  <a:srgbClr val="006bb7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006bb7"/>
                </a:solidFill>
                <a:latin typeface="Arial"/>
              </a:rPr>
              <a:t> March 2009</a:t>
            </a:r>
            <a:endParaRPr b="1" lang="en-US" sz="28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080" y="2971440"/>
            <a:ext cx="696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liminary results from VE testing of Iveco Cursor 8 at Ricard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Vs Partial Flow – Correlation between Number Data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from cycles with highest emissions levels similar between full and partial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st emissions cycles results only discriminated in partial flow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619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8480" y="2351160"/>
            <a:ext cx="3407040" cy="3440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648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3733920"/>
            <a:ext cx="266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1120" y="304560"/>
            <a:ext cx="7669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 - Correlation between Different Measurement System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193680" indent="-19368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(2%) agreement between Matter system and SPCS-19, both from 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ution factors used for compa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ull flow Vs Partial Flow – Correlation between Mass Data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rrelation between mass from different measure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 from ESC cycle similar from both CVS and partial 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10280" cy="4305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76520" y="5334120"/>
            <a:ext cx="838080" cy="609480"/>
          </a:xfrm>
          <a:prstGeom prst="ellipse">
            <a:avLst/>
          </a:prstGeom>
          <a:noFill/>
          <a:ln w="6480">
            <a:solidFill>
              <a:srgbClr val="dc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572000"/>
            <a:ext cx="1066680" cy="609480"/>
          </a:xfrm>
          <a:prstGeom prst="wedgeRectCallout">
            <a:avLst>
              <a:gd name="adj1" fmla="val -54912"/>
              <a:gd name="adj2" fmla="val 107550"/>
            </a:avLst>
          </a:prstGeom>
          <a:solidFill>
            <a:srgbClr val="ffffff"/>
          </a:solidFill>
          <a:ln w="6480">
            <a:solidFill>
              <a:srgbClr val="a7a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ESC data similar between CVS and MD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artial flow Mass Vs Partial Flow Number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bvious correlation between mass and number, even with very low background partial flow system: mass method in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r correlation on log-lo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1905120"/>
            <a:ext cx="7009560" cy="4494960"/>
            <a:chOff x="1143000" y="1905120"/>
            <a:chExt cx="7009560" cy="4494960"/>
          </a:xfrm>
        </p:grpSpPr>
        <p:grpSp>
          <p:nvGrpSpPr>
            <p:cNvPr id="139" name=""/>
            <p:cNvGrpSpPr/>
            <p:nvPr/>
          </p:nvGrpSpPr>
          <p:grpSpPr>
            <a:xfrm>
              <a:off x="1143000" y="1905120"/>
              <a:ext cx="7009560" cy="4494960"/>
              <a:chOff x="1143000" y="1905120"/>
              <a:chExt cx="7009560" cy="449496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1905120"/>
                <a:ext cx="7009560" cy="449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470560" y="3500280"/>
                <a:ext cx="229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768240"/>
                    <a:tab algn="l" pos="1536840"/>
                    <a:tab algn="l" pos="2305080"/>
                    <a:tab algn="l" pos="3073320"/>
                    <a:tab algn="l" pos="3841920"/>
                    <a:tab algn="l" pos="4610160"/>
                    <a:tab algn="l" pos="5378400"/>
                    <a:tab algn="l" pos="6146640"/>
                    <a:tab algn="l" pos="6915240"/>
                    <a:tab algn="l" pos="7683480"/>
                    <a:tab algn="l" pos="8451720"/>
                    <a:tab algn="l" pos="9220320"/>
                    <a:tab algn="l" pos="998856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063de8"/>
                    </a:solidFill>
                    <a:latin typeface="Arial"/>
                  </a:rPr>
                  <a:t>No obvious relationship between PM and P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739200">
              <a:off x="3689280" y="2835000"/>
              <a:ext cx="890640" cy="305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9280" y="456372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360" y="4696920"/>
              <a:ext cx="63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000" spc="-1" strike="noStrike">
                  <a:solidFill>
                    <a:srgbClr val="063de8"/>
                  </a:solidFill>
                  <a:latin typeface="Arial"/>
                </a:rPr>
                <a:t>&lt;2mg spread in ma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07320" y="2967840"/>
              <a:ext cx="0" cy="27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0520" y="4306320"/>
              <a:ext cx="641520" cy="761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768240"/>
                  <a:tab algn="l" pos="1536840"/>
                  <a:tab algn="l" pos="2305080"/>
                  <a:tab algn="l" pos="3073320"/>
                  <a:tab algn="l" pos="3841920"/>
                  <a:tab algn="l" pos="4610160"/>
                  <a:tab algn="l" pos="5378400"/>
                  <a:tab algn="l" pos="6146640"/>
                  <a:tab algn="l" pos="6915240"/>
                  <a:tab algn="l" pos="7683480"/>
                  <a:tab algn="l" pos="8451720"/>
                  <a:tab algn="l" pos="9220320"/>
                  <a:tab algn="l" pos="9988560"/>
                  <a:tab algn="l" pos="10756800"/>
                </a:tabLst>
              </a:pPr>
              <a:r>
                <a:rPr b="1" lang="en-US" sz="1000" spc="-1" strike="noStrike">
                  <a:solidFill>
                    <a:srgbClr val="063de8"/>
                  </a:solidFill>
                  <a:latin typeface="Arial"/>
                </a:rPr>
                <a:t>400-fold range in particle number emis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4282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Which is the ‘best’ system?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5181480"/>
            <a:ext cx="4496040" cy="144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CoV as the discriminato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46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ground corrected mass should be avo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46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is generally better than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al flow PM has the lowest average 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PN has the lowest particle number 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81480"/>
            <a:ext cx="4191120" cy="1447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al flow mass method lacks sensi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lnSpc>
                <a:spcPct val="90000"/>
              </a:lnSpc>
              <a:spcBef>
                <a:spcPts val="437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VS data has high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ability not a good metric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76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rmation of observations in the ILCE_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 from Ricardo showed high particle and HC background in the CVS, but very low background from partial flow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&gt;20 years old and used for many projects including DPF re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F calibration work may have contaminated the system leaving particle precursors that were not removed despite the PMP precond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dilution system new, but also much more practical to cle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from CVS did not correlate well with partial flow PN except for highest emissions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limit of detection for PN was ~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and ~8mg/kWh fo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from partial flow tunnel did not correlate with PN from partial flow or PM from ful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limit of detection was 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and ~1mg/kWh for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 not seen as a good metric for assessing particle number or ma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For considera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icardo CVS is representative of working CVS systems, then a PN limit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is unfeasible due to high background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Wh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3520">
              <a:spcBef>
                <a:spcPts val="561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artial and full flow systems could be used at this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tial flow only were permitted, a much lower PN limit could be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F regeneration has not been studied, and this could lead to higher backgrounds in all dilu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spcBef>
                <a:spcPts val="56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112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4703" t="4541" r="7553" b="2988"/>
          <a:stretch/>
        </p:blipFill>
        <p:spPr>
          <a:xfrm>
            <a:off x="4343400" y="762120"/>
            <a:ext cx="4800600" cy="44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52280" y="4648320"/>
          <a:ext cx="5257440" cy="1828440"/>
        </p:xfrm>
        <a:graphic>
          <a:graphicData uri="http://schemas.openxmlformats.org/drawingml/2006/table">
            <a:tbl>
              <a:tblPr/>
              <a:tblGrid>
                <a:gridCol w="970560"/>
                <a:gridCol w="1051560"/>
                <a:gridCol w="970560"/>
                <a:gridCol w="1051560"/>
                <a:gridCol w="1213200"/>
              </a:tblGrid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entif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str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arti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ize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PCS-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PMS-CV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PCS-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PMS-MD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_3010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T-CV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23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_3022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ddition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&gt;7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MS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ddi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olid &amp; volat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nm -1000n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ize dist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 P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295280"/>
          <a:ext cx="3809520" cy="2666880"/>
        </p:xfrm>
        <a:graphic>
          <a:graphicData uri="http://schemas.openxmlformats.org/drawingml/2006/table">
            <a:tbl>
              <a:tblPr/>
              <a:tblGrid>
                <a:gridCol w="1207440"/>
                <a:gridCol w="1332000"/>
                <a:gridCol w="1270080"/>
              </a:tblGrid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6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i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(1800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li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litres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Equipment – Instruments and Configura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Gaseous Emiss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2440" y="1204560"/>
            <a:ext cx="84391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results from raw and dilute measurements except for HCs and to a lesser extent CO – indicates HC background in C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Instrument Validat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NCs easily met zero check crite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46748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Instrument Validation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43912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3000"/>
          </a:bodyPr>
          <a:p>
            <a:pPr marL="117000" indent="-117000">
              <a:lnSpc>
                <a:spcPct val="80000"/>
              </a:lnSpc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CS systems easily met system zero criterion, but Matter system failed after the first few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4000" indent="-115920">
              <a:lnSpc>
                <a:spcPct val="80000"/>
              </a:lnSpc>
              <a:spcBef>
                <a:spcPts val="462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 wear led to high background particle numbers, so later data discar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4000" indent="-115920">
              <a:lnSpc>
                <a:spcPct val="80000"/>
              </a:lnSpc>
              <a:spcBef>
                <a:spcPts val="462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tter working on new disc coatings for greater robustness; preliminary results encour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2035080"/>
            <a:ext cx="62485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System Background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439120" cy="2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solid particle number backgrounds much higher than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26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434340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4000"/>
          </a:bodyPr>
          <a:p>
            <a:pPr marL="147240" indent="-147240"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S shows variable accumulation mode to be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4120" indent="-145800">
              <a:spcBef>
                <a:spcPts val="499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particle background probably historic soot and low volatility H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37040" indent="-142200">
              <a:spcBef>
                <a:spcPts val="499"/>
              </a:spcBef>
              <a:buClr>
                <a:srgbClr val="a7a9a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background also 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94120" indent="-145800">
              <a:spcBef>
                <a:spcPts val="499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atile background present as nucleation mode and also associated with accumulatio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4024440"/>
            <a:ext cx="4191120" cy="257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1600200"/>
            <a:ext cx="3200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lid particle 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M Measurement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001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trend that CVS sampled filter masses are higher than partial flow m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6629400" cy="239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114800"/>
            <a:ext cx="8534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0000"/>
          </a:bodyPr>
          <a:p>
            <a:pPr marL="109080" indent="-1090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D can be determined as 3 x standard deviation of the blank measur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7800" indent="-108000">
              <a:spcBef>
                <a:spcPts val="524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artial flow mass method LOD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700" spc="-1" strike="noStrike">
                <a:solidFill>
                  <a:srgbClr val="000000"/>
                </a:solidFill>
                <a:latin typeface="MS PGothic"/>
              </a:rPr>
              <a:t>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= 35µg (equates to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.1mg/kW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ET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17800" indent="-108000">
              <a:spcBef>
                <a:spcPts val="524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ll flow mass method LOD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700" spc="-1" strike="noStrike">
                <a:solidFill>
                  <a:srgbClr val="000000"/>
                </a:solidFill>
                <a:latin typeface="MS PGothic"/>
              </a:rPr>
              <a:t>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= 108µg (equates to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8.3mg/kW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ET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10080"/>
            <a:ext cx="8439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flow system 7 times more sensitive than full flow for mass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N Measurements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43912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 emissions trends similar between CVS systems, different to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01028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44197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4114800"/>
            <a:ext cx="2895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5000"/>
          </a:bodyPr>
          <a:p>
            <a:pPr marL="95400" indent="-9540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PN background much higher than parti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ystems indicate major transien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9432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WH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120" y="304920"/>
            <a:ext cx="7669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1" lang="en-US" sz="2000" spc="-1" strike="noStrike">
                <a:solidFill>
                  <a:srgbClr val="006bb7"/>
                </a:solidFill>
                <a:latin typeface="Arial"/>
              </a:rPr>
              <a:t>PN Limit of Detection</a:t>
            </a:r>
            <a:endParaRPr b="1" lang="en-US" sz="2000" spc="-1" strike="noStrike">
              <a:solidFill>
                <a:srgbClr val="006b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2440" y="1306440"/>
            <a:ext cx="81057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D can be determined as 3 x standard deviation of the blank measur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flow  + SPCS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5 particles/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tunnel (after dilution cor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es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8.7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ticles/kWh over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ll flow + SPCS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3055 particles/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CVS (after dilution cor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70000">
              <a:spcBef>
                <a:spcPts val="561"/>
              </a:spcBef>
              <a:buClr>
                <a:srgbClr val="a7a9ac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tes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~1.4x10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articles/kWh over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25"/>
              </a:spcBef>
              <a:buClr>
                <a:srgbClr val="a7a9ac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upon these results, the limit of detection for the partial flow system 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imes lower than for the full-flow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1:03:18Z</dcterms:created>
  <dc:creator>h04-guest</dc:creator>
  <dc:description/>
  <dc:language>en-US</dc:language>
  <cp:lastModifiedBy>Jon Andersson</cp:lastModifiedBy>
  <dcterms:modified xsi:type="dcterms:W3CDTF">2009-03-20T11:38:17Z</dcterms:modified>
  <cp:revision>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2712102</vt:r8>
  </property>
  <property fmtid="{D5CDD505-2E9C-101B-9397-08002B2CF9AE}" pid="3" name="_AuthorEmail">
    <vt:lpwstr>Chris.Parkin@dft.gsi.gov.uk</vt:lpwstr>
  </property>
  <property fmtid="{D5CDD505-2E9C-101B-9397-08002B2CF9AE}" pid="4" name="_AuthorEmailDisplayName">
    <vt:lpwstr>Chris Parkin</vt:lpwstr>
  </property>
  <property fmtid="{D5CDD505-2E9C-101B-9397-08002B2CF9AE}" pid="5" name="_EmailSubject">
    <vt:lpwstr>PMP Informal Group Webpage Update</vt:lpwstr>
  </property>
  <property fmtid="{D5CDD505-2E9C-101B-9397-08002B2CF9AE}" pid="6" name="_NewReviewCycle">
    <vt:lpwstr/>
  </property>
</Properties>
</file>