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98280"/>
            <a:ext cx="1317600" cy="551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440" y="760320"/>
            <a:ext cx="9905760" cy="14940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7360" y="776160"/>
            <a:ext cx="719748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RC  30 March 200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31160" y="784080"/>
            <a:ext cx="1325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737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4A1C9AE-B480-4ECA-8CA0-1C233464E30A}" type="slidenum"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74120" y="109440"/>
            <a:ext cx="682560" cy="54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30040">
              <a:spcBef>
                <a:spcPts val="476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00" y="103176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00" y="103176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4560"/>
            <a:ext cx="9906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2989"/>
                </a:solidFill>
                <a:latin typeface="Arial"/>
              </a:rPr>
              <a:t>Particle Measurement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989"/>
                </a:solidFill>
                <a:latin typeface="Arial"/>
              </a:rPr>
              <a:t>Exploratory work &amp; Validation Exercise (J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989"/>
                </a:solidFill>
                <a:latin typeface="Arial"/>
              </a:rPr>
              <a:t>First Validation Exercis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1240" y="5516640"/>
            <a:ext cx="76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Giechaskiel, G. Martini, J. Ander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RC, 30 March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umber systems comparis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745240" cy="317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00400" y="3595680"/>
            <a:ext cx="5805720" cy="32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30600" y="1477800"/>
            <a:ext cx="37998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ery good agreement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ternative and gold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asuring from CVS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ftertreatment effec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-186120" y="4141800"/>
            <a:ext cx="40377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ITEC=PM Meta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tial Flow Deep Bed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PF=Pt based oxicat upstream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ll flow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7354" r="0" b="0"/>
          <a:stretch/>
        </p:blipFill>
        <p:spPr>
          <a:xfrm>
            <a:off x="0" y="907920"/>
            <a:ext cx="6438960" cy="31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7382" r="0" b="7382"/>
          <a:stretch/>
        </p:blipFill>
        <p:spPr>
          <a:xfrm>
            <a:off x="3440160" y="3979800"/>
            <a:ext cx="6465960" cy="287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37240" y="1405080"/>
            <a:ext cx="33688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5% reduction with partial flow Deep Bed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% reduction with wall flow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- set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0160" y="1600200"/>
          <a:ext cx="9505800" cy="485136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016000"/>
                <a:gridCol w="2160720"/>
              </a:tblGrid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VL_MT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C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36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VS dimensions [cm/cm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0/4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/4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VS flowrate [m</a:t>
                      </a:r>
                      <a:r>
                        <a:rPr b="0" lang="en-US" sz="27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/min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. tunnel dimen. [cm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/8.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/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/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. tunnel flowrat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al flow syste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art Sampl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S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art Sampl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DL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36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M flow, split rati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8, 0.0626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8, 0.0626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05, 0.090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97600" y="3573360"/>
            <a:ext cx="4808520" cy="253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907920"/>
            <a:ext cx="4953240" cy="2602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- gaseou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168880" cy="271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5168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– Real time P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5005440" cy="262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42000" y="3860640"/>
            <a:ext cx="5064120" cy="265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005440" cy="262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846680" y="1341360"/>
            <a:ext cx="50594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91240" y="1052640"/>
            <a:ext cx="5114880" cy="244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45160" y="3716280"/>
            <a:ext cx="5160960" cy="2706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– PM and P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3067" t="0" r="0" b="0"/>
          <a:stretch/>
        </p:blipFill>
        <p:spPr>
          <a:xfrm>
            <a:off x="0" y="3716280"/>
            <a:ext cx="4915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3060" t="0" r="0" b="0"/>
          <a:stretch/>
        </p:blipFill>
        <p:spPr>
          <a:xfrm>
            <a:off x="0" y="1052640"/>
            <a:ext cx="49258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8520" y="134100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ploratory Work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econditioning: Regeneration + Loading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Not high concentration of particles &lt;23 nm (and proportional)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Good correlation between partial and full flow system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Good correlation between particle number system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all flow filters can reduce efficiently number emission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comparison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Background important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Quite good repeatability of PN emission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8915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ploratory Work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econditioning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articles &lt;23 nm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artial – Full flow systems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Number systems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After-treatment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comparison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88880" y="1251000"/>
          <a:ext cx="8915400" cy="5273640"/>
        </p:xfrm>
        <a:graphic>
          <a:graphicData uri="http://schemas.openxmlformats.org/drawingml/2006/table">
            <a:tbl>
              <a:tblPr/>
              <a:tblGrid>
                <a:gridCol w="4216320"/>
                <a:gridCol w="1946520"/>
                <a:gridCol w="2752560"/>
              </a:tblGrid>
              <a:tr h="60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id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u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n – Feb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-Ap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VL-M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 – Jun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l – Sep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TU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ct – Nov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car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 2008 – Jan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car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T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eb - April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ril – 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R (Kore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ly – Sep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ct – Nov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l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 2009 – Jan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eb – Ma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r – May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n – Aug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p – Oc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v – Dec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vironment 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n – Feb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im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et 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-3247" b="0"/>
          <a:stretch/>
        </p:blipFill>
        <p:spPr>
          <a:xfrm>
            <a:off x="5168880" y="0"/>
            <a:ext cx="4767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2040" y="1405080"/>
            <a:ext cx="4416480" cy="21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Golden instrument at CVS and one at the partial flow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ternative systems (EJ+ET+EJ+3010D, EJ+TD+3790, Nanomet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ther systems (EEPS, 3025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81560" y="2060640"/>
            <a:ext cx="1706040" cy="3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SI( 3025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condition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2773" r="0" b="2773"/>
          <a:stretch/>
        </p:blipFill>
        <p:spPr>
          <a:xfrm>
            <a:off x="0" y="981000"/>
            <a:ext cx="4952880" cy="376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7178" r="0" b="5713"/>
          <a:stretch/>
        </p:blipFill>
        <p:spPr>
          <a:xfrm>
            <a:off x="4886280" y="1197000"/>
            <a:ext cx="5019840" cy="351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89360" y="4789440"/>
            <a:ext cx="49917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 partic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temperature mod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Low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temperature mod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igh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7960" y="4797360"/>
            <a:ext cx="411768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5 min at mode 10 is the minimum tim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-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53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-conditioning emission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6885" r="0" b="6885"/>
          <a:stretch/>
        </p:blipFill>
        <p:spPr>
          <a:xfrm>
            <a:off x="0" y="907920"/>
            <a:ext cx="4416480" cy="307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9815" r="0" b="7471"/>
          <a:stretch/>
        </p:blipFill>
        <p:spPr>
          <a:xfrm>
            <a:off x="0" y="383364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5860" r="0" b="22414"/>
          <a:stretch/>
        </p:blipFill>
        <p:spPr>
          <a:xfrm>
            <a:off x="4325760" y="981000"/>
            <a:ext cx="4588200" cy="264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7325" r="0" b="6299"/>
          <a:stretch/>
        </p:blipFill>
        <p:spPr>
          <a:xfrm>
            <a:off x="4305240" y="3681360"/>
            <a:ext cx="461340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00160" y="4292640"/>
            <a:ext cx="1166760" cy="338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n-vola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0880" y="4653000"/>
            <a:ext cx="287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5240" y="4653000"/>
            <a:ext cx="576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3240" y="1268280"/>
            <a:ext cx="28504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olatiles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sive re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56520" y="3860640"/>
            <a:ext cx="30560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 emi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be also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ycl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3236" r="0" b="7060"/>
          <a:stretch/>
        </p:blipFill>
        <p:spPr>
          <a:xfrm>
            <a:off x="5240160" y="930240"/>
            <a:ext cx="4275360" cy="307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6913" r="0" b="7648"/>
          <a:stretch/>
        </p:blipFill>
        <p:spPr>
          <a:xfrm>
            <a:off x="5240160" y="3940200"/>
            <a:ext cx="4275360" cy="2917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4308" r="0" b="5003"/>
          <a:stretch/>
        </p:blipFill>
        <p:spPr>
          <a:xfrm>
            <a:off x="501480" y="933480"/>
            <a:ext cx="4019760" cy="314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0" t="7032" r="0" b="7325"/>
          <a:stretch/>
        </p:blipFill>
        <p:spPr>
          <a:xfrm>
            <a:off x="379440" y="3968640"/>
            <a:ext cx="4141800" cy="282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720" y="1052640"/>
            <a:ext cx="29296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ning of th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23440" y="3860640"/>
            <a:ext cx="3010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at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mperature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36572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-47520" bIns="-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44520" y="1268280"/>
            <a:ext cx="115236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93240" y="981000"/>
            <a:ext cx="1861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the rest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4120" y="3068640"/>
            <a:ext cx="169668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ld WH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0" y="2924280"/>
            <a:ext cx="162504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t WH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00120" y="5950080"/>
            <a:ext cx="121824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articles &lt;23 nm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160" y="1052640"/>
            <a:ext cx="9505800" cy="532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0000" y="4724280"/>
            <a:ext cx="693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Non-volatiles &gt;3 nm approximately +40% of 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6200" y="1628640"/>
            <a:ext cx="6190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 Narrow"/>
              </a:rPr>
              <a:t>Total &gt;3 nm approximately +80% of 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artial-Full flow system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1854"/>
          <a:stretch/>
        </p:blipFill>
        <p:spPr>
          <a:xfrm>
            <a:off x="0" y="907920"/>
            <a:ext cx="5985000" cy="344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4224"/>
          <a:stretch/>
        </p:blipFill>
        <p:spPr>
          <a:xfrm>
            <a:off x="3924360" y="3672000"/>
            <a:ext cx="5981760" cy="31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72800" y="1333440"/>
            <a:ext cx="4307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t good PM cor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tween partial and full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However similar lev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90000" y="4581360"/>
            <a:ext cx="43074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ery good PN cor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tween partial and full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9:39:28Z</dcterms:created>
  <dc:creator>European Commission - Joint Research Centre - IEC Unit</dc:creator>
  <dc:description>© European Communities, 2007</dc:description>
  <cp:keywords/>
  <dc:language>en-US</dc:language>
  <cp:lastModifiedBy>DfT</cp:lastModifiedBy>
  <cp:lastPrinted>2003-10-28T09:05:55Z</cp:lastPrinted>
  <dcterms:modified xsi:type="dcterms:W3CDTF">2003-05-09T03:02:03Z</dcterms:modified>
  <cp:revision>305</cp:revision>
  <dc:subject>JRC Corporate Image Toolkit</dc:subject>
  <dc:title>Slide_template_IES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9374353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