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" y="98280"/>
            <a:ext cx="1317600" cy="551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1440" y="760320"/>
            <a:ext cx="9905760" cy="149400"/>
          </a:xfrm>
          <a:prstGeom prst="rect">
            <a:avLst/>
          </a:prstGeom>
          <a:solidFill>
            <a:srgbClr val="0f3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7360" y="776160"/>
            <a:ext cx="719748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RC  30 March 2009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31160" y="784080"/>
            <a:ext cx="1325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737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AB6F7E83-13D5-47D5-AC63-8C16D44551D2}" type="slidenum">
              <a:rPr b="0" lang="en-US" sz="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574120" y="109440"/>
            <a:ext cx="682560" cy="544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30040">
              <a:spcBef>
                <a:spcPts val="476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600" y="1031760"/>
            <a:ext cx="2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00" y="1031760"/>
            <a:ext cx="2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4560"/>
            <a:ext cx="9906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2989"/>
                </a:solidFill>
                <a:latin typeface="Arial"/>
              </a:rPr>
              <a:t>Particle Measurement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989"/>
                </a:solidFill>
                <a:latin typeface="Arial"/>
              </a:rPr>
              <a:t>Exploratory work &amp; Validation Exercise (JR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989"/>
                </a:solidFill>
                <a:latin typeface="Arial"/>
              </a:rPr>
              <a:t>First Validation Exercise compa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1240" y="5516640"/>
            <a:ext cx="76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Giechaskiel, G. Martini, J. Ander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RC, 30 March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Number systems compariso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745240" cy="3175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100400" y="3595680"/>
            <a:ext cx="5805720" cy="326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30600" y="1477800"/>
            <a:ext cx="37998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ery good agreement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ternative and golde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asuring from CVS in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Aftertreatment effect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-186120" y="4141800"/>
            <a:ext cx="40377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ITEC=PM Meta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rtial Flow Deep Bed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PF=Pt based oxicat upstream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all flow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7354" r="0" b="0"/>
          <a:stretch/>
        </p:blipFill>
        <p:spPr>
          <a:xfrm>
            <a:off x="0" y="907920"/>
            <a:ext cx="6438960" cy="3121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0" t="7382" r="0" b="7382"/>
          <a:stretch/>
        </p:blipFill>
        <p:spPr>
          <a:xfrm>
            <a:off x="3440160" y="3979800"/>
            <a:ext cx="6465960" cy="287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37240" y="1405080"/>
            <a:ext cx="33688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5% reduction with partial flow Deep Bed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99% reduction with wall flow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VE Comparisons - setup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0160" y="1600200"/>
          <a:ext cx="9505800" cy="4851360"/>
        </p:xfrm>
        <a:graphic>
          <a:graphicData uri="http://schemas.openxmlformats.org/drawingml/2006/table">
            <a:tbl>
              <a:tblPr/>
              <a:tblGrid>
                <a:gridCol w="3240000"/>
                <a:gridCol w="2089080"/>
                <a:gridCol w="2016000"/>
                <a:gridCol w="2160720"/>
              </a:tblGrid>
              <a:tr h="50688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C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VL_MTC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C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36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VS dimensions [cm/cm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0/4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/5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0/4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VS flowrate [m</a:t>
                      </a:r>
                      <a:r>
                        <a:rPr b="0" lang="en-US" sz="27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/min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c. tunnel dimen. [cm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/8.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/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/1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c. tunnel flowrat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/5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/5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/4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tial flow syste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mart Sample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S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mart Sample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DL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360">
                <a:tc>
                  <a:txBody>
                    <a:bodyPr lIns="96840" rIns="9684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M flow, split rati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8, 0.0626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8, 0.0626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7520" bIns="47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05, 0.0909%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97600" y="3573360"/>
            <a:ext cx="4808520" cy="253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907920"/>
            <a:ext cx="4953240" cy="2602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VE Comparisons - gaseou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5168880" cy="2710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3573360"/>
            <a:ext cx="516888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VE Comparisons – Real time P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5005440" cy="2621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42000" y="3860640"/>
            <a:ext cx="5064120" cy="265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5005440" cy="2621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846680" y="1341360"/>
            <a:ext cx="50594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91240" y="1052640"/>
            <a:ext cx="5114880" cy="244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45160" y="3716280"/>
            <a:ext cx="5160960" cy="2706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VE Comparisons – PM and PN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rcRect l="3067" t="0" r="0" b="0"/>
          <a:stretch/>
        </p:blipFill>
        <p:spPr>
          <a:xfrm>
            <a:off x="0" y="3716280"/>
            <a:ext cx="491508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3060" t="0" r="0" b="0"/>
          <a:stretch/>
        </p:blipFill>
        <p:spPr>
          <a:xfrm>
            <a:off x="0" y="1052640"/>
            <a:ext cx="49258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8520" y="134100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Exploratory Work (JRC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reconditioning: Regeneration + Loading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Not high concentration of particles &lt;23 nm (and proportional)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Validation Exercise (JRC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Good correlation between partial and full flow systems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Good correlation between particle number systems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Wall flow filters can reduce efficiently number emissions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Validation Exercise comparison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Background important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Quite good repeatability of PN emissions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341360"/>
            <a:ext cx="8915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Exploratory Work (JRC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reconditioning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articles &lt;23 nm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Validation Exercise (JRC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artial – Full flow systems comparison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Number systems comparison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7280"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After-treatment comparison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Validation Exercise comparison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88880" y="1251000"/>
          <a:ext cx="8915400" cy="5273640"/>
        </p:xfrm>
        <a:graphic>
          <a:graphicData uri="http://schemas.openxmlformats.org/drawingml/2006/table">
            <a:tbl>
              <a:tblPr/>
              <a:tblGrid>
                <a:gridCol w="4216320"/>
                <a:gridCol w="1946520"/>
                <a:gridCol w="2752560"/>
              </a:tblGrid>
              <a:tr h="606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id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ou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n – Feb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-Ap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VL-M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y – Jun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ul – Sept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WTU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ct – Nov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icar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 2008 – Jan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icar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T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eb - April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ril – Jun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M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ER (Kore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uly – Sep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ct – Nov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ol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c 2009 – Jan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eb – Ma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T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r – May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un – Aug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p – Oct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c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v – Dec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vironment 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an – Feb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8240"/>
                          <a:tab algn="l" pos="1536840"/>
                          <a:tab algn="l" pos="2305080"/>
                          <a:tab algn="l" pos="3073320"/>
                          <a:tab algn="l" pos="3841920"/>
                          <a:tab algn="l" pos="4610160"/>
                          <a:tab algn="l" pos="5378400"/>
                          <a:tab algn="l" pos="6146640"/>
                          <a:tab algn="l" pos="6915240"/>
                          <a:tab algn="l" pos="7683480"/>
                          <a:tab algn="l" pos="8451720"/>
                          <a:tab algn="l" pos="9220320"/>
                          <a:tab algn="l" pos="9988560"/>
                          <a:tab algn="l" pos="107568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im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Set up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-3247" b="0"/>
          <a:stretch/>
        </p:blipFill>
        <p:spPr>
          <a:xfrm>
            <a:off x="5168880" y="0"/>
            <a:ext cx="4767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2040" y="1405080"/>
            <a:ext cx="4416480" cy="21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ne Golden instrument at CVS and one at the partial flow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ternative systems (EJ+ET+EJ+3010D, EJ+TD+3790, Nanomet-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ther systems (EEPS, 3025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81560" y="2060640"/>
            <a:ext cx="1706040" cy="30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SI( 3025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conditioning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2773" r="0" b="2773"/>
          <a:stretch/>
        </p:blipFill>
        <p:spPr>
          <a:xfrm>
            <a:off x="0" y="981000"/>
            <a:ext cx="4952880" cy="3765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7178" r="0" b="5713"/>
          <a:stretch/>
        </p:blipFill>
        <p:spPr>
          <a:xfrm>
            <a:off x="4886280" y="1197000"/>
            <a:ext cx="5019840" cy="351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89360" y="4789440"/>
            <a:ext cx="49917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volatile particles &gt;23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 temperature mod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Low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 temperature mod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High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57960" y="4797360"/>
            <a:ext cx="411768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volatiles &gt;23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5 min at mode 10 is the minimum tim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-cond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53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re-conditioning emission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6885" r="0" b="6885"/>
          <a:stretch/>
        </p:blipFill>
        <p:spPr>
          <a:xfrm>
            <a:off x="0" y="907920"/>
            <a:ext cx="4416480" cy="3078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9815" r="0" b="7471"/>
          <a:stretch/>
        </p:blipFill>
        <p:spPr>
          <a:xfrm>
            <a:off x="0" y="3833640"/>
            <a:ext cx="453708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0" t="5860" r="0" b="22414"/>
          <a:stretch/>
        </p:blipFill>
        <p:spPr>
          <a:xfrm>
            <a:off x="4325760" y="981000"/>
            <a:ext cx="4588200" cy="2649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0" t="7325" r="0" b="6299"/>
          <a:stretch/>
        </p:blipFill>
        <p:spPr>
          <a:xfrm>
            <a:off x="4305240" y="3681360"/>
            <a:ext cx="4613400" cy="317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00160" y="4292640"/>
            <a:ext cx="1166760" cy="3387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n-vola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0880" y="4653000"/>
            <a:ext cx="2872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5240" y="4653000"/>
            <a:ext cx="576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13240" y="1268280"/>
            <a:ext cx="28504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 emission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olatiles d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ssive re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56520" y="3860640"/>
            <a:ext cx="30560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n-volatile emis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n be also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Cycle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3236" r="0" b="7060"/>
          <a:stretch/>
        </p:blipFill>
        <p:spPr>
          <a:xfrm>
            <a:off x="5240160" y="930240"/>
            <a:ext cx="4275360" cy="307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6913" r="0" b="7648"/>
          <a:stretch/>
        </p:blipFill>
        <p:spPr>
          <a:xfrm>
            <a:off x="5240160" y="3940200"/>
            <a:ext cx="4275360" cy="2917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0" t="4308" r="0" b="5003"/>
          <a:stretch/>
        </p:blipFill>
        <p:spPr>
          <a:xfrm>
            <a:off x="501480" y="933480"/>
            <a:ext cx="4019760" cy="3143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rcRect l="0" t="7032" r="0" b="7325"/>
          <a:stretch/>
        </p:blipFill>
        <p:spPr>
          <a:xfrm>
            <a:off x="379440" y="3968640"/>
            <a:ext cx="4141800" cy="2826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78720" y="1052640"/>
            <a:ext cx="29296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 emissions a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ginning of the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23440" y="3860640"/>
            <a:ext cx="30103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 emissions at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mperature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29240" y="436572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-47520" bIns="-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44520" y="1268280"/>
            <a:ext cx="115236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480" rIns="9648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93240" y="981000"/>
            <a:ext cx="18619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 e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the rest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4120" y="3068640"/>
            <a:ext cx="1696680" cy="3085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ld WH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0" y="2924280"/>
            <a:ext cx="1625040" cy="3085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ot WH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00120" y="5950080"/>
            <a:ext cx="1218240" cy="3085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articles &lt;23 nm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160" y="1052640"/>
            <a:ext cx="9505800" cy="532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0000" y="4724280"/>
            <a:ext cx="6930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</a:rPr>
              <a:t>Non-volatiles &gt;3 nm approximately +40% of non-volatiles &gt;23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6200" y="1628640"/>
            <a:ext cx="6190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Arial Narrow"/>
              </a:rPr>
              <a:t>Total &gt;3 nm approximately +80% of non-volatiles &gt;23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Partial-Full flow system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0" r="0" b="1854"/>
          <a:stretch/>
        </p:blipFill>
        <p:spPr>
          <a:xfrm>
            <a:off x="0" y="907920"/>
            <a:ext cx="5985000" cy="344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0" r="0" b="4224"/>
          <a:stretch/>
        </p:blipFill>
        <p:spPr>
          <a:xfrm>
            <a:off x="3924360" y="3672000"/>
            <a:ext cx="5981760" cy="318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72800" y="1333440"/>
            <a:ext cx="43074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t good PM corre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tween partial and full flow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However similar lev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90000" y="4581360"/>
            <a:ext cx="43074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t">
            <a:spAutoFit/>
          </a:bodyPr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ery good PN corre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900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tween partial and full flow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9:39:28Z</dcterms:created>
  <dc:creator>European Commission - Joint Research Centre - IEC Unit</dc:creator>
  <dc:description>© European Communities, 2007</dc:description>
  <cp:keywords/>
  <dc:language>en-US</dc:language>
  <cp:lastModifiedBy>DfT</cp:lastModifiedBy>
  <cp:lastPrinted>2003-10-28T09:05:55Z</cp:lastPrinted>
  <dcterms:modified xsi:type="dcterms:W3CDTF">2003-05-09T03:02:03Z</dcterms:modified>
  <cp:revision>305</cp:revision>
  <dc:subject>JRC Corporate Image Toolkit</dc:subject>
  <dc:title>Slide_template_IES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9374353</vt:r8>
  </property>
  <property fmtid="{D5CDD505-2E9C-101B-9397-08002B2CF9AE}" pid="3" name="_AuthorEmail">
    <vt:lpwstr>Chris.Parkin@dft.gsi.gov.uk</vt:lpwstr>
  </property>
  <property fmtid="{D5CDD505-2E9C-101B-9397-08002B2CF9AE}" pid="4" name="_AuthorEmailDisplayName">
    <vt:lpwstr>Chris Parkin</vt:lpwstr>
  </property>
  <property fmtid="{D5CDD505-2E9C-101B-9397-08002B2CF9AE}" pid="5" name="_EmailSubject">
    <vt:lpwstr>PMP Informal Group Webpage Update</vt:lpwstr>
  </property>
  <property fmtid="{D5CDD505-2E9C-101B-9397-08002B2CF9AE}" pid="6" name="_NewReviewCycle">
    <vt:lpwstr/>
  </property>
</Properties>
</file>