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9441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208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6448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9580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6448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9580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39280" y="318960"/>
            <a:ext cx="66294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5a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208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520" y="39441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208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6448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95800" y="13413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3352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6448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95800" y="3944160"/>
            <a:ext cx="26006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280" y="318960"/>
            <a:ext cx="66294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5a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2080" y="39441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341360"/>
            <a:ext cx="39412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44160"/>
            <a:ext cx="80769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9280" indent="-17964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810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-1792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-179280">
              <a:lnSpc>
                <a:spcPct val="110000"/>
              </a:lnSpc>
              <a:spcAft>
                <a:spcPts val="1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-179280">
              <a:lnSpc>
                <a:spcPct val="110000"/>
              </a:lnSpc>
              <a:spcAft>
                <a:spcPts val="1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6521400"/>
            <a:ext cx="4921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505560" y="6521400"/>
            <a:ext cx="2120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4BE0-29D8-42E6-A073-4A20F0475077}" type="slidenum">
              <a:rPr b="0" lang="en-US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8480" y="6521400"/>
            <a:ext cx="6131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PMP Meeting, 29.03.09, Lond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914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2705040" y="7086600"/>
            <a:ext cx="3733920" cy="380880"/>
            <a:chOff x="2705040" y="7086600"/>
            <a:chExt cx="3733920" cy="380880"/>
          </a:xfrm>
        </p:grpSpPr>
        <p:sp>
          <p:nvSpPr>
            <p:cNvPr id="7" name=""/>
            <p:cNvSpPr/>
            <p:nvPr/>
          </p:nvSpPr>
          <p:spPr>
            <a:xfrm>
              <a:off x="2705040" y="7086600"/>
              <a:ext cx="685800" cy="380880"/>
            </a:xfrm>
            <a:prstGeom prst="rect">
              <a:avLst/>
            </a:prstGeom>
            <a:solidFill>
              <a:srgbClr val="005a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467160" y="7086600"/>
              <a:ext cx="685800" cy="380880"/>
            </a:xfrm>
            <a:prstGeom prst="rect">
              <a:avLst/>
            </a:prstGeom>
            <a:solidFill>
              <a:srgbClr val="b0df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229280" y="7086600"/>
              <a:ext cx="685800" cy="38088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991040" y="7086600"/>
              <a:ext cx="685800" cy="38088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753160" y="7086600"/>
              <a:ext cx="685800" cy="38088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05120"/>
            <a:ext cx="9144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17160"/>
            <a:ext cx="518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9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521400"/>
            <a:ext cx="4921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1"/>
          </p:nvPr>
        </p:nvSpPr>
        <p:spPr>
          <a:xfrm>
            <a:off x="566280" y="1614240"/>
            <a:ext cx="213372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6C92-F32C-4AA7-AE0A-9A63DB40AB01}" type="datetime">
              <a:rPr b="0" lang="en-US" sz="1000" spc="-1" strike="noStrike">
                <a:solidFill>
                  <a:srgbClr val="80808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41400"/>
            <a:ext cx="9144000" cy="5013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2705040" y="7010280"/>
            <a:ext cx="3733920" cy="380880"/>
            <a:chOff x="2705040" y="7010280"/>
            <a:chExt cx="3733920" cy="380880"/>
          </a:xfrm>
        </p:grpSpPr>
        <p:sp>
          <p:nvSpPr>
            <p:cNvPr id="55" name=""/>
            <p:cNvSpPr/>
            <p:nvPr/>
          </p:nvSpPr>
          <p:spPr>
            <a:xfrm>
              <a:off x="2705040" y="7010280"/>
              <a:ext cx="685800" cy="380880"/>
            </a:xfrm>
            <a:prstGeom prst="rect">
              <a:avLst/>
            </a:prstGeom>
            <a:solidFill>
              <a:srgbClr val="005a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7160" y="7010280"/>
              <a:ext cx="685800" cy="380880"/>
            </a:xfrm>
            <a:prstGeom prst="rect">
              <a:avLst/>
            </a:prstGeom>
            <a:solidFill>
              <a:srgbClr val="b0dff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29280" y="7010280"/>
              <a:ext cx="685800" cy="38088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91040" y="7010280"/>
              <a:ext cx="685800" cy="380880"/>
            </a:xfrm>
            <a:prstGeom prst="rect">
              <a:avLst/>
            </a:prstGeom>
            <a:solidFill>
              <a:srgbClr val="cc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53160" y="7010280"/>
              <a:ext cx="685800" cy="38088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5a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5a99"/>
              </a:solidFill>
              <a:latin typeface="Arial"/>
            </a:endParaRPr>
          </a:p>
          <a:p>
            <a:pPr lvl="1" marL="663480" indent="-484200" algn="ctr">
              <a:spcAft>
                <a:spcPts val="1125"/>
              </a:spcAft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9280" indent="-179640" algn="ctr">
              <a:spcAft>
                <a:spcPts val="1125"/>
              </a:spcAft>
              <a:buClr>
                <a:srgbClr val="99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98560" algn="ctr">
              <a:spcAft>
                <a:spcPts val="1125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58920" algn="ctr">
              <a:spcAft>
                <a:spcPts val="1125"/>
              </a:spcAft>
              <a:buClr>
                <a:srgbClr val="9999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8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8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17160"/>
            <a:ext cx="518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a99"/>
                </a:solidFill>
                <a:latin typeface="Arial"/>
              </a:rPr>
              <a:t>VPR Calibration with Thermally Stable Aerosols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9640" y="1125000"/>
            <a:ext cx="5173920" cy="2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a99"/>
                </a:solidFill>
                <a:latin typeface="Arial"/>
              </a:rPr>
              <a:t>Alexander Bergmann</a:t>
            </a:r>
            <a:endParaRPr b="0" lang="en-US" sz="1900" spc="-1" strike="noStrike">
              <a:solidFill>
                <a:srgbClr val="005a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58FB1-53BE-4585-942C-9671FB23376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57200" y="3357720"/>
            <a:ext cx="8076960" cy="2588400"/>
            <a:chOff x="457200" y="3357720"/>
            <a:chExt cx="8076960" cy="2588400"/>
          </a:xfrm>
        </p:grpSpPr>
        <p:grpSp>
          <p:nvGrpSpPr>
            <p:cNvPr id="101" name=""/>
            <p:cNvGrpSpPr/>
            <p:nvPr/>
          </p:nvGrpSpPr>
          <p:grpSpPr>
            <a:xfrm>
              <a:off x="457200" y="3357720"/>
              <a:ext cx="8076960" cy="2588400"/>
              <a:chOff x="457200" y="3357720"/>
              <a:chExt cx="8076960" cy="2588400"/>
            </a:xfrm>
          </p:grpSpPr>
          <p:pic>
            <p:nvPicPr>
              <p:cNvPr id="1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3357720"/>
                <a:ext cx="8076960" cy="23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3504960" y="5338800"/>
                <a:ext cx="762120" cy="60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30nm 50nm 100n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57400" y="5415120"/>
                <a:ext cx="914400" cy="46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350°C DR=1:3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2514600" y="51098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315200" y="5564160"/>
                <a:ext cx="990360" cy="26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50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0n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62120" y="5338800"/>
              <a:ext cx="137160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ttings:     30nm [30,50nm]  50nm [100n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5a99"/>
                </a:solidFill>
                <a:latin typeface="Arial"/>
              </a:rPr>
              <a:t>AVL APC Calibration Procedure (PCRF) [since 2007]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6095880"/>
            <a:ext cx="7543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ows and pressures are kept the same at step 1 and step 2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2819520"/>
            <a:ext cx="914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04920" y="990720"/>
            <a:ext cx="8381880" cy="2359800"/>
            <a:chOff x="304920" y="990720"/>
            <a:chExt cx="8381880" cy="2359800"/>
          </a:xfrm>
        </p:grpSpPr>
        <p:grpSp>
          <p:nvGrpSpPr>
            <p:cNvPr id="112" name=""/>
            <p:cNvGrpSpPr/>
            <p:nvPr/>
          </p:nvGrpSpPr>
          <p:grpSpPr>
            <a:xfrm>
              <a:off x="304920" y="990720"/>
              <a:ext cx="8381880" cy="2359800"/>
              <a:chOff x="304920" y="990720"/>
              <a:chExt cx="8381880" cy="2359800"/>
            </a:xfrm>
          </p:grpSpPr>
          <p:pic>
            <p:nvPicPr>
              <p:cNvPr id="11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990720"/>
                <a:ext cx="8381880" cy="208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3429000" y="2743200"/>
                <a:ext cx="761400" cy="60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30nm 50nm 100n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981080" y="2879640"/>
                <a:ext cx="914040" cy="46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350°C DR=1:3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2438280" y="259056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876560" y="2895480"/>
                <a:ext cx="990360" cy="26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50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0n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685800" y="2743200"/>
              <a:ext cx="137160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ttings:     30nm [30,50nm]  50nm [100n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5a99"/>
                </a:solidFill>
                <a:latin typeface="Arial"/>
              </a:rPr>
              <a:t>Proof of Thermal Stablity of the Aerosol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1676520" cy="1239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0" y="1371600"/>
            <a:ext cx="9144000" cy="5451480"/>
            <a:chOff x="0" y="1371600"/>
            <a:chExt cx="9144000" cy="5451480"/>
          </a:xfrm>
        </p:grpSpPr>
        <p:graphicFrame>
          <p:nvGraphicFramePr>
            <p:cNvPr id="122" name=""/>
            <p:cNvGraphicFramePr/>
            <p:nvPr/>
          </p:nvGraphicFramePr>
          <p:xfrm>
            <a:off x="0" y="1371600"/>
            <a:ext cx="9144000" cy="54514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371600"/>
                      <a:ext cx="9144000" cy="545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6400800" y="2133720"/>
              <a:ext cx="4572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2104920"/>
              <a:ext cx="4572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371600" y="2286000"/>
            <a:ext cx="16765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200400"/>
            <a:ext cx="15238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3352680"/>
            <a:ext cx="1600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5a99"/>
                </a:solidFill>
                <a:latin typeface="Arial"/>
              </a:rPr>
              <a:t>Aerosol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5a99"/>
                </a:solidFill>
                <a:latin typeface="Arial"/>
              </a:rPr>
              <a:t>Proof of Particle Number Size distributions at the inlet and the outlet of the APC during Calibration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143000"/>
          <a:ext cx="868680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686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04920" y="457200"/>
          <a:ext cx="8458200" cy="601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845820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5a99"/>
                </a:solidFill>
                <a:latin typeface="Arial"/>
              </a:rPr>
              <a:t>Calibration of 252 PCRFs with 60 AVL APCs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1295280"/>
            <a:ext cx="50292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rrelation of PCRF at 50nm with overall PC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318960"/>
            <a:ext cx="6629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5a99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5a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07696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e of thermally stable aerosols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[up to the temperature of the ET (Evaporation Tube Setting)]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 of major importance to perform meaningful PCRF calib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ne way of generating thermally stable aerosols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[up to the temperature of the ET (Evaporation Tube Setting)]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 to use a CAST (Combustion Aerosol standard) with following thermal treatment and dilution [e.g. VPR, Catalytic Stripper, etc.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ing CAST Aerosols fullfills the Calibration principle of „Similarity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perienced particle losses - when using thermally stable aerosols - agree nicley with predictions from aerosol the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ibration of &gt;250 PCRFs for AVL APCs showed very repeatable results (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349"/>
              </a:spcAft>
              <a:buClr>
                <a:srgbClr val="99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mplification of the PCRF Calibration could be achieved by using only Aerosols with approx. 50nm Mean Diameter and GSD of &lt;1.4, resulting in compareable (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%) calibration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9:10:13Z</dcterms:created>
  <dc:creator>bergmana</dc:creator>
  <dc:description/>
  <dc:language>en-US</dc:language>
  <cp:lastModifiedBy>bergmana</cp:lastModifiedBy>
  <dcterms:modified xsi:type="dcterms:W3CDTF">2009-03-30T06:38:33Z</dcterms:modified>
  <cp:revision>10</cp:revision>
  <dc:subject/>
  <dc:title>AVL HEADLINE  SBU ITS-KALEIDOSC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31487615</vt:r8>
  </property>
  <property fmtid="{D5CDD505-2E9C-101B-9397-08002B2CF9AE}" pid="3" name="_AuthorEmail">
    <vt:lpwstr>Chris.Parkin@dft.gsi.gov.uk</vt:lpwstr>
  </property>
  <property fmtid="{D5CDD505-2E9C-101B-9397-08002B2CF9AE}" pid="4" name="_AuthorEmailDisplayName">
    <vt:lpwstr>Chris Parkin</vt:lpwstr>
  </property>
  <property fmtid="{D5CDD505-2E9C-101B-9397-08002B2CF9AE}" pid="5" name="_EmailSubject">
    <vt:lpwstr>PMP Informal Group Webpage Update</vt:lpwstr>
  </property>
  <property fmtid="{D5CDD505-2E9C-101B-9397-08002B2CF9AE}" pid="6" name="_NewReviewCycle">
    <vt:lpwstr/>
  </property>
</Properties>
</file>