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D2B7C7-CA96-4710-A342-DE491A044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8C3C73-B839-4036-A478-DB674D508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86D69-AE29-4F96-B318-438EC5B9BF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268D00-8D5D-4250-AF86-F0E3F26AA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E9E9B-6E9D-4C06-BB0E-67A9D0F6B1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7F336-5B9E-41C1-B89F-2709D9C71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8B2BAD-23BC-4656-BB5A-233F63023F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01E9C-AA20-4773-9DCE-4F7871E5B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082BE9-F654-4097-A9BF-846701B5F4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5A6690-7C60-4DAA-AED7-C8DA3ACE18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74FA6C-90C9-4D2F-91BF-D262D70752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D8133F-4251-48C1-A69B-A0E62314C4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49E26F-057B-43F2-B144-72376C01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7B9CA1-A64F-43FA-8CE0-8CEEE29C8F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1F7078-089B-4012-BBB7-941B341481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B200D8-5CEE-4867-A40D-46D1C4C117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39B0DA-2181-49A2-A24D-A686F22F07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81CC5F-84F8-4848-8A94-01028E3CC5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083045-1CCE-4FE6-8936-57AB3727B0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65884-253E-49E1-89F0-299FF09913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B72607-7B2C-4102-A0DF-FEEADEDDCB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B8028D-AEEE-415F-BD2F-55549D48AF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F26432F-A215-42F0-98AE-585A0AD00A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5A81E8D-79E2-4AF4-BFE6-E0D1D5F79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6894D7-3BFF-46DB-8B9D-C66F9FE344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138261-EE38-42B8-A464-8CC19F2986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107FD0-593F-4210-AB64-1924CF9822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523659-CEA6-421A-A7A1-1172EDD9CE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9EA21B-F9C7-4C16-B238-24810166FC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8C5CB8-CA68-4E36-B6FD-6FB7B25E32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FC2214-36F5-4BD3-B89F-54E3A1DBFF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6C8DD4-031B-4F03-91F5-56C8224B12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26E95A-6813-40F6-8580-3A9C10EA9B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A31D30-7C68-4926-A0EF-6B1BFD42C3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FB27D-4177-466C-A19D-7211588B2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C31F3D-8029-45D7-91CB-0827F9E229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55A956-142A-414A-84C5-A1C4AFFBA6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9F23B1-C34A-4615-992B-254604D742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9C1D4D-3BD3-4A09-9023-BCCF272736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A8DF48-3EF4-4E06-8C6D-757FDE1879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3F428D-2BBE-4D25-A1AE-E16BA24DE3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86B2CF-EBB5-4A73-8275-0D18359214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202004-1320-40C0-8A3C-C824DBAB46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3BCA6B-C665-4646-A961-6F3B2F3A1D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3221FB-9A3B-45F9-ACC3-7D7CBCBAED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F9B72-6B63-4BD0-BDF6-3C25D6E46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C6B472-AD89-4D5F-A549-A4744B84BC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2918F5-C60F-4B43-9096-CE23903D9C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0964A7-6173-4289-8285-89ED5B9179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CC1B56-46DF-4597-B0C3-1E891AE35C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F51A7A-C61A-4F77-B434-84DF74ED7E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AD1B9-69FB-4253-B40A-0864D81D9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793D4-AB00-46A5-BBAE-FAEE05E4A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4A1A6-B68F-48FD-91E6-C31237FC5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39774-5EC9-4818-9B0A-9FEB69383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24C20-C658-41DE-824C-FB764ABD4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55A49C-3A61-41D8-90B6-D9E2F521D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BCA1A-0840-436E-B2A0-F18626C6C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3637B-6AE6-4E83-886B-E9E10C9DA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C04E4-45F6-4EEC-8F84-1BD3934FA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3CE97-6EEB-4248-8F42-1A2F767B7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2E5EB-D970-42A9-A837-513169182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4AB28-0FF1-4835-9F6E-942A878040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CFAAB-EC82-4435-8073-809E964D1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F495A-A8CD-4E6A-93A1-7825C5C9B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3F6B2-D9B8-457A-840B-CC79814AB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15BB4-D78B-4F83-9995-87512987D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312393-1994-4939-A40C-EB0F8BCC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9077F-8F67-4A88-8506-4B9C36784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013FC-AFDB-4948-AA6D-62765FEDD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EA48C-7922-4556-8FAC-B8E801B4B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B5CCC-5EAB-4500-8CA2-3DC08D0E7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935B90-28CB-4A71-88AE-43D526278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2EA92-EBBB-4568-B7C9-7D9B346D23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40F6A2-524F-4BF7-85CE-DD905D35A2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0F9950-8E6D-413D-A1D4-2FD8E74406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D3EF6-9851-4778-96C1-06FF529BC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821EEA-B869-46FA-A7DB-245CCDB78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2C3C84-92C8-4C8C-8855-B67A5C15F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83A3F-1542-4829-8F88-668255DD74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18FE5-63C3-40FA-A7BB-036D222EE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F0B02-0250-42CF-9A33-0037C7F40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42A06-A16D-424B-A763-4E9557B32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2BA9D-0960-43AE-91AB-CC7A09005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9D9CC-73EE-4CBF-8DD4-C88E7AFDD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C436C1-4943-4264-B9F6-09F4BA7A6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0BC007-BCAC-46BD-B186-97B0592CA4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1F4157-5B40-48D4-B36A-69F783C4B5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C3770-61CD-4FAA-B396-014C81377D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E2B567-901E-402E-822D-A81984EBD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A34BB-E374-4979-90B9-DF6463CEF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9519B-4E93-4730-9E43-9ED301E7F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A0E2F-5E20-4180-A8DC-49CEC1C86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6CB56-1332-4507-9D62-960E121A7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AE437B-012F-45D2-B5DD-03A0596D6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5C01B-AF32-445A-802B-F1E4A1DD1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990518-D29E-498A-94FC-D77917F0F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658F6-B6E3-402C-867C-AC0B5773D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F61E0-033D-4D93-A093-E43267A04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F734D2-D32A-453C-9903-1E0AFC5F34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05F4A4-5C55-477A-B364-148C7EB1C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2F27A-5C29-4BE6-B2F5-96F4FFC6A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31032F-FD27-4D8F-BA32-453A072F0C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44FFA-8BB0-4A57-9159-9B56E3BD0C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2A413E-6420-4A80-ADA9-468E99873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5A3937-7CCC-4889-BCA9-E77D956B3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9F0E4-122D-4FAA-9069-091502E6EE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2D4869-3BF5-4E31-8D37-32940F35A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5495A-53E1-4B58-A509-9FD9A190E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1B6F4-AE5A-474A-8DAD-15976832E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1B01BC-CC1C-4496-B757-DCC15CBAB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9EBC0E-9518-4C41-9A62-8D64826B4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77B4A-78D2-4A31-B502-4FB86C203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E72D70-7F49-44BB-8617-1A71340EB3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1D8CEF-9CCD-456C-A097-2148C2A2A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13A970-9625-4FA7-BCE2-B216F70E0A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3C4FB-2DC2-418C-8F3C-E8B5B2A07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1462B-DE30-4A1C-95B1-6884DEA012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ED701-DCB7-4E8C-9211-DE3190B92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98A8BC-20C0-4B52-A984-20AA378B8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0377FA-5AA6-406A-9A00-4B713DAE90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0C85D-9635-40EB-8134-B00DF75E9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6E832E-9153-44E9-9EC8-B8175BFA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AE3C3-98D3-45DB-AA52-ED1A0647C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176F79-5FE3-4BD0-AC54-FE2AC965D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5684DB-7351-436F-8071-0B8C54C45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E8A496-FC69-4498-9FE0-57F99FDFFA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A40ECD-9EBE-48B2-B511-3CF33A7539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D53BD4-7D55-4A21-9B69-F5D070FA35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3F722C-4A14-4B3A-8426-6621EA834C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4D102-CD6E-43F0-A7DC-2F6FFAE54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782E4F-A84F-44B5-B9C2-4905DFE42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9349FE-DCFC-4D45-8DCB-80F2344E61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3DCDF4-DF8F-4784-AE71-092F4F7AC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BD6A16-6605-4FBC-BF07-27D0F3BE4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EA5B0-68CB-4B7A-931A-EED906305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415A1-F0A2-488C-9AFD-A53D264E1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DE2E5-FC33-4FAF-8A92-BEC54BF53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C30BB4-18DE-4865-8CDE-FDF7D538D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C6856D-7C17-48EC-86C4-80CA1B3422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2D989C-9D22-41F0-9F98-EDC5C7636B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3023CA-4087-4461-B7B2-3E13249F35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98309-A037-43E3-858E-238C3FDF23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3B4B2C-F4F7-4F14-B470-2E3EF24922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9/06/09</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9822-A017-46A5-8AC3-243D21BF2F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uthor: A.Rijnders as chairman of the GFV informal Group</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14AD-74E1-4A40-8E7B-3DA9390ED81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EAFE-9A8A-4164-9400-0AEE194A822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A52A-6AD5-477B-AA51-B34B246EBA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9/06/09</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uthor: A.Rijnders as chairman of the GFV informal Group</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0918-C99C-4266-B330-6BB1C83DE9B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1032-FC2B-4D1F-B2AB-BF987FE2E56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0E7A-B806-4733-8532-2716F4B4DD4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49CA-C5F4-48FD-B0A2-83A27640916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4AA2-BBAF-484C-B0C3-E41A1BB0D9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E303-9398-434F-845B-355E9E5A461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5911-9C44-4DA2-9288-EB280F96108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8D4C-B318-4F08-BDCD-65123D9210A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2"/>
          <p:cNvSpPr/>
          <p:nvPr/>
        </p:nvSpPr>
        <p:spPr>
          <a:xfrm>
            <a:off x="539640" y="1557360"/>
            <a:ext cx="8209080" cy="6570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GFV meeting</a:t>
            </a:r>
            <a:endParaRPr b="0" lang="en-US" sz="2000" spc="-1" strike="noStrike">
              <a:solidFill>
                <a:srgbClr val="000000"/>
              </a:solidFill>
              <a:latin typeface="Arial"/>
            </a:endParaRPr>
          </a:p>
          <a:p>
            <a:pPr lvl="1" marL="45720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1800" spc="-1" strike="noStrike">
                <a:solidFill>
                  <a:srgbClr val="000000"/>
                </a:solidFill>
                <a:latin typeface="Arial"/>
                <a:ea typeface="Arial"/>
              </a:rPr>
              <a:t>2-days meeting on the 4 and 5 March 2009 in Brussels, (Europea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ommission offices)</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a:t>
            </a:r>
            <a:r>
              <a:rPr b="1" lang="en-US" sz="2400" spc="-1" strike="noStrike" baseline="30000">
                <a:solidFill>
                  <a:srgbClr val="000000"/>
                </a:solidFill>
                <a:latin typeface="Arial"/>
                <a:ea typeface="Arial"/>
              </a:rPr>
              <a:t>th</a:t>
            </a:r>
            <a:r>
              <a:rPr b="1" lang="en-US" sz="2000" spc="-1" strike="noStrike">
                <a:solidFill>
                  <a:srgbClr val="000000"/>
                </a:solidFill>
                <a:latin typeface="Arial"/>
                <a:ea typeface="Arial"/>
              </a:rPr>
              <a:t> GFV meeting</a:t>
            </a:r>
            <a:endParaRPr b="0" lang="en-US" sz="2000" spc="-1" strike="noStrike">
              <a:solidFill>
                <a:srgbClr val="000000"/>
              </a:solidFill>
              <a:latin typeface="Arial"/>
            </a:endParaRPr>
          </a:p>
          <a:p>
            <a:pPr lvl="1" marL="45720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6 May 2009 in Brussels </a:t>
            </a:r>
            <a:r>
              <a:rPr b="0" lang="en-US" sz="1800" spc="-1" strike="noStrike">
                <a:solidFill>
                  <a:srgbClr val="000000"/>
                </a:solidFill>
                <a:latin typeface="Arial"/>
              </a:rPr>
              <a:t>(European Commission offices)</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r>
              <a:rPr b="1" lang="en-US" sz="2000" spc="-1" strike="noStrike" baseline="30000">
                <a:solidFill>
                  <a:srgbClr val="000000"/>
                </a:solidFill>
                <a:latin typeface="Arial"/>
                <a:ea typeface="Arial"/>
              </a:rPr>
              <a:t>th </a:t>
            </a:r>
            <a:r>
              <a:rPr b="1" lang="en-US" sz="2000" spc="-1" strike="noStrike">
                <a:solidFill>
                  <a:srgbClr val="000000"/>
                </a:solidFill>
                <a:latin typeface="Arial"/>
                <a:ea typeface="Arial"/>
              </a:rPr>
              <a:t>TF OBD HD meeting</a:t>
            </a:r>
            <a:endParaRPr b="0" lang="en-US" sz="2000" spc="-1" strike="noStrike">
              <a:solidFill>
                <a:srgbClr val="000000"/>
              </a:solidFill>
              <a:latin typeface="Arial"/>
            </a:endParaRPr>
          </a:p>
          <a:p>
            <a:pPr lvl="1" marL="45720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3 March 2009 </a:t>
            </a:r>
            <a:r>
              <a:rPr b="0" lang="en-US" sz="1800" spc="-1" strike="noStrike">
                <a:solidFill>
                  <a:srgbClr val="000000"/>
                </a:solidFill>
                <a:latin typeface="Arial"/>
              </a:rPr>
              <a:t>in Brussels, (European Commission offices)</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1" lang="en-US" sz="2000" spc="-1" strike="noStrike" baseline="30000">
                <a:solidFill>
                  <a:srgbClr val="000000"/>
                </a:solidFill>
                <a:latin typeface="Arial"/>
              </a:rPr>
              <a:t>th</a:t>
            </a:r>
            <a:r>
              <a:rPr b="1" lang="en-US" sz="2000" spc="-1" strike="noStrike">
                <a:solidFill>
                  <a:srgbClr val="000000"/>
                </a:solidFill>
                <a:latin typeface="Arial"/>
              </a:rPr>
              <a:t> TF OBD HD meeting</a:t>
            </a:r>
            <a:endParaRPr b="0" lang="en-US" sz="20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a:t>
            </a:r>
            <a:r>
              <a:rPr b="0" lang="en-US" sz="1800" spc="-1" strike="noStrike">
                <a:solidFill>
                  <a:srgbClr val="000000"/>
                </a:solidFill>
                <a:latin typeface="Arial"/>
                <a:ea typeface="Arial"/>
              </a:rPr>
              <a:t>days meeting on 17 and 18 March 2009 Brussels (</a:t>
            </a:r>
            <a:r>
              <a:rPr b="0" lang="en-US" sz="1800" spc="-1" strike="noStrike">
                <a:solidFill>
                  <a:srgbClr val="000000"/>
                </a:solidFill>
                <a:latin typeface="Arial"/>
              </a:rPr>
              <a:t>European </a:t>
            </a:r>
            <a:r>
              <a:rPr b="0" lang="en-US" sz="1800" spc="-1" strike="noStrike">
                <a:solidFill>
                  <a:srgbClr val="000000"/>
                </a:solidFill>
                <a:latin typeface="Arial"/>
              </a:rPr>
              <a:t>	</a:t>
            </a:r>
            <a:r>
              <a:rPr b="0" lang="en-US" sz="1800" spc="-1" strike="noStrike">
                <a:solidFill>
                  <a:srgbClr val="000000"/>
                </a:solidFill>
                <a:latin typeface="Arial"/>
              </a:rPr>
              <a:t>Commission offices</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1"/>
          <p:cNvSpPr>
            <a:spLocks noGrp="1"/>
          </p:cNvSpPr>
          <p:nvPr>
            <p:ph type="title"/>
          </p:nvPr>
        </p:nvSpPr>
        <p:spPr>
          <a:xfrm>
            <a:off x="457200" y="28548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FV-07-0X from the Chairman</a:t>
            </a:r>
            <a:br>
              <a:rPr sz="3200"/>
            </a:br>
            <a:r>
              <a:rPr b="1" lang="en-US" sz="3200" spc="-1" strike="noStrike">
                <a:solidFill>
                  <a:srgbClr val="000000"/>
                </a:solidFill>
                <a:latin typeface="Arial"/>
              </a:rPr>
              <a:t>7th GFV meeting Geneva - 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539640" y="1557360"/>
            <a:ext cx="8209080" cy="448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ial amend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priate corrections are propos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demonstration test (7.2. and 7.2.2.) is amended in view of having a text   closer to gtr No. 5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posed to use the word “reagent” and not  "reductant“ throughout Annex 9B</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amend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ing the GFV engines in this Annex</a:t>
            </a:r>
            <a:endParaRPr b="0" lang="en-US" sz="18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539640" y="1557360"/>
            <a:ext cx="8209080" cy="3361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C IUP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Annex 9C specifying the technical requirements for providing in-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data of OBD systems for diesel engines. It is based on informal documents Nos. GRPE-57-15 and GRPE-57-29, distributed at the fifty-seventh session of the Working Party on Pollution and Energy (GR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FV engines in this Annex yet.</a:t>
            </a:r>
            <a:endParaRPr b="0" lang="en-US" sz="1800" spc="-1" strike="noStrike">
              <a:solidFill>
                <a:srgbClr val="000000"/>
              </a:solidFill>
              <a:latin typeface="Arial"/>
            </a:endParaRPr>
          </a:p>
        </p:txBody>
      </p:sp>
      <p:sp>
        <p:nvSpPr>
          <p:cNvPr id="514"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539640" y="1557360"/>
            <a:ext cx="8209080" cy="4203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V</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orking Document: GFV-06-02 (Comments on Regulation 115 from the Polish Delegat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st of the noted changes in the </a:t>
            </a:r>
            <a:r>
              <a:rPr b="1" lang="en-US" sz="1800" spc="-1" strike="noStrike">
                <a:solidFill>
                  <a:srgbClr val="000000"/>
                </a:solidFill>
                <a:latin typeface="Arial"/>
              </a:rPr>
              <a:t>6th GFV meeting</a:t>
            </a:r>
            <a:r>
              <a:rPr b="0" lang="en-US" sz="1800" spc="-1" strike="noStrike">
                <a:solidFill>
                  <a:srgbClr val="000000"/>
                </a:solidFill>
                <a:latin typeface="Arial"/>
                <a:ea typeface="ＭＳ Ｐゴシック"/>
              </a:rPr>
              <a:t> are identified in a new Working Document (GFV-07-0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 </a:t>
            </a:r>
            <a:r>
              <a:rPr b="0" lang="en-US" sz="1800" spc="-1" strike="noStrike">
                <a:solidFill>
                  <a:srgbClr val="000000"/>
                </a:solidFill>
                <a:latin typeface="Arial"/>
                <a:ea typeface="ＭＳ Ｐゴシック"/>
              </a:rPr>
              <a:t>GFV-06-02 is not consistent with E</a:t>
            </a:r>
            <a:r>
              <a:rPr b="0" lang="en-US" sz="1800" spc="-1" strike="noStrike">
                <a:solidFill>
                  <a:srgbClr val="000000"/>
                </a:solidFill>
                <a:latin typeface="Arial"/>
              </a:rPr>
              <a:t>CE/TRANS/WP29/GRPE/2009/19</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handle this document in the GFV group for a proper discussion. Proposal to make a spreadsheet of all the issues and make prioritie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6"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539640" y="1557360"/>
            <a:ext cx="8209080" cy="2453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V</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ay forward ?? </a:t>
            </a:r>
            <a:endParaRPr b="0" lang="en-US" sz="3200" spc="-1" strike="noStrike">
              <a:solidFill>
                <a:srgbClr val="000000"/>
              </a:solidFill>
              <a:latin typeface="Arial"/>
            </a:endParaRPr>
          </a:p>
        </p:txBody>
      </p:sp>
      <p:sp>
        <p:nvSpPr>
          <p:cNvPr id="518"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539640" y="1557360"/>
            <a:ext cx="8209080" cy="504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VI</a:t>
            </a: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meeting GFV:  28 September 2009 (or the week befor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ults test programs CH4</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readsheet issues GFV-06-02</a:t>
            </a: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graphicFrame>
        <p:nvGraphicFramePr>
          <p:cNvPr id="521" name="Object 4"/>
          <p:cNvGraphicFramePr/>
          <p:nvPr/>
        </p:nvGraphicFramePr>
        <p:xfrm>
          <a:off x="96840" y="3857760"/>
          <a:ext cx="8975880" cy="2786040"/>
        </p:xfrm>
        <a:graphic>
          <a:graphicData uri="http://schemas.openxmlformats.org/presentationml/2006/ole">
            <p:oleObj progId="Excel.Sheet.12" r:id="rId1" spid="">
              <p:embed/>
              <p:pic>
                <p:nvPicPr>
                  <p:cNvPr id="522" name="Object 4" descr=""/>
                  <p:cNvPicPr/>
                  <p:nvPr/>
                </p:nvPicPr>
                <p:blipFill>
                  <a:blip r:embed="rId2"/>
                  <a:stretch/>
                </p:blipFill>
                <p:spPr>
                  <a:xfrm>
                    <a:off x="96840" y="3857760"/>
                    <a:ext cx="897588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539640" y="1557360"/>
            <a:ext cx="8209080" cy="6405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and 6</a:t>
            </a:r>
            <a:r>
              <a:rPr b="1" lang="en-US" sz="2400" spc="-1" strike="noStrike" baseline="30000">
                <a:solidFill>
                  <a:srgbClr val="000000"/>
                </a:solidFill>
                <a:latin typeface="Arial"/>
                <a:ea typeface="Arial"/>
              </a:rPr>
              <a:t>th</a:t>
            </a:r>
            <a:r>
              <a:rPr b="1" lang="en-US" sz="2000" spc="-1" strike="noStrike">
                <a:solidFill>
                  <a:srgbClr val="000000"/>
                </a:solidFill>
                <a:latin typeface="Arial"/>
                <a:ea typeface="Arial"/>
              </a:rPr>
              <a:t> GFV meeting outcome:</a:t>
            </a: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al document to GRPE  ECE/TRANS/WP.29/GRPE/2009/1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mendments to Regulation No. 115 as a Revis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cludes all amendments up to Amendment 3 and aims at introducing a number of clarifications to the provisions, corrections of errors and impro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for retrofi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 clarify the scope of application (Euro 3, Euro 4 and Euro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o delete the concept of "non-intrusive" retrofit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mprove provisions on dynamometer settings and test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late stage we removed a proposal of the GFV group concerning the CH4 (methane) and NMHC (non-methane HC) on request of the European Commission. Data should be delivered to justify the proposed CH4 factor.</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539640" y="1557360"/>
            <a:ext cx="8209080" cy="4103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4 (methane) and NMHC (non-methane HC) iss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ives to deliver emission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program of IANGV / NGVA Europe and JRC results end July 2009</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st program of NL(RDW) with TNO/Teleflex-GFI, results end July 2009</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Results and discussion next GFV meeting</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LEPA comments (6th GFV meeting) addressed in GFV-06-03</a:t>
            </a:r>
            <a:endParaRPr b="0" lang="en-US" sz="18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539640" y="1557360"/>
            <a:ext cx="8209080" cy="42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and 4</a:t>
            </a:r>
            <a:r>
              <a:rPr b="1" lang="en-US" sz="2400" spc="-1" strike="noStrike" baseline="30000">
                <a:solidFill>
                  <a:srgbClr val="000000"/>
                </a:solidFill>
                <a:latin typeface="Arial"/>
                <a:ea typeface="Arial"/>
              </a:rPr>
              <a:t>th</a:t>
            </a:r>
            <a:r>
              <a:rPr b="1" lang="en-US" sz="2000" spc="-1" strike="noStrike">
                <a:solidFill>
                  <a:srgbClr val="000000"/>
                </a:solidFill>
                <a:latin typeface="Arial"/>
                <a:ea typeface="Arial"/>
              </a:rPr>
              <a:t> TF OBD HD meeting</a:t>
            </a:r>
            <a:endParaRPr b="0" lang="en-US" sz="2000" spc="-1" strike="noStrike">
              <a:solidFill>
                <a:srgbClr val="000000"/>
              </a:solidFill>
              <a:latin typeface="Arial"/>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al document to GRPE  ECE/TRANS/WP.29/GRPE/2009/14</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mendments to Regulation No. 49 (heavy duty) concerning the On-Board Diagnostic (OBD)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amend Annex 9B of Regulation No. 49 to include On-Board Diagnostics (OBD) for gaseous-fuelled engines and to include a new Annex 9C specifying the technical requirements for providing in-use performance data of OBD systems for diesel eng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539640" y="1557360"/>
            <a:ext cx="8209080" cy="5586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ts 57th session, GRPE agreed that the GFV group could address Annex 9B of Regulation No. 49, together with the applicability of Annex 4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x 9B should be applicable instead of Annex 9A upon decision of the Contracting Parties, provided Annex 4B is also appli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in the case a Contracting Party decides to apply this annex, some requirements of Annex 9A may still remain applicable at the explicit request of that Contracting Party provided these requirements are not in contradiction to the specifications of this ann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539640" y="1557360"/>
            <a:ext cx="8209080" cy="394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x 9B has been amended in order to be applicable to gaseous-fuelled vehic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engines fuelled with a single fuel (Diesel, LPG, or 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the structure permit in a further stage the easy addition of other fuels,   </a:t>
            </a:r>
            <a:r>
              <a:rPr b="0" lang="en-US" sz="1800" spc="-1" strike="noStrike">
                <a:solidFill>
                  <a:srgbClr val="000000"/>
                </a:solidFill>
                <a:latin typeface="Arial"/>
              </a:rPr>
              <a:t>	</a:t>
            </a:r>
            <a:r>
              <a:rPr b="0" lang="en-US" sz="1800" spc="-1" strike="noStrike">
                <a:solidFill>
                  <a:srgbClr val="000000"/>
                </a:solidFill>
                <a:latin typeface="Arial"/>
              </a:rPr>
              <a:t>or multi-fuelled vehic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539640" y="1557360"/>
            <a:ext cx="8209080" cy="3666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LECTRIC / ELECTRONIC COMPONENTS MONITORING (</a:t>
            </a:r>
            <a:r>
              <a:rPr b="0" lang="en-US" sz="1800" spc="-1" strike="noStrike">
                <a:solidFill>
                  <a:srgbClr val="000000"/>
                </a:solidFill>
                <a:latin typeface="Arial"/>
              </a:rPr>
              <a:t>Appendix 3 - Item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wording of this paragraph should be reviewed during the 58th session of GR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539640" y="1557360"/>
            <a:ext cx="8209080" cy="1008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pic>
        <p:nvPicPr>
          <p:cNvPr id="508" name="Picture 4" descr=""/>
          <p:cNvPicPr/>
          <p:nvPr/>
        </p:nvPicPr>
        <p:blipFill>
          <a:blip r:embed="rId1"/>
          <a:stretch/>
        </p:blipFill>
        <p:spPr>
          <a:xfrm>
            <a:off x="250920" y="2276640"/>
            <a:ext cx="8523360" cy="438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539640" y="1557360"/>
            <a:ext cx="8209080" cy="394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genda item IV</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E/TRANS/WP.29/GRPE/2009/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x 9B</a:t>
            </a:r>
            <a:r>
              <a:rPr b="0" lang="en-US" sz="1800" spc="-1" strike="noStrike">
                <a:solidFill>
                  <a:srgbClr val="000000"/>
                </a:solidFill>
                <a:latin typeface="Arial"/>
              </a:rPr>
              <a:t> OBD (GTR OBD requi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ERFORMANCE MONITORING OF GAS ENGIN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R FLOW RATE (Appendix 3 - Item 6)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O BOOST (Appendix 3 - Item 8</a:t>
            </a:r>
            <a:r>
              <a:rPr b="1" lang="en-US" sz="1600" spc="-1" strike="noStrike">
                <a:solidFill>
                  <a:srgbClr val="000000"/>
                </a:solidFill>
                <a:latin typeface="Arial"/>
              </a:rPr>
              <a: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SFIRE </a:t>
            </a:r>
            <a:r>
              <a:rPr b="0" lang="en-US" sz="1800" spc="-1" strike="noStrike">
                <a:solidFill>
                  <a:srgbClr val="000000"/>
                </a:solidFill>
                <a:latin typeface="Arial"/>
              </a:rPr>
              <a:t>(Appendix 3 - Item 10</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1800" spc="-1" strike="noStrike">
                <a:solidFill>
                  <a:srgbClr val="000000"/>
                </a:solidFill>
                <a:latin typeface="Arial"/>
              </a:rPr>
              <a:t>monitoring requirement to be further discussed !!</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457200" y="274320"/>
            <a:ext cx="8229600" cy="1143000"/>
          </a:xfrm>
          <a:prstGeom prst="rect">
            <a:avLst/>
          </a:prstGeom>
          <a:gradFill rotWithShape="0">
            <a:gsLst>
              <a:gs pos="0">
                <a:srgbClr val="004e00">
                  <a:alpha val="56078"/>
                </a:srgbClr>
              </a:gs>
              <a:gs pos="50000">
                <a:srgbClr val="00a800">
                  <a:alpha val="56078"/>
                </a:srgbClr>
              </a:gs>
              <a:gs pos="100000">
                <a:srgbClr val="004e00">
                  <a:alpha val="56078"/>
                </a:srgbClr>
              </a:gs>
            </a:gsLst>
            <a:lin ang="5400000"/>
          </a:gradFill>
          <a:ln w="936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th GFV meeting Geneva</a:t>
            </a:r>
            <a:br>
              <a:rPr sz="3200"/>
            </a:br>
            <a:r>
              <a:rPr b="1" lang="en-US" sz="3200" spc="-1" strike="noStrike">
                <a:solidFill>
                  <a:srgbClr val="000000"/>
                </a:solidFill>
                <a:latin typeface="Arial"/>
              </a:rPr>
              <a:t>9 Jun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21:12:22Z</dcterms:created>
  <dc:creator>WORTELBO</dc:creator>
  <dc:description/>
  <dc:language>en-US</dc:language>
  <cp:lastModifiedBy>pc\</cp:lastModifiedBy>
  <dcterms:modified xsi:type="dcterms:W3CDTF">2009-06-22T14:41:53Z</dcterms:modified>
  <cp:revision>6</cp:revision>
  <dc:subject/>
  <dc:title>Dia 1</dc:title>
</cp:coreProperties>
</file>