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6A7-8352-4363-9A49-90BE2B16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756240"/>
            <a:ext cx="8077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A12-192D-406F-A159-5C26A891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840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9CB-A562-46B3-8F82-D7C961FB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080" y="14479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1400" y="14479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7562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080" y="37562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1400" y="37562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13E-EEC4-4969-B9E9-997830DE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B687-0BE3-41A1-9A45-AC026B6A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A52A-3B3D-4625-9DBD-A2F2372C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17B3-DCFF-46A6-80B6-714E13B7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9AAC-8B01-4CAE-A23C-4A44ABDE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E395-7F37-420B-B9D5-27F992A3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51280" y="444240"/>
            <a:ext cx="49118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52F5-950F-485C-97DD-DA6BFA91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7A14-3762-4ED4-BC55-596B9670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687-6548-44B2-9A87-143A0C5C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1710-932A-444C-A368-6ED39504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8077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EE99-F991-499D-B03F-194C1830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3756240"/>
            <a:ext cx="8077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EF6F-8A81-4CD4-971D-EEA4EF1E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840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84A3-90DD-4EA8-9ACD-7BA98C67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0080" y="14479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1400" y="14479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37562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0080" y="37562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1400" y="37562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E0C0-E9CE-4294-8F1C-6F3DDA3F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B94-989F-4863-AE32-F959224D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156-DBF9-4D46-A191-D41EE816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676-E939-425C-8E11-F75D2242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51280" y="444240"/>
            <a:ext cx="49118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7BA-F0F5-4871-A0D6-A34B5AE7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A41-1349-4881-B4BA-991AEA46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840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DAF-87DB-4080-B58A-08207758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8077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067-C36E-4FE7-98A1-367A708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1280" y="444240"/>
            <a:ext cx="4911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8DDE-B88D-4BE8-B216-931B99E0B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040" y="-144360"/>
            <a:ext cx="3871800" cy="1530360"/>
            <a:chOff x="50040" y="-144360"/>
            <a:chExt cx="3871800" cy="1530360"/>
          </a:xfrm>
        </p:grpSpPr>
        <p:sp>
          <p:nvSpPr>
            <p:cNvPr id="6" name=""/>
            <p:cNvSpPr/>
            <p:nvPr/>
          </p:nvSpPr>
          <p:spPr>
            <a:xfrm rot="20977200">
              <a:off x="96840" y="188640"/>
              <a:ext cx="377820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977200">
              <a:off x="542880" y="346320"/>
              <a:ext cx="288468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GFV-TF – amendments to R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"OBD for EURO VI gas-fuelled engines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4F0D-F1CB-4034-B6D1-A386CC4D5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0040" y="-144360"/>
            <a:ext cx="3871800" cy="1530360"/>
            <a:chOff x="50040" y="-144360"/>
            <a:chExt cx="3871800" cy="1530360"/>
          </a:xfrm>
        </p:grpSpPr>
        <p:sp>
          <p:nvSpPr>
            <p:cNvPr id="49" name=""/>
            <p:cNvSpPr/>
            <p:nvPr/>
          </p:nvSpPr>
          <p:spPr>
            <a:xfrm rot="20977200">
              <a:off x="96840" y="188640"/>
              <a:ext cx="377820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0977200">
              <a:off x="542880" y="346320"/>
              <a:ext cx="288468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GFV-TF – amendments to R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"OBD for EURO VI gas-fuelled engines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-ECE GFV informal group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sk-Force "OBD for gas fuelled engine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40000" y="551628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us Report to the GFV informa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3 January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51280" y="444240"/>
            <a:ext cx="4911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FV Sept.08 dec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unch a dedicated Task-Force to adapt Annex 9B of R49 rev.4 to gas engin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sent an informal amending proposal to GRPE (January 2009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ve the final amendments approv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GRPE in June 2009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WP29 in November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report to GFV inform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1B2-F8D9-42DD-8141-02C4651D9E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51280" y="444240"/>
            <a:ext cx="4911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0773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 November phone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ew of the technical work to be achieved as regards e.g. monitoring requirements and temporary disab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 of the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See documents 081113 "GFV-TF OBD EUROVI - draft notes 1 and 2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03 and 04 Brussel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ew of the contribution received from the particip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itorial modifications to Annex 9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See documents 081203 "GFV-TF OBD EUROVI - draft notes" and 081219 "GFV-TF OBD EURO VI - draft informal GRPE document (rev 4)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ticipa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ir: Andre Rijn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ecretary: Jean-Francois Renaudin (VOL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ission: Petter Asman, Jose Laguna, Klaus Steini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NO represen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ICA: MAN, IVECO and DC represent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LEPA, AECC and NGVA-EU represent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report to GFV inform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3A1-9497-4C6A-84CB-E02F07DFBC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51280" y="444240"/>
            <a:ext cx="4911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icability of Annex 9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F agreed to limit its contribution to gas engines and not to address dual- or bi-fuelled eng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mmission formulates its expectation to further extend Annex 9B to other fuels such as gasoline and eth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greed the lay-out of the modifications introduced for gas fuelled engines will address the Commission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e: the Commission may decide to request a further extension of Annex 9B at the January 2009 GR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imultaneous applicability of Annexes 9A and 9B creates an administrative diffi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F agrees to get advice from the GRPE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sue to be solved in the same way as Annexes 4A and 4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report to GFV inform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B395-ACE5-45EC-B60C-1EBE4872AB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51280" y="444240"/>
            <a:ext cx="4911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ints outside the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F took the initiative to correct some existing editorial mistakes in Annex 9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H-OBD chairman and secretary will be kept informed in case these errors would also exist in GTR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ept of performance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erformance monitoring concept like specified in GTR #5 is quite difficult to understand. The group agrees some examples should be given in a dedicated appendix to Annex 9B in order to provide clarification and guidance during the certification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report to GFV inform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7AE-1A2E-4AB6-B8F7-C2481B35C9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51280" y="444240"/>
            <a:ext cx="4911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jor amend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TF took the initiative to correct some existing editorial mistakes in Annex 9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WH-OBD chairman and secretary will be kept informed in case these errors would also exist in GTR#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aptation of the monitoring requirements to gas engines as reg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uel injec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xygen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ree-way cataly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GR flow and turbo boost (pend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aptation of the temporary disablement requirements to gas engines as reg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w fuel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fue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new section is added concerning the selection of the reference fuel in the case of a gas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report to GFV inform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240-7A2A-4E37-BE25-60F0C1F7C0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8:06:14Z</dcterms:created>
  <dc:creator>R078864</dc:creator>
  <dc:description/>
  <dc:language>en-US</dc:language>
  <cp:lastModifiedBy>Gibbons</cp:lastModifiedBy>
  <dcterms:modified xsi:type="dcterms:W3CDTF">2009-02-05T08:42:45Z</dcterms:modified>
  <cp:revision>16</cp:revision>
  <dc:subject/>
  <dc:title>Diapositive 1</dc:title>
</cp:coreProperties>
</file>