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4FE-9254-4D3A-8256-98C7736C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9A6-CF82-4E49-AC84-1120F05C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840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0A6-AE53-46AD-A9C3-64234384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08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140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08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140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FCE-E18A-470C-8961-70139C66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7892-ECBB-4C3A-90E2-8CA2345F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F696-FEE7-423D-8B3F-92070811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885B-2098-4A44-965A-9498E1D7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B57-4E3E-4F3B-A36A-5BFFE3F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4FD1-95B8-47DC-A2A0-DAB10404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51280" y="444240"/>
            <a:ext cx="49118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F86A-2F53-4CEC-B5B8-F060879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6EE1-826E-424B-B55A-36855605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D77-8DD2-442A-A013-BBFE2348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6EC-0603-46A3-B6F3-37DDEC61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27A9-34B2-439F-A545-AD6A984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75624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7314-E4BB-425B-9F75-653D6790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840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34BF-D1F6-444E-A548-F4C5C674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008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1400" y="14479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008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1400" y="37562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E0CD-F759-44D0-904C-092EEEE8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1D5-D404-4E8A-B58C-F0EC0252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CF7-FA0A-4045-9FBB-CD64FB95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26A-F94A-41E3-BA9F-3B360327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51280" y="444240"/>
            <a:ext cx="491184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29E-EE6B-49C5-92B4-126D5C41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D37-C3F8-468B-A54E-C498793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8400" y="375624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24A-9313-45CC-9DF5-A1DA4470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51280" y="426960"/>
            <a:ext cx="4911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8400" y="1447920"/>
            <a:ext cx="3941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756240"/>
            <a:ext cx="80773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AF2-9511-432C-BBD9-03CDAE39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C1B7-9B27-4880-B548-24838D09D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040" y="-144360"/>
            <a:ext cx="3871800" cy="1530360"/>
            <a:chOff x="50040" y="-144360"/>
            <a:chExt cx="3871800" cy="1530360"/>
          </a:xfrm>
        </p:grpSpPr>
        <p:sp>
          <p:nvSpPr>
            <p:cNvPr id="6" name=""/>
            <p:cNvSpPr/>
            <p:nvPr/>
          </p:nvSpPr>
          <p:spPr>
            <a:xfrm rot="20977200">
              <a:off x="96840" y="188640"/>
              <a:ext cx="377820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977200">
              <a:off x="542880" y="346320"/>
              <a:ext cx="288468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FV-TF – amendments to R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"OBD for EURO VI gas-fuelled engine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B4DC-52EC-4D80-9FF5-EA4F7517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0040" y="-144360"/>
            <a:ext cx="3871800" cy="1530360"/>
            <a:chOff x="50040" y="-144360"/>
            <a:chExt cx="3871800" cy="1530360"/>
          </a:xfrm>
        </p:grpSpPr>
        <p:sp>
          <p:nvSpPr>
            <p:cNvPr id="49" name=""/>
            <p:cNvSpPr/>
            <p:nvPr/>
          </p:nvSpPr>
          <p:spPr>
            <a:xfrm rot="20977200">
              <a:off x="96840" y="188640"/>
              <a:ext cx="377820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0977200">
              <a:off x="542880" y="346320"/>
              <a:ext cx="288468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GFV-TF – amendments to R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"OBD for EURO VI gas-fuelled engine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-ECE GFV informal group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k-Force "OBD for gas fuelled engine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40000" y="551628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us Report to the GFV informa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3 January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FV Sept.08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unch a dedicated Task-Force to adapt Annex 9B of R49 rev.4 to gas engin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sent an informal amending proposal to GRPE (January 2009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ve the final amendments approv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GRPE in June 2009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WP29 in November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768-5D17-4C9D-B15A-D23414F27A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0773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 November phone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ew of the technical work to be achieved as regards e.g. monitoring requirements and temporary disab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 of the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See documents 081113 "GFV-TF OBD EUROVI - draft notes 1 and 2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03 and 04 Brussel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ew of the contribution received from the particip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itorial modifications to Annex 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See documents 081203 "GFV-TF OBD EUROVI - draft notes" and 081219 "GFV-TF OBD EURO VI - draft informal GRPE document (rev 4)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ticipa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ir: Andre Rij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ecretary: Jean-Francois Renaudin (VOL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ission: Petter Asman, Jose Laguna, Klaus Steini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NO 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ICA: MAN, IVECO and DC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LEPA, AECC and NGVA-EU represent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487-13D9-43AB-8DE6-8B04B41710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bility of Annex 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F agreed to limit its contribution to gas engines and not to address dual- or bi-fuelled eng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mmission formulates its expectation to further extend Annex 9B to other fuels such as gasoline and eth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reed the lay-out of the modifications introduced for gas fuelled engines will address the Commission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: the Commission may decide to request a further extension of Annex 9B at the January 2009 GR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imultaneous applicability of Annexes 9A and 9B creates an administrative diffi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F agrees to get advice from the GRPE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sue to be solved in the same way as Annexes 4A and 4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3EC-87C5-4B6A-9FA5-D05E7C120E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ints outside the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F took the initiative to correct some existing editorial mistakes in Annex 9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H-OBD chairman and secretary will be kept informed in case these errors would also exist in GTR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 performance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erformance monitoring concept like specified in GTR #5 is quite difficult to understand. The group agrees some examples should be given in a dedicated appendix to Annex 9B in order to provide clarification and guidance during the certification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BC3-8597-4F88-8C99-1C4BAE9997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51280" y="444240"/>
            <a:ext cx="4911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jor amend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F took the initiative to correct some existing editorial mistakes in Annex 9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WH-OBD chairman and secretary will be kept informed in case these errors would also exist in GTR#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aptation of the monitoring requirements to gas engines as reg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el injec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xygen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ree-way cataly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GR flow and turbo boost (pend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aptation of the temporary disablement requirements to gas engines as reg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w fuel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fu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new section is added concerning the selection of the reference fuel in the case of a gas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us report to GFV inform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E42-C8AC-457F-B793-2183BBAFF6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8:06:14Z</dcterms:created>
  <dc:creator>R078864</dc:creator>
  <dc:description/>
  <dc:language>en-US</dc:language>
  <cp:lastModifiedBy>Gibbons</cp:lastModifiedBy>
  <dcterms:modified xsi:type="dcterms:W3CDTF">2009-02-05T08:42:45Z</dcterms:modified>
  <cp:revision>16</cp:revision>
  <dc:subject/>
  <dc:title>Diapositive 1</dc:title>
</cp:coreProperties>
</file>