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DCBF-987D-4472-AF85-BD76AD3FE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AE55-39C0-418B-BCC1-55491AACD6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57DB-9AA6-4E5C-9320-681578FA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B4B6-4111-477F-873F-53B77DBB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1870B-2FDE-435A-A4EC-D25771EC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B8FB-DC6C-4FF5-B1D4-AB64EDF4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F445-7239-45F8-AD4B-B40754EC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9CAE5-5648-493E-8B0B-C87F2C9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9A0E-6492-434A-BBD1-0F1957D3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79B3-18AA-49DD-883E-B56C2868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749E-118F-4699-8D88-3E32743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42B4-BF14-4F08-9039-010551600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634C-0056-4EF6-A033-482F75BF6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A358-2D28-4242-8841-610C4B2ED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8158-2FD2-4F57-929A-10424032C8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42B1-39B4-4066-85ED-D048221F17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0DDC-4D85-4AAD-830F-42A76DBDFE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92EB-70A8-4191-8007-DF8A0E1123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A98F-E462-4885-AFA2-E533F01B4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3E80-8AE1-4563-9E79-1BC2EFDF34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15D6-E5AF-4581-A138-73274FD0A3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4370-8213-496B-AC4B-7CF498DD9C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B4D7-0B14-4702-99FA-3DA2509B60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77E8-4949-4B2A-B1E6-F28A643D41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4EA1-D197-494F-A99D-439011087C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10E5-199F-479F-972B-AECBC053BB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1715-3EB8-4B4F-903E-A4576B15A6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5DE-141C-4BEC-9E69-C4196D2649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060-F5D6-43C9-9AEF-AEDD030AB5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49F-65C1-4AD2-A2F2-7246A63AC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0749-E3E3-4427-B896-EA8444ADA5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DC7-A08C-4D95-BC68-25F9D20969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A2E-7FC9-4FAC-BCC9-ECDC653761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7A8-01B0-4D40-A641-9ED08042B1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B55-F78A-46AD-9578-049E9CBAAA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B0B-B872-44D8-A09A-76DCA669A5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E84-FF30-41A1-AA4E-99F1C9EF44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85D-BB84-44E5-834C-9FA77F7BA7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F75-6A35-4FF1-8D10-C4034880FD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6DC-7C74-446D-9DB5-5B37B29A25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F2049-920E-49BD-91ED-19DEEAD63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8A78-798B-422C-B769-1F04E0D5AC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0343D-A9A9-46B3-89A0-5726E2DBA52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ADEC-10BD-4B60-A150-9EA114D55B1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3A510-E80F-47C0-B968-1CA63377AC7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91148-DC7C-45AC-ACA6-317C210A00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1E8F0-9025-48FE-A10C-C21D415DB4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51C7B-F87D-438F-9137-036B1D0C8C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AB8B0-BEE7-40E9-AA46-25E3DD0211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2E34B-690A-441D-AB8C-A236302FED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AFB14-2439-44DC-9228-22CB04F2EE9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4E4FE-B4CC-4849-86C6-47CBA64C2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F39D-C28C-4623-800B-CD9FBB9682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B49B0-2ECA-4E3F-B19E-D004B2E6BD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B4091-73FE-4525-B468-D73125809D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D080B-EB5E-4821-AA2C-CDF6E2BA09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BE23A-D7CA-494E-8015-1D8406F998A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027FA-FD5F-4DEB-9D1A-E4517DAB4F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31D04-8682-4818-8850-385CE35E49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7ECF5-8AB4-4E0D-9AEC-F86D6AF317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724D-8F1F-4666-B581-E4141393CC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65256-2F28-43FD-8B90-8BCFBA3F30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D9EE5-EF74-494C-94BE-8E79DE8CA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3D6E-1A95-4BF2-9CCD-831EF902D5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FFC7E-6A99-4B33-9333-FC440A6769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EB270-9A69-4351-8576-34814B9156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58EFC-F6B7-4BE3-A932-874FDCA6B0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AC2D-E79B-4202-858D-0FFDF0DB79A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AEF8-967D-433B-AAF6-F1A82C8A5A6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2344-FC36-4CA6-84A8-D94AE1F87F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43B3-4BE1-406F-90BB-5F35B3BD57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A269-83ED-457A-98D8-220A9E653D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E15B-6127-4EE1-94B5-B845B6064FD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8493-08C0-474C-B672-CA66C2AC0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A097-5A12-40F9-8B49-56A6CA2A04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DC65-5A9F-4F09-8DC8-807AF4A2E1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720C-8132-4C6A-ADF5-3F30CF79C9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E27E-79D2-4C2B-891F-EB56840619F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75D6-9080-48F3-A244-1D2CB39077D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9759-F88D-4FF3-9385-20F17564C1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895E-F836-4897-ABCE-C8426460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E834-0114-4583-A15C-C4190E4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7A59-F5D1-43EB-9718-EE4FBB9C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DF73-D497-44F7-8E01-00395D1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C63F-6F69-4AFC-9BF6-3EA1615D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D610-D244-4BE7-B821-858EAFF08C6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B80D-5C41-4F3E-8766-67814CAE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DDD0-5ED1-4DD5-A021-A341776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52B6-83F4-478D-8468-E00809FE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A999-1ED2-45A8-8188-C78814A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80C4-1726-4805-BD3F-DACF92DD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BDF3-8A5A-4B23-BDB7-6855D811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B9822-DBCF-4D96-85A5-F0126441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250D-CB1F-4B54-B551-681D32AE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21D03-A2BB-45F5-9A9E-7520C2D8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0CCB-DAB8-4099-A729-B0C5525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1B3-1CB1-45E6-91BE-85C419B52AB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8C9-1D8C-479A-87C0-A363E291A749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EFE-39D7-4552-8051-30BEACF6FFB9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41E-99AC-4751-8A35-601DB241CD82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B9EF-EF6E-4C22-A709-1394B14B6C36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53A9-E629-4369-B187-395D94C66BEA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65A-5B1D-48E6-B695-CE1116F77FF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01EB-A16C-4849-85D0-D461BFA687A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96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0295e"/>
                </a:solidFill>
                <a:latin typeface="Calibri"/>
              </a:rPr>
              <a:t>Presentation to GRPE </a:t>
            </a:r>
            <a:br>
              <a:rPr sz="4000"/>
            </a:br>
            <a:r>
              <a:rPr b="1" lang="en-US" sz="4000" spc="-1" strike="noStrike">
                <a:solidFill>
                  <a:srgbClr val="20295e"/>
                </a:solidFill>
                <a:latin typeface="Calibri"/>
              </a:rPr>
              <a:t>Informal Group FQ – 03</a:t>
            </a:r>
            <a:br>
              <a:rPr sz="4000"/>
            </a:br>
            <a:br>
              <a:rPr sz="1600"/>
            </a:br>
            <a:r>
              <a:rPr b="1" lang="en-US" sz="3200" spc="-1" strike="noStrike">
                <a:solidFill>
                  <a:srgbClr val="20295e"/>
                </a:solidFill>
                <a:latin typeface="Calibri"/>
              </a:rPr>
              <a:t>January 13, 2009</a:t>
            </a:r>
            <a:br>
              <a:rPr sz="3200"/>
            </a:br>
            <a:r>
              <a:rPr b="1" lang="en-US" sz="3200" spc="-1" strike="noStrike">
                <a:solidFill>
                  <a:srgbClr val="20295e"/>
                </a:solidFill>
                <a:latin typeface="Calibri"/>
              </a:rPr>
              <a:t>Geneva</a:t>
            </a:r>
            <a:endParaRPr b="1" lang="en-US" sz="32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5720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 Doll (IPIE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 Rose (CONCAW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feld 9"/>
          <p:cNvSpPr/>
          <p:nvPr/>
        </p:nvSpPr>
        <p:spPr>
          <a:xfrm>
            <a:off x="6300720" y="189000"/>
            <a:ext cx="26989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rking paper N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Q-03-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RPE Informal Group WLT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Meeting, 13 January 2009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enda Item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Harmonization – what IPIECA believe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s and vehicles should be treated as an integrated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importation of vehicles into areas where the fuel supply is appropriate for the technology level of the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s to supply fuels that enable vehicle emission control devices to work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ilpipe emission levels should be set by governments to attain local air quality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667-2023-473E-ACB8-656E3011AA7F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20295e"/>
                </a:solidFill>
                <a:latin typeface="Calibri"/>
              </a:rPr>
              <a:t>IPIECA’s understanding of OICA premise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560" y="1214280"/>
            <a:ext cx="49006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the serious issue of the limitation placed on the effectiveness of vehicl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pollution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control equip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by the quality of  the fuel used and available in the marketplace...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295e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it is clear that market fuel quality has to follow more closely the development i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engine and exhaust after-treatment technology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even in developed countries, regulation of  market fuel is unharmonized and not always fully aligned with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vehicle technology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necessary to meet emissions regulations..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F93-ABBA-405D-B590-75DEDBAAC72D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500040" y="1214280"/>
            <a:ext cx="30718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FQ-02 minutes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760" y="114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A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“..suggested that the fue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lity parameters should be limited to those fuel controls deemed necessary to enable the corresponding emission limits of the motor vehicle engines (e.g. sulphur, lead)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ggested considering, in a first step, a reduced number of fuel parameters which have a direct influence on the engine emissions, such as lead and sulphu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ina, Canada, India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firmed to go forward with a first set of fuel parameters in relation with engine emission technology type, as suggested by the EC exper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witzerland, Romania, the Netherlands, Belgium, Czech Republic, France, Germany, Hungary and Ital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so supported the position of the 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C544-6579-434D-B54C-22CA52BB1598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OICA &amp; IPIECA discussions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d in working paper No. FQ-03-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greement on basic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of opinion on sc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IECA: specify fuel parameters that could degrade emissions control equip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CA: specify any parameter that also affects e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D935-A3D6-49D8-ABA2-707057AC12BC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95e"/>
                </a:solidFill>
                <a:latin typeface="Calibri"/>
              </a:rPr>
              <a:t>Parameters: protecting Emission Control Equipment </a:t>
            </a:r>
            <a:endParaRPr b="1" lang="en-US" sz="2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239C-645A-4B2C-BAF8-C6B1E5401BA6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26920" y="1622520"/>
          <a:ext cx="7632720" cy="2598480"/>
        </p:xfrm>
        <a:graphic>
          <a:graphicData uri="http://schemas.openxmlformats.org/drawingml/2006/table">
            <a:tbl>
              <a:tblPr/>
              <a:tblGrid>
                <a:gridCol w="1802160"/>
                <a:gridCol w="5830560"/>
              </a:tblGrid>
              <a:tr h="32328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mage to emissions control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lph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feres with emissions control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28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tallic additiv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PIECA: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Ma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interfere with emissions control system       (Awaiting peer review study result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ICA:  Damage to engine and emissions control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xygen/ Oxygen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pending on type and level of oxygenate used, specific   vehicle design measures are necessa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1179360" y="1262160"/>
            <a:ext cx="68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oline               Agreed OICA/IPIECA View (FQ-03-02 App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63640" y="4822920"/>
          <a:ext cx="7596000" cy="1198440"/>
        </p:xfrm>
        <a:graphic>
          <a:graphicData uri="http://schemas.openxmlformats.org/drawingml/2006/table">
            <a:tbl>
              <a:tblPr/>
              <a:tblGrid>
                <a:gridCol w="1793880"/>
                <a:gridCol w="5802120"/>
              </a:tblGrid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lph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terferes with emissions control system                          May prevent the use of certain de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ffects DPF performance – housekeeping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1261080" y="4430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94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95e"/>
                </a:solidFill>
                <a:latin typeface="Calibri"/>
              </a:rPr>
              <a:t>IPIECA Recommendation on way forward</a:t>
            </a:r>
            <a:endParaRPr b="1" lang="en-US" sz="32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a minimum set of fuel quality parameters that governments can rely upon to prevent damage to imported veh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 today on scope and list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step is for OICA/IPIECA to agree on the parameter levels that will protect control technology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 package could provide a meaningful contribution to vehicle importing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D9F4-086C-41B6-BFA6-514FECC5AF0F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990520" y="2492280"/>
            <a:ext cx="29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1:39:52Z</dcterms:created>
  <dc:creator>Rob</dc:creator>
  <dc:description/>
  <dc:language>en-US</dc:language>
  <cp:lastModifiedBy>Romain HUBERT</cp:lastModifiedBy>
  <dcterms:modified xsi:type="dcterms:W3CDTF">2009-01-15T07:56:57Z</dcterms:modified>
  <cp:revision>14</cp:revision>
  <dc:subject/>
  <dc:title> Presentation to GRPE  Informal Group FQ – 03 January 2009</dc:title>
</cp:coreProperties>
</file>