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6170-FA89-4940-A995-513C6006E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4F2F-0A3A-4710-8390-2AA8EAA319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0A1A-A8D1-4393-B34C-92C8408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FDBB-34B6-4B72-A684-A7F46024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D5D3-741B-4751-9AD4-A9830AB5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54A4-4CC4-400C-A7C7-25C196C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29C80-BAE2-45FE-A052-D62F21D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7843-7863-408E-BC42-4719847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17F3-A493-4F6D-AAC7-3CD026E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D535-41D8-4316-8186-017BA2CA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C9D4-D76B-404D-9750-CFF505D0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9F8F-9E1D-4FF0-AB7D-9F899DAD1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FCF0-8826-4109-AD50-BD12574E8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052F-2BD0-47DC-AF70-AE31E98A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CA81-2A1C-4B52-8018-C374138E46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46AC-9F44-4D9D-B03D-EC868A876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C178-410E-4F0D-B76E-56BA027F4E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6B3F-0186-4A77-8B0C-4A6D8A2F10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8F41-E914-4156-B678-6BBE05B0B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5C88-FACB-453E-BC8F-9E93748E53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3354-B099-42AC-A88D-D31E861B1B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8534-03DB-451A-B956-49906A0AE8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18B6-4BD4-4758-9073-CFDF5DBAEB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421F-ABB2-4BDD-B550-AF2B5BCA9B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C776-4F74-4D00-BD3E-39C371ABCF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60BB-B16B-4469-9675-86E9F52E88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D674-80E7-4EFE-8CDB-9305D84BAB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E87-32DF-4F60-88C4-B95589434D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1F8-FD70-484E-8D65-1E57F9A421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B16-D675-4D4E-8A9B-8A4437D6B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CC09-B196-44D5-B690-37CB96586D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7F3-B50D-418E-83AD-93A48A63AF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1AC-5FC9-45ED-815F-2BFA91E9A1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46D-613E-42FF-83BD-F51C6C09A4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FFC-346A-4123-BB35-A5C120D33C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6DB-81FF-46B6-97F1-ACF429028D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E69-6F81-4A5C-A9AC-37383CB179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FEB-607F-469C-9797-7C9DFCCCE7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D84-3073-429C-86FA-BC3151934E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2B1-07F5-4932-9FFE-A01D6B7E15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44253-2159-49B6-804C-735C541BF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6C74-3A0F-47A5-8E35-14BEE44AA5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D8DE9-1525-4F56-9EEE-A9B11D1B6E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17D8A-F754-4043-AEDF-D8592B1023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982BC-E49E-41E9-A092-7414D6337B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2882-B6C4-4861-AE05-A170918E53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6562-95F2-4195-9831-8087B4D8C4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59FD8-A0A3-4630-B5AF-A2DE2C9C44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F3232-963C-441D-9623-D18415F128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71F5D-7C7A-4039-BBD8-F98DDA76D9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66F75-2D8B-4346-AEDD-6BFC2B57F4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F71FF-661C-42FA-AE22-79024E578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F6B8-27AD-4249-851C-00611D3A10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D63A8-0665-4D6E-A0B0-0EC2BA6BBEE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E8E13-6671-4E0A-9ECC-D324E07ED3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79404-8BA9-40DC-83FC-AE662CF20AC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A691-0F04-4948-950C-604BCC06F5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BB69-A88F-4129-9305-8A8A6EC554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ABFB-E350-4223-B2AB-44AA4874BD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B7AA1-23AA-4B96-94E6-1B9EC78D27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5C588-7A5F-47AC-8D2C-EF5D344093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76B7-D41C-41BC-87A9-659769A9DB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7AB72-817B-41FF-91E5-B25A3D68B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E2BF-3049-4C81-ADA0-7B63CA6E88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29687-CAD2-4C0A-A3B7-6B053803B3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4446-E031-43B0-B48E-EBBD3002D5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B788A-DA9D-4BCB-8552-AF7484C04B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E22-63E3-4A03-A49D-7C2C06EF53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05B4-1CCC-4133-8CFA-1B13568BEC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56B9-60A4-457F-AEA3-977621E255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307-55FE-4FFD-8882-06031E0584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33D-6951-4272-ACDC-0B0207223C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787-EDD9-4191-A6F9-C2D2A30643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960-3F6D-4A26-AA19-2BF1A6F4F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CD75-EEBD-4B00-82A6-D2AC1CF1C7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10FA-68E0-400D-8696-EEF36B6561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0B05-198D-4E21-8963-E571A73DEB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926-FD60-4FEC-8F47-5AA3FA730B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836F-9CF4-45B4-ABE3-018651E66F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19A9-CC94-4BB6-B25B-6613126574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B6AC-C2BE-40F6-9747-70E66738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A85B-8347-4418-91C7-797FD82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8B32-1051-41CE-BB75-7C822EE9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4E3B-D131-405B-8018-8A25412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3F29-49BE-49F6-A4DB-7159CDF7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AFE6-9B88-45C9-84C1-6348D2EACF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05AE-FAD5-4552-B75D-7F40EEE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FE18-A9C3-4FE6-8504-E2E8AAF8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1D90-6789-4BF6-B9CD-4AEE8FE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9F02-FF7A-4185-9DD1-922C8D0B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78540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2B3E-B33D-42AD-81CF-D1ECF015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78540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EED7-A8D3-4D42-8AF2-EF9622E3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78540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355A-BD60-4BDF-A7A3-BAEA7E72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DAA8-E6BA-42D9-9F67-A58E985B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B2D8-EB99-402D-8AD7-7612C9DF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FB91-6C17-44E8-BC18-026A3C72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5E0-B4DA-41A8-9E57-1244F9E4442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AC2-3C1A-4F3D-A6E6-46ED202A69C8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761-60CF-4C33-9E99-37D62AA84674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DE6-64E7-4AA6-B783-5FE412FF9262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B246-C71F-4095-8021-970E6896E82D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295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B9C-6511-47C3-A133-E1AA0136F6F1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6F0-2948-4C44-ADFE-EEC2762E6BF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029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078-13BA-4E2A-A5BD-3D1393ABC3F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96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0295e"/>
                </a:solidFill>
                <a:latin typeface="Calibri"/>
              </a:rPr>
              <a:t>Presentation to GRPE </a:t>
            </a:r>
            <a:br>
              <a:rPr sz="4000"/>
            </a:br>
            <a:r>
              <a:rPr b="1" lang="en-US" sz="4000" spc="-1" strike="noStrike">
                <a:solidFill>
                  <a:srgbClr val="20295e"/>
                </a:solidFill>
                <a:latin typeface="Calibri"/>
              </a:rPr>
              <a:t>Informal Group FQ – 03</a:t>
            </a:r>
            <a:br>
              <a:rPr sz="4000"/>
            </a:br>
            <a:br>
              <a:rPr sz="1600"/>
            </a:b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January 13, 2009</a:t>
            </a:r>
            <a:br>
              <a:rPr sz="3200"/>
            </a:b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Geneva</a:t>
            </a:r>
            <a:endParaRPr b="1" lang="en-US" sz="32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572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an Doll (IPIE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 Rose (CONCAW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feld 9"/>
          <p:cNvSpPr/>
          <p:nvPr/>
        </p:nvSpPr>
        <p:spPr>
          <a:xfrm>
            <a:off x="6300720" y="189000"/>
            <a:ext cx="26989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Working paper N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Q-03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RPE Informal Group WLT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Meeting, 13 January 2009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enda It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Harmonization – what IPIECA believe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s and vehicles should be treated as an integrated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importation of vehicles into areas where the fuel supply is appropriate for the technology level of the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s to supply fuels that enable vehicle emission control devices to work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ilpipe emission levels should be set by governments to attain local air quality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F629-3300-4832-921A-F1D1F35FD64C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20295e"/>
                </a:solidFill>
                <a:latin typeface="Calibri"/>
              </a:rPr>
              <a:t>IPIECA’s understanding of OICA premise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560" y="1214280"/>
            <a:ext cx="49006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the serious issue of the limitation placed on the effectiveness of vehicl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pollution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control equipment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by the quality of  the fuel used and available in the marketplace.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295e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it is clear that market fuel quality has to follow more closely the development in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engine and exhaust after-treatment technology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...even in developed countries, regulation of  market fuel is unharmonized and not always fully aligned with the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vehicle technology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necessary to meet emissions regulations..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63C-1611-468B-87D3-95B682D7A048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30718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FQ-02 minutes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14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A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“..suggested that the fue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lity parameters should be limited to those fuel controls deemed necessary to enable the corresponding emission limits of the motor vehicle engines (e.g. sulphur, lead)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ggested considering, in a first step, a reduced number of fuel parameters which have a direct influence on the engine emissions, such as lead and sulphu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ina, Canada, India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firmed to go forward with a first set of fuel parameters in relation with engine emission technology type, as suggested by the EC exper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witzerland, Romania, the Netherlands, Belgium, Czech Republic, France, Germany, Hungary and Ital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so supported the position of the 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2F95-6CBE-4C34-A13D-F397C8C6E829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0295e"/>
                </a:solidFill>
                <a:latin typeface="Calibri"/>
              </a:rPr>
              <a:t>OICA &amp; IPIECA discussions</a:t>
            </a:r>
            <a:endParaRPr b="1" lang="en-US" sz="3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d in working paper No. FQ-03-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greement on basic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of opinion on sc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IECA: specify fuel parameters that could degrade emissions control equip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CA: specify any parameter that also affects e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E3D1-0828-4FBC-BFDF-F7FFA2034DC4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95e"/>
                </a:solidFill>
                <a:latin typeface="Calibri"/>
              </a:rPr>
              <a:t>Parameters: protecting Emission Control Equipment </a:t>
            </a:r>
            <a:endParaRPr b="1" lang="en-US" sz="28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106-FEE0-4DE5-9F79-2ADC3A603506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26920" y="1622520"/>
          <a:ext cx="7632720" cy="2598480"/>
        </p:xfrm>
        <a:graphic>
          <a:graphicData uri="http://schemas.openxmlformats.org/drawingml/2006/table">
            <a:tbl>
              <a:tblPr/>
              <a:tblGrid>
                <a:gridCol w="1802160"/>
                <a:gridCol w="5830560"/>
              </a:tblGrid>
              <a:tr h="32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mage to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lph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feres with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28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tallic additi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PIECA: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Ma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interfere with emissions control system       (Awaiting peer review study result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CA:  Damage to engine and emissions control sy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86760" rIns="8676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xygen/ Oxygen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75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pending on type and level of oxygenate used, specific   vehicle design measures are necessa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1179360" y="1262160"/>
            <a:ext cx="68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oline               Agreed OICA/IPIECA View (FQ-03-02 App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63640" y="4822920"/>
          <a:ext cx="7596000" cy="1198440"/>
        </p:xfrm>
        <a:graphic>
          <a:graphicData uri="http://schemas.openxmlformats.org/drawingml/2006/table">
            <a:tbl>
              <a:tblPr/>
              <a:tblGrid>
                <a:gridCol w="1793880"/>
                <a:gridCol w="5802120"/>
              </a:tblGrid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lph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rferes with emissions control system                          May prevent the use of certain de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ffects DPF performance – housekeeping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1261080" y="4430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94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95e"/>
                </a:solidFill>
                <a:latin typeface="Calibri"/>
              </a:rPr>
              <a:t>IPIECA Recommendation on way forward</a:t>
            </a:r>
            <a:endParaRPr b="1" lang="en-US" sz="3200" spc="-1" strike="noStrike">
              <a:solidFill>
                <a:srgbClr val="20295e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a minimum set of fuel quality parameters that governments can rely upon to prevent damage to imported veh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today on scope and list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 step is for OICA/IPIECA to agree on the parameter levels that will protect control technology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 package could provide a meaningful contribution to vehicle importing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1C6-673A-43DA-86D7-CCFE74F4B11A}" type="slidenum">
              <a:rPr b="0" lang="en-US" sz="1400" spc="-1" strike="noStrike">
                <a:solidFill>
                  <a:srgbClr val="20295e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990520" y="24922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1:39:52Z</dcterms:created>
  <dc:creator>Rob</dc:creator>
  <dc:description/>
  <dc:language>en-US</dc:language>
  <cp:lastModifiedBy>Romain HUBERT</cp:lastModifiedBy>
  <dcterms:modified xsi:type="dcterms:W3CDTF">2009-01-15T07:56:57Z</dcterms:modified>
  <cp:revision>14</cp:revision>
  <dc:subject/>
  <dc:title> Presentation to GRPE  Informal Group FQ – 03 January 2009</dc:title>
</cp:coreProperties>
</file>