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37B-CFB4-495E-B46E-BC648B0D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755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90200" y="3682080"/>
            <a:ext cx="755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FA3B-4923-4E51-8704-77C10040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9020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308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AD9-8869-4D1F-B90C-327F75B5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45840" y="143784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01480" y="143784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790200" y="368208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45840" y="368208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01480" y="368208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06D6-AA8C-4CC7-A773-92F48BC4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90200" y="539640"/>
            <a:ext cx="7558200" cy="37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9020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AB7-56C3-4159-8202-3F699091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308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90200" y="3682080"/>
            <a:ext cx="755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755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90200" y="3682080"/>
            <a:ext cx="755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020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308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45840" y="143784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01480" y="143784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90200" y="368208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45840" y="368208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01480" y="3682080"/>
            <a:ext cx="24336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C00F-0521-49F4-9A10-C736BE99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EF34-3EE7-435F-86DD-0CAD560C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646-4438-4B99-AEC0-A21468F5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790200" y="539640"/>
            <a:ext cx="7558200" cy="37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0A47-FBC0-4DB5-927F-AA034DD1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020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D884-86F8-4A20-A8AB-ED964FC6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3080" y="368208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330-6D6E-41D1-938E-D4F12E7F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9020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3080" y="1437840"/>
            <a:ext cx="368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90200" y="3682080"/>
            <a:ext cx="755820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144-C804-46A2-9E4E-6EA2149C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f85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1" marL="571680" indent="-19080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2" marL="95256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3" marL="1333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4" marL="1714680" indent="-19080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5" marL="1714680" indent="-190800">
              <a:lnSpc>
                <a:spcPct val="110000"/>
              </a:lnSpc>
              <a:buClr>
                <a:srgbClr val="0d0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6" marL="1714680" indent="-190800">
              <a:lnSpc>
                <a:spcPct val="110000"/>
              </a:lnSpc>
              <a:buClr>
                <a:srgbClr val="0d0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57480" y="6369120"/>
            <a:ext cx="2590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f8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d0f8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0200" y="6369120"/>
            <a:ext cx="4662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f8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d0f85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8600" y="6369120"/>
            <a:ext cx="4111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d0f8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2236-BD8A-41C9-9156-E80F7473D029}" type="slidenum">
              <a:rPr b="0" lang="nl-NL" sz="1000" spc="-1" strike="noStrike">
                <a:solidFill>
                  <a:srgbClr val="0d0f8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232680"/>
            <a:ext cx="9144000" cy="625320"/>
            <a:chOff x="0" y="6232680"/>
            <a:chExt cx="9144000" cy="625320"/>
          </a:xfrm>
        </p:grpSpPr>
        <p:sp>
          <p:nvSpPr>
            <p:cNvPr id="6" name=""/>
            <p:cNvSpPr/>
            <p:nvPr/>
          </p:nvSpPr>
          <p:spPr>
            <a:xfrm>
              <a:off x="0" y="6759720"/>
              <a:ext cx="1025640" cy="98280"/>
            </a:xfrm>
            <a:prstGeom prst="rect">
              <a:avLst/>
            </a:prstGeom>
            <a:solidFill>
              <a:srgbClr val="fe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119240" y="6759720"/>
              <a:ext cx="714240" cy="98280"/>
            </a:xfrm>
            <a:prstGeom prst="rect">
              <a:avLst/>
            </a:prstGeom>
            <a:solidFill>
              <a:srgbClr val="f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895400" y="6759720"/>
              <a:ext cx="1181160" cy="98280"/>
            </a:xfrm>
            <a:prstGeom prst="rect">
              <a:avLst/>
            </a:prstGeom>
            <a:solidFill>
              <a:srgbClr val="f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021440" y="6759720"/>
              <a:ext cx="249480" cy="98280"/>
            </a:xfrm>
            <a:prstGeom prst="rect">
              <a:avLst/>
            </a:prstGeom>
            <a:solidFill>
              <a:srgbClr val="929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349880" y="6759720"/>
              <a:ext cx="249120" cy="98280"/>
            </a:xfrm>
            <a:prstGeom prst="rect">
              <a:avLst/>
            </a:prstGeom>
            <a:solidFill>
              <a:srgbClr val="929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394400" y="6759720"/>
              <a:ext cx="527400" cy="98280"/>
            </a:xfrm>
            <a:prstGeom prst="rect">
              <a:avLst/>
            </a:prstGeom>
            <a:solidFill>
              <a:srgbClr val="626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60920" y="6759720"/>
              <a:ext cx="1179360" cy="98280"/>
            </a:xfrm>
            <a:prstGeom prst="rect">
              <a:avLst/>
            </a:prstGeom>
            <a:solidFill>
              <a:srgbClr val="4b5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058080" y="6759720"/>
              <a:ext cx="839520" cy="98280"/>
            </a:xfrm>
            <a:prstGeom prst="rect">
              <a:avLst/>
            </a:prstGeom>
            <a:solidFill>
              <a:srgbClr val="2b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355920" y="6759720"/>
              <a:ext cx="682560" cy="98280"/>
            </a:xfrm>
            <a:prstGeom prst="rect">
              <a:avLst/>
            </a:prstGeom>
            <a:solidFill>
              <a:srgbClr val="fe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25640" y="6759720"/>
              <a:ext cx="9360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921800" y="6759720"/>
              <a:ext cx="122220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0920" y="6759720"/>
              <a:ext cx="12348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97600" y="6759720"/>
              <a:ext cx="12384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840280" y="6759720"/>
              <a:ext cx="21780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599000" y="6759720"/>
              <a:ext cx="6192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038480" y="6759720"/>
              <a:ext cx="31140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076560" y="6759720"/>
              <a:ext cx="27936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33480" y="6759720"/>
              <a:ext cx="61920" cy="9828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pic>
          <p:nvPicPr>
            <p:cNvPr id="24" name="" descr=""/>
            <p:cNvPicPr/>
            <p:nvPr/>
          </p:nvPicPr>
          <p:blipFill>
            <a:blip r:embed="rId2"/>
            <a:srcRect l="86399" t="0" r="0" b="0"/>
            <a:stretch/>
          </p:blipFill>
          <p:spPr>
            <a:xfrm>
              <a:off x="8474040" y="6232680"/>
              <a:ext cx="460440" cy="376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552600"/>
            <a:ext cx="5594400" cy="3268440"/>
            <a:chOff x="0" y="552600"/>
            <a:chExt cx="5594400" cy="3268440"/>
          </a:xfrm>
        </p:grpSpPr>
        <p:sp>
          <p:nvSpPr>
            <p:cNvPr id="62" name=""/>
            <p:cNvSpPr/>
            <p:nvPr/>
          </p:nvSpPr>
          <p:spPr>
            <a:xfrm>
              <a:off x="0" y="2832120"/>
              <a:ext cx="5594400" cy="76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552600"/>
              <a:ext cx="5594400" cy="227952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3592440"/>
              <a:ext cx="628560" cy="228600"/>
            </a:xfrm>
            <a:prstGeom prst="rect">
              <a:avLst/>
            </a:prstGeom>
            <a:solidFill>
              <a:srgbClr val="fe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5800" y="3592440"/>
              <a:ext cx="438120" cy="228600"/>
            </a:xfrm>
            <a:prstGeom prst="rect">
              <a:avLst/>
            </a:prstGeom>
            <a:solidFill>
              <a:srgbClr val="f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62080" y="3592440"/>
              <a:ext cx="722160" cy="228600"/>
            </a:xfrm>
            <a:prstGeom prst="rect">
              <a:avLst/>
            </a:prstGeom>
            <a:solidFill>
              <a:srgbClr val="f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00560" y="3592440"/>
              <a:ext cx="152280" cy="228600"/>
            </a:xfrm>
            <a:prstGeom prst="rect">
              <a:avLst/>
            </a:prstGeom>
            <a:solidFill>
              <a:srgbClr val="929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65440" y="3592440"/>
              <a:ext cx="150840" cy="228600"/>
            </a:xfrm>
            <a:prstGeom prst="rect">
              <a:avLst/>
            </a:prstGeom>
            <a:solidFill>
              <a:srgbClr val="929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29160" y="3592440"/>
              <a:ext cx="324000" cy="228600"/>
            </a:xfrm>
            <a:prstGeom prst="rect">
              <a:avLst/>
            </a:prstGeom>
            <a:solidFill>
              <a:srgbClr val="626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54440" y="3592440"/>
              <a:ext cx="723960" cy="228600"/>
            </a:xfrm>
            <a:prstGeom prst="rect">
              <a:avLst/>
            </a:prstGeom>
            <a:solidFill>
              <a:srgbClr val="4b5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11600" y="3592440"/>
              <a:ext cx="512640" cy="228600"/>
            </a:xfrm>
            <a:prstGeom prst="rect">
              <a:avLst/>
            </a:prstGeom>
            <a:solidFill>
              <a:srgbClr val="2b4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5960" y="3592440"/>
              <a:ext cx="419040" cy="228600"/>
            </a:xfrm>
            <a:prstGeom prst="rect">
              <a:avLst/>
            </a:prstGeom>
            <a:solidFill>
              <a:srgbClr val="fe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53160" y="3592440"/>
              <a:ext cx="74124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52840" y="3592440"/>
              <a:ext cx="7632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24240" y="3592440"/>
              <a:ext cx="7632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8400" y="3592440"/>
              <a:ext cx="13320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16280" y="3592440"/>
              <a:ext cx="3816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75000" y="3592440"/>
              <a:ext cx="19044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84240" y="3592440"/>
              <a:ext cx="17172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3920" y="3592440"/>
              <a:ext cx="3816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8560" y="3592440"/>
              <a:ext cx="57240" cy="228600"/>
            </a:xfrm>
            <a:prstGeom prst="rect">
              <a:avLst/>
            </a:prstGeom>
            <a:solidFill>
              <a:srgbClr val="0d0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d0f85"/>
                </a:solidFill>
                <a:latin typeface="Arial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2"/>
            <a:srcRect l="82471" t="0" r="0" b="0"/>
            <a:stretch/>
          </p:blipFill>
          <p:spPr>
            <a:xfrm>
              <a:off x="4548240" y="2921040"/>
              <a:ext cx="914400" cy="57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247680" y="3094200"/>
              <a:ext cx="2868480" cy="2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8840" y="2331720"/>
            <a:ext cx="50385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8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8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4"/>
          </p:nvPr>
        </p:nvSpPr>
        <p:spPr>
          <a:xfrm>
            <a:off x="258840" y="6405120"/>
            <a:ext cx="50385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2" marL="762120" algn="ctr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3" marL="1143000" algn="ctr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4" marL="1523880" algn="ctr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5" marL="1523880">
              <a:spcBef>
                <a:spcPts val="499"/>
              </a:spcBef>
              <a:buClr>
                <a:srgbClr val="0d0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lvl="6" marL="1523880">
              <a:spcBef>
                <a:spcPts val="499"/>
              </a:spcBef>
              <a:buClr>
                <a:srgbClr val="0d0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f8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2204640"/>
            <a:ext cx="50385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8f"/>
                </a:solidFill>
                <a:latin typeface="Arial Black"/>
              </a:rPr>
              <a:t>GRPE – 4</a:t>
            </a:r>
            <a:r>
              <a:rPr b="0" lang="en-GB" sz="1800" spc="-1" strike="noStrike" baseline="30000">
                <a:solidFill>
                  <a:srgbClr val="ffff8f"/>
                </a:solidFill>
                <a:latin typeface="Arial Black"/>
              </a:rPr>
              <a:t>th</a:t>
            </a:r>
            <a:r>
              <a:rPr b="0" lang="en-GB" sz="1800" spc="-1" strike="noStrike">
                <a:solidFill>
                  <a:srgbClr val="ffff8f"/>
                </a:solidFill>
                <a:latin typeface="Arial Black"/>
              </a:rPr>
              <a:t> informal meeting EFV WG </a:t>
            </a:r>
            <a:br>
              <a:rPr sz="1800"/>
            </a:br>
            <a:r>
              <a:rPr b="0" lang="es-ES" sz="1800" spc="-1" strike="noStrike">
                <a:solidFill>
                  <a:srgbClr val="ffff8f"/>
                </a:solidFill>
                <a:latin typeface="Arial Black"/>
              </a:rPr>
              <a:t>(Brussels, 23 April 2009)</a:t>
            </a:r>
            <a:endParaRPr b="0" lang="en-US" sz="1800" spc="-1" strike="noStrike">
              <a:solidFill>
                <a:srgbClr val="ffff8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79280" y="765000"/>
            <a:ext cx="5329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s for 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ally Friendly Vehicle (EF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933720"/>
            <a:ext cx="50385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4508640"/>
            <a:ext cx="50389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d0f85"/>
                </a:solidFill>
                <a:latin typeface="Arial"/>
              </a:rPr>
              <a:t>Rob Cuelenaere (VROM)</a:t>
            </a:r>
            <a:endParaRPr b="0" lang="en-US" sz="1900" spc="-1" strike="noStrike">
              <a:solidFill>
                <a:srgbClr val="0d0f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d0f85"/>
                </a:solidFill>
                <a:latin typeface="Arial"/>
              </a:rPr>
              <a:t>Gerben Passier (TNO)</a:t>
            </a:r>
            <a:endParaRPr b="0" lang="en-US" sz="1900" spc="-1" strike="noStrike">
              <a:solidFill>
                <a:srgbClr val="0d0f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260280"/>
            <a:ext cx="297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orking paper No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V-04-09</a:t>
            </a:r>
            <a:endParaRPr b="0" lang="en-US" sz="1400" spc="-1" strike="noStrike">
              <a:solidFill>
                <a:srgbClr val="0d0f8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GRPE Informal Group on EFV,</a:t>
            </a:r>
            <a:endParaRPr b="0" lang="en-US" sz="1400" spc="-1" strike="noStrike">
              <a:solidFill>
                <a:srgbClr val="0d0f8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th Meeting, 22/23 April 2009)</a:t>
            </a:r>
            <a:endParaRPr b="0" lang="en-US" sz="1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NO Science &amp; Industry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d0f85"/>
                </a:solidFill>
                <a:latin typeface="Arial"/>
              </a:rPr>
              <a:t>The Ultimate EFV concept</a:t>
            </a: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90200" y="5229360"/>
            <a:ext cx="75582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Fully sustainable future regardless of current technology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740720" cy="412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CB58-5CC4-4068-B950-AA7046FE1A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June 6th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d0f85"/>
                </a:solidFill>
                <a:latin typeface="Arial"/>
              </a:rPr>
              <a:t>The Threshold EFV concept</a:t>
            </a: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90200" y="5227560"/>
            <a:ext cx="75582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Future sustainable vehicle (currently 1% qualifies) 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32720" cy="40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4A9-6001-45BE-BB79-434B135F09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June 6th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d0f85"/>
                </a:solidFill>
                <a:latin typeface="Arial"/>
              </a:rPr>
              <a:t>The EFV - label concept</a:t>
            </a: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0200" y="5157360"/>
            <a:ext cx="75582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Most sustainable vehicle with current technology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632720" cy="403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9D93-9799-4F95-8078-1348411DD5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June 6th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90200" y="539640"/>
            <a:ext cx="7558200" cy="8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d0f85"/>
                </a:solidFill>
                <a:latin typeface="Arial"/>
              </a:rPr>
              <a:t>Summarized comparison of concepts</a:t>
            </a:r>
            <a:endParaRPr b="0" lang="en-US" sz="28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0200" y="5229360"/>
            <a:ext cx="75582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buClr>
                <a:srgbClr val="ff6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d0f85"/>
                </a:solidFill>
                <a:latin typeface="Arial"/>
              </a:rPr>
              <a:t>EFV Threshold concept could give the best balance?</a:t>
            </a: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55640" y="1413000"/>
          <a:ext cx="7632720" cy="3600360"/>
        </p:xfrm>
        <a:graphic>
          <a:graphicData uri="http://schemas.openxmlformats.org/drawingml/2006/table">
            <a:tbl>
              <a:tblPr/>
              <a:tblGrid>
                <a:gridCol w="2793960"/>
                <a:gridCol w="1623960"/>
                <a:gridCol w="1781280"/>
                <a:gridCol w="143352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Ultimate EFV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Threshold EFV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EFV label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Time horizon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long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medium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now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Regional differences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allowed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accommodate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not allowed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Accuracy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low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medium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high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Consumer involvement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no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possible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yes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Flexibility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yes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no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Applicability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develop world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possibly world wide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d0f85"/>
                          </a:solidFill>
                          <a:latin typeface="Arial"/>
                          <a:ea typeface="MS Mincho"/>
                        </a:rPr>
                        <a:t>world wide</a:t>
                      </a:r>
                      <a:endParaRPr b="0" lang="en-US" sz="1700" spc="-1" strike="noStrike">
                        <a:solidFill>
                          <a:srgbClr val="0d0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0" y="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D38B-CD76-45B8-B0FF-DD08711DFA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June 6th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228600" y="6369120"/>
            <a:ext cx="4111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D813-061A-4004-AC1F-D23D09FBB048}" type="slidenum">
              <a:rPr b="0" lang="en-US" sz="1000" spc="-1" strike="noStrike">
                <a:solidFill>
                  <a:srgbClr val="0d0f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90200" y="1437840"/>
            <a:ext cx="755820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0f85"/>
              </a:solidFill>
              <a:latin typeface="Arial"/>
            </a:endParaRPr>
          </a:p>
          <a:p>
            <a:pPr marL="1904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0f85"/>
              </a:solidFill>
              <a:latin typeface="Arial"/>
            </a:endParaRPr>
          </a:p>
          <a:p>
            <a:pPr marL="1904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f85"/>
                </a:solidFill>
                <a:latin typeface="Arial"/>
              </a:rPr>
              <a:t>Thank you ! </a:t>
            </a:r>
            <a:endParaRPr b="0" lang="en-US" sz="3600" spc="-1" strike="noStrike">
              <a:solidFill>
                <a:srgbClr val="0d0f85"/>
              </a:solidFill>
              <a:latin typeface="Arial"/>
            </a:endParaRPr>
          </a:p>
          <a:p>
            <a:pPr marL="1904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0f85"/>
              </a:solidFill>
              <a:latin typeface="Arial"/>
            </a:endParaRPr>
          </a:p>
          <a:p>
            <a:pPr marL="1904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  <a:p>
            <a:pPr marL="1904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NO Science &amp; Indust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407-329A-485E-B4A7-48EE6EB7422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PE-EFV, June 6th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7T11:41:01Z</dcterms:created>
  <dc:creator>TNO</dc:creator>
  <dc:description/>
  <dc:language>en-US</dc:language>
  <cp:lastModifiedBy>Esser1</cp:lastModifiedBy>
  <dcterms:modified xsi:type="dcterms:W3CDTF">2009-04-24T11:45:36Z</dcterms:modified>
  <cp:revision>234</cp:revision>
  <dc:subject/>
  <dc:title>TNO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ditor">
    <vt:lpwstr>Custom Productivity Tools</vt:lpwstr>
  </property>
  <property fmtid="{D5CDD505-2E9C-101B-9397-08002B2CF9AE}" pid="3" name="auteur">
    <vt:lpwstr>B.J. van der Moolen</vt:lpwstr>
  </property>
  <property fmtid="{D5CDD505-2E9C-101B-9397-08002B2CF9AE}" pid="4" name="bedrijfslogo">
    <vt:lpwstr>Road.jpg</vt:lpwstr>
  </property>
  <property fmtid="{D5CDD505-2E9C-101B-9397-08002B2CF9AE}" pid="5" name="bedrijfsonderdeel">
    <vt:lpwstr/>
  </property>
  <property fmtid="{D5CDD505-2E9C-101B-9397-08002B2CF9AE}" pid="6" name="functie">
    <vt:lpwstr>Project Engineer</vt:lpwstr>
  </property>
  <property fmtid="{D5CDD505-2E9C-101B-9397-08002B2CF9AE}" pid="7" name="sjabloon">
    <vt:lpwstr>instituut</vt:lpwstr>
  </property>
  <property fmtid="{D5CDD505-2E9C-101B-9397-08002B2CF9AE}" pid="8" name="subtitel">
    <vt:lpwstr>Diesel Emission Control</vt:lpwstr>
  </property>
  <property fmtid="{D5CDD505-2E9C-101B-9397-08002B2CF9AE}" pid="9" name="taal">
    <vt:lpwstr>engels</vt:lpwstr>
  </property>
  <property fmtid="{D5CDD505-2E9C-101B-9397-08002B2CF9AE}" pid="10" name="titel">
    <vt:lpwstr>TNO Automotive</vt:lpwstr>
  </property>
  <property fmtid="{D5CDD505-2E9C-101B-9397-08002B2CF9AE}" pid="11" name="versie">
    <vt:lpwstr>2.1  (Build 03.2006)</vt:lpwstr>
  </property>
</Properties>
</file>