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592-DA67-44D4-93D2-A3DB781B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86F-36BD-4B6A-976F-3F411D4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55B-B273-46C0-940D-42F15AFF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501-5B40-4C68-A7CB-4B128A9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FAB-29E7-494E-BE76-2975FB2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727-2A3B-4716-8904-CCC11D4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2F6-0D22-4A86-B045-94E9E12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0E7-9FC7-4BB6-A996-3B60E48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FB0-79EB-42BC-AB55-35ED44E5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97A-D4FE-4ABC-AA50-1E2377FD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760-D52E-4721-90F9-073D380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90D-A2C1-4194-8217-422694D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f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1" marL="571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95256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333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714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7480" y="6369120"/>
            <a:ext cx="2590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0200" y="6369120"/>
            <a:ext cx="4662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E4ED-45EE-4A0C-8370-752DBA4A2A90}" type="slidenum"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32680"/>
            <a:ext cx="9144000" cy="625320"/>
            <a:chOff x="0" y="6232680"/>
            <a:chExt cx="9144000" cy="625320"/>
          </a:xfrm>
        </p:grpSpPr>
        <p:sp>
          <p:nvSpPr>
            <p:cNvPr id="6" name=""/>
            <p:cNvSpPr/>
            <p:nvPr/>
          </p:nvSpPr>
          <p:spPr>
            <a:xfrm>
              <a:off x="0" y="6759720"/>
              <a:ext cx="102564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9240" y="6759720"/>
              <a:ext cx="71424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95400" y="6759720"/>
              <a:ext cx="118116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21440" y="6759720"/>
              <a:ext cx="24948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49880" y="6759720"/>
              <a:ext cx="24912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94400" y="6759720"/>
              <a:ext cx="527400" cy="9828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60920" y="6759720"/>
              <a:ext cx="1179360" cy="9828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8080" y="6759720"/>
              <a:ext cx="839520" cy="9828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355920" y="6759720"/>
              <a:ext cx="68256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5640" y="6759720"/>
              <a:ext cx="936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21800" y="6759720"/>
              <a:ext cx="12222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0920" y="6759720"/>
              <a:ext cx="12348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97600" y="6759720"/>
              <a:ext cx="12384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40280" y="6759720"/>
              <a:ext cx="2178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9900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038480" y="6759720"/>
              <a:ext cx="3114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76560" y="6759720"/>
              <a:ext cx="27936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3348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24" name="" descr=""/>
            <p:cNvPicPr/>
            <p:nvPr/>
          </p:nvPicPr>
          <p:blipFill>
            <a:blip r:embed="rId2"/>
            <a:srcRect l="86399" t="0" r="0" b="0"/>
            <a:stretch/>
          </p:blipFill>
          <p:spPr>
            <a:xfrm>
              <a:off x="8474040" y="6232680"/>
              <a:ext cx="4604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552600"/>
            <a:ext cx="5594400" cy="3268440"/>
            <a:chOff x="0" y="552600"/>
            <a:chExt cx="5594400" cy="3268440"/>
          </a:xfrm>
        </p:grpSpPr>
        <p:sp>
          <p:nvSpPr>
            <p:cNvPr id="62" name=""/>
            <p:cNvSpPr/>
            <p:nvPr/>
          </p:nvSpPr>
          <p:spPr>
            <a:xfrm>
              <a:off x="0" y="2832120"/>
              <a:ext cx="559440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52600"/>
              <a:ext cx="5594400" cy="227952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92440"/>
              <a:ext cx="62856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3592440"/>
              <a:ext cx="43812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62080" y="3592440"/>
              <a:ext cx="72216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0560" y="3592440"/>
              <a:ext cx="15228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5440" y="3592440"/>
              <a:ext cx="15084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9160" y="3592440"/>
              <a:ext cx="324000" cy="22860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4440" y="3592440"/>
              <a:ext cx="723960" cy="22860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11600" y="3592440"/>
              <a:ext cx="512640" cy="22860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3592440"/>
              <a:ext cx="41904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3160" y="3592440"/>
              <a:ext cx="741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28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242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8400" y="3592440"/>
              <a:ext cx="13320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5000" y="3592440"/>
              <a:ext cx="1904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4240" y="3592440"/>
              <a:ext cx="1717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392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560" y="3592440"/>
              <a:ext cx="57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82471" t="0" r="0" b="0"/>
            <a:stretch/>
          </p:blipFill>
          <p:spPr>
            <a:xfrm>
              <a:off x="4548240" y="2921040"/>
              <a:ext cx="9144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7680" y="3094200"/>
              <a:ext cx="2868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8840" y="233172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4"/>
          </p:nvPr>
        </p:nvSpPr>
        <p:spPr>
          <a:xfrm>
            <a:off x="258840" y="6405120"/>
            <a:ext cx="50385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76212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14300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52388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GRPE – 4</a:t>
            </a:r>
            <a:r>
              <a:rPr b="0" lang="en-GB" sz="1800" spc="-1" strike="noStrike" baseline="30000">
                <a:solidFill>
                  <a:srgbClr val="ffff8f"/>
                </a:solidFill>
                <a:latin typeface="Arial Black"/>
              </a:rPr>
              <a:t>th</a:t>
            </a: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 informal meeting EFV WG </a:t>
            </a:r>
            <a:br>
              <a:rPr sz="1800"/>
            </a:br>
            <a:r>
              <a:rPr b="0" lang="es-ES" sz="1800" spc="-1" strike="noStrike">
                <a:solidFill>
                  <a:srgbClr val="ffff8f"/>
                </a:solidFill>
                <a:latin typeface="Arial Black"/>
              </a:rPr>
              <a:t>(Brussels, 23 April 2009)</a:t>
            </a:r>
            <a:endParaRPr b="0" lang="en-US" sz="18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5329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 for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ly Friendly Vehicle (EF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933720"/>
            <a:ext cx="5038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4508640"/>
            <a:ext cx="5038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Rob Cuelenaere (VROM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Gerben Passier (TNO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602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9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NO Science &amp; Industr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Ultimate EFV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0200" y="5229360"/>
            <a:ext cx="75582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lly sustainable future regardless of current technolog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40720" cy="412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D4B-B8BE-4DCF-A8B5-92065E8B2E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Threshold EFV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0200" y="5227560"/>
            <a:ext cx="75582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ture sustainable vehicle (currently 1% qualifies)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32720" cy="40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BEC-1BBB-4510-976B-EF0156CCD2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EFV - label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0200" y="515736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Most sustainable vehicle with current technolog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F3C-8FAA-4FBC-B387-807823B7B2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ummarized comparison of concept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0200" y="5229360"/>
            <a:ext cx="75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EFV Threshold concept could give the best balance?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5640" y="1413000"/>
          <a:ext cx="7632720" cy="3600360"/>
        </p:xfrm>
        <a:graphic>
          <a:graphicData uri="http://schemas.openxmlformats.org/drawingml/2006/table">
            <a:tbl>
              <a:tblPr/>
              <a:tblGrid>
                <a:gridCol w="2793960"/>
                <a:gridCol w="1623960"/>
                <a:gridCol w="1781280"/>
                <a:gridCol w="14335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Ultimate EFV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Threshold EFV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EFV label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Time horizon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long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medium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w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Regional differenc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llowe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ccommodat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t allowe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ccurac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low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medium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high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Consumer involvement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possibl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Flexibilit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pplicabilit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develop worl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possibly world wid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world wid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BC8-CA28-4FEB-BAB6-25CEDB436E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066B-F606-4D6A-84B8-2BE5EAF9C834}" type="slidenum">
              <a:rPr b="0" lang="en-US" sz="1000" spc="-1" strike="noStrike">
                <a:solidFill>
                  <a:srgbClr val="0d0f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f85"/>
                </a:solidFill>
                <a:latin typeface="Arial"/>
              </a:rPr>
              <a:t>Thank you ! </a:t>
            </a: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D14-B2D3-4621-B4C4-6D4563B55A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Esser1</cp:lastModifiedBy>
  <dcterms:modified xsi:type="dcterms:W3CDTF">2009-04-24T11:45:36Z</dcterms:modified>
  <cp:revision>234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  <property fmtid="{D5CDD505-2E9C-101B-9397-08002B2CF9AE}" pid="3" name="auteur">
    <vt:lpwstr>B.J. van der Moolen</vt:lpwstr>
  </property>
  <property fmtid="{D5CDD505-2E9C-101B-9397-08002B2CF9AE}" pid="4" name="bedrijfslogo">
    <vt:lpwstr>Road.jpg</vt:lpwstr>
  </property>
  <property fmtid="{D5CDD505-2E9C-101B-9397-08002B2CF9AE}" pid="5" name="bedrijfsonderdeel">
    <vt:lpwstr/>
  </property>
  <property fmtid="{D5CDD505-2E9C-101B-9397-08002B2CF9AE}" pid="6" name="functie">
    <vt:lpwstr>Project Engineer</vt:lpwstr>
  </property>
  <property fmtid="{D5CDD505-2E9C-101B-9397-08002B2CF9AE}" pid="7" name="sjabloon">
    <vt:lpwstr>instituut</vt:lpwstr>
  </property>
  <property fmtid="{D5CDD505-2E9C-101B-9397-08002B2CF9AE}" pid="8" name="subtitel">
    <vt:lpwstr>Diesel Emission Control</vt:lpwstr>
  </property>
  <property fmtid="{D5CDD505-2E9C-101B-9397-08002B2CF9AE}" pid="9" name="taal">
    <vt:lpwstr>engels</vt:lpwstr>
  </property>
  <property fmtid="{D5CDD505-2E9C-101B-9397-08002B2CF9AE}" pid="10" name="titel">
    <vt:lpwstr>TNO Automotive</vt:lpwstr>
  </property>
  <property fmtid="{D5CDD505-2E9C-101B-9397-08002B2CF9AE}" pid="11" name="versie">
    <vt:lpwstr>2.1  (Build 03.2006)</vt:lpwstr>
  </property>
</Properties>
</file>