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EB9-64AA-4187-A4FF-589DD9571E94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9080" y="5666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36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671-C114-49FB-A9F1-200A21079553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Notes Placeholder 4"/>
          <p:cNvSpPr/>
          <p:nvPr/>
        </p:nvSpPr>
        <p:spPr>
          <a:xfrm>
            <a:off x="674640" y="4687920"/>
            <a:ext cx="53863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3881160"/>
            <a:ext cx="538776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466C-82E3-40C3-A41B-C4D7A5F9C787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5785-B65D-4510-B297-911FC6DD3FC4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EC9-A6AE-45D6-AE5D-8A7219D193C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6DC-EACF-42D4-A3EE-244F58E6573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21FF-ECA3-4C7E-A28F-F90BF75FD4B1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46A9-CE36-4CB5-B5C3-889DCF9ED3C1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8B8-CE06-4122-87B4-5A4085D64EAD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9A88-A026-492D-896E-81FC16506AD1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228600" y="6367320"/>
            <a:ext cx="4381560" cy="3063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4610160" y="6383160"/>
            <a:ext cx="4381560" cy="30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228600" y="152280"/>
            <a:ext cx="8763120" cy="6521400"/>
          </a:xfrm>
          <a:prstGeom prst="roundRect">
            <a:avLst>
              <a:gd name="adj" fmla="val 4069"/>
            </a:avLst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23440" y="635292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RNATIONAL ENERGY AG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556520" y="635112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ＭＳ Ｐゴシック"/>
              </a:rPr>
              <a:t>AGENCE INTERNATIONALE DE L’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Object 9" descr=""/>
          <p:cNvPicPr/>
          <p:nvPr/>
        </p:nvPicPr>
        <p:blipFill>
          <a:blip r:embed="rId2"/>
          <a:stretch/>
        </p:blipFill>
        <p:spPr>
          <a:xfrm>
            <a:off x="344520" y="509760"/>
            <a:ext cx="569880" cy="709560"/>
          </a:xfrm>
          <a:prstGeom prst="rect">
            <a:avLst/>
          </a:prstGeom>
          <a:ln w="0">
            <a:noFill/>
          </a:ln>
        </p:spPr>
      </p:pic>
      <p:sp>
        <p:nvSpPr>
          <p:cNvPr id="8" name="TextBox 10"/>
          <p:cNvSpPr/>
          <p:nvPr/>
        </p:nvSpPr>
        <p:spPr>
          <a:xfrm>
            <a:off x="75438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E03C00-B2ED-46FD-B9E0-EB746AA80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4"/>
          <p:cNvSpPr/>
          <p:nvPr/>
        </p:nvSpPr>
        <p:spPr>
          <a:xfrm>
            <a:off x="228600" y="6367320"/>
            <a:ext cx="4381560" cy="3063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4610160" y="6383160"/>
            <a:ext cx="4381560" cy="30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28600" y="152280"/>
            <a:ext cx="8763120" cy="6521400"/>
          </a:xfrm>
          <a:prstGeom prst="roundRect">
            <a:avLst>
              <a:gd name="adj" fmla="val 4069"/>
            </a:avLst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23440" y="635292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RNATIONAL ENERGY AG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56520" y="635112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ＭＳ Ｐゴシック"/>
              </a:rPr>
              <a:t>AGENCE INTERNATIONALE DE L’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Object 9" descr=""/>
          <p:cNvPicPr/>
          <p:nvPr/>
        </p:nvPicPr>
        <p:blipFill>
          <a:blip r:embed="rId2"/>
          <a:stretch/>
        </p:blipFill>
        <p:spPr>
          <a:xfrm>
            <a:off x="344520" y="304920"/>
            <a:ext cx="569880" cy="709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7"/>
          <p:cNvSpPr/>
          <p:nvPr/>
        </p:nvSpPr>
        <p:spPr>
          <a:xfrm>
            <a:off x="75438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FD8A7F-7D2E-4530-BAA7-830294FE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a.org/G8/2008/G8_EE_recommendations.pdf" TargetMode="External"/><Relationship Id="rId2" Type="http://schemas.openxmlformats.org/officeDocument/2006/relationships/hyperlink" Target="http://www.iea.org/Textbase/publications/free_new_Desc.asp?PUBS_ID=1977" TargetMode="External"/><Relationship Id="rId3" Type="http://schemas.openxmlformats.org/officeDocument/2006/relationships/hyperlink" Target="http://www.iea.org/Textbase/publications/free_new_Desc.asp?PUBS_ID=1977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a.org/Textbase/publications/free_new_Desc.asp?PUBS_ID=197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a.org/Textbase/work/workshopdetail.asp?WS_ID=227" TargetMode="External"/><Relationship Id="rId2" Type="http://schemas.openxmlformats.org/officeDocument/2006/relationships/hyperlink" Target="http://www.iea.org/Textbase/work/workshopdetail.asp?WS_ID=227" TargetMode="External"/><Relationship Id="rId3" Type="http://schemas.openxmlformats.org/officeDocument/2006/relationships/hyperlink" Target="http://www.iea.org/Textbase/work/workshopdetail.asp?WS_ID=257" TargetMode="External"/><Relationship Id="rId4" Type="http://schemas.openxmlformats.org/officeDocument/2006/relationships/hyperlink" Target="http://www.iea.org/Textbase/work/workshopdetail.asp?WS_ID=247" TargetMode="External"/><Relationship Id="rId5" Type="http://schemas.openxmlformats.org/officeDocument/2006/relationships/hyperlink" Target="http://www.iea.org/Textbase/work/workshopdetail.asp?WS_ID=306" TargetMode="External"/><Relationship Id="rId6" Type="http://schemas.openxmlformats.org/officeDocument/2006/relationships/hyperlink" Target="http://www.iea.org/Textbase/work/workshopdetail.asp?WS_ID=333" TargetMode="External"/><Relationship Id="rId7" Type="http://schemas.openxmlformats.org/officeDocument/2006/relationships/hyperlink" Target="http://www.iea.org/Textbase/work/workshopdetail.asp?WS_ID=333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90720" y="4070520"/>
            <a:ext cx="7238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ao On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Energy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ao.onoda@iea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920" y="5638680"/>
            <a:ext cx="853416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formal group meeting Environmentally Friendly Vehicles (EF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-23 April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5438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EAC71005-7C72-4D2A-B810-08654D04F0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0880" y="1828800"/>
            <a:ext cx="8458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ＭＳ Ｐゴシック"/>
              </a:rPr>
              <a:t>IEA work on Improving Energy Efficiency in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08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ing paper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V-04-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th Meeting, 22/23 April 200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</a:rPr>
              <a:t>Papers:</a:t>
            </a:r>
            <a:endParaRPr b="1" lang="en-US" sz="16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25 Energy Efficiency Policy Recommendations by IEA 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http://www.iea.org/G8/2008/G8_EE_recommendations.pdf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Fuel-Efficient Road Vehicle Non-Engine Component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http://www.iea.org/Textbase/publications/free_new_Desc.asp?PUBS_ID</a:t>
            </a:r>
            <a:r>
              <a:rPr b="0" lang="en-US" sz="10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=1977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Review of International Policies for Vehicle Fuel Efficiency 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Publications/free_new_Desc.asp?PUBS_ID=2049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</a:rPr>
              <a:t>Workshops:</a:t>
            </a:r>
            <a:endParaRPr b="1" lang="en-US" sz="16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Energy Efficiency Through Better Car Component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Papers/2008/cd_energy_efficiency_policy/5-Transport/5-vehicle_efficiency.pdf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Cooling Cars with Less Fuel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work/workshopdetail.asp?WS_ID=247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Energy Efficient Tyres: Improving the On-Road Performance of Motor Vehicle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work/workshopdetail.asp?WS_ID=227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An international workshop on Fuel Efficiency Policies for Heavy-Duty Vehicle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work/workshopdetail.asp?WS_ID=306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Workshop on Ecodriving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nternationaltransportforum.org/Proceedings/ecodriving/ecodriving07.html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7"/>
          <p:cNvSpPr/>
          <p:nvPr/>
        </p:nvSpPr>
        <p:spPr>
          <a:xfrm>
            <a:off x="2182680" y="4711680"/>
            <a:ext cx="40482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182680" y="4363920"/>
            <a:ext cx="4048200" cy="32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2182680" y="4017960"/>
            <a:ext cx="40482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182680" y="3670200"/>
            <a:ext cx="4048200" cy="32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2182680" y="3336840"/>
            <a:ext cx="40482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2182680" y="2989440"/>
            <a:ext cx="4048200" cy="28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182680" y="2643120"/>
            <a:ext cx="40482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2182680" y="2297160"/>
            <a:ext cx="40482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2182680" y="1949400"/>
            <a:ext cx="4048200" cy="32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6"/>
          <p:cNvSpPr/>
          <p:nvPr/>
        </p:nvSpPr>
        <p:spPr>
          <a:xfrm>
            <a:off x="2182680" y="4178160"/>
            <a:ext cx="4048200" cy="879480"/>
          </a:xfrm>
          <a:prstGeom prst="pie">
            <a:avLst/>
          </a:prstGeom>
          <a:solidFill>
            <a:srgbClr val="766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17"/>
          <p:cNvSpPr/>
          <p:nvPr/>
        </p:nvSpPr>
        <p:spPr>
          <a:xfrm>
            <a:off x="2182680" y="3324240"/>
            <a:ext cx="4048200" cy="1238400"/>
          </a:xfrm>
          <a:prstGeom prst="pie">
            <a:avLst/>
          </a:prstGeom>
          <a:solidFill>
            <a:srgbClr val="789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2182680" y="2692440"/>
            <a:ext cx="4048200" cy="1547640"/>
          </a:xfrm>
          <a:prstGeom prst="pie">
            <a:avLst/>
          </a:prstGeom>
          <a:solidFill>
            <a:srgbClr val="f1b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9"/>
          <p:cNvSpPr/>
          <p:nvPr/>
        </p:nvSpPr>
        <p:spPr>
          <a:xfrm>
            <a:off x="2182680" y="2408400"/>
            <a:ext cx="4048200" cy="1622160"/>
          </a:xfrm>
          <a:prstGeom prst="pie">
            <a:avLst/>
          </a:prstGeom>
          <a:solidFill>
            <a:srgbClr val="b7d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0"/>
          <p:cNvSpPr/>
          <p:nvPr/>
        </p:nvSpPr>
        <p:spPr>
          <a:xfrm>
            <a:off x="2182680" y="2246400"/>
            <a:ext cx="4048200" cy="1647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1"/>
          <p:cNvSpPr/>
          <p:nvPr/>
        </p:nvSpPr>
        <p:spPr>
          <a:xfrm>
            <a:off x="2182680" y="2184480"/>
            <a:ext cx="4048200" cy="1660320"/>
          </a:xfrm>
          <a:prstGeom prst="pie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2"/>
          <p:cNvSpPr/>
          <p:nvPr/>
        </p:nvSpPr>
        <p:spPr>
          <a:xfrm>
            <a:off x="2182680" y="2122560"/>
            <a:ext cx="4048200" cy="1697040"/>
          </a:xfrm>
          <a:prstGeom prst="pi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2182680" y="1949400"/>
            <a:ext cx="1800" cy="310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2131920" y="50576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2131920" y="47116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6"/>
          <p:cNvSpPr/>
          <p:nvPr/>
        </p:nvSpPr>
        <p:spPr>
          <a:xfrm>
            <a:off x="2131920" y="4363920"/>
            <a:ext cx="50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2131920" y="40179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2131920" y="3670200"/>
            <a:ext cx="50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2131920" y="33368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2131920" y="2989440"/>
            <a:ext cx="507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2131920" y="2643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1920" y="22971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131920" y="1949400"/>
            <a:ext cx="50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182680" y="5057640"/>
            <a:ext cx="404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5"/>
          <p:cNvSpPr/>
          <p:nvPr/>
        </p:nvSpPr>
        <p:spPr>
          <a:xfrm flipV="1">
            <a:off x="218268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6"/>
          <p:cNvSpPr/>
          <p:nvPr/>
        </p:nvSpPr>
        <p:spPr>
          <a:xfrm flipV="1">
            <a:off x="298764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37"/>
          <p:cNvSpPr/>
          <p:nvPr/>
        </p:nvSpPr>
        <p:spPr>
          <a:xfrm flipV="1">
            <a:off x="3803760" y="5057280"/>
            <a:ext cx="32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38"/>
          <p:cNvSpPr/>
          <p:nvPr/>
        </p:nvSpPr>
        <p:spPr>
          <a:xfrm flipV="1">
            <a:off x="4608360" y="5057280"/>
            <a:ext cx="32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39"/>
          <p:cNvSpPr/>
          <p:nvPr/>
        </p:nvSpPr>
        <p:spPr>
          <a:xfrm flipV="1">
            <a:off x="542592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40"/>
          <p:cNvSpPr/>
          <p:nvPr/>
        </p:nvSpPr>
        <p:spPr>
          <a:xfrm flipV="1">
            <a:off x="623088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1954800" y="497052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737360" y="462456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1737360" y="427824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1737360" y="393048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1737360" y="358452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1665360" y="324972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1665360" y="290340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1665360" y="255600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1665360" y="220968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1665360" y="186372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206532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2"/>
          <p:cNvSpPr/>
          <p:nvPr/>
        </p:nvSpPr>
        <p:spPr>
          <a:xfrm>
            <a:off x="287028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368784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449244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5"/>
          <p:cNvSpPr/>
          <p:nvPr/>
        </p:nvSpPr>
        <p:spPr>
          <a:xfrm>
            <a:off x="531000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56"/>
          <p:cNvSpPr/>
          <p:nvPr/>
        </p:nvSpPr>
        <p:spPr>
          <a:xfrm>
            <a:off x="611496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7"/>
          <p:cNvSpPr/>
          <p:nvPr/>
        </p:nvSpPr>
        <p:spPr>
          <a:xfrm rot="16200000">
            <a:off x="1132920" y="19893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to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58"/>
          <p:cNvSpPr/>
          <p:nvPr/>
        </p:nvSpPr>
        <p:spPr>
          <a:xfrm>
            <a:off x="6318360" y="2060640"/>
            <a:ext cx="98280" cy="100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6656040" y="2011320"/>
            <a:ext cx="129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ther renew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0"/>
          <p:cNvSpPr/>
          <p:nvPr/>
        </p:nvSpPr>
        <p:spPr>
          <a:xfrm>
            <a:off x="6318360" y="2444760"/>
            <a:ext cx="98280" cy="100080"/>
          </a:xfrm>
          <a:prstGeom prst="rect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6519960" y="2395440"/>
            <a:ext cx="44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yd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2"/>
          <p:cNvSpPr/>
          <p:nvPr/>
        </p:nvSpPr>
        <p:spPr>
          <a:xfrm>
            <a:off x="6318360" y="2828880"/>
            <a:ext cx="98280" cy="9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3"/>
          <p:cNvSpPr/>
          <p:nvPr/>
        </p:nvSpPr>
        <p:spPr>
          <a:xfrm>
            <a:off x="6540480" y="277956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cl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4"/>
          <p:cNvSpPr/>
          <p:nvPr/>
        </p:nvSpPr>
        <p:spPr>
          <a:xfrm>
            <a:off x="6318360" y="3213000"/>
            <a:ext cx="98280" cy="98640"/>
          </a:xfrm>
          <a:prstGeom prst="rect">
            <a:avLst/>
          </a:prstGeom>
          <a:solidFill>
            <a:srgbClr val="b7d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6546960" y="31640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m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6"/>
          <p:cNvSpPr/>
          <p:nvPr/>
        </p:nvSpPr>
        <p:spPr>
          <a:xfrm>
            <a:off x="6318360" y="3597120"/>
            <a:ext cx="98280" cy="98640"/>
          </a:xfrm>
          <a:prstGeom prst="rect">
            <a:avLst/>
          </a:prstGeom>
          <a:solidFill>
            <a:srgbClr val="f1b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7"/>
          <p:cNvSpPr/>
          <p:nvPr/>
        </p:nvSpPr>
        <p:spPr>
          <a:xfrm>
            <a:off x="6496560" y="3546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6318360" y="3979800"/>
            <a:ext cx="98280" cy="100080"/>
          </a:xfrm>
          <a:prstGeom prst="rect">
            <a:avLst/>
          </a:prstGeom>
          <a:solidFill>
            <a:srgbClr val="789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6503760" y="3930480"/>
            <a:ext cx="31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6318360" y="4363920"/>
            <a:ext cx="98280" cy="100080"/>
          </a:xfrm>
          <a:prstGeom prst="rect">
            <a:avLst/>
          </a:prstGeom>
          <a:solidFill>
            <a:srgbClr val="766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6485400" y="431496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304920" y="56386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orld energy demand expands by 45% between now and 2030 – an average rate of increase of 1.6% per year – with coal accounting for more than a third of the overall ri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ld primary energy demand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 the Reference Scenari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EO 2008 Reference Scenario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mental oil demand, 2006-2030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70" name="Group 6"/>
          <p:cNvGrpSpPr/>
          <p:nvPr/>
        </p:nvGrpSpPr>
        <p:grpSpPr>
          <a:xfrm>
            <a:off x="1219320" y="1676520"/>
            <a:ext cx="6777720" cy="3789000"/>
            <a:chOff x="1219320" y="1676520"/>
            <a:chExt cx="6777720" cy="3789000"/>
          </a:xfrm>
        </p:grpSpPr>
        <p:sp>
          <p:nvSpPr>
            <p:cNvPr id="171" name="AutoShape 5"/>
            <p:cNvSpPr/>
            <p:nvPr/>
          </p:nvSpPr>
          <p:spPr>
            <a:xfrm>
              <a:off x="1219320" y="1676520"/>
              <a:ext cx="6550920" cy="37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2085840" y="4808880"/>
              <a:ext cx="4284360" cy="21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2085840" y="3657600"/>
              <a:ext cx="428436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2085840" y="3075480"/>
              <a:ext cx="428436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2085840" y="2505960"/>
              <a:ext cx="428436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2085840" y="1923840"/>
              <a:ext cx="4284360" cy="21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2408040" y="4128120"/>
              <a:ext cx="433080" cy="99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3485520" y="4227480"/>
              <a:ext cx="420480" cy="86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4550400" y="4227480"/>
              <a:ext cx="433080" cy="36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5627880" y="4227480"/>
              <a:ext cx="421200" cy="395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2408040" y="3224520"/>
              <a:ext cx="433080" cy="903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3485520" y="4177800"/>
              <a:ext cx="420480" cy="49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4550400" y="4091040"/>
              <a:ext cx="433080" cy="13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5627880" y="4003920"/>
              <a:ext cx="421200" cy="223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2408040" y="2877480"/>
              <a:ext cx="433080" cy="346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485520" y="4128120"/>
              <a:ext cx="42048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22"/>
            <p:cNvSpPr/>
            <p:nvPr/>
          </p:nvSpPr>
          <p:spPr>
            <a:xfrm>
              <a:off x="4550400" y="3992040"/>
              <a:ext cx="433080" cy="99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23"/>
            <p:cNvSpPr/>
            <p:nvPr/>
          </p:nvSpPr>
          <p:spPr>
            <a:xfrm>
              <a:off x="5627880" y="3880440"/>
              <a:ext cx="421200" cy="123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>
              <a:off x="2408040" y="2679120"/>
              <a:ext cx="433080" cy="19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>
              <a:off x="3485520" y="4115880"/>
              <a:ext cx="420480" cy="11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>
              <a:off x="4550400" y="3942360"/>
              <a:ext cx="433080" cy="49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2408040" y="2023200"/>
              <a:ext cx="433080" cy="6559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3485520" y="3992040"/>
              <a:ext cx="420480" cy="123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4550400" y="3744360"/>
              <a:ext cx="433080" cy="19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627880" y="3669840"/>
              <a:ext cx="421200" cy="210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2085840" y="1923840"/>
              <a:ext cx="1800" cy="288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2036520" y="4808880"/>
              <a:ext cx="493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33"/>
            <p:cNvSpPr/>
            <p:nvPr/>
          </p:nvSpPr>
          <p:spPr>
            <a:xfrm>
              <a:off x="2036520" y="4227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2036520" y="36576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2036520" y="3075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36"/>
            <p:cNvSpPr/>
            <p:nvPr/>
          </p:nvSpPr>
          <p:spPr>
            <a:xfrm>
              <a:off x="2036520" y="250596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2036520" y="1923840"/>
              <a:ext cx="493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38"/>
            <p:cNvSpPr/>
            <p:nvPr/>
          </p:nvSpPr>
          <p:spPr>
            <a:xfrm>
              <a:off x="2085840" y="4227480"/>
              <a:ext cx="428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2085840" y="4227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40"/>
            <p:cNvSpPr/>
            <p:nvPr/>
          </p:nvSpPr>
          <p:spPr>
            <a:xfrm flipV="1">
              <a:off x="3163320" y="4227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41"/>
            <p:cNvSpPr/>
            <p:nvPr/>
          </p:nvSpPr>
          <p:spPr>
            <a:xfrm flipV="1">
              <a:off x="4228200" y="4227120"/>
              <a:ext cx="21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42"/>
            <p:cNvSpPr/>
            <p:nvPr/>
          </p:nvSpPr>
          <p:spPr>
            <a:xfrm flipV="1">
              <a:off x="5305680" y="4227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43"/>
            <p:cNvSpPr/>
            <p:nvPr/>
          </p:nvSpPr>
          <p:spPr>
            <a:xfrm flipV="1">
              <a:off x="6370560" y="4227120"/>
              <a:ext cx="21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44"/>
            <p:cNvSpPr/>
            <p:nvPr/>
          </p:nvSpPr>
          <p:spPr>
            <a:xfrm>
              <a:off x="1703160" y="4722480"/>
              <a:ext cx="32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-2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45"/>
            <p:cNvSpPr/>
            <p:nvPr/>
          </p:nvSpPr>
          <p:spPr>
            <a:xfrm>
              <a:off x="1889640" y="414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46"/>
            <p:cNvSpPr/>
            <p:nvPr/>
          </p:nvSpPr>
          <p:spPr>
            <a:xfrm>
              <a:off x="1745280" y="35708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47"/>
            <p:cNvSpPr/>
            <p:nvPr/>
          </p:nvSpPr>
          <p:spPr>
            <a:xfrm>
              <a:off x="1745280" y="29890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48"/>
            <p:cNvSpPr/>
            <p:nvPr/>
          </p:nvSpPr>
          <p:spPr>
            <a:xfrm>
              <a:off x="1745280" y="2419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49"/>
            <p:cNvSpPr/>
            <p:nvPr/>
          </p:nvSpPr>
          <p:spPr>
            <a:xfrm>
              <a:off x="1745280" y="18374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50"/>
            <p:cNvSpPr/>
            <p:nvPr/>
          </p:nvSpPr>
          <p:spPr>
            <a:xfrm>
              <a:off x="2385000" y="4957920"/>
              <a:ext cx="70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ans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51"/>
            <p:cNvSpPr/>
            <p:nvPr/>
          </p:nvSpPr>
          <p:spPr>
            <a:xfrm>
              <a:off x="3504960" y="495792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ust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52"/>
            <p:cNvSpPr/>
            <p:nvPr/>
          </p:nvSpPr>
          <p:spPr>
            <a:xfrm>
              <a:off x="4508640" y="49579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n-energ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4689720" y="51685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54"/>
            <p:cNvSpPr/>
            <p:nvPr/>
          </p:nvSpPr>
          <p:spPr>
            <a:xfrm>
              <a:off x="5618160" y="4957920"/>
              <a:ext cx="42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th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 rot="16200000">
              <a:off x="1210320" y="193860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to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6569280" y="1837440"/>
              <a:ext cx="113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6717600" y="1936440"/>
              <a:ext cx="86400" cy="86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58"/>
            <p:cNvSpPr/>
            <p:nvPr/>
          </p:nvSpPr>
          <p:spPr>
            <a:xfrm>
              <a:off x="7033320" y="1862280"/>
              <a:ext cx="96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st of wor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59"/>
            <p:cNvSpPr/>
            <p:nvPr/>
          </p:nvSpPr>
          <p:spPr>
            <a:xfrm>
              <a:off x="6717600" y="2196720"/>
              <a:ext cx="86400" cy="86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60"/>
            <p:cNvSpPr/>
            <p:nvPr/>
          </p:nvSpPr>
          <p:spPr>
            <a:xfrm>
              <a:off x="7008840" y="2122200"/>
              <a:ext cx="76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ther As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61"/>
            <p:cNvSpPr/>
            <p:nvPr/>
          </p:nvSpPr>
          <p:spPr>
            <a:xfrm>
              <a:off x="6717600" y="2456640"/>
              <a:ext cx="86400" cy="86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62"/>
            <p:cNvSpPr/>
            <p:nvPr/>
          </p:nvSpPr>
          <p:spPr>
            <a:xfrm>
              <a:off x="6945480" y="23821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63"/>
            <p:cNvSpPr/>
            <p:nvPr/>
          </p:nvSpPr>
          <p:spPr>
            <a:xfrm>
              <a:off x="6717600" y="2716560"/>
              <a:ext cx="86400" cy="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64"/>
            <p:cNvSpPr/>
            <p:nvPr/>
          </p:nvSpPr>
          <p:spPr>
            <a:xfrm>
              <a:off x="6954480" y="264240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65"/>
            <p:cNvSpPr/>
            <p:nvPr/>
          </p:nvSpPr>
          <p:spPr>
            <a:xfrm>
              <a:off x="6717600" y="2976480"/>
              <a:ext cx="86400" cy="86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66"/>
            <p:cNvSpPr/>
            <p:nvPr/>
          </p:nvSpPr>
          <p:spPr>
            <a:xfrm>
              <a:off x="6951240" y="290232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EC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TextBox 63"/>
          <p:cNvSpPr/>
          <p:nvPr/>
        </p:nvSpPr>
        <p:spPr>
          <a:xfrm>
            <a:off x="1295280" y="548640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ound three-quarters of the projected increase in oil demand comes from transpor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uctions in energy-related 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emissions in the climate-policy scenario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TextBox 80"/>
          <p:cNvSpPr/>
          <p:nvPr/>
        </p:nvSpPr>
        <p:spPr>
          <a:xfrm>
            <a:off x="457200" y="541008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technological progress is needed to achieve some emissions reductions, efficiency gains and deployment of existing low-carbon energy accounts for most of the sav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853920" y="406872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853920" y="3471840"/>
            <a:ext cx="43056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53920" y="288432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853920" y="228744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853920" y="169056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853920" y="1690560"/>
            <a:ext cx="1800" cy="297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1080" y="4665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>
            <a:off x="811080" y="40687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811080" y="34718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811080" y="28843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811080" y="2287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811080" y="16905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7"/>
          <p:cNvSpPr/>
          <p:nvPr/>
        </p:nvSpPr>
        <p:spPr>
          <a:xfrm>
            <a:off x="853920" y="4665600"/>
            <a:ext cx="430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8"/>
          <p:cNvSpPr/>
          <p:nvPr/>
        </p:nvSpPr>
        <p:spPr>
          <a:xfrm flipV="1">
            <a:off x="853920" y="46652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9"/>
          <p:cNvSpPr/>
          <p:nvPr/>
        </p:nvSpPr>
        <p:spPr>
          <a:xfrm flipV="1">
            <a:off x="1712880" y="46652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20"/>
          <p:cNvSpPr/>
          <p:nvPr/>
        </p:nvSpPr>
        <p:spPr>
          <a:xfrm flipV="1">
            <a:off x="2571840" y="46652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21"/>
          <p:cNvSpPr/>
          <p:nvPr/>
        </p:nvSpPr>
        <p:spPr>
          <a:xfrm flipV="1">
            <a:off x="3441600" y="46652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22"/>
          <p:cNvSpPr/>
          <p:nvPr/>
        </p:nvSpPr>
        <p:spPr>
          <a:xfrm flipV="1">
            <a:off x="4300560" y="46652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23"/>
          <p:cNvSpPr/>
          <p:nvPr/>
        </p:nvSpPr>
        <p:spPr>
          <a:xfrm flipV="1">
            <a:off x="5159520" y="46652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853920" y="3178080"/>
            <a:ext cx="4305600" cy="806400"/>
          </a:xfrm>
          <a:prstGeom prst="pie">
            <a:avLst/>
          </a:prstGeom>
          <a:noFill/>
          <a:ln w="28440">
            <a:solidFill>
              <a:srgbClr val="0064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Freeform 25"/>
          <p:cNvSpPr/>
          <p:nvPr/>
        </p:nvSpPr>
        <p:spPr>
          <a:xfrm>
            <a:off x="853920" y="3114720"/>
            <a:ext cx="4305600" cy="712800"/>
          </a:xfrm>
          <a:prstGeom prst="pie">
            <a:avLst/>
          </a:prstGeom>
          <a:noFill/>
          <a:ln w="2844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831960" y="3807000"/>
            <a:ext cx="428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1000080" y="370188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1177920" y="3618000"/>
            <a:ext cx="428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346040" y="356544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1523880" y="349236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1692360" y="3408480"/>
            <a:ext cx="410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3"/>
          <p:cNvSpPr/>
          <p:nvPr/>
        </p:nvSpPr>
        <p:spPr>
          <a:xfrm>
            <a:off x="1870200" y="3324240"/>
            <a:ext cx="410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2036880" y="321948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2216160" y="3125880"/>
            <a:ext cx="4140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2382840" y="3041640"/>
            <a:ext cx="428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2550960" y="2978280"/>
            <a:ext cx="4140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8"/>
          <p:cNvSpPr/>
          <p:nvPr/>
        </p:nvSpPr>
        <p:spPr>
          <a:xfrm>
            <a:off x="2728800" y="2916360"/>
            <a:ext cx="4140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2897280" y="2852640"/>
            <a:ext cx="410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40"/>
          <p:cNvSpPr/>
          <p:nvPr/>
        </p:nvSpPr>
        <p:spPr>
          <a:xfrm>
            <a:off x="3075120" y="2800440"/>
            <a:ext cx="410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1"/>
          <p:cNvSpPr/>
          <p:nvPr/>
        </p:nvSpPr>
        <p:spPr>
          <a:xfrm>
            <a:off x="3241800" y="274788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2"/>
          <p:cNvSpPr/>
          <p:nvPr/>
        </p:nvSpPr>
        <p:spPr>
          <a:xfrm>
            <a:off x="3421080" y="2695680"/>
            <a:ext cx="4140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3"/>
          <p:cNvSpPr/>
          <p:nvPr/>
        </p:nvSpPr>
        <p:spPr>
          <a:xfrm>
            <a:off x="3587760" y="2633760"/>
            <a:ext cx="428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3755880" y="257004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45"/>
          <p:cNvSpPr/>
          <p:nvPr/>
        </p:nvSpPr>
        <p:spPr>
          <a:xfrm>
            <a:off x="3933720" y="2529000"/>
            <a:ext cx="4140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6"/>
          <p:cNvSpPr/>
          <p:nvPr/>
        </p:nvSpPr>
        <p:spPr>
          <a:xfrm>
            <a:off x="4102200" y="2476440"/>
            <a:ext cx="410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47"/>
          <p:cNvSpPr/>
          <p:nvPr/>
        </p:nvSpPr>
        <p:spPr>
          <a:xfrm>
            <a:off x="4280040" y="2424240"/>
            <a:ext cx="410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8"/>
          <p:cNvSpPr/>
          <p:nvPr/>
        </p:nvSpPr>
        <p:spPr>
          <a:xfrm>
            <a:off x="4446720" y="2371680"/>
            <a:ext cx="428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9"/>
          <p:cNvSpPr/>
          <p:nvPr/>
        </p:nvSpPr>
        <p:spPr>
          <a:xfrm>
            <a:off x="4626000" y="2328840"/>
            <a:ext cx="4140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50"/>
          <p:cNvSpPr/>
          <p:nvPr/>
        </p:nvSpPr>
        <p:spPr>
          <a:xfrm>
            <a:off x="4792680" y="2287440"/>
            <a:ext cx="428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51"/>
          <p:cNvSpPr/>
          <p:nvPr/>
        </p:nvSpPr>
        <p:spPr>
          <a:xfrm>
            <a:off x="4970520" y="224460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52"/>
          <p:cNvSpPr/>
          <p:nvPr/>
        </p:nvSpPr>
        <p:spPr>
          <a:xfrm>
            <a:off x="5138640" y="222084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53"/>
          <p:cNvSpPr/>
          <p:nvPr/>
        </p:nvSpPr>
        <p:spPr>
          <a:xfrm>
            <a:off x="610920" y="457524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4"/>
          <p:cNvSpPr/>
          <p:nvPr/>
        </p:nvSpPr>
        <p:spPr>
          <a:xfrm>
            <a:off x="610920" y="397836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55"/>
          <p:cNvSpPr/>
          <p:nvPr/>
        </p:nvSpPr>
        <p:spPr>
          <a:xfrm>
            <a:off x="610920" y="338148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6"/>
          <p:cNvSpPr/>
          <p:nvPr/>
        </p:nvSpPr>
        <p:spPr>
          <a:xfrm>
            <a:off x="610920" y="279396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610920" y="219708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610920" y="160020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59"/>
          <p:cNvSpPr/>
          <p:nvPr/>
        </p:nvSpPr>
        <p:spPr>
          <a:xfrm>
            <a:off x="69156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0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60"/>
          <p:cNvSpPr/>
          <p:nvPr/>
        </p:nvSpPr>
        <p:spPr>
          <a:xfrm>
            <a:off x="155124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1"/>
          <p:cNvSpPr/>
          <p:nvPr/>
        </p:nvSpPr>
        <p:spPr>
          <a:xfrm>
            <a:off x="241020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62"/>
          <p:cNvSpPr/>
          <p:nvPr/>
        </p:nvSpPr>
        <p:spPr>
          <a:xfrm>
            <a:off x="327996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63"/>
          <p:cNvSpPr/>
          <p:nvPr/>
        </p:nvSpPr>
        <p:spPr>
          <a:xfrm>
            <a:off x="413892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64"/>
          <p:cNvSpPr/>
          <p:nvPr/>
        </p:nvSpPr>
        <p:spPr>
          <a:xfrm>
            <a:off x="499860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65"/>
          <p:cNvSpPr/>
          <p:nvPr/>
        </p:nvSpPr>
        <p:spPr>
          <a:xfrm rot="16200000">
            <a:off x="42480" y="1930320"/>
            <a:ext cx="76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gatonn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801720" y="5160960"/>
            <a:ext cx="282600" cy="1440"/>
          </a:xfrm>
          <a:prstGeom prst="line">
            <a:avLst/>
          </a:prstGeom>
          <a:ln w="2844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8"/>
          <p:cNvSpPr/>
          <p:nvPr/>
        </p:nvSpPr>
        <p:spPr>
          <a:xfrm>
            <a:off x="915840" y="510552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9"/>
          <p:cNvSpPr/>
          <p:nvPr/>
        </p:nvSpPr>
        <p:spPr>
          <a:xfrm>
            <a:off x="1182240" y="50641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Scenar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70"/>
          <p:cNvSpPr/>
          <p:nvPr/>
        </p:nvSpPr>
        <p:spPr>
          <a:xfrm>
            <a:off x="2487600" y="5160960"/>
            <a:ext cx="282600" cy="1440"/>
          </a:xfrm>
          <a:prstGeom prst="line">
            <a:avLst/>
          </a:prstGeom>
          <a:ln w="2844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71"/>
          <p:cNvSpPr/>
          <p:nvPr/>
        </p:nvSpPr>
        <p:spPr>
          <a:xfrm>
            <a:off x="2874600" y="5064120"/>
            <a:ext cx="129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50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Scenar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72"/>
          <p:cNvSpPr/>
          <p:nvPr/>
        </p:nvSpPr>
        <p:spPr>
          <a:xfrm>
            <a:off x="4143240" y="5160960"/>
            <a:ext cx="282600" cy="1440"/>
          </a:xfrm>
          <a:prstGeom prst="line">
            <a:avLst/>
          </a:prstGeom>
          <a:ln w="28440">
            <a:solidFill>
              <a:srgbClr val="006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73"/>
          <p:cNvSpPr/>
          <p:nvPr/>
        </p:nvSpPr>
        <p:spPr>
          <a:xfrm>
            <a:off x="4529520" y="5064120"/>
            <a:ext cx="129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Scenar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Group 107"/>
          <p:cNvGrpSpPr/>
          <p:nvPr/>
        </p:nvGrpSpPr>
        <p:grpSpPr>
          <a:xfrm>
            <a:off x="7169040" y="2173320"/>
            <a:ext cx="1653480" cy="952560"/>
            <a:chOff x="7169040" y="2173320"/>
            <a:chExt cx="1653480" cy="952560"/>
          </a:xfrm>
        </p:grpSpPr>
        <p:sp>
          <p:nvSpPr>
            <p:cNvPr id="303" name="Rectangle 91"/>
            <p:cNvSpPr/>
            <p:nvPr/>
          </p:nvSpPr>
          <p:spPr>
            <a:xfrm>
              <a:off x="7169040" y="2468520"/>
              <a:ext cx="83880" cy="838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7285320" y="2395440"/>
              <a:ext cx="290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CS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93"/>
            <p:cNvSpPr/>
            <p:nvPr/>
          </p:nvSpPr>
          <p:spPr>
            <a:xfrm>
              <a:off x="7169040" y="2700360"/>
              <a:ext cx="83880" cy="82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94"/>
            <p:cNvSpPr/>
            <p:nvPr/>
          </p:nvSpPr>
          <p:spPr>
            <a:xfrm>
              <a:off x="7293240" y="2627280"/>
              <a:ext cx="152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newables &amp; biofue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95"/>
            <p:cNvSpPr/>
            <p:nvPr/>
          </p:nvSpPr>
          <p:spPr>
            <a:xfrm>
              <a:off x="7169040" y="2247840"/>
              <a:ext cx="83880" cy="83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6"/>
            <p:cNvSpPr/>
            <p:nvPr/>
          </p:nvSpPr>
          <p:spPr>
            <a:xfrm>
              <a:off x="7314840" y="217332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uclear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03"/>
            <p:cNvSpPr/>
            <p:nvPr/>
          </p:nvSpPr>
          <p:spPr>
            <a:xfrm>
              <a:off x="7169040" y="3000600"/>
              <a:ext cx="83880" cy="8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04"/>
            <p:cNvSpPr/>
            <p:nvPr/>
          </p:nvSpPr>
          <p:spPr>
            <a:xfrm>
              <a:off x="7291800" y="292752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ergy efficienc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Freeform 24"/>
          <p:cNvSpPr/>
          <p:nvPr/>
        </p:nvSpPr>
        <p:spPr>
          <a:xfrm>
            <a:off x="853920" y="2224080"/>
            <a:ext cx="4305600" cy="1603440"/>
          </a:xfrm>
          <a:prstGeom prst="pie">
            <a:avLst/>
          </a:prstGeom>
          <a:noFill/>
          <a:ln w="2844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Group 110"/>
          <p:cNvGrpSpPr/>
          <p:nvPr/>
        </p:nvGrpSpPr>
        <p:grpSpPr>
          <a:xfrm>
            <a:off x="5175360" y="1622520"/>
            <a:ext cx="780840" cy="1512720"/>
            <a:chOff x="5175360" y="1622520"/>
            <a:chExt cx="780840" cy="1512720"/>
          </a:xfrm>
        </p:grpSpPr>
        <p:grpSp>
          <p:nvGrpSpPr>
            <p:cNvPr id="313" name="Group 106"/>
            <p:cNvGrpSpPr/>
            <p:nvPr/>
          </p:nvGrpSpPr>
          <p:grpSpPr>
            <a:xfrm>
              <a:off x="5175360" y="1622520"/>
              <a:ext cx="780840" cy="1512720"/>
              <a:chOff x="5175360" y="1622520"/>
              <a:chExt cx="780840" cy="1512720"/>
            </a:xfrm>
          </p:grpSpPr>
          <p:sp>
            <p:nvSpPr>
              <p:cNvPr id="314" name="Rectangle 74"/>
              <p:cNvSpPr/>
              <p:nvPr/>
            </p:nvSpPr>
            <p:spPr>
              <a:xfrm>
                <a:off x="5510160" y="1622520"/>
                <a:ext cx="288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550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75"/>
              <p:cNvSpPr/>
              <p:nvPr/>
            </p:nvSpPr>
            <p:spPr>
              <a:xfrm>
                <a:off x="5442480" y="1801800"/>
                <a:ext cx="430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Policy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76"/>
              <p:cNvSpPr/>
              <p:nvPr/>
            </p:nvSpPr>
            <p:spPr>
              <a:xfrm>
                <a:off x="5378040" y="1979640"/>
                <a:ext cx="578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Scenari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Freeform 80"/>
              <p:cNvSpPr/>
              <p:nvPr/>
            </p:nvSpPr>
            <p:spPr>
              <a:xfrm>
                <a:off x="5175360" y="2219400"/>
                <a:ext cx="314280" cy="108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05"/>
              <p:cNvSpPr/>
              <p:nvPr/>
            </p:nvSpPr>
            <p:spPr>
              <a:xfrm>
                <a:off x="5546520" y="2871720"/>
                <a:ext cx="288000" cy="2523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06"/>
              <p:cNvSpPr/>
              <p:nvPr/>
            </p:nvSpPr>
            <p:spPr>
              <a:xfrm>
                <a:off x="5546520" y="2568600"/>
                <a:ext cx="288000" cy="303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07"/>
              <p:cNvSpPr/>
              <p:nvPr/>
            </p:nvSpPr>
            <p:spPr>
              <a:xfrm>
                <a:off x="5546520" y="2405160"/>
                <a:ext cx="288000" cy="205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08"/>
              <p:cNvSpPr/>
              <p:nvPr/>
            </p:nvSpPr>
            <p:spPr>
              <a:xfrm>
                <a:off x="5546520" y="2244600"/>
                <a:ext cx="288000" cy="72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09"/>
              <p:cNvSpPr/>
              <p:nvPr/>
            </p:nvSpPr>
            <p:spPr>
              <a:xfrm>
                <a:off x="5546520" y="2425680"/>
                <a:ext cx="288000" cy="147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10"/>
              <p:cNvSpPr/>
              <p:nvPr/>
            </p:nvSpPr>
            <p:spPr>
              <a:xfrm>
                <a:off x="5546520" y="2316960"/>
                <a:ext cx="288000" cy="93600"/>
              </a:xfrm>
              <a:prstGeom prst="rect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Freeform 80"/>
              <p:cNvSpPr/>
              <p:nvPr/>
            </p:nvSpPr>
            <p:spPr>
              <a:xfrm>
                <a:off x="5176800" y="3124440"/>
                <a:ext cx="314280" cy="108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Rectangle 92"/>
            <p:cNvSpPr/>
            <p:nvPr/>
          </p:nvSpPr>
          <p:spPr>
            <a:xfrm>
              <a:off x="5950440" y="2176560"/>
              <a:ext cx="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92"/>
            <p:cNvSpPr/>
            <p:nvPr/>
          </p:nvSpPr>
          <p:spPr>
            <a:xfrm>
              <a:off x="5866560" y="2319120"/>
              <a:ext cx="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92"/>
            <p:cNvSpPr/>
            <p:nvPr/>
          </p:nvSpPr>
          <p:spPr>
            <a:xfrm>
              <a:off x="5868000" y="250524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92"/>
            <p:cNvSpPr/>
            <p:nvPr/>
          </p:nvSpPr>
          <p:spPr>
            <a:xfrm>
              <a:off x="5860800" y="2775240"/>
              <a:ext cx="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Group 111"/>
          <p:cNvGrpSpPr/>
          <p:nvPr/>
        </p:nvGrpSpPr>
        <p:grpSpPr>
          <a:xfrm>
            <a:off x="5226120" y="1622520"/>
            <a:ext cx="1730880" cy="2368440"/>
            <a:chOff x="5226120" y="1622520"/>
            <a:chExt cx="1730880" cy="2368440"/>
          </a:xfrm>
        </p:grpSpPr>
        <p:sp>
          <p:nvSpPr>
            <p:cNvPr id="330" name="Freeform 82"/>
            <p:cNvSpPr/>
            <p:nvPr/>
          </p:nvSpPr>
          <p:spPr>
            <a:xfrm>
              <a:off x="5226120" y="3980160"/>
              <a:ext cx="972360" cy="10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Group 106"/>
            <p:cNvGrpSpPr/>
            <p:nvPr/>
          </p:nvGrpSpPr>
          <p:grpSpPr>
            <a:xfrm>
              <a:off x="6178680" y="1622520"/>
              <a:ext cx="778320" cy="2349720"/>
              <a:chOff x="6178680" y="1622520"/>
              <a:chExt cx="778320" cy="2349720"/>
            </a:xfrm>
          </p:grpSpPr>
          <p:sp>
            <p:nvSpPr>
              <p:cNvPr id="332" name="Rectangle 77"/>
              <p:cNvSpPr/>
              <p:nvPr/>
            </p:nvSpPr>
            <p:spPr>
              <a:xfrm>
                <a:off x="6309720" y="1622520"/>
                <a:ext cx="288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50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78"/>
              <p:cNvSpPr/>
              <p:nvPr/>
            </p:nvSpPr>
            <p:spPr>
              <a:xfrm>
                <a:off x="6242760" y="1801800"/>
                <a:ext cx="430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Policy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79"/>
              <p:cNvSpPr/>
              <p:nvPr/>
            </p:nvSpPr>
            <p:spPr>
              <a:xfrm>
                <a:off x="6178680" y="1979640"/>
                <a:ext cx="578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Scenari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83"/>
              <p:cNvSpPr/>
              <p:nvPr/>
            </p:nvSpPr>
            <p:spPr>
              <a:xfrm>
                <a:off x="6251400" y="3021120"/>
                <a:ext cx="288000" cy="951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107"/>
              <p:cNvSpPr/>
              <p:nvPr/>
            </p:nvSpPr>
            <p:spPr>
              <a:xfrm>
                <a:off x="6251040" y="2611440"/>
                <a:ext cx="288000" cy="409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08"/>
              <p:cNvSpPr/>
              <p:nvPr/>
            </p:nvSpPr>
            <p:spPr>
              <a:xfrm>
                <a:off x="6251040" y="2248920"/>
                <a:ext cx="288000" cy="150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92"/>
              <p:cNvSpPr/>
              <p:nvPr/>
            </p:nvSpPr>
            <p:spPr>
              <a:xfrm>
                <a:off x="6634800" y="3438000"/>
                <a:ext cx="32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54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92"/>
              <p:cNvSpPr/>
              <p:nvPr/>
            </p:nvSpPr>
            <p:spPr>
              <a:xfrm>
                <a:off x="6619320" y="2718000"/>
                <a:ext cx="32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23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92"/>
              <p:cNvSpPr/>
              <p:nvPr/>
            </p:nvSpPr>
            <p:spPr>
              <a:xfrm>
                <a:off x="6612120" y="2433960"/>
                <a:ext cx="32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14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92"/>
              <p:cNvSpPr/>
              <p:nvPr/>
            </p:nvSpPr>
            <p:spPr>
              <a:xfrm>
                <a:off x="6697440" y="222552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9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108"/>
              <p:cNvSpPr/>
              <p:nvPr/>
            </p:nvSpPr>
            <p:spPr>
              <a:xfrm>
                <a:off x="6252480" y="2392920"/>
                <a:ext cx="288000" cy="216720"/>
              </a:xfrm>
              <a:prstGeom prst="rect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EA Work on Vehicle Efficiency Policy (1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92880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0099"/>
                </a:solidFill>
                <a:uFillTx/>
                <a:latin typeface="Arial"/>
              </a:rPr>
              <a:t>25 Energy Efficiency Policy Recommendations by IEA 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IEA recommends action 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Fuel-efficient ty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Mandatory fuel efficiency standards for light-duty veh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Fuel economy of heavy-duty veh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Eco-driv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Arial"/>
              </a:rPr>
              <a:t>Information papers: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Fuel-Efficient Road Vehicle Non-Engine Components - Potential Savings and Policy Recommendations</a:t>
            </a:r>
            <a:r>
              <a:rPr b="1" i="1" lang="en-GB" sz="18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(200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99"/>
                </a:solidFill>
                <a:uFillTx/>
                <a:latin typeface="Arial"/>
              </a:rPr>
              <a:t>Review of International Policies for Vehicle Fuel Efficiency 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(2008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EA Work on Vehicle Efficiency Policy (2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928800" y="1523880"/>
            <a:ext cx="7696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Arial"/>
              </a:rPr>
              <a:t>Workshops, within a wide range of advisory and promotional tasks designed to help countries to understand and implement the policy recommend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Three workshops on vehicle component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Energy Efficient Tyres: Improving the On-Road Performance of Motor Vehicles</a:t>
            </a: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,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 Paris, November, 200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Energy Efficiency Through Better Car Components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, Paris, June,200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0099"/>
                </a:solidFill>
                <a:uFillTx/>
                <a:latin typeface="Arial"/>
                <a:hlinkClick r:id="rId4"/>
              </a:rPr>
              <a:t>Cooling Cars with Less Fuel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, Paris, 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October, 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200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An international workshop on </a:t>
            </a: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5"/>
              </a:rPr>
              <a:t>Fuel Efficiency Policies for Heavy-Duty Vehicles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,  Paris, June 200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6"/>
              </a:rPr>
              <a:t>Workshop on </a:t>
            </a: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7"/>
              </a:rPr>
              <a:t>Ecodriving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, Paris, November 2007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EA Work on Vehicle Efficiency Policy (3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928800" y="1371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Arial"/>
              </a:rPr>
              <a:t>Forthcoming publication on transport policies and technologies (to be published in mid 2009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Objective: Identify policies and measures to improve on-road fuel efficiency. The contents will cov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ll transport modes such as road, rail, marine and 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Various energy sources such as fossil fuels, biofuels, hydrogen and electri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Technologies to improve energy effici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Policies to foster technology improvement and shift markets more energy efficient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1246320" y="5486400"/>
            <a:ext cx="2952720" cy="6476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4" y="0"/>
                </a:lnTo>
                <a:lnTo>
                  <a:pt x="21600" y="10800"/>
                </a:lnTo>
                <a:lnTo>
                  <a:pt x="206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4343400" y="5486400"/>
            <a:ext cx="1655640" cy="647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lnTo>
                  <a:pt x="2068" y="1080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6286680" y="5486400"/>
            <a:ext cx="1657080" cy="6476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lnTo>
                  <a:pt x="2068" y="1080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 rot="16200000">
            <a:off x="4369680" y="2075760"/>
            <a:ext cx="279360" cy="6526080"/>
          </a:xfrm>
          <a:custGeom>
            <a:avLst/>
            <a:gdLst>
              <a:gd name="textAreaLeft" fmla="*/ 0 w 279360"/>
              <a:gd name="textAreaRight" fmla="*/ 100800 w 279360"/>
              <a:gd name="textAreaTop" fmla="*/ 346320 h 6526080"/>
              <a:gd name="textAreaBottom" fmla="*/ 6179760 h 652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33"/>
                  <a:pt x="10800" y="3665"/>
                </a:cubicBezTo>
                <a:lnTo>
                  <a:pt x="10800" y="7033"/>
                </a:lnTo>
                <a:cubicBezTo>
                  <a:pt x="10800" y="8866"/>
                  <a:pt x="16200" y="10698"/>
                  <a:pt x="21600" y="10698"/>
                </a:cubicBezTo>
                <a:cubicBezTo>
                  <a:pt x="16200" y="10698"/>
                  <a:pt x="10800" y="12531"/>
                  <a:pt x="10800" y="14363"/>
                </a:cubicBezTo>
                <a:lnTo>
                  <a:pt x="10800" y="17935"/>
                </a:lnTo>
                <a:cubicBezTo>
                  <a:pt x="10800" y="197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363480" y="4767120"/>
            <a:ext cx="2212200" cy="3373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road fuel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2059920" y="54817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ed fue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4414680" y="5481720"/>
            <a:ext cx="17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l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compon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573960" y="548640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hav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Global Fuel Economy Initiativ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IEA and its partners launched the “Global Fuel Economy Initiative” on 4 March, 2009 in Geneva.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Partners: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OECD International Transport Forum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UN Environment Program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FIA Foundation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This initiative features four key elements: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Data development and analysis of fuel economy potentials by country, region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Support for national and regional policy-making efforts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Cooperation with stakeholders (e.g. vehicle manufacturers)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Information campaigns around the world to educate consumers, stakeholders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clusion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Without policy interventions, CO</a:t>
            </a:r>
            <a:r>
              <a:rPr b="1" lang="en-US" sz="2200" spc="-1" strike="noStrike" baseline="-25000">
                <a:solidFill>
                  <a:srgbClr val="330099"/>
                </a:solidFill>
                <a:latin typeface="Arial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 emissions and energy use in many countries will increase significantly by 2050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A number of effective policies and efficient technologies for CO</a:t>
            </a:r>
            <a:r>
              <a:rPr b="1" lang="en-US" sz="2200" spc="-1" strike="noStrike" baseline="-25000">
                <a:solidFill>
                  <a:srgbClr val="330099"/>
                </a:solidFill>
                <a:latin typeface="Arial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 reduction are already in place 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It is important to share and implement these “Best Practices” worldwide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EFV would help reduction of CO</a:t>
            </a:r>
            <a:r>
              <a:rPr b="1" lang="en-US" sz="2200" spc="-1" strike="noStrike" baseline="-25000">
                <a:solidFill>
                  <a:srgbClr val="330099"/>
                </a:solidFill>
                <a:latin typeface="Arial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 emissions and energy use through promotion of fuel efficient vehicles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7:50:23Z</dcterms:created>
  <dc:creator>BRADLEY_R</dc:creator>
  <dc:description/>
  <dc:language>en-US</dc:language>
  <cp:lastModifiedBy>Esser1</cp:lastModifiedBy>
  <dcterms:modified xsi:type="dcterms:W3CDTF">2009-04-24T11:43:17Z</dcterms:modified>
  <cp:revision>954</cp:revision>
  <dc:subject/>
  <dc:title>G-8 Preparatory Meeting</dc:title>
</cp:coreProperties>
</file>