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8F3-DB69-4520-8498-39B47979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055-08C0-4A5F-B38A-86E66FED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C0F-4F91-475A-8137-6F07F42D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6FB-51C1-4BB3-A6CA-6132CE4C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645E-3714-4110-9EB4-485E95EF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44C4-AD09-4178-9940-702FB0B5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510A-91E1-44E8-B84E-899D720D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B647-094D-4242-8ABE-489F1C42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9C2D-3C11-4916-9D08-DC2D120D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6076-B080-472D-A5AE-0422BA53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28B9-1F85-4BDF-AC2F-9CEAC7B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ED6-940B-4BD8-92B7-208100BE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58B3-80EA-4063-9BD3-2A1BFC0E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7AE9-8058-4F14-8323-EEFCDB7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E003-3D5C-47E9-A9F7-2985BFFE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F1EF-CDF4-445E-AED1-7F756910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4E26-9CFF-4FA6-A962-FA673002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0AF-1E3A-458A-B831-F6C3DE1C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C8B-EBE9-4763-AAF0-FD91DAAA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5BC-6626-44A3-ADF5-17B3024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3FE-1CA7-4110-9C1A-436A169D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9BF-0010-4F2E-A5E5-83048C4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A34-FA29-4E63-8BD2-99C1C518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8D7-ADC8-4719-BF7E-03E802A3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469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9736-00F5-4666-A77F-9523C6EB2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BC4-B202-4A58-9F40-EE5F2B4B9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4125960"/>
            <a:ext cx="4267440" cy="265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4202280"/>
            <a:ext cx="4267440" cy="2655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en-US" sz="49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US" sz="4900" spc="-1" strike="noStrike">
                <a:solidFill>
                  <a:srgbClr val="3366ff"/>
                </a:solidFill>
                <a:latin typeface="Arial"/>
              </a:rPr>
              <a:t> Environmentally Friendly Vehicles Conferenc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362320"/>
            <a:ext cx="716292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Presentatio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Mr. Vikram Gulati,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epartment of Heavy Industry, Government of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9900"/>
                </a:solidFill>
                <a:latin typeface="Arial"/>
              </a:rPr>
              <a:t>22</a:t>
            </a:r>
            <a:r>
              <a:rPr b="0" lang="de-DE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de-DE" sz="1600" spc="-1" strike="noStrike">
                <a:solidFill>
                  <a:srgbClr val="009900"/>
                </a:solidFill>
                <a:latin typeface="Arial"/>
              </a:rPr>
              <a:t> &amp;23</a:t>
            </a:r>
            <a:r>
              <a:rPr b="0" lang="de-DE" sz="1600" spc="-1" strike="noStrike" baseline="30000">
                <a:solidFill>
                  <a:srgbClr val="009900"/>
                </a:solidFill>
                <a:latin typeface="Arial"/>
              </a:rPr>
              <a:t>rd</a:t>
            </a:r>
            <a:r>
              <a:rPr b="0" lang="de-DE" sz="1600" spc="-1" strike="noStrike">
                <a:solidFill>
                  <a:srgbClr val="009900"/>
                </a:solidFill>
                <a:latin typeface="Arial"/>
              </a:rPr>
              <a:t> April 2009 | 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ing paper N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V-04-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th Meeting, 22/23 April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Draft Content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 1 - 23.11.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ugural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note on Industry Approach to EFV: Need for EFVs &amp; Global Persp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&amp; Environment – Role of EF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V – future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fuels &amp; Dr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y 2 - 24.11.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eous Fuels Technology – Technology of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of electric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y &amp; Legislative Framework  for EFV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n Industry and Government Collaboration for EFVs. (Views from Developing &amp; Developed N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edictory Session (Handing over of Ba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Importa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462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s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June 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October 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for participating in Exposition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October 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ank You!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“Look forward to meeting you at</a:t>
            </a:r>
            <a:br>
              <a:rPr sz="32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New Delhi in Nov 09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495252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further questions please contac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r Vikram Gul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ikramgulati11@rediff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rector, D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00400" y="152280"/>
            <a:ext cx="23623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experiences on ongoing measures for promoting / introducing environmentally friendly vehi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hange experiences in developing problem analysis of legal and economic frameworks for introduction of EF vehicles and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ndo-German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Joint Declaration of Intent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tion and Exchange of information/data on organisational aspects of the ev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 the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Activities to identify host for the 5th EFV Conference and to share data &amp; information of 3rd &amp; 4th EFV Conference with the next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91636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4120" y="5943600"/>
            <a:ext cx="358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ng of the Joint Declaration by Dr Hahn, DG, Federal Republic of Germany &amp; Dr Mitra, Additional secretary, DHI , G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4th EFV Conference 09 </a:t>
            </a: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-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ferenc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3 - 24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ference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tel The Ashok, Chanakyapuri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itage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ly 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port - 15 K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bi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5 ~ 25 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5181480"/>
            <a:ext cx="8763120" cy="16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66ff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33920" cy="4724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cted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~ 500 dele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otiv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ergy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ad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019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EFV 2009 - Exhib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ion Area ~ 15,000 sq. 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how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of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s / Motorcycles / Heavy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76960" y="1676520"/>
            <a:ext cx="34621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Organising </a:t>
            </a: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en-US" sz="40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EFV Conference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– Industry Joint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three committ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ex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ing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chnical Committ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The Apex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Road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Environment &amp; Fo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New &amp; Renewable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Urban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Ministry of Petroleum &amp; Natural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retary, Department of Science &amp;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Raghu Mody, Ex President, AC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Pawan Goenka, Chairman, Automotive Research Association of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Ravi Kant, President, Society of Indian Automobile Manufacturers (SI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J S Chopra, President, Automotive Component Manufacturers Association (AC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Working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r Surajit Mitra, Additional Secretary (Heavy Industries) -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irector (Heavy Industries) - Member Secr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Secretary / Director (MoSRTH, MoEF, MNRE, MoUD, MoP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G, Petro-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irector, AR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CEO, NA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, 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Dilip Chenoy, DG, S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Vishnu Mathur, ED, AC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kram G, DH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0:52:33Z</dcterms:created>
  <dc:creator>Parthaa</dc:creator>
  <dc:description/>
  <dc:language>en-US</dc:language>
  <cp:lastModifiedBy>Esser1</cp:lastModifiedBy>
  <dcterms:modified xsi:type="dcterms:W3CDTF">2009-04-24T11:38:32Z</dcterms:modified>
  <cp:revision>11</cp:revision>
  <dc:subject/>
  <dc:title>4th Environmentally Friendly Vehicles Conference</dc:title>
</cp:coreProperties>
</file>