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4DAD5-EC47-41AA-825C-A28FFD20A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AF13E-8A97-4DA9-BF18-8BEA7153F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5E7BF-5023-44AB-8F3B-C2E37343B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935A5-3CFD-45CB-9D08-099E499E6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E41DF-4810-492F-A7BD-72A8A6ADD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EDFB4-38D7-4BD6-828A-12B84DDDE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18792-647E-48D8-9765-EE945EE0F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649A8-08A8-48EC-8CCA-9944DD51F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F8D72-BB12-4115-848D-F7B53034F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A66CF-BCF3-4141-84DE-A7CF0CBD9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15A3D-41C3-4665-8317-4339598DB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796F9-F541-4CEF-8590-0F6F30563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92F0A-9AEA-44D0-A28C-1DCE8164D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4D1B5-9693-42B8-9D41-E43BEBBD3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B6526-0234-48D6-80BE-CBCC08258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AD58C-296A-4AF4-97A7-BB097045E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5D5AC-7EF0-4BA5-813D-E7A272D79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1CC5E-D365-447C-88D5-80469BBE2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836AF-2CE5-46F6-B8DA-C0869F0E2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37D98-A6FF-43F4-AE78-10403EDDD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EBE79-4126-4BD5-8B4B-EF2DE6F88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FD081-68C6-4B47-A787-787527A94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B0589-629F-4DF0-85FA-6FF89B022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AEFE9-AD82-4131-A0D6-EDD050A92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50000">
              <a:srgbClr val="ffffff"/>
            </a:gs>
            <a:gs pos="100000">
              <a:srgbClr val="7575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6781680" y="0"/>
            <a:ext cx="2362320" cy="14698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17DCD-EB5C-411C-91EC-35C2D0553C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50000">
              <a:srgbClr val="ffffff"/>
            </a:gs>
            <a:gs pos="100000">
              <a:srgbClr val="7575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B57E7-6D2D-42AD-B319-75E15E7FB9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438280" y="4125960"/>
            <a:ext cx="4267440" cy="26557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50000">
              <a:srgbClr val="ffffff"/>
            </a:gs>
            <a:gs pos="100000">
              <a:srgbClr val="7575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2438280" y="4202280"/>
            <a:ext cx="4267440" cy="26557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610480" cy="20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3366ff"/>
                </a:solidFill>
                <a:latin typeface="Arial"/>
              </a:rPr>
              <a:t>4</a:t>
            </a:r>
            <a:r>
              <a:rPr b="1" lang="en-US" sz="4900" spc="-1" strike="noStrike" baseline="30000">
                <a:solidFill>
                  <a:srgbClr val="3366ff"/>
                </a:solidFill>
                <a:latin typeface="Arial"/>
              </a:rPr>
              <a:t>th</a:t>
            </a:r>
            <a:r>
              <a:rPr b="1" lang="en-US" sz="4900" spc="-1" strike="noStrike">
                <a:solidFill>
                  <a:srgbClr val="3366ff"/>
                </a:solidFill>
                <a:latin typeface="Arial"/>
              </a:rPr>
              <a:t> Environmentally Friendly Vehicles Conferenc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38080" y="2362320"/>
            <a:ext cx="7162920" cy="17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Presentation 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Mr. Vikram Gulati, Dire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Department of Heavy Industry, Government of Ind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9900"/>
                </a:solidFill>
                <a:latin typeface="Arial"/>
              </a:rPr>
              <a:t>22</a:t>
            </a:r>
            <a:r>
              <a:rPr b="0" lang="de-DE" sz="1600" spc="-1" strike="noStrike" baseline="30000">
                <a:solidFill>
                  <a:srgbClr val="009900"/>
                </a:solidFill>
                <a:latin typeface="Arial"/>
              </a:rPr>
              <a:t>nd</a:t>
            </a:r>
            <a:r>
              <a:rPr b="0" lang="de-DE" sz="1600" spc="-1" strike="noStrike">
                <a:solidFill>
                  <a:srgbClr val="009900"/>
                </a:solidFill>
                <a:latin typeface="Arial"/>
              </a:rPr>
              <a:t> &amp;23</a:t>
            </a:r>
            <a:r>
              <a:rPr b="0" lang="de-DE" sz="1600" spc="-1" strike="noStrike" baseline="30000">
                <a:solidFill>
                  <a:srgbClr val="009900"/>
                </a:solidFill>
                <a:latin typeface="Arial"/>
              </a:rPr>
              <a:t>rd</a:t>
            </a:r>
            <a:r>
              <a:rPr b="0" lang="de-DE" sz="1600" spc="-1" strike="noStrike">
                <a:solidFill>
                  <a:srgbClr val="009900"/>
                </a:solidFill>
                <a:latin typeface="Arial"/>
              </a:rPr>
              <a:t> April 2009 | Bruss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172200" y="0"/>
            <a:ext cx="2971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Working paper No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FV-04-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GRPE Informal Group on EFV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th Meeting, 22/23 April 2009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Vikram G, DH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50000">
              <a:srgbClr val="ffffff"/>
            </a:gs>
            <a:gs pos="100000">
              <a:srgbClr val="7575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61722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ff"/>
                </a:solidFill>
                <a:latin typeface="Arial"/>
              </a:rPr>
              <a:t>Draft Content 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066680"/>
            <a:ext cx="8077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ay 1 - 23.11.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augural Add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ynote on Industry Approach to EFV: Need for EFVs &amp; Global Perspectiv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ssions 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bility &amp; Environment – Role of EFV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FV – future scenari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ternative fuels &amp; Driv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ay 2 - 24.11.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ssions 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seous Fuels Technology – Technology of Fu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ture of electric vehic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ulatory &amp; Legislative Framework  for EFV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cussion on Industry and Government Collaboration for EFVs. (Views from Developing &amp; Developed Natio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aledictory Session (Handing over of Bat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kram G, DH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757575"/>
            </a:gs>
            <a:gs pos="50000">
              <a:srgbClr val="ffffff"/>
            </a:gs>
            <a:gs pos="100000">
              <a:srgbClr val="7575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ff"/>
                </a:solidFill>
                <a:latin typeface="Arial"/>
              </a:rPr>
              <a:t>Importan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3366ff"/>
                </a:solidFill>
                <a:latin typeface="Arial"/>
              </a:rPr>
              <a:t>D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7720" y="1646280"/>
            <a:ext cx="7620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stracts by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23</a:t>
            </a:r>
            <a:r>
              <a:rPr b="0" lang="en-US" sz="3200" spc="-1" strike="noStrike" baseline="30000">
                <a:solidFill>
                  <a:srgbClr val="ff0000"/>
                </a:solidFill>
                <a:latin typeface="Arial"/>
              </a:rPr>
              <a:t>rd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June 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s by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23</a:t>
            </a:r>
            <a:r>
              <a:rPr b="0" lang="en-US" sz="3200" spc="-1" strike="noStrike" baseline="30000">
                <a:solidFill>
                  <a:srgbClr val="ff0000"/>
                </a:solidFill>
                <a:latin typeface="Arial"/>
              </a:rPr>
              <a:t>rd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October 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firmation for participating in Exposition by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15</a:t>
            </a:r>
            <a:r>
              <a:rPr b="0" lang="en-US" sz="3200" spc="-1" strike="noStrike" baseline="30000">
                <a:solidFill>
                  <a:srgbClr val="ff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October 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kram G, DHI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50000">
              <a:srgbClr val="ffffff"/>
            </a:gs>
            <a:gs pos="100000">
              <a:srgbClr val="7575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ff"/>
                </a:solidFill>
                <a:latin typeface="Arial"/>
              </a:rPr>
              <a:t>Thank You!</a:t>
            </a:r>
            <a:br>
              <a:rPr sz="4000"/>
            </a:br>
            <a:br>
              <a:rPr sz="4000"/>
            </a:br>
            <a:r>
              <a:rPr b="1" lang="en-US" sz="3200" spc="-1" strike="noStrike">
                <a:solidFill>
                  <a:srgbClr val="3366ff"/>
                </a:solidFill>
                <a:latin typeface="Arial"/>
              </a:rPr>
              <a:t>“Look forward to meeting you at</a:t>
            </a:r>
            <a:br>
              <a:rPr sz="3200"/>
            </a:br>
            <a:r>
              <a:rPr b="1" lang="en-US" sz="3200" spc="-1" strike="noStrike">
                <a:solidFill>
                  <a:srgbClr val="3366ff"/>
                </a:solidFill>
                <a:latin typeface="Arial"/>
              </a:rPr>
              <a:t>New Delhi in Nov 09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0" y="4952520"/>
            <a:ext cx="4114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or further questions please contac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Mr Vikram Gulat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vikramgulati11@rediffmail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irector, DH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200400" y="152280"/>
            <a:ext cx="2362320" cy="2221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kram G, DH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50000">
              <a:srgbClr val="ffffff"/>
            </a:gs>
            <a:gs pos="100000">
              <a:srgbClr val="7575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ff"/>
                </a:solidFill>
                <a:latin typeface="Arial"/>
              </a:rPr>
              <a:t>Backgrou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bjectiv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hare experiences on ongoing measures for promoting / introducing environmentally friendly vehicl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xchange experiences in developing problem analysis of legal and economic frameworks for introduction of EF vehicles and technolog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kram G, DH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50000">
              <a:srgbClr val="ffffff"/>
            </a:gs>
            <a:gs pos="100000">
              <a:srgbClr val="7575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ff"/>
                </a:solidFill>
                <a:latin typeface="Arial"/>
              </a:rPr>
              <a:t>Indo-German </a:t>
            </a:r>
            <a:br>
              <a:rPr sz="3600"/>
            </a:br>
            <a:r>
              <a:rPr b="1" lang="en-US" sz="3600" spc="-1" strike="noStrike">
                <a:solidFill>
                  <a:srgbClr val="3366ff"/>
                </a:solidFill>
                <a:latin typeface="Arial"/>
              </a:rPr>
              <a:t>Joint Declaration of Intent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510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operation and Exchange of information/data on organisational aspects of the even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hare the Learning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굴림"/>
              </a:rPr>
              <a:t>Activities to identify host for the 5th EFV Conference and to share data &amp; information of 3rd &amp; 4th EFV Conference with the next ho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5486400" y="1600200"/>
            <a:ext cx="2916360" cy="43434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5334120" y="5943600"/>
            <a:ext cx="3581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gning of the Joint Declaration by Dr Hahn, DG, Federal Republic of Germany &amp; Dr Mitra, Additional secretary, DHI , Go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kram G, DH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50000">
              <a:srgbClr val="ffffff"/>
            </a:gs>
            <a:gs pos="100000">
              <a:srgbClr val="7575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1920" y="27432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ff"/>
                </a:solidFill>
                <a:latin typeface="Arial"/>
              </a:rPr>
              <a:t>4th EFV Conference 09 </a:t>
            </a:r>
            <a:br>
              <a:rPr sz="4000"/>
            </a:br>
            <a:r>
              <a:rPr b="1" lang="en-US" sz="4000" spc="-1" strike="noStrike">
                <a:solidFill>
                  <a:srgbClr val="3366ff"/>
                </a:solidFill>
                <a:latin typeface="Arial"/>
              </a:rPr>
              <a:t>- Detai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Conference D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23 - 24 November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Conference Ven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Hotel The Ashok, Chanakyapuri -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eritage Hot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entrally loc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irport - 15 K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mbient Temper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15 ~ 25 </a:t>
            </a:r>
            <a:r>
              <a:rPr b="0" lang="de-DE" sz="24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52280" y="5181480"/>
            <a:ext cx="8763120" cy="1611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kram G, DH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50000">
              <a:srgbClr val="ffffff"/>
            </a:gs>
            <a:gs pos="100000">
              <a:srgbClr val="7575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3366ff"/>
                </a:solidFill>
                <a:latin typeface="Arial"/>
              </a:rPr>
              <a:t>Over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4952880" y="1600200"/>
            <a:ext cx="3733920" cy="472428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4956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xpected Particip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~ 500 deleg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Gover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Research and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utomotive Indus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Energy Suppli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cadem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kram G, DH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50000">
              <a:srgbClr val="ffffff"/>
            </a:gs>
            <a:gs pos="100000">
              <a:srgbClr val="7575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601992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ff"/>
                </a:solidFill>
                <a:latin typeface="Arial"/>
              </a:rPr>
              <a:t>EFV 2009 - Exhib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4876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hibition Area ~ 15,000 sq. f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chnology Show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play of vehic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s / Motorcycles / Heavy Vehic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 Dr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376960" y="1676520"/>
            <a:ext cx="3462120" cy="4572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kram G, DH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50000">
              <a:srgbClr val="ffffff"/>
            </a:gs>
            <a:gs pos="100000">
              <a:srgbClr val="7575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ff"/>
                </a:solidFill>
                <a:latin typeface="Arial"/>
              </a:rPr>
              <a:t>Organising </a:t>
            </a:r>
            <a:br>
              <a:rPr sz="4000"/>
            </a:br>
            <a:r>
              <a:rPr b="1" lang="en-US" sz="4000" spc="-1" strike="noStrike">
                <a:solidFill>
                  <a:srgbClr val="3366ff"/>
                </a:solidFill>
                <a:latin typeface="Arial"/>
              </a:rPr>
              <a:t>4</a:t>
            </a:r>
            <a:r>
              <a:rPr b="1" lang="en-US" sz="4000" spc="-1" strike="noStrike" baseline="30000">
                <a:solidFill>
                  <a:srgbClr val="3366ff"/>
                </a:solidFill>
                <a:latin typeface="Arial"/>
              </a:rPr>
              <a:t>th</a:t>
            </a:r>
            <a:r>
              <a:rPr b="1" lang="en-US" sz="4000" spc="-1" strike="noStrike">
                <a:solidFill>
                  <a:srgbClr val="3366ff"/>
                </a:solidFill>
                <a:latin typeface="Arial"/>
              </a:rPr>
              <a:t> EFV Conference 200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vernment – Industry Joint eff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ation of three committe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pex Committe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Working Committe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Technical Committe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kram G, DH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50000">
              <a:srgbClr val="ffffff"/>
            </a:gs>
            <a:gs pos="100000">
              <a:srgbClr val="7575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ff"/>
                </a:solidFill>
                <a:latin typeface="Arial"/>
              </a:rPr>
              <a:t>The Apex Advisory Committe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just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Secretary, Ministry of Road Transpor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Secretary, Ministry of Environment &amp; Fores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Secretary, Ministry of New &amp; Renewable Energ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Secretary, Ministry of Urban Develop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Secretary, Ministry of Petroleum &amp; Natural G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Secretary, Department of Science &amp;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r Raghu Mody, Ex President, AC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r Pawan Goenka, Chairman, Automotive Research Association of Ind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r Ravi Kant, President, Society of Indian Automobile Manufacturers (SIA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r J S Chopra, President, Automotive Component Manufacturers Association (ACM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kram G, DH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50000">
              <a:srgbClr val="ffffff"/>
            </a:gs>
            <a:gs pos="100000">
              <a:srgbClr val="7575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715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ff"/>
                </a:solidFill>
                <a:latin typeface="Arial"/>
              </a:rPr>
              <a:t>Working Committe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Dr Surajit Mitra, Additional Secretary (Heavy Industries) - Chairm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Director (Heavy Industries) - Member Secret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Joint Secretary / Director (MoSRTH, MoEF, MNRE, MoUD, MoP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DG, Petro-F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00"/>
                </a:solidFill>
                <a:latin typeface="Arial"/>
              </a:rPr>
              <a:t>Director, ARA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00"/>
                </a:solidFill>
                <a:latin typeface="Arial"/>
              </a:rPr>
              <a:t>CEO, NATR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ident, T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r Dilip Chenoy, DG, SI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r Vishnu Mathur, ED, AC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kram G, DH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7T10:52:33Z</dcterms:created>
  <dc:creator>Parthaa</dc:creator>
  <dc:description/>
  <dc:language>en-US</dc:language>
  <cp:lastModifiedBy>Esser1</cp:lastModifiedBy>
  <dcterms:modified xsi:type="dcterms:W3CDTF">2009-04-24T11:38:32Z</dcterms:modified>
  <cp:revision>11</cp:revision>
  <dc:subject/>
  <dc:title>4th Environmentally Friendly Vehicles Conference</dc:title>
</cp:coreProperties>
</file>