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0E70-E39F-466C-8681-4748E29567B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6E96-0333-4154-A01D-606AE13BD63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8976-6633-4764-9103-0A6E443B5A8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CA94-362E-4257-8A0E-D71F4F07149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7C61-6DA7-4838-B2A3-789CEE5F3ED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CBF1-E66D-4BD7-B300-D11F50583EE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72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of AFS &amp; APL at the 6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E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10"/>
          <p:cNvGraphicFramePr/>
          <p:nvPr/>
        </p:nvGraphicFramePr>
        <p:xfrm>
          <a:off x="8253360" y="0"/>
          <a:ext cx="878040" cy="63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3360" y="0"/>
                    <a:ext cx="8780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Text Box 11"/>
          <p:cNvSpPr/>
          <p:nvPr/>
        </p:nvSpPr>
        <p:spPr>
          <a:xfrm>
            <a:off x="4540320" y="554040"/>
            <a:ext cx="41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 Black"/>
                <a:ea typeface="Gungsuh"/>
              </a:rPr>
              <a:t>JAPAN AUTOMOBILE STANDARDS INTERNATIONALIZATION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676440" y="1676520"/>
            <a:ext cx="8086680" cy="54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of motorcycle AP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mber Position Lam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ate: 2009/03/31 (Tue) at 12:30 (before lunc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lace: the precincts of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of motorcycle AF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daptive Front-lighting System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ate: 2009/03/31 (Tue) after the end of today’s  s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lace: the precincts of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Rain date: 2009/04/01(W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4319640" y="1733400"/>
            <a:ext cx="46101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ary observation: the subjects observe the demo vehicle, which is to be set about 100m ah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ehicle is equipped with APL reciprocally incorporated with front direction lamps, and WPL (standard). PLs can be switched from white to amber and vice versa manual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04720" y="1000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of motorcycle 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76704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7"/>
          <p:cNvGrpSpPr/>
          <p:nvPr/>
        </p:nvGrpSpPr>
        <p:grpSpPr>
          <a:xfrm>
            <a:off x="5319720" y="3948120"/>
            <a:ext cx="2384280" cy="2171520"/>
            <a:chOff x="5319720" y="3948120"/>
            <a:chExt cx="2384280" cy="2171520"/>
          </a:xfrm>
        </p:grpSpPr>
        <p:pic>
          <p:nvPicPr>
            <p:cNvPr id="52" name="Picture 10" descr=""/>
            <p:cNvPicPr/>
            <p:nvPr/>
          </p:nvPicPr>
          <p:blipFill>
            <a:blip r:embed="rId1"/>
            <a:stretch/>
          </p:blipFill>
          <p:spPr>
            <a:xfrm>
              <a:off x="5319720" y="3948120"/>
              <a:ext cx="1609560" cy="217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Group 12"/>
            <p:cNvGrpSpPr/>
            <p:nvPr/>
          </p:nvGrpSpPr>
          <p:grpSpPr>
            <a:xfrm>
              <a:off x="6303960" y="4021200"/>
              <a:ext cx="1400040" cy="1600200"/>
              <a:chOff x="6303960" y="4021200"/>
              <a:chExt cx="1400040" cy="1600200"/>
            </a:xfrm>
          </p:grpSpPr>
          <p:sp>
            <p:nvSpPr>
              <p:cNvPr id="54" name="AutoShape 13"/>
              <p:cNvSpPr/>
              <p:nvPr/>
            </p:nvSpPr>
            <p:spPr>
              <a:xfrm>
                <a:off x="7131600" y="4021200"/>
                <a:ext cx="543240" cy="342720"/>
              </a:xfrm>
              <a:prstGeom prst="wedgeRectCallout">
                <a:avLst>
                  <a:gd name="adj1" fmla="val -191939"/>
                  <a:gd name="adj2" fmla="val 18555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WP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utoShape 14"/>
              <p:cNvSpPr/>
              <p:nvPr/>
            </p:nvSpPr>
            <p:spPr>
              <a:xfrm>
                <a:off x="7131600" y="5278680"/>
                <a:ext cx="572400" cy="342720"/>
              </a:xfrm>
              <a:prstGeom prst="wedgeRectCallout">
                <a:avLst>
                  <a:gd name="adj1" fmla="val -176384"/>
                  <a:gd name="adj2" fmla="val -9777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AP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15"/>
              <p:cNvSpPr/>
              <p:nvPr/>
            </p:nvSpPr>
            <p:spPr>
              <a:xfrm>
                <a:off x="6303960" y="4793400"/>
                <a:ext cx="84960" cy="84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16"/>
              <p:cNvSpPr/>
              <p:nvPr/>
            </p:nvSpPr>
            <p:spPr>
              <a:xfrm>
                <a:off x="6367680" y="5080320"/>
                <a:ext cx="84960" cy="84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8" name="Picture 21" descr=""/>
          <p:cNvPicPr/>
          <p:nvPr/>
        </p:nvPicPr>
        <p:blipFill>
          <a:blip r:embed="rId2"/>
          <a:srcRect l="6206" t="0" r="31031" b="1636"/>
          <a:stretch/>
        </p:blipFill>
        <p:spPr>
          <a:xfrm>
            <a:off x="247680" y="1781280"/>
            <a:ext cx="36399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0" r="1410" b="926"/>
          <a:stretch/>
        </p:blipFill>
        <p:spPr>
          <a:xfrm>
            <a:off x="1285920" y="1914480"/>
            <a:ext cx="2516040" cy="384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0" t="0" r="1369" b="924"/>
          <a:stretch/>
        </p:blipFill>
        <p:spPr>
          <a:xfrm>
            <a:off x="5200560" y="1889280"/>
            <a:ext cx="2592360" cy="3859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314360" y="5934240"/>
            <a:ext cx="26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ing beam headlamp + white position l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257800" y="593424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ing beam headlamp + amber position l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952720" y="1143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ing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ree"/>
          <p:cNvSpPr/>
          <p:nvPr/>
        </p:nvSpPr>
        <p:spPr>
          <a:xfrm>
            <a:off x="2523960" y="176220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ree"/>
          <p:cNvSpPr/>
          <p:nvPr/>
        </p:nvSpPr>
        <p:spPr>
          <a:xfrm>
            <a:off x="219240" y="1409760"/>
            <a:ext cx="2600280" cy="2457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ree"/>
          <p:cNvSpPr/>
          <p:nvPr/>
        </p:nvSpPr>
        <p:spPr>
          <a:xfrm>
            <a:off x="4172040" y="2171880"/>
            <a:ext cx="1495440" cy="12855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ree"/>
          <p:cNvSpPr/>
          <p:nvPr/>
        </p:nvSpPr>
        <p:spPr>
          <a:xfrm>
            <a:off x="5591160" y="2467080"/>
            <a:ext cx="1104840" cy="9334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ree"/>
          <p:cNvSpPr/>
          <p:nvPr/>
        </p:nvSpPr>
        <p:spPr>
          <a:xfrm>
            <a:off x="6772320" y="2781360"/>
            <a:ext cx="723960" cy="600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ree"/>
          <p:cNvSpPr/>
          <p:nvPr/>
        </p:nvSpPr>
        <p:spPr>
          <a:xfrm>
            <a:off x="7620120" y="2962440"/>
            <a:ext cx="466560" cy="409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65"/>
          <p:cNvGrpSpPr/>
          <p:nvPr/>
        </p:nvGrpSpPr>
        <p:grpSpPr>
          <a:xfrm>
            <a:off x="985320" y="3728880"/>
            <a:ext cx="5753160" cy="2728800"/>
            <a:chOff x="985320" y="3728880"/>
            <a:chExt cx="5753160" cy="2728800"/>
          </a:xfrm>
        </p:grpSpPr>
        <p:sp>
          <p:nvSpPr>
            <p:cNvPr id="71" name="AutoShape 60"/>
            <p:cNvSpPr/>
            <p:nvPr/>
          </p:nvSpPr>
          <p:spPr>
            <a:xfrm rot="5400000">
              <a:off x="2837880" y="1875960"/>
              <a:ext cx="2047680" cy="5753160"/>
            </a:xfrm>
            <a:prstGeom prst="flowChartDelay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36"/>
            <p:cNvGrpSpPr/>
            <p:nvPr/>
          </p:nvGrpSpPr>
          <p:grpSpPr>
            <a:xfrm>
              <a:off x="3019320" y="4371840"/>
              <a:ext cx="1676520" cy="2085840"/>
              <a:chOff x="3019320" y="4371840"/>
              <a:chExt cx="1676520" cy="2085840"/>
            </a:xfrm>
          </p:grpSpPr>
          <p:grpSp>
            <p:nvGrpSpPr>
              <p:cNvPr id="73" name="Group 35"/>
              <p:cNvGrpSpPr/>
              <p:nvPr/>
            </p:nvGrpSpPr>
            <p:grpSpPr>
              <a:xfrm>
                <a:off x="3019320" y="4371840"/>
                <a:ext cx="1676520" cy="1838160"/>
                <a:chOff x="3019320" y="4371840"/>
                <a:chExt cx="1676520" cy="1838160"/>
              </a:xfrm>
            </p:grpSpPr>
            <p:sp>
              <p:nvSpPr>
                <p:cNvPr id="74" name="Rectangle 21"/>
                <p:cNvSpPr/>
                <p:nvPr/>
              </p:nvSpPr>
              <p:spPr>
                <a:xfrm>
                  <a:off x="3133800" y="5581440"/>
                  <a:ext cx="1438200" cy="8892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AutoShape 20"/>
                <p:cNvSpPr/>
                <p:nvPr/>
              </p:nvSpPr>
              <p:spPr>
                <a:xfrm>
                  <a:off x="3409920" y="5714640"/>
                  <a:ext cx="895320" cy="495360"/>
                </a:xfrm>
                <a:prstGeom prst="hexagon">
                  <a:avLst>
                    <a:gd name="adj" fmla="val 30500"/>
                    <a:gd name="vf" fmla="val 11547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3019320" y="5448240"/>
                  <a:ext cx="362160" cy="2952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24"/>
                <p:cNvSpPr/>
                <p:nvPr/>
              </p:nvSpPr>
              <p:spPr>
                <a:xfrm>
                  <a:off x="4334040" y="5438520"/>
                  <a:ext cx="361800" cy="2952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Rectangle 25"/>
                <p:cNvSpPr/>
                <p:nvPr/>
              </p:nvSpPr>
              <p:spPr>
                <a:xfrm rot="3502800">
                  <a:off x="4143240" y="5333760"/>
                  <a:ext cx="485640" cy="1332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26"/>
                <p:cNvSpPr/>
                <p:nvPr/>
              </p:nvSpPr>
              <p:spPr>
                <a:xfrm rot="7198200">
                  <a:off x="3094920" y="5343120"/>
                  <a:ext cx="485640" cy="1335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AutoShape 19"/>
                <p:cNvSpPr/>
                <p:nvPr/>
              </p:nvSpPr>
              <p:spPr>
                <a:xfrm>
                  <a:off x="3390840" y="4838400"/>
                  <a:ext cx="933480" cy="876240"/>
                </a:xfrm>
                <a:prstGeom prst="pentag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AutoShape 18"/>
                <p:cNvSpPr/>
                <p:nvPr/>
              </p:nvSpPr>
              <p:spPr>
                <a:xfrm rot="16200000">
                  <a:off x="3552840" y="4352760"/>
                  <a:ext cx="590400" cy="628560"/>
                </a:xfrm>
                <a:prstGeom prst="flowChartDelay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Group 30"/>
              <p:cNvGrpSpPr/>
              <p:nvPr/>
            </p:nvGrpSpPr>
            <p:grpSpPr>
              <a:xfrm>
                <a:off x="3467160" y="6200640"/>
                <a:ext cx="771480" cy="257040"/>
                <a:chOff x="3467160" y="6200640"/>
                <a:chExt cx="771480" cy="257040"/>
              </a:xfrm>
            </p:grpSpPr>
            <p:sp>
              <p:nvSpPr>
                <p:cNvPr id="83" name="AutoShape 28"/>
                <p:cNvSpPr/>
                <p:nvPr/>
              </p:nvSpPr>
              <p:spPr>
                <a:xfrm>
                  <a:off x="3467160" y="6200640"/>
                  <a:ext cx="771480" cy="25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29"/>
                <p:cNvSpPr/>
                <p:nvPr/>
              </p:nvSpPr>
              <p:spPr>
                <a:xfrm>
                  <a:off x="3686040" y="6200640"/>
                  <a:ext cx="343080" cy="2570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5" name="Group 81"/>
          <p:cNvGrpSpPr/>
          <p:nvPr/>
        </p:nvGrpSpPr>
        <p:grpSpPr>
          <a:xfrm>
            <a:off x="1521000" y="3830760"/>
            <a:ext cx="5752800" cy="2755800"/>
            <a:chOff x="1521000" y="3830760"/>
            <a:chExt cx="5752800" cy="2755800"/>
          </a:xfrm>
        </p:grpSpPr>
        <p:sp>
          <p:nvSpPr>
            <p:cNvPr id="86" name="AutoShape 64"/>
            <p:cNvSpPr/>
            <p:nvPr/>
          </p:nvSpPr>
          <p:spPr>
            <a:xfrm rot="5400000">
              <a:off x="3373560" y="1977840"/>
              <a:ext cx="2047680" cy="5752800"/>
            </a:xfrm>
            <a:prstGeom prst="flowChartDelay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Group 67"/>
            <p:cNvGrpSpPr/>
            <p:nvPr/>
          </p:nvGrpSpPr>
          <p:grpSpPr>
            <a:xfrm>
              <a:off x="3143880" y="4409280"/>
              <a:ext cx="1703520" cy="2177280"/>
              <a:chOff x="3143880" y="4409280"/>
              <a:chExt cx="1703520" cy="2177280"/>
            </a:xfrm>
          </p:grpSpPr>
          <p:grpSp>
            <p:nvGrpSpPr>
              <p:cNvPr id="88" name="Group 68"/>
              <p:cNvGrpSpPr/>
              <p:nvPr/>
            </p:nvGrpSpPr>
            <p:grpSpPr>
              <a:xfrm>
                <a:off x="3143880" y="4409280"/>
                <a:ext cx="1703520" cy="1945440"/>
                <a:chOff x="3143880" y="4409280"/>
                <a:chExt cx="1703520" cy="1945440"/>
              </a:xfrm>
            </p:grpSpPr>
            <p:sp>
              <p:nvSpPr>
                <p:cNvPr id="89" name="Rectangle 69"/>
                <p:cNvSpPr/>
                <p:nvPr/>
              </p:nvSpPr>
              <p:spPr>
                <a:xfrm rot="610800">
                  <a:off x="3265560" y="5655240"/>
                  <a:ext cx="1437840" cy="8892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70"/>
                <p:cNvSpPr/>
                <p:nvPr/>
              </p:nvSpPr>
              <p:spPr>
                <a:xfrm rot="610800">
                  <a:off x="3481920" y="5783760"/>
                  <a:ext cx="894960" cy="495360"/>
                </a:xfrm>
                <a:prstGeom prst="hexagon">
                  <a:avLst>
                    <a:gd name="adj" fmla="val 30488"/>
                    <a:gd name="vf" fmla="val 11547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Oval 71"/>
                <p:cNvSpPr/>
                <p:nvPr/>
              </p:nvSpPr>
              <p:spPr>
                <a:xfrm rot="610800">
                  <a:off x="3166920" y="5407200"/>
                  <a:ext cx="361800" cy="2952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Oval 72"/>
                <p:cNvSpPr/>
                <p:nvPr/>
              </p:nvSpPr>
              <p:spPr>
                <a:xfrm rot="610800">
                  <a:off x="4462560" y="5630040"/>
                  <a:ext cx="361440" cy="2952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73"/>
                <p:cNvSpPr/>
                <p:nvPr/>
              </p:nvSpPr>
              <p:spPr>
                <a:xfrm rot="4113600">
                  <a:off x="4305960" y="5505840"/>
                  <a:ext cx="485640" cy="1328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74"/>
                <p:cNvSpPr/>
                <p:nvPr/>
              </p:nvSpPr>
              <p:spPr>
                <a:xfrm rot="7809000">
                  <a:off x="3273480" y="5329800"/>
                  <a:ext cx="485640" cy="1332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AutoShape 75"/>
                <p:cNvSpPr/>
                <p:nvPr/>
              </p:nvSpPr>
              <p:spPr>
                <a:xfrm rot="610800">
                  <a:off x="3584160" y="4918320"/>
                  <a:ext cx="933120" cy="876240"/>
                </a:xfrm>
                <a:prstGeom prst="pentagon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AutoShape 76"/>
                <p:cNvSpPr/>
                <p:nvPr/>
              </p:nvSpPr>
              <p:spPr>
                <a:xfrm rot="16811400">
                  <a:off x="3853800" y="4440960"/>
                  <a:ext cx="590400" cy="628200"/>
                </a:xfrm>
                <a:prstGeom prst="flowChartDelay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Group 77"/>
              <p:cNvGrpSpPr/>
              <p:nvPr/>
            </p:nvGrpSpPr>
            <p:grpSpPr>
              <a:xfrm>
                <a:off x="3458160" y="6197400"/>
                <a:ext cx="804240" cy="389160"/>
                <a:chOff x="3458160" y="6197400"/>
                <a:chExt cx="804240" cy="389160"/>
              </a:xfrm>
            </p:grpSpPr>
            <p:sp>
              <p:nvSpPr>
                <p:cNvPr id="98" name="AutoShape 78"/>
                <p:cNvSpPr/>
                <p:nvPr/>
              </p:nvSpPr>
              <p:spPr>
                <a:xfrm rot="610800">
                  <a:off x="3474720" y="6263280"/>
                  <a:ext cx="771120" cy="25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Rectangle 79"/>
                <p:cNvSpPr/>
                <p:nvPr/>
              </p:nvSpPr>
              <p:spPr>
                <a:xfrm rot="610800">
                  <a:off x="3693240" y="6264000"/>
                  <a:ext cx="342720" cy="2570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0" name="Group 111"/>
          <p:cNvGrpSpPr/>
          <p:nvPr/>
        </p:nvGrpSpPr>
        <p:grpSpPr>
          <a:xfrm>
            <a:off x="114480" y="1828800"/>
            <a:ext cx="7032240" cy="4761000"/>
            <a:chOff x="114480" y="1828800"/>
            <a:chExt cx="7032240" cy="4761000"/>
          </a:xfrm>
        </p:grpSpPr>
        <p:grpSp>
          <p:nvGrpSpPr>
            <p:cNvPr id="101" name="Group 80"/>
            <p:cNvGrpSpPr/>
            <p:nvPr/>
          </p:nvGrpSpPr>
          <p:grpSpPr>
            <a:xfrm>
              <a:off x="1121040" y="3315240"/>
              <a:ext cx="6025680" cy="3274560"/>
              <a:chOff x="1121040" y="3315240"/>
              <a:chExt cx="6025680" cy="3274560"/>
            </a:xfrm>
          </p:grpSpPr>
          <p:sp>
            <p:nvSpPr>
              <p:cNvPr id="102" name="AutoShape 66"/>
              <p:cNvSpPr/>
              <p:nvPr/>
            </p:nvSpPr>
            <p:spPr>
              <a:xfrm rot="6016200">
                <a:off x="3109680" y="1958760"/>
                <a:ext cx="2047680" cy="5752800"/>
              </a:xfrm>
              <a:prstGeom prst="flowChartDelay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Group 41"/>
              <p:cNvGrpSpPr/>
              <p:nvPr/>
            </p:nvGrpSpPr>
            <p:grpSpPr>
              <a:xfrm>
                <a:off x="3139560" y="4412160"/>
                <a:ext cx="1703880" cy="2177640"/>
                <a:chOff x="3139560" y="4412160"/>
                <a:chExt cx="1703880" cy="2177640"/>
              </a:xfrm>
            </p:grpSpPr>
            <p:grpSp>
              <p:nvGrpSpPr>
                <p:cNvPr id="104" name="Group 42"/>
                <p:cNvGrpSpPr/>
                <p:nvPr/>
              </p:nvGrpSpPr>
              <p:grpSpPr>
                <a:xfrm>
                  <a:off x="3139560" y="4412160"/>
                  <a:ext cx="1703880" cy="1945440"/>
                  <a:chOff x="3139560" y="4412160"/>
                  <a:chExt cx="1703880" cy="1945440"/>
                </a:xfrm>
              </p:grpSpPr>
              <p:sp>
                <p:nvSpPr>
                  <p:cNvPr id="105" name="Rectangle 43"/>
                  <p:cNvSpPr/>
                  <p:nvPr/>
                </p:nvSpPr>
                <p:spPr>
                  <a:xfrm rot="610800">
                    <a:off x="3261600" y="5658120"/>
                    <a:ext cx="1438200" cy="8892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AutoShape 44"/>
                  <p:cNvSpPr/>
                  <p:nvPr/>
                </p:nvSpPr>
                <p:spPr>
                  <a:xfrm rot="610800">
                    <a:off x="3477960" y="5786640"/>
                    <a:ext cx="895320" cy="495360"/>
                  </a:xfrm>
                  <a:prstGeom prst="hexagon">
                    <a:avLst>
                      <a:gd name="adj" fmla="val 30500"/>
                      <a:gd name="vf" fmla="val 11547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Oval 45"/>
                  <p:cNvSpPr/>
                  <p:nvPr/>
                </p:nvSpPr>
                <p:spPr>
                  <a:xfrm rot="610800">
                    <a:off x="3162600" y="5410080"/>
                    <a:ext cx="362160" cy="2952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Oval 46"/>
                  <p:cNvSpPr/>
                  <p:nvPr/>
                </p:nvSpPr>
                <p:spPr>
                  <a:xfrm rot="610800">
                    <a:off x="4458240" y="5632920"/>
                    <a:ext cx="361800" cy="2952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Rectangle 47"/>
                  <p:cNvSpPr/>
                  <p:nvPr/>
                </p:nvSpPr>
                <p:spPr>
                  <a:xfrm rot="4113600">
                    <a:off x="4302720" y="5508360"/>
                    <a:ext cx="485640" cy="13320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Rectangle 48"/>
                  <p:cNvSpPr/>
                  <p:nvPr/>
                </p:nvSpPr>
                <p:spPr>
                  <a:xfrm rot="7809000">
                    <a:off x="3269160" y="5332320"/>
                    <a:ext cx="485640" cy="13356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utoShape 49"/>
                  <p:cNvSpPr/>
                  <p:nvPr/>
                </p:nvSpPr>
                <p:spPr>
                  <a:xfrm rot="610800">
                    <a:off x="3580200" y="4921200"/>
                    <a:ext cx="933480" cy="876240"/>
                  </a:xfrm>
                  <a:prstGeom prst="pentagon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utoShape 50"/>
                  <p:cNvSpPr/>
                  <p:nvPr/>
                </p:nvSpPr>
                <p:spPr>
                  <a:xfrm rot="16811400">
                    <a:off x="3850200" y="4443840"/>
                    <a:ext cx="590400" cy="628560"/>
                  </a:xfrm>
                  <a:prstGeom prst="flowChartDelay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Group 51"/>
                <p:cNvGrpSpPr/>
                <p:nvPr/>
              </p:nvGrpSpPr>
              <p:grpSpPr>
                <a:xfrm>
                  <a:off x="3454200" y="6200280"/>
                  <a:ext cx="804600" cy="389520"/>
                  <a:chOff x="3454200" y="6200280"/>
                  <a:chExt cx="804600" cy="389520"/>
                </a:xfrm>
              </p:grpSpPr>
              <p:sp>
                <p:nvSpPr>
                  <p:cNvPr id="114" name="AutoShape 52"/>
                  <p:cNvSpPr/>
                  <p:nvPr/>
                </p:nvSpPr>
                <p:spPr>
                  <a:xfrm rot="610800">
                    <a:off x="3470760" y="6266160"/>
                    <a:ext cx="771480" cy="2570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Rectangle 53"/>
                  <p:cNvSpPr/>
                  <p:nvPr/>
                </p:nvSpPr>
                <p:spPr>
                  <a:xfrm rot="610800">
                    <a:off x="3689640" y="6267240"/>
                    <a:ext cx="343080" cy="2570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AutoShape 84"/>
            <p:cNvSpPr/>
            <p:nvPr/>
          </p:nvSpPr>
          <p:spPr>
            <a:xfrm>
              <a:off x="114480" y="1828800"/>
              <a:ext cx="3124080" cy="857160"/>
            </a:xfrm>
            <a:prstGeom prst="wedgeRectCallout">
              <a:avLst>
                <a:gd name="adj1" fmla="val 28148"/>
                <a:gd name="adj2" fmla="val 16462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llumination area of conventional headla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AutoShape 85"/>
          <p:cNvSpPr/>
          <p:nvPr/>
        </p:nvSpPr>
        <p:spPr>
          <a:xfrm>
            <a:off x="3386160" y="1838160"/>
            <a:ext cx="2790720" cy="838440"/>
          </a:xfrm>
          <a:prstGeom prst="wedgeRectCallout">
            <a:avLst>
              <a:gd name="adj1" fmla="val -41185"/>
              <a:gd name="adj2" fmla="val 21609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mination area of AFS headl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86"/>
          <p:cNvSpPr/>
          <p:nvPr/>
        </p:nvSpPr>
        <p:spPr>
          <a:xfrm flipH="1" flipV="1">
            <a:off x="4056840" y="3828240"/>
            <a:ext cx="3219480" cy="5238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87"/>
          <p:cNvSpPr/>
          <p:nvPr/>
        </p:nvSpPr>
        <p:spPr>
          <a:xfrm>
            <a:off x="6386400" y="1847880"/>
            <a:ext cx="2438640" cy="828720"/>
          </a:xfrm>
          <a:prstGeom prst="wedgeRectCallout">
            <a:avLst>
              <a:gd name="adj1" fmla="val -28578"/>
              <a:gd name="adj2" fmla="val 20536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illumination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rc 2"/>
          <p:cNvSpPr/>
          <p:nvPr/>
        </p:nvSpPr>
        <p:spPr>
          <a:xfrm flipH="1">
            <a:off x="199440" y="3429000"/>
            <a:ext cx="8351640" cy="1442880"/>
          </a:xfrm>
          <a:prstGeom prst="pie">
            <a:avLst/>
          </a:pr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rc 3"/>
          <p:cNvSpPr/>
          <p:nvPr/>
        </p:nvSpPr>
        <p:spPr>
          <a:xfrm flipH="1">
            <a:off x="5766840" y="3438360"/>
            <a:ext cx="3128760" cy="3238560"/>
          </a:xfrm>
          <a:prstGeom prst="pie">
            <a:avLst/>
          </a:pr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rc 82"/>
          <p:cNvSpPr/>
          <p:nvPr/>
        </p:nvSpPr>
        <p:spPr>
          <a:xfrm flipH="1">
            <a:off x="1580400" y="3457440"/>
            <a:ext cx="7124760" cy="2890800"/>
          </a:xfrm>
          <a:prstGeom prst="pie">
            <a:avLst/>
          </a:prstGeom>
          <a:noFill/>
          <a:ln w="381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96"/>
          <p:cNvGrpSpPr/>
          <p:nvPr/>
        </p:nvGrpSpPr>
        <p:grpSpPr>
          <a:xfrm>
            <a:off x="5475600" y="3047760"/>
            <a:ext cx="947520" cy="646200"/>
            <a:chOff x="5475600" y="3047760"/>
            <a:chExt cx="947520" cy="646200"/>
          </a:xfrm>
        </p:grpSpPr>
        <p:sp>
          <p:nvSpPr>
            <p:cNvPr id="124" name="AutoShape 90"/>
            <p:cNvSpPr/>
            <p:nvPr/>
          </p:nvSpPr>
          <p:spPr>
            <a:xfrm flipV="1">
              <a:off x="5676840" y="3047400"/>
              <a:ext cx="542880" cy="438120"/>
            </a:xfrm>
            <a:prstGeom prst="pi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91"/>
            <p:cNvSpPr/>
            <p:nvPr/>
          </p:nvSpPr>
          <p:spPr>
            <a:xfrm rot="18718200">
              <a:off x="5565960" y="3168720"/>
              <a:ext cx="433080" cy="436320"/>
            </a:xfrm>
            <a:custGeom>
              <a:avLst/>
              <a:gdLst>
                <a:gd name="textAreaLeft" fmla="*/ 178560 w 433080"/>
                <a:gd name="textAreaRight" fmla="*/ 254520 w 433080"/>
                <a:gd name="textAreaTop" fmla="*/ 179640 h 436320"/>
                <a:gd name="textAreaBottom" fmla="*/ 256680 h 43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92"/>
            <p:cNvSpPr/>
            <p:nvPr/>
          </p:nvSpPr>
          <p:spPr>
            <a:xfrm>
              <a:off x="5781600" y="3095640"/>
              <a:ext cx="342720" cy="142920"/>
            </a:xfrm>
            <a:prstGeom prst="flowChartPredefinedProcess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93"/>
            <p:cNvSpPr/>
            <p:nvPr/>
          </p:nvSpPr>
          <p:spPr>
            <a:xfrm>
              <a:off x="6086520" y="3486240"/>
              <a:ext cx="95040" cy="11448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114480"/>
                <a:gd name="textAreaBottom" fmla="*/ 110160 h 114480"/>
              </a:gdLst>
              <a:ahLst/>
              <a:rect l="textAreaLeft" t="textAreaTop" r="textAreaRight" b="textAreaBottom"/>
              <a:pathLst>
                <a:path w="21600" h="26002">
                  <a:moveTo>
                    <a:pt x="3600" y="0"/>
                  </a:moveTo>
                  <a:arcTo wR="3600" hR="3600" stAng="16200000" swAng="-5400000"/>
                  <a:lnTo>
                    <a:pt x="0" y="22402"/>
                  </a:lnTo>
                  <a:arcTo wR="3600" hR="3600" stAng="10800000" swAng="-5400000"/>
                  <a:lnTo>
                    <a:pt x="18000" y="260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utoShape 94"/>
            <p:cNvSpPr/>
            <p:nvPr/>
          </p:nvSpPr>
          <p:spPr>
            <a:xfrm>
              <a:off x="5743440" y="3486240"/>
              <a:ext cx="95400" cy="114480"/>
            </a:xfrm>
            <a:custGeom>
              <a:avLst/>
              <a:gdLst>
                <a:gd name="textAreaLeft" fmla="*/ 4320 w 95400"/>
                <a:gd name="textAreaRight" fmla="*/ 91080 w 95400"/>
                <a:gd name="textAreaTop" fmla="*/ 4320 h 114480"/>
                <a:gd name="textAreaBottom" fmla="*/ 110160 h 114480"/>
              </a:gdLst>
              <a:ahLst/>
              <a:rect l="textAreaLeft" t="textAreaTop" r="textAreaRight" b="textAreaBottom"/>
              <a:pathLst>
                <a:path w="21600" h="25904">
                  <a:moveTo>
                    <a:pt x="3600" y="0"/>
                  </a:moveTo>
                  <a:arcTo wR="3600" hR="3600" stAng="16200000" swAng="-5400000"/>
                  <a:lnTo>
                    <a:pt x="0" y="22304"/>
                  </a:lnTo>
                  <a:arcTo wR="3600" hR="3600" stAng="10800000" swAng="-5400000"/>
                  <a:lnTo>
                    <a:pt x="18000" y="259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95"/>
            <p:cNvSpPr/>
            <p:nvPr/>
          </p:nvSpPr>
          <p:spPr>
            <a:xfrm rot="18718200">
              <a:off x="5898960" y="3159000"/>
              <a:ext cx="433440" cy="436680"/>
            </a:xfrm>
            <a:custGeom>
              <a:avLst/>
              <a:gdLst>
                <a:gd name="textAreaLeft" fmla="*/ 178560 w 433440"/>
                <a:gd name="textAreaRight" fmla="*/ 254880 w 433440"/>
                <a:gd name="textAreaTop" fmla="*/ 180000 h 436680"/>
                <a:gd name="textAreaBottom" fmla="*/ 256680 h 43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AutoShape 104"/>
          <p:cNvSpPr/>
          <p:nvPr/>
        </p:nvSpPr>
        <p:spPr>
          <a:xfrm flipH="1" rot="1597800">
            <a:off x="7514640" y="952200"/>
            <a:ext cx="314280" cy="609480"/>
          </a:xfrm>
          <a:custGeom>
            <a:avLst/>
            <a:gdLst>
              <a:gd name="textAreaLeft" fmla="*/ 2160 w 314280"/>
              <a:gd name="textAreaRight" fmla="*/ 243000 w 314280"/>
              <a:gd name="textAreaTop" fmla="*/ 268920 h 609480"/>
              <a:gd name="textAreaBottom" fmla="*/ 34056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9145" y="2994"/>
                  <a:pt x="16690" y="5080"/>
                  <a:pt x="16690" y="10800"/>
                </a:cubicBezTo>
                <a:cubicBezTo>
                  <a:pt x="16690" y="16520"/>
                  <a:pt x="19145" y="186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05"/>
          <p:cNvSpPr/>
          <p:nvPr/>
        </p:nvSpPr>
        <p:spPr>
          <a:xfrm>
            <a:off x="2390760" y="819000"/>
            <a:ext cx="193680" cy="1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06"/>
          <p:cNvSpPr/>
          <p:nvPr/>
        </p:nvSpPr>
        <p:spPr>
          <a:xfrm>
            <a:off x="2828880" y="1495440"/>
            <a:ext cx="193680" cy="19044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7"/>
          <p:cNvSpPr/>
          <p:nvPr/>
        </p:nvSpPr>
        <p:spPr>
          <a:xfrm>
            <a:off x="4829040" y="1419120"/>
            <a:ext cx="193680" cy="19044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8"/>
          <p:cNvSpPr/>
          <p:nvPr/>
        </p:nvSpPr>
        <p:spPr>
          <a:xfrm>
            <a:off x="6153120" y="1647720"/>
            <a:ext cx="19368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09"/>
          <p:cNvSpPr/>
          <p:nvPr/>
        </p:nvSpPr>
        <p:spPr>
          <a:xfrm>
            <a:off x="847800" y="1133640"/>
            <a:ext cx="193680" cy="190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2"/>
          <p:cNvSpPr/>
          <p:nvPr/>
        </p:nvSpPr>
        <p:spPr>
          <a:xfrm>
            <a:off x="2719440" y="800280"/>
            <a:ext cx="37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nation of A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13"/>
          <p:cNvSpPr/>
          <p:nvPr/>
        </p:nvSpPr>
        <p:spPr>
          <a:xfrm>
            <a:off x="8191440" y="1438200"/>
            <a:ext cx="19368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1440" y="3276360"/>
            <a:ext cx="860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 in advance for your cooper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08:16:23Z</dcterms:created>
  <dc:creator>コンポ開発部</dc:creator>
  <dc:description/>
  <dc:language>en-US</dc:language>
  <cp:lastModifiedBy>Gianotti</cp:lastModifiedBy>
  <dcterms:modified xsi:type="dcterms:W3CDTF">2009-04-03T06:43:30Z</dcterms:modified>
  <cp:revision>31</cp:revision>
  <dc:subject/>
  <dc:title>PowerPoint プレゼンテーション</dc:title>
</cp:coreProperties>
</file>