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2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2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AAD0-E9DC-4E1B-932E-B47AF2876832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01800" y="6370560"/>
            <a:ext cx="41562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hpDatum" descr="RO__vervolgpagina~LPP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69880" indent="-2840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616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22440" indent="-285840">
              <a:spcBef>
                <a:spcPts val="451"/>
              </a:spcBef>
              <a:buClr>
                <a:srgbClr val="000000"/>
              </a:buClr>
              <a:buFont typeface="Verdana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712880">
              <a:spcBef>
                <a:spcPts val="451"/>
              </a:spcBef>
              <a:buClr>
                <a:srgbClr val="4e9625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712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712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3000" y="2474640"/>
            <a:ext cx="3598560" cy="942840"/>
          </a:xfrm>
          <a:prstGeom prst="rect">
            <a:avLst/>
          </a:prstGeom>
          <a:solidFill>
            <a:srgbClr val="4e9625"/>
          </a:solidFill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46f96"/>
                </a:solidFill>
                <a:latin typeface="Verdana"/>
                <a:ea typeface="Arial Unicode MS"/>
              </a:rPr>
              <a:t>NL ASEP proposal</a:t>
            </a:r>
            <a:br>
              <a:rPr sz="1100"/>
            </a:br>
            <a:r>
              <a:rPr b="0" lang="en-GB" sz="1100" spc="-1" strike="noStrike">
                <a:solidFill>
                  <a:srgbClr val="046f96"/>
                </a:solidFill>
                <a:latin typeface="Verdana"/>
                <a:ea typeface="Arial Unicode MS"/>
              </a:rPr>
              <a:t>Presentation to GRB </a:t>
            </a:r>
            <a:br>
              <a:rPr sz="1100"/>
            </a:br>
            <a:r>
              <a:rPr b="0" i="1" lang="en-GB" sz="1100" spc="-1" strike="noStrike">
                <a:solidFill>
                  <a:srgbClr val="046f96"/>
                </a:solidFill>
                <a:latin typeface="Verdana"/>
                <a:ea typeface="Arial Unicode MS"/>
              </a:rPr>
              <a:t>version 01-09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0" lang="en-GB" sz="1100" spc="-1" strike="noStrike">
                <a:solidFill>
                  <a:srgbClr val="046f96"/>
                </a:solidFill>
                <a:latin typeface="Verdana"/>
                <a:ea typeface="Arial Unicode MS"/>
              </a:rPr>
              <a:t>issued by the Netherlands </a:t>
            </a:r>
            <a:br>
              <a:rPr sz="1100"/>
            </a:br>
            <a:r>
              <a:rPr b="0" lang="en-GB" sz="1100" spc="-1" strike="noStrike">
                <a:solidFill>
                  <a:srgbClr val="046f96"/>
                </a:solidFill>
                <a:latin typeface="Verdana"/>
                <a:ea typeface="Arial Unicode MS"/>
              </a:rPr>
              <a:t>GRB 50; September 2009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5614920" y="189000"/>
            <a:ext cx="3529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l document N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B-5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0th GRB, 1 – 3 September, 2009, agenda item 3.c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NL Proposal: relation with EU monitoring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6840" y="2060640"/>
            <a:ext cx="816912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the monitoring phase there will be an analyses, discussion and a decision about the Annex 3 limi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L ASEP proposal can be fine tuned on the outco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Our Concern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6840" y="1988640"/>
            <a:ext cx="816912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tainly not the (super)sportc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ery new technology drops down: (Airco, ABS, ESP, Launch C.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: also ‘Sound Design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orty c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TI’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vert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‘SEAT Leons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ery car can be sold in a silent ánd a noisy version (LEGAL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they will be sold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side you can hear there is a customer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THANK YOU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46f96"/>
                </a:solidFill>
                <a:latin typeface="Verdana"/>
              </a:rPr>
              <a:t>ASEP Working Group 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method in discussion in the ASEP Working Gro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developed and proposed by OIC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ermany and Netherlands raised the issue of stringency of this method: weakening present limit up to 10 d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therlands decided to bring in an alternative ASEP meth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ref: ECE/TRANS/WP.29/GRB/2009/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46f96"/>
                </a:solidFill>
                <a:latin typeface="Verdana"/>
              </a:rPr>
              <a:t>NL proposal: summary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t is based on the following elemen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 anchor point (determined from measurements of Annex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not to exceed point (Annex 3 limit value plus a ‘value’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bove the anchor point: a straight line between the anchor point and the not to exceed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low the anchor point: a line with a fixed slo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bonus for silent vehic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margin (to allow for uncertainty of single measuremen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senti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ight end of limit line based on a Not To Exceed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46f96"/>
                </a:solidFill>
                <a:latin typeface="Verdana"/>
              </a:rPr>
              <a:t>Comparison between NL and ADBO ASEP methods</a:t>
            </a:r>
            <a:endParaRPr b="0" lang="en-US" sz="22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ote ADBO = ASEP method “As Developed By OICA” in the ad hoc W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ame in both method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- Area of control (marginal difference) both based on 99% of all urban driv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nchor point (same place and valu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 marg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onus silent vehic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ifference in slope below and above anchor poi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ifferenc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imitation line above anchor poi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otential differenc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alue of slope below anchor poi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 value of the marg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Difference in limitation line above anchor point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L proposal is based on a NTE level (= limit Annex3 + [8] d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ADBO proposal is based on a slo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slope ADBO is based on regress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with a maximum of X+Y dB/1000 rp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aximum allowable nois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L = fixed (NTE leve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BO = depending on engine speed range and allowable slo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examples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5733720"/>
            <a:ext cx="1657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hicle 99-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mr 65 kW/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49800" y="1700280"/>
            <a:ext cx="3994200" cy="4098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88000" y="5734080"/>
            <a:ext cx="172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hicle 200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mr 166 kW/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995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Confrontation of NL method with ASEP dBase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1844640"/>
          <a:ext cx="8169120" cy="1353960"/>
        </p:xfrm>
        <a:graphic>
          <a:graphicData uri="http://schemas.openxmlformats.org/drawingml/2006/table">
            <a:tbl>
              <a:tblPr/>
              <a:tblGrid>
                <a:gridCol w="4421160"/>
                <a:gridCol w="374796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vehicles in d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iling the li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51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EP N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24000" y="3500280"/>
            <a:ext cx="816912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hicles that pass R51.02 but fail NL ASEP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hicles with non linear sound behavior, tuned to R51.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hicles with extremely steep sound slope, tuned to R51.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rder line vehicle (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hicles that fail R51.02 but pass NL ASEP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Border line vehicles (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f96"/>
                </a:solidFill>
                <a:latin typeface="Verdana"/>
              </a:rPr>
              <a:t>Comparison of NL method and ADBO method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4221000"/>
            <a:ext cx="8309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NL ASEP proposal is able to distinguish noisy from silent vehicles and adds a certain requirement in addition to Annex 3. Especially vehicles from which the sound behavior is tuned to the current method are detected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rmal vehicles pass the NL ASEP proposal fairly eas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11280" y="1798560"/>
          <a:ext cx="8064000" cy="1968480"/>
        </p:xfrm>
        <a:graphic>
          <a:graphicData uri="http://schemas.openxmlformats.org/drawingml/2006/table">
            <a:tbl>
              <a:tblPr/>
              <a:tblGrid>
                <a:gridCol w="4866480"/>
                <a:gridCol w="31975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vehicles in d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iling the li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51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51.03 Annex 3 (+ German limit propos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EP ADBO (+ OICA limit proposal for ASE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EP N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46f96"/>
                </a:solidFill>
                <a:latin typeface="Verdana"/>
              </a:rPr>
              <a:t>(super) sport cars</a:t>
            </a:r>
            <a:endParaRPr b="0" lang="en-US" sz="2600" spc="-1" strike="noStrike">
              <a:solidFill>
                <a:srgbClr val="046f9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the dBase we found no justification for an extra allowance compared to normal vehic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f there is a justification, we could discuss 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8:55:05Z</dcterms:created>
  <dc:creator>Boudewijn Kortbeek</dc:creator>
  <dc:description/>
  <dc:language>en-US</dc:language>
  <cp:lastModifiedBy>Romain HUBERT</cp:lastModifiedBy>
  <dcterms:modified xsi:type="dcterms:W3CDTF">2009-10-07T15:04:51Z</dcterms:modified>
  <cp:revision>193</cp:revision>
  <dc:subject/>
  <dc:title>Report  GRB ad hoc Working Group ASEP                                                                    GRB 44             September 5, 2006 </dc:title>
</cp:coreProperties>
</file>