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3B5F-CA46-4280-804E-24D3B6007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58E8-9157-474C-AAA8-E1597B8A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9973-FE34-4210-841A-F1B34C525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1DC9-1349-4FFC-9023-61A38CDD4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5EDB-5EC4-44B5-9F2C-6ADB4665F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73C9-D744-466D-B374-3737BA01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0AEE-078D-4BDB-BA49-FA4C3A8E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919AD-FE3D-4D0C-A311-2FCB37D9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4000-C113-402D-9AC6-B1A73639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4339-8318-4F0C-A048-9E15328A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5C1C-0953-4B59-B7EC-5B8B6F73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A134-CB7B-4914-B803-8B0A8B09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E370-BCFF-4601-8559-D2439F73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FCDC3-CC2C-4DA5-AEAF-712530D5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06824-2E4C-437C-8BEB-7867929E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2968-BC66-4687-994B-0BD53E59F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9683-AAF6-458F-B38F-0AA827A1C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4212-D4FB-4C4F-9FB7-D800AD10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D519-837F-4018-999B-C2617E4C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1B0E-97EB-4791-B4A4-5D0AAA1C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032C-30FB-4350-B194-51D1237D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800A-9B47-4456-9F6A-BA2EB4DF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9F66-A945-4768-8A85-7EDE153E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A4F5-552A-4BF7-AB78-965D8DB2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User\Desktop\SIAM _ EFV PPT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itle 1"/>
          <p:cNvSpPr/>
          <p:nvPr/>
        </p:nvSpPr>
        <p:spPr>
          <a:xfrm>
            <a:off x="4419720" y="4648320"/>
            <a:ext cx="42670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3500" spc="-1" strike="noStrike">
                <a:solidFill>
                  <a:srgbClr val="ffffff"/>
                </a:solidFill>
                <a:latin typeface="Calibri"/>
              </a:rPr>
              <a:t>CORPORATE</a:t>
            </a:r>
            <a:br>
              <a:rPr sz="3500"/>
            </a:br>
            <a:r>
              <a:rPr b="0" lang="en-US" sz="3500" spc="-1" strike="noStrike">
                <a:solidFill>
                  <a:srgbClr val="ffffff"/>
                </a:solidFill>
                <a:latin typeface="Calibri"/>
              </a:rPr>
              <a:t>             PRESENTATIO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0465-6F67-4331-BBED-5471C564BA3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D48B-BEC9-4FCE-A528-7CCD5AA525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17455-A654-4115-8F7F-47768CD951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ABEB-3E49-4529-BF2C-30E0A9CFBE6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6172200"/>
            <a:ext cx="8458200" cy="152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6384960"/>
            <a:ext cx="731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969696"/>
                </a:solidFill>
                <a:latin typeface="Verdana"/>
              </a:rPr>
              <a:t>4th Environmentally Friendly Vehicles Conference</a:t>
            </a:r>
            <a:r>
              <a:rPr b="0" lang="en-GB" sz="1000" spc="-1" strike="noStrike">
                <a:solidFill>
                  <a:srgbClr val="eeece1"/>
                </a:solidFill>
                <a:latin typeface="Verdana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|</a:t>
            </a:r>
            <a:r>
              <a:rPr b="0" lang="en-GB" sz="1000" spc="-1" strike="noStrike">
                <a:solidFill>
                  <a:srgbClr val="eeece1"/>
                </a:solidFill>
                <a:latin typeface="Verdana"/>
              </a:rPr>
              <a:t> </a:t>
            </a:r>
            <a:r>
              <a:rPr b="0" lang="en-GB" sz="1000" spc="-1" strike="noStrike">
                <a:solidFill>
                  <a:srgbClr val="00cc00"/>
                </a:solidFill>
                <a:latin typeface="Verdana"/>
              </a:rPr>
              <a:t>23</a:t>
            </a:r>
            <a:r>
              <a:rPr b="0" lang="en-GB" sz="1000" spc="-1" strike="noStrike" baseline="30000">
                <a:solidFill>
                  <a:srgbClr val="00cc00"/>
                </a:solidFill>
                <a:latin typeface="Verdana"/>
              </a:rPr>
              <a:t>rd</a:t>
            </a:r>
            <a:r>
              <a:rPr b="0" lang="en-GB" sz="1000" spc="-1" strike="noStrike">
                <a:solidFill>
                  <a:srgbClr val="00cc00"/>
                </a:solidFill>
                <a:latin typeface="Verdana"/>
              </a:rPr>
              <a:t> &amp; 24</a:t>
            </a:r>
            <a:r>
              <a:rPr b="0" lang="en-GB" sz="1000" spc="-1" strike="noStrike" baseline="30000">
                <a:solidFill>
                  <a:srgbClr val="00cc00"/>
                </a:solidFill>
                <a:latin typeface="Verdana"/>
              </a:rPr>
              <a:t>th</a:t>
            </a:r>
            <a:r>
              <a:rPr b="0" lang="en-GB" sz="1000" spc="-1" strike="noStrike">
                <a:solidFill>
                  <a:srgbClr val="00cc00"/>
                </a:solidFill>
                <a:latin typeface="Verdana"/>
              </a:rPr>
              <a:t> Nov 09, New Delh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Documents and Settings\User\Desktop\SIAM _ EFV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itle 1"/>
          <p:cNvSpPr/>
          <p:nvPr/>
        </p:nvSpPr>
        <p:spPr>
          <a:xfrm>
            <a:off x="3505320" y="4419720"/>
            <a:ext cx="5562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4280040"/>
            <a:ext cx="6553080" cy="23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tation to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9 Session of UN ECE WP- 2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th -13th Nov 2009, Genev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ted b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r Ambuj Sharm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int Secretary, Ministry of Heavy Industries &amp; Public Enterpris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5632560" y="123840"/>
            <a:ext cx="333360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Informal document No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. WP.29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149-2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149th WP.29, 10-13 November 2009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genda item 8.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vironmentally Freindlly Vehicle Conference (EFVC)-2009 Detai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me at a gl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FV R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jective of the confe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are experience of measures for promoting or introducing  EFV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hange experiences of providing solutions for legal and economic framework for the introduction of EFV’s and technolog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rlier conferences h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kyo, Japan, 20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rmingham, UK, 20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esden, Germany, 20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VC-2009 Detai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Under the Aegis of Ministry of Heavy Industry (in partnership with Five Other Ministries and the industr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ference Dat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3 &amp; 2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ovember 20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480ffd"/>
                </a:solidFill>
                <a:latin typeface="Calibri"/>
              </a:rPr>
              <a:t>(Temperature Expected 15~ 25 C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enu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Hotel The ASHOK, New Delhi, Indi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480ffd"/>
                </a:solidFill>
                <a:latin typeface="Calibri"/>
              </a:rPr>
              <a:t>(Centrally Located, 15 Kms for Delhi Airpor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ference Highligh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 Day Conference being kicked off with a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FV Rally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on 2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Nov, 2009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50-400 delegates expect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position with Vehicle Displa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articipants Pro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Govern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Research and Develop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utomotive Indust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Energy Suppli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cademia &amp; Institu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791320" y="2971800"/>
            <a:ext cx="28065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FV Rall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e: 2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Nov 200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ute: From India Gate to the Conference Venue (Hotel Ashok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FVs Participating consist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480f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0ffd"/>
                </a:solidFill>
                <a:latin typeface="Calibri"/>
              </a:rPr>
              <a:t>2/3 Wheeler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480f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0ffd"/>
                </a:solidFill>
                <a:latin typeface="Calibri"/>
              </a:rPr>
              <a:t>Car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480f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0ffd"/>
                </a:solidFill>
                <a:latin typeface="Calibri"/>
              </a:rPr>
              <a:t>Commercial Vehic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Mahindra_Scorpio_Hybrid_071208_2.jpg"/>
          <p:cNvPicPr/>
          <p:nvPr/>
        </p:nvPicPr>
        <p:blipFill>
          <a:blip r:embed="rId2"/>
          <a:stretch/>
        </p:blipFill>
        <p:spPr>
          <a:xfrm>
            <a:off x="5580000" y="1650960"/>
            <a:ext cx="3495600" cy="2185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tata-indica-electric1.jpg"/>
          <p:cNvPicPr/>
          <p:nvPr/>
        </p:nvPicPr>
        <p:blipFill>
          <a:blip r:embed="rId3"/>
          <a:stretch/>
        </p:blipFill>
        <p:spPr>
          <a:xfrm>
            <a:off x="4229280" y="3886200"/>
            <a:ext cx="2705040" cy="1803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reva-electric-car-1.jpg"/>
          <p:cNvPicPr/>
          <p:nvPr/>
        </p:nvPicPr>
        <p:blipFill>
          <a:blip r:embed="rId4"/>
          <a:stretch/>
        </p:blipFill>
        <p:spPr>
          <a:xfrm>
            <a:off x="7188120" y="4521240"/>
            <a:ext cx="179064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16524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gramme at a gl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augural &amp; Valedictory Ses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 Technical Sessions, 25 Speakers over 2 days cover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bility &amp; Environment – Role of EF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V Future Scenar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ternative fuels &amp; dr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aseous fuels Technology – Technology of Fu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ture of Electric Vehic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gulatory &amp; Legislative Framework for EFV’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nel Discussions on Industry and Government Collaboration for EFV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16524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formal Group on EF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ponse to both the EFV rally and the conference has been very encourag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xt host for the EFV conference being finalis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st meeting of the Informal Group on EFV under the Chairmanship of India being organized in Delhi on 2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ov, 200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enda for the Informal Group on EFV already circulated to the memb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2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80ffd"/>
                </a:solidFill>
                <a:latin typeface="Calibri"/>
              </a:rPr>
              <a:t>Look forward to see you at the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International Environmentally Freindlly Vehicle Conference 2009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23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&amp; 24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Nov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New Delh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For More details, Please log 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www.4efv.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04:10Z</dcterms:created>
  <dc:creator>User</dc:creator>
  <dc:description/>
  <dc:language>en-US</dc:language>
  <cp:lastModifiedBy>Gianotti</cp:lastModifiedBy>
  <dcterms:modified xsi:type="dcterms:W3CDTF">2009-11-11T11:50:03Z</dcterms:modified>
  <cp:revision>17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08858946</vt:r8>
  </property>
  <property fmtid="{D5CDD505-2E9C-101B-9397-08002B2CF9AE}" pid="3" name="_AuthorEmail">
    <vt:lpwstr>pankajkarn@siam.in</vt:lpwstr>
  </property>
  <property fmtid="{D5CDD505-2E9C-101B-9397-08002B2CF9AE}" pid="4" name="_AuthorEmailDisplayName">
    <vt:lpwstr>Pankaj Karn</vt:lpwstr>
  </property>
  <property fmtid="{D5CDD505-2E9C-101B-9397-08002B2CF9AE}" pid="5" name="_EmailSubject">
    <vt:lpwstr>EFV Status and issues</vt:lpwstr>
  </property>
  <property fmtid="{D5CDD505-2E9C-101B-9397-08002B2CF9AE}" pid="6" name="_PreviousAdHocReviewCycleID">
    <vt:r8>-963545363</vt:r8>
  </property>
  <property fmtid="{D5CDD505-2E9C-101B-9397-08002B2CF9AE}" pid="7" name="_ReviewingToolsShownOnce">
    <vt:lpwstr/>
  </property>
</Properties>
</file>