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5A9-6769-422E-9D57-338DCE00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4B5-D01E-436D-8587-74DC5BE0E975}" type="slidenum">
              <a:rPr b="0" lang="en-US" sz="12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A3E-D980-4BB8-AAA2-6D837925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ECD-62ED-475D-8807-57C57D3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57C-E9CB-43CD-BC22-EE866486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AEE-7E04-44DB-A409-A8811858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7F20-B442-4165-8A68-EF537C4F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0D1-0DA3-486E-ADAF-FA6373DB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69B7-8C63-43EA-A39F-7A7C576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2576-4D8D-4D35-89EA-1FED18C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D8A-5087-4B3A-892C-45630C29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87B5-C54E-4A72-96FE-EB00883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73E1-C86E-4613-939F-D81A11A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D06-ECD2-4886-A634-5B78C5E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F7C0-36F0-4D0A-B4FB-A59F7B6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9BBD-432D-448B-92BB-57DDADE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DB5A-2D3B-4D6E-8F01-93114A2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62B-D33A-42C7-B177-8F5102A2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B39B-2803-4698-94C6-8C42E05A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F32-48A3-4B60-B82B-0DA19E6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705-FDC2-434F-8247-C56A0BD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C4F-DE6E-404E-BBE1-B0EF1A26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D38-EE6E-4BDA-8267-E41855D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D47-925C-441F-917F-F24228F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557-46DA-43B7-BF3F-3957E1C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B2-F1DD-435D-8D10-CABB6A3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f6f98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6f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4" name="Group 6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5" name="Freeform 7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>
                    <a:gd name="textAreaLeft" fmla="*/ 0 w 1026000"/>
                    <a:gd name="textAreaRight" fmla="*/ 1026360 w 1026000"/>
                    <a:gd name="textAreaTop" fmla="*/ 0 h 948960"/>
                    <a:gd name="textAreaBottom" fmla="*/ 949320 h 94896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>
                  <a:off x="4827240" y="5172120"/>
                  <a:ext cx="196200" cy="2700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>
                    <a:gd name="textAreaLeft" fmla="*/ 0 w 169200"/>
                    <a:gd name="textAreaRight" fmla="*/ 169200 w 16920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4779360" y="4528080"/>
                  <a:ext cx="84240" cy="1015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4804560" y="4353120"/>
                  <a:ext cx="14040" cy="22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4835520" y="4357080"/>
                  <a:ext cx="36720" cy="280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4838400" y="4389480"/>
                  <a:ext cx="46440" cy="22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5122080" y="4417920"/>
                  <a:ext cx="38160" cy="43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5153400" y="4382640"/>
                  <a:ext cx="38160" cy="28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5092560" y="4128120"/>
                  <a:ext cx="26640" cy="39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5400360" y="4269600"/>
                  <a:ext cx="34920" cy="38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3718800" y="414108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3597120" y="4132800"/>
                  <a:ext cx="119880" cy="87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2956320" y="3672000"/>
                  <a:ext cx="618120" cy="491400"/>
                </a:xfrm>
                <a:custGeom>
                  <a:avLst/>
                  <a:gdLst>
                    <a:gd name="textAreaLeft" fmla="*/ 0 w 618120"/>
                    <a:gd name="textAreaRight" fmla="*/ 618480 w 618120"/>
                    <a:gd name="textAreaTop" fmla="*/ 0 h 491400"/>
                    <a:gd name="textAreaBottom" fmla="*/ 491760 h 4914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3334680" y="3636720"/>
                  <a:ext cx="270720" cy="36432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3600000" y="3806280"/>
                  <a:ext cx="190440" cy="6624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3590280" y="3886560"/>
                  <a:ext cx="129960" cy="1836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3811680" y="3785040"/>
                  <a:ext cx="64800" cy="11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3826080" y="3953160"/>
                  <a:ext cx="87480" cy="5040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3912120" y="3873960"/>
                  <a:ext cx="102960" cy="8892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4374000" y="3948840"/>
                  <a:ext cx="139680" cy="1386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4663440" y="3653640"/>
                  <a:ext cx="28080" cy="26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4834440" y="3867120"/>
                  <a:ext cx="43560" cy="392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3988440" y="3611520"/>
                  <a:ext cx="36720" cy="262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3669480" y="3465720"/>
                  <a:ext cx="50760" cy="889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3556440" y="3486960"/>
                  <a:ext cx="75960" cy="889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>
                    <a:gd name="textAreaLeft" fmla="*/ 0 w 1790280"/>
                    <a:gd name="textAreaRight" fmla="*/ 1790640 w 1790280"/>
                    <a:gd name="textAreaTop" fmla="*/ 0 h 2513160"/>
                    <a:gd name="textAreaBottom" fmla="*/ 2513160 h 251316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549560" y="5770080"/>
                  <a:ext cx="80280" cy="644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6226560" y="2078640"/>
                  <a:ext cx="1716840" cy="1500120"/>
                </a:xfrm>
                <a:custGeom>
                  <a:avLst/>
                  <a:gdLst>
                    <a:gd name="textAreaLeft" fmla="*/ 0 w 1716840"/>
                    <a:gd name="textAreaRight" fmla="*/ 1717200 w 1716840"/>
                    <a:gd name="textAreaTop" fmla="*/ 0 h 1500120"/>
                    <a:gd name="textAreaBottom" fmla="*/ 1500480 h 15001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>
                  <a:off x="5651640" y="3097080"/>
                  <a:ext cx="63720" cy="666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>
                    <a:gd name="textAreaLeft" fmla="*/ 0 w 296280"/>
                    <a:gd name="textAreaRight" fmla="*/ 296280 w 29628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>
                    <a:gd name="textAreaLeft" fmla="*/ 0 w 1212840"/>
                    <a:gd name="textAreaRight" fmla="*/ 1213200 w 1212840"/>
                    <a:gd name="textAreaTop" fmla="*/ 0 h 668160"/>
                    <a:gd name="textAreaBottom" fmla="*/ 668520 h 66816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5999400" y="997920"/>
                  <a:ext cx="362520" cy="207360"/>
                </a:xfrm>
                <a:custGeom>
                  <a:avLst/>
                  <a:gdLst>
                    <a:gd name="textAreaLeft" fmla="*/ 0 w 362520"/>
                    <a:gd name="textAreaRight" fmla="*/ 362520 w 36252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5776200" y="1293120"/>
                  <a:ext cx="141120" cy="12708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866200" y="1219680"/>
                  <a:ext cx="166680" cy="10152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5852160" y="1171440"/>
                  <a:ext cx="39600" cy="522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60"/>
                <p:cNvSpPr/>
                <p:nvPr/>
              </p:nvSpPr>
              <p:spPr>
                <a:xfrm>
                  <a:off x="6138720" y="1288800"/>
                  <a:ext cx="150840" cy="11016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61"/>
                <p:cNvSpPr/>
                <p:nvPr/>
              </p:nvSpPr>
              <p:spPr>
                <a:xfrm>
                  <a:off x="6234840" y="1288800"/>
                  <a:ext cx="129960" cy="817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62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63"/>
                <p:cNvSpPr/>
                <p:nvPr/>
              </p:nvSpPr>
              <p:spPr>
                <a:xfrm>
                  <a:off x="6390360" y="1257840"/>
                  <a:ext cx="762480" cy="383760"/>
                </a:xfrm>
                <a:custGeom>
                  <a:avLst/>
                  <a:gdLst>
                    <a:gd name="textAreaLeft" fmla="*/ 0 w 762480"/>
                    <a:gd name="textAreaRight" fmla="*/ 762840 w 76248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6693840" y="1409040"/>
                  <a:ext cx="74880" cy="648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65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66"/>
                <p:cNvSpPr/>
                <p:nvPr/>
              </p:nvSpPr>
              <p:spPr>
                <a:xfrm>
                  <a:off x="6788520" y="1605240"/>
                  <a:ext cx="37800" cy="40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67"/>
                <p:cNvSpPr/>
                <p:nvPr/>
              </p:nvSpPr>
              <p:spPr>
                <a:xfrm>
                  <a:off x="5935680" y="1335240"/>
                  <a:ext cx="335880" cy="152640"/>
                </a:xfrm>
                <a:custGeom>
                  <a:avLst/>
                  <a:gdLst>
                    <a:gd name="textAreaLeft" fmla="*/ 0 w 335880"/>
                    <a:gd name="textAreaRight" fmla="*/ 336240 w 33588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68"/>
                <p:cNvSpPr/>
                <p:nvPr/>
              </p:nvSpPr>
              <p:spPr>
                <a:xfrm>
                  <a:off x="5185800" y="1389240"/>
                  <a:ext cx="2674440" cy="895680"/>
                </a:xfrm>
                <a:custGeom>
                  <a:avLst/>
                  <a:gdLst>
                    <a:gd name="textAreaLeft" fmla="*/ 0 w 2674440"/>
                    <a:gd name="textAreaRight" fmla="*/ 2674440 w 2674440"/>
                    <a:gd name="textAreaTop" fmla="*/ 0 h 895680"/>
                    <a:gd name="textAreaBottom" fmla="*/ 896040 h 8956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69"/>
                <p:cNvSpPr/>
                <p:nvPr/>
              </p:nvSpPr>
              <p:spPr>
                <a:xfrm>
                  <a:off x="5873400" y="1578600"/>
                  <a:ext cx="1050480" cy="60300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0"/>
                <p:cNvSpPr/>
                <p:nvPr/>
              </p:nvSpPr>
              <p:spPr>
                <a:xfrm>
                  <a:off x="5153400" y="1706760"/>
                  <a:ext cx="63720" cy="424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71"/>
                <p:cNvSpPr/>
                <p:nvPr/>
              </p:nvSpPr>
              <p:spPr>
                <a:xfrm>
                  <a:off x="4885200" y="1464120"/>
                  <a:ext cx="88560" cy="28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72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>
                    <a:gd name="textAreaLeft" fmla="*/ 0 w 72000"/>
                    <a:gd name="textAreaRight" fmla="*/ 72360 w 720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3597120" y="1164600"/>
                  <a:ext cx="114120" cy="662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3694680" y="1206720"/>
                  <a:ext cx="90000" cy="5076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>
                    <a:gd name="textAreaLeft" fmla="*/ 0 w 2773080"/>
                    <a:gd name="textAreaRight" fmla="*/ 2773440 w 2773080"/>
                    <a:gd name="textAreaTop" fmla="*/ 0 h 1599120"/>
                    <a:gd name="textAreaBottom" fmla="*/ 1599480 h 15991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4217400" y="2043360"/>
                  <a:ext cx="78840" cy="29376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4167720" y="2290320"/>
                  <a:ext cx="243000" cy="1821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3907800" y="2461320"/>
                  <a:ext cx="327240" cy="381240"/>
                </a:xfrm>
                <a:custGeom>
                  <a:avLst/>
                  <a:gdLst>
                    <a:gd name="textAreaLeft" fmla="*/ 0 w 327240"/>
                    <a:gd name="textAreaRight" fmla="*/ 327240 w 32724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>
                    <a:gd name="textAreaLeft" fmla="*/ 0 w 1416240"/>
                    <a:gd name="textAreaRight" fmla="*/ 1416600 w 1416240"/>
                    <a:gd name="textAreaTop" fmla="*/ 0 h 1001160"/>
                    <a:gd name="textAreaBottom" fmla="*/ 1001520 h 10011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3629520" y="2999520"/>
                  <a:ext cx="77760" cy="128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>
                  <a:off x="3840120" y="2939040"/>
                  <a:ext cx="35280" cy="5328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88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2475000"/>
                    <a:gd name="textAreaBottom" fmla="*/ 2475000 h 247500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89"/>
                <p:cNvSpPr/>
                <p:nvPr/>
              </p:nvSpPr>
              <p:spPr>
                <a:xfrm>
                  <a:off x="720720" y="3159000"/>
                  <a:ext cx="752760" cy="2001600"/>
                </a:xfrm>
                <a:custGeom>
                  <a:avLst/>
                  <a:gdLst>
                    <a:gd name="textAreaLeft" fmla="*/ 0 w 752760"/>
                    <a:gd name="textAreaRight" fmla="*/ 753120 w 752760"/>
                    <a:gd name="textAreaTop" fmla="*/ 0 h 2001600"/>
                    <a:gd name="textAreaBottom" fmla="*/ 2001960 h 200160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90"/>
                <p:cNvSpPr/>
                <p:nvPr/>
              </p:nvSpPr>
              <p:spPr>
                <a:xfrm>
                  <a:off x="1647360" y="4295160"/>
                  <a:ext cx="162000" cy="5000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91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92"/>
                <p:cNvSpPr/>
                <p:nvPr/>
              </p:nvSpPr>
              <p:spPr>
                <a:xfrm>
                  <a:off x="1895760" y="4008240"/>
                  <a:ext cx="37800" cy="648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93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95"/>
                <p:cNvSpPr/>
                <p:nvPr/>
              </p:nvSpPr>
              <p:spPr>
                <a:xfrm>
                  <a:off x="1479240" y="2174760"/>
                  <a:ext cx="1209960" cy="1235880"/>
                </a:xfrm>
                <a:custGeom>
                  <a:avLst/>
                  <a:gdLst>
                    <a:gd name="textAreaLeft" fmla="*/ 0 w 1209960"/>
                    <a:gd name="textAreaRight" fmla="*/ 1210320 w 1209960"/>
                    <a:gd name="textAreaTop" fmla="*/ 0 h 1235880"/>
                    <a:gd name="textAreaBottom" fmla="*/ 1236240 h 12358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96"/>
                <p:cNvSpPr/>
                <p:nvPr/>
              </p:nvSpPr>
              <p:spPr>
                <a:xfrm>
                  <a:off x="657360" y="1383480"/>
                  <a:ext cx="2233800" cy="1180800"/>
                </a:xfrm>
                <a:custGeom>
                  <a:avLst/>
                  <a:gdLst>
                    <a:gd name="textAreaLeft" fmla="*/ 0 w 2233800"/>
                    <a:gd name="textAreaRight" fmla="*/ 2234160 w 2233800"/>
                    <a:gd name="textAreaTop" fmla="*/ 0 h 1180800"/>
                    <a:gd name="textAreaBottom" fmla="*/ 1181160 h 118080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97"/>
                <p:cNvSpPr/>
                <p:nvPr/>
              </p:nvSpPr>
              <p:spPr>
                <a:xfrm>
                  <a:off x="1093680" y="1684440"/>
                  <a:ext cx="392040" cy="30348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3480"/>
                    <a:gd name="textAreaBottom" fmla="*/ 303840 h 30348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98"/>
                <p:cNvSpPr/>
                <p:nvPr/>
              </p:nvSpPr>
              <p:spPr>
                <a:xfrm>
                  <a:off x="1078200" y="1782000"/>
                  <a:ext cx="204480" cy="1159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99"/>
                <p:cNvSpPr/>
                <p:nvPr/>
              </p:nvSpPr>
              <p:spPr>
                <a:xfrm>
                  <a:off x="1384560" y="1379160"/>
                  <a:ext cx="232920" cy="13284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100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01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02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>
                    <a:gd name="textAreaLeft" fmla="*/ 0 w 310320"/>
                    <a:gd name="textAreaRight" fmla="*/ 310680 w 3103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03"/>
                <p:cNvSpPr/>
                <p:nvPr/>
              </p:nvSpPr>
              <p:spPr>
                <a:xfrm>
                  <a:off x="2779920" y="1244880"/>
                  <a:ext cx="419040" cy="19188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04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05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106"/>
                <p:cNvSpPr/>
                <p:nvPr/>
              </p:nvSpPr>
              <p:spPr>
                <a:xfrm>
                  <a:off x="1339560" y="2554560"/>
                  <a:ext cx="132480" cy="3672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07"/>
                <p:cNvSpPr/>
                <p:nvPr/>
              </p:nvSpPr>
              <p:spPr>
                <a:xfrm>
                  <a:off x="1565280" y="2550600"/>
                  <a:ext cx="74880" cy="774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08"/>
                <p:cNvSpPr/>
                <p:nvPr/>
              </p:nvSpPr>
              <p:spPr>
                <a:xfrm>
                  <a:off x="966600" y="2332800"/>
                  <a:ext cx="53280" cy="5220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09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108" name="Freeform 110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>
                    <a:gd name="textAreaLeft" fmla="*/ 0 w 1026000"/>
                    <a:gd name="textAreaRight" fmla="*/ 1026360 w 1026000"/>
                    <a:gd name="textAreaTop" fmla="*/ 0 h 948960"/>
                    <a:gd name="textAreaBottom" fmla="*/ 949320 h 94896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11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12"/>
                <p:cNvSpPr/>
                <p:nvPr/>
              </p:nvSpPr>
              <p:spPr>
                <a:xfrm>
                  <a:off x="4838400" y="5138640"/>
                  <a:ext cx="196200" cy="2700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13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>
                    <a:gd name="textAreaLeft" fmla="*/ 0 w 169200"/>
                    <a:gd name="textAreaRight" fmla="*/ 169200 w 16920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14"/>
                <p:cNvSpPr/>
                <p:nvPr/>
              </p:nvSpPr>
              <p:spPr>
                <a:xfrm>
                  <a:off x="4790520" y="4494600"/>
                  <a:ext cx="84240" cy="1015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15"/>
                <p:cNvSpPr/>
                <p:nvPr/>
              </p:nvSpPr>
              <p:spPr>
                <a:xfrm>
                  <a:off x="4815720" y="4319640"/>
                  <a:ext cx="14040" cy="22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16"/>
                <p:cNvSpPr/>
                <p:nvPr/>
              </p:nvSpPr>
              <p:spPr>
                <a:xfrm>
                  <a:off x="4846680" y="4323600"/>
                  <a:ext cx="36720" cy="280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17"/>
                <p:cNvSpPr/>
                <p:nvPr/>
              </p:nvSpPr>
              <p:spPr>
                <a:xfrm>
                  <a:off x="4849560" y="4356000"/>
                  <a:ext cx="46440" cy="22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118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19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20"/>
                <p:cNvSpPr/>
                <p:nvPr/>
              </p:nvSpPr>
              <p:spPr>
                <a:xfrm>
                  <a:off x="5133240" y="4384440"/>
                  <a:ext cx="38160" cy="43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21"/>
                <p:cNvSpPr/>
                <p:nvPr/>
              </p:nvSpPr>
              <p:spPr>
                <a:xfrm>
                  <a:off x="5164560" y="4349160"/>
                  <a:ext cx="38160" cy="28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5103720" y="4094640"/>
                  <a:ext cx="26640" cy="39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5411520" y="4236120"/>
                  <a:ext cx="34920" cy="38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126"/>
                <p:cNvSpPr/>
                <p:nvPr/>
              </p:nvSpPr>
              <p:spPr>
                <a:xfrm>
                  <a:off x="3729960" y="410760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127"/>
                <p:cNvSpPr/>
                <p:nvPr/>
              </p:nvSpPr>
              <p:spPr>
                <a:xfrm>
                  <a:off x="3608280" y="4099320"/>
                  <a:ext cx="119880" cy="87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128"/>
                <p:cNvSpPr/>
                <p:nvPr/>
              </p:nvSpPr>
              <p:spPr>
                <a:xfrm>
                  <a:off x="2967480" y="3638520"/>
                  <a:ext cx="618120" cy="491400"/>
                </a:xfrm>
                <a:custGeom>
                  <a:avLst/>
                  <a:gdLst>
                    <a:gd name="textAreaLeft" fmla="*/ 0 w 618120"/>
                    <a:gd name="textAreaRight" fmla="*/ 618480 w 618120"/>
                    <a:gd name="textAreaTop" fmla="*/ 0 h 491400"/>
                    <a:gd name="textAreaBottom" fmla="*/ 491760 h 4914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129"/>
                <p:cNvSpPr/>
                <p:nvPr/>
              </p:nvSpPr>
              <p:spPr>
                <a:xfrm>
                  <a:off x="3345840" y="3603240"/>
                  <a:ext cx="270720" cy="36432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130"/>
                <p:cNvSpPr/>
                <p:nvPr/>
              </p:nvSpPr>
              <p:spPr>
                <a:xfrm>
                  <a:off x="3611160" y="3772800"/>
                  <a:ext cx="190440" cy="6624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131"/>
                <p:cNvSpPr/>
                <p:nvPr/>
              </p:nvSpPr>
              <p:spPr>
                <a:xfrm>
                  <a:off x="3601440" y="3853080"/>
                  <a:ext cx="129960" cy="1836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132"/>
                <p:cNvSpPr/>
                <p:nvPr/>
              </p:nvSpPr>
              <p:spPr>
                <a:xfrm>
                  <a:off x="3822840" y="3751560"/>
                  <a:ext cx="64800" cy="11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133"/>
                <p:cNvSpPr/>
                <p:nvPr/>
              </p:nvSpPr>
              <p:spPr>
                <a:xfrm>
                  <a:off x="3837240" y="3919680"/>
                  <a:ext cx="87480" cy="5040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34"/>
                <p:cNvSpPr/>
                <p:nvPr/>
              </p:nvSpPr>
              <p:spPr>
                <a:xfrm>
                  <a:off x="3923280" y="3840480"/>
                  <a:ext cx="102960" cy="8892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135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136"/>
                <p:cNvSpPr/>
                <p:nvPr/>
              </p:nvSpPr>
              <p:spPr>
                <a:xfrm>
                  <a:off x="4385160" y="3915360"/>
                  <a:ext cx="139680" cy="1386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137"/>
                <p:cNvSpPr/>
                <p:nvPr/>
              </p:nvSpPr>
              <p:spPr>
                <a:xfrm>
                  <a:off x="4674600" y="3620160"/>
                  <a:ext cx="28080" cy="26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138"/>
                <p:cNvSpPr/>
                <p:nvPr/>
              </p:nvSpPr>
              <p:spPr>
                <a:xfrm>
                  <a:off x="4845600" y="3833640"/>
                  <a:ext cx="43560" cy="392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139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140"/>
                <p:cNvSpPr/>
                <p:nvPr/>
              </p:nvSpPr>
              <p:spPr>
                <a:xfrm>
                  <a:off x="3999600" y="3578040"/>
                  <a:ext cx="36720" cy="262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141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142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143"/>
                <p:cNvSpPr/>
                <p:nvPr/>
              </p:nvSpPr>
              <p:spPr>
                <a:xfrm>
                  <a:off x="3680640" y="3432240"/>
                  <a:ext cx="50760" cy="889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44"/>
                <p:cNvSpPr/>
                <p:nvPr/>
              </p:nvSpPr>
              <p:spPr>
                <a:xfrm>
                  <a:off x="3567600" y="3453480"/>
                  <a:ext cx="75960" cy="889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145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>
                    <a:gd name="textAreaLeft" fmla="*/ 0 w 1790280"/>
                    <a:gd name="textAreaRight" fmla="*/ 1790640 w 1790280"/>
                    <a:gd name="textAreaTop" fmla="*/ 0 h 2513160"/>
                    <a:gd name="textAreaBottom" fmla="*/ 2513160 h 251316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146"/>
                <p:cNvSpPr/>
                <p:nvPr/>
              </p:nvSpPr>
              <p:spPr>
                <a:xfrm>
                  <a:off x="7560720" y="5736600"/>
                  <a:ext cx="80280" cy="644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47"/>
                <p:cNvSpPr/>
                <p:nvPr/>
              </p:nvSpPr>
              <p:spPr>
                <a:xfrm>
                  <a:off x="6237720" y="2045160"/>
                  <a:ext cx="1716840" cy="1500120"/>
                </a:xfrm>
                <a:custGeom>
                  <a:avLst/>
                  <a:gdLst>
                    <a:gd name="textAreaLeft" fmla="*/ 0 w 1716840"/>
                    <a:gd name="textAreaRight" fmla="*/ 1717200 w 1716840"/>
                    <a:gd name="textAreaTop" fmla="*/ 0 h 1500120"/>
                    <a:gd name="textAreaBottom" fmla="*/ 1500480 h 15001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148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149"/>
                <p:cNvSpPr/>
                <p:nvPr/>
              </p:nvSpPr>
              <p:spPr>
                <a:xfrm>
                  <a:off x="5662800" y="3063600"/>
                  <a:ext cx="63720" cy="666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50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>
                    <a:gd name="textAreaLeft" fmla="*/ 0 w 296280"/>
                    <a:gd name="textAreaRight" fmla="*/ 296280 w 29628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51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152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153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154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155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>
                    <a:gd name="textAreaLeft" fmla="*/ 0 w 1212840"/>
                    <a:gd name="textAreaRight" fmla="*/ 1213200 w 1212840"/>
                    <a:gd name="textAreaTop" fmla="*/ 0 h 668160"/>
                    <a:gd name="textAreaBottom" fmla="*/ 668520 h 66816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156"/>
                <p:cNvSpPr/>
                <p:nvPr/>
              </p:nvSpPr>
              <p:spPr>
                <a:xfrm>
                  <a:off x="6010560" y="964440"/>
                  <a:ext cx="362520" cy="207360"/>
                </a:xfrm>
                <a:custGeom>
                  <a:avLst/>
                  <a:gdLst>
                    <a:gd name="textAreaLeft" fmla="*/ 0 w 362520"/>
                    <a:gd name="textAreaRight" fmla="*/ 362520 w 36252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57"/>
                <p:cNvSpPr/>
                <p:nvPr/>
              </p:nvSpPr>
              <p:spPr>
                <a:xfrm>
                  <a:off x="5787360" y="1259640"/>
                  <a:ext cx="141120" cy="12708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58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159"/>
                <p:cNvSpPr/>
                <p:nvPr/>
              </p:nvSpPr>
              <p:spPr>
                <a:xfrm>
                  <a:off x="5877360" y="1186200"/>
                  <a:ext cx="166680" cy="10152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60"/>
                <p:cNvSpPr/>
                <p:nvPr/>
              </p:nvSpPr>
              <p:spPr>
                <a:xfrm>
                  <a:off x="5863320" y="1137960"/>
                  <a:ext cx="39600" cy="522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61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62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63"/>
                <p:cNvSpPr/>
                <p:nvPr/>
              </p:nvSpPr>
              <p:spPr>
                <a:xfrm>
                  <a:off x="6149880" y="1255320"/>
                  <a:ext cx="150840" cy="11016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64"/>
                <p:cNvSpPr/>
                <p:nvPr/>
              </p:nvSpPr>
              <p:spPr>
                <a:xfrm>
                  <a:off x="6246000" y="1255320"/>
                  <a:ext cx="129960" cy="817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65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66"/>
                <p:cNvSpPr/>
                <p:nvPr/>
              </p:nvSpPr>
              <p:spPr>
                <a:xfrm>
                  <a:off x="6401520" y="1224360"/>
                  <a:ext cx="762480" cy="383760"/>
                </a:xfrm>
                <a:custGeom>
                  <a:avLst/>
                  <a:gdLst>
                    <a:gd name="textAreaLeft" fmla="*/ 0 w 762480"/>
                    <a:gd name="textAreaRight" fmla="*/ 762840 w 76248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167"/>
                <p:cNvSpPr/>
                <p:nvPr/>
              </p:nvSpPr>
              <p:spPr>
                <a:xfrm>
                  <a:off x="6705000" y="1375560"/>
                  <a:ext cx="74880" cy="648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168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9"/>
                <p:cNvSpPr/>
                <p:nvPr/>
              </p:nvSpPr>
              <p:spPr>
                <a:xfrm>
                  <a:off x="6799680" y="1571760"/>
                  <a:ext cx="37800" cy="40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70"/>
                <p:cNvSpPr/>
                <p:nvPr/>
              </p:nvSpPr>
              <p:spPr>
                <a:xfrm>
                  <a:off x="5946840" y="1301760"/>
                  <a:ext cx="335880" cy="152640"/>
                </a:xfrm>
                <a:custGeom>
                  <a:avLst/>
                  <a:gdLst>
                    <a:gd name="textAreaLeft" fmla="*/ 0 w 335880"/>
                    <a:gd name="textAreaRight" fmla="*/ 336240 w 33588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171"/>
                <p:cNvSpPr/>
                <p:nvPr/>
              </p:nvSpPr>
              <p:spPr>
                <a:xfrm>
                  <a:off x="5196960" y="1355760"/>
                  <a:ext cx="2674440" cy="895680"/>
                </a:xfrm>
                <a:custGeom>
                  <a:avLst/>
                  <a:gdLst>
                    <a:gd name="textAreaLeft" fmla="*/ 0 w 2674440"/>
                    <a:gd name="textAreaRight" fmla="*/ 2674440 w 2674440"/>
                    <a:gd name="textAreaTop" fmla="*/ 0 h 895680"/>
                    <a:gd name="textAreaBottom" fmla="*/ 896040 h 8956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72"/>
                <p:cNvSpPr/>
                <p:nvPr/>
              </p:nvSpPr>
              <p:spPr>
                <a:xfrm>
                  <a:off x="5884560" y="1545120"/>
                  <a:ext cx="1050480" cy="60300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173"/>
                <p:cNvSpPr/>
                <p:nvPr/>
              </p:nvSpPr>
              <p:spPr>
                <a:xfrm>
                  <a:off x="5164560" y="1673280"/>
                  <a:ext cx="63720" cy="424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174"/>
                <p:cNvSpPr/>
                <p:nvPr/>
              </p:nvSpPr>
              <p:spPr>
                <a:xfrm>
                  <a:off x="4896360" y="1430640"/>
                  <a:ext cx="88560" cy="28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175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176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177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>
                    <a:gd name="textAreaLeft" fmla="*/ 0 w 72000"/>
                    <a:gd name="textAreaRight" fmla="*/ 72360 w 720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178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179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180"/>
                <p:cNvSpPr/>
                <p:nvPr/>
              </p:nvSpPr>
              <p:spPr>
                <a:xfrm>
                  <a:off x="3608280" y="1131120"/>
                  <a:ext cx="114120" cy="662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181"/>
                <p:cNvSpPr/>
                <p:nvPr/>
              </p:nvSpPr>
              <p:spPr>
                <a:xfrm>
                  <a:off x="3705840" y="1173240"/>
                  <a:ext cx="90000" cy="5076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182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>
                    <a:gd name="textAreaLeft" fmla="*/ 0 w 2773080"/>
                    <a:gd name="textAreaRight" fmla="*/ 2773440 w 2773080"/>
                    <a:gd name="textAreaTop" fmla="*/ 0 h 1599120"/>
                    <a:gd name="textAreaBottom" fmla="*/ 1599480 h 15991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183"/>
                <p:cNvSpPr/>
                <p:nvPr/>
              </p:nvSpPr>
              <p:spPr>
                <a:xfrm>
                  <a:off x="4228560" y="2009880"/>
                  <a:ext cx="78840" cy="29376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184"/>
                <p:cNvSpPr/>
                <p:nvPr/>
              </p:nvSpPr>
              <p:spPr>
                <a:xfrm>
                  <a:off x="4178880" y="2256840"/>
                  <a:ext cx="243000" cy="1821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85"/>
                <p:cNvSpPr/>
                <p:nvPr/>
              </p:nvSpPr>
              <p:spPr>
                <a:xfrm>
                  <a:off x="3918960" y="2427840"/>
                  <a:ext cx="327240" cy="381240"/>
                </a:xfrm>
                <a:custGeom>
                  <a:avLst/>
                  <a:gdLst>
                    <a:gd name="textAreaLeft" fmla="*/ 0 w 327240"/>
                    <a:gd name="textAreaRight" fmla="*/ 327240 w 32724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86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187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>
                    <a:gd name="textAreaLeft" fmla="*/ 0 w 1416240"/>
                    <a:gd name="textAreaRight" fmla="*/ 1416600 w 1416240"/>
                    <a:gd name="textAreaTop" fmla="*/ 0 h 1001160"/>
                    <a:gd name="textAreaBottom" fmla="*/ 1001520 h 10011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188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89"/>
                <p:cNvSpPr/>
                <p:nvPr/>
              </p:nvSpPr>
              <p:spPr>
                <a:xfrm>
                  <a:off x="3640680" y="2966040"/>
                  <a:ext cx="77760" cy="128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90"/>
                <p:cNvSpPr/>
                <p:nvPr/>
              </p:nvSpPr>
              <p:spPr>
                <a:xfrm>
                  <a:off x="3851280" y="2905560"/>
                  <a:ext cx="35280" cy="5328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91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2475000"/>
                    <a:gd name="textAreaBottom" fmla="*/ 2475000 h 247500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192"/>
                <p:cNvSpPr/>
                <p:nvPr/>
              </p:nvSpPr>
              <p:spPr>
                <a:xfrm>
                  <a:off x="731880" y="3125520"/>
                  <a:ext cx="752760" cy="2001600"/>
                </a:xfrm>
                <a:custGeom>
                  <a:avLst/>
                  <a:gdLst>
                    <a:gd name="textAreaLeft" fmla="*/ 0 w 752760"/>
                    <a:gd name="textAreaRight" fmla="*/ 753120 w 752760"/>
                    <a:gd name="textAreaTop" fmla="*/ 0 h 2001600"/>
                    <a:gd name="textAreaBottom" fmla="*/ 2001960 h 200160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93"/>
                <p:cNvSpPr/>
                <p:nvPr/>
              </p:nvSpPr>
              <p:spPr>
                <a:xfrm>
                  <a:off x="1658520" y="4261680"/>
                  <a:ext cx="162000" cy="5000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94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95"/>
                <p:cNvSpPr/>
                <p:nvPr/>
              </p:nvSpPr>
              <p:spPr>
                <a:xfrm>
                  <a:off x="1906920" y="3974760"/>
                  <a:ext cx="37800" cy="648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196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197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98"/>
                <p:cNvSpPr/>
                <p:nvPr/>
              </p:nvSpPr>
              <p:spPr>
                <a:xfrm>
                  <a:off x="1490400" y="2141280"/>
                  <a:ext cx="1209960" cy="1235880"/>
                </a:xfrm>
                <a:custGeom>
                  <a:avLst/>
                  <a:gdLst>
                    <a:gd name="textAreaLeft" fmla="*/ 0 w 1209960"/>
                    <a:gd name="textAreaRight" fmla="*/ 1210320 w 1209960"/>
                    <a:gd name="textAreaTop" fmla="*/ 0 h 1235880"/>
                    <a:gd name="textAreaBottom" fmla="*/ 1236240 h 12358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199"/>
                <p:cNvSpPr/>
                <p:nvPr/>
              </p:nvSpPr>
              <p:spPr>
                <a:xfrm>
                  <a:off x="668520" y="1350000"/>
                  <a:ext cx="2233800" cy="1180800"/>
                </a:xfrm>
                <a:custGeom>
                  <a:avLst/>
                  <a:gdLst>
                    <a:gd name="textAreaLeft" fmla="*/ 0 w 2233800"/>
                    <a:gd name="textAreaRight" fmla="*/ 2234160 w 2233800"/>
                    <a:gd name="textAreaTop" fmla="*/ 0 h 1180800"/>
                    <a:gd name="textAreaBottom" fmla="*/ 1181160 h 118080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200"/>
                <p:cNvSpPr/>
                <p:nvPr/>
              </p:nvSpPr>
              <p:spPr>
                <a:xfrm>
                  <a:off x="1104840" y="1650960"/>
                  <a:ext cx="392040" cy="30348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3480"/>
                    <a:gd name="textAreaBottom" fmla="*/ 303840 h 30348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201"/>
                <p:cNvSpPr/>
                <p:nvPr/>
              </p:nvSpPr>
              <p:spPr>
                <a:xfrm>
                  <a:off x="1089360" y="1748520"/>
                  <a:ext cx="204480" cy="1159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202"/>
                <p:cNvSpPr/>
                <p:nvPr/>
              </p:nvSpPr>
              <p:spPr>
                <a:xfrm>
                  <a:off x="1395720" y="1345680"/>
                  <a:ext cx="232920" cy="13284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203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204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205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>
                    <a:gd name="textAreaLeft" fmla="*/ 0 w 310320"/>
                    <a:gd name="textAreaRight" fmla="*/ 310680 w 3103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206"/>
                <p:cNvSpPr/>
                <p:nvPr/>
              </p:nvSpPr>
              <p:spPr>
                <a:xfrm>
                  <a:off x="2791080" y="1211400"/>
                  <a:ext cx="419040" cy="19188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207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208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209"/>
                <p:cNvSpPr/>
                <p:nvPr/>
              </p:nvSpPr>
              <p:spPr>
                <a:xfrm>
                  <a:off x="1350720" y="2521080"/>
                  <a:ext cx="132480" cy="3672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210"/>
                <p:cNvSpPr/>
                <p:nvPr/>
              </p:nvSpPr>
              <p:spPr>
                <a:xfrm>
                  <a:off x="1576440" y="2517120"/>
                  <a:ext cx="74880" cy="774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11"/>
                <p:cNvSpPr/>
                <p:nvPr/>
              </p:nvSpPr>
              <p:spPr>
                <a:xfrm>
                  <a:off x="977760" y="2299320"/>
                  <a:ext cx="53280" cy="5220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6E23-DA44-4AE4-8EFC-55C20042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252" name="Rectangle 3"/>
            <p:cNvSpPr/>
            <p:nvPr/>
          </p:nvSpPr>
          <p:spPr>
            <a:xfrm>
              <a:off x="36000" y="0"/>
              <a:ext cx="9107640" cy="533520"/>
            </a:xfrm>
            <a:prstGeom prst="rect">
              <a:avLst/>
            </a:prstGeom>
            <a:gradFill rotWithShape="0">
              <a:gsLst>
                <a:gs pos="0">
                  <a:srgbClr val="f6f98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36000" y="6248520"/>
              <a:ext cx="910764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6f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0" y="750960"/>
              <a:ext cx="9015120" cy="4984200"/>
              <a:chOff x="0" y="750960"/>
              <a:chExt cx="9015120" cy="4984200"/>
            </a:xfrm>
          </p:grpSpPr>
          <p:grpSp>
            <p:nvGrpSpPr>
              <p:cNvPr id="255" name="Group 6"/>
              <p:cNvGrpSpPr/>
              <p:nvPr/>
            </p:nvGrpSpPr>
            <p:grpSpPr>
              <a:xfrm>
                <a:off x="0" y="784080"/>
                <a:ext cx="9004320" cy="4951080"/>
                <a:chOff x="0" y="784080"/>
                <a:chExt cx="9004320" cy="4951080"/>
              </a:xfrm>
            </p:grpSpPr>
            <p:sp>
              <p:nvSpPr>
                <p:cNvPr id="256" name="Freeform 7"/>
                <p:cNvSpPr/>
                <p:nvPr/>
              </p:nvSpPr>
              <p:spPr>
                <a:xfrm>
                  <a:off x="3437640" y="4076640"/>
                  <a:ext cx="1026360" cy="945720"/>
                </a:xfrm>
                <a:custGeom>
                  <a:avLst/>
                  <a:gdLst>
                    <a:gd name="textAreaLeft" fmla="*/ 0 w 1026360"/>
                    <a:gd name="textAreaRight" fmla="*/ 1026720 w 102636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8"/>
                <p:cNvSpPr/>
                <p:nvPr/>
              </p:nvSpPr>
              <p:spPr>
                <a:xfrm>
                  <a:off x="4238640" y="5047560"/>
                  <a:ext cx="106920" cy="1396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9"/>
                <p:cNvSpPr/>
                <p:nvPr/>
              </p:nvSpPr>
              <p:spPr>
                <a:xfrm>
                  <a:off x="4776840" y="5016600"/>
                  <a:ext cx="196920" cy="269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0"/>
                <p:cNvSpPr/>
                <p:nvPr/>
              </p:nvSpPr>
              <p:spPr>
                <a:xfrm>
                  <a:off x="4917600" y="4808160"/>
                  <a:ext cx="168840" cy="247680"/>
                </a:xfrm>
                <a:custGeom>
                  <a:avLst/>
                  <a:gdLst>
                    <a:gd name="textAreaLeft" fmla="*/ 0 w 168840"/>
                    <a:gd name="textAreaRight" fmla="*/ 168840 w 1688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"/>
                <p:cNvSpPr/>
                <p:nvPr/>
              </p:nvSpPr>
              <p:spPr>
                <a:xfrm>
                  <a:off x="4728960" y="4371120"/>
                  <a:ext cx="84240" cy="997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2"/>
                <p:cNvSpPr/>
                <p:nvPr/>
              </p:nvSpPr>
              <p:spPr>
                <a:xfrm>
                  <a:off x="4754160" y="4199040"/>
                  <a:ext cx="16920" cy="223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3"/>
                <p:cNvSpPr/>
                <p:nvPr/>
              </p:nvSpPr>
              <p:spPr>
                <a:xfrm>
                  <a:off x="4783680" y="4203360"/>
                  <a:ext cx="36360" cy="280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4"/>
                <p:cNvSpPr/>
                <p:nvPr/>
              </p:nvSpPr>
              <p:spPr>
                <a:xfrm>
                  <a:off x="4788000" y="423576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5"/>
                <p:cNvSpPr/>
                <p:nvPr/>
              </p:nvSpPr>
              <p:spPr>
                <a:xfrm>
                  <a:off x="4824720" y="428940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6"/>
                <p:cNvSpPr/>
                <p:nvPr/>
              </p:nvSpPr>
              <p:spPr>
                <a:xfrm>
                  <a:off x="5230080" y="4410360"/>
                  <a:ext cx="37800" cy="3780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>
                  <a:off x="5070960" y="4263840"/>
                  <a:ext cx="38160" cy="46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>
                  <a:off x="5101920" y="4228560"/>
                  <a:ext cx="35280" cy="32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9"/>
                <p:cNvSpPr/>
                <p:nvPr/>
              </p:nvSpPr>
              <p:spPr>
                <a:xfrm>
                  <a:off x="5042880" y="3974760"/>
                  <a:ext cx="25200" cy="39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0"/>
                <p:cNvSpPr/>
                <p:nvPr/>
              </p:nvSpPr>
              <p:spPr>
                <a:xfrm>
                  <a:off x="5348160" y="4117320"/>
                  <a:ext cx="36360" cy="40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1"/>
                <p:cNvSpPr/>
                <p:nvPr/>
              </p:nvSpPr>
              <p:spPr>
                <a:xfrm>
                  <a:off x="4482360" y="3883320"/>
                  <a:ext cx="51840" cy="74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2"/>
                <p:cNvSpPr/>
                <p:nvPr/>
              </p:nvSpPr>
              <p:spPr>
                <a:xfrm>
                  <a:off x="3858840" y="3953880"/>
                  <a:ext cx="39240" cy="266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23"/>
                <p:cNvSpPr/>
                <p:nvPr/>
              </p:nvSpPr>
              <p:spPr>
                <a:xfrm>
                  <a:off x="3671280" y="3987720"/>
                  <a:ext cx="113760" cy="8028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4"/>
                <p:cNvSpPr/>
                <p:nvPr/>
              </p:nvSpPr>
              <p:spPr>
                <a:xfrm>
                  <a:off x="3550320" y="3979440"/>
                  <a:ext cx="115560" cy="84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5"/>
                <p:cNvSpPr/>
                <p:nvPr/>
              </p:nvSpPr>
              <p:spPr>
                <a:xfrm>
                  <a:off x="2908440" y="3519720"/>
                  <a:ext cx="616680" cy="490320"/>
                </a:xfrm>
                <a:custGeom>
                  <a:avLst/>
                  <a:gdLst>
                    <a:gd name="textAreaLeft" fmla="*/ 0 w 616680"/>
                    <a:gd name="textAreaRight" fmla="*/ 617040 w 61668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6"/>
                <p:cNvSpPr/>
                <p:nvPr/>
              </p:nvSpPr>
              <p:spPr>
                <a:xfrm>
                  <a:off x="3288600" y="3484440"/>
                  <a:ext cx="271440" cy="364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27"/>
                <p:cNvSpPr/>
                <p:nvPr/>
              </p:nvSpPr>
              <p:spPr>
                <a:xfrm>
                  <a:off x="3553200" y="3653640"/>
                  <a:ext cx="191160" cy="6336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8"/>
                <p:cNvSpPr/>
                <p:nvPr/>
              </p:nvSpPr>
              <p:spPr>
                <a:xfrm>
                  <a:off x="3543480" y="3732480"/>
                  <a:ext cx="132120" cy="18756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9"/>
                <p:cNvSpPr/>
                <p:nvPr/>
              </p:nvSpPr>
              <p:spPr>
                <a:xfrm>
                  <a:off x="3764520" y="3632400"/>
                  <a:ext cx="64800" cy="110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30"/>
                <p:cNvSpPr/>
                <p:nvPr/>
              </p:nvSpPr>
              <p:spPr>
                <a:xfrm>
                  <a:off x="3778560" y="3800160"/>
                  <a:ext cx="84600" cy="50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31"/>
                <p:cNvSpPr/>
                <p:nvPr/>
              </p:nvSpPr>
              <p:spPr>
                <a:xfrm>
                  <a:off x="3866040" y="3721320"/>
                  <a:ext cx="105120" cy="856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32"/>
                <p:cNvSpPr/>
                <p:nvPr/>
              </p:nvSpPr>
              <p:spPr>
                <a:xfrm>
                  <a:off x="3895200" y="3760560"/>
                  <a:ext cx="496800" cy="32256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33"/>
                <p:cNvSpPr/>
                <p:nvPr/>
              </p:nvSpPr>
              <p:spPr>
                <a:xfrm>
                  <a:off x="4324680" y="3795840"/>
                  <a:ext cx="139320" cy="13824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34"/>
                <p:cNvSpPr/>
                <p:nvPr/>
              </p:nvSpPr>
              <p:spPr>
                <a:xfrm>
                  <a:off x="4613400" y="3501360"/>
                  <a:ext cx="29520" cy="33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35"/>
                <p:cNvSpPr/>
                <p:nvPr/>
              </p:nvSpPr>
              <p:spPr>
                <a:xfrm>
                  <a:off x="4782240" y="37144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36"/>
                <p:cNvSpPr/>
                <p:nvPr/>
              </p:nvSpPr>
              <p:spPr>
                <a:xfrm>
                  <a:off x="4230360" y="323352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37"/>
                <p:cNvSpPr/>
                <p:nvPr/>
              </p:nvSpPr>
              <p:spPr>
                <a:xfrm>
                  <a:off x="3942000" y="3459240"/>
                  <a:ext cx="34920" cy="262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38"/>
                <p:cNvSpPr/>
                <p:nvPr/>
              </p:nvSpPr>
              <p:spPr>
                <a:xfrm>
                  <a:off x="3626280" y="3392640"/>
                  <a:ext cx="139320" cy="1407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39"/>
                <p:cNvSpPr/>
                <p:nvPr/>
              </p:nvSpPr>
              <p:spPr>
                <a:xfrm>
                  <a:off x="3578400" y="3087000"/>
                  <a:ext cx="165960" cy="31032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40"/>
                <p:cNvSpPr/>
                <p:nvPr/>
              </p:nvSpPr>
              <p:spPr>
                <a:xfrm>
                  <a:off x="3623400" y="3313800"/>
                  <a:ext cx="54720" cy="8856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41"/>
                <p:cNvSpPr/>
                <p:nvPr/>
              </p:nvSpPr>
              <p:spPr>
                <a:xfrm>
                  <a:off x="3508200" y="3336480"/>
                  <a:ext cx="74160" cy="8712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42"/>
                <p:cNvSpPr/>
                <p:nvPr/>
              </p:nvSpPr>
              <p:spPr>
                <a:xfrm>
                  <a:off x="7219440" y="3229560"/>
                  <a:ext cx="1784880" cy="2505600"/>
                </a:xfrm>
                <a:custGeom>
                  <a:avLst/>
                  <a:gdLst>
                    <a:gd name="textAreaLeft" fmla="*/ 0 w 1784880"/>
                    <a:gd name="textAreaRight" fmla="*/ 1785240 w 1784880"/>
                    <a:gd name="textAreaTop" fmla="*/ 0 h 2505600"/>
                    <a:gd name="textAreaBottom" fmla="*/ 2505960 h 250560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43"/>
                <p:cNvSpPr/>
                <p:nvPr/>
              </p:nvSpPr>
              <p:spPr>
                <a:xfrm>
                  <a:off x="7491240" y="5613120"/>
                  <a:ext cx="79920" cy="644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44"/>
                <p:cNvSpPr/>
                <p:nvPr/>
              </p:nvSpPr>
              <p:spPr>
                <a:xfrm>
                  <a:off x="6170400" y="1929960"/>
                  <a:ext cx="1709280" cy="1496520"/>
                </a:xfrm>
                <a:custGeom>
                  <a:avLst/>
                  <a:gdLst>
                    <a:gd name="textAreaLeft" fmla="*/ 0 w 1709280"/>
                    <a:gd name="textAreaRight" fmla="*/ 1709640 w 1709280"/>
                    <a:gd name="textAreaTop" fmla="*/ 0 h 1496520"/>
                    <a:gd name="textAreaBottom" fmla="*/ 1496880 h 14965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45"/>
                <p:cNvSpPr/>
                <p:nvPr/>
              </p:nvSpPr>
              <p:spPr>
                <a:xfrm>
                  <a:off x="5641200" y="2975760"/>
                  <a:ext cx="63360" cy="85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46"/>
                <p:cNvSpPr/>
                <p:nvPr/>
              </p:nvSpPr>
              <p:spPr>
                <a:xfrm>
                  <a:off x="5597640" y="2945880"/>
                  <a:ext cx="61920" cy="662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47"/>
                <p:cNvSpPr/>
                <p:nvPr/>
              </p:nvSpPr>
              <p:spPr>
                <a:xfrm>
                  <a:off x="7574040" y="2789640"/>
                  <a:ext cx="295560" cy="17460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48"/>
                <p:cNvSpPr/>
                <p:nvPr/>
              </p:nvSpPr>
              <p:spPr>
                <a:xfrm>
                  <a:off x="7886880" y="2933280"/>
                  <a:ext cx="240480" cy="788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49"/>
                <p:cNvSpPr/>
                <p:nvPr/>
              </p:nvSpPr>
              <p:spPr>
                <a:xfrm>
                  <a:off x="7760160" y="2974320"/>
                  <a:ext cx="99720" cy="741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50"/>
                <p:cNvSpPr/>
                <p:nvPr/>
              </p:nvSpPr>
              <p:spPr>
                <a:xfrm>
                  <a:off x="7693920" y="2748600"/>
                  <a:ext cx="67320" cy="885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51"/>
                <p:cNvSpPr/>
                <p:nvPr/>
              </p:nvSpPr>
              <p:spPr>
                <a:xfrm>
                  <a:off x="8213400" y="3031920"/>
                  <a:ext cx="77040" cy="13968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52"/>
                <p:cNvSpPr/>
                <p:nvPr/>
              </p:nvSpPr>
              <p:spPr>
                <a:xfrm>
                  <a:off x="6292800" y="784080"/>
                  <a:ext cx="1207800" cy="666720"/>
                </a:xfrm>
                <a:custGeom>
                  <a:avLst/>
                  <a:gdLst>
                    <a:gd name="textAreaLeft" fmla="*/ 0 w 1207800"/>
                    <a:gd name="textAreaRight" fmla="*/ 1207800 w 120780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53"/>
                <p:cNvSpPr/>
                <p:nvPr/>
              </p:nvSpPr>
              <p:spPr>
                <a:xfrm>
                  <a:off x="5945400" y="851760"/>
                  <a:ext cx="361440" cy="20808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5721480" y="1145880"/>
                  <a:ext cx="141840" cy="1267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55"/>
                <p:cNvSpPr/>
                <p:nvPr/>
              </p:nvSpPr>
              <p:spPr>
                <a:xfrm>
                  <a:off x="5703120" y="1051920"/>
                  <a:ext cx="66240" cy="871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56"/>
                <p:cNvSpPr/>
                <p:nvPr/>
              </p:nvSpPr>
              <p:spPr>
                <a:xfrm>
                  <a:off x="5811480" y="1071360"/>
                  <a:ext cx="167400" cy="972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57"/>
                <p:cNvSpPr/>
                <p:nvPr/>
              </p:nvSpPr>
              <p:spPr>
                <a:xfrm>
                  <a:off x="5798880" y="1024920"/>
                  <a:ext cx="46440" cy="518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58"/>
                <p:cNvSpPr/>
                <p:nvPr/>
              </p:nvSpPr>
              <p:spPr>
                <a:xfrm>
                  <a:off x="5910120" y="915120"/>
                  <a:ext cx="167040" cy="1378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59"/>
                <p:cNvSpPr/>
                <p:nvPr/>
              </p:nvSpPr>
              <p:spPr>
                <a:xfrm>
                  <a:off x="6004440" y="1051920"/>
                  <a:ext cx="125280" cy="770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60"/>
                <p:cNvSpPr/>
                <p:nvPr/>
              </p:nvSpPr>
              <p:spPr>
                <a:xfrm>
                  <a:off x="6084360" y="1143000"/>
                  <a:ext cx="146520" cy="1126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61"/>
                <p:cNvSpPr/>
                <p:nvPr/>
              </p:nvSpPr>
              <p:spPr>
                <a:xfrm>
                  <a:off x="6179040" y="1143000"/>
                  <a:ext cx="133560" cy="7884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62"/>
                <p:cNvSpPr/>
                <p:nvPr/>
              </p:nvSpPr>
              <p:spPr>
                <a:xfrm>
                  <a:off x="6160680" y="1068840"/>
                  <a:ext cx="244800" cy="64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63"/>
                <p:cNvSpPr/>
                <p:nvPr/>
              </p:nvSpPr>
              <p:spPr>
                <a:xfrm>
                  <a:off x="6336720" y="1110960"/>
                  <a:ext cx="758880" cy="379080"/>
                </a:xfrm>
                <a:custGeom>
                  <a:avLst/>
                  <a:gdLst>
                    <a:gd name="textAreaLeft" fmla="*/ 0 w 758880"/>
                    <a:gd name="textAreaRight" fmla="*/ 759240 w 7588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64"/>
                <p:cNvSpPr/>
                <p:nvPr/>
              </p:nvSpPr>
              <p:spPr>
                <a:xfrm>
                  <a:off x="6637680" y="1261800"/>
                  <a:ext cx="74520" cy="7020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65"/>
                <p:cNvSpPr/>
                <p:nvPr/>
              </p:nvSpPr>
              <p:spPr>
                <a:xfrm>
                  <a:off x="6612480" y="1373040"/>
                  <a:ext cx="113760" cy="7740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66"/>
                <p:cNvSpPr/>
                <p:nvPr/>
              </p:nvSpPr>
              <p:spPr>
                <a:xfrm>
                  <a:off x="6732360" y="1459080"/>
                  <a:ext cx="33840" cy="39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67"/>
                <p:cNvSpPr/>
                <p:nvPr/>
              </p:nvSpPr>
              <p:spPr>
                <a:xfrm>
                  <a:off x="5881680" y="1188360"/>
                  <a:ext cx="335160" cy="1508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68"/>
                <p:cNvSpPr/>
                <p:nvPr/>
              </p:nvSpPr>
              <p:spPr>
                <a:xfrm>
                  <a:off x="5134320" y="1243080"/>
                  <a:ext cx="2669400" cy="892080"/>
                </a:xfrm>
                <a:custGeom>
                  <a:avLst/>
                  <a:gdLst>
                    <a:gd name="textAreaLeft" fmla="*/ 0 w 2669400"/>
                    <a:gd name="textAreaRight" fmla="*/ 2669760 w 266940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69"/>
                <p:cNvSpPr/>
                <p:nvPr/>
              </p:nvSpPr>
              <p:spPr>
                <a:xfrm>
                  <a:off x="5819760" y="1429560"/>
                  <a:ext cx="1044360" cy="591840"/>
                </a:xfrm>
                <a:custGeom>
                  <a:avLst/>
                  <a:gdLst>
                    <a:gd name="textAreaLeft" fmla="*/ 0 w 1044360"/>
                    <a:gd name="textAreaRight" fmla="*/ 1044720 w 1044360"/>
                    <a:gd name="textAreaTop" fmla="*/ 0 h 591840"/>
                    <a:gd name="textAreaBottom" fmla="*/ 592200 h 59184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70"/>
                <p:cNvSpPr/>
                <p:nvPr/>
              </p:nvSpPr>
              <p:spPr>
                <a:xfrm>
                  <a:off x="5101920" y="1557720"/>
                  <a:ext cx="54720" cy="421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71"/>
                <p:cNvSpPr/>
                <p:nvPr/>
              </p:nvSpPr>
              <p:spPr>
                <a:xfrm>
                  <a:off x="4834440" y="1316880"/>
                  <a:ext cx="87120" cy="252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72"/>
                <p:cNvSpPr/>
                <p:nvPr/>
              </p:nvSpPr>
              <p:spPr>
                <a:xfrm>
                  <a:off x="4808880" y="1878840"/>
                  <a:ext cx="64800" cy="65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73"/>
                <p:cNvSpPr/>
                <p:nvPr/>
              </p:nvSpPr>
              <p:spPr>
                <a:xfrm>
                  <a:off x="4898880" y="1897560"/>
                  <a:ext cx="39240" cy="36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74"/>
                <p:cNvSpPr/>
                <p:nvPr/>
              </p:nvSpPr>
              <p:spPr>
                <a:xfrm>
                  <a:off x="4385160" y="2080800"/>
                  <a:ext cx="71640" cy="51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75"/>
                <p:cNvSpPr/>
                <p:nvPr/>
              </p:nvSpPr>
              <p:spPr>
                <a:xfrm>
                  <a:off x="4148640" y="1153080"/>
                  <a:ext cx="271440" cy="986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76"/>
                <p:cNvSpPr/>
                <p:nvPr/>
              </p:nvSpPr>
              <p:spPr>
                <a:xfrm>
                  <a:off x="3505320" y="975600"/>
                  <a:ext cx="123840" cy="460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77"/>
                <p:cNvSpPr/>
                <p:nvPr/>
              </p:nvSpPr>
              <p:spPr>
                <a:xfrm>
                  <a:off x="3550320" y="1017720"/>
                  <a:ext cx="113760" cy="7452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78"/>
                <p:cNvSpPr/>
                <p:nvPr/>
              </p:nvSpPr>
              <p:spPr>
                <a:xfrm>
                  <a:off x="3647520" y="1060200"/>
                  <a:ext cx="96840" cy="50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9"/>
                <p:cNvSpPr/>
                <p:nvPr/>
              </p:nvSpPr>
              <p:spPr>
                <a:xfrm>
                  <a:off x="2380320" y="1117800"/>
                  <a:ext cx="2763720" cy="159552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1595520"/>
                    <a:gd name="textAreaBottom" fmla="*/ 1595880 h 15955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0"/>
                <p:cNvSpPr/>
                <p:nvPr/>
              </p:nvSpPr>
              <p:spPr>
                <a:xfrm>
                  <a:off x="4169880" y="1894680"/>
                  <a:ext cx="80280" cy="29016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81"/>
                <p:cNvSpPr/>
                <p:nvPr/>
              </p:nvSpPr>
              <p:spPr>
                <a:xfrm>
                  <a:off x="4120560" y="2140920"/>
                  <a:ext cx="240480" cy="1832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183240"/>
                    <a:gd name="textAreaBottom" fmla="*/ 183240 h 18324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82"/>
                <p:cNvSpPr/>
                <p:nvPr/>
              </p:nvSpPr>
              <p:spPr>
                <a:xfrm>
                  <a:off x="3858840" y="2313000"/>
                  <a:ext cx="320760" cy="3790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83"/>
                <p:cNvSpPr/>
                <p:nvPr/>
              </p:nvSpPr>
              <p:spPr>
                <a:xfrm>
                  <a:off x="4077000" y="2421720"/>
                  <a:ext cx="25200" cy="226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84"/>
                <p:cNvSpPr/>
                <p:nvPr/>
              </p:nvSpPr>
              <p:spPr>
                <a:xfrm>
                  <a:off x="2252160" y="2682360"/>
                  <a:ext cx="1411920" cy="997560"/>
                </a:xfrm>
                <a:custGeom>
                  <a:avLst/>
                  <a:gdLst>
                    <a:gd name="textAreaLeft" fmla="*/ 0 w 1411920"/>
                    <a:gd name="textAreaRight" fmla="*/ 1412280 w 1411920"/>
                    <a:gd name="textAreaTop" fmla="*/ 0 h 997560"/>
                    <a:gd name="textAreaBottom" fmla="*/ 997920 h 9975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85"/>
                <p:cNvSpPr/>
                <p:nvPr/>
              </p:nvSpPr>
              <p:spPr>
                <a:xfrm>
                  <a:off x="2500200" y="3371760"/>
                  <a:ext cx="75960" cy="15084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86"/>
                <p:cNvSpPr/>
                <p:nvPr/>
              </p:nvSpPr>
              <p:spPr>
                <a:xfrm>
                  <a:off x="3582720" y="2848680"/>
                  <a:ext cx="77400" cy="12672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87"/>
                <p:cNvSpPr/>
                <p:nvPr/>
              </p:nvSpPr>
              <p:spPr>
                <a:xfrm>
                  <a:off x="3792600" y="2789640"/>
                  <a:ext cx="33840" cy="518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88"/>
                <p:cNvSpPr/>
                <p:nvPr/>
              </p:nvSpPr>
              <p:spPr>
                <a:xfrm>
                  <a:off x="0" y="2303280"/>
                  <a:ext cx="1765080" cy="2470680"/>
                </a:xfrm>
                <a:custGeom>
                  <a:avLst/>
                  <a:gdLst>
                    <a:gd name="textAreaLeft" fmla="*/ 0 w 1765080"/>
                    <a:gd name="textAreaRight" fmla="*/ 1765440 w 1765080"/>
                    <a:gd name="textAreaTop" fmla="*/ 0 h 2470680"/>
                    <a:gd name="textAreaBottom" fmla="*/ 2471040 h 247068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89"/>
                <p:cNvSpPr/>
                <p:nvPr/>
              </p:nvSpPr>
              <p:spPr>
                <a:xfrm>
                  <a:off x="682560" y="3006720"/>
                  <a:ext cx="744840" cy="199836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1998360"/>
                    <a:gd name="textAreaBottom" fmla="*/ 1998720 h 199836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90"/>
                <p:cNvSpPr/>
                <p:nvPr/>
              </p:nvSpPr>
              <p:spPr>
                <a:xfrm>
                  <a:off x="1605960" y="4142520"/>
                  <a:ext cx="161640" cy="503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91"/>
                <p:cNvSpPr/>
                <p:nvPr/>
              </p:nvSpPr>
              <p:spPr>
                <a:xfrm>
                  <a:off x="1552680" y="4123080"/>
                  <a:ext cx="29160" cy="36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92"/>
                <p:cNvSpPr/>
                <p:nvPr/>
              </p:nvSpPr>
              <p:spPr>
                <a:xfrm>
                  <a:off x="1854000" y="3855240"/>
                  <a:ext cx="33840" cy="630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93"/>
                <p:cNvSpPr/>
                <p:nvPr/>
              </p:nvSpPr>
              <p:spPr>
                <a:xfrm>
                  <a:off x="1818720" y="3254760"/>
                  <a:ext cx="37800" cy="367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94"/>
                <p:cNvSpPr/>
                <p:nvPr/>
              </p:nvSpPr>
              <p:spPr>
                <a:xfrm>
                  <a:off x="208080" y="2510640"/>
                  <a:ext cx="99720" cy="507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95"/>
                <p:cNvSpPr/>
                <p:nvPr/>
              </p:nvSpPr>
              <p:spPr>
                <a:xfrm>
                  <a:off x="1438560" y="2025720"/>
                  <a:ext cx="1204920" cy="1234440"/>
                </a:xfrm>
                <a:custGeom>
                  <a:avLst/>
                  <a:gdLst>
                    <a:gd name="textAreaLeft" fmla="*/ 0 w 1204920"/>
                    <a:gd name="textAreaRight" fmla="*/ 1205280 w 1204920"/>
                    <a:gd name="textAreaTop" fmla="*/ 0 h 1234440"/>
                    <a:gd name="textAreaBottom" fmla="*/ 1234800 h 123444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96"/>
                <p:cNvSpPr/>
                <p:nvPr/>
              </p:nvSpPr>
              <p:spPr>
                <a:xfrm>
                  <a:off x="619200" y="1236240"/>
                  <a:ext cx="2221200" cy="1179720"/>
                </a:xfrm>
                <a:custGeom>
                  <a:avLst/>
                  <a:gdLst>
                    <a:gd name="textAreaLeft" fmla="*/ 0 w 2221200"/>
                    <a:gd name="textAreaRight" fmla="*/ 2221560 w 2221200"/>
                    <a:gd name="textAreaTop" fmla="*/ 0 h 1179720"/>
                    <a:gd name="textAreaBottom" fmla="*/ 1180080 h 117972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97"/>
                <p:cNvSpPr/>
                <p:nvPr/>
              </p:nvSpPr>
              <p:spPr>
                <a:xfrm>
                  <a:off x="1054440" y="1536480"/>
                  <a:ext cx="389520" cy="30132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301320"/>
                    <a:gd name="textAreaBottom" fmla="*/ 301680 h 30132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98"/>
                <p:cNvSpPr/>
                <p:nvPr/>
              </p:nvSpPr>
              <p:spPr>
                <a:xfrm>
                  <a:off x="1037520" y="1635120"/>
                  <a:ext cx="205200" cy="11664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99"/>
                <p:cNvSpPr/>
                <p:nvPr/>
              </p:nvSpPr>
              <p:spPr>
                <a:xfrm>
                  <a:off x="1343160" y="1231920"/>
                  <a:ext cx="233640" cy="13680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136800"/>
                    <a:gd name="textAreaBottom" fmla="*/ 136800 h 13680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100"/>
                <p:cNvSpPr/>
                <p:nvPr/>
              </p:nvSpPr>
              <p:spPr>
                <a:xfrm>
                  <a:off x="1600200" y="826200"/>
                  <a:ext cx="615240" cy="339480"/>
                </a:xfrm>
                <a:custGeom>
                  <a:avLst/>
                  <a:gdLst>
                    <a:gd name="textAreaLeft" fmla="*/ 0 w 615240"/>
                    <a:gd name="textAreaRight" fmla="*/ 615600 w 61524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01"/>
                <p:cNvSpPr/>
                <p:nvPr/>
              </p:nvSpPr>
              <p:spPr>
                <a:xfrm>
                  <a:off x="2332800" y="941760"/>
                  <a:ext cx="323640" cy="1508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102"/>
                <p:cNvSpPr/>
                <p:nvPr/>
              </p:nvSpPr>
              <p:spPr>
                <a:xfrm>
                  <a:off x="2905560" y="936000"/>
                  <a:ext cx="309600" cy="7884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103"/>
                <p:cNvSpPr/>
                <p:nvPr/>
              </p:nvSpPr>
              <p:spPr>
                <a:xfrm>
                  <a:off x="2735280" y="1096920"/>
                  <a:ext cx="419400" cy="19008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04"/>
                <p:cNvSpPr/>
                <p:nvPr/>
              </p:nvSpPr>
              <p:spPr>
                <a:xfrm>
                  <a:off x="1106280" y="211716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105"/>
                <p:cNvSpPr/>
                <p:nvPr/>
              </p:nvSpPr>
              <p:spPr>
                <a:xfrm>
                  <a:off x="1045800" y="2187720"/>
                  <a:ext cx="77400" cy="604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106"/>
                <p:cNvSpPr/>
                <p:nvPr/>
              </p:nvSpPr>
              <p:spPr>
                <a:xfrm>
                  <a:off x="1300680" y="2404800"/>
                  <a:ext cx="130680" cy="3384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07"/>
                <p:cNvSpPr/>
                <p:nvPr/>
              </p:nvSpPr>
              <p:spPr>
                <a:xfrm>
                  <a:off x="1524240" y="2400480"/>
                  <a:ext cx="74520" cy="77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108"/>
                <p:cNvSpPr/>
                <p:nvPr/>
              </p:nvSpPr>
              <p:spPr>
                <a:xfrm>
                  <a:off x="927720" y="2186640"/>
                  <a:ext cx="51840" cy="518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Group 109"/>
              <p:cNvGrpSpPr/>
              <p:nvPr/>
            </p:nvGrpSpPr>
            <p:grpSpPr>
              <a:xfrm>
                <a:off x="10440" y="750960"/>
                <a:ext cx="9004680" cy="4951080"/>
                <a:chOff x="10440" y="750960"/>
                <a:chExt cx="9004680" cy="4951080"/>
              </a:xfrm>
            </p:grpSpPr>
            <p:sp>
              <p:nvSpPr>
                <p:cNvPr id="359" name="Freeform 110"/>
                <p:cNvSpPr/>
                <p:nvPr/>
              </p:nvSpPr>
              <p:spPr>
                <a:xfrm>
                  <a:off x="3448440" y="4043520"/>
                  <a:ext cx="1026360" cy="945720"/>
                </a:xfrm>
                <a:custGeom>
                  <a:avLst/>
                  <a:gdLst>
                    <a:gd name="textAreaLeft" fmla="*/ 0 w 1026360"/>
                    <a:gd name="textAreaRight" fmla="*/ 1026720 w 102636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111"/>
                <p:cNvSpPr/>
                <p:nvPr/>
              </p:nvSpPr>
              <p:spPr>
                <a:xfrm>
                  <a:off x="4249440" y="5014440"/>
                  <a:ext cx="106920" cy="1396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112"/>
                <p:cNvSpPr/>
                <p:nvPr/>
              </p:nvSpPr>
              <p:spPr>
                <a:xfrm>
                  <a:off x="4787280" y="4983480"/>
                  <a:ext cx="196920" cy="269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13"/>
                <p:cNvSpPr/>
                <p:nvPr/>
              </p:nvSpPr>
              <p:spPr>
                <a:xfrm>
                  <a:off x="4928040" y="4775040"/>
                  <a:ext cx="168840" cy="247680"/>
                </a:xfrm>
                <a:custGeom>
                  <a:avLst/>
                  <a:gdLst>
                    <a:gd name="textAreaLeft" fmla="*/ 0 w 168840"/>
                    <a:gd name="textAreaRight" fmla="*/ 168840 w 1688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114"/>
                <p:cNvSpPr/>
                <p:nvPr/>
              </p:nvSpPr>
              <p:spPr>
                <a:xfrm>
                  <a:off x="4739400" y="4338000"/>
                  <a:ext cx="84240" cy="997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115"/>
                <p:cNvSpPr/>
                <p:nvPr/>
              </p:nvSpPr>
              <p:spPr>
                <a:xfrm>
                  <a:off x="4764600" y="4165920"/>
                  <a:ext cx="16920" cy="223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16"/>
                <p:cNvSpPr/>
                <p:nvPr/>
              </p:nvSpPr>
              <p:spPr>
                <a:xfrm>
                  <a:off x="4794480" y="4170240"/>
                  <a:ext cx="36360" cy="280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117"/>
                <p:cNvSpPr/>
                <p:nvPr/>
              </p:nvSpPr>
              <p:spPr>
                <a:xfrm>
                  <a:off x="4798440" y="420264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118"/>
                <p:cNvSpPr/>
                <p:nvPr/>
              </p:nvSpPr>
              <p:spPr>
                <a:xfrm>
                  <a:off x="4835160" y="425628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19"/>
                <p:cNvSpPr/>
                <p:nvPr/>
              </p:nvSpPr>
              <p:spPr>
                <a:xfrm>
                  <a:off x="5240880" y="4377240"/>
                  <a:ext cx="37800" cy="3780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120"/>
                <p:cNvSpPr/>
                <p:nvPr/>
              </p:nvSpPr>
              <p:spPr>
                <a:xfrm>
                  <a:off x="5081400" y="4230720"/>
                  <a:ext cx="38160" cy="46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121"/>
                <p:cNvSpPr/>
                <p:nvPr/>
              </p:nvSpPr>
              <p:spPr>
                <a:xfrm>
                  <a:off x="5112360" y="4195440"/>
                  <a:ext cx="35280" cy="32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122"/>
                <p:cNvSpPr/>
                <p:nvPr/>
              </p:nvSpPr>
              <p:spPr>
                <a:xfrm>
                  <a:off x="5053320" y="3941640"/>
                  <a:ext cx="25200" cy="39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23"/>
                <p:cNvSpPr/>
                <p:nvPr/>
              </p:nvSpPr>
              <p:spPr>
                <a:xfrm>
                  <a:off x="5358960" y="4084200"/>
                  <a:ext cx="36360" cy="40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24"/>
                <p:cNvSpPr/>
                <p:nvPr/>
              </p:nvSpPr>
              <p:spPr>
                <a:xfrm>
                  <a:off x="4493160" y="3850200"/>
                  <a:ext cx="51840" cy="74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25"/>
                <p:cNvSpPr/>
                <p:nvPr/>
              </p:nvSpPr>
              <p:spPr>
                <a:xfrm>
                  <a:off x="3869280" y="3920760"/>
                  <a:ext cx="39240" cy="266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26"/>
                <p:cNvSpPr/>
                <p:nvPr/>
              </p:nvSpPr>
              <p:spPr>
                <a:xfrm>
                  <a:off x="3682080" y="3954600"/>
                  <a:ext cx="113760" cy="8028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27"/>
                <p:cNvSpPr/>
                <p:nvPr/>
              </p:nvSpPr>
              <p:spPr>
                <a:xfrm>
                  <a:off x="3561120" y="3946320"/>
                  <a:ext cx="115560" cy="84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28"/>
                <p:cNvSpPr/>
                <p:nvPr/>
              </p:nvSpPr>
              <p:spPr>
                <a:xfrm>
                  <a:off x="2918880" y="3486600"/>
                  <a:ext cx="616680" cy="490320"/>
                </a:xfrm>
                <a:custGeom>
                  <a:avLst/>
                  <a:gdLst>
                    <a:gd name="textAreaLeft" fmla="*/ 0 w 616680"/>
                    <a:gd name="textAreaRight" fmla="*/ 617040 w 61668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29"/>
                <p:cNvSpPr/>
                <p:nvPr/>
              </p:nvSpPr>
              <p:spPr>
                <a:xfrm>
                  <a:off x="3299040" y="3451320"/>
                  <a:ext cx="271440" cy="364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30"/>
                <p:cNvSpPr/>
                <p:nvPr/>
              </p:nvSpPr>
              <p:spPr>
                <a:xfrm>
                  <a:off x="3564000" y="3620520"/>
                  <a:ext cx="191160" cy="6336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31"/>
                <p:cNvSpPr/>
                <p:nvPr/>
              </p:nvSpPr>
              <p:spPr>
                <a:xfrm>
                  <a:off x="3553920" y="3699360"/>
                  <a:ext cx="132120" cy="18756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32"/>
                <p:cNvSpPr/>
                <p:nvPr/>
              </p:nvSpPr>
              <p:spPr>
                <a:xfrm>
                  <a:off x="3774960" y="3599280"/>
                  <a:ext cx="64800" cy="110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33"/>
                <p:cNvSpPr/>
                <p:nvPr/>
              </p:nvSpPr>
              <p:spPr>
                <a:xfrm>
                  <a:off x="3789000" y="3767040"/>
                  <a:ext cx="84600" cy="50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134"/>
                <p:cNvSpPr/>
                <p:nvPr/>
              </p:nvSpPr>
              <p:spPr>
                <a:xfrm>
                  <a:off x="3876480" y="3688200"/>
                  <a:ext cx="105120" cy="856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35"/>
                <p:cNvSpPr/>
                <p:nvPr/>
              </p:nvSpPr>
              <p:spPr>
                <a:xfrm>
                  <a:off x="3906000" y="3727440"/>
                  <a:ext cx="496800" cy="32256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36"/>
                <p:cNvSpPr/>
                <p:nvPr/>
              </p:nvSpPr>
              <p:spPr>
                <a:xfrm>
                  <a:off x="4335120" y="3762720"/>
                  <a:ext cx="139320" cy="13824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137"/>
                <p:cNvSpPr/>
                <p:nvPr/>
              </p:nvSpPr>
              <p:spPr>
                <a:xfrm>
                  <a:off x="4623840" y="3468240"/>
                  <a:ext cx="29520" cy="33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38"/>
                <p:cNvSpPr/>
                <p:nvPr/>
              </p:nvSpPr>
              <p:spPr>
                <a:xfrm>
                  <a:off x="4792680" y="368136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39"/>
                <p:cNvSpPr/>
                <p:nvPr/>
              </p:nvSpPr>
              <p:spPr>
                <a:xfrm>
                  <a:off x="4241160" y="320040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40"/>
                <p:cNvSpPr/>
                <p:nvPr/>
              </p:nvSpPr>
              <p:spPr>
                <a:xfrm>
                  <a:off x="3952440" y="3426120"/>
                  <a:ext cx="34920" cy="262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141"/>
                <p:cNvSpPr/>
                <p:nvPr/>
              </p:nvSpPr>
              <p:spPr>
                <a:xfrm>
                  <a:off x="3637080" y="3359520"/>
                  <a:ext cx="139320" cy="1407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142"/>
                <p:cNvSpPr/>
                <p:nvPr/>
              </p:nvSpPr>
              <p:spPr>
                <a:xfrm>
                  <a:off x="3589200" y="3053880"/>
                  <a:ext cx="165960" cy="31032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143"/>
                <p:cNvSpPr/>
                <p:nvPr/>
              </p:nvSpPr>
              <p:spPr>
                <a:xfrm>
                  <a:off x="3634200" y="3280680"/>
                  <a:ext cx="54720" cy="8856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44"/>
                <p:cNvSpPr/>
                <p:nvPr/>
              </p:nvSpPr>
              <p:spPr>
                <a:xfrm>
                  <a:off x="3519000" y="3303360"/>
                  <a:ext cx="74160" cy="8712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45"/>
                <p:cNvSpPr/>
                <p:nvPr/>
              </p:nvSpPr>
              <p:spPr>
                <a:xfrm>
                  <a:off x="7230240" y="3196440"/>
                  <a:ext cx="1784880" cy="2505600"/>
                </a:xfrm>
                <a:custGeom>
                  <a:avLst/>
                  <a:gdLst>
                    <a:gd name="textAreaLeft" fmla="*/ 0 w 1784880"/>
                    <a:gd name="textAreaRight" fmla="*/ 1785240 w 1784880"/>
                    <a:gd name="textAreaTop" fmla="*/ 0 h 2505600"/>
                    <a:gd name="textAreaBottom" fmla="*/ 2505960 h 250560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146"/>
                <p:cNvSpPr/>
                <p:nvPr/>
              </p:nvSpPr>
              <p:spPr>
                <a:xfrm>
                  <a:off x="7502040" y="5580000"/>
                  <a:ext cx="79920" cy="644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47"/>
                <p:cNvSpPr/>
                <p:nvPr/>
              </p:nvSpPr>
              <p:spPr>
                <a:xfrm>
                  <a:off x="6181200" y="1896840"/>
                  <a:ext cx="1709280" cy="1496520"/>
                </a:xfrm>
                <a:custGeom>
                  <a:avLst/>
                  <a:gdLst>
                    <a:gd name="textAreaLeft" fmla="*/ 0 w 1709280"/>
                    <a:gd name="textAreaRight" fmla="*/ 1709640 w 1709280"/>
                    <a:gd name="textAreaTop" fmla="*/ 0 h 1496520"/>
                    <a:gd name="textAreaBottom" fmla="*/ 1496880 h 14965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48"/>
                <p:cNvSpPr/>
                <p:nvPr/>
              </p:nvSpPr>
              <p:spPr>
                <a:xfrm>
                  <a:off x="5651640" y="2942640"/>
                  <a:ext cx="63360" cy="85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49"/>
                <p:cNvSpPr/>
                <p:nvPr/>
              </p:nvSpPr>
              <p:spPr>
                <a:xfrm>
                  <a:off x="5608440" y="2912760"/>
                  <a:ext cx="61920" cy="662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50"/>
                <p:cNvSpPr/>
                <p:nvPr/>
              </p:nvSpPr>
              <p:spPr>
                <a:xfrm>
                  <a:off x="7584840" y="2756520"/>
                  <a:ext cx="295560" cy="17460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51"/>
                <p:cNvSpPr/>
                <p:nvPr/>
              </p:nvSpPr>
              <p:spPr>
                <a:xfrm>
                  <a:off x="7897680" y="2900160"/>
                  <a:ext cx="240480" cy="788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52"/>
                <p:cNvSpPr/>
                <p:nvPr/>
              </p:nvSpPr>
              <p:spPr>
                <a:xfrm>
                  <a:off x="7770600" y="2941200"/>
                  <a:ext cx="99720" cy="741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53"/>
                <p:cNvSpPr/>
                <p:nvPr/>
              </p:nvSpPr>
              <p:spPr>
                <a:xfrm>
                  <a:off x="7704720" y="2715480"/>
                  <a:ext cx="67320" cy="885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54"/>
                <p:cNvSpPr/>
                <p:nvPr/>
              </p:nvSpPr>
              <p:spPr>
                <a:xfrm>
                  <a:off x="8224200" y="2998800"/>
                  <a:ext cx="77040" cy="13968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55"/>
                <p:cNvSpPr/>
                <p:nvPr/>
              </p:nvSpPr>
              <p:spPr>
                <a:xfrm>
                  <a:off x="6303600" y="750960"/>
                  <a:ext cx="1208160" cy="66672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56"/>
                <p:cNvSpPr/>
                <p:nvPr/>
              </p:nvSpPr>
              <p:spPr>
                <a:xfrm>
                  <a:off x="5955840" y="818640"/>
                  <a:ext cx="361440" cy="20808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57"/>
                <p:cNvSpPr/>
                <p:nvPr/>
              </p:nvSpPr>
              <p:spPr>
                <a:xfrm>
                  <a:off x="5732280" y="1112760"/>
                  <a:ext cx="141840" cy="1267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58"/>
                <p:cNvSpPr/>
                <p:nvPr/>
              </p:nvSpPr>
              <p:spPr>
                <a:xfrm>
                  <a:off x="5713560" y="1018800"/>
                  <a:ext cx="66240" cy="871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59"/>
                <p:cNvSpPr/>
                <p:nvPr/>
              </p:nvSpPr>
              <p:spPr>
                <a:xfrm>
                  <a:off x="5822280" y="1038240"/>
                  <a:ext cx="167400" cy="972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60"/>
                <p:cNvSpPr/>
                <p:nvPr/>
              </p:nvSpPr>
              <p:spPr>
                <a:xfrm>
                  <a:off x="5809320" y="991800"/>
                  <a:ext cx="46440" cy="518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61"/>
                <p:cNvSpPr/>
                <p:nvPr/>
              </p:nvSpPr>
              <p:spPr>
                <a:xfrm>
                  <a:off x="5920920" y="882000"/>
                  <a:ext cx="167040" cy="1378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62"/>
                <p:cNvSpPr/>
                <p:nvPr/>
              </p:nvSpPr>
              <p:spPr>
                <a:xfrm>
                  <a:off x="6014880" y="1018800"/>
                  <a:ext cx="125280" cy="770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63"/>
                <p:cNvSpPr/>
                <p:nvPr/>
              </p:nvSpPr>
              <p:spPr>
                <a:xfrm>
                  <a:off x="6095160" y="1109880"/>
                  <a:ext cx="146520" cy="1126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64"/>
                <p:cNvSpPr/>
                <p:nvPr/>
              </p:nvSpPr>
              <p:spPr>
                <a:xfrm>
                  <a:off x="6189840" y="1109880"/>
                  <a:ext cx="133560" cy="7884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65"/>
                <p:cNvSpPr/>
                <p:nvPr/>
              </p:nvSpPr>
              <p:spPr>
                <a:xfrm>
                  <a:off x="6171480" y="1035720"/>
                  <a:ext cx="244800" cy="64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66"/>
                <p:cNvSpPr/>
                <p:nvPr/>
              </p:nvSpPr>
              <p:spPr>
                <a:xfrm>
                  <a:off x="6347520" y="1077840"/>
                  <a:ext cx="758880" cy="379080"/>
                </a:xfrm>
                <a:custGeom>
                  <a:avLst/>
                  <a:gdLst>
                    <a:gd name="textAreaLeft" fmla="*/ 0 w 758880"/>
                    <a:gd name="textAreaRight" fmla="*/ 759240 w 7588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67"/>
                <p:cNvSpPr/>
                <p:nvPr/>
              </p:nvSpPr>
              <p:spPr>
                <a:xfrm>
                  <a:off x="6648480" y="1228680"/>
                  <a:ext cx="74520" cy="7020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68"/>
                <p:cNvSpPr/>
                <p:nvPr/>
              </p:nvSpPr>
              <p:spPr>
                <a:xfrm>
                  <a:off x="6623280" y="1339920"/>
                  <a:ext cx="113760" cy="7740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69"/>
                <p:cNvSpPr/>
                <p:nvPr/>
              </p:nvSpPr>
              <p:spPr>
                <a:xfrm>
                  <a:off x="6743160" y="1425960"/>
                  <a:ext cx="33840" cy="39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70"/>
                <p:cNvSpPr/>
                <p:nvPr/>
              </p:nvSpPr>
              <p:spPr>
                <a:xfrm>
                  <a:off x="5892480" y="1155240"/>
                  <a:ext cx="335160" cy="1508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71"/>
                <p:cNvSpPr/>
                <p:nvPr/>
              </p:nvSpPr>
              <p:spPr>
                <a:xfrm>
                  <a:off x="5145120" y="1209960"/>
                  <a:ext cx="2669400" cy="892080"/>
                </a:xfrm>
                <a:custGeom>
                  <a:avLst/>
                  <a:gdLst>
                    <a:gd name="textAreaLeft" fmla="*/ 0 w 2669400"/>
                    <a:gd name="textAreaRight" fmla="*/ 2669760 w 266940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72"/>
                <p:cNvSpPr/>
                <p:nvPr/>
              </p:nvSpPr>
              <p:spPr>
                <a:xfrm>
                  <a:off x="5830560" y="1396440"/>
                  <a:ext cx="1044360" cy="591840"/>
                </a:xfrm>
                <a:custGeom>
                  <a:avLst/>
                  <a:gdLst>
                    <a:gd name="textAreaLeft" fmla="*/ 0 w 1044360"/>
                    <a:gd name="textAreaRight" fmla="*/ 1044720 w 1044360"/>
                    <a:gd name="textAreaTop" fmla="*/ 0 h 591840"/>
                    <a:gd name="textAreaBottom" fmla="*/ 592200 h 59184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73"/>
                <p:cNvSpPr/>
                <p:nvPr/>
              </p:nvSpPr>
              <p:spPr>
                <a:xfrm>
                  <a:off x="5112360" y="1524600"/>
                  <a:ext cx="54720" cy="421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74"/>
                <p:cNvSpPr/>
                <p:nvPr/>
              </p:nvSpPr>
              <p:spPr>
                <a:xfrm>
                  <a:off x="4845240" y="1283760"/>
                  <a:ext cx="87120" cy="252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75"/>
                <p:cNvSpPr/>
                <p:nvPr/>
              </p:nvSpPr>
              <p:spPr>
                <a:xfrm>
                  <a:off x="4819680" y="1845720"/>
                  <a:ext cx="64800" cy="65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76"/>
                <p:cNvSpPr/>
                <p:nvPr/>
              </p:nvSpPr>
              <p:spPr>
                <a:xfrm>
                  <a:off x="4909680" y="1864440"/>
                  <a:ext cx="39240" cy="36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77"/>
                <p:cNvSpPr/>
                <p:nvPr/>
              </p:nvSpPr>
              <p:spPr>
                <a:xfrm>
                  <a:off x="4395960" y="2047680"/>
                  <a:ext cx="71640" cy="51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78"/>
                <p:cNvSpPr/>
                <p:nvPr/>
              </p:nvSpPr>
              <p:spPr>
                <a:xfrm>
                  <a:off x="4159440" y="1119960"/>
                  <a:ext cx="271440" cy="986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79"/>
                <p:cNvSpPr/>
                <p:nvPr/>
              </p:nvSpPr>
              <p:spPr>
                <a:xfrm>
                  <a:off x="3516120" y="942480"/>
                  <a:ext cx="123840" cy="460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80"/>
                <p:cNvSpPr/>
                <p:nvPr/>
              </p:nvSpPr>
              <p:spPr>
                <a:xfrm>
                  <a:off x="3561120" y="984600"/>
                  <a:ext cx="113760" cy="7452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181"/>
                <p:cNvSpPr/>
                <p:nvPr/>
              </p:nvSpPr>
              <p:spPr>
                <a:xfrm>
                  <a:off x="3657960" y="1027080"/>
                  <a:ext cx="96840" cy="50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182"/>
                <p:cNvSpPr/>
                <p:nvPr/>
              </p:nvSpPr>
              <p:spPr>
                <a:xfrm>
                  <a:off x="2390760" y="1084680"/>
                  <a:ext cx="2763720" cy="159552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1595520"/>
                    <a:gd name="textAreaBottom" fmla="*/ 1595880 h 15955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83"/>
                <p:cNvSpPr/>
                <p:nvPr/>
              </p:nvSpPr>
              <p:spPr>
                <a:xfrm>
                  <a:off x="4180320" y="1861560"/>
                  <a:ext cx="80280" cy="29016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84"/>
                <p:cNvSpPr/>
                <p:nvPr/>
              </p:nvSpPr>
              <p:spPr>
                <a:xfrm>
                  <a:off x="4131360" y="2107800"/>
                  <a:ext cx="240480" cy="1832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183240"/>
                    <a:gd name="textAreaBottom" fmla="*/ 183240 h 18324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85"/>
                <p:cNvSpPr/>
                <p:nvPr/>
              </p:nvSpPr>
              <p:spPr>
                <a:xfrm>
                  <a:off x="3869280" y="2279880"/>
                  <a:ext cx="320760" cy="3790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86"/>
                <p:cNvSpPr/>
                <p:nvPr/>
              </p:nvSpPr>
              <p:spPr>
                <a:xfrm>
                  <a:off x="4087440" y="2388600"/>
                  <a:ext cx="25200" cy="226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87"/>
                <p:cNvSpPr/>
                <p:nvPr/>
              </p:nvSpPr>
              <p:spPr>
                <a:xfrm>
                  <a:off x="2262960" y="2649240"/>
                  <a:ext cx="1411920" cy="997560"/>
                </a:xfrm>
                <a:custGeom>
                  <a:avLst/>
                  <a:gdLst>
                    <a:gd name="textAreaLeft" fmla="*/ 0 w 1411920"/>
                    <a:gd name="textAreaRight" fmla="*/ 1412280 w 1411920"/>
                    <a:gd name="textAreaTop" fmla="*/ 0 h 997560"/>
                    <a:gd name="textAreaBottom" fmla="*/ 997920 h 9975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188"/>
                <p:cNvSpPr/>
                <p:nvPr/>
              </p:nvSpPr>
              <p:spPr>
                <a:xfrm>
                  <a:off x="2510640" y="3338640"/>
                  <a:ext cx="75960" cy="15084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89"/>
                <p:cNvSpPr/>
                <p:nvPr/>
              </p:nvSpPr>
              <p:spPr>
                <a:xfrm>
                  <a:off x="3593160" y="2815560"/>
                  <a:ext cx="77400" cy="12672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90"/>
                <p:cNvSpPr/>
                <p:nvPr/>
              </p:nvSpPr>
              <p:spPr>
                <a:xfrm>
                  <a:off x="3803040" y="2756520"/>
                  <a:ext cx="33840" cy="518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91"/>
                <p:cNvSpPr/>
                <p:nvPr/>
              </p:nvSpPr>
              <p:spPr>
                <a:xfrm>
                  <a:off x="10440" y="2270160"/>
                  <a:ext cx="1765080" cy="2470680"/>
                </a:xfrm>
                <a:custGeom>
                  <a:avLst/>
                  <a:gdLst>
                    <a:gd name="textAreaLeft" fmla="*/ 0 w 1765080"/>
                    <a:gd name="textAreaRight" fmla="*/ 1765440 w 1765080"/>
                    <a:gd name="textAreaTop" fmla="*/ 0 h 2470680"/>
                    <a:gd name="textAreaBottom" fmla="*/ 2471040 h 247068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92"/>
                <p:cNvSpPr/>
                <p:nvPr/>
              </p:nvSpPr>
              <p:spPr>
                <a:xfrm>
                  <a:off x="693000" y="2973600"/>
                  <a:ext cx="744840" cy="199836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1998360"/>
                    <a:gd name="textAreaBottom" fmla="*/ 1998720 h 199836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193"/>
                <p:cNvSpPr/>
                <p:nvPr/>
              </p:nvSpPr>
              <p:spPr>
                <a:xfrm>
                  <a:off x="1616400" y="4109400"/>
                  <a:ext cx="161640" cy="503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194"/>
                <p:cNvSpPr/>
                <p:nvPr/>
              </p:nvSpPr>
              <p:spPr>
                <a:xfrm>
                  <a:off x="1563120" y="4089960"/>
                  <a:ext cx="29160" cy="36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195"/>
                <p:cNvSpPr/>
                <p:nvPr/>
              </p:nvSpPr>
              <p:spPr>
                <a:xfrm>
                  <a:off x="1864440" y="3822120"/>
                  <a:ext cx="33840" cy="630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196"/>
                <p:cNvSpPr/>
                <p:nvPr/>
              </p:nvSpPr>
              <p:spPr>
                <a:xfrm>
                  <a:off x="1829160" y="3221640"/>
                  <a:ext cx="37800" cy="367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197"/>
                <p:cNvSpPr/>
                <p:nvPr/>
              </p:nvSpPr>
              <p:spPr>
                <a:xfrm>
                  <a:off x="218520" y="2477520"/>
                  <a:ext cx="99720" cy="507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198"/>
                <p:cNvSpPr/>
                <p:nvPr/>
              </p:nvSpPr>
              <p:spPr>
                <a:xfrm>
                  <a:off x="1449000" y="1992600"/>
                  <a:ext cx="1205280" cy="1234440"/>
                </a:xfrm>
                <a:custGeom>
                  <a:avLst/>
                  <a:gdLst>
                    <a:gd name="textAreaLeft" fmla="*/ 0 w 1205280"/>
                    <a:gd name="textAreaRight" fmla="*/ 1205640 w 1205280"/>
                    <a:gd name="textAreaTop" fmla="*/ 0 h 1234440"/>
                    <a:gd name="textAreaBottom" fmla="*/ 1234800 h 123444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199"/>
                <p:cNvSpPr/>
                <p:nvPr/>
              </p:nvSpPr>
              <p:spPr>
                <a:xfrm>
                  <a:off x="629640" y="1203120"/>
                  <a:ext cx="2221560" cy="1179720"/>
                </a:xfrm>
                <a:custGeom>
                  <a:avLst/>
                  <a:gdLst>
                    <a:gd name="textAreaLeft" fmla="*/ 0 w 2221560"/>
                    <a:gd name="textAreaRight" fmla="*/ 2221920 w 2221560"/>
                    <a:gd name="textAreaTop" fmla="*/ 0 h 1179720"/>
                    <a:gd name="textAreaBottom" fmla="*/ 1180080 h 117972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200"/>
                <p:cNvSpPr/>
                <p:nvPr/>
              </p:nvSpPr>
              <p:spPr>
                <a:xfrm>
                  <a:off x="1064880" y="1503360"/>
                  <a:ext cx="389520" cy="30132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301320"/>
                    <a:gd name="textAreaBottom" fmla="*/ 301680 h 30132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201"/>
                <p:cNvSpPr/>
                <p:nvPr/>
              </p:nvSpPr>
              <p:spPr>
                <a:xfrm>
                  <a:off x="1047960" y="1602000"/>
                  <a:ext cx="205200" cy="11664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02"/>
                <p:cNvSpPr/>
                <p:nvPr/>
              </p:nvSpPr>
              <p:spPr>
                <a:xfrm>
                  <a:off x="1353600" y="1198800"/>
                  <a:ext cx="233640" cy="13680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136800"/>
                    <a:gd name="textAreaBottom" fmla="*/ 136800 h 13680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03"/>
                <p:cNvSpPr/>
                <p:nvPr/>
              </p:nvSpPr>
              <p:spPr>
                <a:xfrm>
                  <a:off x="1611000" y="793080"/>
                  <a:ext cx="615240" cy="339480"/>
                </a:xfrm>
                <a:custGeom>
                  <a:avLst/>
                  <a:gdLst>
                    <a:gd name="textAreaLeft" fmla="*/ 0 w 615240"/>
                    <a:gd name="textAreaRight" fmla="*/ 615600 w 61524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04"/>
                <p:cNvSpPr/>
                <p:nvPr/>
              </p:nvSpPr>
              <p:spPr>
                <a:xfrm>
                  <a:off x="2343240" y="908640"/>
                  <a:ext cx="323640" cy="1508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205"/>
                <p:cNvSpPr/>
                <p:nvPr/>
              </p:nvSpPr>
              <p:spPr>
                <a:xfrm>
                  <a:off x="2916000" y="902880"/>
                  <a:ext cx="309600" cy="7884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206"/>
                <p:cNvSpPr/>
                <p:nvPr/>
              </p:nvSpPr>
              <p:spPr>
                <a:xfrm>
                  <a:off x="2745720" y="1063800"/>
                  <a:ext cx="419400" cy="19008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207"/>
                <p:cNvSpPr/>
                <p:nvPr/>
              </p:nvSpPr>
              <p:spPr>
                <a:xfrm>
                  <a:off x="1116720" y="208404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208"/>
                <p:cNvSpPr/>
                <p:nvPr/>
              </p:nvSpPr>
              <p:spPr>
                <a:xfrm>
                  <a:off x="1056240" y="2154600"/>
                  <a:ext cx="77400" cy="604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209"/>
                <p:cNvSpPr/>
                <p:nvPr/>
              </p:nvSpPr>
              <p:spPr>
                <a:xfrm>
                  <a:off x="1311120" y="2371680"/>
                  <a:ext cx="130680" cy="3384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210"/>
                <p:cNvSpPr/>
                <p:nvPr/>
              </p:nvSpPr>
              <p:spPr>
                <a:xfrm>
                  <a:off x="1534680" y="2367360"/>
                  <a:ext cx="74520" cy="77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211"/>
                <p:cNvSpPr/>
                <p:nvPr/>
              </p:nvSpPr>
              <p:spPr>
                <a:xfrm>
                  <a:off x="938160" y="2153520"/>
                  <a:ext cx="51840" cy="518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FF0-87D1-4E10-B77E-1A99C1DCF47E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S Informal Group Activities up to Now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0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F7D-7446-4C47-974B-2DCAB9C73463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571680" y="3486240"/>
            <a:ext cx="79992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18, 2009, Geneva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CE/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 Informal Group/1st Adhoc Meeting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571680" y="52862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. Hiramatsu &amp; M. Shima, Japan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5928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6359"/>
                </a:solidFill>
                <a:uFillTx/>
                <a:latin typeface="Times New Roman"/>
              </a:rPr>
              <a:t>Informal Document No.</a:t>
            </a:r>
            <a:r>
              <a:rPr b="0" lang="en-GB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6359"/>
                </a:solidFill>
                <a:latin typeface="Times New Roman"/>
              </a:rPr>
              <a:t>ITS-17-02 </a:t>
            </a:r>
            <a:r>
              <a:rPr b="0" lang="en-GB" sz="1800" spc="-1" strike="noStrike">
                <a:solidFill>
                  <a:srgbClr val="006359"/>
                </a:solidFill>
                <a:latin typeface="Times New Roman"/>
              </a:rPr>
              <a:t>17th session, 18 September 2009, agenda item 2.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ctivities in 2007 &amp; 2008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24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Special Session regarding WP29/ITS Informal Group in ITS World Congress : October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ess Report on Warning Principles from IHRA-ITS WG : November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ft Final Report on Warning Principles from IHRA-ITS WG : November 2008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d upon establishment of Adhoc Group to modify warning principles according to the framework of WP29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we obtain</a:t>
            </a:r>
            <a:r>
              <a:rPr b="1" i="1" lang="ja-JP" sz="3200" spc="-1" strike="noStrike">
                <a:solidFill>
                  <a:srgbClr val="ff0000"/>
                </a:solidFill>
                <a:latin typeface="Times New Roman"/>
              </a:rPr>
              <a:t>・・・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F10A-5CEE-4D33-81A3-6416DC1EA5CA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ctivities up to 2007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24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ablished : June 2002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C Round Table : February 2004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d upon continuation of activity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val of TOR : November 2004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common understanding of driver assistance systems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change of information on technology trend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ew activity in the second year to 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val of Report of Two Years Activities : March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were approved </a:t>
            </a:r>
            <a:r>
              <a:rPr b="1" i="1" lang="ja-JP" sz="3200" spc="-1" strike="noStrike">
                <a:solidFill>
                  <a:srgbClr val="ff0000"/>
                </a:solidFill>
                <a:latin typeface="Times New Roman"/>
              </a:rPr>
              <a:t>・・・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B10-F0E9-4940-908F-CD958DDD136A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42560" y="214200"/>
            <a:ext cx="8713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aseline Idea from the Aspect of 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Driver Behavior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7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411-5231-4F67-B676-0EFB64F29BAC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 flipV="1">
            <a:off x="5221440" y="2218680"/>
            <a:ext cx="1726920" cy="2087640"/>
          </a:xfrm>
          <a:custGeom>
            <a:avLst/>
            <a:gdLst>
              <a:gd name="textAreaLeft" fmla="*/ 0 w 1726920"/>
              <a:gd name="textAreaRight" fmla="*/ 1521000 w 1726920"/>
              <a:gd name="textAreaTop" fmla="*/ 1844280 h 2087640"/>
              <a:gd name="textAreaBottom" fmla="*/ 2087640 h 2087640"/>
            </a:gdLst>
            <a:ahLst/>
            <a:rect l="textAreaLeft" t="textAreaTop" r="textAreaRight" b="textAreaBottom"/>
            <a:pathLst>
              <a:path w="21600" h="21600">
                <a:moveTo>
                  <a:pt x="17917" y="0"/>
                </a:moveTo>
                <a:lnTo>
                  <a:pt x="14234" y="5115"/>
                </a:lnTo>
                <a:lnTo>
                  <a:pt x="16810" y="5115"/>
                </a:lnTo>
                <a:lnTo>
                  <a:pt x="16810" y="19086"/>
                </a:lnTo>
                <a:lnTo>
                  <a:pt x="0" y="19086"/>
                </a:lnTo>
                <a:lnTo>
                  <a:pt x="0" y="21600"/>
                </a:lnTo>
                <a:lnTo>
                  <a:pt x="19024" y="21600"/>
                </a:lnTo>
                <a:lnTo>
                  <a:pt x="19024" y="5115"/>
                </a:lnTo>
                <a:lnTo>
                  <a:pt x="21600" y="51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1836720" y="2295360"/>
            <a:ext cx="1065240" cy="222732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672" h="1056">
                <a:moveTo>
                  <a:pt x="0" y="1056"/>
                </a:moveTo>
                <a:lnTo>
                  <a:pt x="0" y="0"/>
                </a:lnTo>
                <a:lnTo>
                  <a:pt x="672" y="0"/>
                </a:lnTo>
              </a:path>
            </a:pathLst>
          </a:cu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2808360" y="1914480"/>
            <a:ext cx="2971800" cy="79524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Advanced Technologies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(Driver Assistance Systems)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4429080" y="2793960"/>
            <a:ext cx="172872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Judgment :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Warn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6805440" y="2793960"/>
            <a:ext cx="158436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Operation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 :</a:t>
            </a:r>
            <a:r>
              <a:rPr b="0" i="1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Control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068720" y="2722680"/>
            <a:ext cx="432000" cy="1589040"/>
          </a:xfrm>
          <a:prstGeom prst="downArrow">
            <a:avLst>
              <a:gd name="adj1" fmla="val 44639"/>
              <a:gd name="adj2" fmla="val 91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00360" y="1357200"/>
            <a:ext cx="3168720" cy="368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Advanced Driv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3214800" y="6286680"/>
            <a:ext cx="3168360" cy="368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Conventional  Driv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6" name="Freeform 12"/>
          <p:cNvSpPr/>
          <p:nvPr/>
        </p:nvSpPr>
        <p:spPr>
          <a:xfrm>
            <a:off x="1852560" y="4676760"/>
            <a:ext cx="5943600" cy="144792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3600" h="912">
                <a:moveTo>
                  <a:pt x="3600" y="0"/>
                </a:moveTo>
                <a:lnTo>
                  <a:pt x="3600" y="912"/>
                </a:lnTo>
                <a:lnTo>
                  <a:pt x="0" y="912"/>
                </a:lnTo>
                <a:lnTo>
                  <a:pt x="0" y="96"/>
                </a:lnTo>
              </a:path>
            </a:pathLst>
          </a:custGeom>
          <a:noFill/>
          <a:ln w="5724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7" name="Line 13"/>
          <p:cNvSpPr/>
          <p:nvPr/>
        </p:nvSpPr>
        <p:spPr>
          <a:xfrm>
            <a:off x="1835280" y="4667400"/>
            <a:ext cx="6537240" cy="0"/>
          </a:xfrm>
          <a:prstGeom prst="line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614680" y="4295880"/>
            <a:ext cx="2819160" cy="718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Human Driver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1655640" y="4467240"/>
            <a:ext cx="381240" cy="380880"/>
          </a:xfrm>
          <a:prstGeom prst="flowChartSummingJunc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206640" y="42242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平成角ゴシック"/>
              </a:rPr>
              <a:t>Environment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1" name="Freeform 17"/>
          <p:cNvSpPr/>
          <p:nvPr/>
        </p:nvSpPr>
        <p:spPr>
          <a:xfrm>
            <a:off x="3924360" y="4867200"/>
            <a:ext cx="2730600" cy="72252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1776" h="240">
                <a:moveTo>
                  <a:pt x="1776" y="0"/>
                </a:moveTo>
                <a:lnTo>
                  <a:pt x="1776" y="240"/>
                </a:lnTo>
                <a:lnTo>
                  <a:pt x="0" y="24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002060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2" name="Line 18"/>
          <p:cNvSpPr/>
          <p:nvPr/>
        </p:nvSpPr>
        <p:spPr>
          <a:xfrm>
            <a:off x="316080" y="4653000"/>
            <a:ext cx="1355400" cy="0"/>
          </a:xfrm>
          <a:prstGeom prst="line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3637080" y="557208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平成角ゴシック"/>
              </a:rPr>
              <a:t>Feedback of Vehicle Behavior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4" name="Rectangle 20"/>
          <p:cNvSpPr/>
          <p:nvPr/>
        </p:nvSpPr>
        <p:spPr>
          <a:xfrm>
            <a:off x="5950080" y="4295880"/>
            <a:ext cx="1447560" cy="718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Vehicle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pic>
        <p:nvPicPr>
          <p:cNvPr id="535" name="Picture 23" descr="0cp_2tzf[1]"/>
          <p:cNvPicPr/>
          <p:nvPr/>
        </p:nvPicPr>
        <p:blipFill>
          <a:blip r:embed="rId2"/>
          <a:stretch/>
        </p:blipFill>
        <p:spPr>
          <a:xfrm>
            <a:off x="5292720" y="3300480"/>
            <a:ext cx="839880" cy="1081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2" descr="bcslou22[1]"/>
          <p:cNvPicPr/>
          <p:nvPr/>
        </p:nvPicPr>
        <p:blipFill>
          <a:blip r:embed="rId3"/>
          <a:stretch/>
        </p:blipFill>
        <p:spPr>
          <a:xfrm>
            <a:off x="1285920" y="1785960"/>
            <a:ext cx="863640" cy="1152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4" descr="0hogllva[1]"/>
          <p:cNvPicPr/>
          <p:nvPr/>
        </p:nvPicPr>
        <p:blipFill>
          <a:blip r:embed="rId4"/>
          <a:stretch/>
        </p:blipFill>
        <p:spPr>
          <a:xfrm>
            <a:off x="7813800" y="344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9"/>
          <p:cNvSpPr/>
          <p:nvPr/>
        </p:nvSpPr>
        <p:spPr>
          <a:xfrm>
            <a:off x="1981080" y="2793960"/>
            <a:ext cx="153036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Recognition :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Information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3421080" y="2722680"/>
            <a:ext cx="431640" cy="1589040"/>
          </a:xfrm>
          <a:prstGeom prst="downArrow">
            <a:avLst>
              <a:gd name="adj1" fmla="val 44639"/>
              <a:gd name="adj2" fmla="val 92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グループ化 25"/>
          <p:cNvGrpSpPr/>
          <p:nvPr/>
        </p:nvGrpSpPr>
        <p:grpSpPr>
          <a:xfrm>
            <a:off x="357120" y="1771560"/>
            <a:ext cx="8380440" cy="4453560"/>
            <a:chOff x="357120" y="1771560"/>
            <a:chExt cx="8380440" cy="4453560"/>
          </a:xfrm>
        </p:grpSpPr>
        <p:sp>
          <p:nvSpPr>
            <p:cNvPr id="541" name="AutoShape 3"/>
            <p:cNvSpPr/>
            <p:nvPr/>
          </p:nvSpPr>
          <p:spPr>
            <a:xfrm>
              <a:off x="357120" y="2214360"/>
              <a:ext cx="8280720" cy="1571760"/>
            </a:xfrm>
            <a:prstGeom prst="leftRightArrow">
              <a:avLst>
                <a:gd name="adj1" fmla="val 54176"/>
                <a:gd name="adj2" fmla="val 29854"/>
              </a:avLst>
            </a:prstGeom>
            <a:solidFill>
              <a:srgbClr val="ffcc00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>
              <a:off x="717480" y="2635200"/>
              <a:ext cx="1222200" cy="722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>
              <a:off x="2012760" y="2635200"/>
              <a:ext cx="1224000" cy="722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ritical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>
              <a:off x="3309840" y="2635200"/>
              <a:ext cx="1222200" cy="722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e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>
              <a:off x="5759280" y="2636640"/>
              <a:ext cx="1224000" cy="7221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>
              <a:off x="7054920" y="2635200"/>
              <a:ext cx="1224000" cy="722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st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7" name="Text Box 9"/>
            <p:cNvSpPr/>
            <p:nvPr/>
          </p:nvSpPr>
          <p:spPr>
            <a:xfrm>
              <a:off x="1365120" y="1771560"/>
              <a:ext cx="259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ive Safety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rimary Safety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8" name="Text Box 10"/>
            <p:cNvSpPr/>
            <p:nvPr/>
          </p:nvSpPr>
          <p:spPr>
            <a:xfrm>
              <a:off x="5397480" y="1771560"/>
              <a:ext cx="259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assive Safety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condary Safety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9" name="AutoShape 11"/>
            <p:cNvSpPr/>
            <p:nvPr/>
          </p:nvSpPr>
          <p:spPr>
            <a:xfrm>
              <a:off x="4533840" y="2357280"/>
              <a:ext cx="1295280" cy="136512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5929200" y="4214880"/>
              <a:ext cx="280836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Control at pre-crash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cxnSp>
          <p:nvCxnSpPr>
            <p:cNvPr id="551" name="AutoShape 14"/>
            <p:cNvCxnSpPr/>
            <p:nvPr/>
          </p:nvCxnSpPr>
          <p:spPr>
            <a:xfrm>
              <a:off x="1582200" y="3487320"/>
              <a:ext cx="1080" cy="1080"/>
            </a:xfrm>
            <a:prstGeom prst="straightConnector1">
              <a:avLst/>
            </a:prstGeom>
            <a:ln w="9360">
              <a:solidFill>
                <a:srgbClr val="006359"/>
              </a:solidFill>
              <a:miter/>
              <a:tailEnd len="med" type="triangle" w="med"/>
            </a:ln>
          </p:spPr>
        </p:cxnSp>
        <p:sp>
          <p:nvSpPr>
            <p:cNvPr id="552" name="Text Box 15"/>
            <p:cNvSpPr/>
            <p:nvPr/>
          </p:nvSpPr>
          <p:spPr>
            <a:xfrm>
              <a:off x="357120" y="4214880"/>
              <a:ext cx="2808360" cy="19227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formation presenta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Control at normal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3" name="Text Box 16"/>
            <p:cNvSpPr/>
            <p:nvPr/>
          </p:nvSpPr>
          <p:spPr>
            <a:xfrm>
              <a:off x="3429000" y="4357800"/>
              <a:ext cx="2232000" cy="45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Warning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4" name="Text Box 17"/>
            <p:cNvSpPr/>
            <p:nvPr/>
          </p:nvSpPr>
          <p:spPr>
            <a:xfrm>
              <a:off x="4286160" y="5643720"/>
              <a:ext cx="381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wo types of control </a:t>
              </a:r>
              <a:endParaRPr b="0" lang="en-US" sz="32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cxnSp>
          <p:nvCxnSpPr>
            <p:cNvPr id="555" name="AutoShape 18"/>
            <p:cNvCxnSpPr>
              <a:stCxn id="542" idx="4"/>
              <a:endCxn id="552" idx="0"/>
            </p:cNvCxnSpPr>
            <p:nvPr/>
          </p:nvCxnSpPr>
          <p:spPr>
            <a:xfrm>
              <a:off x="1327320" y="3357000"/>
              <a:ext cx="432360" cy="85788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6" name="AutoShape 19"/>
            <p:cNvCxnSpPr>
              <a:endCxn id="553" idx="0"/>
            </p:cNvCxnSpPr>
            <p:nvPr/>
          </p:nvCxnSpPr>
          <p:spPr>
            <a:xfrm>
              <a:off x="2676240" y="3357360"/>
              <a:ext cx="1869120" cy="100080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7" name="AutoShape 20"/>
            <p:cNvCxnSpPr>
              <a:stCxn id="544" idx="4"/>
              <a:endCxn id="550" idx="0"/>
            </p:cNvCxnSpPr>
            <p:nvPr/>
          </p:nvCxnSpPr>
          <p:spPr>
            <a:xfrm>
              <a:off x="3920040" y="3357000"/>
              <a:ext cx="3413880" cy="85788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58" name="AutoShape 21"/>
            <p:cNvSpPr/>
            <p:nvPr/>
          </p:nvSpPr>
          <p:spPr>
            <a:xfrm flipH="1">
              <a:off x="3287520" y="5715000"/>
              <a:ext cx="863280" cy="503280"/>
            </a:xfrm>
            <a:custGeom>
              <a:avLst/>
              <a:gdLst>
                <a:gd name="textAreaLeft" fmla="*/ 107640 w 863280"/>
                <a:gd name="textAreaRight" fmla="*/ 755640 w 863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9" name="AutoShape 22"/>
            <p:cNvSpPr/>
            <p:nvPr/>
          </p:nvSpPr>
          <p:spPr>
            <a:xfrm flipH="1" rot="5400000">
              <a:off x="6945120" y="5126760"/>
              <a:ext cx="612720" cy="502920"/>
            </a:xfrm>
            <a:custGeom>
              <a:avLst/>
              <a:gdLst>
                <a:gd name="textAreaLeft" fmla="*/ 76320 w 612720"/>
                <a:gd name="textAreaRight" fmla="*/ 536400 w 612720"/>
                <a:gd name="textAreaTop" fmla="*/ 125640 h 502920"/>
                <a:gd name="textAreaBottom" fmla="*/ 377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1714320" y="342900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ahoma"/>
                </a:rPr>
                <a:t>Driving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61" name="テキスト ボックス 14"/>
            <p:cNvSpPr/>
            <p:nvPr/>
          </p:nvSpPr>
          <p:spPr>
            <a:xfrm>
              <a:off x="3214440" y="2285640"/>
              <a:ext cx="15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st second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</p:grpSp>
      <p:sp>
        <p:nvSpPr>
          <p:cNvPr id="562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FE0-3C96-4000-875F-F0799E311D3F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214200" y="285840"/>
            <a:ext cx="86425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aseline Idea from the Aspec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equence of Driving Condition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285480" y="329760"/>
            <a:ext cx="860724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ommon Understanding through Exchange of Views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ugh exchange of views among IHRA-ITS WG, OICA, CLEPA, EU, ASV, we have reached ;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Information&gt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commitment basis guidelines for information presentation systems are seen in ESoP in Europe, AAM Guideline in North America, and JAMA Guideline in Japan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Warning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rules or guidelines are seen for warning at the moment, and proposal to guide warning systems are expected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Control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normal driving condition, the idea of “Driver in the Loop” can be a good base for common understanding.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D99-F96D-4813-A968-F9D53290653B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4A8-EE5C-4400-9404-EF720CEB3570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8560" y="428760"/>
            <a:ext cx="878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reatment of In-Vehicle ITS Technologies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keep monitoring the situation of self-commitment basis guidelines in each region for a time being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Warning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maintain its cooperation with IHRA-ITS WG for getting the way to treat warning systems including HMI aspect.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ne mechanism for assessing regulatory requirements by involving GRs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14200" y="4287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Control 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have following understanding as a base for future consideration </a:t>
            </a:r>
            <a:endParaRPr b="0" lang="en-US" sz="24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tallation of auditory or visual announcement devices providing information on the system function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 systems activat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der normal driving condi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be designed based on “Driver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uncem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made when the driving initiative is transferred from system to driver. 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er is kept involved in driving operation. For exampl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rting initiati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uld not be given to system.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allow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witching on or of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driver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allow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verrid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driver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for Control systems to reduce collision speed activat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der pre-crash condi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9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908-1A5F-4C33-BB9F-492A8A174525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179280" y="500040"/>
            <a:ext cx="87854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Role of ITS Informal Group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Endurance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preferable to maintain ITS Informal Group and to conduct its meeting about once a year, in particular studies on HMI through cooperation with IHRA-ITS WG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asks in the future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ields not covering by existing GRs or on subjects requiring strategic examination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deem at WP29 or GRs, or items across GRs for overall management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tation of rule making by member country of 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1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A03D-8D00-450F-862F-02FEE2636D2B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78920" y="428400"/>
            <a:ext cx="8821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nvolving Groups of Experts for "Warning"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999"/>
              </a:lnSpc>
              <a:spcBef>
                <a:spcPts val="1800"/>
              </a:spcBef>
              <a:buClr>
                <a:srgbClr val="00cab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Compatibility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798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One mechanism to avoid difficulties in the future will be to confirm that all new regulatory requirements are assessed against ECE regulation [No121 dealing with Controls and Displays] and the respective best practice guidance on HMI .</a:t>
            </a:r>
            <a:endParaRPr b="0" lang="en-US" sz="25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ab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Mechanism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798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Chairmen of the working groups may also consider it good practice to submit draft regulatory proposals to the Group of experts on General Safety for a validation check prior to WP29.  Alternatively, WP29 might ask the chairmen to confirm that texts comply with the regulation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3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17A-BC3C-4312-B95D-2056C83E1C5E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Ramos</cp:lastModifiedBy>
  <cp:lastPrinted>2002-02-04T03:12:41Z</cp:lastPrinted>
  <dcterms:modified xsi:type="dcterms:W3CDTF">2009-09-16T09:25:58Z</dcterms:modified>
  <cp:revision>291</cp:revision>
  <dc:subject/>
  <dc:title>ITASSup</dc:title>
</cp:coreProperties>
</file>