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7.png" ContentType="image/png"/>
  <Override PartName="/ppt/media/image14.wmf" ContentType="image/x-wmf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3.png" ContentType="image/png"/>
  <Override PartName="/ppt/media/image41.png" ContentType="image/png"/>
  <Override PartName="/ppt/media/image3.jpeg" ContentType="image/jpeg"/>
  <Override PartName="/ppt/media/image38.png" ContentType="image/png"/>
  <Override PartName="/ppt/media/image36.png" ContentType="image/png"/>
  <Override PartName="/ppt/media/image9.jpeg" ContentType="image/jpeg"/>
  <Override PartName="/ppt/media/image33.png" ContentType="image/png"/>
  <Override PartName="/ppt/media/image31.jpeg" ContentType="image/jpeg"/>
  <Override PartName="/ppt/media/image53.png" ContentType="image/png"/>
  <Override PartName="/ppt/media/image16.jpeg" ContentType="image/jpeg"/>
  <Override PartName="/ppt/media/image74.png" ContentType="image/png"/>
  <Override PartName="/ppt/media/image15.png" ContentType="image/png"/>
  <Override PartName="/ppt/media/image18.jpeg" ContentType="image/jpeg"/>
  <Override PartName="/ppt/media/image19.jpeg" ContentType="image/jpeg"/>
  <Override PartName="/ppt/media/image49.png" ContentType="image/png"/>
  <Override PartName="/ppt/media/image23.jpeg" ContentType="image/jpeg"/>
  <Override PartName="/ppt/media/image58.png" ContentType="image/png"/>
  <Override PartName="/ppt/media/image60.png" ContentType="image/png"/>
  <Override PartName="/ppt/media/image61.png" ContentType="image/png"/>
  <Override PartName="/ppt/media/image64.png" ContentType="image/png"/>
  <Override PartName="/ppt/media/image42.png" ContentType="image/png"/>
  <Override PartName="/ppt/media/image26.jpeg" ContentType="image/jpeg"/>
  <Override PartName="/ppt/media/image77.png" ContentType="image/png"/>
  <Override PartName="/ppt/media/image8.wmf" ContentType="image/x-wmf"/>
  <Override PartName="/ppt/media/image40.png" ContentType="image/png"/>
  <Override PartName="/ppt/media/image28.png" ContentType="image/png"/>
  <Override PartName="/ppt/media/image70.png" ContentType="image/png"/>
  <Override PartName="/ppt/media/image65.png" ContentType="image/png"/>
  <Override PartName="/ppt/media/image76.png" ContentType="image/png"/>
  <Override PartName="/ppt/media/image62.png" ContentType="image/png"/>
  <Override PartName="/ppt/media/image73.png" ContentType="image/png"/>
  <Override PartName="/ppt/media/image72.png" ContentType="image/png"/>
  <Override PartName="/ppt/media/image25.wmf" ContentType="image/x-wmf"/>
  <Override PartName="/ppt/media/image68.png" ContentType="image/png"/>
  <Override PartName="/ppt/media/image69.png" ContentType="image/png"/>
  <Override PartName="/ppt/media/image2.png" ContentType="image/png"/>
  <Override PartName="/ppt/media/image32.png" ContentType="image/png"/>
  <Override PartName="/ppt/media/image67.png" ContentType="image/png"/>
  <Override PartName="/ppt/media/image30.png" ContentType="image/png"/>
  <Override PartName="/ppt/media/image37.jpeg" ContentType="image/jpeg"/>
  <Override PartName="/ppt/media/image66.png" ContentType="image/png"/>
  <Override PartName="/ppt/media/image17.jpeg" ContentType="image/jpeg"/>
  <Override PartName="/ppt/media/image63.png" ContentType="image/png"/>
  <Override PartName="/ppt/media/image5.png" ContentType="image/png"/>
  <Override PartName="/ppt/media/image24.jpeg" ContentType="image/jpeg"/>
  <Override PartName="/ppt/media/image59.png" ContentType="image/png"/>
  <Override PartName="/ppt/media/image4.png" ContentType="image/png"/>
  <Override PartName="/ppt/media/image29.jpeg" ContentType="image/jpeg"/>
  <Override PartName="/ppt/media/image12.jpeg" ContentType="image/jpeg"/>
  <Override PartName="/ppt/media/image34.png" ContentType="image/png"/>
  <Override PartName="/ppt/media/image13.jpeg" ContentType="image/jpeg"/>
  <Override PartName="/ppt/media/image44.png" ContentType="image/png"/>
  <Override PartName="/ppt/media/image27.jpeg" ContentType="image/jpeg"/>
  <Override PartName="/ppt/media/image52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6.jpeg" ContentType="image/jpeg"/>
  <Override PartName="/ppt/media/image71.png" ContentType="image/png"/>
  <Override PartName="/ppt/media/image48.png" ContentType="image/png"/>
  <Override PartName="/ppt/media/image11.jpeg" ContentType="image/jpeg"/>
  <Override PartName="/ppt/media/image75.png" ContentType="image/png"/>
  <Override PartName="/ppt/media/image22.jpeg" ContentType="image/jpeg"/>
  <Override PartName="/ppt/media/image39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A114-E57C-4806-8001-AF04BC01A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TA-05-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7D23-35A8-4382-842D-A1B0FD3A4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29B7-034D-4F06-AB35-6AD68D502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gives you a pictoral view of the vehicle and engine manufacturers in India toda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y all happen to be members of SIAM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re are pure European, US Korean and Japanese firm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ian Fir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ian – and foreign joint ventur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6FD6-AEE8-42AB-B8C2-648B3CF73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EA86-0BC1-4284-B427-EAA2BC0B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4233-499A-47CB-A34B-D98DC5CCE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6FC2-3D84-492D-93BA-52727600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8C98-1276-4F0A-B990-D02278BED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8AEF-CB38-4438-AE8D-AE5FB8AA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95AC-D577-4E85-8956-35A78631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5999-FCD1-487D-99BE-82A93475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40FE-4121-4D35-9036-86840502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FB7C-4A7F-4FCC-BFB1-39079941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D200A-32D8-4860-8C94-B5FC6F5F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6FA7-A2B4-45FC-B5B3-29455039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5A56-1D30-4369-BCF4-F3B00391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8260-737D-471C-B43A-7196382F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4715-4E70-4749-A057-68D05962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BBB2-3425-4F40-9743-1BFE983BD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DC42-5B2F-4E59-8311-7BCA6E375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1F650B-BEE7-460F-9A2D-764D8BF09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BCF60B-7175-4BF1-8FB9-D92D3A06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E29E5B-97F0-4FC5-B09C-D307CE9A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430B01-C6DC-4155-8169-3323E5F7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164579-E726-4357-933C-D6182661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6008-CA8F-4543-AFD5-A147B70D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FCA755-4DD0-48C7-82B8-CEE97364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B99F1C-2102-4B44-AC47-1FEB6EF8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8D5538-E123-484C-B5C2-1C96AC62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FAE8F0-B26D-4511-8AA8-E5D5F677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FC9F75-96D2-4DF2-85F0-837C8E46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60D420-0FF1-4B39-946B-64A69A3E0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60F5B4-6E93-4E64-97F7-C2BC15BDD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1F92D-FA18-44A6-96D2-39238810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5C85E-93DA-4266-B79E-28A66D0B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179C1-2473-466F-9BEC-EDDDE381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DF29-36BD-4AFB-AE82-5D29852C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06821-B4B6-4A74-A7AA-D76596C5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CC79B-C16F-460D-804C-B292B462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C822F-F1CA-48D7-BF3F-5C7D57C6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1D5FD-6741-4E5D-B82F-219FE108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8C3DE-41CC-4DF8-8915-65E163EB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8D752-AED7-4516-A3EC-B0D96D51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C63BF-0FAE-4794-95C0-F4EE9E02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19106-4BB9-421B-8B0C-33BD1AED8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2FAAB-737F-4EFB-BAF5-4FD7D919E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684BD2-D97D-4F23-B0DA-4D0F85D28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6866-0289-4832-B684-6BED66C5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42BF60-5405-4F1E-BF7A-50326C96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559F53-3070-4224-84D3-774A9DE2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195821-4A03-459A-805A-A0D3B9A9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510A97-4440-49CF-966B-B9D2387B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4D96B8-CC19-4310-B0A2-18C82072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C88695-8369-4B6E-BA10-5D7E8F4F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54B372-E963-4FAE-A968-B98DD5BE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B585C9-FCDD-4634-B968-E26C901A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1B1D10-E8B6-4406-9946-DC5272EA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C70FD4-5C56-49CB-971F-25A1FC2D1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C4B7-46F3-4FF6-9BF6-73819756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369FAB-4FEE-444A-9A4E-F69CA9793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DF85DB-6C8B-4ADB-87EF-3B378B44F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2D6AD2-AC43-42B2-9DD7-3916F38D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CD4B37-6080-473B-82E7-185A3D25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5B2505-F520-4EC7-BCB6-1EEBDFD8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ACD317-8CC6-4CD2-9032-DB09E4B0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2A2A7E-BA21-4B8C-A9A0-346395B2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1E12D0-873D-4122-B551-75B60D88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03E759-89A6-46F1-8AD9-9F6A8160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E18232-E7DB-477E-A8EA-08430FE1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F054-E1F0-42FA-8E89-6339E07C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CB880F-DC4F-4F3D-A890-39B2353D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3E8EA3-B136-4146-9817-7E3455AE7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5FD3EA-636D-4311-B5E7-FC20E0DB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A1DD7F-1227-4852-909A-1E81B7280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81F8DF-33D1-4E2E-9188-025D5B58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B25D1B-7546-457C-8F95-4F77A53A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025139-0621-4E26-9792-324CE491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F92B98-F35E-4B37-AE20-9C9D69AD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7B2852-CC0E-46CA-AEC4-B300549A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4AADB7-9F3C-4479-82E9-4F5B0EFC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2382-3DB8-431C-AD28-B3159CD2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43247A-8A2D-4F95-A11D-700DF6F3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A5CE5E-EA01-4AAF-A301-AC2C4AB8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3B1719-13D8-4123-ADE5-35815CB9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1F3234-6C4F-4377-9F78-235081B77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FF6626-3182-4120-9122-C9420BE06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C1B9-76F5-4D3B-BA97-8A1E25DB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I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045F-AC40-484E-B3ED-95B0EC26F52A}" type="slidenum">
              <a:rPr b="1" lang="en-I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I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1E77-7287-4364-9008-6787CDAF3AA0}" type="slidenum">
              <a:rPr b="1" lang="en-I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I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A25C-DA84-4302-A846-44C809F3738C}" type="slidenum">
              <a:rPr b="1" lang="en-I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I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05FA-AF60-4D6F-B75E-1C80287F6485}" type="slidenum">
              <a:rPr b="1" lang="en-I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I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6A05-6F67-43A6-B494-03C4012F5644}" type="slidenum">
              <a:rPr b="1" lang="en-I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I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014F-D139-4A5B-9CFD-7DA7821190B1}" type="slidenum">
              <a:rPr b="1" lang="en-I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I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B2B5-75D7-443F-9A04-5D2935A0C0A5}" type="slidenum">
              <a:rPr b="1" lang="en-I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oleObject" Target="../embeddings/oleObject1.bin"/><Relationship Id="rId15" Type="http://schemas.openxmlformats.org/officeDocument/2006/relationships/image" Target="../media/image14.wmf"/><Relationship Id="rId16" Type="http://schemas.openxmlformats.org/officeDocument/2006/relationships/image" Target="../media/image15.png"/><Relationship Id="rId17" Type="http://schemas.openxmlformats.org/officeDocument/2006/relationships/image" Target="../media/image16.jpeg"/><Relationship Id="rId18" Type="http://schemas.openxmlformats.org/officeDocument/2006/relationships/image" Target="../media/image17.jpeg"/><Relationship Id="rId19" Type="http://schemas.openxmlformats.org/officeDocument/2006/relationships/image" Target="../media/image18.jpeg"/><Relationship Id="rId20" Type="http://schemas.openxmlformats.org/officeDocument/2006/relationships/image" Target="../media/image19.jpeg"/><Relationship Id="rId21" Type="http://schemas.openxmlformats.org/officeDocument/2006/relationships/image" Target="../media/image20.jpeg"/><Relationship Id="rId22" Type="http://schemas.openxmlformats.org/officeDocument/2006/relationships/image" Target="../media/image21.png"/><Relationship Id="rId23" Type="http://schemas.openxmlformats.org/officeDocument/2006/relationships/image" Target="../media/image22.jpeg"/><Relationship Id="rId24" Type="http://schemas.openxmlformats.org/officeDocument/2006/relationships/image" Target="../media/image23.jpeg"/><Relationship Id="rId25" Type="http://schemas.openxmlformats.org/officeDocument/2006/relationships/image" Target="../media/image24.jpeg"/><Relationship Id="rId26" Type="http://schemas.openxmlformats.org/officeDocument/2006/relationships/oleObject" Target="../embeddings/oleObject2.bin"/><Relationship Id="rId27" Type="http://schemas.openxmlformats.org/officeDocument/2006/relationships/image" Target="../media/image25.wmf"/><Relationship Id="rId28" Type="http://schemas.openxmlformats.org/officeDocument/2006/relationships/image" Target="../media/image26.jpeg"/><Relationship Id="rId29" Type="http://schemas.openxmlformats.org/officeDocument/2006/relationships/image" Target="../media/image27.jpeg"/><Relationship Id="rId30" Type="http://schemas.openxmlformats.org/officeDocument/2006/relationships/image" Target="../media/image28.png"/><Relationship Id="rId31" Type="http://schemas.openxmlformats.org/officeDocument/2006/relationships/image" Target="../media/image29.jpeg"/><Relationship Id="rId32" Type="http://schemas.openxmlformats.org/officeDocument/2006/relationships/image" Target="../media/image30.png"/><Relationship Id="rId33" Type="http://schemas.openxmlformats.org/officeDocument/2006/relationships/image" Target="../media/image31.jpeg"/><Relationship Id="rId34" Type="http://schemas.openxmlformats.org/officeDocument/2006/relationships/image" Target="../media/image32.png"/><Relationship Id="rId35" Type="http://schemas.openxmlformats.org/officeDocument/2006/relationships/image" Target="../media/image33.png"/><Relationship Id="rId36" Type="http://schemas.openxmlformats.org/officeDocument/2006/relationships/oleObject" Target="../embeddings/oleObject3.bin"/><Relationship Id="rId37" Type="http://schemas.openxmlformats.org/officeDocument/2006/relationships/image" Target="../media/image34.png"/><Relationship Id="rId38" Type="http://schemas.openxmlformats.org/officeDocument/2006/relationships/image" Target="../media/image35.jpeg"/><Relationship Id="rId39" Type="http://schemas.openxmlformats.org/officeDocument/2006/relationships/oleObject" Target="../embeddings/oleObject4.bin"/><Relationship Id="rId40" Type="http://schemas.openxmlformats.org/officeDocument/2006/relationships/image" Target="../media/image36.png"/><Relationship Id="rId41" Type="http://schemas.openxmlformats.org/officeDocument/2006/relationships/image" Target="../media/image37.jpeg"/><Relationship Id="rId42" Type="http://schemas.openxmlformats.org/officeDocument/2006/relationships/oleObject" Target="../embeddings/oleObject5.bin"/><Relationship Id="rId43" Type="http://schemas.openxmlformats.org/officeDocument/2006/relationships/image" Target="../media/image38.png"/><Relationship Id="rId44" Type="http://schemas.openxmlformats.org/officeDocument/2006/relationships/image" Target="../media/image39.png"/><Relationship Id="rId45" Type="http://schemas.openxmlformats.org/officeDocument/2006/relationships/slideLayout" Target="../slideLayouts/slideLayout13.xml"/><Relationship Id="rId4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image" Target="../media/image50.png"/><Relationship Id="rId12" Type="http://schemas.openxmlformats.org/officeDocument/2006/relationships/image" Target="../media/image51.png"/><Relationship Id="rId13" Type="http://schemas.openxmlformats.org/officeDocument/2006/relationships/image" Target="../media/image52.png"/><Relationship Id="rId14" Type="http://schemas.openxmlformats.org/officeDocument/2006/relationships/image" Target="../media/image53.png"/><Relationship Id="rId15" Type="http://schemas.openxmlformats.org/officeDocument/2006/relationships/image" Target="../media/image54.png"/><Relationship Id="rId16" Type="http://schemas.openxmlformats.org/officeDocument/2006/relationships/image" Target="../media/image55.png"/><Relationship Id="rId17" Type="http://schemas.openxmlformats.org/officeDocument/2006/relationships/image" Target="../media/image49.png"/><Relationship Id="rId18" Type="http://schemas.openxmlformats.org/officeDocument/2006/relationships/image" Target="../media/image56.png"/><Relationship Id="rId19" Type="http://schemas.openxmlformats.org/officeDocument/2006/relationships/image" Target="../media/image57.png"/><Relationship Id="rId20" Type="http://schemas.openxmlformats.org/officeDocument/2006/relationships/image" Target="../media/image58.png"/><Relationship Id="rId21" Type="http://schemas.openxmlformats.org/officeDocument/2006/relationships/image" Target="../media/image59.png"/><Relationship Id="rId22" Type="http://schemas.openxmlformats.org/officeDocument/2006/relationships/image" Target="../media/image60.png"/><Relationship Id="rId23" Type="http://schemas.openxmlformats.org/officeDocument/2006/relationships/image" Target="../media/image61.png"/><Relationship Id="rId24" Type="http://schemas.openxmlformats.org/officeDocument/2006/relationships/image" Target="../media/image62.png"/><Relationship Id="rId25" Type="http://schemas.openxmlformats.org/officeDocument/2006/relationships/image" Target="../media/image63.png"/><Relationship Id="rId26" Type="http://schemas.openxmlformats.org/officeDocument/2006/relationships/image" Target="../media/image62.png"/><Relationship Id="rId27" Type="http://schemas.openxmlformats.org/officeDocument/2006/relationships/image" Target="../media/image64.png"/><Relationship Id="rId28" Type="http://schemas.openxmlformats.org/officeDocument/2006/relationships/image" Target="../media/image65.png"/><Relationship Id="rId29" Type="http://schemas.openxmlformats.org/officeDocument/2006/relationships/image" Target="../media/image66.png"/><Relationship Id="rId30" Type="http://schemas.openxmlformats.org/officeDocument/2006/relationships/image" Target="../media/image67.png"/><Relationship Id="rId31" Type="http://schemas.openxmlformats.org/officeDocument/2006/relationships/image" Target="../media/image68.png"/><Relationship Id="rId32" Type="http://schemas.openxmlformats.org/officeDocument/2006/relationships/image" Target="../media/image69.png"/><Relationship Id="rId33" Type="http://schemas.openxmlformats.org/officeDocument/2006/relationships/image" Target="../media/image70.png"/><Relationship Id="rId34" Type="http://schemas.openxmlformats.org/officeDocument/2006/relationships/image" Target="../media/image71.png"/><Relationship Id="rId35" Type="http://schemas.openxmlformats.org/officeDocument/2006/relationships/image" Target="../media/image72.png"/><Relationship Id="rId36" Type="http://schemas.openxmlformats.org/officeDocument/2006/relationships/image" Target="../media/image73.png"/><Relationship Id="rId37" Type="http://schemas.openxmlformats.org/officeDocument/2006/relationships/image" Target="../media/image74.png"/><Relationship Id="rId3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6920" y="1700280"/>
            <a:ext cx="7631280" cy="16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575f6d"/>
                </a:solidFill>
                <a:latin typeface="Century Schoolbook"/>
              </a:rPr>
              <a:t>PRESENTATION TO INFORMAL GROUP ON DETA</a:t>
            </a:r>
            <a:endParaRPr b="0" lang="en-US" sz="3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042920" y="3429000"/>
            <a:ext cx="7058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9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Shrikant Marathe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109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Director, ARA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"/>
          <p:cNvSpPr/>
          <p:nvPr/>
        </p:nvSpPr>
        <p:spPr>
          <a:xfrm>
            <a:off x="6516720" y="404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TA-05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DIAN APPROACH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valuating the need and necessity to join the 1958 agree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viewing the legal implications for Implementation of all the necessary preparatory step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eking some solution to the current issues with the 1958 agreement need your suppo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dia expects that this process could take approximately 2 years or more depending on outcom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Box 3"/>
          <p:cNvSpPr/>
          <p:nvPr/>
        </p:nvSpPr>
        <p:spPr>
          <a:xfrm>
            <a:off x="533520" y="838080"/>
            <a:ext cx="754380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ormity of Production (CoP)  Cer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 for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ass Emiss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ndards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since 19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 Period  -  At least once in a Fin. Year  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d on Plant-wise Production Quantity of Vehicles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ope extended to Agri. Tractors, Power Tiller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ruction Equipment Vehicles, Gen-Set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afety critical Compon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rought under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rview of CoP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w. e. f. Apr 2009,  Oct 2009,  Apr 20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"/>
          <p:cNvPicPr/>
          <p:nvPr/>
        </p:nvPicPr>
        <p:blipFill>
          <a:blip r:embed="rId1"/>
          <a:srcRect l="10155" t="14584" r="9376" b="14584"/>
          <a:stretch/>
        </p:blipFill>
        <p:spPr>
          <a:xfrm>
            <a:off x="304920" y="636480"/>
            <a:ext cx="8534160" cy="5634000"/>
          </a:xfrm>
          <a:prstGeom prst="rect">
            <a:avLst/>
          </a:prstGeom>
          <a:ln w="0">
            <a:noFill/>
          </a:ln>
        </p:spPr>
      </p:pic>
      <p:sp>
        <p:nvSpPr>
          <p:cNvPr id="533" name="WordArt 3"/>
          <p:cNvSpPr txBox="1"/>
          <p:nvPr/>
        </p:nvSpPr>
        <p:spPr>
          <a:xfrm>
            <a:off x="609480" y="162000"/>
            <a:ext cx="769644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Eras Bold ITC"/>
              </a:rPr>
              <a:t>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Eras Bold ITC"/>
              </a:rPr>
              <a:t>G S R 784 (E) dt 12th Nov '08    w.e.f. 1st Apr 2009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Eras Bold ITC"/>
              <a:ea typeface="Eras Bold ITC"/>
            </a:endParaRPr>
          </a:p>
        </p:txBody>
      </p:sp>
      <p:sp>
        <p:nvSpPr>
          <p:cNvPr id="534" name="AutoShape 4"/>
          <p:cNvSpPr/>
          <p:nvPr/>
        </p:nvSpPr>
        <p:spPr>
          <a:xfrm>
            <a:off x="380880" y="1523880"/>
            <a:ext cx="381240" cy="533520"/>
          </a:xfrm>
          <a:prstGeom prst="pie">
            <a:avLst/>
          </a:prstGeom>
          <a:blipFill rotWithShape="0">
            <a:blip r:embed="rId2"/>
            <a:srcRect/>
            <a:stretch/>
          </a:blip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630000" y="1576440"/>
            <a:ext cx="81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Franklin Gothic Demi"/>
              </a:rPr>
              <a:t>Component Type Approval                                     CoP   AIS: 037-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533520" y="2133360"/>
            <a:ext cx="8610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fe8637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Century Schoolbook"/>
                <a:ea typeface="Arial"/>
              </a:rPr>
              <a:t>Paperless submission  /  On - Line acceptance. . . !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fe8637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Century Schoolbook"/>
                <a:ea typeface="Arial"/>
              </a:rPr>
              <a:t>Automatic tracking for on-going document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fe8637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Century Schoolbook"/>
                <a:ea typeface="Arial"/>
              </a:rPr>
              <a:t>Electronic storage &amp;  retrieval of documentation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fe8637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Century Schoolbook"/>
                <a:ea typeface="Arial"/>
              </a:rPr>
              <a:t>Master set of specifications &amp; certificate in CD version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fe8637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Century Schoolbook"/>
                <a:ea typeface="Arial"/>
              </a:rPr>
              <a:t>Simplifying the documentation by Standard Template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fe8637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Century Schoolbook"/>
                <a:ea typeface="Arial"/>
              </a:rPr>
              <a:t>Type Approval Handbook (CD) fo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Century Schoolbook"/>
                <a:ea typeface="Arial"/>
              </a:rPr>
              <a:t>   </a:t>
            </a:r>
            <a:r>
              <a:rPr b="1" lang="en-US" sz="2200" spc="-1" strike="noStrike">
                <a:solidFill>
                  <a:srgbClr val="0000cc"/>
                </a:solidFill>
                <a:latin typeface="Century Schoolbook"/>
                <a:ea typeface="Arial"/>
              </a:rPr>
              <a:t>- Quick CMVR reference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Century Schoolbook"/>
                <a:ea typeface="Arial"/>
              </a:rPr>
              <a:t>   </a:t>
            </a:r>
            <a:r>
              <a:rPr b="1" lang="en-US" sz="2200" spc="-1" strike="noStrike">
                <a:solidFill>
                  <a:srgbClr val="0000cc"/>
                </a:solidFill>
                <a:latin typeface="Century Schoolbook"/>
                <a:ea typeface="Arial"/>
              </a:rPr>
              <a:t>- Update in the Legislati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7" name="Rectangle 2051"/>
          <p:cNvSpPr/>
          <p:nvPr/>
        </p:nvSpPr>
        <p:spPr>
          <a:xfrm>
            <a:off x="304920" y="10666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598d9"/>
                </a:solidFill>
                <a:latin typeface="Arial"/>
                <a:ea typeface="SimSun"/>
              </a:rPr>
              <a:t>‘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SimSun"/>
              </a:rPr>
              <a:t>Delta</a:t>
            </a:r>
            <a:r>
              <a:rPr b="1" lang="en-US" sz="2800" spc="-1" strike="noStrike">
                <a:solidFill>
                  <a:srgbClr val="7598d9"/>
                </a:solidFill>
                <a:latin typeface="Arial"/>
                <a:ea typeface="SimSun"/>
              </a:rPr>
              <a:t>’ Initiatives for quick homolo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598d9"/>
                </a:solidFill>
                <a:latin typeface="Arial"/>
                <a:ea typeface="SimSun"/>
              </a:rPr>
              <a:t> </a:t>
            </a:r>
            <a:r>
              <a:rPr b="1" lang="en-US" sz="2800" spc="-1" strike="noStrike">
                <a:solidFill>
                  <a:srgbClr val="7598d9"/>
                </a:solidFill>
                <a:latin typeface="Arial"/>
                <a:ea typeface="SimSu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SimSun"/>
              </a:rPr>
              <a:t>D</a:t>
            </a:r>
            <a:r>
              <a:rPr b="1" lang="en-US" sz="2800" spc="-1" strike="noStrike">
                <a:solidFill>
                  <a:srgbClr val="7598d9"/>
                </a:solidFill>
                <a:latin typeface="Arial"/>
                <a:ea typeface="SimSun"/>
              </a:rPr>
              <a:t>ocumentation for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SimSun"/>
              </a:rPr>
              <a:t>el</a:t>
            </a:r>
            <a:r>
              <a:rPr b="1" lang="en-US" sz="2800" spc="-1" strike="noStrike">
                <a:solidFill>
                  <a:srgbClr val="7598d9"/>
                </a:solidFill>
                <a:latin typeface="Arial"/>
                <a:ea typeface="SimSun"/>
              </a:rPr>
              <a:t>ectronic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SimSun"/>
              </a:rPr>
              <a:t>t</a:t>
            </a:r>
            <a:r>
              <a:rPr b="1" lang="en-US" sz="2800" spc="-1" strike="noStrike">
                <a:solidFill>
                  <a:srgbClr val="7598d9"/>
                </a:solidFill>
                <a:latin typeface="Arial"/>
                <a:ea typeface="SimSun"/>
              </a:rPr>
              <a:t>yp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SimSun"/>
              </a:rPr>
              <a:t>a</a:t>
            </a:r>
            <a:r>
              <a:rPr b="1" lang="en-US" sz="2800" spc="-1" strike="noStrike">
                <a:solidFill>
                  <a:srgbClr val="7598d9"/>
                </a:solidFill>
                <a:latin typeface="Arial"/>
                <a:ea typeface="SimSun"/>
              </a:rPr>
              <a:t>pprov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228600" y="76320"/>
            <a:ext cx="8610480" cy="914400"/>
          </a:xfrm>
          <a:prstGeom prst="rect">
            <a:avLst/>
          </a:prstGeom>
          <a:gradFill rotWithShape="0">
            <a:gsLst>
              <a:gs pos="0">
                <a:srgbClr val="ff9900">
                  <a:alpha val="99215"/>
                </a:srgbClr>
              </a:gs>
              <a:gs pos="100000">
                <a:srgbClr val="3b435b"/>
              </a:gs>
            </a:gsLst>
            <a:lin ang="54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rmonized Type  Approval  Certific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7"/>
          <p:cNvSpPr/>
          <p:nvPr/>
        </p:nvSpPr>
        <p:spPr>
          <a:xfrm>
            <a:off x="380880" y="2057400"/>
            <a:ext cx="8382240" cy="4267080"/>
          </a:xfrm>
          <a:prstGeom prst="rect">
            <a:avLst/>
          </a:prstGeom>
          <a:blipFill rotWithShape="0">
            <a:blip r:embed="rId1">
              <a:alphaModFix amt="33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79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ANK YOU</a:t>
            </a:r>
            <a:br>
              <a:rPr sz="3000"/>
            </a:br>
            <a:r>
              <a:rPr b="1" i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FOR </a:t>
            </a:r>
            <a:br>
              <a:rPr sz="3000"/>
            </a:br>
            <a:r>
              <a:rPr b="1" i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YOUR KIND ATTEN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856880" y="42876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575f6d"/>
                </a:solidFill>
                <a:latin typeface="Century Schoolbook"/>
              </a:rPr>
              <a:t>PRESENTATION TO INFORMAL GROUP ON DETA</a:t>
            </a:r>
            <a:endParaRPr b="0" lang="en-US" sz="3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2285640" y="3143160"/>
            <a:ext cx="6172200" cy="32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575f6d"/>
                </a:solidFill>
                <a:latin typeface="Century Schoolbook"/>
              </a:rPr>
              <a:t>Indian Automotive Sector</a:t>
            </a: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575f6d"/>
                </a:solidFill>
                <a:latin typeface="Century Schoolbook"/>
              </a:rPr>
              <a:t>Automotive Regulations in India</a:t>
            </a: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575f6d"/>
                </a:solidFill>
                <a:latin typeface="Century Schoolbook"/>
              </a:rPr>
              <a:t>India and Global integration</a:t>
            </a: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575f6d"/>
                </a:solidFill>
                <a:latin typeface="Century Schoolbook"/>
              </a:rPr>
              <a:t>THE INDIAN AUTOMOTIVE SECTOR</a:t>
            </a:r>
            <a:endParaRPr b="0" lang="en-US" sz="3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480680"/>
            <a:ext cx="8229600" cy="34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Largest Tractor produce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Second largest Two wheeler produce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Second largest Bus produce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Eight largest CV produce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Ninth Largest Car produce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Major producer of automotive component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329760" y="5897520"/>
            <a:ext cx="87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vernments Automotive Mission Plan: Market projected to grow by 5 times by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152280" y="1371600"/>
            <a:ext cx="8839440" cy="54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57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3" descr="Maruti (Logo)"/>
          <p:cNvPicPr/>
          <p:nvPr/>
        </p:nvPicPr>
        <p:blipFill>
          <a:blip r:embed="rId1"/>
          <a:stretch/>
        </p:blipFill>
        <p:spPr>
          <a:xfrm>
            <a:off x="7197840" y="4037040"/>
            <a:ext cx="1565280" cy="5349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" descr="MAHINDRA"/>
          <p:cNvPicPr/>
          <p:nvPr/>
        </p:nvPicPr>
        <p:blipFill>
          <a:blip r:embed="rId2"/>
          <a:stretch/>
        </p:blipFill>
        <p:spPr>
          <a:xfrm>
            <a:off x="5867280" y="4002120"/>
            <a:ext cx="1143000" cy="5698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HEROHONA"/>
          <p:cNvPicPr/>
          <p:nvPr/>
        </p:nvPicPr>
        <p:blipFill>
          <a:blip r:embed="rId3"/>
          <a:stretch/>
        </p:blipFill>
        <p:spPr>
          <a:xfrm>
            <a:off x="3157560" y="3276720"/>
            <a:ext cx="1643040" cy="4665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FORD2"/>
          <p:cNvPicPr/>
          <p:nvPr/>
        </p:nvPicPr>
        <p:blipFill>
          <a:blip r:embed="rId4"/>
          <a:stretch/>
        </p:blipFill>
        <p:spPr>
          <a:xfrm>
            <a:off x="7696080" y="2422440"/>
            <a:ext cx="1262160" cy="4730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7" descr="b"/>
          <p:cNvPicPr/>
          <p:nvPr/>
        </p:nvPicPr>
        <p:blipFill>
          <a:blip r:embed="rId5"/>
          <a:stretch/>
        </p:blipFill>
        <p:spPr>
          <a:xfrm>
            <a:off x="2209680" y="2438280"/>
            <a:ext cx="1447920" cy="5209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8" descr="piaggioLogo"/>
          <p:cNvPicPr/>
          <p:nvPr/>
        </p:nvPicPr>
        <p:blipFill>
          <a:blip r:embed="rId6"/>
          <a:stretch/>
        </p:blipFill>
        <p:spPr>
          <a:xfrm>
            <a:off x="2025720" y="4843440"/>
            <a:ext cx="1251000" cy="4906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9" descr=""/>
          <p:cNvPicPr/>
          <p:nvPr/>
        </p:nvPicPr>
        <p:blipFill>
          <a:blip r:embed="rId7"/>
          <a:stretch/>
        </p:blipFill>
        <p:spPr>
          <a:xfrm>
            <a:off x="5275440" y="5799240"/>
            <a:ext cx="2268360" cy="2206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0" descr=""/>
          <p:cNvPicPr/>
          <p:nvPr/>
        </p:nvPicPr>
        <p:blipFill>
          <a:blip r:embed="rId8"/>
          <a:stretch/>
        </p:blipFill>
        <p:spPr>
          <a:xfrm>
            <a:off x="4321080" y="1600200"/>
            <a:ext cx="860400" cy="67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5" name="Picture 11" descr="gm"/>
          <p:cNvPicPr/>
          <p:nvPr/>
        </p:nvPicPr>
        <p:blipFill>
          <a:blip r:embed="rId9"/>
          <a:stretch/>
        </p:blipFill>
        <p:spPr>
          <a:xfrm>
            <a:off x="533520" y="2895480"/>
            <a:ext cx="769680" cy="7430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2" descr="TOYOTA"/>
          <p:cNvPicPr/>
          <p:nvPr/>
        </p:nvPicPr>
        <p:blipFill>
          <a:blip r:embed="rId10"/>
          <a:stretch/>
        </p:blipFill>
        <p:spPr>
          <a:xfrm>
            <a:off x="1981080" y="6148440"/>
            <a:ext cx="2057400" cy="4809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3" descr="Logo5"/>
          <p:cNvPicPr/>
          <p:nvPr/>
        </p:nvPicPr>
        <p:blipFill>
          <a:blip r:embed="rId11"/>
          <a:stretch/>
        </p:blipFill>
        <p:spPr>
          <a:xfrm>
            <a:off x="7827840" y="4648320"/>
            <a:ext cx="782640" cy="7426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4" descr="LML-corp-logo"/>
          <p:cNvPicPr/>
          <p:nvPr/>
        </p:nvPicPr>
        <p:blipFill>
          <a:blip r:embed="rId12"/>
          <a:stretch/>
        </p:blipFill>
        <p:spPr>
          <a:xfrm>
            <a:off x="4071960" y="4043520"/>
            <a:ext cx="1643040" cy="5205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5" descr="logo"/>
          <p:cNvPicPr/>
          <p:nvPr/>
        </p:nvPicPr>
        <p:blipFill>
          <a:blip r:embed="rId13"/>
          <a:stretch/>
        </p:blipFill>
        <p:spPr>
          <a:xfrm>
            <a:off x="3929040" y="5557680"/>
            <a:ext cx="1252440" cy="462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0" name="Object 16"/>
          <p:cNvGraphicFramePr/>
          <p:nvPr/>
        </p:nvGraphicFramePr>
        <p:xfrm>
          <a:off x="228600" y="1603440"/>
          <a:ext cx="2151000" cy="453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81" name="Object 1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28600" y="1603440"/>
                    <a:ext cx="215100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82" name="Picture 17" descr=""/>
          <p:cNvPicPr/>
          <p:nvPr/>
        </p:nvPicPr>
        <p:blipFill>
          <a:blip r:embed="rId16"/>
          <a:stretch/>
        </p:blipFill>
        <p:spPr>
          <a:xfrm>
            <a:off x="6611760" y="4724280"/>
            <a:ext cx="703440" cy="6606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8" descr="Bajaj auto (Logo)"/>
          <p:cNvPicPr/>
          <p:nvPr/>
        </p:nvPicPr>
        <p:blipFill>
          <a:blip r:embed="rId17"/>
          <a:stretch/>
        </p:blipFill>
        <p:spPr>
          <a:xfrm>
            <a:off x="6143760" y="1571760"/>
            <a:ext cx="723600" cy="9540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9" descr="Force Logo"/>
          <p:cNvPicPr/>
          <p:nvPr/>
        </p:nvPicPr>
        <p:blipFill>
          <a:blip r:embed="rId18"/>
          <a:stretch/>
        </p:blipFill>
        <p:spPr>
          <a:xfrm>
            <a:off x="6443640" y="2363760"/>
            <a:ext cx="1252440" cy="7603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0" descr="Hindustan Motors(Logo)"/>
          <p:cNvPicPr/>
          <p:nvPr/>
        </p:nvPicPr>
        <p:blipFill>
          <a:blip r:embed="rId19"/>
          <a:stretch/>
        </p:blipFill>
        <p:spPr>
          <a:xfrm>
            <a:off x="5257800" y="3259080"/>
            <a:ext cx="914400" cy="6271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1" descr="Kinetic Logo"/>
          <p:cNvPicPr/>
          <p:nvPr/>
        </p:nvPicPr>
        <p:blipFill>
          <a:blip r:embed="rId20"/>
          <a:stretch/>
        </p:blipFill>
        <p:spPr>
          <a:xfrm>
            <a:off x="2852640" y="3921120"/>
            <a:ext cx="1067040" cy="6508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2" descr="ICML"/>
          <p:cNvPicPr/>
          <p:nvPr/>
        </p:nvPicPr>
        <p:blipFill>
          <a:blip r:embed="rId21"/>
          <a:stretch/>
        </p:blipFill>
        <p:spPr>
          <a:xfrm>
            <a:off x="1752480" y="4179960"/>
            <a:ext cx="790560" cy="5443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3" descr="H3Dv_L_color"/>
          <p:cNvPicPr/>
          <p:nvPr/>
        </p:nvPicPr>
        <p:blipFill>
          <a:blip r:embed="rId22"/>
          <a:stretch/>
        </p:blipFill>
        <p:spPr>
          <a:xfrm>
            <a:off x="7696080" y="3106800"/>
            <a:ext cx="1165320" cy="7794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4" descr="blue logo"/>
          <p:cNvPicPr/>
          <p:nvPr/>
        </p:nvPicPr>
        <p:blipFill>
          <a:blip r:embed="rId23"/>
          <a:stretch/>
        </p:blipFill>
        <p:spPr>
          <a:xfrm>
            <a:off x="3473280" y="4557600"/>
            <a:ext cx="1175040" cy="8524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5" descr="simpson-jpg"/>
          <p:cNvPicPr/>
          <p:nvPr/>
        </p:nvPicPr>
        <p:blipFill>
          <a:blip r:embed="rId24"/>
          <a:stretch/>
        </p:blipFill>
        <p:spPr>
          <a:xfrm>
            <a:off x="304920" y="5375160"/>
            <a:ext cx="1487520" cy="5684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6" descr="TVS(LOGO"/>
          <p:cNvPicPr/>
          <p:nvPr/>
        </p:nvPicPr>
        <p:blipFill>
          <a:blip r:embed="rId25"/>
          <a:stretch/>
        </p:blipFill>
        <p:spPr>
          <a:xfrm>
            <a:off x="652320" y="6027840"/>
            <a:ext cx="1252800" cy="67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2" name="Object 27"/>
          <p:cNvGraphicFramePr/>
          <p:nvPr/>
        </p:nvGraphicFramePr>
        <p:xfrm>
          <a:off x="7924680" y="1542960"/>
          <a:ext cx="838440" cy="74304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393" name="Object 27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7924680" y="1542960"/>
                    <a:ext cx="83844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4" name="Picture 28" descr="FIAT NEW LOGO 2005"/>
          <p:cNvPicPr/>
          <p:nvPr/>
        </p:nvPicPr>
        <p:blipFill>
          <a:blip r:embed="rId28"/>
          <a:stretch/>
        </p:blipFill>
        <p:spPr>
          <a:xfrm>
            <a:off x="5486400" y="2635200"/>
            <a:ext cx="907920" cy="4888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9" descr="Hyundai Logo"/>
          <p:cNvPicPr/>
          <p:nvPr/>
        </p:nvPicPr>
        <p:blipFill>
          <a:blip r:embed="rId29"/>
          <a:stretch/>
        </p:blipFill>
        <p:spPr>
          <a:xfrm>
            <a:off x="457200" y="3657600"/>
            <a:ext cx="1103400" cy="8366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1" descr=""/>
          <p:cNvPicPr/>
          <p:nvPr/>
        </p:nvPicPr>
        <p:blipFill>
          <a:blip r:embed="rId30"/>
          <a:stretch/>
        </p:blipFill>
        <p:spPr>
          <a:xfrm>
            <a:off x="5060880" y="6237360"/>
            <a:ext cx="1644840" cy="3920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2" descr=""/>
          <p:cNvPicPr/>
          <p:nvPr/>
        </p:nvPicPr>
        <p:blipFill>
          <a:blip r:embed="rId31"/>
          <a:stretch/>
        </p:blipFill>
        <p:spPr>
          <a:xfrm>
            <a:off x="6629400" y="3106800"/>
            <a:ext cx="914400" cy="6555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3" descr=""/>
          <p:cNvPicPr/>
          <p:nvPr/>
        </p:nvPicPr>
        <p:blipFill>
          <a:blip r:embed="rId32"/>
          <a:stretch/>
        </p:blipFill>
        <p:spPr>
          <a:xfrm>
            <a:off x="4840200" y="4800600"/>
            <a:ext cx="1484280" cy="5414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4" descr=""/>
          <p:cNvPicPr/>
          <p:nvPr/>
        </p:nvPicPr>
        <p:blipFill>
          <a:blip r:embed="rId33"/>
          <a:stretch/>
        </p:blipFill>
        <p:spPr>
          <a:xfrm>
            <a:off x="7059600" y="6248520"/>
            <a:ext cx="1627200" cy="3841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5" descr=""/>
          <p:cNvPicPr/>
          <p:nvPr/>
        </p:nvPicPr>
        <p:blipFill>
          <a:blip r:embed="rId34"/>
          <a:stretch/>
        </p:blipFill>
        <p:spPr>
          <a:xfrm>
            <a:off x="2057400" y="5737320"/>
            <a:ext cx="1676520" cy="3585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6" descr=""/>
          <p:cNvPicPr/>
          <p:nvPr/>
        </p:nvPicPr>
        <p:blipFill>
          <a:blip r:embed="rId35"/>
          <a:stretch/>
        </p:blipFill>
        <p:spPr>
          <a:xfrm>
            <a:off x="1676520" y="3071880"/>
            <a:ext cx="822240" cy="96660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2500" spc="-1" strike="noStrike">
                <a:solidFill>
                  <a:srgbClr val="575f6d"/>
                </a:solidFill>
                <a:latin typeface="Century Schoolbook"/>
              </a:rPr>
              <a:t>MOST MAJOR MANUFACTURERS PRESENT IN INDIA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03" name="Object 38"/>
          <p:cNvGraphicFramePr/>
          <p:nvPr/>
        </p:nvGraphicFramePr>
        <p:xfrm>
          <a:off x="0" y="6019920"/>
          <a:ext cx="762120" cy="60012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404" name="Object 38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0" y="6019920"/>
                    <a:ext cx="76212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5" name="Picture 39" descr="Mahindra Renault"/>
          <p:cNvPicPr/>
          <p:nvPr/>
        </p:nvPicPr>
        <p:blipFill>
          <a:blip r:embed="rId38"/>
          <a:stretch/>
        </p:blipFill>
        <p:spPr>
          <a:xfrm>
            <a:off x="0" y="4724280"/>
            <a:ext cx="1486080" cy="37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6" name="Object 40"/>
          <p:cNvGraphicFramePr/>
          <p:nvPr/>
        </p:nvGraphicFramePr>
        <p:xfrm>
          <a:off x="0" y="2133720"/>
          <a:ext cx="1676520" cy="5950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407" name="Object 40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0" y="2133720"/>
                    <a:ext cx="167652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8" name="Picture 41" descr="TVML LOGO"/>
          <p:cNvPicPr/>
          <p:nvPr/>
        </p:nvPicPr>
        <p:blipFill>
          <a:blip r:embed="rId41"/>
          <a:srcRect l="4769" t="9628" r="14286" b="22119"/>
          <a:stretch/>
        </p:blipFill>
        <p:spPr>
          <a:xfrm>
            <a:off x="7543800" y="5486400"/>
            <a:ext cx="129528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9" name="Object 42"/>
          <p:cNvGraphicFramePr/>
          <p:nvPr/>
        </p:nvGraphicFramePr>
        <p:xfrm>
          <a:off x="3809880" y="2646360"/>
          <a:ext cx="1600200" cy="4017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410" name="Object 42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3809880" y="2646360"/>
                    <a:ext cx="160020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1" name="Picture 43" descr=""/>
          <p:cNvPicPr/>
          <p:nvPr/>
        </p:nvPicPr>
        <p:blipFill>
          <a:blip r:embed="rId44"/>
          <a:stretch/>
        </p:blipFill>
        <p:spPr>
          <a:xfrm>
            <a:off x="2514600" y="1557360"/>
            <a:ext cx="165744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4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PROCESS FOR REGULATION FORMULATION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grpSp>
        <p:nvGrpSpPr>
          <p:cNvPr id="413" name="Rectangle 5"/>
          <p:cNvGrpSpPr/>
          <p:nvPr/>
        </p:nvGrpSpPr>
        <p:grpSpPr>
          <a:xfrm>
            <a:off x="2627280" y="1566720"/>
            <a:ext cx="2438280" cy="1444680"/>
            <a:chOff x="2627280" y="1566720"/>
            <a:chExt cx="2438280" cy="1444680"/>
          </a:xfrm>
        </p:grpSpPr>
        <p:pic>
          <p:nvPicPr>
            <p:cNvPr id="414" name="Rectangle 5" descr=""/>
            <p:cNvPicPr/>
            <p:nvPr/>
          </p:nvPicPr>
          <p:blipFill>
            <a:blip r:embed="rId1"/>
            <a:stretch/>
          </p:blipFill>
          <p:spPr>
            <a:xfrm>
              <a:off x="2627280" y="1566720"/>
              <a:ext cx="243828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2714760" y="1631880"/>
              <a:ext cx="221436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95d63"/>
                  </a:solidFill>
                  <a:latin typeface="Century Schoolbook"/>
                </a:rPr>
                <a:t>Formulation of regulations by Ministry of Shipping and Road Transpo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62"/>
          <p:cNvGrpSpPr/>
          <p:nvPr/>
        </p:nvGrpSpPr>
        <p:grpSpPr>
          <a:xfrm>
            <a:off x="2301840" y="3132000"/>
            <a:ext cx="2873520" cy="3511800"/>
            <a:chOff x="2301840" y="3132000"/>
            <a:chExt cx="2873520" cy="3511800"/>
          </a:xfrm>
        </p:grpSpPr>
        <p:grpSp>
          <p:nvGrpSpPr>
            <p:cNvPr id="417" name="Group 61"/>
            <p:cNvGrpSpPr/>
            <p:nvPr/>
          </p:nvGrpSpPr>
          <p:grpSpPr>
            <a:xfrm>
              <a:off x="2575440" y="3132000"/>
              <a:ext cx="2294280" cy="3511800"/>
              <a:chOff x="2575440" y="3132000"/>
              <a:chExt cx="2294280" cy="3511800"/>
            </a:xfrm>
          </p:grpSpPr>
          <p:grpSp>
            <p:nvGrpSpPr>
              <p:cNvPr id="418" name="Rectangle 33"/>
              <p:cNvGrpSpPr/>
              <p:nvPr/>
            </p:nvGrpSpPr>
            <p:grpSpPr>
              <a:xfrm>
                <a:off x="2648520" y="5193360"/>
                <a:ext cx="2131200" cy="622440"/>
                <a:chOff x="2648520" y="5193360"/>
                <a:chExt cx="2131200" cy="622440"/>
              </a:xfrm>
            </p:grpSpPr>
            <p:pic>
              <p:nvPicPr>
                <p:cNvPr id="419" name="Rectangle 3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648520" y="5193360"/>
                  <a:ext cx="2131200" cy="62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0" name=""/>
                <p:cNvSpPr/>
                <p:nvPr/>
              </p:nvSpPr>
              <p:spPr>
                <a:xfrm>
                  <a:off x="2709000" y="5236560"/>
                  <a:ext cx="2006280" cy="49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entury Schoolbook"/>
                    </a:rPr>
                    <a:t>National Level Standing Committee on WP.29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" name="Rectangle 34"/>
              <p:cNvGrpSpPr/>
              <p:nvPr/>
            </p:nvGrpSpPr>
            <p:grpSpPr>
              <a:xfrm>
                <a:off x="2575440" y="6033240"/>
                <a:ext cx="2294280" cy="610560"/>
                <a:chOff x="2575440" y="6033240"/>
                <a:chExt cx="2294280" cy="610560"/>
              </a:xfrm>
            </p:grpSpPr>
            <p:pic>
              <p:nvPicPr>
                <p:cNvPr id="422" name="Rectangle 3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575440" y="6033240"/>
                  <a:ext cx="2294280" cy="61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3" name=""/>
                <p:cNvSpPr/>
                <p:nvPr/>
              </p:nvSpPr>
              <p:spPr>
                <a:xfrm>
                  <a:off x="2638800" y="6073200"/>
                  <a:ext cx="2138040" cy="48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entury Schoolbook"/>
                    </a:rPr>
                    <a:t>Working Groups Corresponding to  GRs of WP.29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Up-Down Arrow 35"/>
              <p:cNvGrpSpPr/>
              <p:nvPr/>
            </p:nvGrpSpPr>
            <p:grpSpPr>
              <a:xfrm>
                <a:off x="3615840" y="5751360"/>
                <a:ext cx="179640" cy="340560"/>
                <a:chOff x="3615840" y="5751360"/>
                <a:chExt cx="179640" cy="340560"/>
              </a:xfrm>
            </p:grpSpPr>
            <p:pic>
              <p:nvPicPr>
                <p:cNvPr id="425" name="Up-Down Arrow 3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615840" y="5751360"/>
                  <a:ext cx="179640" cy="34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6" name=""/>
                <p:cNvSpPr/>
                <p:nvPr/>
              </p:nvSpPr>
              <p:spPr>
                <a:xfrm>
                  <a:off x="3695040" y="5802840"/>
                  <a:ext cx="212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27" name="Up-Down Arrow 37" descr=""/>
              <p:cNvPicPr/>
              <p:nvPr/>
            </p:nvPicPr>
            <p:blipFill>
              <a:blip r:embed="rId5"/>
              <a:stretch/>
            </p:blipFill>
            <p:spPr>
              <a:xfrm>
                <a:off x="3345840" y="3132000"/>
                <a:ext cx="730800" cy="2131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8" name="Right Arrow 39"/>
            <p:cNvGrpSpPr/>
            <p:nvPr/>
          </p:nvGrpSpPr>
          <p:grpSpPr>
            <a:xfrm>
              <a:off x="2301840" y="4809600"/>
              <a:ext cx="585360" cy="493560"/>
              <a:chOff x="2301840" y="4809600"/>
              <a:chExt cx="585360" cy="493560"/>
            </a:xfrm>
          </p:grpSpPr>
          <p:pic>
            <p:nvPicPr>
              <p:cNvPr id="429" name="Right Arrow 39" descr=""/>
              <p:cNvPicPr/>
              <p:nvPr/>
            </p:nvPicPr>
            <p:blipFill>
              <a:blip r:embed="rId6"/>
              <a:stretch/>
            </p:blipFill>
            <p:spPr>
              <a:xfrm>
                <a:off x="2301840" y="4809600"/>
                <a:ext cx="585360" cy="49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0" name=""/>
              <p:cNvSpPr/>
              <p:nvPr/>
            </p:nvSpPr>
            <p:spPr>
              <a:xfrm rot="12854400">
                <a:off x="2367360" y="4990680"/>
                <a:ext cx="462960" cy="9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Right Arrow 40"/>
            <p:cNvGrpSpPr/>
            <p:nvPr/>
          </p:nvGrpSpPr>
          <p:grpSpPr>
            <a:xfrm>
              <a:off x="4620240" y="4779360"/>
              <a:ext cx="555120" cy="518040"/>
              <a:chOff x="4620240" y="4779360"/>
              <a:chExt cx="555120" cy="518040"/>
            </a:xfrm>
          </p:grpSpPr>
          <p:pic>
            <p:nvPicPr>
              <p:cNvPr id="432" name="Right Arrow 40" descr=""/>
              <p:cNvPicPr/>
              <p:nvPr/>
            </p:nvPicPr>
            <p:blipFill>
              <a:blip r:embed="rId7"/>
              <a:stretch/>
            </p:blipFill>
            <p:spPr>
              <a:xfrm>
                <a:off x="4620240" y="4779360"/>
                <a:ext cx="555120" cy="51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3" name=""/>
              <p:cNvSpPr/>
              <p:nvPr/>
            </p:nvSpPr>
            <p:spPr>
              <a:xfrm rot="19208400">
                <a:off x="4663440" y="4968360"/>
                <a:ext cx="463320" cy="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4" name="Group 64"/>
          <p:cNvGrpSpPr/>
          <p:nvPr/>
        </p:nvGrpSpPr>
        <p:grpSpPr>
          <a:xfrm>
            <a:off x="4962600" y="631800"/>
            <a:ext cx="4057560" cy="4173480"/>
            <a:chOff x="4962600" y="631800"/>
            <a:chExt cx="4057560" cy="4173480"/>
          </a:xfrm>
        </p:grpSpPr>
        <p:grpSp>
          <p:nvGrpSpPr>
            <p:cNvPr id="435" name="Right Arrow 41"/>
            <p:cNvGrpSpPr/>
            <p:nvPr/>
          </p:nvGrpSpPr>
          <p:grpSpPr>
            <a:xfrm>
              <a:off x="4974120" y="2258640"/>
              <a:ext cx="1239840" cy="624600"/>
              <a:chOff x="4974120" y="2258640"/>
              <a:chExt cx="1239840" cy="624600"/>
            </a:xfrm>
          </p:grpSpPr>
          <p:pic>
            <p:nvPicPr>
              <p:cNvPr id="436" name="Right Arrow 41" descr=""/>
              <p:cNvPicPr/>
              <p:nvPr/>
            </p:nvPicPr>
            <p:blipFill>
              <a:blip r:embed="rId8"/>
              <a:stretch/>
            </p:blipFill>
            <p:spPr>
              <a:xfrm>
                <a:off x="4974120" y="2258640"/>
                <a:ext cx="1239840" cy="62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7" name=""/>
              <p:cNvSpPr/>
              <p:nvPr/>
            </p:nvSpPr>
            <p:spPr>
              <a:xfrm rot="1276800">
                <a:off x="5014080" y="2504880"/>
                <a:ext cx="1140120" cy="6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Rectangle 42"/>
            <p:cNvGrpSpPr/>
            <p:nvPr/>
          </p:nvGrpSpPr>
          <p:grpSpPr>
            <a:xfrm>
              <a:off x="6125040" y="2429640"/>
              <a:ext cx="1310760" cy="630720"/>
              <a:chOff x="6125040" y="2429640"/>
              <a:chExt cx="1310760" cy="630720"/>
            </a:xfrm>
          </p:grpSpPr>
          <p:pic>
            <p:nvPicPr>
              <p:cNvPr id="439" name="Rectangle 42" descr=""/>
              <p:cNvPicPr/>
              <p:nvPr/>
            </p:nvPicPr>
            <p:blipFill>
              <a:blip r:embed="rId9"/>
              <a:stretch/>
            </p:blipFill>
            <p:spPr>
              <a:xfrm>
                <a:off x="6125040" y="2429640"/>
                <a:ext cx="1310760" cy="63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"/>
              <p:cNvSpPr/>
              <p:nvPr/>
            </p:nvSpPr>
            <p:spPr>
              <a:xfrm>
                <a:off x="6187320" y="2478600"/>
                <a:ext cx="1181880" cy="4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entury Schoolbook"/>
                  </a:rPr>
                  <a:t>Draft Amendment to CMV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Right Arrow 43"/>
            <p:cNvGrpSpPr/>
            <p:nvPr/>
          </p:nvGrpSpPr>
          <p:grpSpPr>
            <a:xfrm>
              <a:off x="7317720" y="2635920"/>
              <a:ext cx="409320" cy="217800"/>
              <a:chOff x="7317720" y="2635920"/>
              <a:chExt cx="409320" cy="217800"/>
            </a:xfrm>
          </p:grpSpPr>
          <p:pic>
            <p:nvPicPr>
              <p:cNvPr id="442" name="Right Arrow 4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317720" y="2635920"/>
                <a:ext cx="409320" cy="21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"/>
              <p:cNvSpPr/>
              <p:nvPr/>
            </p:nvSpPr>
            <p:spPr>
              <a:xfrm>
                <a:off x="7383600" y="2703240"/>
                <a:ext cx="260640" cy="3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Rectangle 44"/>
            <p:cNvGrpSpPr/>
            <p:nvPr/>
          </p:nvGrpSpPr>
          <p:grpSpPr>
            <a:xfrm>
              <a:off x="7667640" y="2423880"/>
              <a:ext cx="1322640" cy="624600"/>
              <a:chOff x="7667640" y="2423880"/>
              <a:chExt cx="1322640" cy="624600"/>
            </a:xfrm>
          </p:grpSpPr>
          <p:pic>
            <p:nvPicPr>
              <p:cNvPr id="445" name="Rectangle 44" descr=""/>
              <p:cNvPicPr/>
              <p:nvPr/>
            </p:nvPicPr>
            <p:blipFill>
              <a:blip r:embed="rId11"/>
              <a:stretch/>
            </p:blipFill>
            <p:spPr>
              <a:xfrm>
                <a:off x="7667640" y="2423880"/>
                <a:ext cx="1322640" cy="62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"/>
              <p:cNvSpPr/>
              <p:nvPr/>
            </p:nvSpPr>
            <p:spPr>
              <a:xfrm>
                <a:off x="7731000" y="2463480"/>
                <a:ext cx="11818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entury Schoolbook"/>
                  </a:rPr>
                  <a:t>Public Notice for 45-60 day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Down Arrow 45"/>
            <p:cNvGrpSpPr/>
            <p:nvPr/>
          </p:nvGrpSpPr>
          <p:grpSpPr>
            <a:xfrm>
              <a:off x="8272800" y="2972160"/>
              <a:ext cx="183600" cy="412560"/>
              <a:chOff x="8272800" y="2972160"/>
              <a:chExt cx="183600" cy="412560"/>
            </a:xfrm>
          </p:grpSpPr>
          <p:pic>
            <p:nvPicPr>
              <p:cNvPr id="448" name="Down Arrow 45" descr=""/>
              <p:cNvPicPr/>
              <p:nvPr/>
            </p:nvPicPr>
            <p:blipFill>
              <a:blip r:embed="rId12"/>
              <a:stretch/>
            </p:blipFill>
            <p:spPr>
              <a:xfrm>
                <a:off x="8272800" y="2972160"/>
                <a:ext cx="183600" cy="41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9" name=""/>
              <p:cNvSpPr/>
              <p:nvPr/>
            </p:nvSpPr>
            <p:spPr>
              <a:xfrm>
                <a:off x="8353440" y="3016080"/>
                <a:ext cx="21600" cy="26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Rectangle 46"/>
            <p:cNvGrpSpPr/>
            <p:nvPr/>
          </p:nvGrpSpPr>
          <p:grpSpPr>
            <a:xfrm>
              <a:off x="7697520" y="3302280"/>
              <a:ext cx="1316880" cy="630720"/>
              <a:chOff x="7697520" y="3302280"/>
              <a:chExt cx="1316880" cy="630720"/>
            </a:xfrm>
          </p:grpSpPr>
          <p:pic>
            <p:nvPicPr>
              <p:cNvPr id="451" name="Rectangle 46" descr=""/>
              <p:cNvPicPr/>
              <p:nvPr/>
            </p:nvPicPr>
            <p:blipFill>
              <a:blip r:embed="rId13"/>
              <a:stretch/>
            </p:blipFill>
            <p:spPr>
              <a:xfrm>
                <a:off x="7697520" y="3302280"/>
                <a:ext cx="1316880" cy="63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2" name=""/>
              <p:cNvSpPr/>
              <p:nvPr/>
            </p:nvSpPr>
            <p:spPr>
              <a:xfrm>
                <a:off x="7760520" y="3350880"/>
                <a:ext cx="11818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entury Schoolbook"/>
                  </a:rPr>
                  <a:t>Consideration to Public Comment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Down Arrow 47"/>
            <p:cNvGrpSpPr/>
            <p:nvPr/>
          </p:nvGrpSpPr>
          <p:grpSpPr>
            <a:xfrm>
              <a:off x="8278920" y="3850560"/>
              <a:ext cx="189720" cy="412560"/>
              <a:chOff x="8278920" y="3850560"/>
              <a:chExt cx="189720" cy="412560"/>
            </a:xfrm>
          </p:grpSpPr>
          <p:pic>
            <p:nvPicPr>
              <p:cNvPr id="454" name="Down Arrow 47" descr=""/>
              <p:cNvPicPr/>
              <p:nvPr/>
            </p:nvPicPr>
            <p:blipFill>
              <a:blip r:embed="rId14"/>
              <a:stretch/>
            </p:blipFill>
            <p:spPr>
              <a:xfrm>
                <a:off x="8278920" y="3850560"/>
                <a:ext cx="189720" cy="41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"/>
              <p:cNvSpPr/>
              <p:nvPr/>
            </p:nvSpPr>
            <p:spPr>
              <a:xfrm>
                <a:off x="8363520" y="3889800"/>
                <a:ext cx="22320" cy="26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Rectangle 48"/>
            <p:cNvGrpSpPr/>
            <p:nvPr/>
          </p:nvGrpSpPr>
          <p:grpSpPr>
            <a:xfrm>
              <a:off x="7703280" y="4180680"/>
              <a:ext cx="1316880" cy="624600"/>
              <a:chOff x="7703280" y="4180680"/>
              <a:chExt cx="1316880" cy="624600"/>
            </a:xfrm>
          </p:grpSpPr>
          <p:pic>
            <p:nvPicPr>
              <p:cNvPr id="457" name="Rectangle 48" descr=""/>
              <p:cNvPicPr/>
              <p:nvPr/>
            </p:nvPicPr>
            <p:blipFill>
              <a:blip r:embed="rId15"/>
              <a:stretch/>
            </p:blipFill>
            <p:spPr>
              <a:xfrm>
                <a:off x="7703280" y="4180680"/>
                <a:ext cx="1316880" cy="62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>
                <a:off x="7771320" y="4224240"/>
                <a:ext cx="11818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entury Schoolbook"/>
                  </a:rPr>
                  <a:t>Amendment to CMV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Rectangle 50"/>
            <p:cNvGrpSpPr/>
            <p:nvPr/>
          </p:nvGrpSpPr>
          <p:grpSpPr>
            <a:xfrm>
              <a:off x="6119280" y="1468800"/>
              <a:ext cx="1310760" cy="636480"/>
              <a:chOff x="6119280" y="1468800"/>
              <a:chExt cx="1310760" cy="636480"/>
            </a:xfrm>
          </p:grpSpPr>
          <p:pic>
            <p:nvPicPr>
              <p:cNvPr id="460" name="Rectangle 50" descr=""/>
              <p:cNvPicPr/>
              <p:nvPr/>
            </p:nvPicPr>
            <p:blipFill>
              <a:blip r:embed="rId16"/>
              <a:stretch/>
            </p:blipFill>
            <p:spPr>
              <a:xfrm>
                <a:off x="6119280" y="1468800"/>
                <a:ext cx="1310760" cy="63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" name=""/>
              <p:cNvSpPr/>
              <p:nvPr/>
            </p:nvSpPr>
            <p:spPr>
              <a:xfrm>
                <a:off x="6184440" y="1520640"/>
                <a:ext cx="11818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entury Schoolbook"/>
                  </a:rPr>
                  <a:t>Draft Amendment to Ac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Right Arrow 51"/>
            <p:cNvGrpSpPr/>
            <p:nvPr/>
          </p:nvGrpSpPr>
          <p:grpSpPr>
            <a:xfrm>
              <a:off x="7353360" y="1739880"/>
              <a:ext cx="409320" cy="217800"/>
              <a:chOff x="7353360" y="1739880"/>
              <a:chExt cx="409320" cy="217800"/>
            </a:xfrm>
          </p:grpSpPr>
          <p:pic>
            <p:nvPicPr>
              <p:cNvPr id="463" name="Right Arrow 51" descr=""/>
              <p:cNvPicPr/>
              <p:nvPr/>
            </p:nvPicPr>
            <p:blipFill>
              <a:blip r:embed="rId17"/>
              <a:stretch/>
            </p:blipFill>
            <p:spPr>
              <a:xfrm>
                <a:off x="7353360" y="1739880"/>
                <a:ext cx="409320" cy="21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4" name=""/>
              <p:cNvSpPr/>
              <p:nvPr/>
            </p:nvSpPr>
            <p:spPr>
              <a:xfrm>
                <a:off x="7420680" y="1805040"/>
                <a:ext cx="260640" cy="3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Rectangle 52"/>
            <p:cNvGrpSpPr/>
            <p:nvPr/>
          </p:nvGrpSpPr>
          <p:grpSpPr>
            <a:xfrm>
              <a:off x="7673760" y="1521720"/>
              <a:ext cx="1310760" cy="624600"/>
              <a:chOff x="7673760" y="1521720"/>
              <a:chExt cx="1310760" cy="624600"/>
            </a:xfrm>
          </p:grpSpPr>
          <p:pic>
            <p:nvPicPr>
              <p:cNvPr id="466" name="Rectangle 52" descr=""/>
              <p:cNvPicPr/>
              <p:nvPr/>
            </p:nvPicPr>
            <p:blipFill>
              <a:blip r:embed="rId18"/>
              <a:stretch/>
            </p:blipFill>
            <p:spPr>
              <a:xfrm>
                <a:off x="7673760" y="1521720"/>
                <a:ext cx="1310760" cy="62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7" name=""/>
              <p:cNvSpPr/>
              <p:nvPr/>
            </p:nvSpPr>
            <p:spPr>
              <a:xfrm>
                <a:off x="7738920" y="1564920"/>
                <a:ext cx="11818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entury Schoolbook"/>
                  </a:rPr>
                  <a:t>Voting by Parliamen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Rectangle 53"/>
            <p:cNvGrpSpPr/>
            <p:nvPr/>
          </p:nvGrpSpPr>
          <p:grpSpPr>
            <a:xfrm>
              <a:off x="7673760" y="631800"/>
              <a:ext cx="1310760" cy="636480"/>
              <a:chOff x="7673760" y="631800"/>
              <a:chExt cx="1310760" cy="636480"/>
            </a:xfrm>
          </p:grpSpPr>
          <p:pic>
            <p:nvPicPr>
              <p:cNvPr id="469" name="Rectangle 53" descr=""/>
              <p:cNvPicPr/>
              <p:nvPr/>
            </p:nvPicPr>
            <p:blipFill>
              <a:blip r:embed="rId19"/>
              <a:stretch/>
            </p:blipFill>
            <p:spPr>
              <a:xfrm>
                <a:off x="7673760" y="631800"/>
                <a:ext cx="1310760" cy="63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0" name=""/>
              <p:cNvSpPr/>
              <p:nvPr/>
            </p:nvSpPr>
            <p:spPr>
              <a:xfrm>
                <a:off x="7738920" y="682560"/>
                <a:ext cx="11818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entury Schoolbook"/>
                  </a:rPr>
                  <a:t>Amendment to Motor Vehicle Ac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Right Arrow 55"/>
            <p:cNvGrpSpPr/>
            <p:nvPr/>
          </p:nvGrpSpPr>
          <p:grpSpPr>
            <a:xfrm>
              <a:off x="4962600" y="1746000"/>
              <a:ext cx="1251720" cy="624600"/>
              <a:chOff x="4962600" y="1746000"/>
              <a:chExt cx="1251720" cy="624600"/>
            </a:xfrm>
          </p:grpSpPr>
          <p:pic>
            <p:nvPicPr>
              <p:cNvPr id="472" name="Right Arrow 55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62600" y="1746000"/>
                <a:ext cx="1251720" cy="62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3" name=""/>
              <p:cNvSpPr/>
              <p:nvPr/>
            </p:nvSpPr>
            <p:spPr>
              <a:xfrm rot="20362200">
                <a:off x="5005440" y="2010960"/>
                <a:ext cx="1147320" cy="6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Down Arrow 58"/>
            <p:cNvGrpSpPr/>
            <p:nvPr/>
          </p:nvGrpSpPr>
          <p:grpSpPr>
            <a:xfrm>
              <a:off x="8255160" y="1203480"/>
              <a:ext cx="183600" cy="406440"/>
              <a:chOff x="8255160" y="1203480"/>
              <a:chExt cx="183600" cy="406440"/>
            </a:xfrm>
          </p:grpSpPr>
          <p:pic>
            <p:nvPicPr>
              <p:cNvPr id="475" name="Down Arrow 58" descr=""/>
              <p:cNvPicPr/>
              <p:nvPr/>
            </p:nvPicPr>
            <p:blipFill>
              <a:blip r:embed="rId21"/>
              <a:stretch/>
            </p:blipFill>
            <p:spPr>
              <a:xfrm>
                <a:off x="8255160" y="1203480"/>
                <a:ext cx="1836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6" name=""/>
              <p:cNvSpPr/>
              <p:nvPr/>
            </p:nvSpPr>
            <p:spPr>
              <a:xfrm rot="10800000">
                <a:off x="8335440" y="1255320"/>
                <a:ext cx="22320" cy="26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7" name="Group 59"/>
          <p:cNvGrpSpPr/>
          <p:nvPr/>
        </p:nvGrpSpPr>
        <p:grpSpPr>
          <a:xfrm>
            <a:off x="5000760" y="2963880"/>
            <a:ext cx="2419200" cy="3813120"/>
            <a:chOff x="5000760" y="2963880"/>
            <a:chExt cx="2419200" cy="3813120"/>
          </a:xfrm>
        </p:grpSpPr>
        <p:grpSp>
          <p:nvGrpSpPr>
            <p:cNvPr id="478" name="Rectangle 27"/>
            <p:cNvGrpSpPr/>
            <p:nvPr/>
          </p:nvGrpSpPr>
          <p:grpSpPr>
            <a:xfrm>
              <a:off x="5453280" y="4428360"/>
              <a:ext cx="1966680" cy="654840"/>
              <a:chOff x="5453280" y="4428360"/>
              <a:chExt cx="1966680" cy="654840"/>
            </a:xfrm>
          </p:grpSpPr>
          <p:pic>
            <p:nvPicPr>
              <p:cNvPr id="479" name="Rectangle 27" descr=""/>
              <p:cNvPicPr/>
              <p:nvPr/>
            </p:nvPicPr>
            <p:blipFill>
              <a:blip r:embed="rId22"/>
              <a:stretch/>
            </p:blipFill>
            <p:spPr>
              <a:xfrm>
                <a:off x="5453280" y="4428360"/>
                <a:ext cx="1966680" cy="65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0" name=""/>
              <p:cNvSpPr/>
              <p:nvPr/>
            </p:nvSpPr>
            <p:spPr>
              <a:xfrm>
                <a:off x="5508720" y="4472640"/>
                <a:ext cx="1855080" cy="51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entury Schoolbook"/>
                  </a:rPr>
                  <a:t>CMVR-Technical Standing Committee(CMVR-TSC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Rectangle 28"/>
            <p:cNvGrpSpPr/>
            <p:nvPr/>
          </p:nvGrpSpPr>
          <p:grpSpPr>
            <a:xfrm>
              <a:off x="5453280" y="5312520"/>
              <a:ext cx="1940760" cy="642600"/>
              <a:chOff x="5453280" y="5312520"/>
              <a:chExt cx="1940760" cy="642600"/>
            </a:xfrm>
          </p:grpSpPr>
          <p:pic>
            <p:nvPicPr>
              <p:cNvPr id="482" name="Rectangle 28" descr=""/>
              <p:cNvPicPr/>
              <p:nvPr/>
            </p:nvPicPr>
            <p:blipFill>
              <a:blip r:embed="rId23"/>
              <a:stretch/>
            </p:blipFill>
            <p:spPr>
              <a:xfrm>
                <a:off x="5453280" y="5312520"/>
                <a:ext cx="1940760" cy="64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3" name=""/>
              <p:cNvSpPr/>
              <p:nvPr/>
            </p:nvSpPr>
            <p:spPr>
              <a:xfrm>
                <a:off x="5508720" y="5353200"/>
                <a:ext cx="1829520" cy="50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entury Schoolbook"/>
                  </a:rPr>
                  <a:t>Automotive Industry Standards Committee (AISC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Up-Down Arrow 29"/>
            <p:cNvGrpSpPr/>
            <p:nvPr/>
          </p:nvGrpSpPr>
          <p:grpSpPr>
            <a:xfrm>
              <a:off x="6322320" y="5015520"/>
              <a:ext cx="161280" cy="358200"/>
              <a:chOff x="6322320" y="5015520"/>
              <a:chExt cx="161280" cy="358200"/>
            </a:xfrm>
          </p:grpSpPr>
          <p:pic>
            <p:nvPicPr>
              <p:cNvPr id="485" name="Up-Down Arrow 29" descr=""/>
              <p:cNvPicPr/>
              <p:nvPr/>
            </p:nvPicPr>
            <p:blipFill>
              <a:blip r:embed="rId24"/>
              <a:stretch/>
            </p:blipFill>
            <p:spPr>
              <a:xfrm>
                <a:off x="6322320" y="5015520"/>
                <a:ext cx="16128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"/>
              <p:cNvSpPr/>
              <p:nvPr/>
            </p:nvSpPr>
            <p:spPr>
              <a:xfrm>
                <a:off x="6393960" y="5068440"/>
                <a:ext cx="194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" name="Rectangle 30"/>
            <p:cNvGrpSpPr/>
            <p:nvPr/>
          </p:nvGrpSpPr>
          <p:grpSpPr>
            <a:xfrm>
              <a:off x="5437800" y="6134400"/>
              <a:ext cx="1945800" cy="642600"/>
              <a:chOff x="5437800" y="6134400"/>
              <a:chExt cx="1945800" cy="642600"/>
            </a:xfrm>
          </p:grpSpPr>
          <p:pic>
            <p:nvPicPr>
              <p:cNvPr id="488" name="Rectangle 30" descr=""/>
              <p:cNvPicPr/>
              <p:nvPr/>
            </p:nvPicPr>
            <p:blipFill>
              <a:blip r:embed="rId25"/>
              <a:stretch/>
            </p:blipFill>
            <p:spPr>
              <a:xfrm>
                <a:off x="5437800" y="6134400"/>
                <a:ext cx="1945800" cy="64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9" name=""/>
              <p:cNvSpPr/>
              <p:nvPr/>
            </p:nvSpPr>
            <p:spPr>
              <a:xfrm>
                <a:off x="5495400" y="6175440"/>
                <a:ext cx="1829160" cy="50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entury Schoolbook"/>
                  </a:rPr>
                  <a:t>Subject-wise Expert Panel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Up-Down Arrow 31"/>
            <p:cNvGrpSpPr/>
            <p:nvPr/>
          </p:nvGrpSpPr>
          <p:grpSpPr>
            <a:xfrm>
              <a:off x="6332760" y="5868720"/>
              <a:ext cx="161280" cy="358200"/>
              <a:chOff x="6332760" y="5868720"/>
              <a:chExt cx="161280" cy="358200"/>
            </a:xfrm>
          </p:grpSpPr>
          <p:pic>
            <p:nvPicPr>
              <p:cNvPr id="491" name="Up-Down Arrow 31" descr=""/>
              <p:cNvPicPr/>
              <p:nvPr/>
            </p:nvPicPr>
            <p:blipFill>
              <a:blip r:embed="rId26"/>
              <a:stretch/>
            </p:blipFill>
            <p:spPr>
              <a:xfrm>
                <a:off x="6332760" y="5868720"/>
                <a:ext cx="16128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2" name=""/>
              <p:cNvSpPr/>
              <p:nvPr/>
            </p:nvSpPr>
            <p:spPr>
              <a:xfrm>
                <a:off x="6403680" y="5923440"/>
                <a:ext cx="1944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Up-Down Arrow 38"/>
            <p:cNvGrpSpPr/>
            <p:nvPr/>
          </p:nvGrpSpPr>
          <p:grpSpPr>
            <a:xfrm>
              <a:off x="5000760" y="2963880"/>
              <a:ext cx="1149840" cy="1563480"/>
              <a:chOff x="5000760" y="2963880"/>
              <a:chExt cx="1149840" cy="1563480"/>
            </a:xfrm>
          </p:grpSpPr>
          <p:pic>
            <p:nvPicPr>
              <p:cNvPr id="494" name="Up-Down Arrow 38" descr=""/>
              <p:cNvPicPr/>
              <p:nvPr/>
            </p:nvPicPr>
            <p:blipFill>
              <a:blip r:embed="rId27"/>
              <a:stretch/>
            </p:blipFill>
            <p:spPr>
              <a:xfrm>
                <a:off x="5000760" y="2963880"/>
                <a:ext cx="1149840" cy="156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5" name=""/>
              <p:cNvSpPr/>
              <p:nvPr/>
            </p:nvSpPr>
            <p:spPr>
              <a:xfrm rot="19324800">
                <a:off x="5436720" y="2980080"/>
                <a:ext cx="275760" cy="14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entury Schoolbook"/>
                  </a:rPr>
                  <a:t>Safe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6" name="Group 61"/>
          <p:cNvGrpSpPr/>
          <p:nvPr/>
        </p:nvGrpSpPr>
        <p:grpSpPr>
          <a:xfrm>
            <a:off x="71280" y="3432240"/>
            <a:ext cx="3063960" cy="1700280"/>
            <a:chOff x="71280" y="3432240"/>
            <a:chExt cx="3063960" cy="1700280"/>
          </a:xfrm>
        </p:grpSpPr>
        <p:grpSp>
          <p:nvGrpSpPr>
            <p:cNvPr id="497" name="Rectangle 22"/>
            <p:cNvGrpSpPr/>
            <p:nvPr/>
          </p:nvGrpSpPr>
          <p:grpSpPr>
            <a:xfrm>
              <a:off x="71280" y="4512600"/>
              <a:ext cx="2333520" cy="619920"/>
              <a:chOff x="71280" y="4512600"/>
              <a:chExt cx="2333520" cy="619920"/>
            </a:xfrm>
          </p:grpSpPr>
          <p:pic>
            <p:nvPicPr>
              <p:cNvPr id="498" name="Rectangle 22" descr=""/>
              <p:cNvPicPr/>
              <p:nvPr/>
            </p:nvPicPr>
            <p:blipFill>
              <a:blip r:embed="rId28"/>
              <a:stretch/>
            </p:blipFill>
            <p:spPr>
              <a:xfrm>
                <a:off x="71280" y="4512600"/>
                <a:ext cx="2333520" cy="61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9" name=""/>
              <p:cNvSpPr/>
              <p:nvPr/>
            </p:nvSpPr>
            <p:spPr>
              <a:xfrm>
                <a:off x="137520" y="4548600"/>
                <a:ext cx="2202120" cy="51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entury Schoolbook"/>
                  </a:rPr>
                  <a:t>Standing Committee on Implementation of Emission Legislation (SCOE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0" name="Up-Down Arrow 25" descr=""/>
            <p:cNvPicPr/>
            <p:nvPr/>
          </p:nvPicPr>
          <p:blipFill>
            <a:blip r:embed="rId29"/>
            <a:stretch/>
          </p:blipFill>
          <p:spPr>
            <a:xfrm>
              <a:off x="1445400" y="3432240"/>
              <a:ext cx="1689840" cy="110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1" name="Group 63"/>
          <p:cNvGrpSpPr/>
          <p:nvPr/>
        </p:nvGrpSpPr>
        <p:grpSpPr>
          <a:xfrm>
            <a:off x="1130400" y="674280"/>
            <a:ext cx="5589000" cy="902160"/>
            <a:chOff x="1130400" y="674280"/>
            <a:chExt cx="5589000" cy="902160"/>
          </a:xfrm>
        </p:grpSpPr>
        <p:grpSp>
          <p:nvGrpSpPr>
            <p:cNvPr id="502" name="Group 68"/>
            <p:cNvGrpSpPr/>
            <p:nvPr/>
          </p:nvGrpSpPr>
          <p:grpSpPr>
            <a:xfrm>
              <a:off x="1130400" y="674280"/>
              <a:ext cx="5589000" cy="902160"/>
              <a:chOff x="1130400" y="674280"/>
              <a:chExt cx="5589000" cy="902160"/>
            </a:xfrm>
          </p:grpSpPr>
          <p:pic>
            <p:nvPicPr>
              <p:cNvPr id="503" name="Oval 6" descr=""/>
              <p:cNvPicPr/>
              <p:nvPr/>
            </p:nvPicPr>
            <p:blipFill>
              <a:blip r:embed="rId30"/>
              <a:stretch/>
            </p:blipFill>
            <p:spPr>
              <a:xfrm>
                <a:off x="3094920" y="674640"/>
                <a:ext cx="1625040" cy="736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04" name="Right Arrow 10"/>
              <p:cNvGrpSpPr/>
              <p:nvPr/>
            </p:nvGrpSpPr>
            <p:grpSpPr>
              <a:xfrm>
                <a:off x="3750120" y="1298880"/>
                <a:ext cx="440280" cy="266760"/>
                <a:chOff x="3750120" y="1298880"/>
                <a:chExt cx="440280" cy="266760"/>
              </a:xfrm>
            </p:grpSpPr>
            <p:pic>
              <p:nvPicPr>
                <p:cNvPr id="505" name="Right Arrow 10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3750120" y="1298880"/>
                  <a:ext cx="440280" cy="26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06" name=""/>
                <p:cNvSpPr/>
                <p:nvPr/>
              </p:nvSpPr>
              <p:spPr>
                <a:xfrm rot="5400000">
                  <a:off x="3912120" y="1324800"/>
                  <a:ext cx="112680" cy="13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rot="-54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07" name="Oval 13" descr=""/>
              <p:cNvPicPr/>
              <p:nvPr/>
            </p:nvPicPr>
            <p:blipFill>
              <a:blip r:embed="rId32"/>
              <a:stretch/>
            </p:blipFill>
            <p:spPr>
              <a:xfrm>
                <a:off x="5094360" y="674280"/>
                <a:ext cx="1625040" cy="720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08" name="Right Arrow 36"/>
              <p:cNvGrpSpPr/>
              <p:nvPr/>
            </p:nvGrpSpPr>
            <p:grpSpPr>
              <a:xfrm>
                <a:off x="4940280" y="1229760"/>
                <a:ext cx="398520" cy="336240"/>
                <a:chOff x="4940280" y="1229760"/>
                <a:chExt cx="398520" cy="336240"/>
              </a:xfrm>
            </p:grpSpPr>
            <p:pic>
              <p:nvPicPr>
                <p:cNvPr id="509" name="Right Arrow 36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4940280" y="1229760"/>
                  <a:ext cx="398520" cy="336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10" name=""/>
                <p:cNvSpPr/>
                <p:nvPr/>
              </p:nvSpPr>
              <p:spPr>
                <a:xfrm rot="7221000">
                  <a:off x="5070960" y="1299960"/>
                  <a:ext cx="157320" cy="14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rot="-54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11" name="Oval 65" descr=""/>
              <p:cNvPicPr/>
              <p:nvPr/>
            </p:nvPicPr>
            <p:blipFill>
              <a:blip r:embed="rId34"/>
              <a:stretch/>
            </p:blipFill>
            <p:spPr>
              <a:xfrm>
                <a:off x="1130400" y="674640"/>
                <a:ext cx="1625040" cy="741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2" name="Up-Down Arrow 66"/>
              <p:cNvGrpSpPr/>
              <p:nvPr/>
            </p:nvGrpSpPr>
            <p:grpSpPr>
              <a:xfrm>
                <a:off x="2660040" y="909360"/>
                <a:ext cx="535680" cy="240120"/>
                <a:chOff x="2660040" y="909360"/>
                <a:chExt cx="535680" cy="240120"/>
              </a:xfrm>
            </p:grpSpPr>
            <p:pic>
              <p:nvPicPr>
                <p:cNvPr id="513" name="Up-Down Arrow 66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2660040" y="909360"/>
                  <a:ext cx="535680" cy="24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14" name=""/>
                <p:cNvSpPr/>
                <p:nvPr/>
              </p:nvSpPr>
              <p:spPr>
                <a:xfrm rot="5400000">
                  <a:off x="2900880" y="829080"/>
                  <a:ext cx="51840" cy="34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rot="-54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5" name="Right Arrow 67"/>
              <p:cNvGrpSpPr/>
              <p:nvPr/>
            </p:nvGrpSpPr>
            <p:grpSpPr>
              <a:xfrm>
                <a:off x="2392200" y="1261800"/>
                <a:ext cx="470160" cy="314640"/>
                <a:chOff x="2392200" y="1261800"/>
                <a:chExt cx="470160" cy="314640"/>
              </a:xfrm>
            </p:grpSpPr>
            <p:pic>
              <p:nvPicPr>
                <p:cNvPr id="516" name="Right Arrow 67" descr="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2392200" y="1261800"/>
                  <a:ext cx="470160" cy="314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17" name=""/>
                <p:cNvSpPr/>
                <p:nvPr/>
              </p:nvSpPr>
              <p:spPr>
                <a:xfrm rot="14379000">
                  <a:off x="2553840" y="1303920"/>
                  <a:ext cx="126000" cy="17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rot="-54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8" name="Up-Down Arrow 62"/>
            <p:cNvGrpSpPr/>
            <p:nvPr/>
          </p:nvGrpSpPr>
          <p:grpSpPr>
            <a:xfrm>
              <a:off x="4645080" y="908280"/>
              <a:ext cx="554400" cy="274320"/>
              <a:chOff x="4645080" y="908280"/>
              <a:chExt cx="554400" cy="274320"/>
            </a:xfrm>
          </p:grpSpPr>
          <p:pic>
            <p:nvPicPr>
              <p:cNvPr id="519" name="Up-Down Arrow 62" descr=""/>
              <p:cNvPicPr/>
              <p:nvPr/>
            </p:nvPicPr>
            <p:blipFill>
              <a:blip r:embed="rId37"/>
              <a:stretch/>
            </p:blipFill>
            <p:spPr>
              <a:xfrm>
                <a:off x="4645080" y="908280"/>
                <a:ext cx="554400" cy="27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0" name=""/>
              <p:cNvSpPr/>
              <p:nvPr/>
            </p:nvSpPr>
            <p:spPr>
              <a:xfrm rot="5400000">
                <a:off x="4891680" y="839160"/>
                <a:ext cx="59400" cy="35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-54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75f6d"/>
                </a:solidFill>
                <a:latin typeface="Century Schoolbook"/>
              </a:rPr>
              <a:t>PRESENT REGULATORY SYSTEM IN INDIA</a:t>
            </a:r>
            <a:endParaRPr b="0" lang="en-US" sz="3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ndatory standards in India are in the form of Automotive Industry Standards (AI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dia has attempted harmonization with ECE regulations to the extent possible. Depending on specific Indian requirements some special tests are also incorporated in the Indian regulatory standard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ill date 78% of ECE regulations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technically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align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DIA AND GLOBAL INTEGR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dia decided to be an active member of the process of harmonisation of global technical regulation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tarted contributing as an Observer in WP 29 from 2003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Joined 1998 agreement in April 2006.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dia quite happy that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0640" indent="-272880">
              <a:spcBef>
                <a:spcPts val="326"/>
              </a:spcBef>
              <a:buClr>
                <a:srgbClr val="fe863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GTRs are based on consensu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0640" indent="-272880">
              <a:spcBef>
                <a:spcPts val="326"/>
              </a:spcBef>
              <a:buClr>
                <a:srgbClr val="fe863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GTR takes into account regional issue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dia is in the process of integration GTR’s into regulatory syste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0640" indent="-272880">
              <a:lnSpc>
                <a:spcPct val="100000"/>
              </a:lnSpc>
              <a:spcBef>
                <a:spcPts val="326"/>
              </a:spcBef>
              <a:buClr>
                <a:srgbClr val="fe863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dia investing 500 Million USD in increasing testing capability – National Automotive Testing and R&amp;D Infrastructure Project (NATRIP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DIAN APPROACH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dia actively working on understanding the technical and commercial issues related to 1958 agree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lso working on the preparatory steps which are absolutely essential before taking up this important step of joining 1958 agreemen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eparation of a concrete plan of the entire proce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e expect a time frame of about 2~3 years for carrying out all these steps to ensure our readiness in joining 1958 agreemen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75f6d"/>
                </a:solidFill>
                <a:latin typeface="Century Schoolbook"/>
              </a:rPr>
              <a:t>THE 1958 AGREEMENT : PERCEPTIONS</a:t>
            </a:r>
            <a:endParaRPr b="0" lang="en-US" sz="3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utual recognition of approvals has also technical and commercial impac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 laid down norms for certifying a test agency in 1958 agreement. Approval criteria for certifying agencies, therefore, could have differences in different countri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voting pattern in the agreement is a matter of concern majority with one bloc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ny times politics over rides technical correctnes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st meetings in outside As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15:19:56Z</dcterms:created>
  <dc:creator>Director</dc:creator>
  <dc:description/>
  <dc:language>en-US</dc:language>
  <cp:lastModifiedBy>Jongenelen</cp:lastModifiedBy>
  <dcterms:modified xsi:type="dcterms:W3CDTF">2009-03-20T13:47:42Z</dcterms:modified>
  <cp:revision>60</cp:revision>
  <dc:subject/>
  <dc:title>1958 Agreement India’s approach</dc:title>
</cp:coreProperties>
</file>