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7.png" ContentType="image/png"/>
  <Override PartName="/ppt/media/image14.wmf" ContentType="image/x-wmf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3.png" ContentType="image/png"/>
  <Override PartName="/ppt/media/image31.jpeg" ContentType="image/jpeg"/>
  <Override PartName="/ppt/media/image53.png" ContentType="image/png"/>
  <Override PartName="/ppt/media/image16.jpeg" ContentType="image/jpeg"/>
  <Override PartName="/ppt/media/image74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49.png" ContentType="image/png"/>
  <Override PartName="/ppt/media/image23.jpeg" ContentType="image/jpeg"/>
  <Override PartName="/ppt/media/image58.png" ContentType="image/png"/>
  <Override PartName="/ppt/media/image60.png" ContentType="image/png"/>
  <Override PartName="/ppt/media/image61.png" ContentType="image/png"/>
  <Override PartName="/ppt/media/image64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8.wmf" ContentType="image/x-wmf"/>
  <Override PartName="/ppt/media/image40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66.png" ContentType="image/png"/>
  <Override PartName="/ppt/media/image17.jpeg" ContentType="image/jpeg"/>
  <Override PartName="/ppt/media/image63.png" ContentType="image/png"/>
  <Override PartName="/ppt/media/image5.png" ContentType="image/png"/>
  <Override PartName="/ppt/media/image24.jpeg" ContentType="image/jpeg"/>
  <Override PartName="/ppt/media/image59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6.jpeg" ContentType="image/jpeg"/>
  <Override PartName="/ppt/media/image71.png" ContentType="image/png"/>
  <Override PartName="/ppt/media/image48.png" ContentType="image/png"/>
  <Override PartName="/ppt/media/image11.jpeg" ContentType="image/jpeg"/>
  <Override PartName="/ppt/media/image75.png" ContentType="image/png"/>
  <Override PartName="/ppt/media/image22.jpeg" ContentType="image/jpeg"/>
  <Override PartName="/ppt/media/image39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507-FB13-46D7-B101-32EAC1DF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A-05-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69A-6097-4450-8688-0593417F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4B7-C065-4D4B-88CE-75068AA6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gives you a pictoral view of the vehicle and engine manufacturers in India to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 happen to be members of SIAM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pure European, US Korean and Japanese firm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an Fi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an – and foreign joint ven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81D-9B8F-4292-B956-CBCC92CB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A72-52B3-4189-8C7A-2C20B6A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05C-607D-4018-B512-C401D968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D75-C7CB-4CF9-AD3C-F994861D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831-1325-436B-8B4B-9EFA651C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E178-FA87-4C33-86B5-035C035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0600-5713-41AA-B269-8D121D2D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9B6-43EB-45B8-847D-E96D8AF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7A0-7519-42D9-9D19-6DCC13B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0391-68AF-454E-87DB-D0FF6C9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A36-385E-4C13-8A93-0811C4F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846-697A-4628-9D0F-74B6B0AF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1FE9-CE8D-4C9B-A268-CB63782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0095-7DF3-4DCF-9EDA-6ABF02B3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D5C2-FFA1-4B6F-BCD4-9DED7D7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7C7-A8C3-41A9-B103-6A476CD3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4CF-B98E-470C-B024-7A773968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F1E4A-C9BD-4884-84AF-123B8FFF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10741-EC5D-45E1-95CB-DCB6135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C3D6F-DA45-4C37-84E9-A66FAA6E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CD6F3-5B27-4189-86B7-0800EE0F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2A5A1-02ED-4C25-B7BE-A48350FA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3D4-A9D9-4FD5-AEFF-9D910112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35753-4F30-4F58-8A07-6E6368A7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AD31A-6DC6-44BC-9180-0C0CDBE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34C6-452B-43FB-A3FA-6D3E7D0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D9AE8-4875-4CF7-ABA5-8FAC009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F10A7-D507-4014-9FB8-9EE118E5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81D52-1A22-44C6-8A16-491C853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BDC74-B5F3-4101-939B-C510D08A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822B-6B18-4DA0-AE24-B175867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7E2B-49AF-4AD3-87D6-9450A42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8F21-1DB8-403F-BFB8-EB16E62C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BCB-D2E1-44A0-9149-9D015B8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B74C-09C5-45C4-AC73-453F986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EFF6-019D-42AF-8F2C-CB2972BE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D6E2-9CE7-4B4C-B1E1-0D5B1641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6675-2D2D-429E-8D88-1473066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96D8-EEEF-43ED-B305-389EAEC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8795-5507-465A-9E8B-00D73BC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EE26-9445-42A1-845C-7708618F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D5AD-FC2A-4924-A2BF-1F8AA862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BED4-CC4B-4D3F-B1DC-6BA5B3CA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18E82-D279-4917-8348-01E2283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7A5-40DB-4F08-B9BD-EF836AD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0CB19-2EDD-46B4-A911-9F23C59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7CD44-DF29-4D56-99E8-DC590A6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63EC1-8AF0-4871-B40F-49B4A14E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F98C5-7BD6-4BDF-82C5-16A3C94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A4AC8-F8AF-45A3-97DE-C59D6F4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03D66-81CF-4687-9DB2-87648C0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4C603-1E08-42BA-94D2-D0F5812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8C67F-B240-45DA-9D7A-449DF7B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76C1D-B99B-4501-9284-01A2A5DE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36C0F-2243-42CF-9856-5518D833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8B7-8705-4415-9BA7-16335FF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7361C-7EC6-406B-89A0-74DA159C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6CD05-D503-4CE1-B902-D501AEB6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BBDA-FDF1-4777-8BED-BF32141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09CD5-BEB3-4B08-BC9F-D37C406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1B94A-1E94-4637-809D-1C41A463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3066A-3A07-4402-A8E6-615D3F4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25A36-85CE-4A6F-84E3-11B41AF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018DA-12E1-469A-85B7-94E6C42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45E6F-DE33-42B0-8CCA-FDCADC6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A8178-94AD-499D-9E4C-0FF92A6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F12-48BC-4191-A1F7-82C2507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9EDBD-500C-4424-B844-8930479C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33304-BE3D-4452-9250-63F043D4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4635E-3C5A-4608-8BCD-6E1204A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A2A7B-E929-4B29-B1A6-D5CF9E13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BA353-8348-4680-A207-36D6903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D2216-124C-4582-825B-6BAEB7B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B9332-250C-4161-B99C-D45FB37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A649F-140F-4ABF-A521-ED8390F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BFA56-C282-466A-A243-9390D98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89D48-C421-45DB-B004-34A846B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CD3-79D9-4ACB-932C-2C1DF69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E2373-3B2B-4ECF-96DE-5273BE5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8CE9F-B4CB-4FB7-8572-A405875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9C93E-B060-488B-994C-D8D26FB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CE9F4-6C49-4923-974E-AC69494C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021E7-3EAE-4683-857E-12AEC0A2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DAF-48E6-43CB-B574-054CE83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7DD-EED1-441E-BB4A-41D53EB1991A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B08-E125-4665-A4DB-4B3CFD4A5743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D5BF-73AC-43D0-9CC9-61C408EC50B4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B12-8033-4CD6-B115-22D5C44B32E6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C97-2C8D-4B47-B8B1-856A8E04AE89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3C9-6D93-44A0-9BA2-BC7F9845983F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9DE-D0BD-4477-B76C-CA3CAA941E58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4.wmf"/><Relationship Id="rId16" Type="http://schemas.openxmlformats.org/officeDocument/2006/relationships/image" Target="../media/image15.pn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image" Target="../media/image24.jpeg"/><Relationship Id="rId26" Type="http://schemas.openxmlformats.org/officeDocument/2006/relationships/oleObject" Target="../embeddings/oleObject2.bin"/><Relationship Id="rId27" Type="http://schemas.openxmlformats.org/officeDocument/2006/relationships/image" Target="../media/image25.wmf"/><Relationship Id="rId28" Type="http://schemas.openxmlformats.org/officeDocument/2006/relationships/image" Target="../media/image26.jpeg"/><Relationship Id="rId29" Type="http://schemas.openxmlformats.org/officeDocument/2006/relationships/image" Target="../media/image27.jpeg"/><Relationship Id="rId30" Type="http://schemas.openxmlformats.org/officeDocument/2006/relationships/image" Target="../media/image28.png"/><Relationship Id="rId31" Type="http://schemas.openxmlformats.org/officeDocument/2006/relationships/image" Target="../media/image29.jpeg"/><Relationship Id="rId32" Type="http://schemas.openxmlformats.org/officeDocument/2006/relationships/image" Target="../media/image30.png"/><Relationship Id="rId33" Type="http://schemas.openxmlformats.org/officeDocument/2006/relationships/image" Target="../media/image31.jpe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oleObject" Target="../embeddings/oleObject3.bin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oleObject" Target="../embeddings/oleObject4.bin"/><Relationship Id="rId40" Type="http://schemas.openxmlformats.org/officeDocument/2006/relationships/image" Target="../media/image36.png"/><Relationship Id="rId41" Type="http://schemas.openxmlformats.org/officeDocument/2006/relationships/image" Target="../media/image37.jpeg"/><Relationship Id="rId42" Type="http://schemas.openxmlformats.org/officeDocument/2006/relationships/oleObject" Target="../embeddings/oleObject5.bin"/><Relationship Id="rId43" Type="http://schemas.openxmlformats.org/officeDocument/2006/relationships/image" Target="../media/image38.png"/><Relationship Id="rId44" Type="http://schemas.openxmlformats.org/officeDocument/2006/relationships/image" Target="../media/image39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49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62.png"/><Relationship Id="rId27" Type="http://schemas.openxmlformats.org/officeDocument/2006/relationships/image" Target="../media/image64.png"/><Relationship Id="rId28" Type="http://schemas.openxmlformats.org/officeDocument/2006/relationships/image" Target="../media/image65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8.png"/><Relationship Id="rId32" Type="http://schemas.openxmlformats.org/officeDocument/2006/relationships/image" Target="../media/image69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2.png"/><Relationship Id="rId36" Type="http://schemas.openxmlformats.org/officeDocument/2006/relationships/image" Target="../media/image73.png"/><Relationship Id="rId37" Type="http://schemas.openxmlformats.org/officeDocument/2006/relationships/image" Target="../media/image74.png"/><Relationship Id="rId3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1700280"/>
            <a:ext cx="763128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PRESENTATION TO INFORMAL GROUP ON DETA</a:t>
            </a:r>
            <a:endParaRPr b="0" lang="en-US" sz="3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rikant Marathe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0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irector, ARA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-05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N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ing the need and necessity to join the 1958 agre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iewing the legal implications for Implementation of all the necessary preparatory st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eking some solution to the current issues with the 1958 agreement need your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expects that this process could take approximately 2 years or more depending on outc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3"/>
          <p:cNvSpPr/>
          <p:nvPr/>
        </p:nvSpPr>
        <p:spPr>
          <a:xfrm>
            <a:off x="533520" y="838080"/>
            <a:ext cx="7543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rmity of Production (CoP) 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 f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ss Emi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ince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 Period  -  At least once in a Fin. Year  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Plant-wise Production Quantity of Vehicl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extended to Agri. Tractors, Power Till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 Equipment Vehicles, Gen-Se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fety critical 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ught unde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view of CoP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. e. f. Apr 2009,  Oct 2009,  Apr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10155" t="14584" r="9376" b="14584"/>
          <a:stretch/>
        </p:blipFill>
        <p:spPr>
          <a:xfrm>
            <a:off x="304920" y="636480"/>
            <a:ext cx="8534160" cy="5634000"/>
          </a:xfrm>
          <a:prstGeom prst="rect">
            <a:avLst/>
          </a:prstGeom>
          <a:ln w="0">
            <a:noFill/>
          </a:ln>
        </p:spPr>
      </p:pic>
      <p:sp>
        <p:nvSpPr>
          <p:cNvPr id="533" name="WordArt 3"/>
          <p:cNvSpPr txBox="1"/>
          <p:nvPr/>
        </p:nvSpPr>
        <p:spPr>
          <a:xfrm>
            <a:off x="609480" y="162000"/>
            <a:ext cx="7696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G S R 784 (E) dt 12th Nov '08    w.e.f. 1st Apr 2009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380880" y="1523880"/>
            <a:ext cx="381240" cy="533520"/>
          </a:xfrm>
          <a:prstGeom prst="pie">
            <a:avLst/>
          </a:prstGeom>
          <a:blipFill rotWithShape="0">
            <a:blip r:embed="rId2"/>
            <a:srcRect/>
            <a:stretch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630000" y="1576440"/>
            <a:ext cx="81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ranklin Gothic Demi"/>
              </a:rPr>
              <a:t>Component Type Approval                                     CoP   AIS: 037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Paperless submission  /  On - Line acceptance. . . 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Automatic tracking for on-going document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Electronic storage &amp;  retrieval of documenta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Master set of specifications &amp; certificate in CD vers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Simplifying the documentation by Standard Templa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Type Approval Handbook (CD) f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- Quick CMVR referenc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- Update in the Legisl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Rectangle 2051"/>
          <p:cNvSpPr/>
          <p:nvPr/>
        </p:nvSpPr>
        <p:spPr>
          <a:xfrm>
            <a:off x="304920" y="1066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elta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’ Initiatives for quick homolo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D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ocumentation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el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ectronic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t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yp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a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ppro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28600" y="76320"/>
            <a:ext cx="8610480" cy="914400"/>
          </a:xfrm>
          <a:prstGeom prst="rect">
            <a:avLst/>
          </a:prstGeom>
          <a:gradFill rotWithShape="0">
            <a:gsLst>
              <a:gs pos="0">
                <a:srgbClr val="ff9900">
                  <a:alpha val="99215"/>
                </a:srgbClr>
              </a:gs>
              <a:gs pos="100000">
                <a:srgbClr val="3b435b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monized Type  Approval  Certif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0880" y="2057400"/>
            <a:ext cx="8382240" cy="4267080"/>
          </a:xfrm>
          <a:prstGeom prst="rect">
            <a:avLst/>
          </a:prstGeom>
          <a:blipFill rotWithShape="0">
            <a:blip r:embed="rId1">
              <a:alphaModFix amt="33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br>
              <a:rPr sz="3000"/>
            </a:b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R </a:t>
            </a:r>
            <a:br>
              <a:rPr sz="3000"/>
            </a:b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R KIND ATTEN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75f6d"/>
                </a:solidFill>
                <a:latin typeface="Century Schoolbook"/>
              </a:rPr>
              <a:t>PRESENTATION TO INFORMAL GROUP ON DETA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3143160"/>
            <a:ext cx="61722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Indian Automotive Sector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Automotive Regulations in India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India and Global integration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THE INDIAN AUTOMOTIVE SECTOR</a:t>
            </a:r>
            <a:endParaRPr b="0" lang="en-US" sz="3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068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Largest Tracto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econd largest Two wheele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econd largest Bus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Eight largest CV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Ninth Largest Ca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jor producer of automotive compone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29760" y="5897520"/>
            <a:ext cx="87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s Automotive Mission Plan: Market projected to grow by 5 times by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52280" y="1371600"/>
            <a:ext cx="88394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Maruti (Logo)"/>
          <p:cNvPicPr/>
          <p:nvPr/>
        </p:nvPicPr>
        <p:blipFill>
          <a:blip r:embed="rId1"/>
          <a:stretch/>
        </p:blipFill>
        <p:spPr>
          <a:xfrm>
            <a:off x="7197840" y="4037040"/>
            <a:ext cx="1565280" cy="534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MAHINDRA"/>
          <p:cNvPicPr/>
          <p:nvPr/>
        </p:nvPicPr>
        <p:blipFill>
          <a:blip r:embed="rId2"/>
          <a:stretch/>
        </p:blipFill>
        <p:spPr>
          <a:xfrm>
            <a:off x="5867280" y="4002120"/>
            <a:ext cx="1143000" cy="569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EROHONA"/>
          <p:cNvPicPr/>
          <p:nvPr/>
        </p:nvPicPr>
        <p:blipFill>
          <a:blip r:embed="rId3"/>
          <a:stretch/>
        </p:blipFill>
        <p:spPr>
          <a:xfrm>
            <a:off x="3157560" y="3276720"/>
            <a:ext cx="1643040" cy="466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FORD2"/>
          <p:cNvPicPr/>
          <p:nvPr/>
        </p:nvPicPr>
        <p:blipFill>
          <a:blip r:embed="rId4"/>
          <a:stretch/>
        </p:blipFill>
        <p:spPr>
          <a:xfrm>
            <a:off x="7696080" y="2422440"/>
            <a:ext cx="1262160" cy="47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b"/>
          <p:cNvPicPr/>
          <p:nvPr/>
        </p:nvPicPr>
        <p:blipFill>
          <a:blip r:embed="rId5"/>
          <a:stretch/>
        </p:blipFill>
        <p:spPr>
          <a:xfrm>
            <a:off x="2209680" y="2438280"/>
            <a:ext cx="1447920" cy="520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piaggioLogo"/>
          <p:cNvPicPr/>
          <p:nvPr/>
        </p:nvPicPr>
        <p:blipFill>
          <a:blip r:embed="rId6"/>
          <a:stretch/>
        </p:blipFill>
        <p:spPr>
          <a:xfrm>
            <a:off x="2025720" y="4843440"/>
            <a:ext cx="1251000" cy="490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/>
          <p:cNvPicPr/>
          <p:nvPr/>
        </p:nvPicPr>
        <p:blipFill>
          <a:blip r:embed="rId7"/>
          <a:stretch/>
        </p:blipFill>
        <p:spPr>
          <a:xfrm>
            <a:off x="5275440" y="5799240"/>
            <a:ext cx="2268360" cy="220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"/>
          <p:cNvPicPr/>
          <p:nvPr/>
        </p:nvPicPr>
        <p:blipFill>
          <a:blip r:embed="rId8"/>
          <a:stretch/>
        </p:blipFill>
        <p:spPr>
          <a:xfrm>
            <a:off x="4321080" y="1600200"/>
            <a:ext cx="86040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11" descr="gm"/>
          <p:cNvPicPr/>
          <p:nvPr/>
        </p:nvPicPr>
        <p:blipFill>
          <a:blip r:embed="rId9"/>
          <a:stretch/>
        </p:blipFill>
        <p:spPr>
          <a:xfrm>
            <a:off x="533520" y="2895480"/>
            <a:ext cx="769680" cy="743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TOYOTA"/>
          <p:cNvPicPr/>
          <p:nvPr/>
        </p:nvPicPr>
        <p:blipFill>
          <a:blip r:embed="rId10"/>
          <a:stretch/>
        </p:blipFill>
        <p:spPr>
          <a:xfrm>
            <a:off x="1981080" y="6148440"/>
            <a:ext cx="2057400" cy="480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Logo5"/>
          <p:cNvPicPr/>
          <p:nvPr/>
        </p:nvPicPr>
        <p:blipFill>
          <a:blip r:embed="rId11"/>
          <a:stretch/>
        </p:blipFill>
        <p:spPr>
          <a:xfrm>
            <a:off x="7827840" y="4648320"/>
            <a:ext cx="782640" cy="74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LML-corp-logo"/>
          <p:cNvPicPr/>
          <p:nvPr/>
        </p:nvPicPr>
        <p:blipFill>
          <a:blip r:embed="rId12"/>
          <a:stretch/>
        </p:blipFill>
        <p:spPr>
          <a:xfrm>
            <a:off x="4071960" y="4043520"/>
            <a:ext cx="1643040" cy="520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logo"/>
          <p:cNvPicPr/>
          <p:nvPr/>
        </p:nvPicPr>
        <p:blipFill>
          <a:blip r:embed="rId13"/>
          <a:stretch/>
        </p:blipFill>
        <p:spPr>
          <a:xfrm>
            <a:off x="3929040" y="5557680"/>
            <a:ext cx="1252440" cy="46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16"/>
          <p:cNvGraphicFramePr/>
          <p:nvPr/>
        </p:nvGraphicFramePr>
        <p:xfrm>
          <a:off x="228600" y="1603440"/>
          <a:ext cx="2151000" cy="453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1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1603440"/>
                    <a:ext cx="21510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17" descr=""/>
          <p:cNvPicPr/>
          <p:nvPr/>
        </p:nvPicPr>
        <p:blipFill>
          <a:blip r:embed="rId16"/>
          <a:stretch/>
        </p:blipFill>
        <p:spPr>
          <a:xfrm>
            <a:off x="6611760" y="472428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8" descr="Bajaj auto (Logo)"/>
          <p:cNvPicPr/>
          <p:nvPr/>
        </p:nvPicPr>
        <p:blipFill>
          <a:blip r:embed="rId17"/>
          <a:stretch/>
        </p:blipFill>
        <p:spPr>
          <a:xfrm>
            <a:off x="6143760" y="1571760"/>
            <a:ext cx="723600" cy="954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9" descr="Force Logo"/>
          <p:cNvPicPr/>
          <p:nvPr/>
        </p:nvPicPr>
        <p:blipFill>
          <a:blip r:embed="rId18"/>
          <a:stretch/>
        </p:blipFill>
        <p:spPr>
          <a:xfrm>
            <a:off x="6443640" y="2363760"/>
            <a:ext cx="1252440" cy="760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Hindustan Motors(Logo)"/>
          <p:cNvPicPr/>
          <p:nvPr/>
        </p:nvPicPr>
        <p:blipFill>
          <a:blip r:embed="rId19"/>
          <a:stretch/>
        </p:blipFill>
        <p:spPr>
          <a:xfrm>
            <a:off x="5257800" y="3259080"/>
            <a:ext cx="914400" cy="627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1" descr="Kinetic Logo"/>
          <p:cNvPicPr/>
          <p:nvPr/>
        </p:nvPicPr>
        <p:blipFill>
          <a:blip r:embed="rId20"/>
          <a:stretch/>
        </p:blipFill>
        <p:spPr>
          <a:xfrm>
            <a:off x="2852640" y="3921120"/>
            <a:ext cx="1067040" cy="650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2" descr="ICML"/>
          <p:cNvPicPr/>
          <p:nvPr/>
        </p:nvPicPr>
        <p:blipFill>
          <a:blip r:embed="rId21"/>
          <a:stretch/>
        </p:blipFill>
        <p:spPr>
          <a:xfrm>
            <a:off x="1752480" y="4179960"/>
            <a:ext cx="790560" cy="544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3" descr="H3Dv_L_color"/>
          <p:cNvPicPr/>
          <p:nvPr/>
        </p:nvPicPr>
        <p:blipFill>
          <a:blip r:embed="rId22"/>
          <a:stretch/>
        </p:blipFill>
        <p:spPr>
          <a:xfrm>
            <a:off x="7696080" y="3106800"/>
            <a:ext cx="1165320" cy="779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4" descr="blue logo"/>
          <p:cNvPicPr/>
          <p:nvPr/>
        </p:nvPicPr>
        <p:blipFill>
          <a:blip r:embed="rId23"/>
          <a:stretch/>
        </p:blipFill>
        <p:spPr>
          <a:xfrm>
            <a:off x="3473280" y="4557600"/>
            <a:ext cx="1175040" cy="852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5" descr="simpson-jpg"/>
          <p:cNvPicPr/>
          <p:nvPr/>
        </p:nvPicPr>
        <p:blipFill>
          <a:blip r:embed="rId24"/>
          <a:stretch/>
        </p:blipFill>
        <p:spPr>
          <a:xfrm>
            <a:off x="304920" y="5375160"/>
            <a:ext cx="1487520" cy="568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6" descr="TVS(LOGO"/>
          <p:cNvPicPr/>
          <p:nvPr/>
        </p:nvPicPr>
        <p:blipFill>
          <a:blip r:embed="rId25"/>
          <a:stretch/>
        </p:blipFill>
        <p:spPr>
          <a:xfrm>
            <a:off x="652320" y="6027840"/>
            <a:ext cx="1252800" cy="6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27"/>
          <p:cNvGraphicFramePr/>
          <p:nvPr/>
        </p:nvGraphicFramePr>
        <p:xfrm>
          <a:off x="7924680" y="1542960"/>
          <a:ext cx="838440" cy="743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93" name="Object 2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24680" y="1542960"/>
                    <a:ext cx="8384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Picture 28" descr="FIAT NEW LOGO 2005"/>
          <p:cNvPicPr/>
          <p:nvPr/>
        </p:nvPicPr>
        <p:blipFill>
          <a:blip r:embed="rId28"/>
          <a:stretch/>
        </p:blipFill>
        <p:spPr>
          <a:xfrm>
            <a:off x="5486400" y="2635200"/>
            <a:ext cx="907920" cy="488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9" descr="Hyundai Logo"/>
          <p:cNvPicPr/>
          <p:nvPr/>
        </p:nvPicPr>
        <p:blipFill>
          <a:blip r:embed="rId29"/>
          <a:stretch/>
        </p:blipFill>
        <p:spPr>
          <a:xfrm>
            <a:off x="457200" y="3657600"/>
            <a:ext cx="1103400" cy="836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1" descr=""/>
          <p:cNvPicPr/>
          <p:nvPr/>
        </p:nvPicPr>
        <p:blipFill>
          <a:blip r:embed="rId30"/>
          <a:stretch/>
        </p:blipFill>
        <p:spPr>
          <a:xfrm>
            <a:off x="5060880" y="6237360"/>
            <a:ext cx="1644840" cy="392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2" descr=""/>
          <p:cNvPicPr/>
          <p:nvPr/>
        </p:nvPicPr>
        <p:blipFill>
          <a:blip r:embed="rId31"/>
          <a:stretch/>
        </p:blipFill>
        <p:spPr>
          <a:xfrm>
            <a:off x="6629400" y="310680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"/>
          <p:cNvPicPr/>
          <p:nvPr/>
        </p:nvPicPr>
        <p:blipFill>
          <a:blip r:embed="rId32"/>
          <a:stretch/>
        </p:blipFill>
        <p:spPr>
          <a:xfrm>
            <a:off x="4840200" y="4800600"/>
            <a:ext cx="1484280" cy="541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4" descr=""/>
          <p:cNvPicPr/>
          <p:nvPr/>
        </p:nvPicPr>
        <p:blipFill>
          <a:blip r:embed="rId33"/>
          <a:stretch/>
        </p:blipFill>
        <p:spPr>
          <a:xfrm>
            <a:off x="7059600" y="6248520"/>
            <a:ext cx="1627200" cy="384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5" descr=""/>
          <p:cNvPicPr/>
          <p:nvPr/>
        </p:nvPicPr>
        <p:blipFill>
          <a:blip r:embed="rId34"/>
          <a:stretch/>
        </p:blipFill>
        <p:spPr>
          <a:xfrm>
            <a:off x="2057400" y="5737320"/>
            <a:ext cx="1676520" cy="358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" descr=""/>
          <p:cNvPicPr/>
          <p:nvPr/>
        </p:nvPicPr>
        <p:blipFill>
          <a:blip r:embed="rId35"/>
          <a:stretch/>
        </p:blipFill>
        <p:spPr>
          <a:xfrm>
            <a:off x="1676520" y="3071880"/>
            <a:ext cx="822240" cy="966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MOST MAJOR MANUFACTURERS PRESENT IN INDIA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3" name="Object 38"/>
          <p:cNvGraphicFramePr/>
          <p:nvPr/>
        </p:nvGraphicFramePr>
        <p:xfrm>
          <a:off x="0" y="6019920"/>
          <a:ext cx="762120" cy="6001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04" name="Object 3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0" y="6019920"/>
                    <a:ext cx="762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39" descr="Mahindra Renault"/>
          <p:cNvPicPr/>
          <p:nvPr/>
        </p:nvPicPr>
        <p:blipFill>
          <a:blip r:embed="rId38"/>
          <a:stretch/>
        </p:blipFill>
        <p:spPr>
          <a:xfrm>
            <a:off x="0" y="4724280"/>
            <a:ext cx="1486080" cy="3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0"/>
          <p:cNvGraphicFramePr/>
          <p:nvPr/>
        </p:nvGraphicFramePr>
        <p:xfrm>
          <a:off x="0" y="2133720"/>
          <a:ext cx="1676520" cy="59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07" name="Object 4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0" y="2133720"/>
                    <a:ext cx="16765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Picture 41" descr="TVML LOGO"/>
          <p:cNvPicPr/>
          <p:nvPr/>
        </p:nvPicPr>
        <p:blipFill>
          <a:blip r:embed="rId41"/>
          <a:srcRect l="4769" t="9628" r="14286" b="22119"/>
          <a:stretch/>
        </p:blipFill>
        <p:spPr>
          <a:xfrm>
            <a:off x="7543800" y="5486400"/>
            <a:ext cx="12952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42"/>
          <p:cNvGraphicFramePr/>
          <p:nvPr/>
        </p:nvGraphicFramePr>
        <p:xfrm>
          <a:off x="3809880" y="2646360"/>
          <a:ext cx="1600200" cy="4017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10" name="Object 42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809880" y="2646360"/>
                    <a:ext cx="1600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1" name="Picture 43" descr=""/>
          <p:cNvPicPr/>
          <p:nvPr/>
        </p:nvPicPr>
        <p:blipFill>
          <a:blip r:embed="rId44"/>
          <a:stretch/>
        </p:blipFill>
        <p:spPr>
          <a:xfrm>
            <a:off x="2514600" y="1557360"/>
            <a:ext cx="16574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ROCESS FOR REGULATION FORMULA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13" name="Rectangle 5"/>
          <p:cNvGrpSpPr/>
          <p:nvPr/>
        </p:nvGrpSpPr>
        <p:grpSpPr>
          <a:xfrm>
            <a:off x="2627280" y="1566720"/>
            <a:ext cx="2438280" cy="1444680"/>
            <a:chOff x="2627280" y="1566720"/>
            <a:chExt cx="2438280" cy="1444680"/>
          </a:xfrm>
        </p:grpSpPr>
        <p:pic>
          <p:nvPicPr>
            <p:cNvPr id="414" name="Rectangle 5" descr=""/>
            <p:cNvPicPr/>
            <p:nvPr/>
          </p:nvPicPr>
          <p:blipFill>
            <a:blip r:embed="rId1"/>
            <a:stretch/>
          </p:blipFill>
          <p:spPr>
            <a:xfrm>
              <a:off x="2627280" y="1566720"/>
              <a:ext cx="2438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14760" y="1631880"/>
              <a:ext cx="2214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d63"/>
                  </a:solidFill>
                  <a:latin typeface="Century Schoolbook"/>
                </a:rPr>
                <a:t>Formulation of regulations by Ministry of Shipping and Road Trans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62"/>
          <p:cNvGrpSpPr/>
          <p:nvPr/>
        </p:nvGrpSpPr>
        <p:grpSpPr>
          <a:xfrm>
            <a:off x="2301840" y="3132000"/>
            <a:ext cx="2873520" cy="3511800"/>
            <a:chOff x="2301840" y="3132000"/>
            <a:chExt cx="2873520" cy="3511800"/>
          </a:xfrm>
        </p:grpSpPr>
        <p:grpSp>
          <p:nvGrpSpPr>
            <p:cNvPr id="417" name="Group 61"/>
            <p:cNvGrpSpPr/>
            <p:nvPr/>
          </p:nvGrpSpPr>
          <p:grpSpPr>
            <a:xfrm>
              <a:off x="2575440" y="3132000"/>
              <a:ext cx="2294280" cy="3511800"/>
              <a:chOff x="2575440" y="3132000"/>
              <a:chExt cx="2294280" cy="3511800"/>
            </a:xfrm>
          </p:grpSpPr>
          <p:grpSp>
            <p:nvGrpSpPr>
              <p:cNvPr id="418" name="Rectangle 33"/>
              <p:cNvGrpSpPr/>
              <p:nvPr/>
            </p:nvGrpSpPr>
            <p:grpSpPr>
              <a:xfrm>
                <a:off x="2648520" y="5193360"/>
                <a:ext cx="2131200" cy="622440"/>
                <a:chOff x="2648520" y="5193360"/>
                <a:chExt cx="2131200" cy="622440"/>
              </a:xfrm>
            </p:grpSpPr>
            <p:pic>
              <p:nvPicPr>
                <p:cNvPr id="419" name="Rectangle 3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48520" y="5193360"/>
                  <a:ext cx="2131200" cy="62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>
                  <a:off x="2709000" y="5236560"/>
                  <a:ext cx="2006280" cy="49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entury Schoolbook"/>
                    </a:rPr>
                    <a:t>National Level Standing Committee on WP.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Rectangle 34"/>
              <p:cNvGrpSpPr/>
              <p:nvPr/>
            </p:nvGrpSpPr>
            <p:grpSpPr>
              <a:xfrm>
                <a:off x="2575440" y="6033240"/>
                <a:ext cx="2294280" cy="610560"/>
                <a:chOff x="2575440" y="6033240"/>
                <a:chExt cx="2294280" cy="610560"/>
              </a:xfrm>
            </p:grpSpPr>
            <p:pic>
              <p:nvPicPr>
                <p:cNvPr id="422" name="Rectangle 3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75440" y="6033240"/>
                  <a:ext cx="229428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>
                  <a:off x="2638800" y="6073200"/>
                  <a:ext cx="2138040" cy="48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entury Schoolbook"/>
                    </a:rPr>
                    <a:t>Working Groups Corresponding to  GRs of WP.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Up-Down Arrow 35"/>
              <p:cNvGrpSpPr/>
              <p:nvPr/>
            </p:nvGrpSpPr>
            <p:grpSpPr>
              <a:xfrm>
                <a:off x="3615840" y="5751360"/>
                <a:ext cx="179640" cy="340560"/>
                <a:chOff x="3615840" y="5751360"/>
                <a:chExt cx="179640" cy="340560"/>
              </a:xfrm>
            </p:grpSpPr>
            <p:pic>
              <p:nvPicPr>
                <p:cNvPr id="425" name="Up-Down Arrow 3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15840" y="5751360"/>
                  <a:ext cx="179640" cy="34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6" name=""/>
                <p:cNvSpPr/>
                <p:nvPr/>
              </p:nvSpPr>
              <p:spPr>
                <a:xfrm>
                  <a:off x="3695040" y="5802840"/>
                  <a:ext cx="212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7" name="Up-Down Arrow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3345840" y="3132000"/>
                <a:ext cx="730800" cy="213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Right Arrow 39"/>
            <p:cNvGrpSpPr/>
            <p:nvPr/>
          </p:nvGrpSpPr>
          <p:grpSpPr>
            <a:xfrm>
              <a:off x="2301840" y="4809600"/>
              <a:ext cx="585360" cy="493560"/>
              <a:chOff x="2301840" y="4809600"/>
              <a:chExt cx="585360" cy="493560"/>
            </a:xfrm>
          </p:grpSpPr>
          <p:pic>
            <p:nvPicPr>
              <p:cNvPr id="429" name="Right Arrow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1840" y="4809600"/>
                <a:ext cx="58536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12854400">
                <a:off x="2367360" y="4990680"/>
                <a:ext cx="4629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Right Arrow 40"/>
            <p:cNvGrpSpPr/>
            <p:nvPr/>
          </p:nvGrpSpPr>
          <p:grpSpPr>
            <a:xfrm>
              <a:off x="4620240" y="4779360"/>
              <a:ext cx="555120" cy="518040"/>
              <a:chOff x="4620240" y="4779360"/>
              <a:chExt cx="555120" cy="518040"/>
            </a:xfrm>
          </p:grpSpPr>
          <p:pic>
            <p:nvPicPr>
              <p:cNvPr id="432" name="Right Arrow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4620240" y="4779360"/>
                <a:ext cx="5551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 rot="19208400">
                <a:off x="4663440" y="4968360"/>
                <a:ext cx="463320" cy="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64"/>
          <p:cNvGrpSpPr/>
          <p:nvPr/>
        </p:nvGrpSpPr>
        <p:grpSpPr>
          <a:xfrm>
            <a:off x="4962600" y="631800"/>
            <a:ext cx="4057560" cy="4173480"/>
            <a:chOff x="4962600" y="631800"/>
            <a:chExt cx="4057560" cy="4173480"/>
          </a:xfrm>
        </p:grpSpPr>
        <p:grpSp>
          <p:nvGrpSpPr>
            <p:cNvPr id="435" name="Right Arrow 41"/>
            <p:cNvGrpSpPr/>
            <p:nvPr/>
          </p:nvGrpSpPr>
          <p:grpSpPr>
            <a:xfrm>
              <a:off x="4974120" y="2258640"/>
              <a:ext cx="1239840" cy="624600"/>
              <a:chOff x="4974120" y="2258640"/>
              <a:chExt cx="1239840" cy="624600"/>
            </a:xfrm>
          </p:grpSpPr>
          <p:pic>
            <p:nvPicPr>
              <p:cNvPr id="436" name="Right Arrow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4120" y="2258640"/>
                <a:ext cx="123984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276800">
                <a:off x="5014080" y="2504880"/>
                <a:ext cx="1140120" cy="6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Rectangle 42"/>
            <p:cNvGrpSpPr/>
            <p:nvPr/>
          </p:nvGrpSpPr>
          <p:grpSpPr>
            <a:xfrm>
              <a:off x="6125040" y="2429640"/>
              <a:ext cx="1310760" cy="630720"/>
              <a:chOff x="6125040" y="2429640"/>
              <a:chExt cx="1310760" cy="630720"/>
            </a:xfrm>
          </p:grpSpPr>
          <p:pic>
            <p:nvPicPr>
              <p:cNvPr id="439" name="Rectangl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6125040" y="2429640"/>
                <a:ext cx="1310760" cy="63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6187320" y="2478600"/>
                <a:ext cx="11818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Draft Amendment to CMV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Right Arrow 43"/>
            <p:cNvGrpSpPr/>
            <p:nvPr/>
          </p:nvGrpSpPr>
          <p:grpSpPr>
            <a:xfrm>
              <a:off x="7317720" y="2635920"/>
              <a:ext cx="409320" cy="217800"/>
              <a:chOff x="7317720" y="2635920"/>
              <a:chExt cx="409320" cy="217800"/>
            </a:xfrm>
          </p:grpSpPr>
          <p:pic>
            <p:nvPicPr>
              <p:cNvPr id="442" name="Right Arrow 4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17720" y="2635920"/>
                <a:ext cx="409320" cy="21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7383600" y="2703240"/>
                <a:ext cx="260640" cy="3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Rectangle 44"/>
            <p:cNvGrpSpPr/>
            <p:nvPr/>
          </p:nvGrpSpPr>
          <p:grpSpPr>
            <a:xfrm>
              <a:off x="7667640" y="2423880"/>
              <a:ext cx="1322640" cy="624600"/>
              <a:chOff x="7667640" y="2423880"/>
              <a:chExt cx="1322640" cy="624600"/>
            </a:xfrm>
          </p:grpSpPr>
          <p:pic>
            <p:nvPicPr>
              <p:cNvPr id="445" name="Rectangl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667640" y="2423880"/>
                <a:ext cx="132264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7731000" y="246348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Public Notice for 45-60 day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Down Arrow 45"/>
            <p:cNvGrpSpPr/>
            <p:nvPr/>
          </p:nvGrpSpPr>
          <p:grpSpPr>
            <a:xfrm>
              <a:off x="8272800" y="2972160"/>
              <a:ext cx="183600" cy="412560"/>
              <a:chOff x="8272800" y="2972160"/>
              <a:chExt cx="183600" cy="412560"/>
            </a:xfrm>
          </p:grpSpPr>
          <p:pic>
            <p:nvPicPr>
              <p:cNvPr id="448" name="Down Arrow 4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2800" y="2972160"/>
                <a:ext cx="183600" cy="41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8353440" y="3016080"/>
                <a:ext cx="2160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Rectangle 46"/>
            <p:cNvGrpSpPr/>
            <p:nvPr/>
          </p:nvGrpSpPr>
          <p:grpSpPr>
            <a:xfrm>
              <a:off x="7697520" y="3302280"/>
              <a:ext cx="1316880" cy="630720"/>
              <a:chOff x="7697520" y="3302280"/>
              <a:chExt cx="1316880" cy="630720"/>
            </a:xfrm>
          </p:grpSpPr>
          <p:pic>
            <p:nvPicPr>
              <p:cNvPr id="451" name="Rectangle 46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97520" y="3302280"/>
                <a:ext cx="1316880" cy="63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7760520" y="335088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Consideration to Public Comm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Down Arrow 47"/>
            <p:cNvGrpSpPr/>
            <p:nvPr/>
          </p:nvGrpSpPr>
          <p:grpSpPr>
            <a:xfrm>
              <a:off x="8278920" y="3850560"/>
              <a:ext cx="189720" cy="412560"/>
              <a:chOff x="8278920" y="3850560"/>
              <a:chExt cx="189720" cy="412560"/>
            </a:xfrm>
          </p:grpSpPr>
          <p:pic>
            <p:nvPicPr>
              <p:cNvPr id="454" name="Down Arrow 47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8920" y="3850560"/>
                <a:ext cx="189720" cy="41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8363520" y="3889800"/>
                <a:ext cx="22320" cy="2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Rectangle 48"/>
            <p:cNvGrpSpPr/>
            <p:nvPr/>
          </p:nvGrpSpPr>
          <p:grpSpPr>
            <a:xfrm>
              <a:off x="7703280" y="4180680"/>
              <a:ext cx="1316880" cy="624600"/>
              <a:chOff x="7703280" y="4180680"/>
              <a:chExt cx="1316880" cy="624600"/>
            </a:xfrm>
          </p:grpSpPr>
          <p:pic>
            <p:nvPicPr>
              <p:cNvPr id="457" name="Rectangle 4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03280" y="4180680"/>
                <a:ext cx="131688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771320" y="422424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mendment to CMV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Rectangle 50"/>
            <p:cNvGrpSpPr/>
            <p:nvPr/>
          </p:nvGrpSpPr>
          <p:grpSpPr>
            <a:xfrm>
              <a:off x="6119280" y="1468800"/>
              <a:ext cx="1310760" cy="636480"/>
              <a:chOff x="6119280" y="1468800"/>
              <a:chExt cx="1310760" cy="636480"/>
            </a:xfrm>
          </p:grpSpPr>
          <p:pic>
            <p:nvPicPr>
              <p:cNvPr id="460" name="Rectangle 50" descr=""/>
              <p:cNvPicPr/>
              <p:nvPr/>
            </p:nvPicPr>
            <p:blipFill>
              <a:blip r:embed="rId16"/>
              <a:stretch/>
            </p:blipFill>
            <p:spPr>
              <a:xfrm>
                <a:off x="6119280" y="1468800"/>
                <a:ext cx="131076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6184440" y="152064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Draft Amendment to A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ight Arrow 51"/>
            <p:cNvGrpSpPr/>
            <p:nvPr/>
          </p:nvGrpSpPr>
          <p:grpSpPr>
            <a:xfrm>
              <a:off x="7353360" y="1739880"/>
              <a:ext cx="409320" cy="217800"/>
              <a:chOff x="7353360" y="1739880"/>
              <a:chExt cx="409320" cy="217800"/>
            </a:xfrm>
          </p:grpSpPr>
          <p:pic>
            <p:nvPicPr>
              <p:cNvPr id="463" name="Right Arrow 5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53360" y="1739880"/>
                <a:ext cx="409320" cy="21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7420680" y="1805040"/>
                <a:ext cx="260640" cy="3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Rectangle 52"/>
            <p:cNvGrpSpPr/>
            <p:nvPr/>
          </p:nvGrpSpPr>
          <p:grpSpPr>
            <a:xfrm>
              <a:off x="7673760" y="1521720"/>
              <a:ext cx="1310760" cy="624600"/>
              <a:chOff x="7673760" y="1521720"/>
              <a:chExt cx="1310760" cy="624600"/>
            </a:xfrm>
          </p:grpSpPr>
          <p:pic>
            <p:nvPicPr>
              <p:cNvPr id="466" name="Rectangle 52" descr=""/>
              <p:cNvPicPr/>
              <p:nvPr/>
            </p:nvPicPr>
            <p:blipFill>
              <a:blip r:embed="rId18"/>
              <a:stretch/>
            </p:blipFill>
            <p:spPr>
              <a:xfrm>
                <a:off x="7673760" y="1521720"/>
                <a:ext cx="131076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7738920" y="156492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Voting by Parlia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Rectangle 53"/>
            <p:cNvGrpSpPr/>
            <p:nvPr/>
          </p:nvGrpSpPr>
          <p:grpSpPr>
            <a:xfrm>
              <a:off x="7673760" y="631800"/>
              <a:ext cx="1310760" cy="636480"/>
              <a:chOff x="7673760" y="631800"/>
              <a:chExt cx="1310760" cy="636480"/>
            </a:xfrm>
          </p:grpSpPr>
          <p:pic>
            <p:nvPicPr>
              <p:cNvPr id="469" name="Rectangle 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73760" y="631800"/>
                <a:ext cx="131076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7738920" y="68256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mendment to Motor Vehicle A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Right Arrow 55"/>
            <p:cNvGrpSpPr/>
            <p:nvPr/>
          </p:nvGrpSpPr>
          <p:grpSpPr>
            <a:xfrm>
              <a:off x="4962600" y="1746000"/>
              <a:ext cx="1251720" cy="624600"/>
              <a:chOff x="4962600" y="1746000"/>
              <a:chExt cx="1251720" cy="624600"/>
            </a:xfrm>
          </p:grpSpPr>
          <p:pic>
            <p:nvPicPr>
              <p:cNvPr id="472" name="Right Arrow 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62600" y="1746000"/>
                <a:ext cx="125172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0362200">
                <a:off x="5005440" y="2010960"/>
                <a:ext cx="1147320" cy="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Down Arrow 58"/>
            <p:cNvGrpSpPr/>
            <p:nvPr/>
          </p:nvGrpSpPr>
          <p:grpSpPr>
            <a:xfrm>
              <a:off x="8255160" y="1203480"/>
              <a:ext cx="183600" cy="406440"/>
              <a:chOff x="8255160" y="1203480"/>
              <a:chExt cx="183600" cy="406440"/>
            </a:xfrm>
          </p:grpSpPr>
          <p:pic>
            <p:nvPicPr>
              <p:cNvPr id="475" name="Down Arrow 58" descr=""/>
              <p:cNvPicPr/>
              <p:nvPr/>
            </p:nvPicPr>
            <p:blipFill>
              <a:blip r:embed="rId21"/>
              <a:stretch/>
            </p:blipFill>
            <p:spPr>
              <a:xfrm>
                <a:off x="8255160" y="1203480"/>
                <a:ext cx="1836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10800000">
                <a:off x="8335440" y="1255320"/>
                <a:ext cx="22320" cy="26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59"/>
          <p:cNvGrpSpPr/>
          <p:nvPr/>
        </p:nvGrpSpPr>
        <p:grpSpPr>
          <a:xfrm>
            <a:off x="5000760" y="2963880"/>
            <a:ext cx="2419200" cy="3813120"/>
            <a:chOff x="5000760" y="2963880"/>
            <a:chExt cx="2419200" cy="3813120"/>
          </a:xfrm>
        </p:grpSpPr>
        <p:grpSp>
          <p:nvGrpSpPr>
            <p:cNvPr id="478" name="Rectangle 27"/>
            <p:cNvGrpSpPr/>
            <p:nvPr/>
          </p:nvGrpSpPr>
          <p:grpSpPr>
            <a:xfrm>
              <a:off x="5453280" y="4428360"/>
              <a:ext cx="1966680" cy="654840"/>
              <a:chOff x="5453280" y="4428360"/>
              <a:chExt cx="1966680" cy="654840"/>
            </a:xfrm>
          </p:grpSpPr>
          <p:pic>
            <p:nvPicPr>
              <p:cNvPr id="479" name="Rectangl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53280" y="4428360"/>
                <a:ext cx="196668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5508720" y="4472640"/>
                <a:ext cx="185508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CMVR-Technical Standing Committee(CMVR-TSC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Rectangle 28"/>
            <p:cNvGrpSpPr/>
            <p:nvPr/>
          </p:nvGrpSpPr>
          <p:grpSpPr>
            <a:xfrm>
              <a:off x="5453280" y="5312520"/>
              <a:ext cx="1940760" cy="642600"/>
              <a:chOff x="5453280" y="5312520"/>
              <a:chExt cx="1940760" cy="642600"/>
            </a:xfrm>
          </p:grpSpPr>
          <p:pic>
            <p:nvPicPr>
              <p:cNvPr id="482" name="Rectangl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53280" y="5312520"/>
                <a:ext cx="1940760" cy="64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5508720" y="5353200"/>
                <a:ext cx="182952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utomotive Industry Standards Committee (AISC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Up-Down Arrow 29"/>
            <p:cNvGrpSpPr/>
            <p:nvPr/>
          </p:nvGrpSpPr>
          <p:grpSpPr>
            <a:xfrm>
              <a:off x="6322320" y="5015520"/>
              <a:ext cx="161280" cy="358200"/>
              <a:chOff x="6322320" y="5015520"/>
              <a:chExt cx="161280" cy="358200"/>
            </a:xfrm>
          </p:grpSpPr>
          <p:pic>
            <p:nvPicPr>
              <p:cNvPr id="485" name="Up-Down Arrow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6322320" y="5015520"/>
                <a:ext cx="16128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6393960" y="5068440"/>
                <a:ext cx="194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Rectangle 30"/>
            <p:cNvGrpSpPr/>
            <p:nvPr/>
          </p:nvGrpSpPr>
          <p:grpSpPr>
            <a:xfrm>
              <a:off x="5437800" y="6134400"/>
              <a:ext cx="1945800" cy="642600"/>
              <a:chOff x="5437800" y="6134400"/>
              <a:chExt cx="1945800" cy="642600"/>
            </a:xfrm>
          </p:grpSpPr>
          <p:pic>
            <p:nvPicPr>
              <p:cNvPr id="488" name="Rectangl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37800" y="6134400"/>
                <a:ext cx="1945800" cy="64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5495400" y="6175440"/>
                <a:ext cx="182916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Subject-wise Expert Panel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Up-Down Arrow 31"/>
            <p:cNvGrpSpPr/>
            <p:nvPr/>
          </p:nvGrpSpPr>
          <p:grpSpPr>
            <a:xfrm>
              <a:off x="6332760" y="5868720"/>
              <a:ext cx="161280" cy="358200"/>
              <a:chOff x="6332760" y="5868720"/>
              <a:chExt cx="161280" cy="358200"/>
            </a:xfrm>
          </p:grpSpPr>
          <p:pic>
            <p:nvPicPr>
              <p:cNvPr id="491" name="Up-Down Arrow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32760" y="5868720"/>
                <a:ext cx="16128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6403680" y="5923440"/>
                <a:ext cx="1944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Up-Down Arrow 38"/>
            <p:cNvGrpSpPr/>
            <p:nvPr/>
          </p:nvGrpSpPr>
          <p:grpSpPr>
            <a:xfrm>
              <a:off x="5000760" y="2963880"/>
              <a:ext cx="1149840" cy="1563480"/>
              <a:chOff x="5000760" y="2963880"/>
              <a:chExt cx="1149840" cy="1563480"/>
            </a:xfrm>
          </p:grpSpPr>
          <p:pic>
            <p:nvPicPr>
              <p:cNvPr id="494" name="Up-Down Arrow 38" descr=""/>
              <p:cNvPicPr/>
              <p:nvPr/>
            </p:nvPicPr>
            <p:blipFill>
              <a:blip r:embed="rId27"/>
              <a:stretch/>
            </p:blipFill>
            <p:spPr>
              <a:xfrm>
                <a:off x="5000760" y="2963880"/>
                <a:ext cx="1149840" cy="15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9324800">
                <a:off x="5436720" y="2980080"/>
                <a:ext cx="27576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 Schoolbook"/>
                  </a:rPr>
                  <a:t>Safe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1"/>
          <p:cNvGrpSpPr/>
          <p:nvPr/>
        </p:nvGrpSpPr>
        <p:grpSpPr>
          <a:xfrm>
            <a:off x="71280" y="3432240"/>
            <a:ext cx="3063960" cy="1700280"/>
            <a:chOff x="71280" y="3432240"/>
            <a:chExt cx="3063960" cy="1700280"/>
          </a:xfrm>
        </p:grpSpPr>
        <p:grpSp>
          <p:nvGrpSpPr>
            <p:cNvPr id="497" name="Rectangle 22"/>
            <p:cNvGrpSpPr/>
            <p:nvPr/>
          </p:nvGrpSpPr>
          <p:grpSpPr>
            <a:xfrm>
              <a:off x="71280" y="4512600"/>
              <a:ext cx="2333520" cy="619920"/>
              <a:chOff x="71280" y="4512600"/>
              <a:chExt cx="2333520" cy="619920"/>
            </a:xfrm>
          </p:grpSpPr>
          <p:pic>
            <p:nvPicPr>
              <p:cNvPr id="498" name="Rectangle 22" descr=""/>
              <p:cNvPicPr/>
              <p:nvPr/>
            </p:nvPicPr>
            <p:blipFill>
              <a:blip r:embed="rId28"/>
              <a:stretch/>
            </p:blipFill>
            <p:spPr>
              <a:xfrm>
                <a:off x="71280" y="4512600"/>
                <a:ext cx="233352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137520" y="4548600"/>
                <a:ext cx="2202120" cy="51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Standing Committee on Implementation of Emission Legislation (SCO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0" name="Up-Down Arrow 25" descr=""/>
            <p:cNvPicPr/>
            <p:nvPr/>
          </p:nvPicPr>
          <p:blipFill>
            <a:blip r:embed="rId29"/>
            <a:stretch/>
          </p:blipFill>
          <p:spPr>
            <a:xfrm>
              <a:off x="1445400" y="3432240"/>
              <a:ext cx="1689840" cy="11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63"/>
          <p:cNvGrpSpPr/>
          <p:nvPr/>
        </p:nvGrpSpPr>
        <p:grpSpPr>
          <a:xfrm>
            <a:off x="1130400" y="674280"/>
            <a:ext cx="5589000" cy="902160"/>
            <a:chOff x="1130400" y="674280"/>
            <a:chExt cx="5589000" cy="902160"/>
          </a:xfrm>
        </p:grpSpPr>
        <p:grpSp>
          <p:nvGrpSpPr>
            <p:cNvPr id="502" name="Group 68"/>
            <p:cNvGrpSpPr/>
            <p:nvPr/>
          </p:nvGrpSpPr>
          <p:grpSpPr>
            <a:xfrm>
              <a:off x="1130400" y="674280"/>
              <a:ext cx="5589000" cy="902160"/>
              <a:chOff x="1130400" y="674280"/>
              <a:chExt cx="5589000" cy="902160"/>
            </a:xfrm>
          </p:grpSpPr>
          <p:pic>
            <p:nvPicPr>
              <p:cNvPr id="503" name="Oval 6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94920" y="674640"/>
                <a:ext cx="1625040" cy="73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4" name="Right Arrow 10"/>
              <p:cNvGrpSpPr/>
              <p:nvPr/>
            </p:nvGrpSpPr>
            <p:grpSpPr>
              <a:xfrm>
                <a:off x="3750120" y="1298880"/>
                <a:ext cx="440280" cy="266760"/>
                <a:chOff x="3750120" y="1298880"/>
                <a:chExt cx="440280" cy="266760"/>
              </a:xfrm>
            </p:grpSpPr>
            <p:pic>
              <p:nvPicPr>
                <p:cNvPr id="505" name="Right Arrow 10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750120" y="1298880"/>
                  <a:ext cx="4402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 rot="5400000">
                  <a:off x="3912120" y="1324800"/>
                  <a:ext cx="11268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7" name="Oval 13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94360" y="674280"/>
                <a:ext cx="1625040" cy="72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8" name="Right Arrow 36"/>
              <p:cNvGrpSpPr/>
              <p:nvPr/>
            </p:nvGrpSpPr>
            <p:grpSpPr>
              <a:xfrm>
                <a:off x="4940280" y="1229760"/>
                <a:ext cx="398520" cy="336240"/>
                <a:chOff x="4940280" y="1229760"/>
                <a:chExt cx="398520" cy="336240"/>
              </a:xfrm>
            </p:grpSpPr>
            <p:pic>
              <p:nvPicPr>
                <p:cNvPr id="509" name="Right Arrow 36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940280" y="1229760"/>
                  <a:ext cx="39852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0" name=""/>
                <p:cNvSpPr/>
                <p:nvPr/>
              </p:nvSpPr>
              <p:spPr>
                <a:xfrm rot="7221000">
                  <a:off x="5070960" y="1299960"/>
                  <a:ext cx="1573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1" name="Oval 6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130400" y="674640"/>
                <a:ext cx="1625040" cy="74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2" name="Up-Down Arrow 66"/>
              <p:cNvGrpSpPr/>
              <p:nvPr/>
            </p:nvGrpSpPr>
            <p:grpSpPr>
              <a:xfrm>
                <a:off x="2660040" y="909360"/>
                <a:ext cx="535680" cy="240120"/>
                <a:chOff x="2660040" y="909360"/>
                <a:chExt cx="535680" cy="240120"/>
              </a:xfrm>
            </p:grpSpPr>
            <p:pic>
              <p:nvPicPr>
                <p:cNvPr id="513" name="Up-Down Arrow 66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660040" y="909360"/>
                  <a:ext cx="535680" cy="2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4" name=""/>
                <p:cNvSpPr/>
                <p:nvPr/>
              </p:nvSpPr>
              <p:spPr>
                <a:xfrm rot="5400000">
                  <a:off x="2900880" y="829080"/>
                  <a:ext cx="5184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Right Arrow 67"/>
              <p:cNvGrpSpPr/>
              <p:nvPr/>
            </p:nvGrpSpPr>
            <p:grpSpPr>
              <a:xfrm>
                <a:off x="2392200" y="1261800"/>
                <a:ext cx="470160" cy="314640"/>
                <a:chOff x="2392200" y="1261800"/>
                <a:chExt cx="470160" cy="314640"/>
              </a:xfrm>
            </p:grpSpPr>
            <p:pic>
              <p:nvPicPr>
                <p:cNvPr id="516" name="Right Arrow 67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2392200" y="1261800"/>
                  <a:ext cx="470160" cy="31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7" name=""/>
                <p:cNvSpPr/>
                <p:nvPr/>
              </p:nvSpPr>
              <p:spPr>
                <a:xfrm rot="14379000">
                  <a:off x="2553840" y="1303920"/>
                  <a:ext cx="126000" cy="1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Up-Down Arrow 62"/>
            <p:cNvGrpSpPr/>
            <p:nvPr/>
          </p:nvGrpSpPr>
          <p:grpSpPr>
            <a:xfrm>
              <a:off x="4645080" y="908280"/>
              <a:ext cx="554400" cy="274320"/>
              <a:chOff x="4645080" y="908280"/>
              <a:chExt cx="554400" cy="274320"/>
            </a:xfrm>
          </p:grpSpPr>
          <p:pic>
            <p:nvPicPr>
              <p:cNvPr id="519" name="Up-Down Arrow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645080" y="908280"/>
                <a:ext cx="55440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891680" y="839160"/>
                <a:ext cx="5940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-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5f6d"/>
                </a:solidFill>
                <a:latin typeface="Century Schoolbook"/>
              </a:rPr>
              <a:t>PRESENT REGULATORY SYSTEM IN INDIA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datory standards in India are in the form of Automotive Industry Standards (A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has attempted harmonization with ECE regulations to the extent possible. Depending on specific Indian requirements some special tests are also incorporated in the Indian regulatory standa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ll date 78% of ECE regulation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lig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 AND GLOBAL INTEG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decided to be an active member of the process of harmonisation of global technical regulati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rted contributing as an Observer in WP 29 from 2003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ined 1998 agreement in April 2006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quite happy tha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GTRs are based on consens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GTR takes into account regional issu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is in the process of integration GTR’s into regulatory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lnSpc>
                <a:spcPct val="100000"/>
              </a:lnSpc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a investing 500 Million USD in increasing testing capability – National Automotive Testing and R&amp;D Infrastructure Project (NATRIP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N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actively working on understanding the technical and commercial issues related to 1958 agre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so working on the preparatory steps which are absolutely essential before taking up this important step of joining 1958 agre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paration of a concrete plan of the entire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expect a time frame of about 2~3 years for carrying out all these steps to ensure our readiness in joining 1958 agre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5f6d"/>
                </a:solidFill>
                <a:latin typeface="Century Schoolbook"/>
              </a:rPr>
              <a:t>THE 1958 AGREEMENT : PERCEPTIONS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tual recognition of approvals has also technical and commercial impac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laid down norms for certifying a test agency in 1958 agreement. Approval criteria for certifying agencies, therefore, could have differences in different count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oting pattern in the agreement is a matter of concern majority with one blo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times politics over rides technical correctn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meetings in outside As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19:56Z</dcterms:created>
  <dc:creator>Director</dc:creator>
  <dc:description/>
  <dc:language>en-US</dc:language>
  <cp:lastModifiedBy>Jongenelen</cp:lastModifiedBy>
  <dcterms:modified xsi:type="dcterms:W3CDTF">2009-03-20T13:47:42Z</dcterms:modified>
  <cp:revision>60</cp:revision>
  <dc:subject/>
  <dc:title>1958 Agreement India’s approach</dc:title>
</cp:coreProperties>
</file>