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B4B-A648-408F-83C7-D7308889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B60-18A2-4DD1-B18E-4D595279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877-8EE8-4D1F-A66E-151E1770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546-F746-4F89-AE18-C91E2E1D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C1A-A220-43C0-8685-43A10DD1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D70-5BD7-4EFD-A902-8745C594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D52-AD8E-4ADF-8CFA-3855C5FE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BA4-940A-425D-9CE2-9AAC1B8B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3B8-51C7-47EA-97A2-F16F43DD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1E1-07DF-45D0-A369-CBEB9447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543-AF24-490E-8D00-BF0B3B02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5D5-E7F7-43AA-BE85-002B7782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BC78-7838-4427-8636-FAD17CED83F9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3323-4B8B-4BEB-B702-6971DAB0F32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info@ivr.nl" TargetMode="External"/><Relationship Id="rId3" Type="http://schemas.openxmlformats.org/officeDocument/2006/relationships/hyperlink" Target="mailto:info@ivr.nl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5885-64F0-4864-85AA-30A20C70AC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317196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ational Association for the representatio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f the mutual interests of the inland shipping a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 insurance and for keeping the register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land vessels i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172200"/>
            <a:ext cx="845820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Postbus 23210  •  3001 KE  •  Rotterdam   •   the Netherlands</a:t>
            </a:r>
            <a:br>
              <a:rPr sz="1200"/>
            </a:b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Tel.: +31 (0)10 411 60 70  •   e-mail: </a:t>
            </a:r>
            <a:r>
              <a:rPr b="0" lang="nl-NL" sz="1200" spc="-1" strike="noStrike" u="sng">
                <a:solidFill>
                  <a:srgbClr val="ffffff"/>
                </a:solidFill>
                <a:uFillTx/>
                <a:latin typeface="Times New Roman"/>
                <a:hlinkClick r:id="rId2"/>
              </a:rPr>
              <a:t>info@ivr.</a:t>
            </a:r>
            <a:r>
              <a:rPr b="0" lang="nl-NL" sz="1200" spc="-1" strike="noStrike" u="sng">
                <a:solidFill>
                  <a:srgbClr val="ffffff"/>
                </a:solidFill>
                <a:uFillTx/>
                <a:latin typeface="Times New Roman"/>
                <a:hlinkClick r:id="rId3"/>
              </a:rPr>
              <a:t>nl</a:t>
            </a: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   •   internet: www.ivr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FOR MO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INTERNET:     WWW.IVR.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0">
              <a:lnSpc>
                <a:spcPct val="100000"/>
              </a:lnSpc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WWW.EBU-UENF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POSTBUS 23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3001 KE ROT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TELEPHONE: +31 (0)10 411 60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TELEFAX:       +31 (0)10 412 90 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-MAIL:           INFO@IVR.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3200" spc="-1" strike="noStrike">
                <a:solidFill>
                  <a:srgbClr val="ffffff"/>
                </a:solidFill>
                <a:latin typeface="Times New Roman"/>
              </a:rPr>
              <a:t>MEMB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3062160"/>
            <a:ext cx="9144000" cy="733320"/>
            <a:chOff x="0" y="3062160"/>
            <a:chExt cx="9144000" cy="733320"/>
          </a:xfrm>
        </p:grpSpPr>
        <p:sp>
          <p:nvSpPr>
            <p:cNvPr id="47" name=""/>
            <p:cNvSpPr/>
            <p:nvPr/>
          </p:nvSpPr>
          <p:spPr>
            <a:xfrm>
              <a:off x="0" y="3062160"/>
              <a:ext cx="5697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062160"/>
              <a:ext cx="9144000" cy="733320"/>
              <a:chOff x="0" y="3062160"/>
              <a:chExt cx="9144000" cy="733320"/>
            </a:xfrm>
          </p:grpSpPr>
          <p:sp>
            <p:nvSpPr>
              <p:cNvPr id="49" name=""/>
              <p:cNvSpPr/>
              <p:nvPr/>
            </p:nvSpPr>
            <p:spPr>
              <a:xfrm>
                <a:off x="0" y="3062160"/>
                <a:ext cx="4510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06216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nl-NL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bers of the Association can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se trading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pping indus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ir umbrella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urance compan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ir umbrella organis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tual insurance compan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ir umbrella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r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field of shipbuilding, repair and maintenance o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ssment of vessels and their umbrella organis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ther natural and legal persons that are interested in the objectiv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ask of the Associ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Forum Role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7696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Main Tas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176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Forum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Legal harmonisation/un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Keeping an international regis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f inland vesse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amage Prev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Legal un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General Average Rules IV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dapest Convention on the contract f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arriage of goods by Inland Waterways (CM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vention on Limitation of Liability in 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ipping (CL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aft Convention on Liability for Damage 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e Carriage of Dangerous Goods by 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ways (CRD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Legal un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General Average Rules IV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elaborated in 19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applicable for general average situation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land waterway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to be agreed by parties in general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incorporated in national law (Netherland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eeping an international register of 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vigation 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ublication of ship’s data and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3062160"/>
            <a:ext cx="9144000" cy="733320"/>
            <a:chOff x="0" y="3062160"/>
            <a:chExt cx="9144000" cy="733320"/>
          </a:xfrm>
        </p:grpSpPr>
        <p:sp>
          <p:nvSpPr>
            <p:cNvPr id="65" name=""/>
            <p:cNvSpPr/>
            <p:nvPr/>
          </p:nvSpPr>
          <p:spPr>
            <a:xfrm>
              <a:off x="0" y="3062160"/>
              <a:ext cx="5697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0" y="3062160"/>
              <a:ext cx="9144000" cy="733320"/>
              <a:chOff x="0" y="3062160"/>
              <a:chExt cx="9144000" cy="733320"/>
            </a:xfrm>
          </p:grpSpPr>
          <p:sp>
            <p:nvSpPr>
              <p:cNvPr id="67" name=""/>
              <p:cNvSpPr/>
              <p:nvPr/>
            </p:nvSpPr>
            <p:spPr>
              <a:xfrm>
                <a:off x="0" y="3062160"/>
                <a:ext cx="4510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306216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nl-NL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9" name=""/>
          <p:cNvGraphicFramePr/>
          <p:nvPr/>
        </p:nvGraphicFramePr>
        <p:xfrm>
          <a:off x="1066680" y="3083040"/>
          <a:ext cx="7086600" cy="3774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3083040"/>
                    <a:ext cx="70866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315200" y="297180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Inspection/Cer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dvise safety&amp;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RS: </a:t>
            </a:r>
            <a:r>
              <a:rPr b="0" i="1" lang="nl-NL" sz="4000" spc="-1" strike="noStrike">
                <a:solidFill>
                  <a:srgbClr val="000000"/>
                </a:solidFill>
                <a:latin typeface="Times New Roman"/>
              </a:rPr>
              <a:t>Engine Registration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NON GOVERNMENTAL ORGANISATIONS AND LOB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ropean Barge Union (EB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ed for a strong and coh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resentation of IWT -  interests on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n European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2:18:23Z</dcterms:created>
  <dc:creator>ivrpc120</dc:creator>
  <dc:description/>
  <dc:language>en-US</dc:language>
  <cp:lastModifiedBy>Otradnova</cp:lastModifiedBy>
  <cp:lastPrinted>1999-05-11T11:53:05Z</cp:lastPrinted>
  <dcterms:modified xsi:type="dcterms:W3CDTF">2009-11-04T13:04:05Z</dcterms:modified>
  <cp:revision>58</cp:revision>
  <dc:subject/>
  <dc:title>Geen diatitel</dc:title>
</cp:coreProperties>
</file>