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6AD-F5A9-4412-9A3E-7265657F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AD23-DF14-4BD9-B0FB-1C551BFB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475-E5AD-44E5-ADA2-DB7C1612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500-38AC-4ED5-9112-B6431533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2CF-E461-48BC-919D-4B8A793C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DD7-01C7-402B-AE04-EDCCD383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AA9-A657-4731-A75C-A827A091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4F1-A4B5-48A0-9775-74A5033B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6D2-5CE2-4200-A759-897CB147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7A91-4595-4157-A089-9EDF5E6E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91E-E795-4EFC-94C3-7444674C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B96-5D38-42D4-886D-2C2D17A6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FA4E-6E63-4AA8-BF39-C0FF48D50E74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90EF-42E6-47D0-8665-44E5460E054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info@ivr.nl" TargetMode="External"/><Relationship Id="rId3" Type="http://schemas.openxmlformats.org/officeDocument/2006/relationships/hyperlink" Target="mailto:info@ivr.nl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882D-6766-458A-8210-7F323102F51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3171960"/>
            <a:ext cx="670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ational Association for the representatio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f the mutual interests of the inland shipping an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he insurance and for keeping the register 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land vessels in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172200"/>
            <a:ext cx="8458200" cy="6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Postbus 23210  •  3001 KE  •  Rotterdam   •   the Netherlands</a:t>
            </a:r>
            <a:br>
              <a:rPr sz="1200"/>
            </a:b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Tel.: +31 (0)10 411 60 70  •   e-mail: </a:t>
            </a:r>
            <a:r>
              <a:rPr b="0" lang="nl-NL" sz="1200" spc="-1" strike="noStrike" u="sng">
                <a:solidFill>
                  <a:srgbClr val="ffffff"/>
                </a:solidFill>
                <a:uFillTx/>
                <a:latin typeface="Times New Roman"/>
                <a:hlinkClick r:id="rId2"/>
              </a:rPr>
              <a:t>info@ivr.</a:t>
            </a:r>
            <a:r>
              <a:rPr b="0" lang="nl-NL" sz="1200" spc="-1" strike="noStrike" u="sng">
                <a:solidFill>
                  <a:srgbClr val="ffffff"/>
                </a:solidFill>
                <a:uFillTx/>
                <a:latin typeface="Times New Roman"/>
                <a:hlinkClick r:id="rId3"/>
              </a:rPr>
              <a:t>nl</a:t>
            </a: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   •   internet: www.ivr.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FOR MOR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INTERNET:     WWW.IVR.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0">
              <a:lnSpc>
                <a:spcPct val="100000"/>
              </a:lnSpc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WWW.EBU-UENF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POSTBUS 23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3001 KE ROTTER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TELEPHONE: +31 (0)10 411 60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TELEFAX:       +31 (0)10 412 90 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E-MAIL:           INFO@IVR.N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nl-NL" sz="3200" spc="-1" strike="noStrike">
                <a:solidFill>
                  <a:srgbClr val="ffffff"/>
                </a:solidFill>
                <a:latin typeface="Times New Roman"/>
              </a:rPr>
              <a:t>MEMBE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3062160"/>
            <a:ext cx="9144000" cy="733320"/>
            <a:chOff x="0" y="3062160"/>
            <a:chExt cx="9144000" cy="733320"/>
          </a:xfrm>
        </p:grpSpPr>
        <p:sp>
          <p:nvSpPr>
            <p:cNvPr id="47" name=""/>
            <p:cNvSpPr/>
            <p:nvPr/>
          </p:nvSpPr>
          <p:spPr>
            <a:xfrm>
              <a:off x="0" y="3062160"/>
              <a:ext cx="5697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3062160"/>
              <a:ext cx="9144000" cy="733320"/>
              <a:chOff x="0" y="3062160"/>
              <a:chExt cx="9144000" cy="733320"/>
            </a:xfrm>
          </p:grpSpPr>
          <p:sp>
            <p:nvSpPr>
              <p:cNvPr id="49" name=""/>
              <p:cNvSpPr/>
              <p:nvPr/>
            </p:nvSpPr>
            <p:spPr>
              <a:xfrm>
                <a:off x="0" y="3062160"/>
                <a:ext cx="4510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062160"/>
                <a:ext cx="91440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nl-NL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nl-NL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bers of the Association can 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se trading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ipping indus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ir umbrella 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urance compan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ir umbrella organis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tual insurance compan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ir umbrella 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r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e field of shipbuilding, repair and maintenance or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ssment of vessels and their umbrella organis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other natural and legal persons that are interested in the objectiv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ask of the Associ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imes New Roman"/>
              </a:rPr>
              <a:t>Forum Role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7696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imes New Roman"/>
              </a:rPr>
              <a:t>Main Tas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176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Forum r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Legal harmonisation/un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Keeping an international regist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of inland vesse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Damage Preven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imes New Roman"/>
              </a:rPr>
              <a:t>Legal un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General Average Rules IV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dapest Convention on the contract fo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arriage of goods by Inland Waterways (CMN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vention on Limitation of Liability in In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hipping (CLN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aft Convention on Liability for Damage 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e Carriage of Dangerous Goods by In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ways (CRDN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imes New Roman"/>
              </a:rPr>
              <a:t>Legal un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General Average Rules IV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 elaborated in 195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 applicable for general average situations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land waterway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 to be agreed by parties in general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 incorporated in national law (Netherland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imes New Roman"/>
              </a:rPr>
              <a:t>Regi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eeping an international register of in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vigation vess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ublication of ship’s data and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3062160"/>
            <a:ext cx="9144000" cy="733320"/>
            <a:chOff x="0" y="3062160"/>
            <a:chExt cx="9144000" cy="733320"/>
          </a:xfrm>
        </p:grpSpPr>
        <p:sp>
          <p:nvSpPr>
            <p:cNvPr id="65" name=""/>
            <p:cNvSpPr/>
            <p:nvPr/>
          </p:nvSpPr>
          <p:spPr>
            <a:xfrm>
              <a:off x="0" y="3062160"/>
              <a:ext cx="5697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0" y="3062160"/>
              <a:ext cx="9144000" cy="733320"/>
              <a:chOff x="0" y="3062160"/>
              <a:chExt cx="9144000" cy="733320"/>
            </a:xfrm>
          </p:grpSpPr>
          <p:sp>
            <p:nvSpPr>
              <p:cNvPr id="67" name=""/>
              <p:cNvSpPr/>
              <p:nvPr/>
            </p:nvSpPr>
            <p:spPr>
              <a:xfrm>
                <a:off x="0" y="3062160"/>
                <a:ext cx="4510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3062160"/>
                <a:ext cx="91440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nl-NL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nl-NL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9" name=""/>
          <p:cNvGraphicFramePr/>
          <p:nvPr/>
        </p:nvGraphicFramePr>
        <p:xfrm>
          <a:off x="1066680" y="3083040"/>
          <a:ext cx="7086600" cy="3774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3083040"/>
                    <a:ext cx="708660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315200" y="297180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Inspection/Cer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dvise safety&amp;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RS: </a:t>
            </a:r>
            <a:r>
              <a:rPr b="0" i="1" lang="nl-NL" sz="4000" spc="-1" strike="noStrike">
                <a:solidFill>
                  <a:srgbClr val="000000"/>
                </a:solidFill>
                <a:latin typeface="Times New Roman"/>
              </a:rPr>
              <a:t>Engine Registration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NON GOVERNMENTAL ORGANISATIONS AND LOB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V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ropean Barge Union (EB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ed for a strong and coh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resentation of IWT -  interests on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n European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12:18:23Z</dcterms:created>
  <dc:creator>ivrpc120</dc:creator>
  <dc:description/>
  <dc:language>en-US</dc:language>
  <cp:lastModifiedBy>Otradnova</cp:lastModifiedBy>
  <cp:lastPrinted>1999-05-11T11:53:05Z</cp:lastPrinted>
  <dcterms:modified xsi:type="dcterms:W3CDTF">2009-11-04T13:04:05Z</dcterms:modified>
  <cp:revision>58</cp:revision>
  <dc:subject/>
  <dc:title>Geen diatitel</dc:title>
</cp:coreProperties>
</file>