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wmf" ContentType="image/x-wmf"/>
  <Override PartName="/ppt/media/image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8C88-781D-4F83-9BE4-8E92A5F6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CF39-7635-47D4-9A40-A53D670DD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5AEF-7963-4712-9DB8-ED81D1BBC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9B82-610D-464F-BA2C-36A9A61FB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CFA5-503F-477A-BE5E-69632EEE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1CCD-7C43-424C-B425-8FADAB32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97BD-D840-4679-B7FE-C8BE647BD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2B01-B5AE-4E7D-AF73-6A0326A0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AD6C-38C4-4ABF-8EA8-1312A6A14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E7E2-D6E0-482D-872E-899168BB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0A33-CE0F-4550-86C6-A42DC493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E55E-E162-415D-B8D3-6FD71E8C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D3B2-5FD6-4EEA-B50D-D405FE191135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4C59-06E9-45D2-81D3-7BB4D2E1C51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info@ivr.nl" TargetMode="External"/><Relationship Id="rId3" Type="http://schemas.openxmlformats.org/officeDocument/2006/relationships/hyperlink" Target="mailto:info@ivr.nl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17AF-B533-4F29-8487-0BE6B3763B3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3171960"/>
            <a:ext cx="6705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ternational Association for the representatio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f the mutual interests of the inland shipping and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the insurance and for keeping the register of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inland vessels in Eur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172200"/>
            <a:ext cx="8458200" cy="6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Postbus 23210  •  3001 KE  •  Rotterdam   •   the Netherlands</a:t>
            </a:r>
            <a:br>
              <a:rPr sz="1200"/>
            </a:b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Tel.: +31 (0)10 411 60 70  •   e-mail: </a:t>
            </a:r>
            <a:r>
              <a:rPr b="0" lang="nl-NL" sz="1200" spc="-1" strike="noStrike" u="sng">
                <a:solidFill>
                  <a:srgbClr val="ffffff"/>
                </a:solidFill>
                <a:uFillTx/>
                <a:latin typeface="Times New Roman"/>
                <a:hlinkClick r:id="rId2"/>
              </a:rPr>
              <a:t>info@ivr.</a:t>
            </a:r>
            <a:r>
              <a:rPr b="0" lang="nl-NL" sz="1200" spc="-1" strike="noStrike" u="sng">
                <a:solidFill>
                  <a:srgbClr val="ffffff"/>
                </a:solidFill>
                <a:uFillTx/>
                <a:latin typeface="Times New Roman"/>
                <a:hlinkClick r:id="rId3"/>
              </a:rPr>
              <a:t>nl</a:t>
            </a:r>
            <a:r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   •   internet: www.ivr.n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FOR MORE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INTERNET:     WWW.IVR.N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0">
              <a:lnSpc>
                <a:spcPct val="100000"/>
              </a:lnSpc>
              <a:buNone/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</a:rPr>
              <a:t>WWW.EBU-UENF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IV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POSTBUS 232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3001 KE ROTTERD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TELEPHONE: +31 (0)10 411 60 7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TELEFAX:       +31 (0)10 412 90 9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E-MAIL:           INFO@IVR.N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5334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nl-NL" sz="3200" spc="-1" strike="noStrike">
                <a:solidFill>
                  <a:srgbClr val="ffffff"/>
                </a:solidFill>
                <a:latin typeface="Times New Roman"/>
              </a:rPr>
              <a:t>MEMBERS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HI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0" y="3062160"/>
            <a:ext cx="9144000" cy="733320"/>
            <a:chOff x="0" y="3062160"/>
            <a:chExt cx="9144000" cy="733320"/>
          </a:xfrm>
        </p:grpSpPr>
        <p:sp>
          <p:nvSpPr>
            <p:cNvPr id="47" name=""/>
            <p:cNvSpPr/>
            <p:nvPr/>
          </p:nvSpPr>
          <p:spPr>
            <a:xfrm>
              <a:off x="0" y="3062160"/>
              <a:ext cx="5697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0" y="3062160"/>
              <a:ext cx="9144000" cy="733320"/>
              <a:chOff x="0" y="3062160"/>
              <a:chExt cx="9144000" cy="733320"/>
            </a:xfrm>
          </p:grpSpPr>
          <p:sp>
            <p:nvSpPr>
              <p:cNvPr id="49" name=""/>
              <p:cNvSpPr/>
              <p:nvPr/>
            </p:nvSpPr>
            <p:spPr>
              <a:xfrm>
                <a:off x="0" y="3062160"/>
                <a:ext cx="45100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062160"/>
                <a:ext cx="914400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nl-NL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nl-NL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mbers of the Association can b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se trading in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ipping indus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heir umbrella 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urance compan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heir umbrella organis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utual insurance compani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heir umbrella organis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er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the field of shipbuilding, repair and maintenance or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ssment of vessels and their umbrella organis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other natural and legal persons that are interested in the objective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ask of the Associ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imes New Roman"/>
              </a:rPr>
              <a:t>Forum Role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3716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769644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imes New Roman"/>
              </a:rPr>
              <a:t>Main Tas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761760" y="13716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Forum r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nl-NL" sz="4000" spc="-1" strike="noStrike">
                <a:solidFill>
                  <a:srgbClr val="000000"/>
                </a:solidFill>
                <a:latin typeface="Times New Roman"/>
              </a:rPr>
              <a:t>Legal harmonisation/un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Keeping an international regist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of inland vessel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Damage Preven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imes New Roman"/>
              </a:rPr>
              <a:t>Legal un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-360" y="13716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General Average Rules IV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Budapest Convention on the contract for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arriage of goods by Inland Waterways (CMN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Convention on Limitation of Liability in In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Shipping (CLN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raft Convention on Liability for Damage 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the Carriage of Dangerous Goods by In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Waterways (CRDN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imes New Roman"/>
              </a:rPr>
              <a:t>Legal un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-360" y="1371600"/>
            <a:ext cx="9448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General Average Rules IV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- elaborated in 195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- applicable for general average situations 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inland waterway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- to be agreed by parties in general 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- incorporated in national law (Netherland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imes New Roman"/>
              </a:rPr>
              <a:t>Regi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04920" y="1447920"/>
            <a:ext cx="8686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Keeping an international register of in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navigation vess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Publication of ship’s data and statist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0" y="3062160"/>
            <a:ext cx="9144000" cy="733320"/>
            <a:chOff x="0" y="3062160"/>
            <a:chExt cx="9144000" cy="733320"/>
          </a:xfrm>
        </p:grpSpPr>
        <p:sp>
          <p:nvSpPr>
            <p:cNvPr id="65" name=""/>
            <p:cNvSpPr/>
            <p:nvPr/>
          </p:nvSpPr>
          <p:spPr>
            <a:xfrm>
              <a:off x="0" y="3062160"/>
              <a:ext cx="5697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0" y="3062160"/>
              <a:ext cx="9144000" cy="733320"/>
              <a:chOff x="0" y="3062160"/>
              <a:chExt cx="9144000" cy="733320"/>
            </a:xfrm>
          </p:grpSpPr>
          <p:sp>
            <p:nvSpPr>
              <p:cNvPr id="67" name=""/>
              <p:cNvSpPr/>
              <p:nvPr/>
            </p:nvSpPr>
            <p:spPr>
              <a:xfrm>
                <a:off x="0" y="3062160"/>
                <a:ext cx="45100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3062160"/>
                <a:ext cx="914400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nl-NL" sz="3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nl-NL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</a:t>
                </a: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9" name=""/>
          <p:cNvGraphicFramePr/>
          <p:nvPr/>
        </p:nvGraphicFramePr>
        <p:xfrm>
          <a:off x="1066680" y="3083040"/>
          <a:ext cx="7086600" cy="37749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3083040"/>
                    <a:ext cx="7086600" cy="37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315200" y="2971800"/>
            <a:ext cx="0" cy="533520"/>
          </a:xfrm>
          <a:prstGeom prst="line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Times New Roman"/>
              </a:rPr>
              <a:t>Preven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304560" y="137160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Inspection/Cert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D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Advise safety&amp;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4000" spc="-1" strike="noStrike">
                <a:solidFill>
                  <a:srgbClr val="000000"/>
                </a:solidFill>
                <a:latin typeface="Times New Roman"/>
              </a:rPr>
              <a:t>ERS: </a:t>
            </a:r>
            <a:r>
              <a:rPr b="0" i="1" lang="nl-NL" sz="4000" spc="-1" strike="noStrike">
                <a:solidFill>
                  <a:srgbClr val="000000"/>
                </a:solidFill>
                <a:latin typeface="Times New Roman"/>
              </a:rPr>
              <a:t>Engine Registration Syst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5486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NON GOVERNMENTAL ORGANISATIONS AND LOB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8088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buSzPct val="102884"/>
              <a:buBlip>
                <a:blip r:embed="rId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V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02805"/>
              <a:buBlip>
                <a:blip r:embed="rId3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uropean Barge Union (EBU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ed for a strong and coh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presentation of IWT -  interests on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n European lev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4T12:18:23Z</dcterms:created>
  <dc:creator>ivrpc120</dc:creator>
  <dc:description/>
  <dc:language>en-US</dc:language>
  <cp:lastModifiedBy>Otradnova</cp:lastModifiedBy>
  <cp:lastPrinted>1999-05-11T11:53:05Z</cp:lastPrinted>
  <dcterms:modified xsi:type="dcterms:W3CDTF">2009-11-04T13:04:05Z</dcterms:modified>
  <cp:revision>58</cp:revision>
  <dc:subject/>
  <dc:title>Geen diatitel</dc:title>
</cp:coreProperties>
</file>