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C5E421-2E80-4A11-B755-ADF3E8E94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ENT:For economical and safety reasons in  inland waterway transport it is important to be able to navigate  on all waterways of Europe with  one certificate based on a harmonised system of regulations. Many Member States of the UNECE [the Member States of the EU] have already implemented Directive 2006/87/EC as basic legislation on technical requirements. The European Commission welcomes initiatives that allow vessels  to navigate in countries outside the Community under the same regulations and circumsta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BE3FC48-E65F-439D-91D2-D06CD82C87F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5E67-45C0-4D15-9092-5E3046480FF0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4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5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transport/inland/studies/inland_waterways_en.ht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52"/>
          <p:cNvGrpSpPr/>
          <p:nvPr/>
        </p:nvGrpSpPr>
        <p:grpSpPr>
          <a:xfrm>
            <a:off x="0" y="3068640"/>
            <a:ext cx="9144000" cy="3789360"/>
            <a:chOff x="0" y="3068640"/>
            <a:chExt cx="9144000" cy="3789360"/>
          </a:xfrm>
        </p:grpSpPr>
        <p:sp>
          <p:nvSpPr>
            <p:cNvPr id="166" name="Freeform 5"/>
            <p:cNvSpPr/>
            <p:nvPr/>
          </p:nvSpPr>
          <p:spPr>
            <a:xfrm>
              <a:off x="0" y="3068640"/>
              <a:ext cx="9144000" cy="297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0" y="5793480"/>
              <a:ext cx="9144000" cy="106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3716280"/>
            <a:ext cx="727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European Inland Waterway Transport Policy</a:t>
            </a:r>
            <a:br>
              <a:rPr sz="2400"/>
            </a:b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- NAIADES –</a:t>
            </a:r>
            <a:br>
              <a:rPr sz="2400"/>
            </a:br>
            <a:br>
              <a:rPr sz="2400"/>
            </a:b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UNECE Inland Transport Committee,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orking Party on Inland Water Transport, 53 Session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4 November 2009, Geneva</a:t>
            </a:r>
            <a:br>
              <a:rPr sz="1400"/>
            </a:br>
            <a:br>
              <a:rPr sz="1400"/>
            </a:br>
            <a:r>
              <a:rPr b="1" lang="it-IT" sz="1600" spc="-1" strike="noStrike">
                <a:solidFill>
                  <a:srgbClr val="a50021"/>
                </a:solidFill>
                <a:latin typeface="Arial"/>
              </a:rPr>
              <a:t>Pawel Stelmaszczyk, HoU, DG TREN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1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-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PLATINA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756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125"/>
              </a:spcBef>
              <a:spcAft>
                <a:spcPts val="499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support the EC in the implementation of NAIADES, a platform for the implementation of NAIADES was launched –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LA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spcAft>
                <a:spcPts val="499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a project within the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amework Programme for Research, Technology Development and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aimed at coordinating and supporting research activit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runs from 06/2008 to 05/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organised around the five NAIADES action areas (markets, fleet, jobs &amp; skills, image, infrastru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strategically guided by key industrial stakeholders, associations and Member States admini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5e1a"/>
                </a:solidFill>
                <a:latin typeface="Arial"/>
              </a:rPr>
              <a:t>www.naiades.info/p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5120" y="78264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 – Five area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50920" y="1413000"/>
          <a:ext cx="2709720" cy="3992400"/>
        </p:xfrm>
        <a:graphic>
          <a:graphicData uri="http://schemas.openxmlformats.org/drawingml/2006/table">
            <a:tbl>
              <a:tblPr/>
              <a:tblGrid>
                <a:gridCol w="270972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S – Create favourable conditions fo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 new mark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e and implement new logistics concep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 for intermodal trans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co-operation between modes and within the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entrepreneur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 newcom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 access to finance for SM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administrative and regulatory frame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lish administrative barriers to IWT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a level playing fie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co-ordination between relevant public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059280" y="1413000"/>
          <a:ext cx="2960640" cy="398772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ET – Stimulate fleet modernisations and innov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3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logistics efficiency, safety and environmental performance of I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nd facilitate use of innovative vessel concepts and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use of safety-enhancing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use of eco-efficient engines and renewable energy 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refit concepts for existing vess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157800" y="1413000"/>
          <a:ext cx="2806920" cy="3960720"/>
        </p:xfrm>
        <a:graphic>
          <a:graphicData uri="http://schemas.openxmlformats.org/drawingml/2006/table">
            <a:tbl>
              <a:tblPr/>
              <a:tblGrid>
                <a:gridCol w="28069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S &amp; SKILLS – Promote Jobs and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 workfo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working and social condi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 labour mo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wareness and improve car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 cooperation regarding mutual recognition of qualific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 in human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education and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 life-long lear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78264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Five area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63640" y="1341360"/>
          <a:ext cx="2960640" cy="461016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 – Improve image and knowledge of I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403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 inland navigation as a successful partner in bus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coordinate promotion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uence logistics decision-making by public rel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up and expand EU IWT promotion and developmen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up national promotion and development struc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political, practical and financial support for promotion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oint national focal points within administ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 national promotion structures and focal points into a European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 trends and developments within the IWT mark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se collection of data at all lev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availability of compatible sourc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076720" y="1341360"/>
          <a:ext cx="2960640" cy="384804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– Provide adequate infra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2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multi-modal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ain and improve the European IWT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ter the mutual understanding of multi-purpose use of waterw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the development of port and transhipment facilities – also in candidate and associated count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)develop industrial sites nearby waterw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River Information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co-ordinate development and implementation of RIS in Euro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Examples of achievements and work on-going and in preparation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00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islativ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Achiev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technic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statistics of good transport by inland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-minim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the transport of dangerous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601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fuel qu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On-going/in prepa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n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tmasters’ certific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Examples of achievements and work on-going and in preparation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00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Achiev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hand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eening of administrative and regulatory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On-going/in prepa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obser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dialogue (working time, professional profile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rastructure Develop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Examples of achievements and work on-going and in preparation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Achievem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ied access to the Marco Polo II programme for the IWT sector and doubling of actual funding per tkm shifted from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successful TEN-T call for proposals in the area of River Inform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-go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o promotion structures under the DG TREN grant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xcursus</a:t>
            </a: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:</a:t>
            </a: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Technical requirements - state of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8317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IVE 2006/87 EC,  as A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HINE VESSEL INSPECTION REGULATIONS (RV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-ECE RESOLUTION 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ex II from the Directive  and RVIR are mad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lution 61 has been reformed into the same structure as RVIR and Annex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xcursu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: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ecc3b"/>
                </a:solidFill>
                <a:latin typeface="Arial"/>
              </a:rPr>
              <a:t>Harmonisation of boatmasters’ certificates – state of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rective 96/50 EC of 23 July 19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lection of external expertise comple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spcBef>
                <a:spcPts val="901"/>
              </a:spcBef>
              <a:spcAft>
                <a:spcPts val="400"/>
              </a:spcAft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nal report of the external study available on </a:t>
            </a:r>
            <a:r>
              <a:rPr b="0" lang="en-GB" sz="1600" spc="-1" strike="noStrike" u="sng">
                <a:solidFill>
                  <a:srgbClr val="39abeb"/>
                </a:solidFill>
                <a:uFillTx/>
                <a:latin typeface="Arial"/>
                <a:hlinkClick r:id="rId1"/>
              </a:rPr>
              <a:t>http://ec.europa.eu/transport/inland/studies/inland_waterways_en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act assessment by the Commission services on-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bject to the result of the impact assessment the Commission may possibly come forward with a legislative proposal in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852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0"/>
            <a:ext cx="9144000" cy="1915920"/>
            <a:chOff x="0" y="0"/>
            <a:chExt cx="9144000" cy="1915920"/>
          </a:xfrm>
        </p:grpSpPr>
        <p:sp>
          <p:nvSpPr>
            <p:cNvPr id="274" name=""/>
            <p:cNvSpPr/>
            <p:nvPr/>
          </p:nvSpPr>
          <p:spPr>
            <a:xfrm>
              <a:off x="0" y="1041480"/>
              <a:ext cx="9144000" cy="874440"/>
            </a:xfrm>
            <a:custGeom>
              <a:avLst/>
              <a:gdLst/>
              <a:ahLst/>
              <a:rect l="l" t="t" r="r" b="b"/>
              <a:pathLst>
                <a:path w="2881" h="317">
                  <a:moveTo>
                    <a:pt x="377" y="59"/>
                  </a:moveTo>
                  <a:cubicBezTo>
                    <a:pt x="797" y="59"/>
                    <a:pt x="1471" y="270"/>
                    <a:pt x="2881" y="177"/>
                  </a:cubicBezTo>
                  <a:cubicBezTo>
                    <a:pt x="2881" y="0"/>
                    <a:pt x="2881" y="0"/>
                    <a:pt x="288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7"/>
                    <a:pt x="0" y="317"/>
                    <a:pt x="0" y="317"/>
                  </a:cubicBezTo>
                  <a:cubicBezTo>
                    <a:pt x="9" y="228"/>
                    <a:pt x="66" y="59"/>
                    <a:pt x="377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9144000" cy="11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8375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5bab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324000" y="12384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1006560" y="976320"/>
            <a:ext cx="70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5229360"/>
            <a:ext cx="756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wel STELMASZCZ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wel.stelmaszczyk@ec.europa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uropean Commission, DG Energy and Transport </a:t>
            </a:r>
            <a:br>
              <a:rPr sz="18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it B 3 - Logistics, co-modality, inland waterways, motorways of the sea &amp; Marco Po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ttp://ec.europa.eu/transport/iw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915920"/>
            <a:ext cx="72010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s &amp;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Common Transpor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80000"/>
              </a:lnSpc>
              <a:spcAft>
                <a:spcPts val="21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land Waterway Transport Policy – NAI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ursus “Technical Requirements” and “Boatmasters’ certificat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5832360"/>
            <a:ext cx="78372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Facts and figure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</a:t>
            </a: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324000" y="558324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6"/>
          <p:cNvSpPr/>
          <p:nvPr/>
        </p:nvSpPr>
        <p:spPr>
          <a:xfrm>
            <a:off x="1006560" y="6350040"/>
            <a:ext cx="70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3213000"/>
            <a:ext cx="2484720" cy="21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Verdana"/>
              </a:rPr>
              <a:t>&gt;37.000 km of waterways connect 100s of cities and industrial reg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64000" y="1628640"/>
            <a:ext cx="4211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Verdana"/>
              </a:rPr>
              <a:t>20 out of 27 Member States have inland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70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Facts and figure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93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/27 Member States have inland water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 are conn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al share of IWT: ca. 6% of total inland transpor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al share in NW Europe: up to 43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 million tons of freight p.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0 billion ton-kilometres p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000 vessels = 480.000 tru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. 8.000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. 30.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736560"/>
            <a:ext cx="6840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Common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Paper: European transport policy for 2010: time to decid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M (2001) 370, 12/09/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term Review of the 2001 White Pap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M (2006) 314, 22/06/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spcBef>
                <a:spcPts val="75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of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going revision of the European transport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561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 “A sustainable future for transport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M (2009) 279, 17/06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Consultation closed 30 Sept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gh-Level Conference 20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920" y="736560"/>
            <a:ext cx="6840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Common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45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-T policy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37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n paper on the future of the TEN-T network and polic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M (2009) 44, 4/2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7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consultations, TEN-T days Naples in Octo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7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is supported  by exper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7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legislative action foreseen for lat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Common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3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- Objectives for Inland Waterway Transport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775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mote and strengthen the competitive position of inland waterway transport in the transpo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facilitate its integration into the intermodal logistic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reate favourable conditions for the furthe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nnovation of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ncourage companies to use this mode of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Inland Waterway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- NAIADE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1943280" cy="1584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99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ning of 2006 the EC launched for the first time a comprehensive inland waterway transport policy and a a multi-annual action programme for the promotion of inland waterway transport – NAI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Instrumen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islative measures, policy measures, financia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h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an Union, Member States, industry, social partners, river commissions,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he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6 -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771480"/>
            <a:ext cx="77040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Five areas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7"/>
          <p:cNvSpPr/>
          <p:nvPr/>
        </p:nvSpPr>
        <p:spPr>
          <a:xfrm>
            <a:off x="7934400" y="638964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A448-CE23-4C8F-AB17-544B83D23B03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129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favourable conditions f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e fleet modernisation and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OBS AN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jobs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AGE AND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image and knowledge of I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equ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224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225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Otradnova</cp:lastModifiedBy>
  <dcterms:modified xsi:type="dcterms:W3CDTF">2009-11-04T09:54:33Z</dcterms:modified>
  <cp:revision>146</cp:revision>
  <dc:subject>NEW GUIDELINES</dc:subject>
  <dc:title>DG T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