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1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9360" cy="371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body"/>
          </p:nvPr>
        </p:nvSpPr>
        <p:spPr>
          <a:xfrm>
            <a:off x="677880" y="4710240"/>
            <a:ext cx="54259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2"/>
          </p:nvPr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 type="sldNum" idx="3"/>
          </p:nvPr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7075C8A-AA8F-40E7-88AB-AD5227784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77880" y="4710240"/>
            <a:ext cx="54259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ENT:For economical and safety reasons in  inland waterway transport it is important to be able to navigate  on all waterways of Europe with  one certificate based on a harmonised system of regulations. Many Member States of the UNECE [the Member States of the EU] have already implemented Directive 2006/87/EC as basic legislation on technical requirements. The European Commission welcomes initiatives that allow vessels  to navigate in countries outside the Community under the same regulations and circumstan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116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oliennummernplatzhalter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1301EA6-12B8-42B7-BBDE-175766858B1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2944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319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65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2944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319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982800" y="771480"/>
            <a:ext cx="78372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2944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319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8265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52944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2319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982800" y="771480"/>
            <a:ext cx="78372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2944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31960" y="181080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8265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52944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231960" y="4122720"/>
            <a:ext cx="2573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82800" y="771480"/>
            <a:ext cx="7837200" cy="48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22640" y="412272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2640" y="1810800"/>
            <a:ext cx="39006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6560" y="4122720"/>
            <a:ext cx="7993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005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189000"/>
            <a:ext cx="9144000" cy="6669000"/>
            <a:chOff x="0" y="189000"/>
            <a:chExt cx="9144000" cy="6669000"/>
          </a:xfrm>
        </p:grpSpPr>
        <p:sp>
          <p:nvSpPr>
            <p:cNvPr id="2" name=""/>
            <p:cNvSpPr/>
            <p:nvPr/>
          </p:nvSpPr>
          <p:spPr>
            <a:xfrm>
              <a:off x="6355800" y="4023000"/>
              <a:ext cx="1628640" cy="2216520"/>
            </a:xfrm>
            <a:custGeom>
              <a:avLst/>
              <a:gdLst/>
              <a:ahLst/>
              <a:rect l="l" t="t" r="r" b="b"/>
              <a:pathLst>
                <a:path w="513" h="698">
                  <a:moveTo>
                    <a:pt x="110" y="696"/>
                  </a:moveTo>
                  <a:cubicBezTo>
                    <a:pt x="110" y="398"/>
                    <a:pt x="272" y="138"/>
                    <a:pt x="513" y="0"/>
                  </a:cubicBezTo>
                  <a:cubicBezTo>
                    <a:pt x="242" y="130"/>
                    <a:pt x="44" y="389"/>
                    <a:pt x="0" y="698"/>
                  </a:cubicBezTo>
                  <a:cubicBezTo>
                    <a:pt x="110" y="698"/>
                    <a:pt x="110" y="698"/>
                    <a:pt x="110" y="698"/>
                  </a:cubicBezTo>
                  <a:cubicBezTo>
                    <a:pt x="110" y="697"/>
                    <a:pt x="110" y="696"/>
                    <a:pt x="110" y="6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89000"/>
              <a:ext cx="9144000" cy="6669000"/>
            </a:xfrm>
            <a:custGeom>
              <a:avLst/>
              <a:gdLst/>
              <a:ahLst/>
              <a:rect l="l" t="t" r="r" b="b"/>
              <a:pathLst>
                <a:path w="2880" h="2100">
                  <a:moveTo>
                    <a:pt x="2515" y="1207"/>
                  </a:moveTo>
                  <a:cubicBezTo>
                    <a:pt x="2623" y="1144"/>
                    <a:pt x="2748" y="1106"/>
                    <a:pt x="2880" y="1101"/>
                  </a:cubicBezTo>
                  <a:cubicBezTo>
                    <a:pt x="2880" y="117"/>
                    <a:pt x="2880" y="117"/>
                    <a:pt x="2880" y="117"/>
                  </a:cubicBezTo>
                  <a:cubicBezTo>
                    <a:pt x="1470" y="211"/>
                    <a:pt x="796" y="0"/>
                    <a:pt x="376" y="0"/>
                  </a:cubicBezTo>
                  <a:cubicBezTo>
                    <a:pt x="65" y="0"/>
                    <a:pt x="8" y="169"/>
                    <a:pt x="0" y="258"/>
                  </a:cubicBezTo>
                  <a:cubicBezTo>
                    <a:pt x="0" y="258"/>
                    <a:pt x="0" y="258"/>
                    <a:pt x="0" y="978"/>
                  </a:cubicBezTo>
                  <a:cubicBezTo>
                    <a:pt x="0" y="2100"/>
                    <a:pt x="0" y="2100"/>
                    <a:pt x="0" y="2100"/>
                  </a:cubicBezTo>
                  <a:cubicBezTo>
                    <a:pt x="2880" y="2100"/>
                    <a:pt x="2880" y="2100"/>
                    <a:pt x="2880" y="2100"/>
                  </a:cubicBezTo>
                  <a:cubicBezTo>
                    <a:pt x="2880" y="1905"/>
                    <a:pt x="2880" y="1905"/>
                    <a:pt x="2880" y="1905"/>
                  </a:cubicBezTo>
                  <a:cubicBezTo>
                    <a:pt x="2002" y="1905"/>
                    <a:pt x="2002" y="1905"/>
                    <a:pt x="2002" y="1905"/>
                  </a:cubicBezTo>
                  <a:cubicBezTo>
                    <a:pt x="2046" y="1596"/>
                    <a:pt x="2244" y="1337"/>
                    <a:pt x="2515" y="12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" name=""/>
          <p:cNvGrpSpPr/>
          <p:nvPr/>
        </p:nvGrpSpPr>
        <p:grpSpPr>
          <a:xfrm>
            <a:off x="0" y="189000"/>
            <a:ext cx="9144000" cy="6669000"/>
            <a:chOff x="0" y="189000"/>
            <a:chExt cx="9144000" cy="6669000"/>
          </a:xfrm>
        </p:grpSpPr>
        <p:grpSp>
          <p:nvGrpSpPr>
            <p:cNvPr id="5" name="Group 152"/>
            <p:cNvGrpSpPr/>
            <p:nvPr/>
          </p:nvGrpSpPr>
          <p:grpSpPr>
            <a:xfrm>
              <a:off x="0" y="189000"/>
              <a:ext cx="9144000" cy="4321080"/>
              <a:chOff x="0" y="189000"/>
              <a:chExt cx="9144000" cy="4321080"/>
            </a:xfrm>
          </p:grpSpPr>
          <p:sp>
            <p:nvSpPr>
              <p:cNvPr id="6" name="Freeform 5"/>
              <p:cNvSpPr/>
              <p:nvPr/>
            </p:nvSpPr>
            <p:spPr>
              <a:xfrm>
                <a:off x="0" y="189000"/>
                <a:ext cx="9144000" cy="3392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Rectangle 38"/>
              <p:cNvSpPr/>
              <p:nvPr/>
            </p:nvSpPr>
            <p:spPr>
              <a:xfrm>
                <a:off x="0" y="3296160"/>
                <a:ext cx="9144000" cy="1213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4221000"/>
              <a:ext cx="9144000" cy="263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826560" y="1810800"/>
            <a:ext cx="7993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06520" indent="-228600"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14400" indent="-228600">
              <a:buClr>
                <a:srgbClr val="005bab"/>
              </a:buClr>
              <a:buSzPct val="125000"/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22640" indent="-228600">
              <a:buClr>
                <a:srgbClr val="005ba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22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2264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Slide Number Placeholder 4"/>
          <p:cNvSpPr/>
          <p:nvPr/>
        </p:nvSpPr>
        <p:spPr>
          <a:xfrm>
            <a:off x="8172360" y="634536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CE60B-C3D8-4256-BAF8-622BA7249474}" type="slidenum">
              <a:rPr b="0" lang="en-US" sz="1000" spc="-1" strike="noStrike">
                <a:solidFill>
                  <a:srgbClr val="005ba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itle 1"/>
          <p:cNvSpPr/>
          <p:nvPr/>
        </p:nvSpPr>
        <p:spPr>
          <a:xfrm>
            <a:off x="324000" y="522360"/>
            <a:ext cx="5000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7120" indent="-357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cc3b"/>
                </a:solidFill>
                <a:latin typeface="Wingdings"/>
                <a:ea typeface="Wingdings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" name=""/>
          <p:cNvGrpSpPr/>
          <p:nvPr/>
        </p:nvGrpSpPr>
        <p:grpSpPr>
          <a:xfrm>
            <a:off x="390600" y="4952880"/>
            <a:ext cx="431640" cy="1644840"/>
            <a:chOff x="390600" y="4952880"/>
            <a:chExt cx="431640" cy="1644840"/>
          </a:xfrm>
        </p:grpSpPr>
        <p:grpSp>
          <p:nvGrpSpPr>
            <p:cNvPr id="14" name="Group 109"/>
            <p:cNvGrpSpPr/>
            <p:nvPr/>
          </p:nvGrpSpPr>
          <p:grpSpPr>
            <a:xfrm>
              <a:off x="392040" y="6294600"/>
              <a:ext cx="430200" cy="303120"/>
              <a:chOff x="392040" y="6294600"/>
              <a:chExt cx="430200" cy="303120"/>
            </a:xfrm>
          </p:grpSpPr>
          <p:sp>
            <p:nvSpPr>
              <p:cNvPr id="15" name="Rectangle 56"/>
              <p:cNvSpPr/>
              <p:nvPr/>
            </p:nvSpPr>
            <p:spPr>
              <a:xfrm>
                <a:off x="392040" y="6294600"/>
                <a:ext cx="430200" cy="303120"/>
              </a:xfrm>
              <a:prstGeom prst="rect">
                <a:avLst/>
              </a:prstGeom>
              <a:solidFill>
                <a:srgbClr val="034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Line 57"/>
              <p:cNvSpPr/>
              <p:nvPr/>
            </p:nvSpPr>
            <p:spPr>
              <a:xfrm>
                <a:off x="603360" y="6441840"/>
                <a:ext cx="720" cy="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Line 58"/>
              <p:cNvSpPr/>
              <p:nvPr/>
            </p:nvSpPr>
            <p:spPr>
              <a:xfrm>
                <a:off x="603360" y="6441840"/>
                <a:ext cx="720" cy="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Freeform 59"/>
              <p:cNvSpPr/>
              <p:nvPr/>
            </p:nvSpPr>
            <p:spPr>
              <a:xfrm>
                <a:off x="584280" y="6315120"/>
                <a:ext cx="349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Freeform 60"/>
              <p:cNvSpPr/>
              <p:nvPr/>
            </p:nvSpPr>
            <p:spPr>
              <a:xfrm>
                <a:off x="584280" y="6315120"/>
                <a:ext cx="349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Freeform 61"/>
              <p:cNvSpPr/>
              <p:nvPr/>
            </p:nvSpPr>
            <p:spPr>
              <a:xfrm>
                <a:off x="527040" y="6329520"/>
                <a:ext cx="3672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Freeform 62"/>
              <p:cNvSpPr/>
              <p:nvPr/>
            </p:nvSpPr>
            <p:spPr>
              <a:xfrm>
                <a:off x="527040" y="6329520"/>
                <a:ext cx="3672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Freeform 63"/>
              <p:cNvSpPr/>
              <p:nvPr/>
            </p:nvSpPr>
            <p:spPr>
              <a:xfrm>
                <a:off x="528840" y="6518160"/>
                <a:ext cx="3744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Freeform 64"/>
              <p:cNvSpPr/>
              <p:nvPr/>
            </p:nvSpPr>
            <p:spPr>
              <a:xfrm>
                <a:off x="528840" y="6518160"/>
                <a:ext cx="3744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65"/>
              <p:cNvSpPr/>
              <p:nvPr/>
            </p:nvSpPr>
            <p:spPr>
              <a:xfrm>
                <a:off x="584280" y="6534360"/>
                <a:ext cx="349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66"/>
              <p:cNvSpPr/>
              <p:nvPr/>
            </p:nvSpPr>
            <p:spPr>
              <a:xfrm>
                <a:off x="584280" y="6534360"/>
                <a:ext cx="349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Freeform 67"/>
              <p:cNvSpPr/>
              <p:nvPr/>
            </p:nvSpPr>
            <p:spPr>
              <a:xfrm>
                <a:off x="488520" y="647856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Freeform 68"/>
              <p:cNvSpPr/>
              <p:nvPr/>
            </p:nvSpPr>
            <p:spPr>
              <a:xfrm>
                <a:off x="488520" y="647856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Freeform 69"/>
              <p:cNvSpPr/>
              <p:nvPr/>
            </p:nvSpPr>
            <p:spPr>
              <a:xfrm>
                <a:off x="474120" y="642384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Freeform 70"/>
              <p:cNvSpPr/>
              <p:nvPr/>
            </p:nvSpPr>
            <p:spPr>
              <a:xfrm>
                <a:off x="474120" y="642384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Freeform 71"/>
              <p:cNvSpPr/>
              <p:nvPr/>
            </p:nvSpPr>
            <p:spPr>
              <a:xfrm>
                <a:off x="488520" y="636804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Freeform 72"/>
              <p:cNvSpPr/>
              <p:nvPr/>
            </p:nvSpPr>
            <p:spPr>
              <a:xfrm>
                <a:off x="488520" y="636804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Freeform 73"/>
              <p:cNvSpPr/>
              <p:nvPr/>
            </p:nvSpPr>
            <p:spPr>
              <a:xfrm>
                <a:off x="640080" y="6329520"/>
                <a:ext cx="3672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Freeform 74"/>
              <p:cNvSpPr/>
              <p:nvPr/>
            </p:nvSpPr>
            <p:spPr>
              <a:xfrm>
                <a:off x="640080" y="6329520"/>
                <a:ext cx="3672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Freeform 75"/>
              <p:cNvSpPr/>
              <p:nvPr/>
            </p:nvSpPr>
            <p:spPr>
              <a:xfrm>
                <a:off x="678600" y="6370560"/>
                <a:ext cx="3672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Freeform 76"/>
              <p:cNvSpPr/>
              <p:nvPr/>
            </p:nvSpPr>
            <p:spPr>
              <a:xfrm>
                <a:off x="678600" y="6370560"/>
                <a:ext cx="3672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Freeform 77"/>
              <p:cNvSpPr/>
              <p:nvPr/>
            </p:nvSpPr>
            <p:spPr>
              <a:xfrm>
                <a:off x="693000" y="642564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Freeform 78"/>
              <p:cNvSpPr/>
              <p:nvPr/>
            </p:nvSpPr>
            <p:spPr>
              <a:xfrm>
                <a:off x="693000" y="642564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Freeform 79"/>
              <p:cNvSpPr/>
              <p:nvPr/>
            </p:nvSpPr>
            <p:spPr>
              <a:xfrm>
                <a:off x="678600" y="647856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80"/>
              <p:cNvSpPr/>
              <p:nvPr/>
            </p:nvSpPr>
            <p:spPr>
              <a:xfrm>
                <a:off x="678600" y="647856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Freeform 81"/>
              <p:cNvSpPr/>
              <p:nvPr/>
            </p:nvSpPr>
            <p:spPr>
              <a:xfrm>
                <a:off x="640080" y="651996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Freeform 82"/>
              <p:cNvSpPr/>
              <p:nvPr/>
            </p:nvSpPr>
            <p:spPr>
              <a:xfrm>
                <a:off x="640080" y="651996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390600" y="4952880"/>
              <a:ext cx="431640" cy="1150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19040" y="3539880"/>
            <a:ext cx="5769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ba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5bab"/>
              </a:solidFill>
              <a:latin typeface="Arial"/>
            </a:endParaRPr>
          </a:p>
          <a:p>
            <a:pPr lvl="1" marL="5317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63520" algn="ctr">
              <a:buClr>
                <a:srgbClr val="005bab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14200" algn="ctr">
              <a:buClr>
                <a:srgbClr val="005bab"/>
              </a:buClr>
              <a:buSzPct val="125000"/>
              <a:buFont typeface="Arial"/>
              <a:buChar char="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165240" algn="ctr">
              <a:buClr>
                <a:srgbClr val="005bab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165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tle 1"/>
          <p:cNvSpPr/>
          <p:nvPr/>
        </p:nvSpPr>
        <p:spPr>
          <a:xfrm>
            <a:off x="324000" y="-20520"/>
            <a:ext cx="5000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7120" indent="-357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cc3b"/>
                </a:solidFill>
                <a:latin typeface="Wingdings"/>
                <a:ea typeface="Wingdings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82800" y="229680"/>
            <a:ext cx="7837200" cy="104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ec.europa.eu/transport/inland/studies/inland_waterways_en.htm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57336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152"/>
          <p:cNvGrpSpPr/>
          <p:nvPr/>
        </p:nvGrpSpPr>
        <p:grpSpPr>
          <a:xfrm>
            <a:off x="0" y="3068640"/>
            <a:ext cx="9144000" cy="3789360"/>
            <a:chOff x="0" y="3068640"/>
            <a:chExt cx="9144000" cy="3789360"/>
          </a:xfrm>
        </p:grpSpPr>
        <p:sp>
          <p:nvSpPr>
            <p:cNvPr id="166" name="Freeform 5"/>
            <p:cNvSpPr/>
            <p:nvPr/>
          </p:nvSpPr>
          <p:spPr>
            <a:xfrm>
              <a:off x="0" y="3068640"/>
              <a:ext cx="9144000" cy="2975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8"/>
            <p:cNvSpPr/>
            <p:nvPr/>
          </p:nvSpPr>
          <p:spPr>
            <a:xfrm>
              <a:off x="0" y="5793480"/>
              <a:ext cx="9144000" cy="106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92000" y="3716280"/>
            <a:ext cx="72723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50021"/>
                </a:solidFill>
                <a:latin typeface="Arial"/>
              </a:rPr>
              <a:t>European Inland Waterway Transport Policy</a:t>
            </a:r>
            <a:br>
              <a:rPr sz="2400"/>
            </a:br>
            <a:r>
              <a:rPr b="1" lang="fr-FR" sz="2400" spc="-1" strike="noStrike">
                <a:solidFill>
                  <a:srgbClr val="a50021"/>
                </a:solidFill>
                <a:latin typeface="Arial"/>
              </a:rPr>
              <a:t>- NAIADES –</a:t>
            </a:r>
            <a:br>
              <a:rPr sz="2400"/>
            </a:br>
            <a:br>
              <a:rPr sz="2400"/>
            </a:b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UNECE Inland Transport Committee,</a:t>
            </a:r>
            <a:br>
              <a:rPr sz="1400"/>
            </a:b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Working Party on Inland Water Transport, 53 Session</a:t>
            </a:r>
            <a:br>
              <a:rPr sz="1400"/>
            </a:b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4 November 2009, Geneva</a:t>
            </a:r>
            <a:br>
              <a:rPr sz="1400"/>
            </a:br>
            <a:br>
              <a:rPr sz="1400"/>
            </a:br>
            <a:r>
              <a:rPr b="1" lang="it-IT" sz="1600" spc="-1" strike="noStrike">
                <a:solidFill>
                  <a:srgbClr val="a50021"/>
                </a:solidFill>
                <a:latin typeface="Arial"/>
              </a:rPr>
              <a:t>Pawel Stelmaszczyk, HoU, DG TREN</a:t>
            </a:r>
            <a:br>
              <a:rPr sz="1600"/>
            </a:br>
            <a:br>
              <a:rPr sz="2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0"/>
          <p:cNvSpPr/>
          <p:nvPr/>
        </p:nvSpPr>
        <p:spPr>
          <a:xfrm>
            <a:off x="336240" y="636444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Arial"/>
                <a:ea typeface="Arial"/>
              </a:rPr>
              <a:t>EUROPEAN</a:t>
            </a:r>
            <a:br>
              <a:rPr sz="800"/>
            </a:br>
            <a:r>
              <a:rPr b="0" lang="fr-BE" sz="800" spc="-1" strike="noStrike">
                <a:solidFill>
                  <a:srgbClr val="000000"/>
                </a:solidFill>
                <a:latin typeface="Arial"/>
                <a:ea typeface="Arial"/>
              </a:rPr>
              <a:t>COMMI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109"/>
          <p:cNvGrpSpPr/>
          <p:nvPr/>
        </p:nvGrpSpPr>
        <p:grpSpPr>
          <a:xfrm>
            <a:off x="396720" y="5873760"/>
            <a:ext cx="719280" cy="506520"/>
            <a:chOff x="396720" y="5873760"/>
            <a:chExt cx="719280" cy="506520"/>
          </a:xfrm>
        </p:grpSpPr>
        <p:sp>
          <p:nvSpPr>
            <p:cNvPr id="171" name="Rectangle 56"/>
            <p:cNvSpPr/>
            <p:nvPr/>
          </p:nvSpPr>
          <p:spPr>
            <a:xfrm>
              <a:off x="396720" y="5873760"/>
              <a:ext cx="719280" cy="506520"/>
            </a:xfrm>
            <a:prstGeom prst="rect">
              <a:avLst/>
            </a:prstGeom>
            <a:solidFill>
              <a:srgbClr val="034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57"/>
            <p:cNvSpPr/>
            <p:nvPr/>
          </p:nvSpPr>
          <p:spPr>
            <a:xfrm>
              <a:off x="749880" y="6120000"/>
              <a:ext cx="10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58"/>
            <p:cNvSpPr/>
            <p:nvPr/>
          </p:nvSpPr>
          <p:spPr>
            <a:xfrm>
              <a:off x="749880" y="6120000"/>
              <a:ext cx="1080" cy="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59"/>
            <p:cNvSpPr/>
            <p:nvPr/>
          </p:nvSpPr>
          <p:spPr>
            <a:xfrm>
              <a:off x="718560" y="5907960"/>
              <a:ext cx="5832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60"/>
            <p:cNvSpPr/>
            <p:nvPr/>
          </p:nvSpPr>
          <p:spPr>
            <a:xfrm>
              <a:off x="718560" y="5907960"/>
              <a:ext cx="5832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61"/>
            <p:cNvSpPr/>
            <p:nvPr/>
          </p:nvSpPr>
          <p:spPr>
            <a:xfrm>
              <a:off x="622440" y="5932440"/>
              <a:ext cx="61200" cy="5724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62"/>
            <p:cNvSpPr/>
            <p:nvPr/>
          </p:nvSpPr>
          <p:spPr>
            <a:xfrm>
              <a:off x="622440" y="5932440"/>
              <a:ext cx="61200" cy="57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63"/>
            <p:cNvSpPr/>
            <p:nvPr/>
          </p:nvSpPr>
          <p:spPr>
            <a:xfrm>
              <a:off x="625320" y="6247440"/>
              <a:ext cx="6264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64"/>
            <p:cNvSpPr/>
            <p:nvPr/>
          </p:nvSpPr>
          <p:spPr>
            <a:xfrm>
              <a:off x="625320" y="6247440"/>
              <a:ext cx="6264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65"/>
            <p:cNvSpPr/>
            <p:nvPr/>
          </p:nvSpPr>
          <p:spPr>
            <a:xfrm>
              <a:off x="718560" y="6274440"/>
              <a:ext cx="5832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66"/>
            <p:cNvSpPr/>
            <p:nvPr/>
          </p:nvSpPr>
          <p:spPr>
            <a:xfrm>
              <a:off x="718560" y="6274440"/>
              <a:ext cx="5832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67"/>
            <p:cNvSpPr/>
            <p:nvPr/>
          </p:nvSpPr>
          <p:spPr>
            <a:xfrm>
              <a:off x="558360" y="618156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8"/>
            <p:cNvSpPr/>
            <p:nvPr/>
          </p:nvSpPr>
          <p:spPr>
            <a:xfrm>
              <a:off x="558360" y="618156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9"/>
            <p:cNvSpPr/>
            <p:nvPr/>
          </p:nvSpPr>
          <p:spPr>
            <a:xfrm>
              <a:off x="533880" y="608976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70"/>
            <p:cNvSpPr/>
            <p:nvPr/>
          </p:nvSpPr>
          <p:spPr>
            <a:xfrm>
              <a:off x="533880" y="608976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71"/>
            <p:cNvSpPr/>
            <p:nvPr/>
          </p:nvSpPr>
          <p:spPr>
            <a:xfrm>
              <a:off x="558360" y="599688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72"/>
            <p:cNvSpPr/>
            <p:nvPr/>
          </p:nvSpPr>
          <p:spPr>
            <a:xfrm>
              <a:off x="558360" y="599688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73"/>
            <p:cNvSpPr/>
            <p:nvPr/>
          </p:nvSpPr>
          <p:spPr>
            <a:xfrm>
              <a:off x="811440" y="5932440"/>
              <a:ext cx="61200" cy="5724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74"/>
            <p:cNvSpPr/>
            <p:nvPr/>
          </p:nvSpPr>
          <p:spPr>
            <a:xfrm>
              <a:off x="811440" y="5932440"/>
              <a:ext cx="61200" cy="57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75"/>
            <p:cNvSpPr/>
            <p:nvPr/>
          </p:nvSpPr>
          <p:spPr>
            <a:xfrm>
              <a:off x="875880" y="6000840"/>
              <a:ext cx="61200" cy="5724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76"/>
            <p:cNvSpPr/>
            <p:nvPr/>
          </p:nvSpPr>
          <p:spPr>
            <a:xfrm>
              <a:off x="875880" y="6000840"/>
              <a:ext cx="61200" cy="57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77"/>
            <p:cNvSpPr/>
            <p:nvPr/>
          </p:nvSpPr>
          <p:spPr>
            <a:xfrm>
              <a:off x="900000" y="609264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8"/>
            <p:cNvSpPr/>
            <p:nvPr/>
          </p:nvSpPr>
          <p:spPr>
            <a:xfrm>
              <a:off x="900000" y="609264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9"/>
            <p:cNvSpPr/>
            <p:nvPr/>
          </p:nvSpPr>
          <p:spPr>
            <a:xfrm>
              <a:off x="875880" y="618156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80"/>
            <p:cNvSpPr/>
            <p:nvPr/>
          </p:nvSpPr>
          <p:spPr>
            <a:xfrm>
              <a:off x="875880" y="618156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81"/>
            <p:cNvSpPr/>
            <p:nvPr/>
          </p:nvSpPr>
          <p:spPr>
            <a:xfrm>
              <a:off x="811440" y="6250320"/>
              <a:ext cx="61200" cy="58680"/>
            </a:xfrm>
            <a:prstGeom prst="pie">
              <a:avLst/>
            </a:prstGeom>
            <a:solidFill>
              <a:srgbClr val="fff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82"/>
            <p:cNvSpPr/>
            <p:nvPr/>
          </p:nvSpPr>
          <p:spPr>
            <a:xfrm>
              <a:off x="811440" y="6250320"/>
              <a:ext cx="61200" cy="586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96720" y="3633840"/>
            <a:ext cx="719280" cy="19144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770400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NAIADES - </a:t>
            </a:r>
            <a:r>
              <a:rPr b="1" lang="en-GB" sz="2400" spc="-1" strike="noStrike">
                <a:solidFill>
                  <a:srgbClr val="9ecc3b"/>
                </a:solidFill>
                <a:latin typeface="Arial"/>
              </a:rPr>
              <a:t>PLATINA</a:t>
            </a: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9ecc3b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77564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90000"/>
              </a:lnSpc>
              <a:spcBef>
                <a:spcPts val="1125"/>
              </a:spcBef>
              <a:spcAft>
                <a:spcPts val="499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order to support the EC in the implementation of NAIADES, a platform for the implementation of NAIADES was launched –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PLAT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1125"/>
              </a:spcBef>
              <a:spcAft>
                <a:spcPts val="499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INA is a project within the 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ramework Programme for Research, Technology Development and Demonst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1125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INA is aimed at coordinating and supporting research activities and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1125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INA runs from 06/2008 to 05/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1125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INA is organised around the five NAIADES action areas (markets, fleet, jobs &amp; skills, image, infrastruct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1125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INA is strategically guided by key industrial stakeholders, associations and Member States administ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1125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c5e1a"/>
                </a:solidFill>
                <a:latin typeface="Arial"/>
              </a:rPr>
              <a:t>www.naiades.info/pla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95120" y="782640"/>
            <a:ext cx="75438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NAIADES</a:t>
            </a:r>
            <a:r>
              <a:rPr b="1" lang="en-GB" sz="2400" spc="-1" strike="noStrike">
                <a:solidFill>
                  <a:srgbClr val="9ecc3b"/>
                </a:solidFill>
                <a:latin typeface="Arial"/>
              </a:rPr>
              <a:t> – Five areas </a:t>
            </a:r>
            <a:r>
              <a:rPr b="1" lang="en-GB" sz="1600" spc="-1" strike="noStrike">
                <a:solidFill>
                  <a:srgbClr val="9ecc3b"/>
                </a:solidFill>
                <a:latin typeface="Arial"/>
              </a:rPr>
              <a:t>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50920" y="1413000"/>
          <a:ext cx="2709720" cy="3992400"/>
        </p:xfrm>
        <a:graphic>
          <a:graphicData uri="http://schemas.openxmlformats.org/drawingml/2006/table">
            <a:tbl>
              <a:tblPr/>
              <a:tblGrid>
                <a:gridCol w="2709720"/>
              </a:tblGrid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00"/>
                        </a:buClr>
                        <a:buSzPct val="400000"/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S – Create favourable conditions for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afff"/>
                    </a:solidFill>
                  </a:tcPr>
                </a:tc>
              </a:tr>
              <a:tr h="331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buClr>
                          <a:srgbClr val="005bab"/>
                        </a:buClr>
                        <a:buSzPct val="400000"/>
                        <a:buFont typeface="Trebuchet MS"/>
                        <a:buChar char=".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ct new marke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igate and implement new logistics concep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ces for intermodal trans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co-operation between modes and within the sec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buClr>
                          <a:srgbClr val="005bab"/>
                        </a:buClr>
                        <a:buSzPct val="400000"/>
                        <a:buFont typeface="Trebuchet MS"/>
                        <a:buChar char=".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e entrepreneurshi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ct newcom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tate access to finance for SM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buClr>
                          <a:srgbClr val="005bab"/>
                        </a:buClr>
                        <a:buSzPct val="400000"/>
                        <a:buFont typeface="Trebuchet MS"/>
                        <a:buChar char=".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administrative and regulatory frame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lish administrative barriers to IWT develop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ure a level playing fiel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co-ordination between relevant public serv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3059280" y="1413000"/>
          <a:ext cx="2960640" cy="3987720"/>
        </p:xfrm>
        <a:graphic>
          <a:graphicData uri="http://schemas.openxmlformats.org/drawingml/2006/table">
            <a:tbl>
              <a:tblPr/>
              <a:tblGrid>
                <a:gridCol w="2960640"/>
              </a:tblGrid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00"/>
                        </a:buClr>
                        <a:buSzPct val="400000"/>
                        <a:buFont typeface="Arial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EET – Stimulate fleet modernisations and innov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afff"/>
                    </a:solidFill>
                  </a:tcPr>
                </a:tc>
              </a:tr>
              <a:tr h="331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buClr>
                          <a:srgbClr val="005bab"/>
                        </a:buClr>
                        <a:buSzPct val="400000"/>
                        <a:buFont typeface="Trebuchet MS"/>
                        <a:buChar char=".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logistics efficiency, safety and environmental performance of IW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and facilitate use of innovative vessel concepts and technolog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e use of safety-enhancing technolog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e use of eco-efficient engines and renewable energy sour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 refit concepts for existing vesse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6157800" y="1413000"/>
          <a:ext cx="2806920" cy="3960720"/>
        </p:xfrm>
        <a:graphic>
          <a:graphicData uri="http://schemas.openxmlformats.org/drawingml/2006/table">
            <a:tbl>
              <a:tblPr/>
              <a:tblGrid>
                <a:gridCol w="280692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00"/>
                        </a:buClr>
                        <a:buSzPct val="400000"/>
                        <a:buFont typeface="Arial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BS &amp; SKILLS – Promote Jobs and skil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afff"/>
                    </a:solidFill>
                  </a:tcPr>
                </a:tc>
              </a:tr>
              <a:tr h="3313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buClr>
                          <a:srgbClr val="005bab"/>
                        </a:buClr>
                        <a:buSzPct val="400000"/>
                        <a:buFont typeface="Trebuchet MS"/>
                        <a:buChar char=".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act workfor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working and social condi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mulate labour mobil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te awareness and improve care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hance cooperation regarding mutual recognition of qualific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buClr>
                          <a:srgbClr val="005bab"/>
                        </a:buClr>
                        <a:buSzPct val="400000"/>
                        <a:buFont typeface="Trebuchet MS"/>
                        <a:buChar char=".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st in human capi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rve education and trai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mulate life-long lear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95120" y="782640"/>
            <a:ext cx="754380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NAIADES – </a:t>
            </a:r>
            <a:r>
              <a:rPr b="1" lang="en-GB" sz="2400" spc="-1" strike="noStrike">
                <a:solidFill>
                  <a:srgbClr val="9ecc3b"/>
                </a:solidFill>
                <a:latin typeface="Arial"/>
              </a:rPr>
              <a:t>Five areas </a:t>
            </a:r>
            <a:r>
              <a:rPr b="1" lang="en-GB" sz="1600" spc="-1" strike="noStrike">
                <a:solidFill>
                  <a:srgbClr val="9ecc3b"/>
                </a:solidFill>
                <a:latin typeface="Arial"/>
              </a:rPr>
              <a:t>(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763640" y="1341360"/>
          <a:ext cx="2960640" cy="4610160"/>
        </p:xfrm>
        <a:graphic>
          <a:graphicData uri="http://schemas.openxmlformats.org/drawingml/2006/table">
            <a:tbl>
              <a:tblPr/>
              <a:tblGrid>
                <a:gridCol w="296064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00"/>
                        </a:buClr>
                        <a:buSzPct val="400000"/>
                        <a:buFont typeface="Arial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AGE – Improve image and knowledge of IW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57200" indent="-45720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afff"/>
                    </a:solidFill>
                  </a:tcPr>
                </a:tc>
              </a:tr>
              <a:tr h="403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buClr>
                          <a:srgbClr val="005bab"/>
                        </a:buClr>
                        <a:buSzPct val="400000"/>
                        <a:buFont typeface="Trebuchet MS"/>
                        <a:buChar char=".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mote inland navigation as a successful partner in busin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and coordinate promotion activit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luence logistics decision-making by public rel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buClr>
                          <a:srgbClr val="005bab"/>
                        </a:buClr>
                        <a:buSzPct val="400000"/>
                        <a:buFont typeface="Trebuchet MS"/>
                        <a:buChar char=".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 up and expand EU IWT promotion and development net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 up national promotion and development structu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 political, practical and financial support for promotion cent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oint national focal points within administr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 national promotion structures and focal points into a European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buClr>
                          <a:srgbClr val="005bab"/>
                        </a:buClr>
                        <a:buSzPct val="400000"/>
                        <a:buFont typeface="Trebuchet MS"/>
                        <a:buChar char=".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 trends and developments within the IWT mark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rmonise collection of data at all leve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sure availability of compatible source da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5076720" y="1341360"/>
          <a:ext cx="2960640" cy="3848040"/>
        </p:xfrm>
        <a:graphic>
          <a:graphicData uri="http://schemas.openxmlformats.org/drawingml/2006/table">
            <a:tbl>
              <a:tblPr/>
              <a:tblGrid>
                <a:gridCol w="2960640"/>
              </a:tblGrid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57200" indent="-457200">
                        <a:buClr>
                          <a:srgbClr val="000000"/>
                        </a:buClr>
                        <a:buSzPct val="400000"/>
                        <a:buFont typeface="Arial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RASTRUCTURE – Provide adequate infrastruc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00afff"/>
                    </a:solidFill>
                  </a:tcPr>
                </a:tc>
              </a:tr>
              <a:tr h="3273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82520" indent="-182520">
                        <a:buClr>
                          <a:srgbClr val="005bab"/>
                        </a:buClr>
                        <a:buSzPct val="400000"/>
                        <a:buFont typeface="Trebuchet MS"/>
                        <a:buChar char=".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ove multi-modal net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tain and improve the European IWT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ster the mutual understanding of multi-purpose use of waterway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ourage the development of port and transhipment facilities – also in candidate and associated countr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)develop industrial sites nearby waterway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82520" indent="-182520">
                        <a:buClr>
                          <a:srgbClr val="005bab"/>
                        </a:buClr>
                        <a:buSzPct val="400000"/>
                        <a:buFont typeface="Trebuchet MS"/>
                        <a:buChar char=".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ement River Information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539640" indent="-177840">
                        <a:buClr>
                          <a:srgbClr val="005bab"/>
                        </a:buClr>
                        <a:buSzPct val="125000"/>
                        <a:buFont typeface="Trebuchet MS"/>
                        <a:buChar char="»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and co-ordinate development and implementation of RIS in Euro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770400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NAIADES – </a:t>
            </a:r>
            <a:r>
              <a:rPr b="1" lang="en-GB" sz="2400" spc="-1" strike="noStrike">
                <a:solidFill>
                  <a:srgbClr val="9ecc3b"/>
                </a:solidFill>
                <a:latin typeface="Arial"/>
              </a:rPr>
              <a:t>Examples of achievements and work on-going and in preparation </a:t>
            </a:r>
            <a:r>
              <a:rPr b="1" lang="en-GB" sz="1800" spc="-1" strike="noStrike">
                <a:solidFill>
                  <a:srgbClr val="9ecc3b"/>
                </a:solidFill>
                <a:latin typeface="Arial"/>
              </a:rPr>
              <a:t>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920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700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gislative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Achievemen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ve on technical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ve on statistics of good transport by inland water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e-minimi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ve on the transport of dangerous go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601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rective on fuel quali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On-going/in prepara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nn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atmasters’ certific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ucation and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770400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NAIADES – </a:t>
            </a:r>
            <a:r>
              <a:rPr b="1" lang="en-GB" sz="2400" spc="-1" strike="noStrike">
                <a:solidFill>
                  <a:srgbClr val="9ecc3b"/>
                </a:solidFill>
                <a:latin typeface="Arial"/>
              </a:rPr>
              <a:t>Examples of achievements and work on-going and in preparation </a:t>
            </a:r>
            <a:r>
              <a:rPr b="1" lang="en-GB" sz="1800" spc="-1" strike="noStrike">
                <a:solidFill>
                  <a:srgbClr val="9ecc3b"/>
                </a:solidFill>
                <a:latin typeface="Arial"/>
              </a:rPr>
              <a:t>(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00000" y="1773000"/>
            <a:ext cx="7848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700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licy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Achievement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ding hand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reening of administrative and regulatory b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Arial"/>
              </a:rPr>
              <a:t>On-going/in prepara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rket observ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cial dialogue (working time, professional profile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rastructure Development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770400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NAIADES – </a:t>
            </a:r>
            <a:r>
              <a:rPr b="1" lang="en-GB" sz="2400" spc="-1" strike="noStrike">
                <a:solidFill>
                  <a:srgbClr val="9ecc3b"/>
                </a:solidFill>
                <a:latin typeface="Arial"/>
              </a:rPr>
              <a:t>Examples of achievements and work on-going and in preparation </a:t>
            </a:r>
            <a:r>
              <a:rPr b="1" lang="en-GB" sz="1800" spc="-1" strike="noStrike">
                <a:solidFill>
                  <a:srgbClr val="9ecc3b"/>
                </a:solidFill>
                <a:latin typeface="Arial"/>
              </a:rPr>
              <a:t>(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99640" y="1773000"/>
            <a:ext cx="7488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Bef>
                <a:spcPts val="799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000000"/>
                </a:solidFill>
                <a:uFillTx/>
                <a:latin typeface="Arial"/>
              </a:rPr>
              <a:t>Achievement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implified access to the Marco Polo II programme for the IWT sector and doubling of actual funding per tkm shifted from r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successful TEN-T call for proposals in the area of River Information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spcBef>
                <a:spcPts val="799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On-go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spcBef>
                <a:spcPts val="499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to promotion structures under the DG TREN grant program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Excursus</a:t>
            </a: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9ecc3b"/>
                </a:solidFill>
                <a:latin typeface="Arial"/>
              </a:rPr>
              <a:t>(1):</a:t>
            </a: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9ecc3b"/>
                </a:solidFill>
                <a:latin typeface="Arial"/>
              </a:rPr>
              <a:t>Technical requirements - state of 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26560" y="1810800"/>
            <a:ext cx="831708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6600" indent="-426600">
              <a:spcBef>
                <a:spcPts val="901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IVE 2006/87 EC,  as AME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901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HINE VESSEL INSPECTION REGULATIONS (RVI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901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-ECE RESOLUTION 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6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901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ex II from the Directive  and RVIR are made equival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6600" indent="-426600">
              <a:spcBef>
                <a:spcPts val="901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olution 61 has been reformed into the same structure as RVIR and Annex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770400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Excursus </a:t>
            </a:r>
            <a:r>
              <a:rPr b="1" lang="en-GB" sz="1600" spc="-1" strike="noStrike">
                <a:solidFill>
                  <a:srgbClr val="9ecc3b"/>
                </a:solidFill>
                <a:latin typeface="Arial"/>
              </a:rPr>
              <a:t>(2):</a:t>
            </a: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9ecc3b"/>
                </a:solidFill>
                <a:latin typeface="Arial"/>
              </a:rPr>
              <a:t>Harmonisation of boatmasters’ certificates – state of 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99640" y="191628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90000"/>
              </a:lnSpc>
              <a:spcBef>
                <a:spcPts val="1239"/>
              </a:spcBef>
              <a:spcAft>
                <a:spcPts val="550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irective 96/50 EC of 23 July 199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1239"/>
              </a:spcBef>
              <a:spcAft>
                <a:spcPts val="550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llection of external expertise complet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lnSpc>
                <a:spcPct val="90000"/>
              </a:lnSpc>
              <a:spcBef>
                <a:spcPts val="901"/>
              </a:spcBef>
              <a:spcAft>
                <a:spcPts val="400"/>
              </a:spcAft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final report of the external study available on </a:t>
            </a:r>
            <a:r>
              <a:rPr b="0" lang="en-GB" sz="1600" spc="-1" strike="noStrike" u="sng">
                <a:solidFill>
                  <a:srgbClr val="39abeb"/>
                </a:solidFill>
                <a:uFillTx/>
                <a:latin typeface="Arial"/>
                <a:hlinkClick r:id="rId1"/>
              </a:rPr>
              <a:t>http://ec.europa.eu/transport/inland/studies/inland_waterways_en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1239"/>
              </a:spcBef>
              <a:spcAft>
                <a:spcPts val="550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mpact assessment by the Commission services on-go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spcBef>
                <a:spcPts val="1239"/>
              </a:spcBef>
              <a:spcAft>
                <a:spcPts val="550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bject to the result of the impact assessment the Commission may possibly come forward with a legislative proposal in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978520"/>
          </a:xfrm>
          <a:prstGeom prst="rect">
            <a:avLst/>
          </a:prstGeom>
          <a:ln w="0">
            <a:noFill/>
          </a:ln>
        </p:spPr>
      </p:pic>
      <p:grpSp>
        <p:nvGrpSpPr>
          <p:cNvPr id="273" name=""/>
          <p:cNvGrpSpPr/>
          <p:nvPr/>
        </p:nvGrpSpPr>
        <p:grpSpPr>
          <a:xfrm>
            <a:off x="0" y="0"/>
            <a:ext cx="9144000" cy="1915920"/>
            <a:chOff x="0" y="0"/>
            <a:chExt cx="9144000" cy="1915920"/>
          </a:xfrm>
        </p:grpSpPr>
        <p:sp>
          <p:nvSpPr>
            <p:cNvPr id="274" name=""/>
            <p:cNvSpPr/>
            <p:nvPr/>
          </p:nvSpPr>
          <p:spPr>
            <a:xfrm>
              <a:off x="0" y="1041480"/>
              <a:ext cx="9144000" cy="874440"/>
            </a:xfrm>
            <a:custGeom>
              <a:avLst/>
              <a:gdLst/>
              <a:ahLst/>
              <a:rect l="l" t="t" r="r" b="b"/>
              <a:pathLst>
                <a:path w="2881" h="317">
                  <a:moveTo>
                    <a:pt x="377" y="59"/>
                  </a:moveTo>
                  <a:cubicBezTo>
                    <a:pt x="797" y="59"/>
                    <a:pt x="1471" y="270"/>
                    <a:pt x="2881" y="177"/>
                  </a:cubicBezTo>
                  <a:cubicBezTo>
                    <a:pt x="2881" y="0"/>
                    <a:pt x="2881" y="0"/>
                    <a:pt x="288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7"/>
                    <a:pt x="0" y="317"/>
                    <a:pt x="0" y="317"/>
                  </a:cubicBezTo>
                  <a:cubicBezTo>
                    <a:pt x="9" y="228"/>
                    <a:pt x="66" y="59"/>
                    <a:pt x="377" y="5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0" y="0"/>
              <a:ext cx="9144000" cy="116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83756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600" spc="-1" strike="noStrike">
                <a:solidFill>
                  <a:srgbClr val="005bab"/>
                </a:solidFill>
                <a:latin typeface="Arial"/>
              </a:rPr>
              <a:t>Thank you for your att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itle 1"/>
          <p:cNvSpPr/>
          <p:nvPr/>
        </p:nvSpPr>
        <p:spPr>
          <a:xfrm>
            <a:off x="324000" y="123840"/>
            <a:ext cx="5000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7120" indent="-357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cc3b"/>
                </a:solidFill>
                <a:latin typeface="Wingdings"/>
                <a:ea typeface="Wingdings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6"/>
          <p:cNvSpPr/>
          <p:nvPr/>
        </p:nvSpPr>
        <p:spPr>
          <a:xfrm>
            <a:off x="1006560" y="976320"/>
            <a:ext cx="70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6920" y="5229360"/>
            <a:ext cx="7561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awel STELMASZCZY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awel.stelmaszczyk@ec.europa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uropean Commission, DG Energy and Transport </a:t>
            </a:r>
            <a:br>
              <a:rPr sz="18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Unit B 3 - Logistics, co-modality, inland waterways, motorways of the sea &amp; Marco Pol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http://ec.europa.eu/transport/iw/index_e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82800" y="771480"/>
            <a:ext cx="783720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cc3b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6920" y="1915920"/>
            <a:ext cx="720108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18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ts &amp; Fig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8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U Common Transport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80000"/>
              </a:lnSpc>
              <a:spcAft>
                <a:spcPts val="2100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land Waterway Transport Policy – NAI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cursus “Technical Requirements” and “Boatmasters’ certificat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005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82800" y="5832360"/>
            <a:ext cx="78372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Facts and figures </a:t>
            </a:r>
            <a:r>
              <a:rPr b="1" lang="en-GB" sz="1600" spc="-1" strike="noStrike">
                <a:solidFill>
                  <a:srgbClr val="9ecc3b"/>
                </a:solidFill>
                <a:latin typeface="Arial"/>
              </a:rPr>
              <a:t>(1)</a:t>
            </a:r>
            <a:br>
              <a:rPr sz="2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itle 1"/>
          <p:cNvSpPr/>
          <p:nvPr/>
        </p:nvSpPr>
        <p:spPr>
          <a:xfrm>
            <a:off x="324000" y="5583240"/>
            <a:ext cx="5000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7120" indent="-357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cc3b"/>
                </a:solidFill>
                <a:latin typeface="Wingdings"/>
                <a:ea typeface="Wingdings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6"/>
          <p:cNvSpPr/>
          <p:nvPr/>
        </p:nvSpPr>
        <p:spPr>
          <a:xfrm>
            <a:off x="1006560" y="6350040"/>
            <a:ext cx="7043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9280" y="3213000"/>
            <a:ext cx="2484720" cy="21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Verdana"/>
              </a:rPr>
              <a:t>&gt;37.000 km of waterways connect 100s of cities and industrial reg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64000" y="1628640"/>
            <a:ext cx="421164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Verdana"/>
              </a:rPr>
              <a:t>20 out of 27 Member States have inland water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6000" y="691920"/>
            <a:ext cx="770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Facts and figures </a:t>
            </a:r>
            <a:r>
              <a:rPr b="1" lang="en-GB" sz="1600" spc="-1" strike="noStrike">
                <a:solidFill>
                  <a:srgbClr val="9ecc3b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1341360"/>
            <a:ext cx="799308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23960" indent="-723960">
              <a:lnSpc>
                <a:spcPct val="13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0/27 Member States have inland water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3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 are connec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3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al share of IWT: ca. 6% of total inland transpor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3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dal share in NW Europe: up to 43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3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00 million tons of freight p.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3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40 billion ton-kilometres p.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3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.000 vessels = 480.000 tru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3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. 8.000 enterp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23960" indent="-723960">
              <a:lnSpc>
                <a:spcPct val="13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. 30.000 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2920" y="736560"/>
            <a:ext cx="68407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EU Common Transport Policy </a:t>
            </a:r>
            <a:r>
              <a:rPr b="1" lang="en-GB" sz="1600" spc="-1" strike="noStrike">
                <a:solidFill>
                  <a:srgbClr val="9ecc3b"/>
                </a:solidFill>
                <a:latin typeface="Arial"/>
              </a:rPr>
              <a:t>(1)</a:t>
            </a: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70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110000"/>
              </a:lnSpc>
              <a:spcBef>
                <a:spcPts val="624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te Paper: European transport policy for 2010: time to decid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COM (2001) 370, 12/09/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0000"/>
              </a:lnSpc>
              <a:spcBef>
                <a:spcPts val="624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d-term Review of the 2001 White Paper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COM (2006) 314, 22/06/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10000"/>
              </a:lnSpc>
              <a:spcBef>
                <a:spcPts val="751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ture of Trans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lnSpc>
                <a:spcPct val="110000"/>
              </a:lnSpc>
              <a:spcBef>
                <a:spcPts val="624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going revision of the European transport polic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lnSpc>
                <a:spcPct val="110000"/>
              </a:lnSpc>
              <a:spcBef>
                <a:spcPts val="561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munication “A sustainable future for transport”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OM (2009) 279, 17/06/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lnSpc>
                <a:spcPct val="110000"/>
              </a:lnSpc>
              <a:spcBef>
                <a:spcPts val="624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c Consultation closed 30 Sept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lnSpc>
                <a:spcPct val="110000"/>
              </a:lnSpc>
              <a:spcBef>
                <a:spcPts val="624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High-Level Conference 20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42920" y="736560"/>
            <a:ext cx="684072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EU Common Transport Policy </a:t>
            </a:r>
            <a:r>
              <a:rPr b="1" lang="en-GB" sz="1600" spc="-1" strike="noStrike">
                <a:solidFill>
                  <a:srgbClr val="9ecc3b"/>
                </a:solidFill>
                <a:latin typeface="Arial"/>
              </a:rPr>
              <a:t>(2)</a:t>
            </a: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71640" y="1699920"/>
            <a:ext cx="741672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110000"/>
              </a:lnSpc>
              <a:spcBef>
                <a:spcPts val="451"/>
              </a:spcBef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N-T policy re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lnSpc>
                <a:spcPct val="110000"/>
              </a:lnSpc>
              <a:spcBef>
                <a:spcPts val="337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een paper on the future of the TEN-T network and policy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COM (2009) 44, 4/2/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lnSpc>
                <a:spcPct val="110000"/>
              </a:lnSpc>
              <a:spcBef>
                <a:spcPts val="374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blic consultations, TEN-T days Naples in Octo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lnSpc>
                <a:spcPct val="110000"/>
              </a:lnSpc>
              <a:spcBef>
                <a:spcPts val="374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cess is supported  by expert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lnSpc>
                <a:spcPct val="110000"/>
              </a:lnSpc>
              <a:spcBef>
                <a:spcPts val="374"/>
              </a:spcBef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sible legislative action foreseen for late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770400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EU Common Transport Policy </a:t>
            </a:r>
            <a:r>
              <a:rPr b="1" lang="en-GB" sz="1600" spc="-1" strike="noStrike">
                <a:solidFill>
                  <a:srgbClr val="9ecc3b"/>
                </a:solidFill>
                <a:latin typeface="Arial"/>
              </a:rPr>
              <a:t>(3)</a:t>
            </a: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 </a:t>
            </a:r>
            <a:br>
              <a:rPr sz="2800"/>
            </a:br>
            <a:r>
              <a:rPr b="1" lang="en-GB" sz="2400" spc="-1" strike="noStrike">
                <a:solidFill>
                  <a:srgbClr val="9ecc3b"/>
                </a:solidFill>
                <a:latin typeface="Arial"/>
              </a:rPr>
              <a:t>- Objectives for Inland Waterway Transport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775640" cy="44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lnSpc>
                <a:spcPct val="130000"/>
              </a:lnSpc>
              <a:spcAft>
                <a:spcPts val="601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promote and strengthen the competitive position of inland waterway transport in the transpor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30000"/>
              </a:lnSpc>
              <a:spcAft>
                <a:spcPts val="601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facilitate its integration into the intermodal logistic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30000"/>
              </a:lnSpc>
              <a:spcAft>
                <a:spcPts val="601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create favourable conditions for the further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and innovation of the s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30000"/>
              </a:lnSpc>
              <a:spcAft>
                <a:spcPts val="601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encourage companies to use this mode of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16000" y="765000"/>
            <a:ext cx="770400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EU Inland Waterway Transport Policy </a:t>
            </a:r>
            <a:r>
              <a:rPr b="1" lang="en-GB" sz="1600" spc="-1" strike="noStrike">
                <a:solidFill>
                  <a:srgbClr val="9ecc3b"/>
                </a:solidFill>
                <a:latin typeface="Arial"/>
              </a:rPr>
              <a:t>(1)</a:t>
            </a: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 </a:t>
            </a:r>
            <a:br>
              <a:rPr sz="2800"/>
            </a:br>
            <a:r>
              <a:rPr b="1" lang="en-GB" sz="2400" spc="-1" strike="noStrike">
                <a:solidFill>
                  <a:srgbClr val="9ecc3b"/>
                </a:solidFill>
                <a:latin typeface="Arial"/>
              </a:rPr>
              <a:t>- NAIADES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588000" y="4797360"/>
            <a:ext cx="1943280" cy="158436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99640" y="1628280"/>
            <a:ext cx="799164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4600" indent="-444600">
              <a:spcAft>
                <a:spcPts val="601"/>
              </a:spcAft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ginning of 2006 the EC launched for the first time a comprehensive inland waterway transport policy and a a multi-annual action programme for the promotion of inland waterway transport – NAI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Instrument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lnSpc>
                <a:spcPct val="90000"/>
              </a:lnSpc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egislative measures, policy measures, financia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Who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lnSpc>
                <a:spcPct val="90000"/>
              </a:lnSpc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uropean Union, Member States, industry, social partners, river commissions, 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uropean Commiss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90000"/>
              </a:lnSpc>
              <a:buClr>
                <a:srgbClr val="005bab"/>
              </a:buClr>
              <a:buSzPct val="400000"/>
              <a:buFont typeface="Trebuchet MS"/>
              <a:buChar char=".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Arial"/>
              </a:rPr>
              <a:t>When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368280">
              <a:lnSpc>
                <a:spcPct val="90000"/>
              </a:lnSpc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2006 - 20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16000" y="771480"/>
            <a:ext cx="7704000" cy="10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NAIADES – </a:t>
            </a:r>
            <a:r>
              <a:rPr b="1" lang="en-GB" sz="2400" spc="-1" strike="noStrike">
                <a:solidFill>
                  <a:srgbClr val="9ecc3b"/>
                </a:solidFill>
                <a:latin typeface="Arial"/>
              </a:rPr>
              <a:t>Five areas</a:t>
            </a:r>
            <a:r>
              <a:rPr b="1" lang="en-GB" sz="2800" spc="-1" strike="noStrike">
                <a:solidFill>
                  <a:srgbClr val="9ecc3b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9ecc3b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7"/>
          <p:cNvSpPr/>
          <p:nvPr/>
        </p:nvSpPr>
        <p:spPr>
          <a:xfrm>
            <a:off x="7934400" y="6389640"/>
            <a:ext cx="26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5bab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5bab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8172360" y="6345360"/>
            <a:ext cx="514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A321E-19EC-4C18-959A-49BC88FFB7FB}" type="slidenum">
              <a:rPr b="0" lang="en-US" sz="1000" spc="-1" strike="noStrike">
                <a:solidFill>
                  <a:srgbClr val="005ba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itle 1"/>
          <p:cNvSpPr/>
          <p:nvPr/>
        </p:nvSpPr>
        <p:spPr>
          <a:xfrm>
            <a:off x="324000" y="522360"/>
            <a:ext cx="5000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357120" indent="-3571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ecc3b"/>
                </a:solidFill>
                <a:latin typeface="Wingdings"/>
                <a:ea typeface="Wingdings"/>
              </a:rPr>
              <a:t>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42920" y="1483920"/>
            <a:ext cx="7129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50000"/>
              </a:lnSpc>
              <a:buClr>
                <a:srgbClr val="005bab"/>
              </a:buClr>
              <a:buSzPct val="40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25360" indent="-495000"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favourable conditions for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005bab"/>
              </a:buClr>
              <a:buSzPct val="40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LE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25360" indent="-495000"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mulate fleet modernisation and inno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005bab"/>
              </a:buClr>
              <a:buSzPct val="40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OBS AND SKIL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25360" indent="-495000"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te jobs and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005bab"/>
              </a:buClr>
              <a:buSzPct val="40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AGE AND AWARE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25360" indent="-495000"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image and knowledge of IW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005bab"/>
              </a:buClr>
              <a:buSzPct val="40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25360" indent="-495000">
              <a:buClr>
                <a:srgbClr val="005bab"/>
              </a:buClr>
              <a:buSzPct val="125000"/>
              <a:buFont typeface="Trebuchet MS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 adequate infra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390600" y="4952880"/>
            <a:ext cx="431640" cy="1644840"/>
            <a:chOff x="390600" y="4952880"/>
            <a:chExt cx="431640" cy="1644840"/>
          </a:xfrm>
        </p:grpSpPr>
        <p:grpSp>
          <p:nvGrpSpPr>
            <p:cNvPr id="224" name="Group 109"/>
            <p:cNvGrpSpPr/>
            <p:nvPr/>
          </p:nvGrpSpPr>
          <p:grpSpPr>
            <a:xfrm>
              <a:off x="392040" y="6294600"/>
              <a:ext cx="430200" cy="303120"/>
              <a:chOff x="392040" y="6294600"/>
              <a:chExt cx="430200" cy="303120"/>
            </a:xfrm>
          </p:grpSpPr>
          <p:sp>
            <p:nvSpPr>
              <p:cNvPr id="225" name="Rectangle 56"/>
              <p:cNvSpPr/>
              <p:nvPr/>
            </p:nvSpPr>
            <p:spPr>
              <a:xfrm>
                <a:off x="392040" y="6294600"/>
                <a:ext cx="430200" cy="303120"/>
              </a:xfrm>
              <a:prstGeom prst="rect">
                <a:avLst/>
              </a:prstGeom>
              <a:solidFill>
                <a:srgbClr val="034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57"/>
              <p:cNvSpPr/>
              <p:nvPr/>
            </p:nvSpPr>
            <p:spPr>
              <a:xfrm>
                <a:off x="603360" y="6441840"/>
                <a:ext cx="720" cy="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58"/>
              <p:cNvSpPr/>
              <p:nvPr/>
            </p:nvSpPr>
            <p:spPr>
              <a:xfrm>
                <a:off x="603360" y="6441840"/>
                <a:ext cx="720" cy="7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59"/>
              <p:cNvSpPr/>
              <p:nvPr/>
            </p:nvSpPr>
            <p:spPr>
              <a:xfrm>
                <a:off x="584280" y="6315120"/>
                <a:ext cx="349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60"/>
              <p:cNvSpPr/>
              <p:nvPr/>
            </p:nvSpPr>
            <p:spPr>
              <a:xfrm>
                <a:off x="584280" y="6315120"/>
                <a:ext cx="349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61"/>
              <p:cNvSpPr/>
              <p:nvPr/>
            </p:nvSpPr>
            <p:spPr>
              <a:xfrm>
                <a:off x="527040" y="6329520"/>
                <a:ext cx="3672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62"/>
              <p:cNvSpPr/>
              <p:nvPr/>
            </p:nvSpPr>
            <p:spPr>
              <a:xfrm>
                <a:off x="527040" y="6329520"/>
                <a:ext cx="3672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63"/>
              <p:cNvSpPr/>
              <p:nvPr/>
            </p:nvSpPr>
            <p:spPr>
              <a:xfrm>
                <a:off x="528840" y="6518160"/>
                <a:ext cx="3744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64"/>
              <p:cNvSpPr/>
              <p:nvPr/>
            </p:nvSpPr>
            <p:spPr>
              <a:xfrm>
                <a:off x="528840" y="6518160"/>
                <a:ext cx="3744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65"/>
              <p:cNvSpPr/>
              <p:nvPr/>
            </p:nvSpPr>
            <p:spPr>
              <a:xfrm>
                <a:off x="584280" y="6534360"/>
                <a:ext cx="349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66"/>
              <p:cNvSpPr/>
              <p:nvPr/>
            </p:nvSpPr>
            <p:spPr>
              <a:xfrm>
                <a:off x="584280" y="6534360"/>
                <a:ext cx="349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67"/>
              <p:cNvSpPr/>
              <p:nvPr/>
            </p:nvSpPr>
            <p:spPr>
              <a:xfrm>
                <a:off x="488520" y="647856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68"/>
              <p:cNvSpPr/>
              <p:nvPr/>
            </p:nvSpPr>
            <p:spPr>
              <a:xfrm>
                <a:off x="488520" y="647856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69"/>
              <p:cNvSpPr/>
              <p:nvPr/>
            </p:nvSpPr>
            <p:spPr>
              <a:xfrm>
                <a:off x="474120" y="642384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70"/>
              <p:cNvSpPr/>
              <p:nvPr/>
            </p:nvSpPr>
            <p:spPr>
              <a:xfrm>
                <a:off x="474120" y="642384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71"/>
              <p:cNvSpPr/>
              <p:nvPr/>
            </p:nvSpPr>
            <p:spPr>
              <a:xfrm>
                <a:off x="488520" y="636804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72"/>
              <p:cNvSpPr/>
              <p:nvPr/>
            </p:nvSpPr>
            <p:spPr>
              <a:xfrm>
                <a:off x="488520" y="636804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73"/>
              <p:cNvSpPr/>
              <p:nvPr/>
            </p:nvSpPr>
            <p:spPr>
              <a:xfrm>
                <a:off x="640080" y="6329520"/>
                <a:ext cx="3672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74"/>
              <p:cNvSpPr/>
              <p:nvPr/>
            </p:nvSpPr>
            <p:spPr>
              <a:xfrm>
                <a:off x="640080" y="6329520"/>
                <a:ext cx="3672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75"/>
              <p:cNvSpPr/>
              <p:nvPr/>
            </p:nvSpPr>
            <p:spPr>
              <a:xfrm>
                <a:off x="678600" y="6370560"/>
                <a:ext cx="36720" cy="3420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76"/>
              <p:cNvSpPr/>
              <p:nvPr/>
            </p:nvSpPr>
            <p:spPr>
              <a:xfrm>
                <a:off x="678600" y="6370560"/>
                <a:ext cx="36720" cy="3420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77"/>
              <p:cNvSpPr/>
              <p:nvPr/>
            </p:nvSpPr>
            <p:spPr>
              <a:xfrm>
                <a:off x="693000" y="642564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78"/>
              <p:cNvSpPr/>
              <p:nvPr/>
            </p:nvSpPr>
            <p:spPr>
              <a:xfrm>
                <a:off x="693000" y="642564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79"/>
              <p:cNvSpPr/>
              <p:nvPr/>
            </p:nvSpPr>
            <p:spPr>
              <a:xfrm>
                <a:off x="678600" y="647856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80"/>
              <p:cNvSpPr/>
              <p:nvPr/>
            </p:nvSpPr>
            <p:spPr>
              <a:xfrm>
                <a:off x="678600" y="647856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81"/>
              <p:cNvSpPr/>
              <p:nvPr/>
            </p:nvSpPr>
            <p:spPr>
              <a:xfrm>
                <a:off x="640080" y="6519960"/>
                <a:ext cx="36720" cy="34920"/>
              </a:xfrm>
              <a:prstGeom prst="pie">
                <a:avLst/>
              </a:prstGeom>
              <a:solidFill>
                <a:srgbClr val="fff2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82"/>
              <p:cNvSpPr/>
              <p:nvPr/>
            </p:nvSpPr>
            <p:spPr>
              <a:xfrm>
                <a:off x="640080" y="6519960"/>
                <a:ext cx="36720" cy="349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2" name="" descr=""/>
            <p:cNvPicPr/>
            <p:nvPr/>
          </p:nvPicPr>
          <p:blipFill>
            <a:blip r:embed="rId1"/>
            <a:stretch/>
          </p:blipFill>
          <p:spPr>
            <a:xfrm>
              <a:off x="390600" y="4952880"/>
              <a:ext cx="431640" cy="1150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5T10:53:32Z</dcterms:created>
  <dc:creator>Kathy</dc:creator>
  <dc:description/>
  <dc:language>en-US</dc:language>
  <cp:lastModifiedBy>Otradnova</cp:lastModifiedBy>
  <dcterms:modified xsi:type="dcterms:W3CDTF">2009-11-04T09:54:33Z</dcterms:modified>
  <cp:revision>146</cp:revision>
  <dc:subject>NEW GUIDELINES</dc:subject>
  <dc:title>DG TR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