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76B5-4823-4153-B83E-16EA83C80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E5E4-EB3D-4BAE-9691-2359F9CA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DEFF-39C0-49FA-9079-F6143B6FC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09DF-CA9C-49B2-9548-72CA0A2B1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9B78-CAD4-4F4D-B884-DBC82D19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7FBC-B730-4E9B-A8B7-6167ED8C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4412-506A-414D-B875-72426089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137E-C29B-4ADE-B8F6-326527C6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E85F-223B-4494-A13C-9C092570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543E-FB39-4E61-A170-D04F5D1D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E5FA-3A1E-46C8-9DE4-C9FA24FD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E69F-2230-4237-8325-714459E1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236A-3BAA-4903-8B9B-8D08AB22C2F4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B08D-FE7D-4774-B8BE-CE80C5A5CA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-30000"/>
          </a:blip>
          <a:stretch/>
        </p:blipFill>
        <p:spPr>
          <a:xfrm>
            <a:off x="0" y="-1440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914400" y="4076280"/>
            <a:ext cx="739152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uld Khou SID’AH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conomic Affairs Offi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ransport Division, UNECE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057560" y="457200"/>
            <a:ext cx="1143000" cy="982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10920" y="2060280"/>
            <a:ext cx="78454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5400" spc="-1" strike="noStrike">
                <a:solidFill>
                  <a:srgbClr val="99cc00"/>
                </a:solidFill>
                <a:latin typeface="Arial"/>
              </a:rPr>
              <a:t>2010 E-Rail Census</a:t>
            </a:r>
            <a:br>
              <a:rPr sz="4000"/>
            </a:br>
            <a:r>
              <a:rPr b="1" lang="en-CA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SimSun"/>
              </a:rPr>
              <a:t>Working Party on Rail Transport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SimSun"/>
              </a:rPr>
              <a:t>63rd session,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18 Novem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37920"/>
            <a:ext cx="7772400" cy="46450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HANK YOU!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UNECE Transport Division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Sustainable Transport Section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Working Party on Transport Statistics (WP.6)</a:t>
            </a:r>
            <a:br>
              <a:rPr sz="3600"/>
            </a:br>
            <a:br>
              <a:rPr sz="36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tp://www.unece.org/trans/main/wp6/wp6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26560" y="5229000"/>
            <a:ext cx="7705800" cy="927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Arial"/>
              </a:rPr>
              <a:t>Ould Khou SID’AH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Arial"/>
              </a:rPr>
              <a:t>stat.trans@unece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99cc00"/>
                </a:solidFill>
                <a:latin typeface="Arial"/>
              </a:rPr>
              <a:t>2010 E-RAIL CEN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ffff"/>
                </a:solidFill>
                <a:latin typeface="Arial"/>
              </a:rPr>
              <a:t>Ad Hoc Group of Experts (11 Nov 200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ffff"/>
                </a:solidFill>
                <a:latin typeface="Arial"/>
              </a:rPr>
              <a:t>Resolution + Recommendations adopted by ITC (24-26 Feb 200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adline for acceptation of Resolu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30 September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ffff"/>
                </a:solidFill>
                <a:latin typeface="Arial"/>
              </a:rPr>
              <a:t>Census in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ffff"/>
                </a:solidFill>
                <a:latin typeface="Arial"/>
              </a:rPr>
              <a:t>Data to be provided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efore 30 June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B393-4E6A-4665-B445-48DD6D59B5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800" spc="-1" strike="noStrike">
                <a:solidFill>
                  <a:srgbClr val="99cc00"/>
                </a:solidFill>
                <a:latin typeface="Arial"/>
              </a:rPr>
              <a:t>ITC RESOLU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18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solution No. 259 adopted on 26 February 2009. </a:t>
            </a: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Invites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Governments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o take a census of traffic on the E-rail lines, in accordance with AGC, AG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o supply the results, in conformity with the Recommendations adopted by WP.6/I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Recommends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that Governments take a census of traffic on other non-urban rail lines in their national territory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(same Recommend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55A4-5733-4E4F-A7C7-463A1505D8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99cc00"/>
                </a:solidFill>
                <a:latin typeface="Arial"/>
              </a:rPr>
              <a:t>TO AVOID DU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U member Sta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ail census based on Regulation No. 91/2003 of 16 December 2002 on rail transport statistics (European Parliament and the Counci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eference also made to the Decision by the European Parliament and the Council no. 1692/96/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(development of the trans-European transport networ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P.6 recommended that UNECE secretariat and Eurostat should carry out jointly the      E-Rail Census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1A3D-415F-4612-904A-A513016DC5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Arial"/>
              </a:rPr>
              <a:t>Coverage of the Censu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ines in the European Agreement on Main International Railway Lines (AGC) of 19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ines in the European Agreement on Important International Combined Transport Lines and Related Installations (AGTC) of 1991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For EU countries, lines in the Trans-European rail network (TEN) (Decision 1692/96/EC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E7F9-FF22-48B9-B0D2-F6070382DC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99cc00"/>
                </a:solidFill>
                <a:latin typeface="Arial"/>
              </a:rPr>
              <a:t>DATA TO BE COLLEC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oods train movements per year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Passenger train movements per year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Other train movements (service trains, etc.) per year (OPTION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Technical characteristics of the rail network segment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eographical co-ordinates of the rail network segment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3DAE-D59B-4879-B04D-5B5D2ADBB4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Arial"/>
              </a:rPr>
              <a:t>Technical characteristics of the rail network se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Network segment identifier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ug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ength in k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Number of track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Segments electrifi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Type of current (AC/DC) and voltag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0C6B-F18B-4571-A62F-1112DD4365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99cc00"/>
                </a:solidFill>
                <a:latin typeface="Arial"/>
              </a:rPr>
              <a:t>COLLECTED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ff"/>
                </a:solidFill>
                <a:latin typeface="Arial"/>
              </a:rPr>
              <a:t>Data provided by 25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ff"/>
                </a:solidFill>
                <a:latin typeface="Arial"/>
              </a:rPr>
              <a:t>(in majority EU+Norway, Switzerland, Turke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ff"/>
                </a:solidFill>
                <a:latin typeface="Arial"/>
              </a:rPr>
              <a:t>7 Countries: data not avail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CH" sz="4000" spc="-1" strike="noStrike">
                <a:solidFill>
                  <a:srgbClr val="ffffff"/>
                </a:solidFill>
                <a:latin typeface="Arial"/>
              </a:rPr>
              <a:t>(Armenia, Azerbaijan, Bosnia and Herzegovina, Croatia, Romania, Russia, UK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C300-E983-44FC-9C27-053CC147B5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6984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600200"/>
          <a:ext cx="4036320" cy="4525920"/>
        </p:xfrm>
        <a:graphic>
          <a:graphicData uri="http://schemas.openxmlformats.org/drawingml/2006/table">
            <a:tbl>
              <a:tblPr/>
              <a:tblGrid>
                <a:gridCol w="1120680"/>
                <a:gridCol w="2915640"/>
              </a:tblGrid>
              <a:tr h="4525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0696-C548-47AB-8039-4845F5116B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09:13:58Z</dcterms:created>
  <dc:creator>VTA</dc:creator>
  <dc:description/>
  <dc:language>en-US</dc:language>
  <cp:lastModifiedBy>Otradnova</cp:lastModifiedBy>
  <dcterms:modified xsi:type="dcterms:W3CDTF">2009-11-23T10:36:23Z</dcterms:modified>
  <cp:revision>479</cp:revision>
  <dc:subject/>
  <dc:title>PowerPoint Presentation</dc:title>
</cp:coreProperties>
</file>