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D71-94D4-42CD-BBB1-C5CC4EFF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3E6-CC20-4655-A04A-B341DC65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8C7D-CCCF-4C9F-9AC8-196C2C18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5391-A778-4EB7-9067-368D2240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0C23-6C96-4850-AD07-743AF7E8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AF6B-135F-448B-87D4-B59B40B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7F43-0E54-4313-8123-E9238BB0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F13-7705-4F33-8A7A-E030C93F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128-BFB4-4913-A910-04BA9A1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78C5-6156-4AB0-83F0-7170D28D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1C3F-4B6C-4878-B303-8219239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AA24-E88D-4647-B045-EE9D5DA3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CE92-761A-4C67-B426-C3262A180D37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3CAF-83E9-49E6-9E3C-A07BC641C64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-1440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400" y="4076280"/>
            <a:ext cx="73915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uld Khou SID’AH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conomic Affairs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ransport Division, UNECE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57560" y="45720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10920" y="2060280"/>
            <a:ext cx="78454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5400" spc="-1" strike="noStrike">
                <a:solidFill>
                  <a:srgbClr val="99cc00"/>
                </a:solidFill>
                <a:latin typeface="Arial"/>
              </a:rPr>
              <a:t>2010 E-Rail Census</a:t>
            </a:r>
            <a:br>
              <a:rPr sz="4000"/>
            </a:br>
            <a:r>
              <a:rPr b="1" lang="en-CA" sz="5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SimSun"/>
              </a:rPr>
              <a:t>Working Party on Rail Transport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SimSun"/>
              </a:rPr>
              <a:t>63rd session,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18 Nov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37920"/>
            <a:ext cx="7772400" cy="4645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HANK YOU!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UNECE Transport Division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Sustainable Transport Section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Party on Transport Statistics (WP.6)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www.unece.org/trans/main/wp6/wp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26560" y="5229000"/>
            <a:ext cx="7705800" cy="92700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Ould Khou SID’AH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ffff"/>
                </a:solidFill>
                <a:latin typeface="Arial"/>
              </a:rPr>
              <a:t>stat.trans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2010 E-RAIL CENS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Ad Hoc Group of Experts (11 Nov 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Resolution + Recommendations adopted by ITC (24-26 Feb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adline for acceptation of Resolu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0 Septembe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Census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Arial"/>
              </a:rPr>
              <a:t>Data to be provid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efore 30 June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ECF-9D54-4184-BAA0-42A8353403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800" spc="-1" strike="noStrike">
                <a:solidFill>
                  <a:srgbClr val="99cc00"/>
                </a:solidFill>
                <a:latin typeface="Arial"/>
              </a:rPr>
              <a:t>ITC RESOLU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18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esolution No. 259 adopted on 26 February 2009.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vite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Government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take a census of traffic on the E-rail lines, in accordance with AGC, AG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o supply the results, in conformity with the Recommendations adopted by WP.6/I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Recommends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that Governments take a census of traffic on other non-urban rail lines in their national territor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(same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E3F-D6E1-4D37-81F2-81B66970F9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TO AVOID DU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U member Sta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ail census based on Regulation No. 91/2003 of 16 December 2002 on rail transport statistics (European Parliament and the Counc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ference also made to the Decision by the European Parliament and the Council no. 1692/96/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development of the trans-European transport net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P.6 recommended that UNECE secretariat and Eurostat should carry out jointly the      E-Rail Census.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B91-0CC1-47E7-93CC-940A783A1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Coverage of the Cens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nes in the European Agreement on Main International Railway Lines (AGC) of 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ines in the European Agreement on Important International Combined Transport Lines and Related Installations (AGTC) of 1991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or EU countries, lines in the Trans-European rail network (TEN) (Decision 1692/96/E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FBE3-3377-416A-9FD9-E79194AF68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DATA TO BE COLLEC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oods train movements per ye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Passenger train movements per yea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Other train movements (service trains, etc.) per year (OPTION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echnical characteristics of the rail network segmen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eographical co-ordinates of the rail network segment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C512-E973-4782-96C8-D22F952C1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Arial"/>
              </a:rPr>
              <a:t>Technical characteristics of the rail network seg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etwork segment identifier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ug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ength in k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Number of track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egments electrifi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ype of current (AC/DC) and volt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F842-B4BF-43EE-8490-81A9BBBC29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99cc00"/>
                </a:solidFill>
                <a:latin typeface="Arial"/>
              </a:rPr>
              <a:t>COLLECTE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Data provided by 25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(in majority EU+Norway, Switzerland, Turk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7 Countries: data not avail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CH" sz="4000" spc="-1" strike="noStrike">
                <a:solidFill>
                  <a:srgbClr val="ffffff"/>
                </a:solidFill>
                <a:latin typeface="Arial"/>
              </a:rPr>
              <a:t>(Armenia, Azerbaijan, Bosnia and Herzegovina, Croatia, Romania, Russia, U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7591-CF4F-4780-B66F-2BF02FDB92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69840"/>
            <a:ext cx="82296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4036320" cy="4525920"/>
        </p:xfrm>
        <a:graphic>
          <a:graphicData uri="http://schemas.openxmlformats.org/drawingml/2006/table">
            <a:tbl>
              <a:tblPr/>
              <a:tblGrid>
                <a:gridCol w="1120680"/>
                <a:gridCol w="291564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883-3E19-43EF-BDFD-E9E54A767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3:58Z</dcterms:created>
  <dc:creator>VTA</dc:creator>
  <dc:description/>
  <dc:language>en-US</dc:language>
  <cp:lastModifiedBy>Otradnova</cp:lastModifiedBy>
  <dcterms:modified xsi:type="dcterms:W3CDTF">2009-11-23T10:36:23Z</dcterms:modified>
  <cp:revision>479</cp:revision>
  <dc:subject/>
  <dc:title>PowerPoint Presentation</dc:title>
</cp:coreProperties>
</file>