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17DB-A496-43F4-B24F-12806107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-minut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9F6-2B90-4702-9503-23970EC8F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F526-C8AE-42FA-9484-8B1DBDA2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116-46DC-4F15-9905-476F5E5B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2E7-C015-4CBA-A5D6-8534E22E6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976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40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148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976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40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87440" y="0"/>
            <a:ext cx="775656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976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840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4148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976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840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87440" y="0"/>
            <a:ext cx="775656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97000" cy="1185840"/>
          </a:xfrm>
          <a:prstGeom prst="rect">
            <a:avLst/>
          </a:prstGeom>
          <a:solidFill>
            <a:srgbClr val="73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1599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1599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1599"/>
              </a:spcBef>
              <a:buClr>
                <a:srgbClr val="5a93d8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15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15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41480" y="6017760"/>
            <a:ext cx="70308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5520" y="209520"/>
            <a:ext cx="938160" cy="792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190520"/>
            <a:ext cx="11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93d8"/>
                </a:solidFill>
                <a:latin typeface="Trebuchet MS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6680" y="621180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620388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6240600"/>
            <a:ext cx="76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BF2-3D4F-4409-8CBA-86F358E7A8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9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3480" y="29588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04920" y="5943600"/>
            <a:ext cx="689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676520" cy="141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8680" y="176040"/>
            <a:ext cx="336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13200" y="1330200"/>
            <a:ext cx="2314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pula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www.unece.org/p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46200"/>
            <a:ext cx="6807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CONOMIC COMMISSION FO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5a93d8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5a93d8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5a93d8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nece.org/pau/age/Policy_brief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gp.unece.org/" TargetMode="External"/><Relationship Id="rId2" Type="http://schemas.openxmlformats.org/officeDocument/2006/relationships/hyperlink" Target="http://ggp.unece.org/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9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03480" y="29588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mographic Trends and Mobility Challenges in the UNECE Region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3640" y="4652640"/>
            <a:ext cx="6924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ndres Vik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collaboration wi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ateřina Joklová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106720" y="5589720"/>
            <a:ext cx="689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87440" y="333360"/>
            <a:ext cx="77565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GGS Dat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58920" y="1268280"/>
          <a:ext cx="7345440" cy="5472360"/>
        </p:xfrm>
        <a:graphic>
          <a:graphicData uri="http://schemas.openxmlformats.org/drawingml/2006/table">
            <a:tbl>
              <a:tblPr/>
              <a:tblGrid>
                <a:gridCol w="1700280"/>
                <a:gridCol w="1127160"/>
                <a:gridCol w="1131840"/>
                <a:gridCol w="1128600"/>
                <a:gridCol w="1127160"/>
                <a:gridCol w="113040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distance to parents longer than one hour, percent of respon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3a2ff"/>
                          </a:solidFill>
                          <a:latin typeface="Calibri"/>
                        </a:rPr>
                        <a:t>To fa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3a2ff"/>
                          </a:solidFill>
                          <a:latin typeface="Calibri"/>
                        </a:rPr>
                        <a:t>To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Generations and Gender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2349360"/>
            <a:ext cx="4105440" cy="71928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lder persons 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357720"/>
            <a:ext cx="4105440" cy="71892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ancing health and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o old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4105440" cy="71892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suring enabling and suppor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716280"/>
            <a:ext cx="280836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3: Improved availability of accessible and affordable transportation for older pers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Madrid International Plan of Action on Ageing (MIPAA, 2002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557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557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ority directions for policy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300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nd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onal Implementation Strategy (RIS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6000" y="15494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 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Protec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our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fe-Lo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of Life, Health and Well-Be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generational Solid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1557360"/>
            <a:ext cx="3878280" cy="1389960"/>
          </a:xfrm>
          <a:prstGeom prst="wedgeRoundRectCallout">
            <a:avLst>
              <a:gd name="adj1" fmla="val -92115"/>
              <a:gd name="adj2" fmla="val 15768"/>
              <a:gd name="adj3" fmla="val 16667"/>
            </a:avLst>
          </a:prstGeom>
          <a:solidFill>
            <a:srgbClr val="73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NECE Policy Brief on Ageing No. 4: Integration and Participation of Older Persons i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www.unece.org/pau/age/Policy_bri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838080"/>
            <a:ext cx="5486400" cy="914400"/>
          </a:xfrm>
          <a:prstGeom prst="ellipse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Commitmen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Integr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628640"/>
            <a:ext cx="8229600" cy="1676520"/>
            <a:chOff x="539640" y="1628640"/>
            <a:chExt cx="8229600" cy="1676520"/>
          </a:xfrm>
        </p:grpSpPr>
        <p:grpSp>
          <p:nvGrpSpPr>
            <p:cNvPr id="140" name=""/>
            <p:cNvGrpSpPr/>
            <p:nvPr/>
          </p:nvGrpSpPr>
          <p:grpSpPr>
            <a:xfrm>
              <a:off x="539640" y="1628640"/>
              <a:ext cx="8229600" cy="1676520"/>
              <a:chOff x="539640" y="1628640"/>
              <a:chExt cx="8229600" cy="1676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539640" y="2466720"/>
                <a:ext cx="8229600" cy="838440"/>
                <a:chOff x="539640" y="2466720"/>
                <a:chExt cx="8229600" cy="838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3964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Functional </a:t>
                  </a:r>
                  <a:br>
                    <a:rPr sz="1700"/>
                  </a:b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tegration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5880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frastructure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25464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tergenerational</a:t>
                  </a: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relationships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flipV="1">
                <a:off x="1911240" y="162864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30400" y="1780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178320" y="170496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564000" y="3610080"/>
            <a:ext cx="19047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essibility and affordability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641760"/>
            <a:ext cx="2286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ocial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olitical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Economic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367200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edia coverage, campa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untry Reports on Implementation of the RI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Afford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or discounted fares (at least 14 members: AZE, BGR, CZE, CYP, DNK, ESP, FRA, GBR, ISR, ITA, NLD, ROM, RUS, UZ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Accessi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 of physical accessibility of vehicles: at least 5 countries launched plans including better accessibility to improved-access trains (CZE, ESP, EST, NLD, SW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therlands: In 2030, 90% of passengers shall live within a 15-km radius of accessible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Legislation on acces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ember states tackle transportation and accessibility in their national non-discrimination laws (ESP National Law for Equal Opportunities, Non-Discrimination and Universal Accessibility, ITA Law on the Accessibility of Buildings, Public Transport and Serv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ropean Legal Framework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ons of EU members are co-shaped by EC legisl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Regulation 1371/2007 on rail passengers’ rights and obligations (set of basic rights as of 3 December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discriminatory ticket 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to information about accessibility of rail services and access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 boarding/disembarking assist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assistance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Public procurement directives 2004/17/EC and 2004/18/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specifications should be defined so as to take into account accessibility criteria for people with dis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Commission’s decision 2008/164 concerning the technical specification of interoperability relating to “persons with reduced mobility” in the trans-European conventional and high-speed rai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ed definition of “persons with reduced mobility” including older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ail Systems and Ageing Societi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ependent mobility of older persons is one of conditions of active ageing and participation of older persons in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3a2ff"/>
                </a:solidFill>
                <a:latin typeface="Calibri"/>
              </a:rPr>
              <a:t>Advantages of rail tran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-access trains provide for more comfort than buses or pl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velling on train is less stress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ximity of railway stations to city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3a2ff"/>
                </a:solidFill>
                <a:latin typeface="Calibri"/>
              </a:rPr>
              <a:t>Older persons face following proble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information about stations and tr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 access at railway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iculties on boarding/disemba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assistance on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transport connections from the railway stations to their h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llenges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4544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essential to accompany improvements in technical standards by better access to information and assistance to older peop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denc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cludes information and assistance before and during the jour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357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97960" y="2617920"/>
            <a:ext cx="66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a93d8"/>
                </a:solidFill>
                <a:latin typeface="Times New Roman"/>
              </a:rPr>
              <a:t>Thank you for your atten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eing, projected trends and variation between sub-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in family structures and proximity of close rel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ort and 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internationally agreed policy objectives related to ag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country reports on ag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ment of rail systems and challenges of ageing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ge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pulation ageing is the result of the interplay of longer lives and fertility decline. It is part of demographic transition from a regime of high mortality and high fertility to one with low mortality and low fertility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 of a population “pyramid”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ermany 2008 and 206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432080"/>
            <a:ext cx="80280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0512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dian Ag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63600" y="6157800"/>
            <a:ext cx="400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ld-Age Dependency Ratio by Reg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Older People Living with their Children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549440"/>
            <a:ext cx="777708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Gerade Verbindung mit Pfeil 20"/>
          <p:cNvCxnSpPr/>
          <p:nvPr/>
        </p:nvCxnSpPr>
        <p:spPr>
          <a:xfrm>
            <a:off x="5032440" y="1738440"/>
            <a:ext cx="808560" cy="100224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s in Family Structures and Proximity of Close Relativ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55280" y="206064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234000" rIns="234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3a2ff"/>
                </a:solidFill>
                <a:latin typeface="Calibri"/>
              </a:rPr>
              <a:t>Generations and Gender Program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-285840">
              <a:lnSpc>
                <a:spcPct val="90000"/>
              </a:lnSpc>
              <a:spcBef>
                <a:spcPts val="601"/>
              </a:spcBef>
              <a:buClr>
                <a:srgbClr val="5a93d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ed to improve understanding of demographic and social development in the UNECE region and of the factors that influence such develop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ggp.une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-285840">
              <a:lnSpc>
                <a:spcPct val="90000"/>
              </a:lnSpc>
              <a:spcBef>
                <a:spcPts val="601"/>
              </a:spcBef>
              <a:buClr>
                <a:srgbClr val="5a93d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s and Gender Surveys carried out in 16 countries. Analysis on proximity based on data from five: BGR, DEU, FRA, GEO, 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093080" y="5087880"/>
            <a:ext cx="205092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GGS Data: Travel Distance to Parent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2116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hour travel distance bench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for distance to mother and father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587700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GGS data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94040"/>
          <a:ext cx="5087880" cy="381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94040"/>
                    <a:ext cx="50878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59:22Z</dcterms:created>
  <dc:creator>Andres Vikat</dc:creator>
  <dc:description/>
  <dc:language>en-US</dc:language>
  <cp:lastModifiedBy>Marilley</cp:lastModifiedBy>
  <cp:lastPrinted>2009-11-18T15:11:03Z</cp:lastPrinted>
  <dcterms:modified xsi:type="dcterms:W3CDTF">2009-11-18T15:11:35Z</dcterms:modified>
  <cp:revision>109</cp:revision>
  <dc:subject/>
  <dc:title>International Cooperation in Addressing Demographic Challenges</dc:title>
</cp:coreProperties>
</file>