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7932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480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3"/>
          </p:nvPr>
        </p:nvSpPr>
        <p:spPr>
          <a:xfrm>
            <a:off x="3849480" y="-360"/>
            <a:ext cx="294300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918720" y="742680"/>
            <a:ext cx="4956120" cy="371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1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4"/>
          </p:nvPr>
        </p:nvSpPr>
        <p:spPr>
          <a:xfrm>
            <a:off x="0" y="9410400"/>
            <a:ext cx="294480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5"/>
          </p:nvPr>
        </p:nvSpPr>
        <p:spPr>
          <a:xfrm>
            <a:off x="3849480" y="9410400"/>
            <a:ext cx="294300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0D38E-051E-4388-B549-F490D5CA80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919080" y="743040"/>
            <a:ext cx="4956120" cy="371628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-8-minute present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3849480" y="9410400"/>
            <a:ext cx="294300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63FF6-054E-4CEB-AF8C-D67F909B03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0" y="9410400"/>
            <a:ext cx="294480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0" y="-360"/>
            <a:ext cx="294480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849480" y="-360"/>
            <a:ext cx="294300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06480" y="4704840"/>
            <a:ext cx="498168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3849480" y="9410400"/>
            <a:ext cx="294300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4F793-06DD-4D3F-8D38-F8BB4F623C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0" y="9410400"/>
            <a:ext cx="294480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0" y="-360"/>
            <a:ext cx="294480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849480" y="-360"/>
            <a:ext cx="294300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4320" cy="371628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06480" y="4704840"/>
            <a:ext cx="498168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3849480" y="9410400"/>
            <a:ext cx="294300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C160E-9304-451B-86CC-A80BA6AA85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0" y="9410400"/>
            <a:ext cx="294480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0" y="-360"/>
            <a:ext cx="294480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849480" y="-360"/>
            <a:ext cx="294300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Rectangle 7"/>
          <p:cNvSpPr/>
          <p:nvPr/>
        </p:nvSpPr>
        <p:spPr>
          <a:xfrm>
            <a:off x="3849840" y="94107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749F2-BFE7-4F62-BE55-A82B51B048B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06480" y="4704840"/>
            <a:ext cx="498168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87440" y="0"/>
            <a:ext cx="775656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41480" y="1549440"/>
            <a:ext cx="7743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41480" y="3699000"/>
            <a:ext cx="7743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87440" y="0"/>
            <a:ext cx="775656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41480" y="1549440"/>
            <a:ext cx="3778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09400" y="1549440"/>
            <a:ext cx="3778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41480" y="3699000"/>
            <a:ext cx="3778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009400" y="3699000"/>
            <a:ext cx="3778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87440" y="0"/>
            <a:ext cx="775656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41480" y="1549440"/>
            <a:ext cx="2493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59760" y="1549440"/>
            <a:ext cx="2493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78400" y="1549440"/>
            <a:ext cx="2493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41480" y="3699000"/>
            <a:ext cx="2493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59760" y="3699000"/>
            <a:ext cx="2493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78400" y="3699000"/>
            <a:ext cx="2493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87440" y="0"/>
            <a:ext cx="775656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041480" y="1549440"/>
            <a:ext cx="7743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87440" y="0"/>
            <a:ext cx="775656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41480" y="1549440"/>
            <a:ext cx="7743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87440" y="0"/>
            <a:ext cx="775656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41480" y="1549440"/>
            <a:ext cx="3778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09400" y="1549440"/>
            <a:ext cx="3778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87440" y="0"/>
            <a:ext cx="775656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387440" y="0"/>
            <a:ext cx="7756560" cy="70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87440" y="0"/>
            <a:ext cx="775656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41480" y="1549440"/>
            <a:ext cx="3778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09400" y="1549440"/>
            <a:ext cx="3778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041480" y="3699000"/>
            <a:ext cx="3778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87440" y="0"/>
            <a:ext cx="775656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41480" y="1549440"/>
            <a:ext cx="7743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387440" y="0"/>
            <a:ext cx="775656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41480" y="1549440"/>
            <a:ext cx="3778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09400" y="1549440"/>
            <a:ext cx="3778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009400" y="3699000"/>
            <a:ext cx="3778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87440" y="0"/>
            <a:ext cx="775656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41480" y="1549440"/>
            <a:ext cx="3778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09400" y="1549440"/>
            <a:ext cx="3778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41480" y="3699000"/>
            <a:ext cx="7743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87440" y="0"/>
            <a:ext cx="775656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41480" y="1549440"/>
            <a:ext cx="7743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041480" y="3699000"/>
            <a:ext cx="7743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87440" y="0"/>
            <a:ext cx="775656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41480" y="1549440"/>
            <a:ext cx="3778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009400" y="1549440"/>
            <a:ext cx="3778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041480" y="3699000"/>
            <a:ext cx="3778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09400" y="3699000"/>
            <a:ext cx="3778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387440" y="0"/>
            <a:ext cx="775656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41480" y="1549440"/>
            <a:ext cx="2493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659760" y="1549440"/>
            <a:ext cx="2493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278400" y="1549440"/>
            <a:ext cx="2493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041480" y="3699000"/>
            <a:ext cx="2493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659760" y="3699000"/>
            <a:ext cx="2493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278400" y="3699000"/>
            <a:ext cx="2493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87440" y="0"/>
            <a:ext cx="775656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41480" y="1549440"/>
            <a:ext cx="7743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87440" y="0"/>
            <a:ext cx="775656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41480" y="1549440"/>
            <a:ext cx="3778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09400" y="1549440"/>
            <a:ext cx="3778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87440" y="0"/>
            <a:ext cx="775656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87440" y="0"/>
            <a:ext cx="7756560" cy="70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87440" y="0"/>
            <a:ext cx="775656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41480" y="1549440"/>
            <a:ext cx="3778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09400" y="1549440"/>
            <a:ext cx="3778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41480" y="3699000"/>
            <a:ext cx="3778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87440" y="0"/>
            <a:ext cx="775656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41480" y="1549440"/>
            <a:ext cx="3778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09400" y="1549440"/>
            <a:ext cx="3778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09400" y="3699000"/>
            <a:ext cx="3778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87440" y="0"/>
            <a:ext cx="775656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41480" y="1549440"/>
            <a:ext cx="3778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09400" y="1549440"/>
            <a:ext cx="3778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41480" y="3699000"/>
            <a:ext cx="7743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197000" cy="1185840"/>
          </a:xfrm>
          <a:prstGeom prst="rect">
            <a:avLst/>
          </a:prstGeom>
          <a:solidFill>
            <a:srgbClr val="73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387440" y="0"/>
            <a:ext cx="775656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041480" y="1549440"/>
            <a:ext cx="7743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1599"/>
              </a:spcBef>
              <a:buClr>
                <a:srgbClr val="5a93d8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39000" indent="-245520">
              <a:spcBef>
                <a:spcPts val="1599"/>
              </a:spcBef>
              <a:buClr>
                <a:srgbClr val="5a93d8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82800" indent="-196560">
              <a:spcBef>
                <a:spcPts val="1599"/>
              </a:spcBef>
              <a:buClr>
                <a:srgbClr val="5a93d8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5920" indent="-196560">
              <a:spcBef>
                <a:spcPts val="1599"/>
              </a:spcBef>
              <a:buClr>
                <a:srgbClr val="5a93d8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769040" indent="-196560">
              <a:spcBef>
                <a:spcPts val="1599"/>
              </a:spcBef>
              <a:buClr>
                <a:srgbClr val="5a93d8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769040" indent="-196560">
              <a:spcBef>
                <a:spcPts val="15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769040" indent="-196560">
              <a:spcBef>
                <a:spcPts val="15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041480" y="6017760"/>
            <a:ext cx="7030800" cy="5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55520" y="209520"/>
            <a:ext cx="938160" cy="79236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0" y="1190520"/>
            <a:ext cx="117468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2a7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a93d8"/>
                </a:solidFill>
                <a:latin typeface="Trebuchet MS"/>
              </a:rPr>
              <a:t>UNE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1336680" y="6211800"/>
            <a:ext cx="706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8136000" y="6203880"/>
            <a:ext cx="706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8131320" y="6240600"/>
            <a:ext cx="7650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1DBD0-B45F-41B4-9218-1650EE1FE47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93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103480" y="2958840"/>
            <a:ext cx="6904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2"/>
          </p:nvPr>
        </p:nvSpPr>
        <p:spPr>
          <a:xfrm>
            <a:off x="2104920" y="5943600"/>
            <a:ext cx="6894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Calibr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228600" y="380880"/>
            <a:ext cx="1676520" cy="14162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128680" y="176040"/>
            <a:ext cx="33656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2a7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UNITED N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13200" y="1330200"/>
            <a:ext cx="2314440" cy="70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2a7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Population 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ffffff"/>
                </a:solidFill>
                <a:latin typeface="Calibri"/>
              </a:rPr>
              <a:t>www.unece.org/pa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646200"/>
            <a:ext cx="680724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2a7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ECONOMIC COMMISSION FOR EUR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 algn="ctr">
              <a:spcBef>
                <a:spcPts val="601"/>
              </a:spcBef>
              <a:buClr>
                <a:srgbClr val="5a93d8"/>
              </a:buClr>
              <a:buFont typeface="Calibri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371600" algn="ctr">
              <a:spcBef>
                <a:spcPts val="499"/>
              </a:spcBef>
              <a:buClr>
                <a:srgbClr val="5a93d8"/>
              </a:buClr>
              <a:buFont typeface="Calibri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1828800" algn="ctr">
              <a:spcBef>
                <a:spcPts val="451"/>
              </a:spcBef>
              <a:buClr>
                <a:srgbClr val="5a93d8"/>
              </a:buClr>
              <a:buFont typeface="Calibri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unece.org/pau/age/Policy_briefs" TargetMode="External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ggp.unece.org/" TargetMode="External"/><Relationship Id="rId2" Type="http://schemas.openxmlformats.org/officeDocument/2006/relationships/hyperlink" Target="http://ggp.unece.org/" TargetMode="External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93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103480" y="2958840"/>
            <a:ext cx="6904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alibri"/>
              </a:rPr>
              <a:t>Demographic Trends and Mobility Challenges in the UNECE Region</a:t>
            </a:r>
            <a:endParaRPr b="1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123640" y="4652640"/>
            <a:ext cx="69246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alibri"/>
              </a:rPr>
              <a:t>Andres Vika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in collaboration with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Calibri"/>
              </a:rPr>
              <a:t>Kateřina Joklová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" name=""/>
          <p:cNvSpPr/>
          <p:nvPr/>
        </p:nvSpPr>
        <p:spPr>
          <a:xfrm>
            <a:off x="2106720" y="5589720"/>
            <a:ext cx="68911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87440" y="333360"/>
            <a:ext cx="7756560" cy="11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600" spc="-1" strike="noStrike">
                <a:solidFill>
                  <a:srgbClr val="000000"/>
                </a:solidFill>
                <a:latin typeface="Calibri"/>
              </a:rPr>
              <a:t>GGS Data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258920" y="1268280"/>
          <a:ext cx="7345440" cy="5472360"/>
        </p:xfrm>
        <a:graphic>
          <a:graphicData uri="http://schemas.openxmlformats.org/drawingml/2006/table">
            <a:tbl>
              <a:tblPr/>
              <a:tblGrid>
                <a:gridCol w="1700280"/>
                <a:gridCol w="1127160"/>
                <a:gridCol w="1131840"/>
                <a:gridCol w="1128600"/>
                <a:gridCol w="1127160"/>
                <a:gridCol w="1130400"/>
              </a:tblGrid>
              <a:tr h="36828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avel distance to parents longer than one hour, percent of respond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73a2ff"/>
                          </a:solidFill>
                          <a:latin typeface="Calibri"/>
                        </a:rPr>
                        <a:t>To father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ge gro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G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-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-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-4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-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-6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73a2ff"/>
                          </a:solidFill>
                          <a:latin typeface="Calibri"/>
                        </a:rPr>
                        <a:t>To moth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-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-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-4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-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-6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644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urce: Generations and Gender Surve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6920" y="2349360"/>
            <a:ext cx="4105440" cy="719280"/>
          </a:xfrm>
          <a:prstGeom prst="rect">
            <a:avLst/>
          </a:prstGeom>
          <a:solidFill>
            <a:srgbClr val="73a2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Older persons and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826920" y="3357720"/>
            <a:ext cx="4105440" cy="718920"/>
          </a:xfrm>
          <a:prstGeom prst="rect">
            <a:avLst/>
          </a:prstGeom>
          <a:solidFill>
            <a:srgbClr val="73a2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dvancing health and well-be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into old 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826920" y="4292640"/>
            <a:ext cx="4105440" cy="718920"/>
          </a:xfrm>
          <a:prstGeom prst="rect">
            <a:avLst/>
          </a:prstGeom>
          <a:solidFill>
            <a:srgbClr val="73a2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Ensuring enabling and suppor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environ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219640" y="43657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73a2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156360" y="3716280"/>
            <a:ext cx="2808360" cy="295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bjective 3: Improved availability of accessible and affordable transportation for older person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87440" y="0"/>
            <a:ext cx="775656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200" spc="-1" strike="noStrike">
                <a:solidFill>
                  <a:srgbClr val="000000"/>
                </a:solidFill>
                <a:latin typeface="Calibri"/>
              </a:rPr>
              <a:t>Madrid International Plan of Action on Ageing (MIPAA, 2002)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/>
          <p:nvPr/>
        </p:nvSpPr>
        <p:spPr>
          <a:xfrm>
            <a:off x="1476360" y="1557360"/>
            <a:ext cx="5111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547640" y="1557360"/>
            <a:ext cx="590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riority directions for policy a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26920" y="5300640"/>
            <a:ext cx="40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mplementation and follow-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87440" y="0"/>
            <a:ext cx="775656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Regional Implementation Strategy (RIS)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76000" y="1549440"/>
            <a:ext cx="460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10 Commitm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001"/>
              </a:spcBef>
              <a:buClr>
                <a:srgbClr val="5a93d8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ainstream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001"/>
              </a:spcBef>
              <a:buClr>
                <a:srgbClr val="5a93d8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a2ff"/>
                </a:solidFill>
                <a:latin typeface="Calibri"/>
              </a:rPr>
              <a:t>Particip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001"/>
              </a:spcBef>
              <a:buClr>
                <a:srgbClr val="5a93d8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conomic Growt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001"/>
              </a:spcBef>
              <a:buClr>
                <a:srgbClr val="5a93d8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ocial Protection System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001"/>
              </a:spcBef>
              <a:buClr>
                <a:srgbClr val="5a93d8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abour Marke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001"/>
              </a:spcBef>
              <a:buClr>
                <a:srgbClr val="5a93d8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ife-Long Learn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001"/>
              </a:spcBef>
              <a:buClr>
                <a:srgbClr val="5a93d8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Quality of Life, Health and Well-Be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001"/>
              </a:spcBef>
              <a:buClr>
                <a:srgbClr val="5a93d8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end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001"/>
              </a:spcBef>
              <a:buClr>
                <a:srgbClr val="5a93d8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tergenerational Solidari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001"/>
              </a:spcBef>
              <a:buClr>
                <a:srgbClr val="5a93d8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gional Cooper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808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/>
          <p:nvPr/>
        </p:nvSpPr>
        <p:spPr>
          <a:xfrm>
            <a:off x="4932360" y="1557360"/>
            <a:ext cx="3878280" cy="1389960"/>
          </a:xfrm>
          <a:prstGeom prst="wedgeRoundRectCallout">
            <a:avLst>
              <a:gd name="adj1" fmla="val -92115"/>
              <a:gd name="adj2" fmla="val 15768"/>
              <a:gd name="adj3" fmla="val 16667"/>
            </a:avLst>
          </a:prstGeom>
          <a:solidFill>
            <a:srgbClr val="73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UNECE Policy Brief on Ageing No. 4: Integration and Participation of Older Persons in Socie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0066ff"/>
                </a:solidFill>
                <a:uFillTx/>
                <a:latin typeface="Calibri"/>
                <a:hlinkClick r:id="rId1"/>
              </a:rPr>
              <a:t>www.unece.org/pau/age/Policy_brie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2209680" y="838080"/>
            <a:ext cx="5486400" cy="914400"/>
          </a:xfrm>
          <a:prstGeom prst="ellipse">
            <a:avLst/>
          </a:prstGeom>
          <a:solidFill>
            <a:srgbClr val="73a2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ffffff"/>
                </a:solidFill>
                <a:latin typeface="Arial"/>
              </a:rPr>
              <a:t>Commitment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1700" spc="-1" strike="noStrike">
                <a:solidFill>
                  <a:srgbClr val="ffffff"/>
                </a:solidFill>
                <a:latin typeface="Arial"/>
              </a:rPr>
              <a:t>II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ffffff"/>
                </a:solidFill>
                <a:latin typeface="Arial"/>
              </a:rPr>
              <a:t>Integration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&amp;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1700" spc="-1" strike="noStrike">
                <a:solidFill>
                  <a:srgbClr val="ffffff"/>
                </a:solidFill>
                <a:latin typeface="Arial"/>
              </a:rPr>
              <a:t>Participatio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539640" y="1628640"/>
            <a:ext cx="8229600" cy="1676520"/>
            <a:chOff x="539640" y="1628640"/>
            <a:chExt cx="8229600" cy="1676520"/>
          </a:xfrm>
        </p:grpSpPr>
        <p:grpSp>
          <p:nvGrpSpPr>
            <p:cNvPr id="140" name=""/>
            <p:cNvGrpSpPr/>
            <p:nvPr/>
          </p:nvGrpSpPr>
          <p:grpSpPr>
            <a:xfrm>
              <a:off x="539640" y="1628640"/>
              <a:ext cx="8229600" cy="1676520"/>
              <a:chOff x="539640" y="1628640"/>
              <a:chExt cx="8229600" cy="1676520"/>
            </a:xfrm>
          </p:grpSpPr>
          <p:grpSp>
            <p:nvGrpSpPr>
              <p:cNvPr id="141" name=""/>
              <p:cNvGrpSpPr/>
              <p:nvPr/>
            </p:nvGrpSpPr>
            <p:grpSpPr>
              <a:xfrm>
                <a:off x="539640" y="2466720"/>
                <a:ext cx="8229600" cy="838440"/>
                <a:chOff x="539640" y="2466720"/>
                <a:chExt cx="8229600" cy="838440"/>
              </a:xfrm>
            </p:grpSpPr>
            <p:sp>
              <p:nvSpPr>
                <p:cNvPr id="142" name=""/>
                <p:cNvSpPr/>
                <p:nvPr/>
              </p:nvSpPr>
              <p:spPr>
                <a:xfrm>
                  <a:off x="539640" y="2466720"/>
                  <a:ext cx="2514600" cy="838440"/>
                </a:xfrm>
                <a:prstGeom prst="ellipse">
                  <a:avLst/>
                </a:prstGeom>
                <a:solidFill>
                  <a:srgbClr val="73a2ff"/>
                </a:solidFill>
                <a:ln w="9360">
                  <a:solidFill>
                    <a:srgbClr val="000000"/>
                  </a:solidFill>
                  <a:miter/>
                </a:ln>
                <a:effectLst>
                  <a:outerShdw dist="107932" dir="189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45720" rIns="45720" tIns="46800" bIns="46800" anchor="ctr">
                  <a:noAutofit/>
                </a:bodyPr>
                <a:p>
                  <a:pPr algn="ctr">
                    <a:spcBef>
                      <a:spcPts val="638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700" spc="-1" strike="noStrike">
                      <a:solidFill>
                        <a:srgbClr val="ffffff"/>
                      </a:solidFill>
                      <a:latin typeface="Arial"/>
                    </a:rPr>
                    <a:t>Functional </a:t>
                  </a:r>
                  <a:br>
                    <a:rPr sz="1700"/>
                  </a:br>
                  <a:r>
                    <a:rPr b="1" lang="en-GB" sz="1700" spc="-1" strike="noStrike">
                      <a:solidFill>
                        <a:srgbClr val="ffffff"/>
                      </a:solidFill>
                      <a:latin typeface="Arial"/>
                    </a:rPr>
                    <a:t>integration</a:t>
                  </a:r>
                  <a:endParaRPr b="0" lang="en-US" sz="1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3358800" y="2466720"/>
                  <a:ext cx="2514600" cy="838440"/>
                </a:xfrm>
                <a:prstGeom prst="ellipse">
                  <a:avLst/>
                </a:prstGeom>
                <a:solidFill>
                  <a:srgbClr val="73a2ff"/>
                </a:solidFill>
                <a:ln w="9360">
                  <a:solidFill>
                    <a:srgbClr val="000000"/>
                  </a:solidFill>
                  <a:miter/>
                </a:ln>
                <a:effectLst>
                  <a:outerShdw dist="107932" dir="189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45720" rIns="45720" tIns="46800" bIns="46800" anchor="ctr">
                  <a:noAutofit/>
                </a:bodyPr>
                <a:p>
                  <a:pPr algn="ctr">
                    <a:spcBef>
                      <a:spcPts val="638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700" spc="-1" strike="noStrike">
                      <a:solidFill>
                        <a:srgbClr val="ffffff"/>
                      </a:solidFill>
                      <a:latin typeface="Arial"/>
                    </a:rPr>
                    <a:t>Infrastructure</a:t>
                  </a:r>
                  <a:endParaRPr b="0" lang="en-US" sz="1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6254640" y="2466720"/>
                  <a:ext cx="2514600" cy="838440"/>
                </a:xfrm>
                <a:prstGeom prst="ellipse">
                  <a:avLst/>
                </a:prstGeom>
                <a:solidFill>
                  <a:srgbClr val="73a2ff"/>
                </a:solidFill>
                <a:ln w="9360">
                  <a:solidFill>
                    <a:srgbClr val="000000"/>
                  </a:solidFill>
                  <a:miter/>
                </a:ln>
                <a:effectLst>
                  <a:outerShdw dist="107932" dir="189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45720" rIns="45720" tIns="46800" bIns="46800" anchor="ctr">
                  <a:noAutofit/>
                </a:bodyPr>
                <a:p>
                  <a:pPr algn="ctr">
                    <a:spcBef>
                      <a:spcPts val="638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700" spc="-1" strike="noStrike">
                      <a:solidFill>
                        <a:srgbClr val="ffffff"/>
                      </a:solidFill>
                      <a:latin typeface="Arial"/>
                    </a:rPr>
                    <a:t>Intergenerational</a:t>
                  </a:r>
                  <a:r>
                    <a:rPr b="1" lang="en-GB" sz="1700" spc="-1" strike="noStrike">
                      <a:solidFill>
                        <a:srgbClr val="ffffff"/>
                      </a:solidFill>
                      <a:latin typeface="Arial"/>
                    </a:rPr>
                    <a:t> </a:t>
                  </a:r>
                  <a:endParaRPr b="0" lang="en-US" sz="1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spcBef>
                      <a:spcPts val="638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700" spc="-1" strike="noStrike">
                      <a:solidFill>
                        <a:srgbClr val="ffffff"/>
                      </a:solidFill>
                      <a:latin typeface="Arial"/>
                    </a:rPr>
                    <a:t>relationships</a:t>
                  </a:r>
                  <a:endParaRPr b="0" lang="en-US" sz="1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5" name=""/>
              <p:cNvSpPr/>
              <p:nvPr/>
            </p:nvSpPr>
            <p:spPr>
              <a:xfrm flipV="1">
                <a:off x="1911240" y="1628640"/>
                <a:ext cx="1066680" cy="838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4730400" y="1780920"/>
                <a:ext cx="0" cy="685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7" name=""/>
            <p:cNvSpPr/>
            <p:nvPr/>
          </p:nvSpPr>
          <p:spPr>
            <a:xfrm>
              <a:off x="6178320" y="1704960"/>
              <a:ext cx="114300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3564000" y="3610080"/>
            <a:ext cx="1904760" cy="16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Accessibility and affordability of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001"/>
              </a:spcBef>
              <a:buClr>
                <a:srgbClr val="73a2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Hous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001"/>
              </a:spcBef>
              <a:buClr>
                <a:srgbClr val="73a2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Trans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001"/>
              </a:spcBef>
              <a:buClr>
                <a:srgbClr val="73a2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Cul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09480" y="3641760"/>
            <a:ext cx="2286000" cy="13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73a2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Social Particip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73a2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Political Particip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73a2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Economic particip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705720" y="3672000"/>
            <a:ext cx="190476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73a2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Media coverage, campaig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73a2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Voluntee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87440" y="0"/>
            <a:ext cx="775656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Country Reports on Implementation of the RIS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041480" y="1549440"/>
            <a:ext cx="7743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3a2ff"/>
                </a:solidFill>
                <a:latin typeface="Calibri"/>
              </a:rPr>
              <a:t>Affordabil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5a93d8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ree or discounted fares (at least 14 members: AZE, BGR, CZE, CYP, DNK, ESP, FRA, GBR, ISR, ITA, NLD, ROM, RUS, UZB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3a2ff"/>
                </a:solidFill>
                <a:latin typeface="Calibri"/>
              </a:rPr>
              <a:t>Accessibility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5a93d8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rovement of physical accessibility of vehicles: at least 5 countries launched plans including better accessibility to improved-access trains (CZE, ESP, EST, NLD, SWE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5a93d8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Netherlands: In 2030, 90% of passengers shall live within a 15-km radius of accessible st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3a2ff"/>
                </a:solidFill>
                <a:latin typeface="Calibri"/>
              </a:rPr>
              <a:t>Legislation on accessibil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5a93d8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ome member states tackle transportation and accessibility in their national non-discrimination laws (ESP National Law for Equal Opportunities, Non-Discrimination and Universal Accessibility, ITA Law on the Accessibility of Buildings, Public Transport and Service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87440" y="0"/>
            <a:ext cx="775656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European Legal Framework 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041480" y="1549440"/>
            <a:ext cx="774360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ctions of EU members are co-shaped by EC legislation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a2ff"/>
                </a:solidFill>
                <a:latin typeface="Calibri"/>
              </a:rPr>
              <a:t>Regulation 1371/2007 on rail passengers’ rights and obligations (set of basic rights as of 3 December 2009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20680">
              <a:lnSpc>
                <a:spcPct val="80000"/>
              </a:lnSpc>
              <a:spcBef>
                <a:spcPts val="451"/>
              </a:spcBef>
              <a:buClr>
                <a:srgbClr val="5a93d8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n-discriminatory ticket sale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20680">
              <a:lnSpc>
                <a:spcPct val="80000"/>
              </a:lnSpc>
              <a:spcBef>
                <a:spcPts val="451"/>
              </a:spcBef>
              <a:buClr>
                <a:srgbClr val="5a93d8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ight to information about accessibility of rail services and access condi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20680">
              <a:lnSpc>
                <a:spcPct val="80000"/>
              </a:lnSpc>
              <a:spcBef>
                <a:spcPts val="451"/>
              </a:spcBef>
              <a:buClr>
                <a:srgbClr val="5a93d8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ree  boarding/disembarking assistanc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20680">
              <a:lnSpc>
                <a:spcPct val="80000"/>
              </a:lnSpc>
              <a:spcBef>
                <a:spcPts val="451"/>
              </a:spcBef>
              <a:buClr>
                <a:srgbClr val="5a93d8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ree assistance on boar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a2ff"/>
                </a:solidFill>
                <a:latin typeface="Calibri"/>
              </a:rPr>
              <a:t>Public procurement directives 2004/17/EC and 2004/18/E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20680">
              <a:lnSpc>
                <a:spcPct val="80000"/>
              </a:lnSpc>
              <a:spcBef>
                <a:spcPts val="451"/>
              </a:spcBef>
              <a:buClr>
                <a:srgbClr val="5a93d8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chnical specifications should be defined so as to take into account accessibility criteria for people with disabilit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3a2ff"/>
                </a:solidFill>
                <a:latin typeface="Calibri"/>
              </a:rPr>
              <a:t>Commission’s decision 2008/164 concerning the technical specification of interoperability relating to “persons with reduced mobility” in the trans-European conventional and high-speed rail system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20680">
              <a:lnSpc>
                <a:spcPct val="80000"/>
              </a:lnSpc>
              <a:spcBef>
                <a:spcPts val="451"/>
              </a:spcBef>
              <a:buClr>
                <a:srgbClr val="5a93d8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ded definition of “persons with reduced mobility” including older pers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387440" y="0"/>
            <a:ext cx="775656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Rail Systems and Ageing Societies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41480" y="1549440"/>
            <a:ext cx="77436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1001"/>
              </a:spcBef>
              <a:buClr>
                <a:srgbClr val="5a93d8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Independent mobility of older persons is one of conditions of active ageing and participation of older persons in socie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3a2ff"/>
                </a:solidFill>
                <a:latin typeface="Calibri"/>
              </a:rPr>
              <a:t>Advantages of rail transpor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1001"/>
              </a:spcBef>
              <a:buClr>
                <a:srgbClr val="5a93d8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Improved-access trains provide for more comfort than buses or plan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1001"/>
              </a:spcBef>
              <a:buClr>
                <a:srgbClr val="5a93d8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Travelling on train is less stressfu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1001"/>
              </a:spcBef>
              <a:buClr>
                <a:srgbClr val="5a93d8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Proximity of railway stations to city centr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3a2ff"/>
                </a:solidFill>
                <a:latin typeface="Calibri"/>
              </a:rPr>
              <a:t>Older persons face following problem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1001"/>
              </a:spcBef>
              <a:buClr>
                <a:srgbClr val="5a93d8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Lack of information about stations and trai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1001"/>
              </a:spcBef>
              <a:buClr>
                <a:srgbClr val="5a93d8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Poor access at railway st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1001"/>
              </a:spcBef>
              <a:buClr>
                <a:srgbClr val="5a93d8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Difficulties on boarding/disembark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1001"/>
              </a:spcBef>
              <a:buClr>
                <a:srgbClr val="5a93d8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Lack of assistance on boar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1001"/>
              </a:spcBef>
              <a:buClr>
                <a:srgbClr val="5a93d8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Lack of transport connections from the railway stations to their hom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87440" y="0"/>
            <a:ext cx="775656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hallenges 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8245440" cy="38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5a93d8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is essential to accompany improvements in technical standards by better access to information and assistance to older people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fidence bui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5a93d8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includes information and assistance before and during the journe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/>
          <p:nvPr/>
        </p:nvSpPr>
        <p:spPr>
          <a:xfrm>
            <a:off x="1116000" y="3357720"/>
            <a:ext cx="976320" cy="485640"/>
          </a:xfrm>
          <a:custGeom>
            <a:avLst/>
            <a:gdLst>
              <a:gd name="textAreaLeft" fmla="*/ 152280 w 976320"/>
              <a:gd name="textAreaRight" fmla="*/ 854280 w 97632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73a2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497960" y="2617920"/>
            <a:ext cx="66560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2a7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5a93d8"/>
                </a:solidFill>
                <a:latin typeface="Times New Roman"/>
              </a:rPr>
              <a:t>Thank you for your attentio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87440" y="0"/>
            <a:ext cx="775656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Outline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41480" y="1549440"/>
            <a:ext cx="7743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400"/>
              </a:spcBef>
              <a:buClr>
                <a:srgbClr val="5a93d8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Ageing, projected trends and variation between sub-reg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400"/>
              </a:spcBef>
              <a:buClr>
                <a:srgbClr val="5a93d8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Changes in family structures and proximity of close relativ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400"/>
              </a:spcBef>
              <a:buClr>
                <a:srgbClr val="5a93d8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ransport and accessibil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5a93d8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in internationally agreed policy objectives related to age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5a93d8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in country reports on age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400"/>
              </a:spcBef>
              <a:buClr>
                <a:srgbClr val="5a93d8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evelopment of rail systems and challenges of ageing societ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87440" y="0"/>
            <a:ext cx="775656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Ageing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41480" y="1549440"/>
            <a:ext cx="7743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Population ageing is the result of the interplay of longer lives and fertility decline. It is part of demographic transition from a regime of high mortality and high fertility to one with low mortality and low fertility</a:t>
            </a:r>
            <a:r>
              <a:rPr b="0" i="1" lang="fr-CH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87440" y="0"/>
            <a:ext cx="775656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Example of a population “pyramid”:</a:t>
            </a:r>
            <a:br>
              <a:rPr sz="3600"/>
            </a:b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Germany 2008 and 2060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116000" y="1432080"/>
            <a:ext cx="8028000" cy="5398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" name=""/>
          <p:cNvGraphicFramePr/>
          <p:nvPr/>
        </p:nvGraphicFramePr>
        <p:xfrm>
          <a:off x="0" y="1197000"/>
          <a:ext cx="9144000" cy="5661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197000"/>
                    <a:ext cx="9144000" cy="566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"/>
          <p:cNvSpPr/>
          <p:nvPr/>
        </p:nvSpPr>
        <p:spPr>
          <a:xfrm>
            <a:off x="1905120" y="762120"/>
            <a:ext cx="1828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87440" y="0"/>
            <a:ext cx="775656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Median Age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263600" y="6157800"/>
            <a:ext cx="4006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0" y="1197000"/>
          <a:ext cx="9144000" cy="5661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197000"/>
                    <a:ext cx="9144000" cy="566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87440" y="0"/>
            <a:ext cx="775656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Old-Age Dependency Ratio by Region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87440" y="0"/>
            <a:ext cx="775656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600" spc="-1" strike="noStrike">
                <a:solidFill>
                  <a:srgbClr val="000000"/>
                </a:solidFill>
                <a:latin typeface="Calibri"/>
              </a:rPr>
              <a:t>Older People Living with their Children 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116000" y="1549440"/>
            <a:ext cx="7777080" cy="490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114" name="Gerade Verbindung mit Pfeil 20"/>
          <p:cNvCxnSpPr/>
          <p:nvPr/>
        </p:nvCxnSpPr>
        <p:spPr>
          <a:xfrm>
            <a:off x="5032440" y="1738440"/>
            <a:ext cx="808560" cy="1002240"/>
          </a:xfrm>
          <a:prstGeom prst="straightConnector1">
            <a:avLst/>
          </a:prstGeom>
          <a:ln w="0">
            <a:noFill/>
          </a:ln>
        </p:spPr>
      </p:cxn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124000" y="0"/>
            <a:ext cx="702000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hanges in Family Structures and Proximity of Close Relatives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41480" y="1549440"/>
            <a:ext cx="7743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0" algn="ctr">
              <a:spcBef>
                <a:spcPts val="11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755280" y="2060640"/>
            <a:ext cx="6480360" cy="4392720"/>
          </a:xfrm>
          <a:prstGeom prst="rect">
            <a:avLst/>
          </a:prstGeom>
          <a:noFill/>
          <a:ln w="0">
            <a:noFill/>
          </a:ln>
        </p:spPr>
        <p:txBody>
          <a:bodyPr lIns="234000" rIns="234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73a2ff"/>
                </a:solidFill>
                <a:latin typeface="Calibri"/>
              </a:rPr>
              <a:t>Generations and Gender Programm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181160" indent="-285840">
              <a:lnSpc>
                <a:spcPct val="90000"/>
              </a:lnSpc>
              <a:spcBef>
                <a:spcPts val="601"/>
              </a:spcBef>
              <a:buClr>
                <a:srgbClr val="5a93d8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signed to improve understanding of demographic and social development in the UNECE region and of the factors that influence such developm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1181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 u="sng">
                <a:solidFill>
                  <a:srgbClr val="0066ff"/>
                </a:solidFill>
                <a:uFillTx/>
                <a:latin typeface="Calibri"/>
                <a:hlinkClick r:id="rId1"/>
              </a:rPr>
              <a:t>http://</a:t>
            </a:r>
            <a:r>
              <a:rPr b="0" lang="en-US" sz="2400" spc="-1" strike="noStrike" u="sng">
                <a:solidFill>
                  <a:srgbClr val="0066ff"/>
                </a:solidFill>
                <a:uFillTx/>
                <a:latin typeface="Calibri"/>
                <a:hlinkClick r:id="rId2"/>
              </a:rPr>
              <a:t>ggp.unece.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1181160" indent="-285840">
              <a:lnSpc>
                <a:spcPct val="90000"/>
              </a:lnSpc>
              <a:spcBef>
                <a:spcPts val="601"/>
              </a:spcBef>
              <a:buClr>
                <a:srgbClr val="5a93d8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enerations and Gender Surveys carried out in 16 countries. Analysis on proximity based on data from five: BGR, DEU, FRA, GEO, RU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7093080" y="5087880"/>
            <a:ext cx="2050920" cy="1770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87440" y="0"/>
            <a:ext cx="775656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600" spc="-1" strike="noStrike">
                <a:solidFill>
                  <a:srgbClr val="000000"/>
                </a:solidFill>
                <a:latin typeface="Calibri"/>
              </a:rPr>
              <a:t>GGS Data: Travel Distance to Parents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-360" y="1915920"/>
            <a:ext cx="4211640" cy="37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5a93d8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-hour travel distance benchmar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400"/>
              </a:spcBef>
              <a:buClr>
                <a:srgbClr val="5a93d8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ata for distance to mother and father separate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/>
          <p:nvPr/>
        </p:nvSpPr>
        <p:spPr>
          <a:xfrm>
            <a:off x="3780000" y="5877000"/>
            <a:ext cx="410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rce: GGS data,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3635280" y="1994040"/>
          <a:ext cx="5087880" cy="3811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35280" y="1994040"/>
                    <a:ext cx="5087880" cy="381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4T15:59:22Z</dcterms:created>
  <dc:creator>Andres Vikat</dc:creator>
  <dc:description/>
  <dc:language>en-US</dc:language>
  <cp:lastModifiedBy>Marilley</cp:lastModifiedBy>
  <cp:lastPrinted>2009-11-18T15:11:03Z</cp:lastPrinted>
  <dcterms:modified xsi:type="dcterms:W3CDTF">2009-11-18T15:11:35Z</dcterms:modified>
  <cp:revision>109</cp:revision>
  <dc:subject/>
  <dc:title>International Cooperation in Addressing Demographic Challenges</dc:title>
</cp:coreProperties>
</file>