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8659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94960" y="4122720"/>
            <a:ext cx="8659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9496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3232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22840" y="181080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51080" y="181080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94960" y="412272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22840" y="412272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751080" y="412272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94960" y="1810800"/>
            <a:ext cx="865980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86598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064880" y="771480"/>
            <a:ext cx="848988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9496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94960" y="1810800"/>
            <a:ext cx="865980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232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94960" y="4122720"/>
            <a:ext cx="8659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8659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94960" y="4122720"/>
            <a:ext cx="8659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9496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33232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22840" y="181080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751080" y="181080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94960" y="412272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822840" y="412272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751080" y="412272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94960" y="1810800"/>
            <a:ext cx="865980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86598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86598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064880" y="771480"/>
            <a:ext cx="848988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9496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232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94960" y="4122720"/>
            <a:ext cx="8659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8659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94960" y="4122720"/>
            <a:ext cx="8659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9496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33232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22840" y="181080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51080" y="181080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94960" y="412272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822840" y="412272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51080" y="412272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64880" y="771480"/>
            <a:ext cx="848988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9496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232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94960" y="4122720"/>
            <a:ext cx="8659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1050840"/>
          </a:xfrm>
          <a:prstGeom prst="rect">
            <a:avLst/>
          </a:prstGeom>
          <a:solidFill>
            <a:srgbClr val="005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89000"/>
            <a:ext cx="9905760" cy="6669000"/>
            <a:chOff x="0" y="189000"/>
            <a:chExt cx="9905760" cy="6669000"/>
          </a:xfrm>
        </p:grpSpPr>
        <p:sp>
          <p:nvSpPr>
            <p:cNvPr id="2" name=""/>
            <p:cNvSpPr/>
            <p:nvPr/>
          </p:nvSpPr>
          <p:spPr>
            <a:xfrm>
              <a:off x="6885720" y="4023000"/>
              <a:ext cx="1764360" cy="2216520"/>
            </a:xfrm>
            <a:custGeom>
              <a:avLst/>
              <a:gdLst/>
              <a:ahLst/>
              <a:rect l="l" t="t" r="r" b="b"/>
              <a:pathLst>
                <a:path w="513" h="698">
                  <a:moveTo>
                    <a:pt x="110" y="696"/>
                  </a:moveTo>
                  <a:cubicBezTo>
                    <a:pt x="110" y="398"/>
                    <a:pt x="272" y="138"/>
                    <a:pt x="513" y="0"/>
                  </a:cubicBezTo>
                  <a:cubicBezTo>
                    <a:pt x="242" y="130"/>
                    <a:pt x="44" y="389"/>
                    <a:pt x="0" y="698"/>
                  </a:cubicBezTo>
                  <a:cubicBezTo>
                    <a:pt x="110" y="698"/>
                    <a:pt x="110" y="698"/>
                    <a:pt x="110" y="698"/>
                  </a:cubicBezTo>
                  <a:cubicBezTo>
                    <a:pt x="110" y="697"/>
                    <a:pt x="110" y="696"/>
                    <a:pt x="110" y="6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89000"/>
              <a:ext cx="9905760" cy="6669000"/>
            </a:xfrm>
            <a:custGeom>
              <a:avLst/>
              <a:gdLst/>
              <a:ahLst/>
              <a:rect l="l" t="t" r="r" b="b"/>
              <a:pathLst>
                <a:path w="2880" h="2100">
                  <a:moveTo>
                    <a:pt x="2515" y="1207"/>
                  </a:moveTo>
                  <a:cubicBezTo>
                    <a:pt x="2623" y="1144"/>
                    <a:pt x="2748" y="1106"/>
                    <a:pt x="2880" y="1101"/>
                  </a:cubicBezTo>
                  <a:cubicBezTo>
                    <a:pt x="2880" y="117"/>
                    <a:pt x="2880" y="117"/>
                    <a:pt x="2880" y="117"/>
                  </a:cubicBezTo>
                  <a:cubicBezTo>
                    <a:pt x="1470" y="211"/>
                    <a:pt x="796" y="0"/>
                    <a:pt x="376" y="0"/>
                  </a:cubicBezTo>
                  <a:cubicBezTo>
                    <a:pt x="65" y="0"/>
                    <a:pt x="8" y="169"/>
                    <a:pt x="0" y="258"/>
                  </a:cubicBezTo>
                  <a:cubicBezTo>
                    <a:pt x="0" y="258"/>
                    <a:pt x="0" y="258"/>
                    <a:pt x="0" y="978"/>
                  </a:cubicBezTo>
                  <a:cubicBezTo>
                    <a:pt x="0" y="2100"/>
                    <a:pt x="0" y="2100"/>
                    <a:pt x="0" y="2100"/>
                  </a:cubicBezTo>
                  <a:cubicBezTo>
                    <a:pt x="2880" y="2100"/>
                    <a:pt x="2880" y="2100"/>
                    <a:pt x="2880" y="2100"/>
                  </a:cubicBezTo>
                  <a:cubicBezTo>
                    <a:pt x="2880" y="1905"/>
                    <a:pt x="2880" y="1905"/>
                    <a:pt x="2880" y="1905"/>
                  </a:cubicBezTo>
                  <a:cubicBezTo>
                    <a:pt x="2002" y="1905"/>
                    <a:pt x="2002" y="1905"/>
                    <a:pt x="2002" y="1905"/>
                  </a:cubicBezTo>
                  <a:cubicBezTo>
                    <a:pt x="2046" y="1596"/>
                    <a:pt x="2244" y="1337"/>
                    <a:pt x="2515" y="12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0" y="189000"/>
            <a:ext cx="9905760" cy="6669000"/>
            <a:chOff x="0" y="189000"/>
            <a:chExt cx="9905760" cy="6669000"/>
          </a:xfrm>
        </p:grpSpPr>
        <p:grpSp>
          <p:nvGrpSpPr>
            <p:cNvPr id="5" name="Group 152"/>
            <p:cNvGrpSpPr/>
            <p:nvPr/>
          </p:nvGrpSpPr>
          <p:grpSpPr>
            <a:xfrm>
              <a:off x="0" y="189000"/>
              <a:ext cx="9905760" cy="4321080"/>
              <a:chOff x="0" y="189000"/>
              <a:chExt cx="9905760" cy="4321080"/>
            </a:xfrm>
          </p:grpSpPr>
          <p:sp>
            <p:nvSpPr>
              <p:cNvPr id="6" name="Freeform 5"/>
              <p:cNvSpPr/>
              <p:nvPr/>
            </p:nvSpPr>
            <p:spPr>
              <a:xfrm>
                <a:off x="0" y="189000"/>
                <a:ext cx="9905760" cy="339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38"/>
              <p:cNvSpPr/>
              <p:nvPr/>
            </p:nvSpPr>
            <p:spPr>
              <a:xfrm>
                <a:off x="0" y="3296160"/>
                <a:ext cx="9905760" cy="121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4221000"/>
              <a:ext cx="9905760" cy="263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894960" y="1810800"/>
            <a:ext cx="86598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652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4400" indent="-228600">
              <a:buClr>
                <a:srgbClr val="005bab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2264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7"/>
          <p:cNvSpPr/>
          <p:nvPr/>
        </p:nvSpPr>
        <p:spPr>
          <a:xfrm>
            <a:off x="8592480" y="638964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ab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5bab"/>
                </a:solidFill>
                <a:latin typeface="Trebuchet MS"/>
              </a:rPr>
              <a:t>|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lide Number Placeholder 4"/>
          <p:cNvSpPr/>
          <p:nvPr/>
        </p:nvSpPr>
        <p:spPr>
          <a:xfrm>
            <a:off x="8853480" y="6345360"/>
            <a:ext cx="55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F361-3FB6-45B4-8B0D-3EC16FD4E3CA}" type="slidenum">
              <a:rPr b="0" lang="en-US" sz="1000" spc="-1" strike="noStrike">
                <a:solidFill>
                  <a:srgbClr val="005ba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ooter Placeholder 6"/>
          <p:cNvSpPr/>
          <p:nvPr/>
        </p:nvSpPr>
        <p:spPr>
          <a:xfrm>
            <a:off x="3095640" y="6350040"/>
            <a:ext cx="5665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423720" y="4952880"/>
            <a:ext cx="466560" cy="1644840"/>
            <a:chOff x="423720" y="4952880"/>
            <a:chExt cx="466560" cy="1644840"/>
          </a:xfrm>
        </p:grpSpPr>
        <p:grpSp>
          <p:nvGrpSpPr>
            <p:cNvPr id="15" name="Group 109"/>
            <p:cNvGrpSpPr/>
            <p:nvPr/>
          </p:nvGrpSpPr>
          <p:grpSpPr>
            <a:xfrm>
              <a:off x="425160" y="6294600"/>
              <a:ext cx="465120" cy="303120"/>
              <a:chOff x="425160" y="6294600"/>
              <a:chExt cx="465120" cy="303120"/>
            </a:xfrm>
          </p:grpSpPr>
          <p:sp>
            <p:nvSpPr>
              <p:cNvPr id="16" name="Rectangle 56"/>
              <p:cNvSpPr/>
              <p:nvPr/>
            </p:nvSpPr>
            <p:spPr>
              <a:xfrm>
                <a:off x="425160" y="6294600"/>
                <a:ext cx="465120" cy="303120"/>
              </a:xfrm>
              <a:prstGeom prst="rect">
                <a:avLst/>
              </a:prstGeom>
              <a:solidFill>
                <a:srgbClr val="034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57"/>
              <p:cNvSpPr/>
              <p:nvPr/>
            </p:nvSpPr>
            <p:spPr>
              <a:xfrm>
                <a:off x="65340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58"/>
              <p:cNvSpPr/>
              <p:nvPr/>
            </p:nvSpPr>
            <p:spPr>
              <a:xfrm>
                <a:off x="65340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59"/>
              <p:cNvSpPr/>
              <p:nvPr/>
            </p:nvSpPr>
            <p:spPr>
              <a:xfrm>
                <a:off x="633240" y="6315120"/>
                <a:ext cx="3780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60"/>
              <p:cNvSpPr/>
              <p:nvPr/>
            </p:nvSpPr>
            <p:spPr>
              <a:xfrm>
                <a:off x="633240" y="6315120"/>
                <a:ext cx="3780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61"/>
              <p:cNvSpPr/>
              <p:nvPr/>
            </p:nvSpPr>
            <p:spPr>
              <a:xfrm>
                <a:off x="571320" y="6329520"/>
                <a:ext cx="3960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62"/>
              <p:cNvSpPr/>
              <p:nvPr/>
            </p:nvSpPr>
            <p:spPr>
              <a:xfrm>
                <a:off x="571320" y="6329520"/>
                <a:ext cx="3960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63"/>
              <p:cNvSpPr/>
              <p:nvPr/>
            </p:nvSpPr>
            <p:spPr>
              <a:xfrm>
                <a:off x="573120" y="6518160"/>
                <a:ext cx="4068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64"/>
              <p:cNvSpPr/>
              <p:nvPr/>
            </p:nvSpPr>
            <p:spPr>
              <a:xfrm>
                <a:off x="573120" y="6518160"/>
                <a:ext cx="4068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65"/>
              <p:cNvSpPr/>
              <p:nvPr/>
            </p:nvSpPr>
            <p:spPr>
              <a:xfrm>
                <a:off x="633240" y="6534360"/>
                <a:ext cx="3780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66"/>
              <p:cNvSpPr/>
              <p:nvPr/>
            </p:nvSpPr>
            <p:spPr>
              <a:xfrm>
                <a:off x="633240" y="6534360"/>
                <a:ext cx="3780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67"/>
              <p:cNvSpPr/>
              <p:nvPr/>
            </p:nvSpPr>
            <p:spPr>
              <a:xfrm>
                <a:off x="529560" y="6478560"/>
                <a:ext cx="3960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68"/>
              <p:cNvSpPr/>
              <p:nvPr/>
            </p:nvSpPr>
            <p:spPr>
              <a:xfrm>
                <a:off x="529560" y="6478560"/>
                <a:ext cx="3960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69"/>
              <p:cNvSpPr/>
              <p:nvPr/>
            </p:nvSpPr>
            <p:spPr>
              <a:xfrm>
                <a:off x="513720" y="6423840"/>
                <a:ext cx="3960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70"/>
              <p:cNvSpPr/>
              <p:nvPr/>
            </p:nvSpPr>
            <p:spPr>
              <a:xfrm>
                <a:off x="513720" y="6423840"/>
                <a:ext cx="3960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71"/>
              <p:cNvSpPr/>
              <p:nvPr/>
            </p:nvSpPr>
            <p:spPr>
              <a:xfrm>
                <a:off x="529560" y="6368040"/>
                <a:ext cx="3960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72"/>
              <p:cNvSpPr/>
              <p:nvPr/>
            </p:nvSpPr>
            <p:spPr>
              <a:xfrm>
                <a:off x="529560" y="6368040"/>
                <a:ext cx="3960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73"/>
              <p:cNvSpPr/>
              <p:nvPr/>
            </p:nvSpPr>
            <p:spPr>
              <a:xfrm>
                <a:off x="693360" y="6329520"/>
                <a:ext cx="3960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74"/>
              <p:cNvSpPr/>
              <p:nvPr/>
            </p:nvSpPr>
            <p:spPr>
              <a:xfrm>
                <a:off x="693360" y="6329520"/>
                <a:ext cx="3960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75"/>
              <p:cNvSpPr/>
              <p:nvPr/>
            </p:nvSpPr>
            <p:spPr>
              <a:xfrm>
                <a:off x="735120" y="6370560"/>
                <a:ext cx="3960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76"/>
              <p:cNvSpPr/>
              <p:nvPr/>
            </p:nvSpPr>
            <p:spPr>
              <a:xfrm>
                <a:off x="735120" y="6370560"/>
                <a:ext cx="3960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77"/>
              <p:cNvSpPr/>
              <p:nvPr/>
            </p:nvSpPr>
            <p:spPr>
              <a:xfrm>
                <a:off x="750600" y="6425640"/>
                <a:ext cx="3960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78"/>
              <p:cNvSpPr/>
              <p:nvPr/>
            </p:nvSpPr>
            <p:spPr>
              <a:xfrm>
                <a:off x="750600" y="6425640"/>
                <a:ext cx="3960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79"/>
              <p:cNvSpPr/>
              <p:nvPr/>
            </p:nvSpPr>
            <p:spPr>
              <a:xfrm>
                <a:off x="735120" y="6478560"/>
                <a:ext cx="3960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80"/>
              <p:cNvSpPr/>
              <p:nvPr/>
            </p:nvSpPr>
            <p:spPr>
              <a:xfrm>
                <a:off x="735120" y="6478560"/>
                <a:ext cx="3960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81"/>
              <p:cNvSpPr/>
              <p:nvPr/>
            </p:nvSpPr>
            <p:spPr>
              <a:xfrm>
                <a:off x="693360" y="6519960"/>
                <a:ext cx="3960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82"/>
              <p:cNvSpPr/>
              <p:nvPr/>
            </p:nvSpPr>
            <p:spPr>
              <a:xfrm>
                <a:off x="693360" y="6519960"/>
                <a:ext cx="3960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23720" y="4952880"/>
              <a:ext cx="466560" cy="11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Title 1"/>
          <p:cNvSpPr/>
          <p:nvPr/>
        </p:nvSpPr>
        <p:spPr>
          <a:xfrm>
            <a:off x="351000" y="522360"/>
            <a:ext cx="541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79320" y="3539880"/>
            <a:ext cx="6248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ba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  <a:p>
            <a:pPr lvl="1" marL="5317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6352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14200" algn="ctr">
              <a:buClr>
                <a:srgbClr val="005bab"/>
              </a:buClr>
              <a:buSzPct val="125000"/>
              <a:buFont typeface="Arial"/>
              <a:buChar char="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6524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tle 1"/>
          <p:cNvSpPr/>
          <p:nvPr/>
        </p:nvSpPr>
        <p:spPr>
          <a:xfrm>
            <a:off x="351000" y="-20520"/>
            <a:ext cx="541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4880" y="229680"/>
            <a:ext cx="84898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5"/>
          <p:cNvGrpSpPr/>
          <p:nvPr/>
        </p:nvGrpSpPr>
        <p:grpSpPr>
          <a:xfrm>
            <a:off x="-3511440" y="-603360"/>
            <a:ext cx="13534920" cy="3789360"/>
            <a:chOff x="-3511440" y="-603360"/>
            <a:chExt cx="13534920" cy="3789360"/>
          </a:xfrm>
        </p:grpSpPr>
        <p:pic>
          <p:nvPicPr>
            <p:cNvPr id="158" name="Picture 4" descr=""/>
            <p:cNvPicPr/>
            <p:nvPr/>
          </p:nvPicPr>
          <p:blipFill>
            <a:blip r:embed="rId1"/>
            <a:stretch/>
          </p:blipFill>
          <p:spPr>
            <a:xfrm>
              <a:off x="-3511440" y="-603360"/>
              <a:ext cx="13534920" cy="37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5" descr="C:\Documents and Settings\930809\Desktop\material ppt\BTS.JPG"/>
            <p:cNvPicPr/>
            <p:nvPr/>
          </p:nvPicPr>
          <p:blipFill>
            <a:blip r:embed="rId2"/>
            <a:stretch/>
          </p:blipFill>
          <p:spPr>
            <a:xfrm>
              <a:off x="-3511440" y="-603360"/>
              <a:ext cx="3515400" cy="37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Group 152"/>
          <p:cNvGrpSpPr/>
          <p:nvPr/>
        </p:nvGrpSpPr>
        <p:grpSpPr>
          <a:xfrm>
            <a:off x="0" y="2536920"/>
            <a:ext cx="9906120" cy="4321080"/>
            <a:chOff x="0" y="2536920"/>
            <a:chExt cx="9906120" cy="4321080"/>
          </a:xfrm>
        </p:grpSpPr>
        <p:sp>
          <p:nvSpPr>
            <p:cNvPr id="161" name="Freeform 5"/>
            <p:cNvSpPr/>
            <p:nvPr/>
          </p:nvSpPr>
          <p:spPr>
            <a:xfrm>
              <a:off x="0" y="2536920"/>
              <a:ext cx="9906120" cy="339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8"/>
            <p:cNvSpPr/>
            <p:nvPr/>
          </p:nvSpPr>
          <p:spPr>
            <a:xfrm>
              <a:off x="0" y="5644080"/>
              <a:ext cx="9906120" cy="121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55800" y="3573360"/>
            <a:ext cx="62499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bab"/>
                </a:solidFill>
                <a:latin typeface="Arial"/>
              </a:rPr>
              <a:t>Working Party on Rail Transport – 63rd session </a:t>
            </a:r>
            <a:br>
              <a:rPr sz="3600"/>
            </a:br>
            <a:r>
              <a:rPr b="1" lang="en-GB" sz="3600" spc="-1" strike="noStrike">
                <a:solidFill>
                  <a:srgbClr val="005bab"/>
                </a:solidFill>
                <a:latin typeface="Arial"/>
              </a:rPr>
              <a:t>Geneva, 18 November 2009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tle 1"/>
          <p:cNvSpPr/>
          <p:nvPr/>
        </p:nvSpPr>
        <p:spPr>
          <a:xfrm>
            <a:off x="2846520" y="3355920"/>
            <a:ext cx="5410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0"/>
          <p:cNvSpPr/>
          <p:nvPr/>
        </p:nvSpPr>
        <p:spPr>
          <a:xfrm>
            <a:off x="399960" y="636444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EUROPEAN</a:t>
            </a:r>
            <a:br>
              <a:rPr sz="800"/>
            </a:b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COM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09"/>
          <p:cNvGrpSpPr/>
          <p:nvPr/>
        </p:nvGrpSpPr>
        <p:grpSpPr>
          <a:xfrm>
            <a:off x="430200" y="5873760"/>
            <a:ext cx="779400" cy="506520"/>
            <a:chOff x="430200" y="5873760"/>
            <a:chExt cx="779400" cy="506520"/>
          </a:xfrm>
        </p:grpSpPr>
        <p:sp>
          <p:nvSpPr>
            <p:cNvPr id="167" name="Rectangle 56"/>
            <p:cNvSpPr/>
            <p:nvPr/>
          </p:nvSpPr>
          <p:spPr>
            <a:xfrm>
              <a:off x="430200" y="5873760"/>
              <a:ext cx="779400" cy="506520"/>
            </a:xfrm>
            <a:prstGeom prst="rect">
              <a:avLst/>
            </a:prstGeom>
            <a:solidFill>
              <a:srgbClr val="034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7"/>
            <p:cNvSpPr/>
            <p:nvPr/>
          </p:nvSpPr>
          <p:spPr>
            <a:xfrm>
              <a:off x="812880" y="61200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8"/>
            <p:cNvSpPr/>
            <p:nvPr/>
          </p:nvSpPr>
          <p:spPr>
            <a:xfrm>
              <a:off x="812880" y="61200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9"/>
            <p:cNvSpPr/>
            <p:nvPr/>
          </p:nvSpPr>
          <p:spPr>
            <a:xfrm>
              <a:off x="778680" y="5907960"/>
              <a:ext cx="6336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0"/>
            <p:cNvSpPr/>
            <p:nvPr/>
          </p:nvSpPr>
          <p:spPr>
            <a:xfrm>
              <a:off x="778680" y="5907960"/>
              <a:ext cx="6336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1"/>
            <p:cNvSpPr/>
            <p:nvPr/>
          </p:nvSpPr>
          <p:spPr>
            <a:xfrm>
              <a:off x="675000" y="5932440"/>
              <a:ext cx="666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2"/>
            <p:cNvSpPr/>
            <p:nvPr/>
          </p:nvSpPr>
          <p:spPr>
            <a:xfrm>
              <a:off x="675000" y="5932440"/>
              <a:ext cx="666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3"/>
            <p:cNvSpPr/>
            <p:nvPr/>
          </p:nvSpPr>
          <p:spPr>
            <a:xfrm>
              <a:off x="677880" y="6247440"/>
              <a:ext cx="6804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4"/>
            <p:cNvSpPr/>
            <p:nvPr/>
          </p:nvSpPr>
          <p:spPr>
            <a:xfrm>
              <a:off x="677880" y="6247440"/>
              <a:ext cx="6804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5"/>
            <p:cNvSpPr/>
            <p:nvPr/>
          </p:nvSpPr>
          <p:spPr>
            <a:xfrm>
              <a:off x="778680" y="6274440"/>
              <a:ext cx="6336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6"/>
            <p:cNvSpPr/>
            <p:nvPr/>
          </p:nvSpPr>
          <p:spPr>
            <a:xfrm>
              <a:off x="778680" y="6274440"/>
              <a:ext cx="6336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7"/>
            <p:cNvSpPr/>
            <p:nvPr/>
          </p:nvSpPr>
          <p:spPr>
            <a:xfrm>
              <a:off x="605160" y="6181560"/>
              <a:ext cx="666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8"/>
            <p:cNvSpPr/>
            <p:nvPr/>
          </p:nvSpPr>
          <p:spPr>
            <a:xfrm>
              <a:off x="605160" y="6181560"/>
              <a:ext cx="666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9"/>
            <p:cNvSpPr/>
            <p:nvPr/>
          </p:nvSpPr>
          <p:spPr>
            <a:xfrm>
              <a:off x="578880" y="6089760"/>
              <a:ext cx="666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0"/>
            <p:cNvSpPr/>
            <p:nvPr/>
          </p:nvSpPr>
          <p:spPr>
            <a:xfrm>
              <a:off x="578880" y="6089760"/>
              <a:ext cx="666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1"/>
            <p:cNvSpPr/>
            <p:nvPr/>
          </p:nvSpPr>
          <p:spPr>
            <a:xfrm>
              <a:off x="605160" y="5996880"/>
              <a:ext cx="666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2"/>
            <p:cNvSpPr/>
            <p:nvPr/>
          </p:nvSpPr>
          <p:spPr>
            <a:xfrm>
              <a:off x="605160" y="5996880"/>
              <a:ext cx="666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3"/>
            <p:cNvSpPr/>
            <p:nvPr/>
          </p:nvSpPr>
          <p:spPr>
            <a:xfrm>
              <a:off x="879480" y="5932440"/>
              <a:ext cx="666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4"/>
            <p:cNvSpPr/>
            <p:nvPr/>
          </p:nvSpPr>
          <p:spPr>
            <a:xfrm>
              <a:off x="879480" y="5932440"/>
              <a:ext cx="666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5"/>
            <p:cNvSpPr/>
            <p:nvPr/>
          </p:nvSpPr>
          <p:spPr>
            <a:xfrm>
              <a:off x="949320" y="6000840"/>
              <a:ext cx="666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6"/>
            <p:cNvSpPr/>
            <p:nvPr/>
          </p:nvSpPr>
          <p:spPr>
            <a:xfrm>
              <a:off x="949320" y="6000840"/>
              <a:ext cx="666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7"/>
            <p:cNvSpPr/>
            <p:nvPr/>
          </p:nvSpPr>
          <p:spPr>
            <a:xfrm>
              <a:off x="975600" y="6092640"/>
              <a:ext cx="666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8"/>
            <p:cNvSpPr/>
            <p:nvPr/>
          </p:nvSpPr>
          <p:spPr>
            <a:xfrm>
              <a:off x="975600" y="6092640"/>
              <a:ext cx="666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9"/>
            <p:cNvSpPr/>
            <p:nvPr/>
          </p:nvSpPr>
          <p:spPr>
            <a:xfrm>
              <a:off x="949320" y="6181560"/>
              <a:ext cx="666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0"/>
            <p:cNvSpPr/>
            <p:nvPr/>
          </p:nvSpPr>
          <p:spPr>
            <a:xfrm>
              <a:off x="949320" y="6181560"/>
              <a:ext cx="666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1"/>
            <p:cNvSpPr/>
            <p:nvPr/>
          </p:nvSpPr>
          <p:spPr>
            <a:xfrm>
              <a:off x="879480" y="6250320"/>
              <a:ext cx="666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2"/>
            <p:cNvSpPr/>
            <p:nvPr/>
          </p:nvSpPr>
          <p:spPr>
            <a:xfrm>
              <a:off x="879480" y="6250320"/>
              <a:ext cx="666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30200" y="3633840"/>
            <a:ext cx="779400" cy="19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974880" y="1627200"/>
            <a:ext cx="852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day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eign locomo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eeds </a:t>
            </a:r>
            <a:r>
              <a:rPr b="1" lang="en-GB" sz="2400" spc="-1" strike="noStrike">
                <a:solidFill>
                  <a:srgbClr val="fc5e1a"/>
                </a:solidFill>
                <a:latin typeface="Arial"/>
              </a:rPr>
              <a:t>3 to 5 yea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obtain safety approval –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500"/>
              </a:spcAft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isting signalling systems are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 incompa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500"/>
              </a:spcAft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ty approval is needed f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and ever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ype of locomo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6480" y="765000"/>
            <a:ext cx="65437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Without ERTMS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le fonctionnement ERTMS Eurobalises" descr=""/>
          <p:cNvPicPr/>
          <p:nvPr/>
        </p:nvPicPr>
        <p:blipFill>
          <a:blip r:embed="rId1"/>
          <a:stretch/>
        </p:blipFill>
        <p:spPr>
          <a:xfrm>
            <a:off x="351000" y="1700280"/>
            <a:ext cx="2495520" cy="18669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71440" y="3581280"/>
            <a:ext cx="189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Eurobalise:                       a standard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112920" y="3730680"/>
            <a:ext cx="6592680" cy="824040"/>
            <a:chOff x="3112920" y="3730680"/>
            <a:chExt cx="6592680" cy="824040"/>
          </a:xfrm>
        </p:grpSpPr>
        <p:sp>
          <p:nvSpPr>
            <p:cNvPr id="481" name=""/>
            <p:cNvSpPr/>
            <p:nvPr/>
          </p:nvSpPr>
          <p:spPr>
            <a:xfrm>
              <a:off x="3112920" y="3813120"/>
              <a:ext cx="882360" cy="215280"/>
            </a:xfrm>
            <a:prstGeom prst="rightArrow">
              <a:avLst>
                <a:gd name="adj1" fmla="val 50000"/>
                <a:gd name="adj2" fmla="val 205256"/>
              </a:avLst>
            </a:prstGeom>
            <a:solidFill>
              <a:srgbClr val="9ecc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27920" y="3730680"/>
              <a:ext cx="5377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300" spc="-1" strike="noStrike">
                  <a:solidFill>
                    <a:srgbClr val="ff0000"/>
                  </a:solidFill>
                  <a:latin typeface="Arial"/>
                </a:rPr>
                <a:t>Co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300" spc="-1" strike="noStrike">
                  <a:solidFill>
                    <a:srgbClr val="ff0000"/>
                  </a:solidFill>
                  <a:latin typeface="Arial"/>
                </a:rPr>
                <a:t>decreas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(capital, maintenance and trainin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079800" y="2108160"/>
            <a:ext cx="6702120" cy="458280"/>
            <a:chOff x="3079800" y="2108160"/>
            <a:chExt cx="6702120" cy="458280"/>
          </a:xfrm>
        </p:grpSpPr>
        <p:sp>
          <p:nvSpPr>
            <p:cNvPr id="484" name=""/>
            <p:cNvSpPr/>
            <p:nvPr/>
          </p:nvSpPr>
          <p:spPr>
            <a:xfrm>
              <a:off x="3079800" y="2190960"/>
              <a:ext cx="897120" cy="215640"/>
            </a:xfrm>
            <a:prstGeom prst="rightArrow">
              <a:avLst>
                <a:gd name="adj1" fmla="val 50000"/>
                <a:gd name="adj2" fmla="val 208340"/>
              </a:avLst>
            </a:prstGeom>
            <a:solidFill>
              <a:srgbClr val="9ecc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14960" y="2108160"/>
              <a:ext cx="5466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ncreased track </a:t>
              </a:r>
              <a:r>
                <a:rPr b="1" lang="en-GB" sz="2300" spc="-1" strike="noStrike">
                  <a:solidFill>
                    <a:srgbClr val="ff0000"/>
                  </a:solidFill>
                  <a:latin typeface="Arial"/>
                </a:rPr>
                <a:t>capacity</a:t>
              </a:r>
              <a:r>
                <a:rPr b="0" lang="en-GB" sz="23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lang="en-GB" sz="2300" spc="-1" strike="noStrike">
                  <a:solidFill>
                    <a:srgbClr val="ff0000"/>
                  </a:solidFill>
                  <a:latin typeface="Arial"/>
                </a:rPr>
                <a:t>safe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112920" y="5703840"/>
            <a:ext cx="6592680" cy="458280"/>
            <a:chOff x="3112920" y="5703840"/>
            <a:chExt cx="6592680" cy="458280"/>
          </a:xfrm>
        </p:grpSpPr>
        <p:sp>
          <p:nvSpPr>
            <p:cNvPr id="487" name=""/>
            <p:cNvSpPr/>
            <p:nvPr/>
          </p:nvSpPr>
          <p:spPr>
            <a:xfrm>
              <a:off x="3112920" y="5786640"/>
              <a:ext cx="882360" cy="216000"/>
            </a:xfrm>
            <a:prstGeom prst="rightArrow">
              <a:avLst>
                <a:gd name="adj1" fmla="val 50000"/>
                <a:gd name="adj2" fmla="val 204572"/>
              </a:avLst>
            </a:prstGeom>
            <a:solidFill>
              <a:srgbClr val="9ecc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27920" y="5703840"/>
              <a:ext cx="537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300" spc="-1" strike="noStrike">
                  <a:solidFill>
                    <a:srgbClr val="ff0000"/>
                  </a:solidFill>
                  <a:latin typeface="Arial"/>
                </a:rPr>
                <a:t>Export marke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for European indus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112920" y="2752560"/>
            <a:ext cx="6592680" cy="824040"/>
            <a:chOff x="3112920" y="2752560"/>
            <a:chExt cx="6592680" cy="824040"/>
          </a:xfrm>
        </p:grpSpPr>
        <p:sp>
          <p:nvSpPr>
            <p:cNvPr id="490" name=""/>
            <p:cNvSpPr/>
            <p:nvPr/>
          </p:nvSpPr>
          <p:spPr>
            <a:xfrm>
              <a:off x="3112920" y="2835360"/>
              <a:ext cx="882360" cy="215640"/>
            </a:xfrm>
            <a:prstGeom prst="rightArrow">
              <a:avLst>
                <a:gd name="adj1" fmla="val 50000"/>
                <a:gd name="adj2" fmla="val 204913"/>
              </a:avLst>
            </a:prstGeom>
            <a:solidFill>
              <a:srgbClr val="9ecc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27920" y="2752560"/>
              <a:ext cx="5377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ncreased </a:t>
              </a:r>
              <a:r>
                <a:rPr b="1" lang="en-GB" sz="2300" spc="-1" strike="noStrike">
                  <a:solidFill>
                    <a:srgbClr val="ff0000"/>
                  </a:solidFill>
                  <a:latin typeface="Arial"/>
                </a:rPr>
                <a:t>reliability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and reduced journey </a:t>
              </a:r>
              <a:r>
                <a:rPr b="1" lang="en-GB" sz="2300" spc="-1" strike="noStrike">
                  <a:solidFill>
                    <a:srgbClr val="ff0000"/>
                  </a:solidFill>
                  <a:latin typeface="Arial"/>
                </a:rPr>
                <a:t>tim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112920" y="4732200"/>
            <a:ext cx="6592680" cy="824040"/>
            <a:chOff x="3112920" y="4732200"/>
            <a:chExt cx="6592680" cy="824040"/>
          </a:xfrm>
        </p:grpSpPr>
        <p:sp>
          <p:nvSpPr>
            <p:cNvPr id="493" name=""/>
            <p:cNvSpPr/>
            <p:nvPr/>
          </p:nvSpPr>
          <p:spPr>
            <a:xfrm>
              <a:off x="3112920" y="4814640"/>
              <a:ext cx="882360" cy="214920"/>
            </a:xfrm>
            <a:prstGeom prst="rightArrow">
              <a:avLst>
                <a:gd name="adj1" fmla="val 50000"/>
                <a:gd name="adj2" fmla="val 205599"/>
              </a:avLst>
            </a:prstGeom>
            <a:solidFill>
              <a:srgbClr val="9ecc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327920" y="4732200"/>
              <a:ext cx="5377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engthening of </a:t>
              </a:r>
              <a:r>
                <a:rPr b="1" lang="en-GB" sz="2300" spc="-1" strike="noStrike">
                  <a:solidFill>
                    <a:srgbClr val="ff0000"/>
                  </a:solidFill>
                  <a:latin typeface="Arial"/>
                </a:rPr>
                <a:t>internal market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removal of cross-border barri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906480" y="692280"/>
            <a:ext cx="6386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Benefits of ERT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3079800" y="1557360"/>
            <a:ext cx="6702120" cy="442800"/>
            <a:chOff x="3079800" y="1557360"/>
            <a:chExt cx="6702120" cy="442800"/>
          </a:xfrm>
        </p:grpSpPr>
        <p:sp>
          <p:nvSpPr>
            <p:cNvPr id="497" name=""/>
            <p:cNvSpPr/>
            <p:nvPr/>
          </p:nvSpPr>
          <p:spPr>
            <a:xfrm>
              <a:off x="3079800" y="1639800"/>
              <a:ext cx="897120" cy="215280"/>
            </a:xfrm>
            <a:prstGeom prst="rightArrow">
              <a:avLst>
                <a:gd name="adj1" fmla="val 50000"/>
                <a:gd name="adj2" fmla="val 208689"/>
              </a:avLst>
            </a:prstGeom>
            <a:solidFill>
              <a:srgbClr val="9ecc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314960" y="1557360"/>
              <a:ext cx="54669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300" spc="-1" strike="noStrike">
                  <a:solidFill>
                    <a:srgbClr val="ff0000"/>
                  </a:solidFill>
                  <a:latin typeface="Arial"/>
                </a:rPr>
                <a:t>Universal</a:t>
              </a:r>
              <a:r>
                <a:rPr b="0" lang="en-GB" sz="2300" spc="-1" strike="noStrike">
                  <a:solidFill>
                    <a:srgbClr val="000000"/>
                  </a:solidFill>
                  <a:latin typeface="Arial"/>
                </a:rPr>
                <a:t> system 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(line and traffic type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68320" y="691920"/>
            <a:ext cx="9283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ERTMS: what is the situation today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98560" y="1482840"/>
            <a:ext cx="865656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Aft>
                <a:spcPts val="814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00 km in servic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freight, passenger, mixed traffic; high speed, conventional) in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814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High satisfact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of users (performance, ergonomic aspects for drive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2112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between different manufacturers achieved in the framework of different proje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033720" y="-27000"/>
            <a:ext cx="7103880" cy="68850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114120" y="2271240"/>
            <a:ext cx="63975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Aft>
                <a:spcPts val="150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rridor A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otterdam-Gen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Aft>
                <a:spcPts val="150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rridor B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tockholm-Nap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Aft>
                <a:spcPts val="150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rridor C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twerp-Basel-L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53160" y="0"/>
            <a:ext cx="2652840" cy="9169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% of the total network and 20% of total freight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98360" y="774720"/>
            <a:ext cx="3021120" cy="15951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Arial"/>
              </a:rPr>
              <a:t>ERTMS Corridors: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bringing all actors on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36440" y="3716280"/>
            <a:ext cx="72932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Aft>
                <a:spcPts val="150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rridor D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encia-Lyon-Ljubljana-Budap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Aft>
                <a:spcPts val="150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rridor 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resden-Prague-Budap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Aft>
                <a:spcPts val="150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rridor 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achen-Berlin-Warsaw-Teres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74880" y="692280"/>
            <a:ext cx="971208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3300"/>
                </a:solidFill>
                <a:latin typeface="Arial"/>
              </a:rPr>
              <a:t>ERTMS Corri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442880" y="1568520"/>
            <a:ext cx="7567920" cy="457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suring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ordin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activities at an early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ping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interoperability ear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ncreasing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capacity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competi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5e1a"/>
                </a:solidFill>
                <a:latin typeface="Arial"/>
              </a:rPr>
              <a:t>Corridors focus on three types of meas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iminating infrastructur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ploy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RT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monising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erational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bab"/>
                </a:solidFill>
                <a:latin typeface="Arial"/>
              </a:rPr>
              <a:t>Community Con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895320" y="1811160"/>
          <a:ext cx="8659440" cy="4425840"/>
        </p:xfrm>
        <a:graphic>
          <a:graphicData uri="http://schemas.openxmlformats.org/drawingml/2006/table">
            <a:tbl>
              <a:tblPr/>
              <a:tblGrid>
                <a:gridCol w="3045600"/>
                <a:gridCol w="2029680"/>
                <a:gridCol w="1830600"/>
                <a:gridCol w="1753560"/>
              </a:tblGrid>
              <a:tr h="8600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ty Contribu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-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8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 net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IL net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8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rail over Trans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 polic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ERDF + C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.8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.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-T f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B lo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mmunity Contrib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895320" y="1811160"/>
          <a:ext cx="8659440" cy="4425840"/>
        </p:xfrm>
        <a:graphic>
          <a:graphicData uri="http://schemas.openxmlformats.org/drawingml/2006/table">
            <a:tbl>
              <a:tblPr/>
              <a:tblGrid>
                <a:gridCol w="3048120"/>
                <a:gridCol w="1885320"/>
                <a:gridCol w="1973880"/>
                <a:gridCol w="1752120"/>
              </a:tblGrid>
              <a:tr h="9270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-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ty Contribution 2007-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-T overall net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-T RAIL net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rail ov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-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 polic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ERDF + C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.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4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,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-T f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B lo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2" name=""/>
          <p:cNvGraphicFramePr/>
          <p:nvPr/>
        </p:nvGraphicFramePr>
        <p:xfrm>
          <a:off x="895320" y="1811160"/>
          <a:ext cx="8659440" cy="4425840"/>
        </p:xfrm>
        <a:graphic>
          <a:graphicData uri="http://schemas.openxmlformats.org/drawingml/2006/table">
            <a:tbl>
              <a:tblPr/>
              <a:tblGrid>
                <a:gridCol w="3047400"/>
                <a:gridCol w="1773720"/>
                <a:gridCol w="2085840"/>
                <a:gridCol w="1752480"/>
              </a:tblGrid>
              <a:tr h="8902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-T Priority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ty Contribution 2007-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-T P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-T RAIL P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rail over P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 polic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ERDF + C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-T f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B lo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920520" y="620640"/>
            <a:ext cx="891540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European Deployment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62040" y="1700280"/>
            <a:ext cx="8659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15 : requirements to equip substantial parts of corri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20 : main freight hubs linked to the corri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EU-funded projects : mandatory ERT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Entry into force – 1 Sept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3160" y="-46080"/>
            <a:ext cx="9489960" cy="6904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2505240" y="74520"/>
            <a:ext cx="7119720" cy="9219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ERTMS European Deployment Plan   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74880" y="765000"/>
            <a:ext cx="77943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European Commis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81240" y="1700280"/>
            <a:ext cx="750384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nitiating and implementing railway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mpetition rules: Merger Control, State A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afety and Interoperabil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xternal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nalysis and market observ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inancing infra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esea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31440" y="2997360"/>
            <a:ext cx="94107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 for your att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74880" y="765000"/>
            <a:ext cx="77230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Simplification of Railway Legis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36520" y="1557360"/>
            <a:ext cx="7504200" cy="48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in effect: 8 different directives on market access. Adopted since 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pdating, simpliying, clarifying and prec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inancial stability and investment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ccess to terminals, charging r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einforcing cooperation of different regulators, infrastructure managers and railway undertakings across borde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74880" y="765000"/>
            <a:ext cx="4740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Infrin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36520" y="1557360"/>
            <a:ext cx="7504200" cy="48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: Fair Marke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ack of independence of infrastructure manager in relation to (incumbent) railway undertak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ack of performance incentives – performance schemes, cost management and charges according to market can b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ail regulator: lack of powers, lack of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ormal notice of June 2008 to 24 Member States and constructive dialogue with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easoned opinion to 21 Member States in 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74880" y="765000"/>
            <a:ext cx="77230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Commission as a complaint bod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36520" y="1557360"/>
            <a:ext cx="7504200" cy="52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No complaints 1991 – 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alculation of full costs for infrastructur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rtification of train driver schoo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ccess to sidings: unfavourable access times and user char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oo strong role of incumbent in taffic control cen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e-homologation’ of locos already homologated in another Member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74880" y="765000"/>
            <a:ext cx="4740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What is ERTM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train_055.gif"/>
          <p:cNvPicPr/>
          <p:nvPr/>
        </p:nvPicPr>
        <p:blipFill>
          <a:blip r:embed="rId1"/>
          <a:stretch/>
        </p:blipFill>
        <p:spPr>
          <a:xfrm>
            <a:off x="7292880" y="3787920"/>
            <a:ext cx="2419560" cy="1357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ordi_067.jpg"/>
          <p:cNvPicPr/>
          <p:nvPr/>
        </p:nvPicPr>
        <p:blipFill>
          <a:blip r:embed="rId2"/>
          <a:stretch/>
        </p:blipFill>
        <p:spPr>
          <a:xfrm>
            <a:off x="8369280" y="4373640"/>
            <a:ext cx="446040" cy="430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921800" y="5935680"/>
            <a:ext cx="1433160" cy="733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977760" y="1482840"/>
            <a:ext cx="645192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TCS 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in Contro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5000"/>
              </a:lnSpc>
              <a:spcAft>
                <a:spcPts val="1049"/>
              </a:spcAft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sures adequat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safety margi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between t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5000"/>
              </a:lnSpc>
              <a:spcAft>
                <a:spcPts val="1049"/>
              </a:spcAft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creases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 line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5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5000"/>
              </a:lnSpc>
              <a:spcAft>
                <a:spcPts val="1049"/>
              </a:spcAft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ed limi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ransmitted from track to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5000"/>
              </a:lnSpc>
              <a:spcAft>
                <a:spcPts val="1049"/>
              </a:spcAft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iver’s scre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s permitted maximum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5000"/>
              </a:lnSpc>
              <a:spcAft>
                <a:spcPts val="1049"/>
              </a:spcAft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-board compute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s the trai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speed limit is exceede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365200" y="2058840"/>
            <a:ext cx="7269120" cy="506520"/>
            <a:chOff x="2365200" y="2058840"/>
            <a:chExt cx="7269120" cy="506520"/>
          </a:xfrm>
        </p:grpSpPr>
        <p:grpSp>
          <p:nvGrpSpPr>
            <p:cNvPr id="209" name=""/>
            <p:cNvGrpSpPr/>
            <p:nvPr/>
          </p:nvGrpSpPr>
          <p:grpSpPr>
            <a:xfrm>
              <a:off x="7825680" y="2377080"/>
              <a:ext cx="1141200" cy="121680"/>
              <a:chOff x="7825680" y="2377080"/>
              <a:chExt cx="1141200" cy="12168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7872120" y="2479680"/>
                <a:ext cx="194760" cy="19080"/>
                <a:chOff x="7872120" y="2479680"/>
                <a:chExt cx="194760" cy="190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7894080" y="2489760"/>
                  <a:ext cx="148680" cy="5040"/>
                </a:xfrm>
                <a:prstGeom prst="rect">
                  <a:avLst/>
                </a:prstGeom>
                <a:solidFill>
                  <a:srgbClr val="f76681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872120" y="2479680"/>
                  <a:ext cx="46080" cy="19080"/>
                </a:xfrm>
                <a:prstGeom prst="ellipse">
                  <a:avLst/>
                </a:prstGeom>
                <a:solidFill>
                  <a:srgbClr val="eaeaea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020440" y="2479680"/>
                  <a:ext cx="46440" cy="19080"/>
                </a:xfrm>
                <a:prstGeom prst="ellipse">
                  <a:avLst/>
                </a:prstGeom>
                <a:solidFill>
                  <a:srgbClr val="eaeaea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8605080" y="2479680"/>
                <a:ext cx="194760" cy="19080"/>
                <a:chOff x="8605080" y="2479680"/>
                <a:chExt cx="194760" cy="190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8628840" y="2489760"/>
                  <a:ext cx="148320" cy="5040"/>
                </a:xfrm>
                <a:prstGeom prst="rect">
                  <a:avLst/>
                </a:prstGeom>
                <a:solidFill>
                  <a:srgbClr val="f76681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605080" y="2479680"/>
                  <a:ext cx="46080" cy="19080"/>
                </a:xfrm>
                <a:prstGeom prst="ellipse">
                  <a:avLst/>
                </a:prstGeom>
                <a:solidFill>
                  <a:srgbClr val="eaeaea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755200" y="2479680"/>
                  <a:ext cx="44640" cy="19080"/>
                </a:xfrm>
                <a:prstGeom prst="ellipse">
                  <a:avLst/>
                </a:prstGeom>
                <a:solidFill>
                  <a:srgbClr val="eaeaea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7825680" y="2391480"/>
                <a:ext cx="1020600" cy="925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825680" y="2377080"/>
                <a:ext cx="1020600" cy="900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7844040" y="2401560"/>
                <a:ext cx="111960" cy="28800"/>
                <a:chOff x="7844040" y="2401560"/>
                <a:chExt cx="111960" cy="2880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7848000" y="2401560"/>
                  <a:ext cx="103680" cy="288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a2c1fe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844040" y="2408760"/>
                  <a:ext cx="11196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8715960" y="2401560"/>
                <a:ext cx="112320" cy="28800"/>
                <a:chOff x="8715960" y="2401560"/>
                <a:chExt cx="112320" cy="2880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8719920" y="2401560"/>
                  <a:ext cx="104040" cy="288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a2c1fe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8715960" y="2408760"/>
                  <a:ext cx="11232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8560080" y="2401560"/>
                <a:ext cx="57240" cy="82800"/>
              </a:xfrm>
              <a:custGeom>
                <a:avLst/>
                <a:gdLst>
                  <a:gd name="textAreaLeft" fmla="*/ 1800 w 57240"/>
                  <a:gd name="textAreaRight" fmla="*/ 55440 w 57240"/>
                  <a:gd name="textAreaTop" fmla="*/ 1800 h 82800"/>
                  <a:gd name="textAreaBottom" fmla="*/ 81000 h 82800"/>
                </a:gdLst>
                <a:ahLst/>
                <a:rect l="textAreaLeft" t="textAreaTop" r="textAreaRight" b="textAreaBottom"/>
                <a:pathLst>
                  <a:path w="21600" h="31185">
                    <a:moveTo>
                      <a:pt x="2697" y="0"/>
                    </a:moveTo>
                    <a:arcTo wR="2697" hR="2697" stAng="16200000" swAng="-5400000"/>
                    <a:lnTo>
                      <a:pt x="0" y="28488"/>
                    </a:lnTo>
                    <a:arcTo wR="2697" hR="2697" stAng="10800000" swAng="-5400000"/>
                    <a:lnTo>
                      <a:pt x="18903" y="31185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71240" y="2405880"/>
                <a:ext cx="36360" cy="57960"/>
              </a:xfrm>
              <a:custGeom>
                <a:avLst/>
                <a:gdLst>
                  <a:gd name="textAreaLeft" fmla="*/ 1080 w 36360"/>
                  <a:gd name="textAreaRight" fmla="*/ 35280 w 36360"/>
                  <a:gd name="textAreaTop" fmla="*/ 1080 h 57960"/>
                  <a:gd name="textAreaBottom" fmla="*/ 56880 h 57960"/>
                </a:gdLst>
                <a:ahLst/>
                <a:rect l="textAreaLeft" t="textAreaTop" r="textAreaRight" b="textAreaBottom"/>
                <a:pathLst>
                  <a:path w="21600" h="34306">
                    <a:moveTo>
                      <a:pt x="2697" y="0"/>
                    </a:moveTo>
                    <a:arcTo wR="2697" hR="2697" stAng="16200000" swAng="-5400000"/>
                    <a:lnTo>
                      <a:pt x="0" y="31609"/>
                    </a:lnTo>
                    <a:arcTo wR="2697" hR="2697" stAng="10800000" swAng="-5400000"/>
                    <a:lnTo>
                      <a:pt x="18903" y="34306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628840" y="2401560"/>
                <a:ext cx="57240" cy="82800"/>
              </a:xfrm>
              <a:custGeom>
                <a:avLst/>
                <a:gdLst>
                  <a:gd name="textAreaLeft" fmla="*/ 1800 w 57240"/>
                  <a:gd name="textAreaRight" fmla="*/ 55440 w 57240"/>
                  <a:gd name="textAreaTop" fmla="*/ 1800 h 82800"/>
                  <a:gd name="textAreaBottom" fmla="*/ 81000 h 82800"/>
                </a:gdLst>
                <a:ahLst/>
                <a:rect l="textAreaLeft" t="textAreaTop" r="textAreaRight" b="textAreaBottom"/>
                <a:pathLst>
                  <a:path w="21600" h="31185">
                    <a:moveTo>
                      <a:pt x="2697" y="0"/>
                    </a:moveTo>
                    <a:arcTo wR="2697" hR="2697" stAng="16200000" swAng="-5400000"/>
                    <a:lnTo>
                      <a:pt x="0" y="28488"/>
                    </a:lnTo>
                    <a:arcTo wR="2697" hR="2697" stAng="10800000" swAng="-5400000"/>
                    <a:lnTo>
                      <a:pt x="18903" y="31185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640000" y="2405880"/>
                <a:ext cx="34920" cy="57960"/>
              </a:xfrm>
              <a:custGeom>
                <a:avLst/>
                <a:gdLst>
                  <a:gd name="textAreaLeft" fmla="*/ 1080 w 34920"/>
                  <a:gd name="textAreaRight" fmla="*/ 33840 w 34920"/>
                  <a:gd name="textAreaTop" fmla="*/ 1080 h 57960"/>
                  <a:gd name="textAreaBottom" fmla="*/ 56880 h 57960"/>
                </a:gdLst>
                <a:ahLst/>
                <a:rect l="textAreaLeft" t="textAreaTop" r="textAreaRight" b="textAreaBottom"/>
                <a:pathLst>
                  <a:path w="21600" h="35706">
                    <a:moveTo>
                      <a:pt x="2697" y="0"/>
                    </a:moveTo>
                    <a:arcTo wR="2697" hR="2697" stAng="16200000" swAng="-5400000"/>
                    <a:lnTo>
                      <a:pt x="0" y="33009"/>
                    </a:lnTo>
                    <a:arcTo wR="2697" hR="2697" stAng="10800000" swAng="-5400000"/>
                    <a:lnTo>
                      <a:pt x="18903" y="35706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985520" y="2401560"/>
                <a:ext cx="57600" cy="82800"/>
              </a:xfrm>
              <a:custGeom>
                <a:avLst/>
                <a:gdLst>
                  <a:gd name="textAreaLeft" fmla="*/ 1800 w 57600"/>
                  <a:gd name="textAreaRight" fmla="*/ 55800 w 57600"/>
                  <a:gd name="textAreaTop" fmla="*/ 1800 h 82800"/>
                  <a:gd name="textAreaBottom" fmla="*/ 81000 h 82800"/>
                </a:gdLst>
                <a:ahLst/>
                <a:rect l="textAreaLeft" t="textAreaTop" r="textAreaRight" b="textAreaBottom"/>
                <a:pathLst>
                  <a:path w="21600" h="30991">
                    <a:moveTo>
                      <a:pt x="2697" y="0"/>
                    </a:moveTo>
                    <a:arcTo wR="2697" hR="2697" stAng="16200000" swAng="-5400000"/>
                    <a:lnTo>
                      <a:pt x="0" y="28294"/>
                    </a:lnTo>
                    <a:arcTo wR="2697" hR="2697" stAng="10800000" swAng="-5400000"/>
                    <a:lnTo>
                      <a:pt x="18903" y="30991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998480" y="2405880"/>
                <a:ext cx="33480" cy="57960"/>
              </a:xfrm>
              <a:custGeom>
                <a:avLst/>
                <a:gdLst>
                  <a:gd name="textAreaLeft" fmla="*/ 1080 w 33480"/>
                  <a:gd name="textAreaRight" fmla="*/ 32400 w 33480"/>
                  <a:gd name="textAreaTop" fmla="*/ 1080 h 57960"/>
                  <a:gd name="textAreaBottom" fmla="*/ 56880 h 57960"/>
                </a:gdLst>
                <a:ahLst/>
                <a:rect l="textAreaLeft" t="textAreaTop" r="textAreaRight" b="textAreaBottom"/>
                <a:pathLst>
                  <a:path w="21600" h="37226">
                    <a:moveTo>
                      <a:pt x="2697" y="0"/>
                    </a:moveTo>
                    <a:arcTo wR="2697" hR="2697" stAng="16200000" swAng="-5400000"/>
                    <a:lnTo>
                      <a:pt x="0" y="34529"/>
                    </a:lnTo>
                    <a:arcTo wR="2697" hR="2697" stAng="10800000" swAng="-5400000"/>
                    <a:lnTo>
                      <a:pt x="18903" y="37226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054280" y="2401560"/>
                <a:ext cx="57600" cy="82800"/>
              </a:xfrm>
              <a:custGeom>
                <a:avLst/>
                <a:gdLst>
                  <a:gd name="textAreaLeft" fmla="*/ 1800 w 57600"/>
                  <a:gd name="textAreaRight" fmla="*/ 55800 w 57600"/>
                  <a:gd name="textAreaTop" fmla="*/ 1800 h 82800"/>
                  <a:gd name="textAreaBottom" fmla="*/ 81000 h 82800"/>
                </a:gdLst>
                <a:ahLst/>
                <a:rect l="textAreaLeft" t="textAreaTop" r="textAreaRight" b="textAreaBottom"/>
                <a:pathLst>
                  <a:path w="21600" h="30991">
                    <a:moveTo>
                      <a:pt x="2697" y="0"/>
                    </a:moveTo>
                    <a:arcTo wR="2697" hR="2697" stAng="16200000" swAng="-5400000"/>
                    <a:lnTo>
                      <a:pt x="0" y="28294"/>
                    </a:lnTo>
                    <a:arcTo wR="2697" hR="2697" stAng="10800000" swAng="-5400000"/>
                    <a:lnTo>
                      <a:pt x="18903" y="30991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067240" y="2405880"/>
                <a:ext cx="33480" cy="57960"/>
              </a:xfrm>
              <a:custGeom>
                <a:avLst/>
                <a:gdLst>
                  <a:gd name="textAreaLeft" fmla="*/ 1080 w 33480"/>
                  <a:gd name="textAreaRight" fmla="*/ 32400 w 33480"/>
                  <a:gd name="textAreaTop" fmla="*/ 1080 h 57960"/>
                  <a:gd name="textAreaBottom" fmla="*/ 56880 h 57960"/>
                </a:gdLst>
                <a:ahLst/>
                <a:rect l="textAreaLeft" t="textAreaTop" r="textAreaRight" b="textAreaBottom"/>
                <a:pathLst>
                  <a:path w="21600" h="37226">
                    <a:moveTo>
                      <a:pt x="2697" y="0"/>
                    </a:moveTo>
                    <a:arcTo wR="2697" hR="2697" stAng="16200000" swAng="-5400000"/>
                    <a:lnTo>
                      <a:pt x="0" y="34529"/>
                    </a:lnTo>
                    <a:arcTo wR="2697" hR="2697" stAng="10800000" swAng="-5400000"/>
                    <a:lnTo>
                      <a:pt x="18903" y="37226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8142840" y="2401560"/>
                <a:ext cx="112320" cy="28800"/>
                <a:chOff x="8142840" y="2401560"/>
                <a:chExt cx="112320" cy="288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8146800" y="2401560"/>
                  <a:ext cx="102240" cy="288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a2c1fe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8142840" y="2408760"/>
                  <a:ext cx="11232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8280720" y="2401560"/>
                <a:ext cx="113400" cy="28800"/>
                <a:chOff x="8280720" y="2401560"/>
                <a:chExt cx="113400" cy="288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8284680" y="2401560"/>
                  <a:ext cx="103680" cy="288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a2c1fe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8280720" y="2408760"/>
                  <a:ext cx="11340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8418240" y="2401560"/>
                <a:ext cx="112320" cy="28800"/>
                <a:chOff x="8418240" y="2401560"/>
                <a:chExt cx="112320" cy="288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8422200" y="2401560"/>
                  <a:ext cx="102240" cy="288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a2c1fe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418240" y="2408760"/>
                  <a:ext cx="11232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8857440" y="2377080"/>
                <a:ext cx="46440" cy="9000"/>
              </a:xfrm>
              <a:prstGeom prst="rtTriangle">
                <a:avLst/>
              </a:pr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852040" y="2388600"/>
                <a:ext cx="114840" cy="97920"/>
              </a:xfrm>
              <a:custGeom>
                <a:avLst/>
                <a:gdLst/>
                <a:ahLst/>
                <a:rect l="l" t="t" r="r" b="b"/>
                <a:pathLst>
                  <a:path w="82" h="148">
                    <a:moveTo>
                      <a:pt x="0" y="0"/>
                    </a:moveTo>
                    <a:lnTo>
                      <a:pt x="40" y="0"/>
                    </a:lnTo>
                    <a:lnTo>
                      <a:pt x="57" y="22"/>
                    </a:lnTo>
                    <a:lnTo>
                      <a:pt x="73" y="59"/>
                    </a:lnTo>
                    <a:lnTo>
                      <a:pt x="81" y="103"/>
                    </a:lnTo>
                    <a:lnTo>
                      <a:pt x="81" y="125"/>
                    </a:lnTo>
                    <a:lnTo>
                      <a:pt x="65" y="147"/>
                    </a:lnTo>
                    <a:lnTo>
                      <a:pt x="0" y="1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52040" y="2398680"/>
                <a:ext cx="103680" cy="34560"/>
              </a:xfrm>
              <a:custGeom>
                <a:avLst/>
                <a:gdLst/>
                <a:ahLst/>
                <a:rect l="l" t="t" r="r" b="b"/>
                <a:pathLst>
                  <a:path w="74" h="52">
                    <a:moveTo>
                      <a:pt x="0" y="0"/>
                    </a:moveTo>
                    <a:lnTo>
                      <a:pt x="49" y="0"/>
                    </a:lnTo>
                    <a:lnTo>
                      <a:pt x="73" y="51"/>
                    </a:lnTo>
                    <a:lnTo>
                      <a:pt x="0" y="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2c1fe"/>
              </a:solidFill>
              <a:ln cap="rnd"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903040" y="2377080"/>
              <a:ext cx="1142640" cy="121680"/>
              <a:chOff x="2903040" y="2377080"/>
              <a:chExt cx="1142640" cy="12168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2950560" y="2479680"/>
                <a:ext cx="194760" cy="19080"/>
                <a:chOff x="2950560" y="2479680"/>
                <a:chExt cx="194760" cy="1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2972880" y="2489760"/>
                  <a:ext cx="148320" cy="5040"/>
                </a:xfrm>
                <a:prstGeom prst="rect">
                  <a:avLst/>
                </a:prstGeom>
                <a:solidFill>
                  <a:srgbClr val="f76681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950560" y="2479680"/>
                  <a:ext cx="46440" cy="19080"/>
                </a:xfrm>
                <a:prstGeom prst="ellipse">
                  <a:avLst/>
                </a:prstGeom>
                <a:solidFill>
                  <a:srgbClr val="eaeaea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099240" y="2479680"/>
                  <a:ext cx="46080" cy="19080"/>
                </a:xfrm>
                <a:prstGeom prst="ellipse">
                  <a:avLst/>
                </a:prstGeom>
                <a:solidFill>
                  <a:srgbClr val="eaeaea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3683520" y="2479680"/>
                <a:ext cx="193680" cy="19080"/>
                <a:chOff x="3683520" y="2479680"/>
                <a:chExt cx="193680" cy="190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705840" y="2489760"/>
                  <a:ext cx="149760" cy="5040"/>
                </a:xfrm>
                <a:prstGeom prst="rect">
                  <a:avLst/>
                </a:prstGeom>
                <a:solidFill>
                  <a:srgbClr val="f76681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683520" y="2479680"/>
                  <a:ext cx="46440" cy="19080"/>
                </a:xfrm>
                <a:prstGeom prst="ellipse">
                  <a:avLst/>
                </a:prstGeom>
                <a:solidFill>
                  <a:srgbClr val="eaeaea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833640" y="2479680"/>
                  <a:ext cx="43560" cy="19080"/>
                </a:xfrm>
                <a:prstGeom prst="ellipse">
                  <a:avLst/>
                </a:prstGeom>
                <a:solidFill>
                  <a:srgbClr val="eaeaea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" name=""/>
              <p:cNvSpPr/>
              <p:nvPr/>
            </p:nvSpPr>
            <p:spPr>
              <a:xfrm>
                <a:off x="2903040" y="2391480"/>
                <a:ext cx="1022040" cy="925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903040" y="2377080"/>
                <a:ext cx="1022040" cy="900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2922480" y="2401560"/>
                <a:ext cx="112320" cy="28800"/>
                <a:chOff x="2922480" y="2401560"/>
                <a:chExt cx="112320" cy="288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926440" y="2401560"/>
                  <a:ext cx="104040" cy="288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a2c1fe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922480" y="2408760"/>
                  <a:ext cx="11232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3794400" y="2401560"/>
                <a:ext cx="112320" cy="28800"/>
                <a:chOff x="3794400" y="2401560"/>
                <a:chExt cx="112320" cy="28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796920" y="2401560"/>
                  <a:ext cx="105120" cy="288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a2c1fe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794400" y="2408760"/>
                  <a:ext cx="11232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3638520" y="2401560"/>
                <a:ext cx="55800" cy="82800"/>
              </a:xfrm>
              <a:custGeom>
                <a:avLst/>
                <a:gdLst>
                  <a:gd name="textAreaLeft" fmla="*/ 1800 w 55800"/>
                  <a:gd name="textAreaRight" fmla="*/ 54000 w 55800"/>
                  <a:gd name="textAreaTop" fmla="*/ 1800 h 82800"/>
                  <a:gd name="textAreaBottom" fmla="*/ 81000 h 82800"/>
                </a:gdLst>
                <a:ahLst/>
                <a:rect l="textAreaLeft" t="textAreaTop" r="textAreaRight" b="textAreaBottom"/>
                <a:pathLst>
                  <a:path w="21600" h="31985">
                    <a:moveTo>
                      <a:pt x="2697" y="0"/>
                    </a:moveTo>
                    <a:arcTo wR="2697" hR="2697" stAng="16200000" swAng="-5400000"/>
                    <a:lnTo>
                      <a:pt x="0" y="29288"/>
                    </a:lnTo>
                    <a:arcTo wR="2697" hR="2697" stAng="10800000" swAng="-5400000"/>
                    <a:lnTo>
                      <a:pt x="18903" y="31985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49680" y="2405880"/>
                <a:ext cx="34920" cy="57960"/>
              </a:xfrm>
              <a:custGeom>
                <a:avLst/>
                <a:gdLst>
                  <a:gd name="textAreaLeft" fmla="*/ 1080 w 34920"/>
                  <a:gd name="textAreaRight" fmla="*/ 33840 w 34920"/>
                  <a:gd name="textAreaTop" fmla="*/ 1080 h 57960"/>
                  <a:gd name="textAreaBottom" fmla="*/ 56880 h 57960"/>
                </a:gdLst>
                <a:ahLst/>
                <a:rect l="textAreaLeft" t="textAreaTop" r="textAreaRight" b="textAreaBottom"/>
                <a:pathLst>
                  <a:path w="21600" h="35706">
                    <a:moveTo>
                      <a:pt x="2697" y="0"/>
                    </a:moveTo>
                    <a:arcTo wR="2697" hR="2697" stAng="16200000" swAng="-5400000"/>
                    <a:lnTo>
                      <a:pt x="0" y="33009"/>
                    </a:lnTo>
                    <a:arcTo wR="2697" hR="2697" stAng="10800000" swAng="-5400000"/>
                    <a:lnTo>
                      <a:pt x="18903" y="35706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706200" y="2401560"/>
                <a:ext cx="58680" cy="82800"/>
              </a:xfrm>
              <a:custGeom>
                <a:avLst/>
                <a:gdLst>
                  <a:gd name="textAreaLeft" fmla="*/ 1800 w 58680"/>
                  <a:gd name="textAreaRight" fmla="*/ 56880 w 58680"/>
                  <a:gd name="textAreaTop" fmla="*/ 1800 h 82800"/>
                  <a:gd name="textAreaBottom" fmla="*/ 81000 h 82800"/>
                </a:gdLst>
                <a:ahLst/>
                <a:rect l="textAreaLeft" t="textAreaTop" r="textAreaRight" b="textAreaBottom"/>
                <a:pathLst>
                  <a:path w="21600" h="30424">
                    <a:moveTo>
                      <a:pt x="2697" y="0"/>
                    </a:moveTo>
                    <a:arcTo wR="2697" hR="2697" stAng="16200000" swAng="-5400000"/>
                    <a:lnTo>
                      <a:pt x="0" y="27727"/>
                    </a:lnTo>
                    <a:arcTo wR="2697" hR="2697" stAng="10800000" swAng="-5400000"/>
                    <a:lnTo>
                      <a:pt x="18903" y="30424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18440" y="2405880"/>
                <a:ext cx="35280" cy="57960"/>
              </a:xfrm>
              <a:custGeom>
                <a:avLst/>
                <a:gdLst>
                  <a:gd name="textAreaLeft" fmla="*/ 1080 w 35280"/>
                  <a:gd name="textAreaRight" fmla="*/ 34200 w 35280"/>
                  <a:gd name="textAreaTop" fmla="*/ 1080 h 57960"/>
                  <a:gd name="textAreaBottom" fmla="*/ 56880 h 57960"/>
                </a:gdLst>
                <a:ahLst/>
                <a:rect l="textAreaLeft" t="textAreaTop" r="textAreaRight" b="textAreaBottom"/>
                <a:pathLst>
                  <a:path w="21600" h="35345">
                    <a:moveTo>
                      <a:pt x="2697" y="0"/>
                    </a:moveTo>
                    <a:arcTo wR="2697" hR="2697" stAng="16200000" swAng="-5400000"/>
                    <a:lnTo>
                      <a:pt x="0" y="32648"/>
                    </a:lnTo>
                    <a:arcTo wR="2697" hR="2697" stAng="10800000" swAng="-5400000"/>
                    <a:lnTo>
                      <a:pt x="18903" y="35345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064320" y="2401560"/>
                <a:ext cx="57600" cy="82800"/>
              </a:xfrm>
              <a:custGeom>
                <a:avLst/>
                <a:gdLst>
                  <a:gd name="textAreaLeft" fmla="*/ 1800 w 57600"/>
                  <a:gd name="textAreaRight" fmla="*/ 55800 w 57600"/>
                  <a:gd name="textAreaTop" fmla="*/ 1800 h 82800"/>
                  <a:gd name="textAreaBottom" fmla="*/ 81000 h 82800"/>
                </a:gdLst>
                <a:ahLst/>
                <a:rect l="textAreaLeft" t="textAreaTop" r="textAreaRight" b="textAreaBottom"/>
                <a:pathLst>
                  <a:path w="21600" h="30991">
                    <a:moveTo>
                      <a:pt x="2697" y="0"/>
                    </a:moveTo>
                    <a:arcTo wR="2697" hR="2697" stAng="16200000" swAng="-5400000"/>
                    <a:lnTo>
                      <a:pt x="0" y="28294"/>
                    </a:lnTo>
                    <a:arcTo wR="2697" hR="2697" stAng="10800000" swAng="-5400000"/>
                    <a:lnTo>
                      <a:pt x="18903" y="30991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76920" y="2405880"/>
                <a:ext cx="33480" cy="57960"/>
              </a:xfrm>
              <a:custGeom>
                <a:avLst/>
                <a:gdLst>
                  <a:gd name="textAreaLeft" fmla="*/ 1080 w 33480"/>
                  <a:gd name="textAreaRight" fmla="*/ 32400 w 33480"/>
                  <a:gd name="textAreaTop" fmla="*/ 1080 h 57960"/>
                  <a:gd name="textAreaBottom" fmla="*/ 56880 h 57960"/>
                </a:gdLst>
                <a:ahLst/>
                <a:rect l="textAreaLeft" t="textAreaTop" r="textAreaRight" b="textAreaBottom"/>
                <a:pathLst>
                  <a:path w="21600" h="37226">
                    <a:moveTo>
                      <a:pt x="2697" y="0"/>
                    </a:moveTo>
                    <a:arcTo wR="2697" hR="2697" stAng="16200000" swAng="-5400000"/>
                    <a:lnTo>
                      <a:pt x="0" y="34529"/>
                    </a:lnTo>
                    <a:arcTo wR="2697" hR="2697" stAng="10800000" swAng="-5400000"/>
                    <a:lnTo>
                      <a:pt x="18903" y="37226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33080" y="2401560"/>
                <a:ext cx="57600" cy="82800"/>
              </a:xfrm>
              <a:custGeom>
                <a:avLst/>
                <a:gdLst>
                  <a:gd name="textAreaLeft" fmla="*/ 1800 w 57600"/>
                  <a:gd name="textAreaRight" fmla="*/ 55800 w 57600"/>
                  <a:gd name="textAreaTop" fmla="*/ 1800 h 82800"/>
                  <a:gd name="textAreaBottom" fmla="*/ 81000 h 82800"/>
                </a:gdLst>
                <a:ahLst/>
                <a:rect l="textAreaLeft" t="textAreaTop" r="textAreaRight" b="textAreaBottom"/>
                <a:pathLst>
                  <a:path w="21600" h="30991">
                    <a:moveTo>
                      <a:pt x="2697" y="0"/>
                    </a:moveTo>
                    <a:arcTo wR="2697" hR="2697" stAng="16200000" swAng="-5400000"/>
                    <a:lnTo>
                      <a:pt x="0" y="28294"/>
                    </a:lnTo>
                    <a:arcTo wR="2697" hR="2697" stAng="10800000" swAng="-5400000"/>
                    <a:lnTo>
                      <a:pt x="18903" y="30991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145680" y="2405880"/>
                <a:ext cx="33480" cy="57960"/>
              </a:xfrm>
              <a:custGeom>
                <a:avLst/>
                <a:gdLst>
                  <a:gd name="textAreaLeft" fmla="*/ 1080 w 33480"/>
                  <a:gd name="textAreaRight" fmla="*/ 32400 w 33480"/>
                  <a:gd name="textAreaTop" fmla="*/ 1080 h 57960"/>
                  <a:gd name="textAreaBottom" fmla="*/ 56880 h 57960"/>
                </a:gdLst>
                <a:ahLst/>
                <a:rect l="textAreaLeft" t="textAreaTop" r="textAreaRight" b="textAreaBottom"/>
                <a:pathLst>
                  <a:path w="21600" h="37226">
                    <a:moveTo>
                      <a:pt x="2697" y="0"/>
                    </a:moveTo>
                    <a:arcTo wR="2697" hR="2697" stAng="16200000" swAng="-5400000"/>
                    <a:lnTo>
                      <a:pt x="0" y="34529"/>
                    </a:lnTo>
                    <a:arcTo wR="2697" hR="2697" stAng="10800000" swAng="-5400000"/>
                    <a:lnTo>
                      <a:pt x="18903" y="37226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3221640" y="2401560"/>
                <a:ext cx="112320" cy="28800"/>
                <a:chOff x="3221640" y="2401560"/>
                <a:chExt cx="112320" cy="288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225600" y="2401560"/>
                  <a:ext cx="102240" cy="288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a2c1fe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21640" y="2408760"/>
                  <a:ext cx="11232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3359160" y="2401560"/>
                <a:ext cx="112320" cy="28800"/>
                <a:chOff x="3359160" y="2401560"/>
                <a:chExt cx="112320" cy="288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363480" y="2401560"/>
                  <a:ext cx="102240" cy="288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a2c1fe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359160" y="2408760"/>
                  <a:ext cx="11232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497040" y="2401560"/>
                <a:ext cx="111960" cy="28800"/>
                <a:chOff x="3497040" y="2401560"/>
                <a:chExt cx="111960" cy="2880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3501000" y="2401560"/>
                  <a:ext cx="102240" cy="288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a2c1fe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497040" y="2408760"/>
                  <a:ext cx="11196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3936240" y="2377080"/>
                <a:ext cx="46080" cy="9000"/>
              </a:xfrm>
              <a:prstGeom prst="rtTriangle">
                <a:avLst/>
              </a:pr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930480" y="2388600"/>
                <a:ext cx="115200" cy="97920"/>
              </a:xfrm>
              <a:custGeom>
                <a:avLst/>
                <a:gdLst/>
                <a:ahLst/>
                <a:rect l="l" t="t" r="r" b="b"/>
                <a:pathLst>
                  <a:path w="82" h="148">
                    <a:moveTo>
                      <a:pt x="0" y="0"/>
                    </a:moveTo>
                    <a:lnTo>
                      <a:pt x="40" y="0"/>
                    </a:lnTo>
                    <a:lnTo>
                      <a:pt x="57" y="22"/>
                    </a:lnTo>
                    <a:lnTo>
                      <a:pt x="73" y="59"/>
                    </a:lnTo>
                    <a:lnTo>
                      <a:pt x="81" y="103"/>
                    </a:lnTo>
                    <a:lnTo>
                      <a:pt x="81" y="125"/>
                    </a:lnTo>
                    <a:lnTo>
                      <a:pt x="65" y="147"/>
                    </a:lnTo>
                    <a:lnTo>
                      <a:pt x="0" y="1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30480" y="2398680"/>
                <a:ext cx="103680" cy="34560"/>
              </a:xfrm>
              <a:custGeom>
                <a:avLst/>
                <a:gdLst/>
                <a:ahLst/>
                <a:rect l="l" t="t" r="r" b="b"/>
                <a:pathLst>
                  <a:path w="74" h="52">
                    <a:moveTo>
                      <a:pt x="0" y="0"/>
                    </a:moveTo>
                    <a:lnTo>
                      <a:pt x="49" y="0"/>
                    </a:lnTo>
                    <a:lnTo>
                      <a:pt x="73" y="51"/>
                    </a:lnTo>
                    <a:lnTo>
                      <a:pt x="0" y="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2c1fe"/>
              </a:solidFill>
              <a:ln cap="rnd"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440" y="2438280"/>
              <a:ext cx="7010640" cy="127080"/>
              <a:chOff x="2494440" y="2438280"/>
              <a:chExt cx="7010640" cy="127080"/>
            </a:xfrm>
          </p:grpSpPr>
          <p:sp>
            <p:nvSpPr>
              <p:cNvPr id="284" name=""/>
              <p:cNvSpPr/>
              <p:nvPr/>
            </p:nvSpPr>
            <p:spPr>
              <a:xfrm>
                <a:off x="2494440" y="2502000"/>
                <a:ext cx="70106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797440" y="2438280"/>
                <a:ext cx="0" cy="1270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494440" y="2438280"/>
                <a:ext cx="0" cy="1270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79600" y="2438280"/>
                <a:ext cx="0" cy="1270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549920" y="2438280"/>
                <a:ext cx="0" cy="1270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505080" y="2438280"/>
                <a:ext cx="0" cy="1270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050360" y="2058840"/>
              <a:ext cx="258120" cy="312840"/>
              <a:chOff x="4050360" y="2058840"/>
              <a:chExt cx="258120" cy="312840"/>
            </a:xfrm>
          </p:grpSpPr>
          <p:sp>
            <p:nvSpPr>
              <p:cNvPr id="291" name=""/>
              <p:cNvSpPr/>
              <p:nvPr/>
            </p:nvSpPr>
            <p:spPr>
              <a:xfrm>
                <a:off x="4050360" y="2058840"/>
                <a:ext cx="258120" cy="31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117680" y="2281680"/>
                <a:ext cx="123120" cy="58320"/>
              </a:xfrm>
              <a:prstGeom prst="ellipse">
                <a:avLst/>
              </a:prstGeom>
              <a:solidFill>
                <a:srgbClr val="00cc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7421040" y="2058840"/>
              <a:ext cx="258120" cy="312840"/>
              <a:chOff x="7421040" y="2058840"/>
              <a:chExt cx="258120" cy="312840"/>
            </a:xfrm>
          </p:grpSpPr>
          <p:sp>
            <p:nvSpPr>
              <p:cNvPr id="294" name=""/>
              <p:cNvSpPr/>
              <p:nvPr/>
            </p:nvSpPr>
            <p:spPr>
              <a:xfrm>
                <a:off x="7421040" y="2058840"/>
                <a:ext cx="258120" cy="31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488000" y="2090520"/>
                <a:ext cx="123480" cy="58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5668560" y="2058840"/>
              <a:ext cx="258120" cy="312840"/>
              <a:chOff x="5668560" y="2058840"/>
              <a:chExt cx="258120" cy="312840"/>
            </a:xfrm>
          </p:grpSpPr>
          <p:sp>
            <p:nvSpPr>
              <p:cNvPr id="297" name=""/>
              <p:cNvSpPr/>
              <p:nvPr/>
            </p:nvSpPr>
            <p:spPr>
              <a:xfrm>
                <a:off x="5668560" y="2058840"/>
                <a:ext cx="258120" cy="31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735880" y="2185920"/>
                <a:ext cx="123120" cy="58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2365200" y="2058840"/>
              <a:ext cx="258120" cy="312840"/>
              <a:chOff x="2365200" y="2058840"/>
              <a:chExt cx="258120" cy="312840"/>
            </a:xfrm>
          </p:grpSpPr>
          <p:sp>
            <p:nvSpPr>
              <p:cNvPr id="300" name=""/>
              <p:cNvSpPr/>
              <p:nvPr/>
            </p:nvSpPr>
            <p:spPr>
              <a:xfrm>
                <a:off x="2365200" y="2058840"/>
                <a:ext cx="258120" cy="31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432160" y="2090520"/>
                <a:ext cx="123480" cy="58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9375840" y="2058840"/>
              <a:ext cx="258480" cy="312840"/>
              <a:chOff x="9375840" y="2058840"/>
              <a:chExt cx="258480" cy="312840"/>
            </a:xfrm>
          </p:grpSpPr>
          <p:sp>
            <p:nvSpPr>
              <p:cNvPr id="303" name=""/>
              <p:cNvSpPr/>
              <p:nvPr/>
            </p:nvSpPr>
            <p:spPr>
              <a:xfrm>
                <a:off x="9375840" y="2058840"/>
                <a:ext cx="258480" cy="31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9443160" y="2281680"/>
                <a:ext cx="123480" cy="58320"/>
              </a:xfrm>
              <a:prstGeom prst="ellipse">
                <a:avLst/>
              </a:prstGeom>
              <a:solidFill>
                <a:srgbClr val="00cc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5" name=""/>
          <p:cNvSpPr/>
          <p:nvPr/>
        </p:nvSpPr>
        <p:spPr>
          <a:xfrm flipV="1">
            <a:off x="8618400" y="5157720"/>
            <a:ext cx="19080" cy="100800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920880" y="765000"/>
            <a:ext cx="80103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Why an EU action on ERTMS?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287360" y="1314360"/>
            <a:ext cx="7194240" cy="3843360"/>
            <a:chOff x="1287360" y="1314360"/>
            <a:chExt cx="7194240" cy="3843360"/>
          </a:xfrm>
        </p:grpSpPr>
        <p:grpSp>
          <p:nvGrpSpPr>
            <p:cNvPr id="308" name=""/>
            <p:cNvGrpSpPr/>
            <p:nvPr/>
          </p:nvGrpSpPr>
          <p:grpSpPr>
            <a:xfrm>
              <a:off x="2952360" y="1646280"/>
              <a:ext cx="5254920" cy="3511440"/>
              <a:chOff x="2952360" y="1646280"/>
              <a:chExt cx="5254920" cy="3511440"/>
            </a:xfrm>
          </p:grpSpPr>
          <p:sp>
            <p:nvSpPr>
              <p:cNvPr id="309" name=""/>
              <p:cNvSpPr/>
              <p:nvPr/>
            </p:nvSpPr>
            <p:spPr>
              <a:xfrm>
                <a:off x="5375160" y="1646280"/>
                <a:ext cx="2832120" cy="2803680"/>
              </a:xfrm>
              <a:custGeom>
                <a:avLst/>
                <a:gdLst/>
                <a:ahLst/>
                <a:rect l="l" t="t" r="r" b="b"/>
                <a:pathLst>
                  <a:path w="2002" h="2499">
                    <a:moveTo>
                      <a:pt x="2001" y="0"/>
                    </a:moveTo>
                    <a:lnTo>
                      <a:pt x="942" y="0"/>
                    </a:lnTo>
                    <a:lnTo>
                      <a:pt x="916" y="102"/>
                    </a:lnTo>
                    <a:lnTo>
                      <a:pt x="858" y="80"/>
                    </a:lnTo>
                    <a:lnTo>
                      <a:pt x="884" y="109"/>
                    </a:lnTo>
                    <a:lnTo>
                      <a:pt x="916" y="124"/>
                    </a:lnTo>
                    <a:lnTo>
                      <a:pt x="877" y="153"/>
                    </a:lnTo>
                    <a:lnTo>
                      <a:pt x="890" y="254"/>
                    </a:lnTo>
                    <a:lnTo>
                      <a:pt x="864" y="283"/>
                    </a:lnTo>
                    <a:lnTo>
                      <a:pt x="825" y="298"/>
                    </a:lnTo>
                    <a:lnTo>
                      <a:pt x="793" y="298"/>
                    </a:lnTo>
                    <a:lnTo>
                      <a:pt x="773" y="269"/>
                    </a:lnTo>
                    <a:lnTo>
                      <a:pt x="760" y="254"/>
                    </a:lnTo>
                    <a:lnTo>
                      <a:pt x="740" y="232"/>
                    </a:lnTo>
                    <a:lnTo>
                      <a:pt x="747" y="197"/>
                    </a:lnTo>
                    <a:lnTo>
                      <a:pt x="727" y="175"/>
                    </a:lnTo>
                    <a:lnTo>
                      <a:pt x="773" y="160"/>
                    </a:lnTo>
                    <a:lnTo>
                      <a:pt x="780" y="124"/>
                    </a:lnTo>
                    <a:lnTo>
                      <a:pt x="766" y="80"/>
                    </a:lnTo>
                    <a:lnTo>
                      <a:pt x="727" y="73"/>
                    </a:lnTo>
                    <a:lnTo>
                      <a:pt x="701" y="87"/>
                    </a:lnTo>
                    <a:lnTo>
                      <a:pt x="650" y="94"/>
                    </a:lnTo>
                    <a:lnTo>
                      <a:pt x="624" y="87"/>
                    </a:lnTo>
                    <a:lnTo>
                      <a:pt x="650" y="124"/>
                    </a:lnTo>
                    <a:lnTo>
                      <a:pt x="676" y="153"/>
                    </a:lnTo>
                    <a:lnTo>
                      <a:pt x="689" y="182"/>
                    </a:lnTo>
                    <a:lnTo>
                      <a:pt x="695" y="219"/>
                    </a:lnTo>
                    <a:lnTo>
                      <a:pt x="695" y="261"/>
                    </a:lnTo>
                    <a:lnTo>
                      <a:pt x="715" y="283"/>
                    </a:lnTo>
                    <a:lnTo>
                      <a:pt x="740" y="364"/>
                    </a:lnTo>
                    <a:lnTo>
                      <a:pt x="715" y="342"/>
                    </a:lnTo>
                    <a:lnTo>
                      <a:pt x="682" y="327"/>
                    </a:lnTo>
                    <a:lnTo>
                      <a:pt x="656" y="313"/>
                    </a:lnTo>
                    <a:lnTo>
                      <a:pt x="643" y="370"/>
                    </a:lnTo>
                    <a:lnTo>
                      <a:pt x="617" y="421"/>
                    </a:lnTo>
                    <a:lnTo>
                      <a:pt x="591" y="443"/>
                    </a:lnTo>
                    <a:lnTo>
                      <a:pt x="650" y="537"/>
                    </a:lnTo>
                    <a:lnTo>
                      <a:pt x="636" y="567"/>
                    </a:lnTo>
                    <a:lnTo>
                      <a:pt x="604" y="574"/>
                    </a:lnTo>
                    <a:lnTo>
                      <a:pt x="558" y="559"/>
                    </a:lnTo>
                    <a:lnTo>
                      <a:pt x="539" y="559"/>
                    </a:lnTo>
                    <a:lnTo>
                      <a:pt x="513" y="545"/>
                    </a:lnTo>
                    <a:lnTo>
                      <a:pt x="500" y="567"/>
                    </a:lnTo>
                    <a:lnTo>
                      <a:pt x="507" y="588"/>
                    </a:lnTo>
                    <a:lnTo>
                      <a:pt x="526" y="603"/>
                    </a:lnTo>
                    <a:lnTo>
                      <a:pt x="572" y="603"/>
                    </a:lnTo>
                    <a:lnTo>
                      <a:pt x="585" y="668"/>
                    </a:lnTo>
                    <a:lnTo>
                      <a:pt x="546" y="675"/>
                    </a:lnTo>
                    <a:lnTo>
                      <a:pt x="500" y="661"/>
                    </a:lnTo>
                    <a:lnTo>
                      <a:pt x="448" y="632"/>
                    </a:lnTo>
                    <a:lnTo>
                      <a:pt x="422" y="603"/>
                    </a:lnTo>
                    <a:lnTo>
                      <a:pt x="396" y="487"/>
                    </a:lnTo>
                    <a:lnTo>
                      <a:pt x="370" y="451"/>
                    </a:lnTo>
                    <a:lnTo>
                      <a:pt x="332" y="414"/>
                    </a:lnTo>
                    <a:lnTo>
                      <a:pt x="305" y="385"/>
                    </a:lnTo>
                    <a:lnTo>
                      <a:pt x="292" y="349"/>
                    </a:lnTo>
                    <a:lnTo>
                      <a:pt x="396" y="399"/>
                    </a:lnTo>
                    <a:lnTo>
                      <a:pt x="474" y="407"/>
                    </a:lnTo>
                    <a:lnTo>
                      <a:pt x="526" y="399"/>
                    </a:lnTo>
                    <a:lnTo>
                      <a:pt x="546" y="385"/>
                    </a:lnTo>
                    <a:lnTo>
                      <a:pt x="565" y="349"/>
                    </a:lnTo>
                    <a:lnTo>
                      <a:pt x="578" y="320"/>
                    </a:lnTo>
                    <a:lnTo>
                      <a:pt x="578" y="276"/>
                    </a:lnTo>
                    <a:lnTo>
                      <a:pt x="532" y="247"/>
                    </a:lnTo>
                    <a:lnTo>
                      <a:pt x="513" y="254"/>
                    </a:lnTo>
                    <a:lnTo>
                      <a:pt x="442" y="204"/>
                    </a:lnTo>
                    <a:lnTo>
                      <a:pt x="370" y="204"/>
                    </a:lnTo>
                    <a:lnTo>
                      <a:pt x="279" y="211"/>
                    </a:lnTo>
                    <a:lnTo>
                      <a:pt x="247" y="219"/>
                    </a:lnTo>
                    <a:lnTo>
                      <a:pt x="234" y="219"/>
                    </a:lnTo>
                    <a:lnTo>
                      <a:pt x="214" y="204"/>
                    </a:lnTo>
                    <a:lnTo>
                      <a:pt x="228" y="167"/>
                    </a:lnTo>
                    <a:lnTo>
                      <a:pt x="208" y="160"/>
                    </a:lnTo>
                    <a:lnTo>
                      <a:pt x="195" y="189"/>
                    </a:lnTo>
                    <a:lnTo>
                      <a:pt x="175" y="182"/>
                    </a:lnTo>
                    <a:lnTo>
                      <a:pt x="163" y="189"/>
                    </a:lnTo>
                    <a:lnTo>
                      <a:pt x="149" y="204"/>
                    </a:lnTo>
                    <a:lnTo>
                      <a:pt x="130" y="225"/>
                    </a:lnTo>
                    <a:lnTo>
                      <a:pt x="124" y="261"/>
                    </a:lnTo>
                    <a:lnTo>
                      <a:pt x="124" y="276"/>
                    </a:lnTo>
                    <a:lnTo>
                      <a:pt x="124" y="298"/>
                    </a:lnTo>
                    <a:lnTo>
                      <a:pt x="143" y="320"/>
                    </a:lnTo>
                    <a:lnTo>
                      <a:pt x="143" y="335"/>
                    </a:lnTo>
                    <a:lnTo>
                      <a:pt x="163" y="357"/>
                    </a:lnTo>
                    <a:lnTo>
                      <a:pt x="163" y="370"/>
                    </a:lnTo>
                    <a:lnTo>
                      <a:pt x="163" y="392"/>
                    </a:lnTo>
                    <a:lnTo>
                      <a:pt x="163" y="414"/>
                    </a:lnTo>
                    <a:lnTo>
                      <a:pt x="169" y="458"/>
                    </a:lnTo>
                    <a:lnTo>
                      <a:pt x="188" y="494"/>
                    </a:lnTo>
                    <a:lnTo>
                      <a:pt x="181" y="545"/>
                    </a:lnTo>
                    <a:lnTo>
                      <a:pt x="201" y="596"/>
                    </a:lnTo>
                    <a:lnTo>
                      <a:pt x="208" y="647"/>
                    </a:lnTo>
                    <a:lnTo>
                      <a:pt x="214" y="661"/>
                    </a:lnTo>
                    <a:lnTo>
                      <a:pt x="247" y="690"/>
                    </a:lnTo>
                    <a:lnTo>
                      <a:pt x="253" y="719"/>
                    </a:lnTo>
                    <a:lnTo>
                      <a:pt x="253" y="741"/>
                    </a:lnTo>
                    <a:lnTo>
                      <a:pt x="247" y="785"/>
                    </a:lnTo>
                    <a:lnTo>
                      <a:pt x="240" y="799"/>
                    </a:lnTo>
                    <a:lnTo>
                      <a:pt x="247" y="807"/>
                    </a:lnTo>
                    <a:lnTo>
                      <a:pt x="234" y="828"/>
                    </a:lnTo>
                    <a:lnTo>
                      <a:pt x="214" y="842"/>
                    </a:lnTo>
                    <a:lnTo>
                      <a:pt x="214" y="850"/>
                    </a:lnTo>
                    <a:lnTo>
                      <a:pt x="188" y="886"/>
                    </a:lnTo>
                    <a:lnTo>
                      <a:pt x="169" y="901"/>
                    </a:lnTo>
                    <a:lnTo>
                      <a:pt x="169" y="923"/>
                    </a:lnTo>
                    <a:lnTo>
                      <a:pt x="181" y="923"/>
                    </a:lnTo>
                    <a:lnTo>
                      <a:pt x="188" y="908"/>
                    </a:lnTo>
                    <a:lnTo>
                      <a:pt x="195" y="915"/>
                    </a:lnTo>
                    <a:lnTo>
                      <a:pt x="201" y="923"/>
                    </a:lnTo>
                    <a:lnTo>
                      <a:pt x="188" y="937"/>
                    </a:lnTo>
                    <a:lnTo>
                      <a:pt x="208" y="958"/>
                    </a:lnTo>
                    <a:lnTo>
                      <a:pt x="220" y="958"/>
                    </a:lnTo>
                    <a:lnTo>
                      <a:pt x="234" y="966"/>
                    </a:lnTo>
                    <a:lnTo>
                      <a:pt x="253" y="988"/>
                    </a:lnTo>
                    <a:lnTo>
                      <a:pt x="266" y="1009"/>
                    </a:lnTo>
                    <a:lnTo>
                      <a:pt x="240" y="988"/>
                    </a:lnTo>
                    <a:lnTo>
                      <a:pt x="228" y="980"/>
                    </a:lnTo>
                    <a:lnTo>
                      <a:pt x="208" y="980"/>
                    </a:lnTo>
                    <a:lnTo>
                      <a:pt x="208" y="988"/>
                    </a:lnTo>
                    <a:lnTo>
                      <a:pt x="195" y="980"/>
                    </a:lnTo>
                    <a:lnTo>
                      <a:pt x="181" y="980"/>
                    </a:lnTo>
                    <a:lnTo>
                      <a:pt x="188" y="1002"/>
                    </a:lnTo>
                    <a:lnTo>
                      <a:pt x="188" y="1017"/>
                    </a:lnTo>
                    <a:lnTo>
                      <a:pt x="181" y="1046"/>
                    </a:lnTo>
                    <a:lnTo>
                      <a:pt x="175" y="1053"/>
                    </a:lnTo>
                    <a:lnTo>
                      <a:pt x="156" y="1053"/>
                    </a:lnTo>
                    <a:lnTo>
                      <a:pt x="149" y="1068"/>
                    </a:lnTo>
                    <a:lnTo>
                      <a:pt x="163" y="1090"/>
                    </a:lnTo>
                    <a:lnTo>
                      <a:pt x="169" y="1111"/>
                    </a:lnTo>
                    <a:lnTo>
                      <a:pt x="188" y="1125"/>
                    </a:lnTo>
                    <a:lnTo>
                      <a:pt x="188" y="1140"/>
                    </a:lnTo>
                    <a:lnTo>
                      <a:pt x="181" y="1147"/>
                    </a:lnTo>
                    <a:lnTo>
                      <a:pt x="181" y="1162"/>
                    </a:lnTo>
                    <a:lnTo>
                      <a:pt x="188" y="1169"/>
                    </a:lnTo>
                    <a:lnTo>
                      <a:pt x="201" y="1206"/>
                    </a:lnTo>
                    <a:lnTo>
                      <a:pt x="214" y="1220"/>
                    </a:lnTo>
                    <a:lnTo>
                      <a:pt x="228" y="1220"/>
                    </a:lnTo>
                    <a:lnTo>
                      <a:pt x="228" y="1256"/>
                    </a:lnTo>
                    <a:lnTo>
                      <a:pt x="214" y="1271"/>
                    </a:lnTo>
                    <a:lnTo>
                      <a:pt x="201" y="1293"/>
                    </a:lnTo>
                    <a:lnTo>
                      <a:pt x="195" y="1307"/>
                    </a:lnTo>
                    <a:lnTo>
                      <a:pt x="181" y="1307"/>
                    </a:lnTo>
                    <a:lnTo>
                      <a:pt x="169" y="1307"/>
                    </a:lnTo>
                    <a:lnTo>
                      <a:pt x="163" y="1314"/>
                    </a:lnTo>
                    <a:lnTo>
                      <a:pt x="169" y="1322"/>
                    </a:lnTo>
                    <a:lnTo>
                      <a:pt x="169" y="1351"/>
                    </a:lnTo>
                    <a:lnTo>
                      <a:pt x="156" y="1358"/>
                    </a:lnTo>
                    <a:lnTo>
                      <a:pt x="143" y="1366"/>
                    </a:lnTo>
                    <a:lnTo>
                      <a:pt x="143" y="1388"/>
                    </a:lnTo>
                    <a:lnTo>
                      <a:pt x="136" y="1401"/>
                    </a:lnTo>
                    <a:lnTo>
                      <a:pt x="130" y="1445"/>
                    </a:lnTo>
                    <a:lnTo>
                      <a:pt x="116" y="1445"/>
                    </a:lnTo>
                    <a:lnTo>
                      <a:pt x="104" y="1452"/>
                    </a:lnTo>
                    <a:lnTo>
                      <a:pt x="97" y="1467"/>
                    </a:lnTo>
                    <a:lnTo>
                      <a:pt x="78" y="1474"/>
                    </a:lnTo>
                    <a:lnTo>
                      <a:pt x="65" y="1467"/>
                    </a:lnTo>
                    <a:lnTo>
                      <a:pt x="52" y="1467"/>
                    </a:lnTo>
                    <a:lnTo>
                      <a:pt x="45" y="1489"/>
                    </a:lnTo>
                    <a:lnTo>
                      <a:pt x="59" y="1518"/>
                    </a:lnTo>
                    <a:lnTo>
                      <a:pt x="59" y="1554"/>
                    </a:lnTo>
                    <a:lnTo>
                      <a:pt x="39" y="1590"/>
                    </a:lnTo>
                    <a:lnTo>
                      <a:pt x="45" y="1605"/>
                    </a:lnTo>
                    <a:lnTo>
                      <a:pt x="45" y="1627"/>
                    </a:lnTo>
                    <a:lnTo>
                      <a:pt x="45" y="1656"/>
                    </a:lnTo>
                    <a:lnTo>
                      <a:pt x="52" y="1663"/>
                    </a:lnTo>
                    <a:lnTo>
                      <a:pt x="71" y="1692"/>
                    </a:lnTo>
                    <a:lnTo>
                      <a:pt x="78" y="1728"/>
                    </a:lnTo>
                    <a:lnTo>
                      <a:pt x="78" y="1750"/>
                    </a:lnTo>
                    <a:lnTo>
                      <a:pt x="26" y="1809"/>
                    </a:lnTo>
                    <a:lnTo>
                      <a:pt x="32" y="1851"/>
                    </a:lnTo>
                    <a:lnTo>
                      <a:pt x="12" y="1881"/>
                    </a:lnTo>
                    <a:lnTo>
                      <a:pt x="0" y="1895"/>
                    </a:lnTo>
                    <a:lnTo>
                      <a:pt x="0" y="1910"/>
                    </a:lnTo>
                    <a:lnTo>
                      <a:pt x="12" y="1946"/>
                    </a:lnTo>
                    <a:lnTo>
                      <a:pt x="39" y="1946"/>
                    </a:lnTo>
                    <a:lnTo>
                      <a:pt x="45" y="1946"/>
                    </a:lnTo>
                    <a:lnTo>
                      <a:pt x="65" y="1939"/>
                    </a:lnTo>
                    <a:lnTo>
                      <a:pt x="78" y="1932"/>
                    </a:lnTo>
                    <a:lnTo>
                      <a:pt x="91" y="1939"/>
                    </a:lnTo>
                    <a:lnTo>
                      <a:pt x="104" y="1939"/>
                    </a:lnTo>
                    <a:lnTo>
                      <a:pt x="130" y="1932"/>
                    </a:lnTo>
                    <a:lnTo>
                      <a:pt x="136" y="1939"/>
                    </a:lnTo>
                    <a:lnTo>
                      <a:pt x="149" y="1946"/>
                    </a:lnTo>
                    <a:lnTo>
                      <a:pt x="163" y="1946"/>
                    </a:lnTo>
                    <a:lnTo>
                      <a:pt x="181" y="1932"/>
                    </a:lnTo>
                    <a:lnTo>
                      <a:pt x="208" y="1932"/>
                    </a:lnTo>
                    <a:lnTo>
                      <a:pt x="220" y="1917"/>
                    </a:lnTo>
                    <a:lnTo>
                      <a:pt x="234" y="1925"/>
                    </a:lnTo>
                    <a:lnTo>
                      <a:pt x="247" y="1954"/>
                    </a:lnTo>
                    <a:lnTo>
                      <a:pt x="266" y="1968"/>
                    </a:lnTo>
                    <a:lnTo>
                      <a:pt x="273" y="1997"/>
                    </a:lnTo>
                    <a:lnTo>
                      <a:pt x="292" y="2011"/>
                    </a:lnTo>
                    <a:lnTo>
                      <a:pt x="292" y="2026"/>
                    </a:lnTo>
                    <a:lnTo>
                      <a:pt x="292" y="2055"/>
                    </a:lnTo>
                    <a:lnTo>
                      <a:pt x="292" y="2070"/>
                    </a:lnTo>
                    <a:lnTo>
                      <a:pt x="305" y="2092"/>
                    </a:lnTo>
                    <a:lnTo>
                      <a:pt x="312" y="2121"/>
                    </a:lnTo>
                    <a:lnTo>
                      <a:pt x="318" y="2128"/>
                    </a:lnTo>
                    <a:lnTo>
                      <a:pt x="338" y="2128"/>
                    </a:lnTo>
                    <a:lnTo>
                      <a:pt x="364" y="2128"/>
                    </a:lnTo>
                    <a:lnTo>
                      <a:pt x="389" y="2128"/>
                    </a:lnTo>
                    <a:lnTo>
                      <a:pt x="403" y="2121"/>
                    </a:lnTo>
                    <a:lnTo>
                      <a:pt x="383" y="2106"/>
                    </a:lnTo>
                    <a:lnTo>
                      <a:pt x="377" y="2077"/>
                    </a:lnTo>
                    <a:lnTo>
                      <a:pt x="396" y="2099"/>
                    </a:lnTo>
                    <a:lnTo>
                      <a:pt x="403" y="2092"/>
                    </a:lnTo>
                    <a:lnTo>
                      <a:pt x="389" y="2077"/>
                    </a:lnTo>
                    <a:lnTo>
                      <a:pt x="409" y="2084"/>
                    </a:lnTo>
                    <a:lnTo>
                      <a:pt x="422" y="2077"/>
                    </a:lnTo>
                    <a:lnTo>
                      <a:pt x="428" y="2062"/>
                    </a:lnTo>
                    <a:lnTo>
                      <a:pt x="422" y="2048"/>
                    </a:lnTo>
                    <a:lnTo>
                      <a:pt x="403" y="2041"/>
                    </a:lnTo>
                    <a:lnTo>
                      <a:pt x="422" y="2041"/>
                    </a:lnTo>
                    <a:lnTo>
                      <a:pt x="422" y="2026"/>
                    </a:lnTo>
                    <a:lnTo>
                      <a:pt x="436" y="2019"/>
                    </a:lnTo>
                    <a:lnTo>
                      <a:pt x="448" y="2004"/>
                    </a:lnTo>
                    <a:lnTo>
                      <a:pt x="454" y="2004"/>
                    </a:lnTo>
                    <a:lnTo>
                      <a:pt x="468" y="2004"/>
                    </a:lnTo>
                    <a:lnTo>
                      <a:pt x="474" y="2019"/>
                    </a:lnTo>
                    <a:lnTo>
                      <a:pt x="454" y="2026"/>
                    </a:lnTo>
                    <a:lnTo>
                      <a:pt x="454" y="2033"/>
                    </a:lnTo>
                    <a:lnTo>
                      <a:pt x="474" y="2048"/>
                    </a:lnTo>
                    <a:lnTo>
                      <a:pt x="481" y="2041"/>
                    </a:lnTo>
                    <a:lnTo>
                      <a:pt x="493" y="2041"/>
                    </a:lnTo>
                    <a:lnTo>
                      <a:pt x="507" y="2033"/>
                    </a:lnTo>
                    <a:lnTo>
                      <a:pt x="520" y="2033"/>
                    </a:lnTo>
                    <a:lnTo>
                      <a:pt x="532" y="2026"/>
                    </a:lnTo>
                    <a:lnTo>
                      <a:pt x="532" y="2041"/>
                    </a:lnTo>
                    <a:lnTo>
                      <a:pt x="513" y="2062"/>
                    </a:lnTo>
                    <a:lnTo>
                      <a:pt x="507" y="2077"/>
                    </a:lnTo>
                    <a:lnTo>
                      <a:pt x="500" y="2092"/>
                    </a:lnTo>
                    <a:lnTo>
                      <a:pt x="500" y="2114"/>
                    </a:lnTo>
                    <a:lnTo>
                      <a:pt x="513" y="2121"/>
                    </a:lnTo>
                    <a:lnTo>
                      <a:pt x="526" y="2121"/>
                    </a:lnTo>
                    <a:lnTo>
                      <a:pt x="532" y="2121"/>
                    </a:lnTo>
                    <a:lnTo>
                      <a:pt x="546" y="2128"/>
                    </a:lnTo>
                    <a:lnTo>
                      <a:pt x="546" y="2142"/>
                    </a:lnTo>
                    <a:lnTo>
                      <a:pt x="552" y="2156"/>
                    </a:lnTo>
                    <a:lnTo>
                      <a:pt x="546" y="2186"/>
                    </a:lnTo>
                    <a:lnTo>
                      <a:pt x="572" y="2193"/>
                    </a:lnTo>
                    <a:lnTo>
                      <a:pt x="578" y="2186"/>
                    </a:lnTo>
                    <a:lnTo>
                      <a:pt x="585" y="2171"/>
                    </a:lnTo>
                    <a:lnTo>
                      <a:pt x="591" y="2149"/>
                    </a:lnTo>
                    <a:lnTo>
                      <a:pt x="604" y="2142"/>
                    </a:lnTo>
                    <a:lnTo>
                      <a:pt x="624" y="2135"/>
                    </a:lnTo>
                    <a:lnTo>
                      <a:pt x="630" y="2114"/>
                    </a:lnTo>
                    <a:lnTo>
                      <a:pt x="636" y="2114"/>
                    </a:lnTo>
                    <a:lnTo>
                      <a:pt x="643" y="2121"/>
                    </a:lnTo>
                    <a:lnTo>
                      <a:pt x="662" y="2128"/>
                    </a:lnTo>
                    <a:lnTo>
                      <a:pt x="682" y="2114"/>
                    </a:lnTo>
                    <a:lnTo>
                      <a:pt x="689" y="2084"/>
                    </a:lnTo>
                    <a:lnTo>
                      <a:pt x="669" y="2084"/>
                    </a:lnTo>
                    <a:lnTo>
                      <a:pt x="662" y="2092"/>
                    </a:lnTo>
                    <a:lnTo>
                      <a:pt x="656" y="2084"/>
                    </a:lnTo>
                    <a:lnTo>
                      <a:pt x="643" y="2092"/>
                    </a:lnTo>
                    <a:lnTo>
                      <a:pt x="630" y="2092"/>
                    </a:lnTo>
                    <a:lnTo>
                      <a:pt x="617" y="2092"/>
                    </a:lnTo>
                    <a:lnTo>
                      <a:pt x="611" y="2070"/>
                    </a:lnTo>
                    <a:lnTo>
                      <a:pt x="604" y="2055"/>
                    </a:lnTo>
                    <a:lnTo>
                      <a:pt x="591" y="2048"/>
                    </a:lnTo>
                    <a:lnTo>
                      <a:pt x="591" y="2041"/>
                    </a:lnTo>
                    <a:lnTo>
                      <a:pt x="578" y="2033"/>
                    </a:lnTo>
                    <a:lnTo>
                      <a:pt x="558" y="2033"/>
                    </a:lnTo>
                    <a:lnTo>
                      <a:pt x="539" y="2011"/>
                    </a:lnTo>
                    <a:lnTo>
                      <a:pt x="565" y="2011"/>
                    </a:lnTo>
                    <a:lnTo>
                      <a:pt x="591" y="2004"/>
                    </a:lnTo>
                    <a:lnTo>
                      <a:pt x="604" y="1983"/>
                    </a:lnTo>
                    <a:lnTo>
                      <a:pt x="662" y="1961"/>
                    </a:lnTo>
                    <a:lnTo>
                      <a:pt x="695" y="1932"/>
                    </a:lnTo>
                    <a:lnTo>
                      <a:pt x="747" y="1917"/>
                    </a:lnTo>
                    <a:lnTo>
                      <a:pt x="793" y="1903"/>
                    </a:lnTo>
                    <a:lnTo>
                      <a:pt x="819" y="1903"/>
                    </a:lnTo>
                    <a:lnTo>
                      <a:pt x="786" y="1932"/>
                    </a:lnTo>
                    <a:lnTo>
                      <a:pt x="805" y="1946"/>
                    </a:lnTo>
                    <a:lnTo>
                      <a:pt x="760" y="1954"/>
                    </a:lnTo>
                    <a:lnTo>
                      <a:pt x="766" y="1968"/>
                    </a:lnTo>
                    <a:lnTo>
                      <a:pt x="793" y="1989"/>
                    </a:lnTo>
                    <a:lnTo>
                      <a:pt x="773" y="1997"/>
                    </a:lnTo>
                    <a:lnTo>
                      <a:pt x="754" y="2019"/>
                    </a:lnTo>
                    <a:lnTo>
                      <a:pt x="747" y="2041"/>
                    </a:lnTo>
                    <a:lnTo>
                      <a:pt x="740" y="2077"/>
                    </a:lnTo>
                    <a:lnTo>
                      <a:pt x="727" y="2099"/>
                    </a:lnTo>
                    <a:lnTo>
                      <a:pt x="715" y="2092"/>
                    </a:lnTo>
                    <a:lnTo>
                      <a:pt x="701" y="2092"/>
                    </a:lnTo>
                    <a:lnTo>
                      <a:pt x="715" y="2106"/>
                    </a:lnTo>
                    <a:lnTo>
                      <a:pt x="701" y="2121"/>
                    </a:lnTo>
                    <a:lnTo>
                      <a:pt x="734" y="2128"/>
                    </a:lnTo>
                    <a:lnTo>
                      <a:pt x="760" y="2156"/>
                    </a:lnTo>
                    <a:lnTo>
                      <a:pt x="805" y="2164"/>
                    </a:lnTo>
                    <a:lnTo>
                      <a:pt x="864" y="2171"/>
                    </a:lnTo>
                    <a:lnTo>
                      <a:pt x="903" y="2178"/>
                    </a:lnTo>
                    <a:lnTo>
                      <a:pt x="948" y="2186"/>
                    </a:lnTo>
                    <a:lnTo>
                      <a:pt x="1000" y="2200"/>
                    </a:lnTo>
                    <a:lnTo>
                      <a:pt x="1027" y="2208"/>
                    </a:lnTo>
                    <a:lnTo>
                      <a:pt x="1046" y="2230"/>
                    </a:lnTo>
                    <a:lnTo>
                      <a:pt x="1053" y="2252"/>
                    </a:lnTo>
                    <a:lnTo>
                      <a:pt x="1053" y="2280"/>
                    </a:lnTo>
                    <a:lnTo>
                      <a:pt x="1098" y="2287"/>
                    </a:lnTo>
                    <a:lnTo>
                      <a:pt x="1117" y="2259"/>
                    </a:lnTo>
                    <a:lnTo>
                      <a:pt x="1131" y="2266"/>
                    </a:lnTo>
                    <a:lnTo>
                      <a:pt x="1137" y="2280"/>
                    </a:lnTo>
                    <a:lnTo>
                      <a:pt x="1169" y="2287"/>
                    </a:lnTo>
                    <a:lnTo>
                      <a:pt x="1189" y="2338"/>
                    </a:lnTo>
                    <a:lnTo>
                      <a:pt x="1261" y="2338"/>
                    </a:lnTo>
                    <a:lnTo>
                      <a:pt x="1280" y="2375"/>
                    </a:lnTo>
                    <a:lnTo>
                      <a:pt x="1300" y="2389"/>
                    </a:lnTo>
                    <a:lnTo>
                      <a:pt x="1319" y="2389"/>
                    </a:lnTo>
                    <a:lnTo>
                      <a:pt x="1345" y="2411"/>
                    </a:lnTo>
                    <a:lnTo>
                      <a:pt x="1377" y="2397"/>
                    </a:lnTo>
                    <a:lnTo>
                      <a:pt x="1390" y="2382"/>
                    </a:lnTo>
                    <a:lnTo>
                      <a:pt x="1404" y="2353"/>
                    </a:lnTo>
                    <a:lnTo>
                      <a:pt x="1429" y="2353"/>
                    </a:lnTo>
                    <a:lnTo>
                      <a:pt x="1442" y="2375"/>
                    </a:lnTo>
                    <a:lnTo>
                      <a:pt x="1429" y="2411"/>
                    </a:lnTo>
                    <a:lnTo>
                      <a:pt x="1481" y="2440"/>
                    </a:lnTo>
                    <a:lnTo>
                      <a:pt x="1481" y="2397"/>
                    </a:lnTo>
                    <a:lnTo>
                      <a:pt x="1481" y="2375"/>
                    </a:lnTo>
                    <a:lnTo>
                      <a:pt x="1494" y="2367"/>
                    </a:lnTo>
                    <a:lnTo>
                      <a:pt x="1508" y="2397"/>
                    </a:lnTo>
                    <a:lnTo>
                      <a:pt x="1494" y="2316"/>
                    </a:lnTo>
                    <a:lnTo>
                      <a:pt x="1514" y="2287"/>
                    </a:lnTo>
                    <a:lnTo>
                      <a:pt x="1526" y="2266"/>
                    </a:lnTo>
                    <a:lnTo>
                      <a:pt x="1546" y="2252"/>
                    </a:lnTo>
                    <a:lnTo>
                      <a:pt x="1508" y="2244"/>
                    </a:lnTo>
                    <a:lnTo>
                      <a:pt x="1481" y="2244"/>
                    </a:lnTo>
                    <a:lnTo>
                      <a:pt x="1410" y="2171"/>
                    </a:lnTo>
                    <a:lnTo>
                      <a:pt x="1377" y="2128"/>
                    </a:lnTo>
                    <a:lnTo>
                      <a:pt x="1365" y="2048"/>
                    </a:lnTo>
                    <a:lnTo>
                      <a:pt x="1351" y="2099"/>
                    </a:lnTo>
                    <a:lnTo>
                      <a:pt x="1345" y="2048"/>
                    </a:lnTo>
                    <a:lnTo>
                      <a:pt x="1300" y="1997"/>
                    </a:lnTo>
                    <a:lnTo>
                      <a:pt x="1280" y="1961"/>
                    </a:lnTo>
                    <a:lnTo>
                      <a:pt x="1286" y="1910"/>
                    </a:lnTo>
                    <a:lnTo>
                      <a:pt x="1300" y="1881"/>
                    </a:lnTo>
                    <a:lnTo>
                      <a:pt x="1312" y="1831"/>
                    </a:lnTo>
                    <a:lnTo>
                      <a:pt x="1339" y="1787"/>
                    </a:lnTo>
                    <a:lnTo>
                      <a:pt x="1339" y="1757"/>
                    </a:lnTo>
                    <a:lnTo>
                      <a:pt x="1390" y="1757"/>
                    </a:lnTo>
                    <a:lnTo>
                      <a:pt x="1429" y="1699"/>
                    </a:lnTo>
                    <a:lnTo>
                      <a:pt x="1461" y="1692"/>
                    </a:lnTo>
                    <a:lnTo>
                      <a:pt x="1508" y="1663"/>
                    </a:lnTo>
                    <a:lnTo>
                      <a:pt x="1546" y="1692"/>
                    </a:lnTo>
                    <a:lnTo>
                      <a:pt x="1546" y="1735"/>
                    </a:lnTo>
                    <a:lnTo>
                      <a:pt x="1540" y="1750"/>
                    </a:lnTo>
                    <a:lnTo>
                      <a:pt x="1553" y="1772"/>
                    </a:lnTo>
                    <a:lnTo>
                      <a:pt x="1553" y="1816"/>
                    </a:lnTo>
                    <a:lnTo>
                      <a:pt x="1553" y="1844"/>
                    </a:lnTo>
                    <a:lnTo>
                      <a:pt x="1592" y="1844"/>
                    </a:lnTo>
                    <a:lnTo>
                      <a:pt x="1598" y="1881"/>
                    </a:lnTo>
                    <a:lnTo>
                      <a:pt x="1565" y="1866"/>
                    </a:lnTo>
                    <a:lnTo>
                      <a:pt x="1533" y="1881"/>
                    </a:lnTo>
                    <a:lnTo>
                      <a:pt x="1501" y="1888"/>
                    </a:lnTo>
                    <a:lnTo>
                      <a:pt x="1488" y="1925"/>
                    </a:lnTo>
                    <a:lnTo>
                      <a:pt x="1526" y="1939"/>
                    </a:lnTo>
                    <a:lnTo>
                      <a:pt x="1494" y="1954"/>
                    </a:lnTo>
                    <a:lnTo>
                      <a:pt x="1475" y="1961"/>
                    </a:lnTo>
                    <a:lnTo>
                      <a:pt x="1469" y="1976"/>
                    </a:lnTo>
                    <a:lnTo>
                      <a:pt x="1481" y="1983"/>
                    </a:lnTo>
                    <a:lnTo>
                      <a:pt x="1508" y="1976"/>
                    </a:lnTo>
                    <a:lnTo>
                      <a:pt x="1526" y="1997"/>
                    </a:lnTo>
                    <a:lnTo>
                      <a:pt x="1540" y="2019"/>
                    </a:lnTo>
                    <a:lnTo>
                      <a:pt x="1559" y="2048"/>
                    </a:lnTo>
                    <a:lnTo>
                      <a:pt x="1573" y="2048"/>
                    </a:lnTo>
                    <a:lnTo>
                      <a:pt x="1585" y="2092"/>
                    </a:lnTo>
                    <a:lnTo>
                      <a:pt x="1605" y="2062"/>
                    </a:lnTo>
                    <a:lnTo>
                      <a:pt x="1618" y="2070"/>
                    </a:lnTo>
                    <a:lnTo>
                      <a:pt x="1612" y="2114"/>
                    </a:lnTo>
                    <a:lnTo>
                      <a:pt x="1630" y="2149"/>
                    </a:lnTo>
                    <a:lnTo>
                      <a:pt x="1657" y="2171"/>
                    </a:lnTo>
                    <a:lnTo>
                      <a:pt x="1650" y="2128"/>
                    </a:lnTo>
                    <a:lnTo>
                      <a:pt x="1683" y="2114"/>
                    </a:lnTo>
                    <a:lnTo>
                      <a:pt x="1709" y="2099"/>
                    </a:lnTo>
                    <a:lnTo>
                      <a:pt x="1728" y="2114"/>
                    </a:lnTo>
                    <a:lnTo>
                      <a:pt x="1754" y="2142"/>
                    </a:lnTo>
                    <a:lnTo>
                      <a:pt x="1787" y="2149"/>
                    </a:lnTo>
                    <a:lnTo>
                      <a:pt x="1773" y="2156"/>
                    </a:lnTo>
                    <a:lnTo>
                      <a:pt x="1781" y="2186"/>
                    </a:lnTo>
                    <a:lnTo>
                      <a:pt x="1767" y="2193"/>
                    </a:lnTo>
                    <a:lnTo>
                      <a:pt x="1754" y="2193"/>
                    </a:lnTo>
                    <a:lnTo>
                      <a:pt x="1728" y="2200"/>
                    </a:lnTo>
                    <a:lnTo>
                      <a:pt x="1709" y="2215"/>
                    </a:lnTo>
                    <a:lnTo>
                      <a:pt x="1677" y="2193"/>
                    </a:lnTo>
                    <a:lnTo>
                      <a:pt x="1689" y="2230"/>
                    </a:lnTo>
                    <a:lnTo>
                      <a:pt x="1696" y="2266"/>
                    </a:lnTo>
                    <a:lnTo>
                      <a:pt x="1715" y="2280"/>
                    </a:lnTo>
                    <a:lnTo>
                      <a:pt x="1728" y="2266"/>
                    </a:lnTo>
                    <a:lnTo>
                      <a:pt x="1748" y="2259"/>
                    </a:lnTo>
                    <a:lnTo>
                      <a:pt x="1761" y="2287"/>
                    </a:lnTo>
                    <a:lnTo>
                      <a:pt x="1741" y="2302"/>
                    </a:lnTo>
                    <a:lnTo>
                      <a:pt x="1741" y="2309"/>
                    </a:lnTo>
                    <a:lnTo>
                      <a:pt x="1773" y="2302"/>
                    </a:lnTo>
                    <a:lnTo>
                      <a:pt x="1819" y="2309"/>
                    </a:lnTo>
                    <a:lnTo>
                      <a:pt x="1838" y="2367"/>
                    </a:lnTo>
                    <a:lnTo>
                      <a:pt x="1871" y="2454"/>
                    </a:lnTo>
                    <a:lnTo>
                      <a:pt x="1917" y="2498"/>
                    </a:lnTo>
                    <a:lnTo>
                      <a:pt x="2001" y="2462"/>
                    </a:lnTo>
                    <a:lnTo>
                      <a:pt x="2001" y="0"/>
                    </a:lnTo>
                  </a:path>
                </a:pathLst>
              </a:custGeom>
              <a:solidFill>
                <a:srgbClr val="3177bd"/>
              </a:solidFill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52000" y="4285080"/>
                <a:ext cx="1654920" cy="872640"/>
              </a:xfrm>
              <a:custGeom>
                <a:avLst/>
                <a:gdLst/>
                <a:ahLst/>
                <a:rect l="l" t="t" r="r" b="b"/>
                <a:pathLst>
                  <a:path w="1170" h="778">
                    <a:moveTo>
                      <a:pt x="1169" y="109"/>
                    </a:moveTo>
                    <a:lnTo>
                      <a:pt x="1169" y="777"/>
                    </a:lnTo>
                    <a:lnTo>
                      <a:pt x="20" y="777"/>
                    </a:lnTo>
                    <a:lnTo>
                      <a:pt x="0" y="733"/>
                    </a:lnTo>
                    <a:lnTo>
                      <a:pt x="7" y="646"/>
                    </a:lnTo>
                    <a:lnTo>
                      <a:pt x="20" y="573"/>
                    </a:lnTo>
                    <a:lnTo>
                      <a:pt x="39" y="538"/>
                    </a:lnTo>
                    <a:lnTo>
                      <a:pt x="20" y="487"/>
                    </a:lnTo>
                    <a:lnTo>
                      <a:pt x="20" y="443"/>
                    </a:lnTo>
                    <a:lnTo>
                      <a:pt x="39" y="406"/>
                    </a:lnTo>
                    <a:lnTo>
                      <a:pt x="33" y="378"/>
                    </a:lnTo>
                    <a:lnTo>
                      <a:pt x="46" y="363"/>
                    </a:lnTo>
                    <a:lnTo>
                      <a:pt x="65" y="371"/>
                    </a:lnTo>
                    <a:lnTo>
                      <a:pt x="104" y="371"/>
                    </a:lnTo>
                    <a:lnTo>
                      <a:pt x="131" y="356"/>
                    </a:lnTo>
                    <a:lnTo>
                      <a:pt x="137" y="341"/>
                    </a:lnTo>
                    <a:lnTo>
                      <a:pt x="150" y="349"/>
                    </a:lnTo>
                    <a:lnTo>
                      <a:pt x="163" y="356"/>
                    </a:lnTo>
                    <a:lnTo>
                      <a:pt x="182" y="349"/>
                    </a:lnTo>
                    <a:lnTo>
                      <a:pt x="208" y="349"/>
                    </a:lnTo>
                    <a:lnTo>
                      <a:pt x="215" y="327"/>
                    </a:lnTo>
                    <a:lnTo>
                      <a:pt x="253" y="327"/>
                    </a:lnTo>
                    <a:lnTo>
                      <a:pt x="299" y="283"/>
                    </a:lnTo>
                    <a:lnTo>
                      <a:pt x="299" y="268"/>
                    </a:lnTo>
                    <a:lnTo>
                      <a:pt x="325" y="268"/>
                    </a:lnTo>
                    <a:lnTo>
                      <a:pt x="331" y="254"/>
                    </a:lnTo>
                    <a:lnTo>
                      <a:pt x="364" y="254"/>
                    </a:lnTo>
                    <a:lnTo>
                      <a:pt x="364" y="246"/>
                    </a:lnTo>
                    <a:lnTo>
                      <a:pt x="377" y="233"/>
                    </a:lnTo>
                    <a:lnTo>
                      <a:pt x="390" y="246"/>
                    </a:lnTo>
                    <a:lnTo>
                      <a:pt x="416" y="239"/>
                    </a:lnTo>
                    <a:lnTo>
                      <a:pt x="416" y="233"/>
                    </a:lnTo>
                    <a:lnTo>
                      <a:pt x="429" y="239"/>
                    </a:lnTo>
                    <a:lnTo>
                      <a:pt x="441" y="239"/>
                    </a:lnTo>
                    <a:lnTo>
                      <a:pt x="488" y="225"/>
                    </a:lnTo>
                    <a:lnTo>
                      <a:pt x="500" y="218"/>
                    </a:lnTo>
                    <a:lnTo>
                      <a:pt x="481" y="204"/>
                    </a:lnTo>
                    <a:lnTo>
                      <a:pt x="474" y="182"/>
                    </a:lnTo>
                    <a:lnTo>
                      <a:pt x="481" y="167"/>
                    </a:lnTo>
                    <a:lnTo>
                      <a:pt x="461" y="160"/>
                    </a:lnTo>
                    <a:lnTo>
                      <a:pt x="441" y="160"/>
                    </a:lnTo>
                    <a:lnTo>
                      <a:pt x="455" y="116"/>
                    </a:lnTo>
                    <a:lnTo>
                      <a:pt x="429" y="109"/>
                    </a:lnTo>
                    <a:lnTo>
                      <a:pt x="429" y="73"/>
                    </a:lnTo>
                    <a:lnTo>
                      <a:pt x="416" y="66"/>
                    </a:lnTo>
                    <a:lnTo>
                      <a:pt x="449" y="22"/>
                    </a:lnTo>
                    <a:lnTo>
                      <a:pt x="468" y="36"/>
                    </a:lnTo>
                    <a:lnTo>
                      <a:pt x="488" y="36"/>
                    </a:lnTo>
                    <a:lnTo>
                      <a:pt x="513" y="58"/>
                    </a:lnTo>
                    <a:lnTo>
                      <a:pt x="545" y="51"/>
                    </a:lnTo>
                    <a:lnTo>
                      <a:pt x="572" y="0"/>
                    </a:lnTo>
                    <a:lnTo>
                      <a:pt x="598" y="0"/>
                    </a:lnTo>
                    <a:lnTo>
                      <a:pt x="610" y="22"/>
                    </a:lnTo>
                    <a:lnTo>
                      <a:pt x="604" y="58"/>
                    </a:lnTo>
                    <a:lnTo>
                      <a:pt x="649" y="87"/>
                    </a:lnTo>
                    <a:lnTo>
                      <a:pt x="669" y="145"/>
                    </a:lnTo>
                    <a:lnTo>
                      <a:pt x="702" y="182"/>
                    </a:lnTo>
                    <a:lnTo>
                      <a:pt x="721" y="189"/>
                    </a:lnTo>
                    <a:lnTo>
                      <a:pt x="760" y="189"/>
                    </a:lnTo>
                    <a:lnTo>
                      <a:pt x="780" y="225"/>
                    </a:lnTo>
                    <a:lnTo>
                      <a:pt x="845" y="254"/>
                    </a:lnTo>
                    <a:lnTo>
                      <a:pt x="896" y="246"/>
                    </a:lnTo>
                    <a:lnTo>
                      <a:pt x="955" y="233"/>
                    </a:lnTo>
                    <a:lnTo>
                      <a:pt x="1020" y="204"/>
                    </a:lnTo>
                    <a:lnTo>
                      <a:pt x="1071" y="167"/>
                    </a:lnTo>
                    <a:lnTo>
                      <a:pt x="1085" y="145"/>
                    </a:lnTo>
                    <a:lnTo>
                      <a:pt x="1169" y="109"/>
                    </a:lnTo>
                  </a:path>
                </a:pathLst>
              </a:custGeom>
              <a:solidFill>
                <a:srgbClr val="99ccff"/>
              </a:solidFill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952360" y="1697760"/>
                <a:ext cx="4312080" cy="3287880"/>
                <a:chOff x="2952360" y="1697760"/>
                <a:chExt cx="4312080" cy="32878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952360" y="4005000"/>
                  <a:ext cx="346680" cy="438840"/>
                </a:xfrm>
                <a:custGeom>
                  <a:avLst/>
                  <a:gdLst/>
                  <a:ahLst/>
                  <a:rect l="l" t="t" r="r" b="b"/>
                  <a:pathLst>
                    <a:path w="245" h="391">
                      <a:moveTo>
                        <a:pt x="122" y="0"/>
                      </a:moveTo>
                      <a:lnTo>
                        <a:pt x="142" y="0"/>
                      </a:lnTo>
                      <a:lnTo>
                        <a:pt x="154" y="14"/>
                      </a:lnTo>
                      <a:lnTo>
                        <a:pt x="154" y="29"/>
                      </a:lnTo>
                      <a:lnTo>
                        <a:pt x="161" y="36"/>
                      </a:lnTo>
                      <a:lnTo>
                        <a:pt x="167" y="29"/>
                      </a:lnTo>
                      <a:lnTo>
                        <a:pt x="199" y="43"/>
                      </a:lnTo>
                      <a:lnTo>
                        <a:pt x="206" y="36"/>
                      </a:lnTo>
                      <a:lnTo>
                        <a:pt x="219" y="36"/>
                      </a:lnTo>
                      <a:lnTo>
                        <a:pt x="225" y="50"/>
                      </a:lnTo>
                      <a:lnTo>
                        <a:pt x="232" y="65"/>
                      </a:lnTo>
                      <a:lnTo>
                        <a:pt x="238" y="79"/>
                      </a:lnTo>
                      <a:lnTo>
                        <a:pt x="244" y="86"/>
                      </a:lnTo>
                      <a:lnTo>
                        <a:pt x="219" y="94"/>
                      </a:lnTo>
                      <a:lnTo>
                        <a:pt x="199" y="108"/>
                      </a:lnTo>
                      <a:lnTo>
                        <a:pt x="199" y="137"/>
                      </a:lnTo>
                      <a:lnTo>
                        <a:pt x="186" y="144"/>
                      </a:lnTo>
                      <a:lnTo>
                        <a:pt x="174" y="159"/>
                      </a:lnTo>
                      <a:lnTo>
                        <a:pt x="174" y="180"/>
                      </a:lnTo>
                      <a:lnTo>
                        <a:pt x="174" y="195"/>
                      </a:lnTo>
                      <a:lnTo>
                        <a:pt x="161" y="209"/>
                      </a:lnTo>
                      <a:lnTo>
                        <a:pt x="154" y="195"/>
                      </a:lnTo>
                      <a:lnTo>
                        <a:pt x="142" y="202"/>
                      </a:lnTo>
                      <a:lnTo>
                        <a:pt x="142" y="209"/>
                      </a:lnTo>
                      <a:lnTo>
                        <a:pt x="142" y="231"/>
                      </a:lnTo>
                      <a:lnTo>
                        <a:pt x="142" y="238"/>
                      </a:lnTo>
                      <a:lnTo>
                        <a:pt x="142" y="260"/>
                      </a:lnTo>
                      <a:lnTo>
                        <a:pt x="135" y="267"/>
                      </a:lnTo>
                      <a:lnTo>
                        <a:pt x="122" y="281"/>
                      </a:lnTo>
                      <a:lnTo>
                        <a:pt x="116" y="296"/>
                      </a:lnTo>
                      <a:lnTo>
                        <a:pt x="122" y="317"/>
                      </a:lnTo>
                      <a:lnTo>
                        <a:pt x="129" y="332"/>
                      </a:lnTo>
                      <a:lnTo>
                        <a:pt x="122" y="339"/>
                      </a:lnTo>
                      <a:lnTo>
                        <a:pt x="103" y="346"/>
                      </a:lnTo>
                      <a:lnTo>
                        <a:pt x="90" y="353"/>
                      </a:lnTo>
                      <a:lnTo>
                        <a:pt x="90" y="368"/>
                      </a:lnTo>
                      <a:lnTo>
                        <a:pt x="90" y="390"/>
                      </a:lnTo>
                      <a:lnTo>
                        <a:pt x="64" y="390"/>
                      </a:lnTo>
                      <a:lnTo>
                        <a:pt x="45" y="390"/>
                      </a:lnTo>
                      <a:lnTo>
                        <a:pt x="26" y="361"/>
                      </a:lnTo>
                      <a:lnTo>
                        <a:pt x="13" y="361"/>
                      </a:lnTo>
                      <a:lnTo>
                        <a:pt x="6" y="361"/>
                      </a:lnTo>
                      <a:lnTo>
                        <a:pt x="0" y="353"/>
                      </a:lnTo>
                      <a:lnTo>
                        <a:pt x="6" y="346"/>
                      </a:lnTo>
                      <a:lnTo>
                        <a:pt x="20" y="325"/>
                      </a:lnTo>
                      <a:lnTo>
                        <a:pt x="26" y="303"/>
                      </a:lnTo>
                      <a:lnTo>
                        <a:pt x="39" y="281"/>
                      </a:lnTo>
                      <a:lnTo>
                        <a:pt x="39" y="267"/>
                      </a:lnTo>
                      <a:lnTo>
                        <a:pt x="32" y="260"/>
                      </a:lnTo>
                      <a:lnTo>
                        <a:pt x="26" y="245"/>
                      </a:lnTo>
                      <a:lnTo>
                        <a:pt x="26" y="238"/>
                      </a:lnTo>
                      <a:lnTo>
                        <a:pt x="32" y="238"/>
                      </a:lnTo>
                      <a:lnTo>
                        <a:pt x="39" y="224"/>
                      </a:lnTo>
                      <a:lnTo>
                        <a:pt x="26" y="224"/>
                      </a:lnTo>
                      <a:lnTo>
                        <a:pt x="20" y="231"/>
                      </a:lnTo>
                      <a:lnTo>
                        <a:pt x="20" y="209"/>
                      </a:lnTo>
                      <a:lnTo>
                        <a:pt x="26" y="202"/>
                      </a:lnTo>
                      <a:lnTo>
                        <a:pt x="26" y="188"/>
                      </a:lnTo>
                      <a:lnTo>
                        <a:pt x="32" y="180"/>
                      </a:lnTo>
                      <a:lnTo>
                        <a:pt x="32" y="166"/>
                      </a:lnTo>
                      <a:lnTo>
                        <a:pt x="39" y="166"/>
                      </a:lnTo>
                      <a:lnTo>
                        <a:pt x="52" y="173"/>
                      </a:lnTo>
                      <a:lnTo>
                        <a:pt x="64" y="144"/>
                      </a:lnTo>
                      <a:lnTo>
                        <a:pt x="71" y="130"/>
                      </a:lnTo>
                      <a:lnTo>
                        <a:pt x="96" y="101"/>
                      </a:lnTo>
                      <a:lnTo>
                        <a:pt x="96" y="86"/>
                      </a:lnTo>
                      <a:lnTo>
                        <a:pt x="110" y="65"/>
                      </a:lnTo>
                      <a:lnTo>
                        <a:pt x="110" y="43"/>
                      </a:lnTo>
                      <a:lnTo>
                        <a:pt x="116" y="29"/>
                      </a:lnTo>
                      <a:lnTo>
                        <a:pt x="122" y="0"/>
                      </a:lnTo>
                    </a:path>
                  </a:pathLst>
                </a:custGeom>
                <a:solidFill>
                  <a:srgbClr val="c0c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3" name=""/>
                <p:cNvGrpSpPr/>
                <p:nvPr/>
              </p:nvGrpSpPr>
              <p:grpSpPr>
                <a:xfrm>
                  <a:off x="3079440" y="3859200"/>
                  <a:ext cx="954360" cy="729000"/>
                  <a:chOff x="3079440" y="3859200"/>
                  <a:chExt cx="954360" cy="72900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3079440" y="3859200"/>
                    <a:ext cx="917640" cy="729000"/>
                  </a:xfrm>
                  <a:custGeom>
                    <a:avLst/>
                    <a:gdLst/>
                    <a:ahLst/>
                    <a:rect l="l" t="t" r="r" b="b"/>
                    <a:pathLst>
                      <a:path w="649" h="650">
                        <a:moveTo>
                          <a:pt x="32" y="130"/>
                        </a:moveTo>
                        <a:lnTo>
                          <a:pt x="32" y="123"/>
                        </a:lnTo>
                        <a:lnTo>
                          <a:pt x="32" y="108"/>
                        </a:lnTo>
                        <a:lnTo>
                          <a:pt x="52" y="72"/>
                        </a:lnTo>
                        <a:lnTo>
                          <a:pt x="45" y="65"/>
                        </a:lnTo>
                        <a:lnTo>
                          <a:pt x="45" y="58"/>
                        </a:lnTo>
                        <a:lnTo>
                          <a:pt x="39" y="51"/>
                        </a:lnTo>
                        <a:lnTo>
                          <a:pt x="39" y="43"/>
                        </a:lnTo>
                        <a:lnTo>
                          <a:pt x="45" y="29"/>
                        </a:lnTo>
                        <a:lnTo>
                          <a:pt x="71" y="22"/>
                        </a:lnTo>
                        <a:lnTo>
                          <a:pt x="96" y="22"/>
                        </a:lnTo>
                        <a:lnTo>
                          <a:pt x="96" y="14"/>
                        </a:lnTo>
                        <a:lnTo>
                          <a:pt x="116" y="0"/>
                        </a:lnTo>
                        <a:lnTo>
                          <a:pt x="129" y="7"/>
                        </a:lnTo>
                        <a:lnTo>
                          <a:pt x="148" y="36"/>
                        </a:lnTo>
                        <a:lnTo>
                          <a:pt x="180" y="51"/>
                        </a:lnTo>
                        <a:lnTo>
                          <a:pt x="205" y="51"/>
                        </a:lnTo>
                        <a:lnTo>
                          <a:pt x="219" y="58"/>
                        </a:lnTo>
                        <a:lnTo>
                          <a:pt x="295" y="108"/>
                        </a:lnTo>
                        <a:lnTo>
                          <a:pt x="321" y="108"/>
                        </a:lnTo>
                        <a:lnTo>
                          <a:pt x="340" y="130"/>
                        </a:lnTo>
                        <a:lnTo>
                          <a:pt x="366" y="123"/>
                        </a:lnTo>
                        <a:lnTo>
                          <a:pt x="379" y="137"/>
                        </a:lnTo>
                        <a:lnTo>
                          <a:pt x="398" y="152"/>
                        </a:lnTo>
                        <a:lnTo>
                          <a:pt x="411" y="152"/>
                        </a:lnTo>
                        <a:lnTo>
                          <a:pt x="424" y="152"/>
                        </a:lnTo>
                        <a:lnTo>
                          <a:pt x="430" y="159"/>
                        </a:lnTo>
                        <a:lnTo>
                          <a:pt x="424" y="173"/>
                        </a:lnTo>
                        <a:lnTo>
                          <a:pt x="424" y="180"/>
                        </a:lnTo>
                        <a:lnTo>
                          <a:pt x="475" y="224"/>
                        </a:lnTo>
                        <a:lnTo>
                          <a:pt x="500" y="245"/>
                        </a:lnTo>
                        <a:lnTo>
                          <a:pt x="514" y="238"/>
                        </a:lnTo>
                        <a:lnTo>
                          <a:pt x="526" y="238"/>
                        </a:lnTo>
                        <a:lnTo>
                          <a:pt x="572" y="260"/>
                        </a:lnTo>
                        <a:lnTo>
                          <a:pt x="578" y="274"/>
                        </a:lnTo>
                        <a:lnTo>
                          <a:pt x="584" y="281"/>
                        </a:lnTo>
                        <a:lnTo>
                          <a:pt x="596" y="289"/>
                        </a:lnTo>
                        <a:lnTo>
                          <a:pt x="604" y="296"/>
                        </a:lnTo>
                        <a:lnTo>
                          <a:pt x="616" y="296"/>
                        </a:lnTo>
                        <a:lnTo>
                          <a:pt x="628" y="296"/>
                        </a:lnTo>
                        <a:lnTo>
                          <a:pt x="642" y="296"/>
                        </a:lnTo>
                        <a:lnTo>
                          <a:pt x="648" y="296"/>
                        </a:lnTo>
                        <a:lnTo>
                          <a:pt x="648" y="310"/>
                        </a:lnTo>
                        <a:lnTo>
                          <a:pt x="648" y="325"/>
                        </a:lnTo>
                        <a:lnTo>
                          <a:pt x="642" y="332"/>
                        </a:lnTo>
                        <a:lnTo>
                          <a:pt x="596" y="375"/>
                        </a:lnTo>
                        <a:lnTo>
                          <a:pt x="572" y="375"/>
                        </a:lnTo>
                        <a:lnTo>
                          <a:pt x="514" y="390"/>
                        </a:lnTo>
                        <a:lnTo>
                          <a:pt x="494" y="397"/>
                        </a:lnTo>
                        <a:lnTo>
                          <a:pt x="494" y="411"/>
                        </a:lnTo>
                        <a:lnTo>
                          <a:pt x="481" y="411"/>
                        </a:lnTo>
                        <a:lnTo>
                          <a:pt x="468" y="426"/>
                        </a:lnTo>
                        <a:lnTo>
                          <a:pt x="456" y="440"/>
                        </a:lnTo>
                        <a:lnTo>
                          <a:pt x="443" y="455"/>
                        </a:lnTo>
                        <a:lnTo>
                          <a:pt x="430" y="455"/>
                        </a:lnTo>
                        <a:lnTo>
                          <a:pt x="417" y="476"/>
                        </a:lnTo>
                        <a:lnTo>
                          <a:pt x="417" y="498"/>
                        </a:lnTo>
                        <a:lnTo>
                          <a:pt x="430" y="512"/>
                        </a:lnTo>
                        <a:lnTo>
                          <a:pt x="430" y="520"/>
                        </a:lnTo>
                        <a:lnTo>
                          <a:pt x="430" y="541"/>
                        </a:lnTo>
                        <a:lnTo>
                          <a:pt x="417" y="548"/>
                        </a:lnTo>
                        <a:lnTo>
                          <a:pt x="398" y="563"/>
                        </a:lnTo>
                        <a:lnTo>
                          <a:pt x="372" y="584"/>
                        </a:lnTo>
                        <a:lnTo>
                          <a:pt x="366" y="599"/>
                        </a:lnTo>
                        <a:lnTo>
                          <a:pt x="359" y="606"/>
                        </a:lnTo>
                        <a:lnTo>
                          <a:pt x="359" y="613"/>
                        </a:lnTo>
                        <a:lnTo>
                          <a:pt x="334" y="613"/>
                        </a:lnTo>
                        <a:lnTo>
                          <a:pt x="321" y="621"/>
                        </a:lnTo>
                        <a:lnTo>
                          <a:pt x="308" y="621"/>
                        </a:lnTo>
                        <a:lnTo>
                          <a:pt x="301" y="628"/>
                        </a:lnTo>
                        <a:lnTo>
                          <a:pt x="289" y="642"/>
                        </a:lnTo>
                        <a:lnTo>
                          <a:pt x="276" y="649"/>
                        </a:lnTo>
                        <a:lnTo>
                          <a:pt x="269" y="649"/>
                        </a:lnTo>
                        <a:lnTo>
                          <a:pt x="251" y="642"/>
                        </a:lnTo>
                        <a:lnTo>
                          <a:pt x="219" y="642"/>
                        </a:lnTo>
                        <a:lnTo>
                          <a:pt x="167" y="621"/>
                        </a:lnTo>
                        <a:lnTo>
                          <a:pt x="148" y="613"/>
                        </a:lnTo>
                        <a:lnTo>
                          <a:pt x="129" y="621"/>
                        </a:lnTo>
                        <a:lnTo>
                          <a:pt x="109" y="628"/>
                        </a:lnTo>
                        <a:lnTo>
                          <a:pt x="96" y="635"/>
                        </a:lnTo>
                        <a:lnTo>
                          <a:pt x="77" y="642"/>
                        </a:lnTo>
                        <a:lnTo>
                          <a:pt x="71" y="649"/>
                        </a:lnTo>
                        <a:lnTo>
                          <a:pt x="39" y="613"/>
                        </a:lnTo>
                        <a:lnTo>
                          <a:pt x="39" y="556"/>
                        </a:lnTo>
                        <a:lnTo>
                          <a:pt x="20" y="534"/>
                        </a:lnTo>
                        <a:lnTo>
                          <a:pt x="6" y="520"/>
                        </a:lnTo>
                        <a:lnTo>
                          <a:pt x="0" y="505"/>
                        </a:lnTo>
                        <a:lnTo>
                          <a:pt x="0" y="491"/>
                        </a:lnTo>
                        <a:lnTo>
                          <a:pt x="13" y="476"/>
                        </a:lnTo>
                        <a:lnTo>
                          <a:pt x="32" y="469"/>
                        </a:lnTo>
                        <a:lnTo>
                          <a:pt x="39" y="462"/>
                        </a:lnTo>
                        <a:lnTo>
                          <a:pt x="32" y="447"/>
                        </a:lnTo>
                        <a:lnTo>
                          <a:pt x="26" y="426"/>
                        </a:lnTo>
                        <a:lnTo>
                          <a:pt x="39" y="404"/>
                        </a:lnTo>
                        <a:lnTo>
                          <a:pt x="58" y="382"/>
                        </a:lnTo>
                        <a:lnTo>
                          <a:pt x="58" y="368"/>
                        </a:lnTo>
                        <a:lnTo>
                          <a:pt x="52" y="354"/>
                        </a:lnTo>
                        <a:lnTo>
                          <a:pt x="58" y="332"/>
                        </a:lnTo>
                        <a:lnTo>
                          <a:pt x="58" y="325"/>
                        </a:lnTo>
                        <a:lnTo>
                          <a:pt x="64" y="325"/>
                        </a:lnTo>
                        <a:lnTo>
                          <a:pt x="71" y="339"/>
                        </a:lnTo>
                        <a:lnTo>
                          <a:pt x="84" y="325"/>
                        </a:lnTo>
                        <a:lnTo>
                          <a:pt x="84" y="289"/>
                        </a:lnTo>
                        <a:lnTo>
                          <a:pt x="109" y="267"/>
                        </a:lnTo>
                        <a:lnTo>
                          <a:pt x="109" y="253"/>
                        </a:lnTo>
                        <a:lnTo>
                          <a:pt x="109" y="238"/>
                        </a:lnTo>
                        <a:lnTo>
                          <a:pt x="135" y="224"/>
                        </a:lnTo>
                        <a:lnTo>
                          <a:pt x="148" y="224"/>
                        </a:lnTo>
                        <a:lnTo>
                          <a:pt x="154" y="216"/>
                        </a:lnTo>
                        <a:lnTo>
                          <a:pt x="141" y="195"/>
                        </a:lnTo>
                        <a:lnTo>
                          <a:pt x="129" y="173"/>
                        </a:lnTo>
                        <a:lnTo>
                          <a:pt x="122" y="166"/>
                        </a:lnTo>
                        <a:lnTo>
                          <a:pt x="103" y="173"/>
                        </a:lnTo>
                        <a:lnTo>
                          <a:pt x="96" y="166"/>
                        </a:lnTo>
                        <a:lnTo>
                          <a:pt x="77" y="159"/>
                        </a:lnTo>
                        <a:lnTo>
                          <a:pt x="71" y="166"/>
                        </a:lnTo>
                        <a:lnTo>
                          <a:pt x="64" y="159"/>
                        </a:lnTo>
                        <a:lnTo>
                          <a:pt x="64" y="144"/>
                        </a:lnTo>
                        <a:lnTo>
                          <a:pt x="58" y="130"/>
                        </a:lnTo>
                        <a:lnTo>
                          <a:pt x="52" y="130"/>
                        </a:lnTo>
                        <a:lnTo>
                          <a:pt x="32" y="130"/>
                        </a:lnTo>
                      </a:path>
                    </a:pathLst>
                  </a:custGeom>
                  <a:solidFill>
                    <a:srgbClr val="ff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3778200" y="4466160"/>
                    <a:ext cx="381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3">
                        <a:moveTo>
                          <a:pt x="26" y="0"/>
                        </a:moveTo>
                        <a:lnTo>
                          <a:pt x="13" y="0"/>
                        </a:lnTo>
                        <a:lnTo>
                          <a:pt x="0" y="15"/>
                        </a:lnTo>
                        <a:lnTo>
                          <a:pt x="6" y="22"/>
                        </a:lnTo>
                        <a:lnTo>
                          <a:pt x="20" y="2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ff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888360" y="4409640"/>
                    <a:ext cx="720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51">
                        <a:moveTo>
                          <a:pt x="38" y="0"/>
                        </a:moveTo>
                        <a:lnTo>
                          <a:pt x="32" y="7"/>
                        </a:lnTo>
                        <a:lnTo>
                          <a:pt x="6" y="7"/>
                        </a:lnTo>
                        <a:lnTo>
                          <a:pt x="0" y="29"/>
                        </a:lnTo>
                        <a:lnTo>
                          <a:pt x="12" y="43"/>
                        </a:lnTo>
                        <a:lnTo>
                          <a:pt x="25" y="50"/>
                        </a:lnTo>
                        <a:lnTo>
                          <a:pt x="44" y="50"/>
                        </a:lnTo>
                        <a:lnTo>
                          <a:pt x="50" y="43"/>
                        </a:lnTo>
                        <a:lnTo>
                          <a:pt x="50" y="29"/>
                        </a:lnTo>
                        <a:lnTo>
                          <a:pt x="44" y="14"/>
                        </a:lnTo>
                        <a:lnTo>
                          <a:pt x="38" y="0"/>
                        </a:lnTo>
                      </a:path>
                    </a:pathLst>
                  </a:custGeom>
                  <a:solidFill>
                    <a:srgbClr val="ff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4004280" y="4417560"/>
                    <a:ext cx="29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3">
                        <a:moveTo>
                          <a:pt x="14" y="0"/>
                        </a:moveTo>
                        <a:lnTo>
                          <a:pt x="0" y="0"/>
                        </a:lnTo>
                        <a:lnTo>
                          <a:pt x="14" y="14"/>
                        </a:lnTo>
                        <a:lnTo>
                          <a:pt x="20" y="22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ff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4314240" y="3884040"/>
                  <a:ext cx="835560" cy="939960"/>
                  <a:chOff x="4314240" y="3884040"/>
                  <a:chExt cx="835560" cy="939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4340880" y="4385520"/>
                    <a:ext cx="13824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74">
                        <a:moveTo>
                          <a:pt x="58" y="0"/>
                        </a:moveTo>
                        <a:lnTo>
                          <a:pt x="39" y="7"/>
                        </a:lnTo>
                        <a:lnTo>
                          <a:pt x="32" y="22"/>
                        </a:lnTo>
                        <a:lnTo>
                          <a:pt x="20" y="22"/>
                        </a:lnTo>
                        <a:lnTo>
                          <a:pt x="0" y="22"/>
                        </a:lnTo>
                        <a:lnTo>
                          <a:pt x="0" y="36"/>
                        </a:lnTo>
                        <a:lnTo>
                          <a:pt x="13" y="51"/>
                        </a:lnTo>
                        <a:lnTo>
                          <a:pt x="7" y="87"/>
                        </a:lnTo>
                        <a:lnTo>
                          <a:pt x="7" y="101"/>
                        </a:lnTo>
                        <a:lnTo>
                          <a:pt x="13" y="115"/>
                        </a:lnTo>
                        <a:lnTo>
                          <a:pt x="0" y="144"/>
                        </a:lnTo>
                        <a:lnTo>
                          <a:pt x="7" y="159"/>
                        </a:lnTo>
                        <a:lnTo>
                          <a:pt x="20" y="173"/>
                        </a:lnTo>
                        <a:lnTo>
                          <a:pt x="32" y="159"/>
                        </a:lnTo>
                        <a:lnTo>
                          <a:pt x="39" y="152"/>
                        </a:lnTo>
                        <a:lnTo>
                          <a:pt x="58" y="159"/>
                        </a:lnTo>
                        <a:lnTo>
                          <a:pt x="71" y="144"/>
                        </a:lnTo>
                        <a:lnTo>
                          <a:pt x="71" y="130"/>
                        </a:lnTo>
                        <a:lnTo>
                          <a:pt x="84" y="108"/>
                        </a:lnTo>
                        <a:lnTo>
                          <a:pt x="90" y="87"/>
                        </a:lnTo>
                        <a:lnTo>
                          <a:pt x="84" y="72"/>
                        </a:lnTo>
                        <a:lnTo>
                          <a:pt x="97" y="51"/>
                        </a:lnTo>
                        <a:lnTo>
                          <a:pt x="90" y="22"/>
                        </a:lnTo>
                        <a:lnTo>
                          <a:pt x="84" y="7"/>
                        </a:lnTo>
                        <a:lnTo>
                          <a:pt x="58" y="0"/>
                        </a:lnTo>
                      </a:path>
                    </a:pathLst>
                  </a:custGeom>
                  <a:solidFill>
                    <a:srgbClr val="ff8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4649040" y="4685040"/>
                    <a:ext cx="247320" cy="1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24">
                        <a:moveTo>
                          <a:pt x="167" y="0"/>
                        </a:moveTo>
                        <a:lnTo>
                          <a:pt x="174" y="14"/>
                        </a:lnTo>
                        <a:lnTo>
                          <a:pt x="167" y="22"/>
                        </a:lnTo>
                        <a:lnTo>
                          <a:pt x="161" y="36"/>
                        </a:lnTo>
                        <a:lnTo>
                          <a:pt x="154" y="51"/>
                        </a:lnTo>
                        <a:lnTo>
                          <a:pt x="154" y="79"/>
                        </a:lnTo>
                        <a:lnTo>
                          <a:pt x="161" y="101"/>
                        </a:lnTo>
                        <a:lnTo>
                          <a:pt x="148" y="108"/>
                        </a:lnTo>
                        <a:lnTo>
                          <a:pt x="148" y="123"/>
                        </a:lnTo>
                        <a:lnTo>
                          <a:pt x="135" y="123"/>
                        </a:lnTo>
                        <a:lnTo>
                          <a:pt x="116" y="108"/>
                        </a:lnTo>
                        <a:lnTo>
                          <a:pt x="103" y="108"/>
                        </a:lnTo>
                        <a:lnTo>
                          <a:pt x="96" y="87"/>
                        </a:lnTo>
                        <a:lnTo>
                          <a:pt x="77" y="79"/>
                        </a:lnTo>
                        <a:lnTo>
                          <a:pt x="64" y="72"/>
                        </a:lnTo>
                        <a:lnTo>
                          <a:pt x="51" y="72"/>
                        </a:lnTo>
                        <a:lnTo>
                          <a:pt x="38" y="58"/>
                        </a:lnTo>
                        <a:lnTo>
                          <a:pt x="19" y="43"/>
                        </a:lnTo>
                        <a:lnTo>
                          <a:pt x="12" y="36"/>
                        </a:lnTo>
                        <a:lnTo>
                          <a:pt x="0" y="29"/>
                        </a:lnTo>
                        <a:lnTo>
                          <a:pt x="0" y="14"/>
                        </a:lnTo>
                        <a:lnTo>
                          <a:pt x="6" y="7"/>
                        </a:lnTo>
                        <a:lnTo>
                          <a:pt x="19" y="7"/>
                        </a:lnTo>
                        <a:lnTo>
                          <a:pt x="51" y="7"/>
                        </a:lnTo>
                        <a:lnTo>
                          <a:pt x="58" y="22"/>
                        </a:lnTo>
                        <a:lnTo>
                          <a:pt x="84" y="22"/>
                        </a:lnTo>
                        <a:lnTo>
                          <a:pt x="103" y="22"/>
                        </a:lnTo>
                        <a:lnTo>
                          <a:pt x="135" y="14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8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4314240" y="3884040"/>
                    <a:ext cx="835560" cy="842400"/>
                  </a:xfrm>
                  <a:custGeom>
                    <a:avLst/>
                    <a:gdLst/>
                    <a:ahLst/>
                    <a:rect l="l" t="t" r="r" b="b"/>
                    <a:pathLst>
                      <a:path w="591" h="751">
                        <a:moveTo>
                          <a:pt x="423" y="743"/>
                        </a:moveTo>
                        <a:lnTo>
                          <a:pt x="435" y="750"/>
                        </a:lnTo>
                        <a:lnTo>
                          <a:pt x="449" y="743"/>
                        </a:lnTo>
                        <a:lnTo>
                          <a:pt x="467" y="714"/>
                        </a:lnTo>
                        <a:lnTo>
                          <a:pt x="474" y="671"/>
                        </a:lnTo>
                        <a:lnTo>
                          <a:pt x="487" y="671"/>
                        </a:lnTo>
                        <a:lnTo>
                          <a:pt x="493" y="678"/>
                        </a:lnTo>
                        <a:lnTo>
                          <a:pt x="500" y="664"/>
                        </a:lnTo>
                        <a:lnTo>
                          <a:pt x="500" y="649"/>
                        </a:lnTo>
                        <a:lnTo>
                          <a:pt x="506" y="635"/>
                        </a:lnTo>
                        <a:lnTo>
                          <a:pt x="500" y="627"/>
                        </a:lnTo>
                        <a:lnTo>
                          <a:pt x="487" y="613"/>
                        </a:lnTo>
                        <a:lnTo>
                          <a:pt x="481" y="613"/>
                        </a:lnTo>
                        <a:lnTo>
                          <a:pt x="487" y="606"/>
                        </a:lnTo>
                        <a:lnTo>
                          <a:pt x="474" y="606"/>
                        </a:lnTo>
                        <a:lnTo>
                          <a:pt x="467" y="606"/>
                        </a:lnTo>
                        <a:lnTo>
                          <a:pt x="467" y="599"/>
                        </a:lnTo>
                        <a:lnTo>
                          <a:pt x="487" y="584"/>
                        </a:lnTo>
                        <a:lnTo>
                          <a:pt x="493" y="570"/>
                        </a:lnTo>
                        <a:lnTo>
                          <a:pt x="493" y="548"/>
                        </a:lnTo>
                        <a:lnTo>
                          <a:pt x="500" y="548"/>
                        </a:lnTo>
                        <a:lnTo>
                          <a:pt x="532" y="562"/>
                        </a:lnTo>
                        <a:lnTo>
                          <a:pt x="545" y="562"/>
                        </a:lnTo>
                        <a:lnTo>
                          <a:pt x="558" y="591"/>
                        </a:lnTo>
                        <a:lnTo>
                          <a:pt x="564" y="606"/>
                        </a:lnTo>
                        <a:lnTo>
                          <a:pt x="570" y="606"/>
                        </a:lnTo>
                        <a:lnTo>
                          <a:pt x="583" y="591"/>
                        </a:lnTo>
                        <a:lnTo>
                          <a:pt x="590" y="577"/>
                        </a:lnTo>
                        <a:lnTo>
                          <a:pt x="577" y="555"/>
                        </a:lnTo>
                        <a:lnTo>
                          <a:pt x="564" y="541"/>
                        </a:lnTo>
                        <a:lnTo>
                          <a:pt x="551" y="541"/>
                        </a:lnTo>
                        <a:lnTo>
                          <a:pt x="551" y="534"/>
                        </a:lnTo>
                        <a:lnTo>
                          <a:pt x="545" y="534"/>
                        </a:lnTo>
                        <a:lnTo>
                          <a:pt x="519" y="505"/>
                        </a:lnTo>
                        <a:lnTo>
                          <a:pt x="500" y="505"/>
                        </a:lnTo>
                        <a:lnTo>
                          <a:pt x="487" y="483"/>
                        </a:lnTo>
                        <a:lnTo>
                          <a:pt x="474" y="476"/>
                        </a:lnTo>
                        <a:lnTo>
                          <a:pt x="455" y="454"/>
                        </a:lnTo>
                        <a:lnTo>
                          <a:pt x="449" y="447"/>
                        </a:lnTo>
                        <a:lnTo>
                          <a:pt x="455" y="440"/>
                        </a:lnTo>
                        <a:lnTo>
                          <a:pt x="461" y="440"/>
                        </a:lnTo>
                        <a:lnTo>
                          <a:pt x="449" y="433"/>
                        </a:lnTo>
                        <a:lnTo>
                          <a:pt x="435" y="433"/>
                        </a:lnTo>
                        <a:lnTo>
                          <a:pt x="423" y="433"/>
                        </a:lnTo>
                        <a:lnTo>
                          <a:pt x="391" y="397"/>
                        </a:lnTo>
                        <a:lnTo>
                          <a:pt x="385" y="389"/>
                        </a:lnTo>
                        <a:lnTo>
                          <a:pt x="371" y="382"/>
                        </a:lnTo>
                        <a:lnTo>
                          <a:pt x="365" y="375"/>
                        </a:lnTo>
                        <a:lnTo>
                          <a:pt x="333" y="296"/>
                        </a:lnTo>
                        <a:lnTo>
                          <a:pt x="327" y="288"/>
                        </a:lnTo>
                        <a:lnTo>
                          <a:pt x="301" y="267"/>
                        </a:lnTo>
                        <a:lnTo>
                          <a:pt x="275" y="216"/>
                        </a:lnTo>
                        <a:lnTo>
                          <a:pt x="275" y="194"/>
                        </a:lnTo>
                        <a:lnTo>
                          <a:pt x="288" y="180"/>
                        </a:lnTo>
                        <a:lnTo>
                          <a:pt x="288" y="166"/>
                        </a:lnTo>
                        <a:lnTo>
                          <a:pt x="275" y="158"/>
                        </a:lnTo>
                        <a:lnTo>
                          <a:pt x="269" y="151"/>
                        </a:lnTo>
                        <a:lnTo>
                          <a:pt x="275" y="137"/>
                        </a:lnTo>
                        <a:lnTo>
                          <a:pt x="288" y="130"/>
                        </a:lnTo>
                        <a:lnTo>
                          <a:pt x="321" y="122"/>
                        </a:lnTo>
                        <a:lnTo>
                          <a:pt x="333" y="108"/>
                        </a:lnTo>
                        <a:lnTo>
                          <a:pt x="346" y="101"/>
                        </a:lnTo>
                        <a:lnTo>
                          <a:pt x="346" y="65"/>
                        </a:lnTo>
                        <a:lnTo>
                          <a:pt x="346" y="50"/>
                        </a:lnTo>
                        <a:lnTo>
                          <a:pt x="333" y="50"/>
                        </a:lnTo>
                        <a:lnTo>
                          <a:pt x="295" y="36"/>
                        </a:lnTo>
                        <a:lnTo>
                          <a:pt x="288" y="29"/>
                        </a:lnTo>
                        <a:lnTo>
                          <a:pt x="282" y="21"/>
                        </a:lnTo>
                        <a:lnTo>
                          <a:pt x="282" y="14"/>
                        </a:lnTo>
                        <a:lnTo>
                          <a:pt x="282" y="7"/>
                        </a:lnTo>
                        <a:lnTo>
                          <a:pt x="256" y="0"/>
                        </a:lnTo>
                        <a:lnTo>
                          <a:pt x="211" y="7"/>
                        </a:lnTo>
                        <a:lnTo>
                          <a:pt x="205" y="21"/>
                        </a:lnTo>
                        <a:lnTo>
                          <a:pt x="186" y="21"/>
                        </a:lnTo>
                        <a:lnTo>
                          <a:pt x="173" y="50"/>
                        </a:lnTo>
                        <a:lnTo>
                          <a:pt x="173" y="57"/>
                        </a:lnTo>
                        <a:lnTo>
                          <a:pt x="160" y="50"/>
                        </a:lnTo>
                        <a:lnTo>
                          <a:pt x="140" y="43"/>
                        </a:lnTo>
                        <a:lnTo>
                          <a:pt x="134" y="50"/>
                        </a:lnTo>
                        <a:lnTo>
                          <a:pt x="122" y="72"/>
                        </a:lnTo>
                        <a:lnTo>
                          <a:pt x="102" y="57"/>
                        </a:lnTo>
                        <a:lnTo>
                          <a:pt x="108" y="36"/>
                        </a:lnTo>
                        <a:lnTo>
                          <a:pt x="102" y="21"/>
                        </a:lnTo>
                        <a:lnTo>
                          <a:pt x="90" y="29"/>
                        </a:lnTo>
                        <a:lnTo>
                          <a:pt x="90" y="43"/>
                        </a:lnTo>
                        <a:lnTo>
                          <a:pt x="76" y="57"/>
                        </a:lnTo>
                        <a:lnTo>
                          <a:pt x="70" y="57"/>
                        </a:lnTo>
                        <a:lnTo>
                          <a:pt x="26" y="50"/>
                        </a:lnTo>
                        <a:lnTo>
                          <a:pt x="12" y="65"/>
                        </a:lnTo>
                        <a:lnTo>
                          <a:pt x="12" y="79"/>
                        </a:lnTo>
                        <a:lnTo>
                          <a:pt x="19" y="93"/>
                        </a:lnTo>
                        <a:lnTo>
                          <a:pt x="0" y="108"/>
                        </a:lnTo>
                        <a:lnTo>
                          <a:pt x="6" y="122"/>
                        </a:lnTo>
                        <a:lnTo>
                          <a:pt x="12" y="130"/>
                        </a:lnTo>
                        <a:lnTo>
                          <a:pt x="0" y="151"/>
                        </a:lnTo>
                        <a:lnTo>
                          <a:pt x="0" y="173"/>
                        </a:lnTo>
                        <a:lnTo>
                          <a:pt x="6" y="180"/>
                        </a:lnTo>
                        <a:lnTo>
                          <a:pt x="12" y="180"/>
                        </a:lnTo>
                        <a:lnTo>
                          <a:pt x="19" y="187"/>
                        </a:lnTo>
                        <a:lnTo>
                          <a:pt x="26" y="202"/>
                        </a:lnTo>
                        <a:lnTo>
                          <a:pt x="26" y="223"/>
                        </a:lnTo>
                        <a:lnTo>
                          <a:pt x="38" y="223"/>
                        </a:lnTo>
                        <a:lnTo>
                          <a:pt x="51" y="223"/>
                        </a:lnTo>
                        <a:lnTo>
                          <a:pt x="84" y="187"/>
                        </a:lnTo>
                        <a:lnTo>
                          <a:pt x="96" y="194"/>
                        </a:lnTo>
                        <a:lnTo>
                          <a:pt x="128" y="209"/>
                        </a:lnTo>
                        <a:lnTo>
                          <a:pt x="148" y="223"/>
                        </a:lnTo>
                        <a:lnTo>
                          <a:pt x="148" y="245"/>
                        </a:lnTo>
                        <a:lnTo>
                          <a:pt x="160" y="259"/>
                        </a:lnTo>
                        <a:lnTo>
                          <a:pt x="166" y="281"/>
                        </a:lnTo>
                        <a:lnTo>
                          <a:pt x="173" y="317"/>
                        </a:lnTo>
                        <a:lnTo>
                          <a:pt x="179" y="339"/>
                        </a:lnTo>
                        <a:lnTo>
                          <a:pt x="192" y="346"/>
                        </a:lnTo>
                        <a:lnTo>
                          <a:pt x="211" y="360"/>
                        </a:lnTo>
                        <a:lnTo>
                          <a:pt x="230" y="389"/>
                        </a:lnTo>
                        <a:lnTo>
                          <a:pt x="250" y="418"/>
                        </a:lnTo>
                        <a:lnTo>
                          <a:pt x="269" y="433"/>
                        </a:lnTo>
                        <a:lnTo>
                          <a:pt x="301" y="476"/>
                        </a:lnTo>
                        <a:lnTo>
                          <a:pt x="327" y="476"/>
                        </a:lnTo>
                        <a:lnTo>
                          <a:pt x="353" y="505"/>
                        </a:lnTo>
                        <a:lnTo>
                          <a:pt x="353" y="526"/>
                        </a:lnTo>
                        <a:lnTo>
                          <a:pt x="359" y="534"/>
                        </a:lnTo>
                        <a:lnTo>
                          <a:pt x="378" y="526"/>
                        </a:lnTo>
                        <a:lnTo>
                          <a:pt x="378" y="534"/>
                        </a:lnTo>
                        <a:lnTo>
                          <a:pt x="378" y="555"/>
                        </a:lnTo>
                        <a:lnTo>
                          <a:pt x="397" y="570"/>
                        </a:lnTo>
                        <a:lnTo>
                          <a:pt x="403" y="577"/>
                        </a:lnTo>
                        <a:lnTo>
                          <a:pt x="429" y="570"/>
                        </a:lnTo>
                        <a:lnTo>
                          <a:pt x="429" y="584"/>
                        </a:lnTo>
                        <a:lnTo>
                          <a:pt x="429" y="606"/>
                        </a:lnTo>
                        <a:lnTo>
                          <a:pt x="443" y="627"/>
                        </a:lnTo>
                        <a:lnTo>
                          <a:pt x="443" y="642"/>
                        </a:lnTo>
                        <a:lnTo>
                          <a:pt x="449" y="656"/>
                        </a:lnTo>
                        <a:lnTo>
                          <a:pt x="449" y="671"/>
                        </a:lnTo>
                        <a:lnTo>
                          <a:pt x="435" y="685"/>
                        </a:lnTo>
                        <a:lnTo>
                          <a:pt x="429" y="700"/>
                        </a:lnTo>
                        <a:lnTo>
                          <a:pt x="423" y="721"/>
                        </a:lnTo>
                        <a:lnTo>
                          <a:pt x="423" y="743"/>
                        </a:lnTo>
                      </a:path>
                    </a:pathLst>
                  </a:custGeom>
                  <a:solidFill>
                    <a:srgbClr val="ff8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"/>
                <p:cNvSpPr/>
                <p:nvPr/>
              </p:nvSpPr>
              <p:spPr>
                <a:xfrm>
                  <a:off x="4269240" y="3771000"/>
                  <a:ext cx="336240" cy="195120"/>
                </a:xfrm>
                <a:custGeom>
                  <a:avLst/>
                  <a:gdLst/>
                  <a:ahLst/>
                  <a:rect l="l" t="t" r="r" b="b"/>
                  <a:pathLst>
                    <a:path w="238" h="174">
                      <a:moveTo>
                        <a:pt x="128" y="28"/>
                      </a:moveTo>
                      <a:lnTo>
                        <a:pt x="115" y="21"/>
                      </a:lnTo>
                      <a:lnTo>
                        <a:pt x="115" y="14"/>
                      </a:lnTo>
                      <a:lnTo>
                        <a:pt x="108" y="7"/>
                      </a:lnTo>
                      <a:lnTo>
                        <a:pt x="102" y="0"/>
                      </a:lnTo>
                      <a:lnTo>
                        <a:pt x="96" y="7"/>
                      </a:lnTo>
                      <a:lnTo>
                        <a:pt x="90" y="7"/>
                      </a:lnTo>
                      <a:lnTo>
                        <a:pt x="83" y="14"/>
                      </a:lnTo>
                      <a:lnTo>
                        <a:pt x="70" y="21"/>
                      </a:lnTo>
                      <a:lnTo>
                        <a:pt x="44" y="43"/>
                      </a:lnTo>
                      <a:lnTo>
                        <a:pt x="38" y="57"/>
                      </a:lnTo>
                      <a:lnTo>
                        <a:pt x="38" y="65"/>
                      </a:lnTo>
                      <a:lnTo>
                        <a:pt x="25" y="72"/>
                      </a:lnTo>
                      <a:lnTo>
                        <a:pt x="6" y="93"/>
                      </a:lnTo>
                      <a:lnTo>
                        <a:pt x="6" y="101"/>
                      </a:lnTo>
                      <a:lnTo>
                        <a:pt x="0" y="115"/>
                      </a:lnTo>
                      <a:lnTo>
                        <a:pt x="6" y="122"/>
                      </a:lnTo>
                      <a:lnTo>
                        <a:pt x="12" y="115"/>
                      </a:lnTo>
                      <a:lnTo>
                        <a:pt x="25" y="108"/>
                      </a:lnTo>
                      <a:lnTo>
                        <a:pt x="38" y="101"/>
                      </a:lnTo>
                      <a:lnTo>
                        <a:pt x="44" y="108"/>
                      </a:lnTo>
                      <a:lnTo>
                        <a:pt x="44" y="122"/>
                      </a:lnTo>
                      <a:lnTo>
                        <a:pt x="44" y="137"/>
                      </a:lnTo>
                      <a:lnTo>
                        <a:pt x="51" y="144"/>
                      </a:lnTo>
                      <a:lnTo>
                        <a:pt x="58" y="151"/>
                      </a:lnTo>
                      <a:lnTo>
                        <a:pt x="76" y="151"/>
                      </a:lnTo>
                      <a:lnTo>
                        <a:pt x="108" y="158"/>
                      </a:lnTo>
                      <a:lnTo>
                        <a:pt x="115" y="151"/>
                      </a:lnTo>
                      <a:lnTo>
                        <a:pt x="122" y="144"/>
                      </a:lnTo>
                      <a:lnTo>
                        <a:pt x="122" y="130"/>
                      </a:lnTo>
                      <a:lnTo>
                        <a:pt x="134" y="130"/>
                      </a:lnTo>
                      <a:lnTo>
                        <a:pt x="140" y="137"/>
                      </a:lnTo>
                      <a:lnTo>
                        <a:pt x="140" y="158"/>
                      </a:lnTo>
                      <a:lnTo>
                        <a:pt x="154" y="173"/>
                      </a:lnTo>
                      <a:lnTo>
                        <a:pt x="166" y="151"/>
                      </a:lnTo>
                      <a:lnTo>
                        <a:pt x="179" y="144"/>
                      </a:lnTo>
                      <a:lnTo>
                        <a:pt x="192" y="144"/>
                      </a:lnTo>
                      <a:lnTo>
                        <a:pt x="198" y="151"/>
                      </a:lnTo>
                      <a:lnTo>
                        <a:pt x="205" y="158"/>
                      </a:lnTo>
                      <a:lnTo>
                        <a:pt x="205" y="144"/>
                      </a:lnTo>
                      <a:lnTo>
                        <a:pt x="217" y="122"/>
                      </a:lnTo>
                      <a:lnTo>
                        <a:pt x="230" y="115"/>
                      </a:lnTo>
                      <a:lnTo>
                        <a:pt x="237" y="108"/>
                      </a:lnTo>
                      <a:lnTo>
                        <a:pt x="230" y="93"/>
                      </a:lnTo>
                      <a:lnTo>
                        <a:pt x="224" y="93"/>
                      </a:lnTo>
                      <a:lnTo>
                        <a:pt x="205" y="86"/>
                      </a:lnTo>
                      <a:lnTo>
                        <a:pt x="205" y="72"/>
                      </a:lnTo>
                      <a:lnTo>
                        <a:pt x="205" y="57"/>
                      </a:lnTo>
                      <a:lnTo>
                        <a:pt x="205" y="50"/>
                      </a:lnTo>
                      <a:lnTo>
                        <a:pt x="186" y="43"/>
                      </a:lnTo>
                      <a:lnTo>
                        <a:pt x="179" y="43"/>
                      </a:lnTo>
                      <a:lnTo>
                        <a:pt x="166" y="36"/>
                      </a:lnTo>
                      <a:lnTo>
                        <a:pt x="166" y="28"/>
                      </a:lnTo>
                      <a:lnTo>
                        <a:pt x="160" y="21"/>
                      </a:lnTo>
                      <a:lnTo>
                        <a:pt x="160" y="14"/>
                      </a:lnTo>
                      <a:lnTo>
                        <a:pt x="147" y="14"/>
                      </a:lnTo>
                      <a:lnTo>
                        <a:pt x="147" y="21"/>
                      </a:lnTo>
                      <a:lnTo>
                        <a:pt x="134" y="28"/>
                      </a:lnTo>
                      <a:lnTo>
                        <a:pt x="128" y="28"/>
                      </a:lnTo>
                    </a:path>
                  </a:pathLst>
                </a:custGeom>
                <a:solidFill>
                  <a:srgbClr val="80ff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541040" y="3746160"/>
                  <a:ext cx="508680" cy="211680"/>
                </a:xfrm>
                <a:custGeom>
                  <a:avLst/>
                  <a:gdLst/>
                  <a:ahLst/>
                  <a:rect l="l" t="t" r="r" b="b"/>
                  <a:pathLst>
                    <a:path w="360" h="189">
                      <a:moveTo>
                        <a:pt x="0" y="65"/>
                      </a:moveTo>
                      <a:lnTo>
                        <a:pt x="13" y="65"/>
                      </a:lnTo>
                      <a:lnTo>
                        <a:pt x="20" y="65"/>
                      </a:lnTo>
                      <a:lnTo>
                        <a:pt x="26" y="72"/>
                      </a:lnTo>
                      <a:lnTo>
                        <a:pt x="38" y="72"/>
                      </a:lnTo>
                      <a:lnTo>
                        <a:pt x="52" y="72"/>
                      </a:lnTo>
                      <a:lnTo>
                        <a:pt x="58" y="79"/>
                      </a:lnTo>
                      <a:lnTo>
                        <a:pt x="70" y="72"/>
                      </a:lnTo>
                      <a:lnTo>
                        <a:pt x="90" y="72"/>
                      </a:lnTo>
                      <a:lnTo>
                        <a:pt x="96" y="79"/>
                      </a:lnTo>
                      <a:lnTo>
                        <a:pt x="103" y="79"/>
                      </a:lnTo>
                      <a:lnTo>
                        <a:pt x="109" y="72"/>
                      </a:lnTo>
                      <a:lnTo>
                        <a:pt x="128" y="72"/>
                      </a:lnTo>
                      <a:lnTo>
                        <a:pt x="135" y="72"/>
                      </a:lnTo>
                      <a:lnTo>
                        <a:pt x="154" y="79"/>
                      </a:lnTo>
                      <a:lnTo>
                        <a:pt x="167" y="87"/>
                      </a:lnTo>
                      <a:lnTo>
                        <a:pt x="180" y="87"/>
                      </a:lnTo>
                      <a:lnTo>
                        <a:pt x="180" y="72"/>
                      </a:lnTo>
                      <a:lnTo>
                        <a:pt x="173" y="58"/>
                      </a:lnTo>
                      <a:lnTo>
                        <a:pt x="167" y="36"/>
                      </a:lnTo>
                      <a:lnTo>
                        <a:pt x="211" y="7"/>
                      </a:lnTo>
                      <a:lnTo>
                        <a:pt x="218" y="7"/>
                      </a:lnTo>
                      <a:lnTo>
                        <a:pt x="218" y="14"/>
                      </a:lnTo>
                      <a:lnTo>
                        <a:pt x="231" y="14"/>
                      </a:lnTo>
                      <a:lnTo>
                        <a:pt x="257" y="14"/>
                      </a:lnTo>
                      <a:lnTo>
                        <a:pt x="269" y="0"/>
                      </a:lnTo>
                      <a:lnTo>
                        <a:pt x="301" y="0"/>
                      </a:lnTo>
                      <a:lnTo>
                        <a:pt x="307" y="14"/>
                      </a:lnTo>
                      <a:lnTo>
                        <a:pt x="321" y="14"/>
                      </a:lnTo>
                      <a:lnTo>
                        <a:pt x="333" y="7"/>
                      </a:lnTo>
                      <a:lnTo>
                        <a:pt x="353" y="22"/>
                      </a:lnTo>
                      <a:lnTo>
                        <a:pt x="353" y="43"/>
                      </a:lnTo>
                      <a:lnTo>
                        <a:pt x="359" y="58"/>
                      </a:lnTo>
                      <a:lnTo>
                        <a:pt x="359" y="72"/>
                      </a:lnTo>
                      <a:lnTo>
                        <a:pt x="353" y="87"/>
                      </a:lnTo>
                      <a:lnTo>
                        <a:pt x="340" y="87"/>
                      </a:lnTo>
                      <a:lnTo>
                        <a:pt x="340" y="94"/>
                      </a:lnTo>
                      <a:lnTo>
                        <a:pt x="347" y="108"/>
                      </a:lnTo>
                      <a:lnTo>
                        <a:pt x="347" y="123"/>
                      </a:lnTo>
                      <a:lnTo>
                        <a:pt x="340" y="130"/>
                      </a:lnTo>
                      <a:lnTo>
                        <a:pt x="321" y="144"/>
                      </a:lnTo>
                      <a:lnTo>
                        <a:pt x="321" y="152"/>
                      </a:lnTo>
                      <a:lnTo>
                        <a:pt x="321" y="166"/>
                      </a:lnTo>
                      <a:lnTo>
                        <a:pt x="301" y="166"/>
                      </a:lnTo>
                      <a:lnTo>
                        <a:pt x="275" y="166"/>
                      </a:lnTo>
                      <a:lnTo>
                        <a:pt x="263" y="173"/>
                      </a:lnTo>
                      <a:lnTo>
                        <a:pt x="243" y="173"/>
                      </a:lnTo>
                      <a:lnTo>
                        <a:pt x="231" y="188"/>
                      </a:lnTo>
                      <a:lnTo>
                        <a:pt x="193" y="173"/>
                      </a:lnTo>
                      <a:lnTo>
                        <a:pt x="173" y="173"/>
                      </a:lnTo>
                      <a:lnTo>
                        <a:pt x="128" y="159"/>
                      </a:lnTo>
                      <a:lnTo>
                        <a:pt x="122" y="144"/>
                      </a:lnTo>
                      <a:lnTo>
                        <a:pt x="122" y="137"/>
                      </a:lnTo>
                      <a:lnTo>
                        <a:pt x="122" y="123"/>
                      </a:lnTo>
                      <a:lnTo>
                        <a:pt x="116" y="123"/>
                      </a:lnTo>
                      <a:lnTo>
                        <a:pt x="84" y="123"/>
                      </a:lnTo>
                      <a:lnTo>
                        <a:pt x="45" y="130"/>
                      </a:lnTo>
                      <a:lnTo>
                        <a:pt x="38" y="115"/>
                      </a:lnTo>
                      <a:lnTo>
                        <a:pt x="32" y="115"/>
                      </a:lnTo>
                      <a:lnTo>
                        <a:pt x="20" y="108"/>
                      </a:lnTo>
                      <a:lnTo>
                        <a:pt x="13" y="108"/>
                      </a:lnTo>
                      <a:lnTo>
                        <a:pt x="13" y="94"/>
                      </a:lnTo>
                      <a:lnTo>
                        <a:pt x="13" y="72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8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994640" y="3771000"/>
                  <a:ext cx="472320" cy="259920"/>
                </a:xfrm>
                <a:custGeom>
                  <a:avLst/>
                  <a:gdLst/>
                  <a:ahLst/>
                  <a:rect l="l" t="t" r="r" b="b"/>
                  <a:pathLst>
                    <a:path w="334" h="232">
                      <a:moveTo>
                        <a:pt x="0" y="144"/>
                      </a:moveTo>
                      <a:lnTo>
                        <a:pt x="12" y="158"/>
                      </a:lnTo>
                      <a:lnTo>
                        <a:pt x="6" y="158"/>
                      </a:lnTo>
                      <a:lnTo>
                        <a:pt x="12" y="173"/>
                      </a:lnTo>
                      <a:lnTo>
                        <a:pt x="20" y="173"/>
                      </a:lnTo>
                      <a:lnTo>
                        <a:pt x="52" y="209"/>
                      </a:lnTo>
                      <a:lnTo>
                        <a:pt x="64" y="209"/>
                      </a:lnTo>
                      <a:lnTo>
                        <a:pt x="90" y="231"/>
                      </a:lnTo>
                      <a:lnTo>
                        <a:pt x="109" y="216"/>
                      </a:lnTo>
                      <a:lnTo>
                        <a:pt x="128" y="216"/>
                      </a:lnTo>
                      <a:lnTo>
                        <a:pt x="134" y="223"/>
                      </a:lnTo>
                      <a:lnTo>
                        <a:pt x="147" y="216"/>
                      </a:lnTo>
                      <a:lnTo>
                        <a:pt x="173" y="202"/>
                      </a:lnTo>
                      <a:lnTo>
                        <a:pt x="211" y="194"/>
                      </a:lnTo>
                      <a:lnTo>
                        <a:pt x="225" y="202"/>
                      </a:lnTo>
                      <a:lnTo>
                        <a:pt x="231" y="209"/>
                      </a:lnTo>
                      <a:lnTo>
                        <a:pt x="243" y="194"/>
                      </a:lnTo>
                      <a:lnTo>
                        <a:pt x="257" y="187"/>
                      </a:lnTo>
                      <a:lnTo>
                        <a:pt x="269" y="187"/>
                      </a:lnTo>
                      <a:lnTo>
                        <a:pt x="301" y="158"/>
                      </a:lnTo>
                      <a:lnTo>
                        <a:pt x="307" y="137"/>
                      </a:lnTo>
                      <a:lnTo>
                        <a:pt x="307" y="101"/>
                      </a:lnTo>
                      <a:lnTo>
                        <a:pt x="314" y="72"/>
                      </a:lnTo>
                      <a:lnTo>
                        <a:pt x="321" y="72"/>
                      </a:lnTo>
                      <a:lnTo>
                        <a:pt x="333" y="65"/>
                      </a:lnTo>
                      <a:lnTo>
                        <a:pt x="333" y="50"/>
                      </a:lnTo>
                      <a:lnTo>
                        <a:pt x="327" y="43"/>
                      </a:lnTo>
                      <a:lnTo>
                        <a:pt x="321" y="50"/>
                      </a:lnTo>
                      <a:lnTo>
                        <a:pt x="301" y="43"/>
                      </a:lnTo>
                      <a:lnTo>
                        <a:pt x="295" y="36"/>
                      </a:lnTo>
                      <a:lnTo>
                        <a:pt x="289" y="14"/>
                      </a:lnTo>
                      <a:lnTo>
                        <a:pt x="275" y="14"/>
                      </a:lnTo>
                      <a:lnTo>
                        <a:pt x="263" y="0"/>
                      </a:lnTo>
                      <a:lnTo>
                        <a:pt x="250" y="0"/>
                      </a:lnTo>
                      <a:lnTo>
                        <a:pt x="218" y="7"/>
                      </a:lnTo>
                      <a:lnTo>
                        <a:pt x="211" y="21"/>
                      </a:lnTo>
                      <a:lnTo>
                        <a:pt x="205" y="28"/>
                      </a:lnTo>
                      <a:lnTo>
                        <a:pt x="192" y="36"/>
                      </a:lnTo>
                      <a:lnTo>
                        <a:pt x="179" y="43"/>
                      </a:lnTo>
                      <a:lnTo>
                        <a:pt x="173" y="36"/>
                      </a:lnTo>
                      <a:lnTo>
                        <a:pt x="167" y="36"/>
                      </a:lnTo>
                      <a:lnTo>
                        <a:pt x="160" y="28"/>
                      </a:lnTo>
                      <a:lnTo>
                        <a:pt x="147" y="36"/>
                      </a:lnTo>
                      <a:lnTo>
                        <a:pt x="134" y="43"/>
                      </a:lnTo>
                      <a:lnTo>
                        <a:pt x="109" y="57"/>
                      </a:lnTo>
                      <a:lnTo>
                        <a:pt x="96" y="57"/>
                      </a:lnTo>
                      <a:lnTo>
                        <a:pt x="64" y="57"/>
                      </a:lnTo>
                      <a:lnTo>
                        <a:pt x="58" y="57"/>
                      </a:lnTo>
                      <a:lnTo>
                        <a:pt x="52" y="43"/>
                      </a:lnTo>
                      <a:lnTo>
                        <a:pt x="44" y="36"/>
                      </a:lnTo>
                      <a:lnTo>
                        <a:pt x="38" y="43"/>
                      </a:lnTo>
                      <a:lnTo>
                        <a:pt x="38" y="50"/>
                      </a:lnTo>
                      <a:lnTo>
                        <a:pt x="32" y="65"/>
                      </a:lnTo>
                      <a:lnTo>
                        <a:pt x="20" y="65"/>
                      </a:lnTo>
                      <a:lnTo>
                        <a:pt x="20" y="72"/>
                      </a:lnTo>
                      <a:lnTo>
                        <a:pt x="26" y="86"/>
                      </a:lnTo>
                      <a:lnTo>
                        <a:pt x="26" y="101"/>
                      </a:lnTo>
                      <a:lnTo>
                        <a:pt x="12" y="108"/>
                      </a:lnTo>
                      <a:lnTo>
                        <a:pt x="12" y="115"/>
                      </a:lnTo>
                      <a:lnTo>
                        <a:pt x="0" y="122"/>
                      </a:lnTo>
                      <a:lnTo>
                        <a:pt x="0" y="130"/>
                      </a:lnTo>
                      <a:lnTo>
                        <a:pt x="0" y="144"/>
                      </a:lnTo>
                    </a:path>
                  </a:pathLst>
                </a:custGeom>
                <a:solidFill>
                  <a:srgbClr val="ff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785120" y="3932280"/>
                  <a:ext cx="227520" cy="114480"/>
                </a:xfrm>
                <a:custGeom>
                  <a:avLst/>
                  <a:gdLst/>
                  <a:ahLst/>
                  <a:rect l="l" t="t" r="r" b="b"/>
                  <a:pathLst>
                    <a:path w="161" h="102">
                      <a:moveTo>
                        <a:pt x="12" y="58"/>
                      </a:moveTo>
                      <a:lnTo>
                        <a:pt x="32" y="72"/>
                      </a:lnTo>
                      <a:lnTo>
                        <a:pt x="26" y="87"/>
                      </a:lnTo>
                      <a:lnTo>
                        <a:pt x="20" y="94"/>
                      </a:lnTo>
                      <a:lnTo>
                        <a:pt x="6" y="94"/>
                      </a:lnTo>
                      <a:lnTo>
                        <a:pt x="0" y="94"/>
                      </a:lnTo>
                      <a:lnTo>
                        <a:pt x="20" y="101"/>
                      </a:lnTo>
                      <a:lnTo>
                        <a:pt x="26" y="101"/>
                      </a:lnTo>
                      <a:lnTo>
                        <a:pt x="44" y="94"/>
                      </a:lnTo>
                      <a:lnTo>
                        <a:pt x="90" y="101"/>
                      </a:lnTo>
                      <a:lnTo>
                        <a:pt x="116" y="65"/>
                      </a:lnTo>
                      <a:lnTo>
                        <a:pt x="122" y="50"/>
                      </a:lnTo>
                      <a:lnTo>
                        <a:pt x="128" y="50"/>
                      </a:lnTo>
                      <a:lnTo>
                        <a:pt x="141" y="50"/>
                      </a:lnTo>
                      <a:lnTo>
                        <a:pt x="160" y="29"/>
                      </a:lnTo>
                      <a:lnTo>
                        <a:pt x="160" y="14"/>
                      </a:lnTo>
                      <a:lnTo>
                        <a:pt x="148" y="0"/>
                      </a:lnTo>
                      <a:lnTo>
                        <a:pt x="141" y="0"/>
                      </a:lnTo>
                      <a:lnTo>
                        <a:pt x="128" y="7"/>
                      </a:lnTo>
                      <a:lnTo>
                        <a:pt x="116" y="0"/>
                      </a:lnTo>
                      <a:lnTo>
                        <a:pt x="102" y="0"/>
                      </a:lnTo>
                      <a:lnTo>
                        <a:pt x="90" y="7"/>
                      </a:lnTo>
                      <a:lnTo>
                        <a:pt x="70" y="7"/>
                      </a:lnTo>
                      <a:lnTo>
                        <a:pt x="58" y="22"/>
                      </a:lnTo>
                      <a:lnTo>
                        <a:pt x="26" y="7"/>
                      </a:lnTo>
                      <a:lnTo>
                        <a:pt x="12" y="7"/>
                      </a:lnTo>
                      <a:lnTo>
                        <a:pt x="12" y="29"/>
                      </a:lnTo>
                      <a:lnTo>
                        <a:pt x="12" y="58"/>
                      </a:lnTo>
                    </a:path>
                  </a:pathLst>
                </a:custGeom>
                <a:solidFill>
                  <a:srgbClr val="c0c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448960" y="4143240"/>
                  <a:ext cx="435240" cy="291240"/>
                </a:xfrm>
                <a:custGeom>
                  <a:avLst/>
                  <a:gdLst/>
                  <a:ahLst/>
                  <a:rect l="l" t="t" r="r" b="b"/>
                  <a:pathLst>
                    <a:path w="308" h="260">
                      <a:moveTo>
                        <a:pt x="6" y="28"/>
                      </a:moveTo>
                      <a:lnTo>
                        <a:pt x="6" y="36"/>
                      </a:lnTo>
                      <a:lnTo>
                        <a:pt x="0" y="43"/>
                      </a:lnTo>
                      <a:lnTo>
                        <a:pt x="0" y="57"/>
                      </a:lnTo>
                      <a:lnTo>
                        <a:pt x="12" y="72"/>
                      </a:lnTo>
                      <a:lnTo>
                        <a:pt x="19" y="79"/>
                      </a:lnTo>
                      <a:lnTo>
                        <a:pt x="26" y="86"/>
                      </a:lnTo>
                      <a:lnTo>
                        <a:pt x="26" y="108"/>
                      </a:lnTo>
                      <a:lnTo>
                        <a:pt x="19" y="115"/>
                      </a:lnTo>
                      <a:lnTo>
                        <a:pt x="6" y="122"/>
                      </a:lnTo>
                      <a:lnTo>
                        <a:pt x="0" y="129"/>
                      </a:lnTo>
                      <a:lnTo>
                        <a:pt x="6" y="144"/>
                      </a:lnTo>
                      <a:lnTo>
                        <a:pt x="6" y="158"/>
                      </a:lnTo>
                      <a:lnTo>
                        <a:pt x="6" y="173"/>
                      </a:lnTo>
                      <a:lnTo>
                        <a:pt x="0" y="180"/>
                      </a:lnTo>
                      <a:lnTo>
                        <a:pt x="6" y="194"/>
                      </a:lnTo>
                      <a:lnTo>
                        <a:pt x="12" y="187"/>
                      </a:lnTo>
                      <a:lnTo>
                        <a:pt x="26" y="202"/>
                      </a:lnTo>
                      <a:lnTo>
                        <a:pt x="26" y="216"/>
                      </a:lnTo>
                      <a:lnTo>
                        <a:pt x="26" y="230"/>
                      </a:lnTo>
                      <a:lnTo>
                        <a:pt x="26" y="238"/>
                      </a:lnTo>
                      <a:lnTo>
                        <a:pt x="32" y="259"/>
                      </a:lnTo>
                      <a:lnTo>
                        <a:pt x="58" y="252"/>
                      </a:lnTo>
                      <a:lnTo>
                        <a:pt x="90" y="238"/>
                      </a:lnTo>
                      <a:lnTo>
                        <a:pt x="108" y="223"/>
                      </a:lnTo>
                      <a:lnTo>
                        <a:pt x="115" y="216"/>
                      </a:lnTo>
                      <a:lnTo>
                        <a:pt x="134" y="238"/>
                      </a:lnTo>
                      <a:lnTo>
                        <a:pt x="141" y="230"/>
                      </a:lnTo>
                      <a:lnTo>
                        <a:pt x="154" y="238"/>
                      </a:lnTo>
                      <a:lnTo>
                        <a:pt x="166" y="238"/>
                      </a:lnTo>
                      <a:lnTo>
                        <a:pt x="185" y="230"/>
                      </a:lnTo>
                      <a:lnTo>
                        <a:pt x="192" y="230"/>
                      </a:lnTo>
                      <a:lnTo>
                        <a:pt x="192" y="216"/>
                      </a:lnTo>
                      <a:lnTo>
                        <a:pt x="192" y="202"/>
                      </a:lnTo>
                      <a:lnTo>
                        <a:pt x="205" y="194"/>
                      </a:lnTo>
                      <a:lnTo>
                        <a:pt x="217" y="202"/>
                      </a:lnTo>
                      <a:lnTo>
                        <a:pt x="217" y="209"/>
                      </a:lnTo>
                      <a:lnTo>
                        <a:pt x="224" y="194"/>
                      </a:lnTo>
                      <a:lnTo>
                        <a:pt x="249" y="180"/>
                      </a:lnTo>
                      <a:lnTo>
                        <a:pt x="269" y="180"/>
                      </a:lnTo>
                      <a:lnTo>
                        <a:pt x="287" y="180"/>
                      </a:lnTo>
                      <a:lnTo>
                        <a:pt x="281" y="158"/>
                      </a:lnTo>
                      <a:lnTo>
                        <a:pt x="281" y="151"/>
                      </a:lnTo>
                      <a:lnTo>
                        <a:pt x="263" y="137"/>
                      </a:lnTo>
                      <a:lnTo>
                        <a:pt x="263" y="129"/>
                      </a:lnTo>
                      <a:lnTo>
                        <a:pt x="269" y="115"/>
                      </a:lnTo>
                      <a:lnTo>
                        <a:pt x="281" y="108"/>
                      </a:lnTo>
                      <a:lnTo>
                        <a:pt x="275" y="101"/>
                      </a:lnTo>
                      <a:lnTo>
                        <a:pt x="281" y="86"/>
                      </a:lnTo>
                      <a:lnTo>
                        <a:pt x="281" y="79"/>
                      </a:lnTo>
                      <a:lnTo>
                        <a:pt x="287" y="57"/>
                      </a:lnTo>
                      <a:lnTo>
                        <a:pt x="287" y="50"/>
                      </a:lnTo>
                      <a:lnTo>
                        <a:pt x="301" y="50"/>
                      </a:lnTo>
                      <a:lnTo>
                        <a:pt x="307" y="36"/>
                      </a:lnTo>
                      <a:lnTo>
                        <a:pt x="301" y="28"/>
                      </a:lnTo>
                      <a:lnTo>
                        <a:pt x="295" y="7"/>
                      </a:lnTo>
                      <a:lnTo>
                        <a:pt x="287" y="14"/>
                      </a:lnTo>
                      <a:lnTo>
                        <a:pt x="256" y="7"/>
                      </a:lnTo>
                      <a:lnTo>
                        <a:pt x="231" y="0"/>
                      </a:lnTo>
                      <a:lnTo>
                        <a:pt x="211" y="7"/>
                      </a:lnTo>
                      <a:lnTo>
                        <a:pt x="192" y="14"/>
                      </a:lnTo>
                      <a:lnTo>
                        <a:pt x="173" y="28"/>
                      </a:lnTo>
                      <a:lnTo>
                        <a:pt x="154" y="43"/>
                      </a:lnTo>
                      <a:lnTo>
                        <a:pt x="134" y="50"/>
                      </a:lnTo>
                      <a:lnTo>
                        <a:pt x="115" y="43"/>
                      </a:lnTo>
                      <a:lnTo>
                        <a:pt x="96" y="50"/>
                      </a:lnTo>
                      <a:lnTo>
                        <a:pt x="83" y="57"/>
                      </a:lnTo>
                      <a:lnTo>
                        <a:pt x="64" y="50"/>
                      </a:lnTo>
                      <a:lnTo>
                        <a:pt x="44" y="36"/>
                      </a:lnTo>
                      <a:lnTo>
                        <a:pt x="32" y="36"/>
                      </a:lnTo>
                      <a:lnTo>
                        <a:pt x="12" y="28"/>
                      </a:lnTo>
                      <a:lnTo>
                        <a:pt x="6" y="28"/>
                      </a:lnTo>
                    </a:path>
                  </a:pathLst>
                </a:custGeom>
                <a:solidFill>
                  <a:srgbClr val="c0c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194080" y="4320720"/>
                  <a:ext cx="173520" cy="252360"/>
                </a:xfrm>
                <a:custGeom>
                  <a:avLst/>
                  <a:gdLst/>
                  <a:ahLst/>
                  <a:rect l="l" t="t" r="r" b="b"/>
                  <a:pathLst>
                    <a:path w="123" h="225">
                      <a:moveTo>
                        <a:pt x="12" y="51"/>
                      </a:moveTo>
                      <a:lnTo>
                        <a:pt x="19" y="58"/>
                      </a:lnTo>
                      <a:lnTo>
                        <a:pt x="19" y="65"/>
                      </a:lnTo>
                      <a:lnTo>
                        <a:pt x="19" y="72"/>
                      </a:lnTo>
                      <a:lnTo>
                        <a:pt x="12" y="87"/>
                      </a:lnTo>
                      <a:lnTo>
                        <a:pt x="12" y="109"/>
                      </a:lnTo>
                      <a:lnTo>
                        <a:pt x="19" y="116"/>
                      </a:lnTo>
                      <a:lnTo>
                        <a:pt x="6" y="130"/>
                      </a:lnTo>
                      <a:lnTo>
                        <a:pt x="6" y="137"/>
                      </a:lnTo>
                      <a:lnTo>
                        <a:pt x="0" y="145"/>
                      </a:lnTo>
                      <a:lnTo>
                        <a:pt x="6" y="152"/>
                      </a:lnTo>
                      <a:lnTo>
                        <a:pt x="6" y="159"/>
                      </a:lnTo>
                      <a:lnTo>
                        <a:pt x="12" y="152"/>
                      </a:lnTo>
                      <a:lnTo>
                        <a:pt x="19" y="166"/>
                      </a:lnTo>
                      <a:lnTo>
                        <a:pt x="19" y="173"/>
                      </a:lnTo>
                      <a:lnTo>
                        <a:pt x="12" y="181"/>
                      </a:lnTo>
                      <a:lnTo>
                        <a:pt x="19" y="188"/>
                      </a:lnTo>
                      <a:lnTo>
                        <a:pt x="26" y="195"/>
                      </a:lnTo>
                      <a:lnTo>
                        <a:pt x="38" y="202"/>
                      </a:lnTo>
                      <a:lnTo>
                        <a:pt x="51" y="210"/>
                      </a:lnTo>
                      <a:lnTo>
                        <a:pt x="51" y="217"/>
                      </a:lnTo>
                      <a:lnTo>
                        <a:pt x="64" y="224"/>
                      </a:lnTo>
                      <a:lnTo>
                        <a:pt x="77" y="217"/>
                      </a:lnTo>
                      <a:lnTo>
                        <a:pt x="90" y="210"/>
                      </a:lnTo>
                      <a:lnTo>
                        <a:pt x="96" y="195"/>
                      </a:lnTo>
                      <a:lnTo>
                        <a:pt x="96" y="188"/>
                      </a:lnTo>
                      <a:lnTo>
                        <a:pt x="109" y="166"/>
                      </a:lnTo>
                      <a:lnTo>
                        <a:pt x="116" y="152"/>
                      </a:lnTo>
                      <a:lnTo>
                        <a:pt x="116" y="137"/>
                      </a:lnTo>
                      <a:lnTo>
                        <a:pt x="122" y="123"/>
                      </a:lnTo>
                      <a:lnTo>
                        <a:pt x="109" y="123"/>
                      </a:lnTo>
                      <a:lnTo>
                        <a:pt x="102" y="116"/>
                      </a:lnTo>
                      <a:lnTo>
                        <a:pt x="96" y="116"/>
                      </a:lnTo>
                      <a:lnTo>
                        <a:pt x="90" y="109"/>
                      </a:lnTo>
                      <a:lnTo>
                        <a:pt x="84" y="94"/>
                      </a:lnTo>
                      <a:lnTo>
                        <a:pt x="84" y="87"/>
                      </a:lnTo>
                      <a:lnTo>
                        <a:pt x="90" y="72"/>
                      </a:lnTo>
                      <a:lnTo>
                        <a:pt x="90" y="36"/>
                      </a:lnTo>
                      <a:lnTo>
                        <a:pt x="90" y="29"/>
                      </a:lnTo>
                      <a:lnTo>
                        <a:pt x="84" y="22"/>
                      </a:lnTo>
                      <a:lnTo>
                        <a:pt x="70" y="22"/>
                      </a:lnTo>
                      <a:lnTo>
                        <a:pt x="64" y="15"/>
                      </a:lnTo>
                      <a:lnTo>
                        <a:pt x="58" y="0"/>
                      </a:lnTo>
                      <a:lnTo>
                        <a:pt x="51" y="0"/>
                      </a:lnTo>
                      <a:lnTo>
                        <a:pt x="51" y="8"/>
                      </a:lnTo>
                      <a:lnTo>
                        <a:pt x="45" y="0"/>
                      </a:lnTo>
                      <a:lnTo>
                        <a:pt x="38" y="8"/>
                      </a:lnTo>
                      <a:lnTo>
                        <a:pt x="32" y="0"/>
                      </a:lnTo>
                      <a:lnTo>
                        <a:pt x="19" y="8"/>
                      </a:lnTo>
                      <a:lnTo>
                        <a:pt x="19" y="29"/>
                      </a:lnTo>
                      <a:lnTo>
                        <a:pt x="19" y="44"/>
                      </a:lnTo>
                      <a:lnTo>
                        <a:pt x="12" y="51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321520" y="3794400"/>
                  <a:ext cx="627840" cy="406080"/>
                </a:xfrm>
                <a:custGeom>
                  <a:avLst/>
                  <a:gdLst/>
                  <a:ahLst/>
                  <a:rect l="l" t="t" r="r" b="b"/>
                  <a:pathLst>
                    <a:path w="444" h="362">
                      <a:moveTo>
                        <a:pt x="102" y="29"/>
                      </a:moveTo>
                      <a:lnTo>
                        <a:pt x="96" y="44"/>
                      </a:lnTo>
                      <a:lnTo>
                        <a:pt x="90" y="51"/>
                      </a:lnTo>
                      <a:lnTo>
                        <a:pt x="84" y="51"/>
                      </a:lnTo>
                      <a:lnTo>
                        <a:pt x="77" y="109"/>
                      </a:lnTo>
                      <a:lnTo>
                        <a:pt x="77" y="116"/>
                      </a:lnTo>
                      <a:lnTo>
                        <a:pt x="64" y="137"/>
                      </a:lnTo>
                      <a:lnTo>
                        <a:pt x="51" y="152"/>
                      </a:lnTo>
                      <a:lnTo>
                        <a:pt x="38" y="166"/>
                      </a:lnTo>
                      <a:lnTo>
                        <a:pt x="12" y="173"/>
                      </a:lnTo>
                      <a:lnTo>
                        <a:pt x="0" y="181"/>
                      </a:lnTo>
                      <a:lnTo>
                        <a:pt x="0" y="195"/>
                      </a:lnTo>
                      <a:lnTo>
                        <a:pt x="6" y="202"/>
                      </a:lnTo>
                      <a:lnTo>
                        <a:pt x="12" y="217"/>
                      </a:lnTo>
                      <a:lnTo>
                        <a:pt x="12" y="224"/>
                      </a:lnTo>
                      <a:lnTo>
                        <a:pt x="12" y="231"/>
                      </a:lnTo>
                      <a:lnTo>
                        <a:pt x="19" y="238"/>
                      </a:lnTo>
                      <a:lnTo>
                        <a:pt x="32" y="238"/>
                      </a:lnTo>
                      <a:lnTo>
                        <a:pt x="38" y="246"/>
                      </a:lnTo>
                      <a:lnTo>
                        <a:pt x="38" y="267"/>
                      </a:lnTo>
                      <a:lnTo>
                        <a:pt x="44" y="282"/>
                      </a:lnTo>
                      <a:lnTo>
                        <a:pt x="44" y="296"/>
                      </a:lnTo>
                      <a:lnTo>
                        <a:pt x="58" y="296"/>
                      </a:lnTo>
                      <a:lnTo>
                        <a:pt x="70" y="282"/>
                      </a:lnTo>
                      <a:lnTo>
                        <a:pt x="84" y="296"/>
                      </a:lnTo>
                      <a:lnTo>
                        <a:pt x="84" y="303"/>
                      </a:lnTo>
                      <a:lnTo>
                        <a:pt x="84" y="311"/>
                      </a:lnTo>
                      <a:lnTo>
                        <a:pt x="90" y="311"/>
                      </a:lnTo>
                      <a:lnTo>
                        <a:pt x="96" y="325"/>
                      </a:lnTo>
                      <a:lnTo>
                        <a:pt x="96" y="332"/>
                      </a:lnTo>
                      <a:lnTo>
                        <a:pt x="96" y="339"/>
                      </a:lnTo>
                      <a:lnTo>
                        <a:pt x="109" y="339"/>
                      </a:lnTo>
                      <a:lnTo>
                        <a:pt x="128" y="347"/>
                      </a:lnTo>
                      <a:lnTo>
                        <a:pt x="160" y="361"/>
                      </a:lnTo>
                      <a:lnTo>
                        <a:pt x="173" y="361"/>
                      </a:lnTo>
                      <a:lnTo>
                        <a:pt x="186" y="361"/>
                      </a:lnTo>
                      <a:lnTo>
                        <a:pt x="198" y="354"/>
                      </a:lnTo>
                      <a:lnTo>
                        <a:pt x="224" y="361"/>
                      </a:lnTo>
                      <a:lnTo>
                        <a:pt x="238" y="354"/>
                      </a:lnTo>
                      <a:lnTo>
                        <a:pt x="244" y="354"/>
                      </a:lnTo>
                      <a:lnTo>
                        <a:pt x="256" y="347"/>
                      </a:lnTo>
                      <a:lnTo>
                        <a:pt x="295" y="325"/>
                      </a:lnTo>
                      <a:lnTo>
                        <a:pt x="321" y="311"/>
                      </a:lnTo>
                      <a:lnTo>
                        <a:pt x="334" y="311"/>
                      </a:lnTo>
                      <a:lnTo>
                        <a:pt x="353" y="318"/>
                      </a:lnTo>
                      <a:lnTo>
                        <a:pt x="372" y="318"/>
                      </a:lnTo>
                      <a:lnTo>
                        <a:pt x="378" y="325"/>
                      </a:lnTo>
                      <a:lnTo>
                        <a:pt x="391" y="318"/>
                      </a:lnTo>
                      <a:lnTo>
                        <a:pt x="398" y="303"/>
                      </a:lnTo>
                      <a:lnTo>
                        <a:pt x="398" y="282"/>
                      </a:lnTo>
                      <a:lnTo>
                        <a:pt x="398" y="253"/>
                      </a:lnTo>
                      <a:lnTo>
                        <a:pt x="404" y="238"/>
                      </a:lnTo>
                      <a:lnTo>
                        <a:pt x="411" y="238"/>
                      </a:lnTo>
                      <a:lnTo>
                        <a:pt x="417" y="246"/>
                      </a:lnTo>
                      <a:lnTo>
                        <a:pt x="423" y="238"/>
                      </a:lnTo>
                      <a:lnTo>
                        <a:pt x="430" y="231"/>
                      </a:lnTo>
                      <a:lnTo>
                        <a:pt x="430" y="224"/>
                      </a:lnTo>
                      <a:lnTo>
                        <a:pt x="436" y="224"/>
                      </a:lnTo>
                      <a:lnTo>
                        <a:pt x="443" y="210"/>
                      </a:lnTo>
                      <a:lnTo>
                        <a:pt x="430" y="210"/>
                      </a:lnTo>
                      <a:lnTo>
                        <a:pt x="417" y="202"/>
                      </a:lnTo>
                      <a:lnTo>
                        <a:pt x="404" y="210"/>
                      </a:lnTo>
                      <a:lnTo>
                        <a:pt x="391" y="210"/>
                      </a:lnTo>
                      <a:lnTo>
                        <a:pt x="378" y="210"/>
                      </a:lnTo>
                      <a:lnTo>
                        <a:pt x="366" y="202"/>
                      </a:lnTo>
                      <a:lnTo>
                        <a:pt x="359" y="195"/>
                      </a:lnTo>
                      <a:lnTo>
                        <a:pt x="359" y="181"/>
                      </a:lnTo>
                      <a:lnTo>
                        <a:pt x="359" y="166"/>
                      </a:lnTo>
                      <a:lnTo>
                        <a:pt x="353" y="159"/>
                      </a:lnTo>
                      <a:lnTo>
                        <a:pt x="346" y="145"/>
                      </a:lnTo>
                      <a:lnTo>
                        <a:pt x="346" y="137"/>
                      </a:lnTo>
                      <a:lnTo>
                        <a:pt x="346" y="123"/>
                      </a:lnTo>
                      <a:lnTo>
                        <a:pt x="346" y="116"/>
                      </a:lnTo>
                      <a:lnTo>
                        <a:pt x="340" y="94"/>
                      </a:lnTo>
                      <a:lnTo>
                        <a:pt x="327" y="80"/>
                      </a:lnTo>
                      <a:lnTo>
                        <a:pt x="327" y="65"/>
                      </a:lnTo>
                      <a:lnTo>
                        <a:pt x="321" y="58"/>
                      </a:lnTo>
                      <a:lnTo>
                        <a:pt x="321" y="51"/>
                      </a:lnTo>
                      <a:lnTo>
                        <a:pt x="302" y="36"/>
                      </a:lnTo>
                      <a:lnTo>
                        <a:pt x="302" y="29"/>
                      </a:lnTo>
                      <a:lnTo>
                        <a:pt x="288" y="7"/>
                      </a:lnTo>
                      <a:lnTo>
                        <a:pt x="282" y="0"/>
                      </a:lnTo>
                      <a:lnTo>
                        <a:pt x="276" y="0"/>
                      </a:lnTo>
                      <a:lnTo>
                        <a:pt x="270" y="7"/>
                      </a:lnTo>
                      <a:lnTo>
                        <a:pt x="263" y="15"/>
                      </a:lnTo>
                      <a:lnTo>
                        <a:pt x="256" y="15"/>
                      </a:lnTo>
                      <a:lnTo>
                        <a:pt x="244" y="15"/>
                      </a:lnTo>
                      <a:lnTo>
                        <a:pt x="238" y="15"/>
                      </a:lnTo>
                      <a:lnTo>
                        <a:pt x="231" y="22"/>
                      </a:lnTo>
                      <a:lnTo>
                        <a:pt x="218" y="29"/>
                      </a:lnTo>
                      <a:lnTo>
                        <a:pt x="205" y="29"/>
                      </a:lnTo>
                      <a:lnTo>
                        <a:pt x="198" y="22"/>
                      </a:lnTo>
                      <a:lnTo>
                        <a:pt x="186" y="15"/>
                      </a:lnTo>
                      <a:lnTo>
                        <a:pt x="180" y="15"/>
                      </a:lnTo>
                      <a:lnTo>
                        <a:pt x="160" y="22"/>
                      </a:lnTo>
                      <a:lnTo>
                        <a:pt x="154" y="22"/>
                      </a:lnTo>
                      <a:lnTo>
                        <a:pt x="141" y="22"/>
                      </a:lnTo>
                      <a:lnTo>
                        <a:pt x="134" y="15"/>
                      </a:lnTo>
                      <a:lnTo>
                        <a:pt x="122" y="22"/>
                      </a:lnTo>
                      <a:lnTo>
                        <a:pt x="109" y="22"/>
                      </a:lnTo>
                      <a:lnTo>
                        <a:pt x="109" y="29"/>
                      </a:lnTo>
                      <a:lnTo>
                        <a:pt x="102" y="29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160160" y="3406320"/>
                  <a:ext cx="237600" cy="187200"/>
                </a:xfrm>
                <a:custGeom>
                  <a:avLst/>
                  <a:gdLst/>
                  <a:ahLst/>
                  <a:rect l="l" t="t" r="r" b="b"/>
                  <a:pathLst>
                    <a:path w="168" h="167">
                      <a:moveTo>
                        <a:pt x="0" y="29"/>
                      </a:moveTo>
                      <a:lnTo>
                        <a:pt x="0" y="22"/>
                      </a:lnTo>
                      <a:lnTo>
                        <a:pt x="0" y="14"/>
                      </a:lnTo>
                      <a:lnTo>
                        <a:pt x="26" y="0"/>
                      </a:lnTo>
                      <a:lnTo>
                        <a:pt x="32" y="7"/>
                      </a:lnTo>
                      <a:lnTo>
                        <a:pt x="45" y="0"/>
                      </a:lnTo>
                      <a:lnTo>
                        <a:pt x="64" y="0"/>
                      </a:lnTo>
                      <a:lnTo>
                        <a:pt x="58" y="14"/>
                      </a:lnTo>
                      <a:lnTo>
                        <a:pt x="58" y="22"/>
                      </a:lnTo>
                      <a:lnTo>
                        <a:pt x="70" y="29"/>
                      </a:lnTo>
                      <a:lnTo>
                        <a:pt x="84" y="29"/>
                      </a:lnTo>
                      <a:lnTo>
                        <a:pt x="96" y="14"/>
                      </a:lnTo>
                      <a:lnTo>
                        <a:pt x="109" y="14"/>
                      </a:lnTo>
                      <a:lnTo>
                        <a:pt x="115" y="22"/>
                      </a:lnTo>
                      <a:lnTo>
                        <a:pt x="122" y="29"/>
                      </a:lnTo>
                      <a:lnTo>
                        <a:pt x="135" y="29"/>
                      </a:lnTo>
                      <a:lnTo>
                        <a:pt x="135" y="43"/>
                      </a:lnTo>
                      <a:lnTo>
                        <a:pt x="135" y="65"/>
                      </a:lnTo>
                      <a:lnTo>
                        <a:pt x="135" y="86"/>
                      </a:lnTo>
                      <a:lnTo>
                        <a:pt x="154" y="79"/>
                      </a:lnTo>
                      <a:lnTo>
                        <a:pt x="160" y="94"/>
                      </a:lnTo>
                      <a:lnTo>
                        <a:pt x="160" y="101"/>
                      </a:lnTo>
                      <a:lnTo>
                        <a:pt x="167" y="115"/>
                      </a:lnTo>
                      <a:lnTo>
                        <a:pt x="154" y="123"/>
                      </a:lnTo>
                      <a:lnTo>
                        <a:pt x="147" y="130"/>
                      </a:lnTo>
                      <a:lnTo>
                        <a:pt x="141" y="130"/>
                      </a:lnTo>
                      <a:lnTo>
                        <a:pt x="128" y="137"/>
                      </a:lnTo>
                      <a:lnTo>
                        <a:pt x="128" y="144"/>
                      </a:lnTo>
                      <a:lnTo>
                        <a:pt x="122" y="159"/>
                      </a:lnTo>
                      <a:lnTo>
                        <a:pt x="109" y="166"/>
                      </a:lnTo>
                      <a:lnTo>
                        <a:pt x="90" y="151"/>
                      </a:lnTo>
                      <a:lnTo>
                        <a:pt x="84" y="137"/>
                      </a:lnTo>
                      <a:lnTo>
                        <a:pt x="64" y="130"/>
                      </a:lnTo>
                      <a:lnTo>
                        <a:pt x="58" y="108"/>
                      </a:lnTo>
                      <a:lnTo>
                        <a:pt x="45" y="101"/>
                      </a:lnTo>
                      <a:lnTo>
                        <a:pt x="45" y="86"/>
                      </a:lnTo>
                      <a:lnTo>
                        <a:pt x="32" y="72"/>
                      </a:lnTo>
                      <a:lnTo>
                        <a:pt x="26" y="58"/>
                      </a:lnTo>
                      <a:lnTo>
                        <a:pt x="12" y="43"/>
                      </a:lnTo>
                      <a:lnTo>
                        <a:pt x="0" y="29"/>
                      </a:lnTo>
                    </a:path>
                  </a:pathLst>
                </a:custGeom>
                <a:solidFill>
                  <a:srgbClr val="80ff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322880" y="3552120"/>
                  <a:ext cx="64800" cy="73800"/>
                </a:xfrm>
                <a:custGeom>
                  <a:avLst/>
                  <a:gdLst/>
                  <a:ahLst/>
                  <a:rect l="l" t="t" r="r" b="b"/>
                  <a:pathLst>
                    <a:path w="46" h="66">
                      <a:moveTo>
                        <a:pt x="32" y="65"/>
                      </a:moveTo>
                      <a:lnTo>
                        <a:pt x="32" y="43"/>
                      </a:lnTo>
                      <a:lnTo>
                        <a:pt x="45" y="36"/>
                      </a:lnTo>
                      <a:lnTo>
                        <a:pt x="45" y="29"/>
                      </a:lnTo>
                      <a:lnTo>
                        <a:pt x="39" y="21"/>
                      </a:lnTo>
                      <a:lnTo>
                        <a:pt x="32" y="7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3" y="7"/>
                      </a:lnTo>
                      <a:lnTo>
                        <a:pt x="13" y="14"/>
                      </a:lnTo>
                      <a:lnTo>
                        <a:pt x="6" y="29"/>
                      </a:lnTo>
                      <a:lnTo>
                        <a:pt x="0" y="36"/>
                      </a:lnTo>
                      <a:lnTo>
                        <a:pt x="0" y="43"/>
                      </a:lnTo>
                      <a:lnTo>
                        <a:pt x="13" y="43"/>
                      </a:lnTo>
                      <a:lnTo>
                        <a:pt x="20" y="50"/>
                      </a:lnTo>
                      <a:lnTo>
                        <a:pt x="26" y="58"/>
                      </a:lnTo>
                      <a:lnTo>
                        <a:pt x="32" y="65"/>
                      </a:lnTo>
                    </a:path>
                  </a:pathLst>
                </a:custGeom>
                <a:solidFill>
                  <a:srgbClr val="ff8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242240" y="3268080"/>
                  <a:ext cx="245880" cy="235440"/>
                </a:xfrm>
                <a:custGeom>
                  <a:avLst/>
                  <a:gdLst/>
                  <a:ahLst/>
                  <a:rect l="l" t="t" r="r" b="b"/>
                  <a:pathLst>
                    <a:path w="174" h="210">
                      <a:moveTo>
                        <a:pt x="70" y="7"/>
                      </a:moveTo>
                      <a:lnTo>
                        <a:pt x="51" y="29"/>
                      </a:lnTo>
                      <a:lnTo>
                        <a:pt x="51" y="36"/>
                      </a:lnTo>
                      <a:lnTo>
                        <a:pt x="44" y="51"/>
                      </a:lnTo>
                      <a:lnTo>
                        <a:pt x="38" y="58"/>
                      </a:lnTo>
                      <a:lnTo>
                        <a:pt x="32" y="72"/>
                      </a:lnTo>
                      <a:lnTo>
                        <a:pt x="20" y="87"/>
                      </a:lnTo>
                      <a:lnTo>
                        <a:pt x="12" y="94"/>
                      </a:lnTo>
                      <a:lnTo>
                        <a:pt x="20" y="101"/>
                      </a:lnTo>
                      <a:lnTo>
                        <a:pt x="20" y="108"/>
                      </a:lnTo>
                      <a:lnTo>
                        <a:pt x="12" y="116"/>
                      </a:lnTo>
                      <a:lnTo>
                        <a:pt x="6" y="123"/>
                      </a:lnTo>
                      <a:lnTo>
                        <a:pt x="0" y="130"/>
                      </a:lnTo>
                      <a:lnTo>
                        <a:pt x="0" y="145"/>
                      </a:lnTo>
                      <a:lnTo>
                        <a:pt x="6" y="145"/>
                      </a:lnTo>
                      <a:lnTo>
                        <a:pt x="26" y="145"/>
                      </a:lnTo>
                      <a:lnTo>
                        <a:pt x="38" y="137"/>
                      </a:lnTo>
                      <a:lnTo>
                        <a:pt x="51" y="137"/>
                      </a:lnTo>
                      <a:lnTo>
                        <a:pt x="58" y="145"/>
                      </a:lnTo>
                      <a:lnTo>
                        <a:pt x="64" y="152"/>
                      </a:lnTo>
                      <a:lnTo>
                        <a:pt x="77" y="152"/>
                      </a:lnTo>
                      <a:lnTo>
                        <a:pt x="77" y="166"/>
                      </a:lnTo>
                      <a:lnTo>
                        <a:pt x="77" y="209"/>
                      </a:lnTo>
                      <a:lnTo>
                        <a:pt x="90" y="202"/>
                      </a:lnTo>
                      <a:lnTo>
                        <a:pt x="96" y="202"/>
                      </a:lnTo>
                      <a:lnTo>
                        <a:pt x="96" y="195"/>
                      </a:lnTo>
                      <a:lnTo>
                        <a:pt x="102" y="173"/>
                      </a:lnTo>
                      <a:lnTo>
                        <a:pt x="109" y="159"/>
                      </a:lnTo>
                      <a:lnTo>
                        <a:pt x="109" y="137"/>
                      </a:lnTo>
                      <a:lnTo>
                        <a:pt x="115" y="130"/>
                      </a:lnTo>
                      <a:lnTo>
                        <a:pt x="128" y="123"/>
                      </a:lnTo>
                      <a:lnTo>
                        <a:pt x="153" y="87"/>
                      </a:lnTo>
                      <a:lnTo>
                        <a:pt x="153" y="80"/>
                      </a:lnTo>
                      <a:lnTo>
                        <a:pt x="153" y="58"/>
                      </a:lnTo>
                      <a:lnTo>
                        <a:pt x="167" y="44"/>
                      </a:lnTo>
                      <a:lnTo>
                        <a:pt x="173" y="15"/>
                      </a:lnTo>
                      <a:lnTo>
                        <a:pt x="160" y="7"/>
                      </a:lnTo>
                      <a:lnTo>
                        <a:pt x="153" y="0"/>
                      </a:lnTo>
                      <a:lnTo>
                        <a:pt x="141" y="0"/>
                      </a:lnTo>
                      <a:lnTo>
                        <a:pt x="109" y="0"/>
                      </a:lnTo>
                      <a:lnTo>
                        <a:pt x="102" y="7"/>
                      </a:lnTo>
                      <a:lnTo>
                        <a:pt x="90" y="22"/>
                      </a:lnTo>
                      <a:lnTo>
                        <a:pt x="96" y="29"/>
                      </a:lnTo>
                      <a:lnTo>
                        <a:pt x="102" y="36"/>
                      </a:lnTo>
                      <a:lnTo>
                        <a:pt x="109" y="44"/>
                      </a:lnTo>
                      <a:lnTo>
                        <a:pt x="109" y="58"/>
                      </a:lnTo>
                      <a:lnTo>
                        <a:pt x="102" y="72"/>
                      </a:lnTo>
                      <a:lnTo>
                        <a:pt x="90" y="72"/>
                      </a:lnTo>
                      <a:lnTo>
                        <a:pt x="77" y="72"/>
                      </a:lnTo>
                      <a:lnTo>
                        <a:pt x="77" y="65"/>
                      </a:lnTo>
                      <a:lnTo>
                        <a:pt x="70" y="58"/>
                      </a:lnTo>
                      <a:lnTo>
                        <a:pt x="77" y="44"/>
                      </a:lnTo>
                      <a:lnTo>
                        <a:pt x="77" y="36"/>
                      </a:lnTo>
                      <a:lnTo>
                        <a:pt x="77" y="22"/>
                      </a:lnTo>
                      <a:lnTo>
                        <a:pt x="70" y="7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416400" y="2912400"/>
                  <a:ext cx="344880" cy="275760"/>
                </a:xfrm>
                <a:custGeom>
                  <a:avLst/>
                  <a:gdLst/>
                  <a:ahLst/>
                  <a:rect l="l" t="t" r="r" b="b"/>
                  <a:pathLst>
                    <a:path w="244" h="246">
                      <a:moveTo>
                        <a:pt x="90" y="94"/>
                      </a:moveTo>
                      <a:lnTo>
                        <a:pt x="83" y="101"/>
                      </a:lnTo>
                      <a:lnTo>
                        <a:pt x="90" y="115"/>
                      </a:lnTo>
                      <a:lnTo>
                        <a:pt x="83" y="122"/>
                      </a:lnTo>
                      <a:lnTo>
                        <a:pt x="77" y="115"/>
                      </a:lnTo>
                      <a:lnTo>
                        <a:pt x="71" y="115"/>
                      </a:lnTo>
                      <a:lnTo>
                        <a:pt x="71" y="130"/>
                      </a:lnTo>
                      <a:lnTo>
                        <a:pt x="51" y="144"/>
                      </a:lnTo>
                      <a:lnTo>
                        <a:pt x="39" y="151"/>
                      </a:lnTo>
                      <a:lnTo>
                        <a:pt x="26" y="166"/>
                      </a:lnTo>
                      <a:lnTo>
                        <a:pt x="20" y="173"/>
                      </a:lnTo>
                      <a:lnTo>
                        <a:pt x="6" y="173"/>
                      </a:lnTo>
                      <a:lnTo>
                        <a:pt x="6" y="180"/>
                      </a:lnTo>
                      <a:lnTo>
                        <a:pt x="6" y="187"/>
                      </a:lnTo>
                      <a:lnTo>
                        <a:pt x="6" y="195"/>
                      </a:lnTo>
                      <a:lnTo>
                        <a:pt x="0" y="209"/>
                      </a:lnTo>
                      <a:lnTo>
                        <a:pt x="0" y="216"/>
                      </a:lnTo>
                      <a:lnTo>
                        <a:pt x="13" y="216"/>
                      </a:lnTo>
                      <a:lnTo>
                        <a:pt x="20" y="209"/>
                      </a:lnTo>
                      <a:lnTo>
                        <a:pt x="26" y="216"/>
                      </a:lnTo>
                      <a:lnTo>
                        <a:pt x="13" y="223"/>
                      </a:lnTo>
                      <a:lnTo>
                        <a:pt x="20" y="231"/>
                      </a:lnTo>
                      <a:lnTo>
                        <a:pt x="26" y="238"/>
                      </a:lnTo>
                      <a:lnTo>
                        <a:pt x="45" y="238"/>
                      </a:lnTo>
                      <a:lnTo>
                        <a:pt x="64" y="245"/>
                      </a:lnTo>
                      <a:lnTo>
                        <a:pt x="71" y="245"/>
                      </a:lnTo>
                      <a:lnTo>
                        <a:pt x="83" y="231"/>
                      </a:lnTo>
                      <a:lnTo>
                        <a:pt x="109" y="238"/>
                      </a:lnTo>
                      <a:lnTo>
                        <a:pt x="147" y="238"/>
                      </a:lnTo>
                      <a:lnTo>
                        <a:pt x="173" y="231"/>
                      </a:lnTo>
                      <a:lnTo>
                        <a:pt x="179" y="216"/>
                      </a:lnTo>
                      <a:lnTo>
                        <a:pt x="192" y="209"/>
                      </a:lnTo>
                      <a:lnTo>
                        <a:pt x="199" y="195"/>
                      </a:lnTo>
                      <a:lnTo>
                        <a:pt x="205" y="180"/>
                      </a:lnTo>
                      <a:lnTo>
                        <a:pt x="211" y="173"/>
                      </a:lnTo>
                      <a:lnTo>
                        <a:pt x="224" y="144"/>
                      </a:lnTo>
                      <a:lnTo>
                        <a:pt x="218" y="115"/>
                      </a:lnTo>
                      <a:lnTo>
                        <a:pt x="243" y="108"/>
                      </a:lnTo>
                      <a:lnTo>
                        <a:pt x="231" y="94"/>
                      </a:lnTo>
                      <a:lnTo>
                        <a:pt x="224" y="72"/>
                      </a:lnTo>
                      <a:lnTo>
                        <a:pt x="218" y="65"/>
                      </a:lnTo>
                      <a:lnTo>
                        <a:pt x="211" y="65"/>
                      </a:lnTo>
                      <a:lnTo>
                        <a:pt x="199" y="57"/>
                      </a:lnTo>
                      <a:lnTo>
                        <a:pt x="186" y="36"/>
                      </a:lnTo>
                      <a:lnTo>
                        <a:pt x="192" y="36"/>
                      </a:lnTo>
                      <a:lnTo>
                        <a:pt x="218" y="7"/>
                      </a:lnTo>
                      <a:lnTo>
                        <a:pt x="218" y="0"/>
                      </a:lnTo>
                      <a:lnTo>
                        <a:pt x="205" y="0"/>
                      </a:lnTo>
                      <a:lnTo>
                        <a:pt x="179" y="0"/>
                      </a:lnTo>
                      <a:lnTo>
                        <a:pt x="167" y="7"/>
                      </a:lnTo>
                      <a:lnTo>
                        <a:pt x="161" y="14"/>
                      </a:lnTo>
                      <a:lnTo>
                        <a:pt x="147" y="14"/>
                      </a:lnTo>
                      <a:lnTo>
                        <a:pt x="141" y="14"/>
                      </a:lnTo>
                      <a:lnTo>
                        <a:pt x="147" y="29"/>
                      </a:lnTo>
                      <a:lnTo>
                        <a:pt x="161" y="36"/>
                      </a:lnTo>
                      <a:lnTo>
                        <a:pt x="153" y="36"/>
                      </a:lnTo>
                      <a:lnTo>
                        <a:pt x="129" y="43"/>
                      </a:lnTo>
                      <a:lnTo>
                        <a:pt x="109" y="36"/>
                      </a:lnTo>
                      <a:lnTo>
                        <a:pt x="90" y="29"/>
                      </a:lnTo>
                      <a:lnTo>
                        <a:pt x="83" y="29"/>
                      </a:lnTo>
                      <a:lnTo>
                        <a:pt x="77" y="43"/>
                      </a:lnTo>
                      <a:lnTo>
                        <a:pt x="83" y="50"/>
                      </a:lnTo>
                      <a:lnTo>
                        <a:pt x="77" y="57"/>
                      </a:lnTo>
                      <a:lnTo>
                        <a:pt x="71" y="65"/>
                      </a:lnTo>
                      <a:lnTo>
                        <a:pt x="71" y="79"/>
                      </a:lnTo>
                      <a:lnTo>
                        <a:pt x="58" y="94"/>
                      </a:lnTo>
                      <a:lnTo>
                        <a:pt x="64" y="115"/>
                      </a:lnTo>
                      <a:lnTo>
                        <a:pt x="71" y="108"/>
                      </a:lnTo>
                      <a:lnTo>
                        <a:pt x="90" y="94"/>
                      </a:lnTo>
                    </a:path>
                  </a:pathLst>
                </a:custGeom>
                <a:solidFill>
                  <a:srgbClr val="ff8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3" name=""/>
                <p:cNvGrpSpPr/>
                <p:nvPr/>
              </p:nvGrpSpPr>
              <p:grpSpPr>
                <a:xfrm>
                  <a:off x="4577400" y="2928240"/>
                  <a:ext cx="389880" cy="275400"/>
                  <a:chOff x="4577400" y="2928240"/>
                  <a:chExt cx="389880" cy="27540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4577400" y="2985120"/>
                    <a:ext cx="16416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159">
                        <a:moveTo>
                          <a:pt x="12" y="137"/>
                        </a:moveTo>
                        <a:lnTo>
                          <a:pt x="19" y="151"/>
                        </a:lnTo>
                        <a:lnTo>
                          <a:pt x="32" y="151"/>
                        </a:lnTo>
                        <a:lnTo>
                          <a:pt x="44" y="151"/>
                        </a:lnTo>
                        <a:lnTo>
                          <a:pt x="51" y="158"/>
                        </a:lnTo>
                        <a:lnTo>
                          <a:pt x="58" y="158"/>
                        </a:lnTo>
                        <a:lnTo>
                          <a:pt x="51" y="151"/>
                        </a:lnTo>
                        <a:lnTo>
                          <a:pt x="58" y="137"/>
                        </a:lnTo>
                        <a:lnTo>
                          <a:pt x="64" y="122"/>
                        </a:lnTo>
                        <a:lnTo>
                          <a:pt x="70" y="108"/>
                        </a:lnTo>
                        <a:lnTo>
                          <a:pt x="83" y="93"/>
                        </a:lnTo>
                        <a:lnTo>
                          <a:pt x="89" y="86"/>
                        </a:lnTo>
                        <a:lnTo>
                          <a:pt x="89" y="79"/>
                        </a:lnTo>
                        <a:lnTo>
                          <a:pt x="89" y="65"/>
                        </a:lnTo>
                        <a:lnTo>
                          <a:pt x="96" y="57"/>
                        </a:lnTo>
                        <a:lnTo>
                          <a:pt x="102" y="50"/>
                        </a:lnTo>
                        <a:lnTo>
                          <a:pt x="109" y="57"/>
                        </a:lnTo>
                        <a:lnTo>
                          <a:pt x="115" y="43"/>
                        </a:lnTo>
                        <a:lnTo>
                          <a:pt x="115" y="36"/>
                        </a:lnTo>
                        <a:lnTo>
                          <a:pt x="109" y="36"/>
                        </a:lnTo>
                        <a:lnTo>
                          <a:pt x="96" y="36"/>
                        </a:lnTo>
                        <a:lnTo>
                          <a:pt x="89" y="14"/>
                        </a:lnTo>
                        <a:lnTo>
                          <a:pt x="89" y="0"/>
                        </a:lnTo>
                        <a:lnTo>
                          <a:pt x="83" y="0"/>
                        </a:lnTo>
                        <a:lnTo>
                          <a:pt x="83" y="7"/>
                        </a:lnTo>
                        <a:lnTo>
                          <a:pt x="64" y="0"/>
                        </a:lnTo>
                        <a:lnTo>
                          <a:pt x="58" y="7"/>
                        </a:lnTo>
                        <a:lnTo>
                          <a:pt x="64" y="21"/>
                        </a:lnTo>
                        <a:lnTo>
                          <a:pt x="64" y="36"/>
                        </a:lnTo>
                        <a:lnTo>
                          <a:pt x="58" y="21"/>
                        </a:lnTo>
                        <a:lnTo>
                          <a:pt x="51" y="14"/>
                        </a:lnTo>
                        <a:lnTo>
                          <a:pt x="44" y="14"/>
                        </a:lnTo>
                        <a:lnTo>
                          <a:pt x="38" y="21"/>
                        </a:lnTo>
                        <a:lnTo>
                          <a:pt x="32" y="29"/>
                        </a:lnTo>
                        <a:lnTo>
                          <a:pt x="32" y="43"/>
                        </a:lnTo>
                        <a:lnTo>
                          <a:pt x="32" y="36"/>
                        </a:lnTo>
                        <a:lnTo>
                          <a:pt x="26" y="21"/>
                        </a:lnTo>
                        <a:lnTo>
                          <a:pt x="19" y="14"/>
                        </a:lnTo>
                        <a:lnTo>
                          <a:pt x="12" y="21"/>
                        </a:lnTo>
                        <a:lnTo>
                          <a:pt x="12" y="29"/>
                        </a:lnTo>
                        <a:lnTo>
                          <a:pt x="12" y="36"/>
                        </a:lnTo>
                        <a:lnTo>
                          <a:pt x="6" y="36"/>
                        </a:lnTo>
                        <a:lnTo>
                          <a:pt x="6" y="50"/>
                        </a:lnTo>
                        <a:lnTo>
                          <a:pt x="12" y="65"/>
                        </a:lnTo>
                        <a:lnTo>
                          <a:pt x="12" y="72"/>
                        </a:lnTo>
                        <a:lnTo>
                          <a:pt x="12" y="79"/>
                        </a:lnTo>
                        <a:lnTo>
                          <a:pt x="0" y="86"/>
                        </a:lnTo>
                        <a:lnTo>
                          <a:pt x="6" y="93"/>
                        </a:lnTo>
                        <a:lnTo>
                          <a:pt x="12" y="101"/>
                        </a:lnTo>
                        <a:lnTo>
                          <a:pt x="12" y="108"/>
                        </a:lnTo>
                        <a:lnTo>
                          <a:pt x="12" y="130"/>
                        </a:lnTo>
                        <a:lnTo>
                          <a:pt x="12" y="137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4614120" y="2928240"/>
                    <a:ext cx="12708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66">
                        <a:moveTo>
                          <a:pt x="0" y="58"/>
                        </a:moveTo>
                        <a:lnTo>
                          <a:pt x="6" y="65"/>
                        </a:lnTo>
                        <a:lnTo>
                          <a:pt x="19" y="58"/>
                        </a:lnTo>
                        <a:lnTo>
                          <a:pt x="26" y="43"/>
                        </a:lnTo>
                        <a:lnTo>
                          <a:pt x="51" y="43"/>
                        </a:lnTo>
                        <a:lnTo>
                          <a:pt x="70" y="36"/>
                        </a:lnTo>
                        <a:lnTo>
                          <a:pt x="83" y="29"/>
                        </a:lnTo>
                        <a:lnTo>
                          <a:pt x="83" y="15"/>
                        </a:lnTo>
                        <a:lnTo>
                          <a:pt x="89" y="0"/>
                        </a:lnTo>
                        <a:lnTo>
                          <a:pt x="70" y="7"/>
                        </a:lnTo>
                        <a:lnTo>
                          <a:pt x="44" y="22"/>
                        </a:lnTo>
                        <a:lnTo>
                          <a:pt x="32" y="29"/>
                        </a:lnTo>
                        <a:lnTo>
                          <a:pt x="26" y="36"/>
                        </a:lnTo>
                        <a:lnTo>
                          <a:pt x="6" y="36"/>
                        </a:lnTo>
                        <a:lnTo>
                          <a:pt x="0" y="43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4676400" y="3098520"/>
                    <a:ext cx="5616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1">
                        <a:moveTo>
                          <a:pt x="13" y="0"/>
                        </a:moveTo>
                        <a:lnTo>
                          <a:pt x="39" y="21"/>
                        </a:lnTo>
                        <a:lnTo>
                          <a:pt x="39" y="29"/>
                        </a:lnTo>
                        <a:lnTo>
                          <a:pt x="32" y="36"/>
                        </a:lnTo>
                        <a:lnTo>
                          <a:pt x="20" y="43"/>
                        </a:lnTo>
                        <a:lnTo>
                          <a:pt x="26" y="50"/>
                        </a:lnTo>
                        <a:lnTo>
                          <a:pt x="13" y="50"/>
                        </a:lnTo>
                        <a:lnTo>
                          <a:pt x="0" y="36"/>
                        </a:lnTo>
                        <a:lnTo>
                          <a:pt x="0" y="29"/>
                        </a:lnTo>
                        <a:lnTo>
                          <a:pt x="7" y="14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39760" y="3081600"/>
                    <a:ext cx="8316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73">
                        <a:moveTo>
                          <a:pt x="58" y="0"/>
                        </a:moveTo>
                        <a:lnTo>
                          <a:pt x="58" y="7"/>
                        </a:lnTo>
                        <a:lnTo>
                          <a:pt x="58" y="15"/>
                        </a:lnTo>
                        <a:lnTo>
                          <a:pt x="52" y="29"/>
                        </a:lnTo>
                        <a:lnTo>
                          <a:pt x="45" y="36"/>
                        </a:lnTo>
                        <a:lnTo>
                          <a:pt x="52" y="44"/>
                        </a:lnTo>
                        <a:lnTo>
                          <a:pt x="45" y="51"/>
                        </a:lnTo>
                        <a:lnTo>
                          <a:pt x="52" y="58"/>
                        </a:lnTo>
                        <a:lnTo>
                          <a:pt x="38" y="72"/>
                        </a:lnTo>
                        <a:lnTo>
                          <a:pt x="12" y="58"/>
                        </a:lnTo>
                        <a:lnTo>
                          <a:pt x="0" y="44"/>
                        </a:lnTo>
                        <a:lnTo>
                          <a:pt x="12" y="44"/>
                        </a:lnTo>
                        <a:lnTo>
                          <a:pt x="12" y="29"/>
                        </a:lnTo>
                        <a:lnTo>
                          <a:pt x="26" y="22"/>
                        </a:lnTo>
                        <a:lnTo>
                          <a:pt x="32" y="22"/>
                        </a:lnTo>
                        <a:lnTo>
                          <a:pt x="38" y="22"/>
                        </a:lnTo>
                        <a:lnTo>
                          <a:pt x="52" y="7"/>
                        </a:lnTo>
                        <a:lnTo>
                          <a:pt x="58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4731480" y="3171240"/>
                    <a:ext cx="3816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9">
                        <a:moveTo>
                          <a:pt x="0" y="0"/>
                        </a:moveTo>
                        <a:lnTo>
                          <a:pt x="19" y="0"/>
                        </a:lnTo>
                        <a:lnTo>
                          <a:pt x="26" y="14"/>
                        </a:lnTo>
                        <a:lnTo>
                          <a:pt x="26" y="21"/>
                        </a:lnTo>
                        <a:lnTo>
                          <a:pt x="19" y="28"/>
                        </a:lnTo>
                        <a:lnTo>
                          <a:pt x="6" y="21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4949280" y="3162600"/>
                    <a:ext cx="180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3">
                        <a:moveTo>
                          <a:pt x="6" y="0"/>
                        </a:moveTo>
                        <a:lnTo>
                          <a:pt x="0" y="0"/>
                        </a:lnTo>
                        <a:lnTo>
                          <a:pt x="0" y="15"/>
                        </a:lnTo>
                        <a:lnTo>
                          <a:pt x="12" y="22"/>
                        </a:lnTo>
                        <a:lnTo>
                          <a:pt x="12" y="15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4359600" y="3155040"/>
                  <a:ext cx="582480" cy="689760"/>
                  <a:chOff x="4359600" y="3155040"/>
                  <a:chExt cx="582480" cy="68976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4858560" y="3219840"/>
                    <a:ext cx="280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0" y="0"/>
                        </a:moveTo>
                        <a:lnTo>
                          <a:pt x="0" y="14"/>
                        </a:lnTo>
                        <a:lnTo>
                          <a:pt x="6" y="14"/>
                        </a:lnTo>
                        <a:lnTo>
                          <a:pt x="19" y="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4359600" y="3155040"/>
                    <a:ext cx="582480" cy="68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2" h="615">
                        <a:moveTo>
                          <a:pt x="173" y="0"/>
                        </a:moveTo>
                        <a:lnTo>
                          <a:pt x="160" y="0"/>
                        </a:lnTo>
                        <a:lnTo>
                          <a:pt x="160" y="7"/>
                        </a:lnTo>
                        <a:lnTo>
                          <a:pt x="166" y="15"/>
                        </a:lnTo>
                        <a:lnTo>
                          <a:pt x="166" y="29"/>
                        </a:lnTo>
                        <a:lnTo>
                          <a:pt x="166" y="43"/>
                        </a:lnTo>
                        <a:lnTo>
                          <a:pt x="160" y="43"/>
                        </a:lnTo>
                        <a:lnTo>
                          <a:pt x="160" y="51"/>
                        </a:lnTo>
                        <a:lnTo>
                          <a:pt x="166" y="65"/>
                        </a:lnTo>
                        <a:lnTo>
                          <a:pt x="180" y="72"/>
                        </a:lnTo>
                        <a:lnTo>
                          <a:pt x="186" y="72"/>
                        </a:lnTo>
                        <a:lnTo>
                          <a:pt x="186" y="94"/>
                        </a:lnTo>
                        <a:lnTo>
                          <a:pt x="173" y="87"/>
                        </a:lnTo>
                        <a:lnTo>
                          <a:pt x="160" y="80"/>
                        </a:lnTo>
                        <a:lnTo>
                          <a:pt x="154" y="87"/>
                        </a:lnTo>
                        <a:lnTo>
                          <a:pt x="141" y="101"/>
                        </a:lnTo>
                        <a:lnTo>
                          <a:pt x="134" y="108"/>
                        </a:lnTo>
                        <a:lnTo>
                          <a:pt x="128" y="108"/>
                        </a:lnTo>
                        <a:lnTo>
                          <a:pt x="128" y="101"/>
                        </a:lnTo>
                        <a:lnTo>
                          <a:pt x="122" y="94"/>
                        </a:lnTo>
                        <a:lnTo>
                          <a:pt x="109" y="87"/>
                        </a:lnTo>
                        <a:lnTo>
                          <a:pt x="96" y="87"/>
                        </a:lnTo>
                        <a:lnTo>
                          <a:pt x="90" y="94"/>
                        </a:lnTo>
                        <a:lnTo>
                          <a:pt x="77" y="108"/>
                        </a:lnTo>
                        <a:lnTo>
                          <a:pt x="84" y="116"/>
                        </a:lnTo>
                        <a:lnTo>
                          <a:pt x="84" y="130"/>
                        </a:lnTo>
                        <a:lnTo>
                          <a:pt x="84" y="137"/>
                        </a:lnTo>
                        <a:lnTo>
                          <a:pt x="84" y="145"/>
                        </a:lnTo>
                        <a:lnTo>
                          <a:pt x="70" y="152"/>
                        </a:lnTo>
                        <a:lnTo>
                          <a:pt x="70" y="159"/>
                        </a:lnTo>
                        <a:lnTo>
                          <a:pt x="70" y="166"/>
                        </a:lnTo>
                        <a:lnTo>
                          <a:pt x="77" y="173"/>
                        </a:lnTo>
                        <a:lnTo>
                          <a:pt x="70" y="188"/>
                        </a:lnTo>
                        <a:lnTo>
                          <a:pt x="64" y="195"/>
                        </a:lnTo>
                        <a:lnTo>
                          <a:pt x="58" y="209"/>
                        </a:lnTo>
                        <a:lnTo>
                          <a:pt x="52" y="217"/>
                        </a:lnTo>
                        <a:lnTo>
                          <a:pt x="38" y="224"/>
                        </a:lnTo>
                        <a:lnTo>
                          <a:pt x="32" y="231"/>
                        </a:lnTo>
                        <a:lnTo>
                          <a:pt x="26" y="246"/>
                        </a:lnTo>
                        <a:lnTo>
                          <a:pt x="26" y="260"/>
                        </a:lnTo>
                        <a:lnTo>
                          <a:pt x="19" y="274"/>
                        </a:lnTo>
                        <a:lnTo>
                          <a:pt x="19" y="289"/>
                        </a:lnTo>
                        <a:lnTo>
                          <a:pt x="12" y="296"/>
                        </a:lnTo>
                        <a:lnTo>
                          <a:pt x="12" y="303"/>
                        </a:lnTo>
                        <a:lnTo>
                          <a:pt x="12" y="310"/>
                        </a:lnTo>
                        <a:lnTo>
                          <a:pt x="19" y="325"/>
                        </a:lnTo>
                        <a:lnTo>
                          <a:pt x="26" y="339"/>
                        </a:lnTo>
                        <a:lnTo>
                          <a:pt x="6" y="361"/>
                        </a:lnTo>
                        <a:lnTo>
                          <a:pt x="6" y="368"/>
                        </a:lnTo>
                        <a:lnTo>
                          <a:pt x="19" y="375"/>
                        </a:lnTo>
                        <a:lnTo>
                          <a:pt x="19" y="383"/>
                        </a:lnTo>
                        <a:lnTo>
                          <a:pt x="19" y="390"/>
                        </a:lnTo>
                        <a:lnTo>
                          <a:pt x="6" y="397"/>
                        </a:lnTo>
                        <a:lnTo>
                          <a:pt x="0" y="404"/>
                        </a:lnTo>
                        <a:lnTo>
                          <a:pt x="6" y="426"/>
                        </a:lnTo>
                        <a:lnTo>
                          <a:pt x="12" y="433"/>
                        </a:lnTo>
                        <a:lnTo>
                          <a:pt x="26" y="440"/>
                        </a:lnTo>
                        <a:lnTo>
                          <a:pt x="38" y="440"/>
                        </a:lnTo>
                        <a:lnTo>
                          <a:pt x="58" y="440"/>
                        </a:lnTo>
                        <a:lnTo>
                          <a:pt x="64" y="448"/>
                        </a:lnTo>
                        <a:lnTo>
                          <a:pt x="77" y="455"/>
                        </a:lnTo>
                        <a:lnTo>
                          <a:pt x="84" y="462"/>
                        </a:lnTo>
                        <a:lnTo>
                          <a:pt x="77" y="469"/>
                        </a:lnTo>
                        <a:lnTo>
                          <a:pt x="64" y="476"/>
                        </a:lnTo>
                        <a:lnTo>
                          <a:pt x="58" y="484"/>
                        </a:lnTo>
                        <a:lnTo>
                          <a:pt x="58" y="498"/>
                        </a:lnTo>
                        <a:lnTo>
                          <a:pt x="52" y="520"/>
                        </a:lnTo>
                        <a:lnTo>
                          <a:pt x="44" y="534"/>
                        </a:lnTo>
                        <a:lnTo>
                          <a:pt x="38" y="549"/>
                        </a:lnTo>
                        <a:lnTo>
                          <a:pt x="52" y="563"/>
                        </a:lnTo>
                        <a:lnTo>
                          <a:pt x="52" y="570"/>
                        </a:lnTo>
                        <a:lnTo>
                          <a:pt x="58" y="577"/>
                        </a:lnTo>
                        <a:lnTo>
                          <a:pt x="70" y="577"/>
                        </a:lnTo>
                        <a:lnTo>
                          <a:pt x="77" y="570"/>
                        </a:lnTo>
                        <a:lnTo>
                          <a:pt x="84" y="563"/>
                        </a:lnTo>
                        <a:lnTo>
                          <a:pt x="96" y="563"/>
                        </a:lnTo>
                        <a:lnTo>
                          <a:pt x="102" y="570"/>
                        </a:lnTo>
                        <a:lnTo>
                          <a:pt x="109" y="585"/>
                        </a:lnTo>
                        <a:lnTo>
                          <a:pt x="116" y="592"/>
                        </a:lnTo>
                        <a:lnTo>
                          <a:pt x="122" y="592"/>
                        </a:lnTo>
                        <a:lnTo>
                          <a:pt x="141" y="592"/>
                        </a:lnTo>
                        <a:lnTo>
                          <a:pt x="148" y="592"/>
                        </a:lnTo>
                        <a:lnTo>
                          <a:pt x="160" y="599"/>
                        </a:lnTo>
                        <a:lnTo>
                          <a:pt x="166" y="592"/>
                        </a:lnTo>
                        <a:lnTo>
                          <a:pt x="180" y="599"/>
                        </a:lnTo>
                        <a:lnTo>
                          <a:pt x="186" y="606"/>
                        </a:lnTo>
                        <a:lnTo>
                          <a:pt x="198" y="599"/>
                        </a:lnTo>
                        <a:lnTo>
                          <a:pt x="212" y="599"/>
                        </a:lnTo>
                        <a:lnTo>
                          <a:pt x="224" y="606"/>
                        </a:lnTo>
                        <a:lnTo>
                          <a:pt x="231" y="606"/>
                        </a:lnTo>
                        <a:lnTo>
                          <a:pt x="238" y="599"/>
                        </a:lnTo>
                        <a:lnTo>
                          <a:pt x="250" y="599"/>
                        </a:lnTo>
                        <a:lnTo>
                          <a:pt x="263" y="599"/>
                        </a:lnTo>
                        <a:lnTo>
                          <a:pt x="276" y="606"/>
                        </a:lnTo>
                        <a:lnTo>
                          <a:pt x="276" y="599"/>
                        </a:lnTo>
                        <a:lnTo>
                          <a:pt x="289" y="606"/>
                        </a:lnTo>
                        <a:lnTo>
                          <a:pt x="295" y="614"/>
                        </a:lnTo>
                        <a:lnTo>
                          <a:pt x="308" y="606"/>
                        </a:lnTo>
                        <a:lnTo>
                          <a:pt x="308" y="599"/>
                        </a:lnTo>
                        <a:lnTo>
                          <a:pt x="302" y="592"/>
                        </a:lnTo>
                        <a:lnTo>
                          <a:pt x="302" y="585"/>
                        </a:lnTo>
                        <a:lnTo>
                          <a:pt x="295" y="563"/>
                        </a:lnTo>
                        <a:lnTo>
                          <a:pt x="340" y="534"/>
                        </a:lnTo>
                        <a:lnTo>
                          <a:pt x="346" y="534"/>
                        </a:lnTo>
                        <a:lnTo>
                          <a:pt x="353" y="527"/>
                        </a:lnTo>
                        <a:lnTo>
                          <a:pt x="334" y="520"/>
                        </a:lnTo>
                        <a:lnTo>
                          <a:pt x="327" y="513"/>
                        </a:lnTo>
                        <a:lnTo>
                          <a:pt x="302" y="484"/>
                        </a:lnTo>
                        <a:lnTo>
                          <a:pt x="295" y="462"/>
                        </a:lnTo>
                        <a:lnTo>
                          <a:pt x="282" y="455"/>
                        </a:lnTo>
                        <a:lnTo>
                          <a:pt x="276" y="440"/>
                        </a:lnTo>
                        <a:lnTo>
                          <a:pt x="276" y="419"/>
                        </a:lnTo>
                        <a:lnTo>
                          <a:pt x="270" y="412"/>
                        </a:lnTo>
                        <a:lnTo>
                          <a:pt x="276" y="404"/>
                        </a:lnTo>
                        <a:lnTo>
                          <a:pt x="282" y="404"/>
                        </a:lnTo>
                        <a:lnTo>
                          <a:pt x="308" y="397"/>
                        </a:lnTo>
                        <a:lnTo>
                          <a:pt x="359" y="361"/>
                        </a:lnTo>
                        <a:lnTo>
                          <a:pt x="372" y="361"/>
                        </a:lnTo>
                        <a:lnTo>
                          <a:pt x="385" y="347"/>
                        </a:lnTo>
                        <a:lnTo>
                          <a:pt x="391" y="361"/>
                        </a:lnTo>
                        <a:lnTo>
                          <a:pt x="404" y="354"/>
                        </a:lnTo>
                        <a:lnTo>
                          <a:pt x="411" y="339"/>
                        </a:lnTo>
                        <a:lnTo>
                          <a:pt x="411" y="332"/>
                        </a:lnTo>
                        <a:lnTo>
                          <a:pt x="411" y="325"/>
                        </a:lnTo>
                        <a:lnTo>
                          <a:pt x="404" y="310"/>
                        </a:lnTo>
                        <a:lnTo>
                          <a:pt x="398" y="296"/>
                        </a:lnTo>
                        <a:lnTo>
                          <a:pt x="404" y="267"/>
                        </a:lnTo>
                        <a:lnTo>
                          <a:pt x="398" y="253"/>
                        </a:lnTo>
                        <a:lnTo>
                          <a:pt x="391" y="238"/>
                        </a:lnTo>
                        <a:lnTo>
                          <a:pt x="398" y="231"/>
                        </a:lnTo>
                        <a:lnTo>
                          <a:pt x="391" y="217"/>
                        </a:lnTo>
                        <a:lnTo>
                          <a:pt x="379" y="195"/>
                        </a:lnTo>
                        <a:lnTo>
                          <a:pt x="385" y="181"/>
                        </a:lnTo>
                        <a:lnTo>
                          <a:pt x="385" y="159"/>
                        </a:lnTo>
                        <a:lnTo>
                          <a:pt x="385" y="137"/>
                        </a:lnTo>
                        <a:lnTo>
                          <a:pt x="372" y="116"/>
                        </a:lnTo>
                        <a:lnTo>
                          <a:pt x="359" y="101"/>
                        </a:lnTo>
                        <a:lnTo>
                          <a:pt x="353" y="87"/>
                        </a:lnTo>
                        <a:lnTo>
                          <a:pt x="334" y="72"/>
                        </a:lnTo>
                        <a:lnTo>
                          <a:pt x="321" y="65"/>
                        </a:lnTo>
                        <a:lnTo>
                          <a:pt x="314" y="65"/>
                        </a:lnTo>
                        <a:lnTo>
                          <a:pt x="308" y="72"/>
                        </a:lnTo>
                        <a:lnTo>
                          <a:pt x="295" y="80"/>
                        </a:lnTo>
                        <a:lnTo>
                          <a:pt x="276" y="94"/>
                        </a:lnTo>
                        <a:lnTo>
                          <a:pt x="256" y="94"/>
                        </a:lnTo>
                        <a:lnTo>
                          <a:pt x="250" y="94"/>
                        </a:lnTo>
                        <a:lnTo>
                          <a:pt x="250" y="87"/>
                        </a:lnTo>
                        <a:lnTo>
                          <a:pt x="256" y="72"/>
                        </a:lnTo>
                        <a:lnTo>
                          <a:pt x="256" y="65"/>
                        </a:lnTo>
                        <a:lnTo>
                          <a:pt x="238" y="51"/>
                        </a:lnTo>
                        <a:lnTo>
                          <a:pt x="231" y="51"/>
                        </a:lnTo>
                        <a:lnTo>
                          <a:pt x="218" y="43"/>
                        </a:lnTo>
                        <a:lnTo>
                          <a:pt x="218" y="22"/>
                        </a:lnTo>
                        <a:lnTo>
                          <a:pt x="212" y="7"/>
                        </a:lnTo>
                        <a:lnTo>
                          <a:pt x="206" y="15"/>
                        </a:lnTo>
                        <a:lnTo>
                          <a:pt x="192" y="0"/>
                        </a:lnTo>
                        <a:lnTo>
                          <a:pt x="180" y="0"/>
                        </a:lnTo>
                        <a:lnTo>
                          <a:pt x="173" y="0"/>
                        </a:lnTo>
                      </a:path>
                    </a:pathLst>
                  </a:custGeom>
                  <a:solidFill>
                    <a:srgbClr val="c0c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3" name=""/>
                <p:cNvSpPr/>
                <p:nvPr/>
              </p:nvSpPr>
              <p:spPr>
                <a:xfrm>
                  <a:off x="4895640" y="3202920"/>
                  <a:ext cx="626400" cy="528120"/>
                </a:xfrm>
                <a:custGeom>
                  <a:avLst/>
                  <a:gdLst/>
                  <a:ahLst/>
                  <a:rect l="l" t="t" r="r" b="b"/>
                  <a:pathLst>
                    <a:path w="443" h="471">
                      <a:moveTo>
                        <a:pt x="6" y="94"/>
                      </a:moveTo>
                      <a:lnTo>
                        <a:pt x="6" y="123"/>
                      </a:lnTo>
                      <a:lnTo>
                        <a:pt x="6" y="138"/>
                      </a:lnTo>
                      <a:lnTo>
                        <a:pt x="0" y="152"/>
                      </a:lnTo>
                      <a:lnTo>
                        <a:pt x="19" y="174"/>
                      </a:lnTo>
                      <a:lnTo>
                        <a:pt x="19" y="181"/>
                      </a:lnTo>
                      <a:lnTo>
                        <a:pt x="12" y="195"/>
                      </a:lnTo>
                      <a:lnTo>
                        <a:pt x="12" y="210"/>
                      </a:lnTo>
                      <a:lnTo>
                        <a:pt x="25" y="224"/>
                      </a:lnTo>
                      <a:lnTo>
                        <a:pt x="25" y="231"/>
                      </a:lnTo>
                      <a:lnTo>
                        <a:pt x="19" y="253"/>
                      </a:lnTo>
                      <a:lnTo>
                        <a:pt x="25" y="275"/>
                      </a:lnTo>
                      <a:lnTo>
                        <a:pt x="32" y="282"/>
                      </a:lnTo>
                      <a:lnTo>
                        <a:pt x="32" y="289"/>
                      </a:lnTo>
                      <a:lnTo>
                        <a:pt x="32" y="296"/>
                      </a:lnTo>
                      <a:lnTo>
                        <a:pt x="25" y="304"/>
                      </a:lnTo>
                      <a:lnTo>
                        <a:pt x="25" y="311"/>
                      </a:lnTo>
                      <a:lnTo>
                        <a:pt x="38" y="311"/>
                      </a:lnTo>
                      <a:lnTo>
                        <a:pt x="44" y="318"/>
                      </a:lnTo>
                      <a:lnTo>
                        <a:pt x="51" y="318"/>
                      </a:lnTo>
                      <a:lnTo>
                        <a:pt x="51" y="332"/>
                      </a:lnTo>
                      <a:lnTo>
                        <a:pt x="64" y="347"/>
                      </a:lnTo>
                      <a:lnTo>
                        <a:pt x="70" y="354"/>
                      </a:lnTo>
                      <a:lnTo>
                        <a:pt x="76" y="361"/>
                      </a:lnTo>
                      <a:lnTo>
                        <a:pt x="90" y="383"/>
                      </a:lnTo>
                      <a:lnTo>
                        <a:pt x="102" y="369"/>
                      </a:lnTo>
                      <a:lnTo>
                        <a:pt x="108" y="369"/>
                      </a:lnTo>
                      <a:lnTo>
                        <a:pt x="115" y="369"/>
                      </a:lnTo>
                      <a:lnTo>
                        <a:pt x="141" y="397"/>
                      </a:lnTo>
                      <a:lnTo>
                        <a:pt x="166" y="412"/>
                      </a:lnTo>
                      <a:lnTo>
                        <a:pt x="173" y="412"/>
                      </a:lnTo>
                      <a:lnTo>
                        <a:pt x="186" y="412"/>
                      </a:lnTo>
                      <a:lnTo>
                        <a:pt x="198" y="405"/>
                      </a:lnTo>
                      <a:lnTo>
                        <a:pt x="205" y="412"/>
                      </a:lnTo>
                      <a:lnTo>
                        <a:pt x="224" y="426"/>
                      </a:lnTo>
                      <a:lnTo>
                        <a:pt x="224" y="433"/>
                      </a:lnTo>
                      <a:lnTo>
                        <a:pt x="230" y="426"/>
                      </a:lnTo>
                      <a:lnTo>
                        <a:pt x="244" y="426"/>
                      </a:lnTo>
                      <a:lnTo>
                        <a:pt x="250" y="433"/>
                      </a:lnTo>
                      <a:lnTo>
                        <a:pt x="262" y="448"/>
                      </a:lnTo>
                      <a:lnTo>
                        <a:pt x="269" y="455"/>
                      </a:lnTo>
                      <a:lnTo>
                        <a:pt x="282" y="455"/>
                      </a:lnTo>
                      <a:lnTo>
                        <a:pt x="288" y="455"/>
                      </a:lnTo>
                      <a:lnTo>
                        <a:pt x="295" y="448"/>
                      </a:lnTo>
                      <a:lnTo>
                        <a:pt x="301" y="448"/>
                      </a:lnTo>
                      <a:lnTo>
                        <a:pt x="320" y="455"/>
                      </a:lnTo>
                      <a:lnTo>
                        <a:pt x="385" y="470"/>
                      </a:lnTo>
                      <a:lnTo>
                        <a:pt x="398" y="462"/>
                      </a:lnTo>
                      <a:lnTo>
                        <a:pt x="391" y="448"/>
                      </a:lnTo>
                      <a:lnTo>
                        <a:pt x="378" y="419"/>
                      </a:lnTo>
                      <a:lnTo>
                        <a:pt x="430" y="369"/>
                      </a:lnTo>
                      <a:lnTo>
                        <a:pt x="436" y="361"/>
                      </a:lnTo>
                      <a:lnTo>
                        <a:pt x="442" y="340"/>
                      </a:lnTo>
                      <a:lnTo>
                        <a:pt x="436" y="318"/>
                      </a:lnTo>
                      <a:lnTo>
                        <a:pt x="423" y="296"/>
                      </a:lnTo>
                      <a:lnTo>
                        <a:pt x="410" y="275"/>
                      </a:lnTo>
                      <a:lnTo>
                        <a:pt x="404" y="260"/>
                      </a:lnTo>
                      <a:lnTo>
                        <a:pt x="404" y="246"/>
                      </a:lnTo>
                      <a:lnTo>
                        <a:pt x="404" y="231"/>
                      </a:lnTo>
                      <a:lnTo>
                        <a:pt x="410" y="217"/>
                      </a:lnTo>
                      <a:lnTo>
                        <a:pt x="404" y="210"/>
                      </a:lnTo>
                      <a:lnTo>
                        <a:pt x="398" y="203"/>
                      </a:lnTo>
                      <a:lnTo>
                        <a:pt x="404" y="188"/>
                      </a:lnTo>
                      <a:lnTo>
                        <a:pt x="417" y="174"/>
                      </a:lnTo>
                      <a:lnTo>
                        <a:pt x="417" y="166"/>
                      </a:lnTo>
                      <a:lnTo>
                        <a:pt x="417" y="138"/>
                      </a:lnTo>
                      <a:lnTo>
                        <a:pt x="410" y="116"/>
                      </a:lnTo>
                      <a:lnTo>
                        <a:pt x="404" y="102"/>
                      </a:lnTo>
                      <a:lnTo>
                        <a:pt x="404" y="87"/>
                      </a:lnTo>
                      <a:lnTo>
                        <a:pt x="398" y="73"/>
                      </a:lnTo>
                      <a:lnTo>
                        <a:pt x="385" y="58"/>
                      </a:lnTo>
                      <a:lnTo>
                        <a:pt x="372" y="58"/>
                      </a:lnTo>
                      <a:lnTo>
                        <a:pt x="334" y="51"/>
                      </a:lnTo>
                      <a:lnTo>
                        <a:pt x="314" y="51"/>
                      </a:lnTo>
                      <a:lnTo>
                        <a:pt x="276" y="51"/>
                      </a:lnTo>
                      <a:lnTo>
                        <a:pt x="262" y="44"/>
                      </a:lnTo>
                      <a:lnTo>
                        <a:pt x="244" y="37"/>
                      </a:lnTo>
                      <a:lnTo>
                        <a:pt x="237" y="44"/>
                      </a:lnTo>
                      <a:lnTo>
                        <a:pt x="224" y="51"/>
                      </a:lnTo>
                      <a:lnTo>
                        <a:pt x="218" y="44"/>
                      </a:lnTo>
                      <a:lnTo>
                        <a:pt x="205" y="37"/>
                      </a:lnTo>
                      <a:lnTo>
                        <a:pt x="198" y="37"/>
                      </a:lnTo>
                      <a:lnTo>
                        <a:pt x="192" y="29"/>
                      </a:lnTo>
                      <a:lnTo>
                        <a:pt x="186" y="15"/>
                      </a:lnTo>
                      <a:lnTo>
                        <a:pt x="173" y="8"/>
                      </a:lnTo>
                      <a:lnTo>
                        <a:pt x="166" y="0"/>
                      </a:lnTo>
                      <a:lnTo>
                        <a:pt x="148" y="8"/>
                      </a:lnTo>
                      <a:lnTo>
                        <a:pt x="128" y="15"/>
                      </a:lnTo>
                      <a:lnTo>
                        <a:pt x="122" y="22"/>
                      </a:lnTo>
                      <a:lnTo>
                        <a:pt x="96" y="37"/>
                      </a:lnTo>
                      <a:lnTo>
                        <a:pt x="76" y="44"/>
                      </a:lnTo>
                      <a:lnTo>
                        <a:pt x="57" y="51"/>
                      </a:lnTo>
                      <a:lnTo>
                        <a:pt x="38" y="58"/>
                      </a:lnTo>
                      <a:lnTo>
                        <a:pt x="32" y="73"/>
                      </a:lnTo>
                      <a:lnTo>
                        <a:pt x="19" y="87"/>
                      </a:lnTo>
                      <a:lnTo>
                        <a:pt x="6" y="94"/>
                      </a:lnTo>
                    </a:path>
                  </a:pathLst>
                </a:custGeom>
                <a:solidFill>
                  <a:srgbClr val="8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312880" y="3074040"/>
                  <a:ext cx="326520" cy="227880"/>
                </a:xfrm>
                <a:custGeom>
                  <a:avLst/>
                  <a:gdLst/>
                  <a:ahLst/>
                  <a:rect l="l" t="t" r="r" b="b"/>
                  <a:pathLst>
                    <a:path w="231" h="203">
                      <a:moveTo>
                        <a:pt x="0" y="22"/>
                      </a:moveTo>
                      <a:lnTo>
                        <a:pt x="0" y="29"/>
                      </a:lnTo>
                      <a:lnTo>
                        <a:pt x="6" y="51"/>
                      </a:lnTo>
                      <a:lnTo>
                        <a:pt x="12" y="87"/>
                      </a:lnTo>
                      <a:lnTo>
                        <a:pt x="25" y="101"/>
                      </a:lnTo>
                      <a:lnTo>
                        <a:pt x="44" y="108"/>
                      </a:lnTo>
                      <a:lnTo>
                        <a:pt x="51" y="108"/>
                      </a:lnTo>
                      <a:lnTo>
                        <a:pt x="51" y="123"/>
                      </a:lnTo>
                      <a:lnTo>
                        <a:pt x="51" y="144"/>
                      </a:lnTo>
                      <a:lnTo>
                        <a:pt x="76" y="166"/>
                      </a:lnTo>
                      <a:lnTo>
                        <a:pt x="90" y="173"/>
                      </a:lnTo>
                      <a:lnTo>
                        <a:pt x="96" y="173"/>
                      </a:lnTo>
                      <a:lnTo>
                        <a:pt x="108" y="202"/>
                      </a:lnTo>
                      <a:lnTo>
                        <a:pt x="115" y="195"/>
                      </a:lnTo>
                      <a:lnTo>
                        <a:pt x="128" y="195"/>
                      </a:lnTo>
                      <a:lnTo>
                        <a:pt x="140" y="202"/>
                      </a:lnTo>
                      <a:lnTo>
                        <a:pt x="154" y="195"/>
                      </a:lnTo>
                      <a:lnTo>
                        <a:pt x="166" y="180"/>
                      </a:lnTo>
                      <a:lnTo>
                        <a:pt x="179" y="173"/>
                      </a:lnTo>
                      <a:lnTo>
                        <a:pt x="186" y="180"/>
                      </a:lnTo>
                      <a:lnTo>
                        <a:pt x="192" y="173"/>
                      </a:lnTo>
                      <a:lnTo>
                        <a:pt x="198" y="166"/>
                      </a:lnTo>
                      <a:lnTo>
                        <a:pt x="198" y="130"/>
                      </a:lnTo>
                      <a:lnTo>
                        <a:pt x="204" y="115"/>
                      </a:lnTo>
                      <a:lnTo>
                        <a:pt x="204" y="101"/>
                      </a:lnTo>
                      <a:lnTo>
                        <a:pt x="204" y="94"/>
                      </a:lnTo>
                      <a:lnTo>
                        <a:pt x="218" y="87"/>
                      </a:lnTo>
                      <a:lnTo>
                        <a:pt x="230" y="79"/>
                      </a:lnTo>
                      <a:lnTo>
                        <a:pt x="230" y="65"/>
                      </a:lnTo>
                      <a:lnTo>
                        <a:pt x="224" y="51"/>
                      </a:lnTo>
                      <a:lnTo>
                        <a:pt x="218" y="43"/>
                      </a:lnTo>
                      <a:lnTo>
                        <a:pt x="211" y="43"/>
                      </a:lnTo>
                      <a:lnTo>
                        <a:pt x="198" y="29"/>
                      </a:lnTo>
                      <a:lnTo>
                        <a:pt x="192" y="22"/>
                      </a:lnTo>
                      <a:lnTo>
                        <a:pt x="179" y="22"/>
                      </a:lnTo>
                      <a:lnTo>
                        <a:pt x="160" y="22"/>
                      </a:lnTo>
                      <a:lnTo>
                        <a:pt x="154" y="14"/>
                      </a:lnTo>
                      <a:lnTo>
                        <a:pt x="147" y="0"/>
                      </a:lnTo>
                      <a:lnTo>
                        <a:pt x="128" y="0"/>
                      </a:lnTo>
                      <a:lnTo>
                        <a:pt x="122" y="14"/>
                      </a:lnTo>
                      <a:lnTo>
                        <a:pt x="108" y="7"/>
                      </a:lnTo>
                      <a:lnTo>
                        <a:pt x="102" y="7"/>
                      </a:lnTo>
                      <a:lnTo>
                        <a:pt x="96" y="7"/>
                      </a:lnTo>
                      <a:lnTo>
                        <a:pt x="83" y="7"/>
                      </a:lnTo>
                      <a:lnTo>
                        <a:pt x="76" y="14"/>
                      </a:lnTo>
                      <a:lnTo>
                        <a:pt x="64" y="7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2" y="7"/>
                      </a:lnTo>
                      <a:lnTo>
                        <a:pt x="19" y="14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5339880" y="2766600"/>
                  <a:ext cx="327600" cy="195120"/>
                  <a:chOff x="5339880" y="2766600"/>
                  <a:chExt cx="327600" cy="19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5357880" y="2831760"/>
                    <a:ext cx="4680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7">
                        <a:moveTo>
                          <a:pt x="19" y="0"/>
                        </a:moveTo>
                        <a:lnTo>
                          <a:pt x="0" y="14"/>
                        </a:lnTo>
                        <a:lnTo>
                          <a:pt x="0" y="21"/>
                        </a:lnTo>
                        <a:lnTo>
                          <a:pt x="6" y="21"/>
                        </a:lnTo>
                        <a:lnTo>
                          <a:pt x="12" y="36"/>
                        </a:lnTo>
                        <a:lnTo>
                          <a:pt x="25" y="28"/>
                        </a:lnTo>
                        <a:lnTo>
                          <a:pt x="32" y="21"/>
                        </a:lnTo>
                        <a:lnTo>
                          <a:pt x="25" y="7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5339880" y="2872080"/>
                    <a:ext cx="7308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66">
                        <a:moveTo>
                          <a:pt x="45" y="0"/>
                        </a:moveTo>
                        <a:lnTo>
                          <a:pt x="26" y="7"/>
                        </a:lnTo>
                        <a:lnTo>
                          <a:pt x="19" y="0"/>
                        </a:lnTo>
                        <a:lnTo>
                          <a:pt x="6" y="21"/>
                        </a:lnTo>
                        <a:lnTo>
                          <a:pt x="6" y="14"/>
                        </a:lnTo>
                        <a:lnTo>
                          <a:pt x="0" y="21"/>
                        </a:lnTo>
                        <a:lnTo>
                          <a:pt x="6" y="28"/>
                        </a:lnTo>
                        <a:lnTo>
                          <a:pt x="6" y="57"/>
                        </a:lnTo>
                        <a:lnTo>
                          <a:pt x="13" y="65"/>
                        </a:lnTo>
                        <a:lnTo>
                          <a:pt x="38" y="28"/>
                        </a:lnTo>
                        <a:lnTo>
                          <a:pt x="45" y="28"/>
                        </a:lnTo>
                        <a:lnTo>
                          <a:pt x="51" y="21"/>
                        </a:lnTo>
                        <a:lnTo>
                          <a:pt x="51" y="14"/>
                        </a:lnTo>
                        <a:lnTo>
                          <a:pt x="45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420160" y="2766600"/>
                    <a:ext cx="24732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74">
                        <a:moveTo>
                          <a:pt x="168" y="166"/>
                        </a:moveTo>
                        <a:lnTo>
                          <a:pt x="168" y="151"/>
                        </a:lnTo>
                        <a:lnTo>
                          <a:pt x="174" y="144"/>
                        </a:lnTo>
                        <a:lnTo>
                          <a:pt x="174" y="130"/>
                        </a:lnTo>
                        <a:lnTo>
                          <a:pt x="162" y="122"/>
                        </a:lnTo>
                        <a:lnTo>
                          <a:pt x="154" y="115"/>
                        </a:lnTo>
                        <a:lnTo>
                          <a:pt x="154" y="101"/>
                        </a:lnTo>
                        <a:lnTo>
                          <a:pt x="148" y="86"/>
                        </a:lnTo>
                        <a:lnTo>
                          <a:pt x="136" y="72"/>
                        </a:lnTo>
                        <a:lnTo>
                          <a:pt x="136" y="65"/>
                        </a:lnTo>
                        <a:lnTo>
                          <a:pt x="142" y="58"/>
                        </a:lnTo>
                        <a:lnTo>
                          <a:pt x="162" y="58"/>
                        </a:lnTo>
                        <a:lnTo>
                          <a:pt x="168" y="50"/>
                        </a:lnTo>
                        <a:lnTo>
                          <a:pt x="174" y="21"/>
                        </a:lnTo>
                        <a:lnTo>
                          <a:pt x="174" y="14"/>
                        </a:lnTo>
                        <a:lnTo>
                          <a:pt x="162" y="14"/>
                        </a:lnTo>
                        <a:lnTo>
                          <a:pt x="148" y="14"/>
                        </a:lnTo>
                        <a:lnTo>
                          <a:pt x="122" y="14"/>
                        </a:lnTo>
                        <a:lnTo>
                          <a:pt x="110" y="7"/>
                        </a:lnTo>
                        <a:lnTo>
                          <a:pt x="96" y="0"/>
                        </a:lnTo>
                        <a:lnTo>
                          <a:pt x="84" y="0"/>
                        </a:lnTo>
                        <a:lnTo>
                          <a:pt x="78" y="14"/>
                        </a:lnTo>
                        <a:lnTo>
                          <a:pt x="64" y="29"/>
                        </a:lnTo>
                        <a:lnTo>
                          <a:pt x="46" y="21"/>
                        </a:lnTo>
                        <a:lnTo>
                          <a:pt x="32" y="36"/>
                        </a:lnTo>
                        <a:lnTo>
                          <a:pt x="20" y="50"/>
                        </a:lnTo>
                        <a:lnTo>
                          <a:pt x="6" y="65"/>
                        </a:lnTo>
                        <a:lnTo>
                          <a:pt x="0" y="72"/>
                        </a:lnTo>
                        <a:lnTo>
                          <a:pt x="6" y="86"/>
                        </a:lnTo>
                        <a:lnTo>
                          <a:pt x="20" y="108"/>
                        </a:lnTo>
                        <a:lnTo>
                          <a:pt x="26" y="115"/>
                        </a:lnTo>
                        <a:lnTo>
                          <a:pt x="32" y="115"/>
                        </a:lnTo>
                        <a:lnTo>
                          <a:pt x="52" y="108"/>
                        </a:lnTo>
                        <a:lnTo>
                          <a:pt x="46" y="122"/>
                        </a:lnTo>
                        <a:lnTo>
                          <a:pt x="46" y="144"/>
                        </a:lnTo>
                        <a:lnTo>
                          <a:pt x="46" y="151"/>
                        </a:lnTo>
                        <a:lnTo>
                          <a:pt x="52" y="151"/>
                        </a:lnTo>
                        <a:lnTo>
                          <a:pt x="64" y="144"/>
                        </a:lnTo>
                        <a:lnTo>
                          <a:pt x="84" y="144"/>
                        </a:lnTo>
                        <a:lnTo>
                          <a:pt x="90" y="159"/>
                        </a:lnTo>
                        <a:lnTo>
                          <a:pt x="104" y="159"/>
                        </a:lnTo>
                        <a:lnTo>
                          <a:pt x="116" y="173"/>
                        </a:lnTo>
                        <a:lnTo>
                          <a:pt x="122" y="173"/>
                        </a:lnTo>
                        <a:lnTo>
                          <a:pt x="136" y="166"/>
                        </a:lnTo>
                        <a:lnTo>
                          <a:pt x="148" y="159"/>
                        </a:lnTo>
                        <a:lnTo>
                          <a:pt x="168" y="166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5239440" y="1851120"/>
                  <a:ext cx="527040" cy="916560"/>
                  <a:chOff x="5239440" y="1851120"/>
                  <a:chExt cx="527040" cy="916560"/>
                </a:xfrm>
              </p:grpSpPr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5239440" y="1851120"/>
                    <a:ext cx="527040" cy="916560"/>
                    <a:chOff x="5239440" y="1851120"/>
                    <a:chExt cx="527040" cy="91656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5239440" y="2709000"/>
                      <a:ext cx="280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3">
                          <a:moveTo>
                            <a:pt x="19" y="0"/>
                          </a:moveTo>
                          <a:lnTo>
                            <a:pt x="6" y="8"/>
                          </a:lnTo>
                          <a:lnTo>
                            <a:pt x="0" y="15"/>
                          </a:lnTo>
                          <a:lnTo>
                            <a:pt x="0" y="22"/>
                          </a:lnTo>
                          <a:lnTo>
                            <a:pt x="6" y="22"/>
                          </a:lnTo>
                          <a:lnTo>
                            <a:pt x="19" y="15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ff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5266080" y="1851120"/>
                      <a:ext cx="500400" cy="9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4" h="817">
                          <a:moveTo>
                            <a:pt x="97" y="816"/>
                          </a:moveTo>
                          <a:lnTo>
                            <a:pt x="97" y="787"/>
                          </a:lnTo>
                          <a:lnTo>
                            <a:pt x="84" y="773"/>
                          </a:lnTo>
                          <a:lnTo>
                            <a:pt x="77" y="765"/>
                          </a:lnTo>
                          <a:lnTo>
                            <a:pt x="65" y="765"/>
                          </a:lnTo>
                          <a:lnTo>
                            <a:pt x="52" y="765"/>
                          </a:lnTo>
                          <a:lnTo>
                            <a:pt x="45" y="751"/>
                          </a:lnTo>
                          <a:lnTo>
                            <a:pt x="52" y="700"/>
                          </a:lnTo>
                          <a:lnTo>
                            <a:pt x="45" y="671"/>
                          </a:lnTo>
                          <a:lnTo>
                            <a:pt x="39" y="657"/>
                          </a:lnTo>
                          <a:lnTo>
                            <a:pt x="33" y="650"/>
                          </a:lnTo>
                          <a:lnTo>
                            <a:pt x="33" y="621"/>
                          </a:lnTo>
                          <a:lnTo>
                            <a:pt x="33" y="607"/>
                          </a:lnTo>
                          <a:lnTo>
                            <a:pt x="26" y="592"/>
                          </a:lnTo>
                          <a:lnTo>
                            <a:pt x="33" y="563"/>
                          </a:lnTo>
                          <a:lnTo>
                            <a:pt x="45" y="563"/>
                          </a:lnTo>
                          <a:lnTo>
                            <a:pt x="52" y="556"/>
                          </a:lnTo>
                          <a:lnTo>
                            <a:pt x="52" y="534"/>
                          </a:lnTo>
                          <a:lnTo>
                            <a:pt x="71" y="520"/>
                          </a:lnTo>
                          <a:lnTo>
                            <a:pt x="90" y="498"/>
                          </a:lnTo>
                          <a:lnTo>
                            <a:pt x="90" y="484"/>
                          </a:lnTo>
                          <a:lnTo>
                            <a:pt x="109" y="462"/>
                          </a:lnTo>
                          <a:lnTo>
                            <a:pt x="135" y="441"/>
                          </a:lnTo>
                          <a:lnTo>
                            <a:pt x="129" y="426"/>
                          </a:lnTo>
                          <a:lnTo>
                            <a:pt x="129" y="412"/>
                          </a:lnTo>
                          <a:lnTo>
                            <a:pt x="141" y="405"/>
                          </a:lnTo>
                          <a:lnTo>
                            <a:pt x="148" y="405"/>
                          </a:lnTo>
                          <a:lnTo>
                            <a:pt x="148" y="383"/>
                          </a:lnTo>
                          <a:lnTo>
                            <a:pt x="148" y="361"/>
                          </a:lnTo>
                          <a:lnTo>
                            <a:pt x="141" y="361"/>
                          </a:lnTo>
                          <a:lnTo>
                            <a:pt x="135" y="361"/>
                          </a:lnTo>
                          <a:lnTo>
                            <a:pt x="123" y="347"/>
                          </a:lnTo>
                          <a:lnTo>
                            <a:pt x="116" y="311"/>
                          </a:lnTo>
                          <a:lnTo>
                            <a:pt x="97" y="282"/>
                          </a:lnTo>
                          <a:lnTo>
                            <a:pt x="103" y="246"/>
                          </a:lnTo>
                          <a:lnTo>
                            <a:pt x="97" y="231"/>
                          </a:lnTo>
                          <a:lnTo>
                            <a:pt x="77" y="210"/>
                          </a:lnTo>
                          <a:lnTo>
                            <a:pt x="90" y="181"/>
                          </a:lnTo>
                          <a:lnTo>
                            <a:pt x="84" y="159"/>
                          </a:lnTo>
                          <a:lnTo>
                            <a:pt x="65" y="145"/>
                          </a:lnTo>
                          <a:lnTo>
                            <a:pt x="58" y="152"/>
                          </a:lnTo>
                          <a:lnTo>
                            <a:pt x="26" y="116"/>
                          </a:lnTo>
                          <a:lnTo>
                            <a:pt x="20" y="101"/>
                          </a:lnTo>
                          <a:lnTo>
                            <a:pt x="13" y="87"/>
                          </a:lnTo>
                          <a:lnTo>
                            <a:pt x="0" y="87"/>
                          </a:lnTo>
                          <a:lnTo>
                            <a:pt x="13" y="73"/>
                          </a:lnTo>
                          <a:lnTo>
                            <a:pt x="33" y="73"/>
                          </a:lnTo>
                          <a:lnTo>
                            <a:pt x="39" y="87"/>
                          </a:lnTo>
                          <a:lnTo>
                            <a:pt x="65" y="116"/>
                          </a:lnTo>
                          <a:lnTo>
                            <a:pt x="90" y="101"/>
                          </a:lnTo>
                          <a:lnTo>
                            <a:pt x="103" y="101"/>
                          </a:lnTo>
                          <a:lnTo>
                            <a:pt x="103" y="116"/>
                          </a:lnTo>
                          <a:lnTo>
                            <a:pt x="123" y="116"/>
                          </a:lnTo>
                          <a:lnTo>
                            <a:pt x="129" y="87"/>
                          </a:lnTo>
                          <a:lnTo>
                            <a:pt x="135" y="80"/>
                          </a:lnTo>
                          <a:lnTo>
                            <a:pt x="141" y="73"/>
                          </a:lnTo>
                          <a:lnTo>
                            <a:pt x="141" y="58"/>
                          </a:lnTo>
                          <a:lnTo>
                            <a:pt x="141" y="36"/>
                          </a:lnTo>
                          <a:lnTo>
                            <a:pt x="155" y="15"/>
                          </a:lnTo>
                          <a:lnTo>
                            <a:pt x="167" y="15"/>
                          </a:lnTo>
                          <a:lnTo>
                            <a:pt x="180" y="0"/>
                          </a:lnTo>
                          <a:lnTo>
                            <a:pt x="199" y="22"/>
                          </a:lnTo>
                          <a:lnTo>
                            <a:pt x="205" y="36"/>
                          </a:lnTo>
                          <a:lnTo>
                            <a:pt x="199" y="51"/>
                          </a:lnTo>
                          <a:lnTo>
                            <a:pt x="180" y="65"/>
                          </a:lnTo>
                          <a:lnTo>
                            <a:pt x="173" y="87"/>
                          </a:lnTo>
                          <a:lnTo>
                            <a:pt x="173" y="101"/>
                          </a:lnTo>
                          <a:lnTo>
                            <a:pt x="199" y="80"/>
                          </a:lnTo>
                          <a:lnTo>
                            <a:pt x="199" y="58"/>
                          </a:lnTo>
                          <a:lnTo>
                            <a:pt x="205" y="29"/>
                          </a:lnTo>
                          <a:lnTo>
                            <a:pt x="213" y="22"/>
                          </a:lnTo>
                          <a:lnTo>
                            <a:pt x="219" y="58"/>
                          </a:lnTo>
                          <a:lnTo>
                            <a:pt x="219" y="87"/>
                          </a:lnTo>
                          <a:lnTo>
                            <a:pt x="219" y="101"/>
                          </a:lnTo>
                          <a:lnTo>
                            <a:pt x="219" y="123"/>
                          </a:lnTo>
                          <a:lnTo>
                            <a:pt x="237" y="145"/>
                          </a:lnTo>
                          <a:lnTo>
                            <a:pt x="237" y="159"/>
                          </a:lnTo>
                          <a:lnTo>
                            <a:pt x="257" y="181"/>
                          </a:lnTo>
                          <a:lnTo>
                            <a:pt x="257" y="195"/>
                          </a:lnTo>
                          <a:lnTo>
                            <a:pt x="257" y="239"/>
                          </a:lnTo>
                          <a:lnTo>
                            <a:pt x="263" y="282"/>
                          </a:lnTo>
                          <a:lnTo>
                            <a:pt x="283" y="318"/>
                          </a:lnTo>
                          <a:lnTo>
                            <a:pt x="277" y="368"/>
                          </a:lnTo>
                          <a:lnTo>
                            <a:pt x="289" y="405"/>
                          </a:lnTo>
                          <a:lnTo>
                            <a:pt x="295" y="419"/>
                          </a:lnTo>
                          <a:lnTo>
                            <a:pt x="302" y="469"/>
                          </a:lnTo>
                          <a:lnTo>
                            <a:pt x="309" y="491"/>
                          </a:lnTo>
                          <a:lnTo>
                            <a:pt x="334" y="513"/>
                          </a:lnTo>
                          <a:lnTo>
                            <a:pt x="353" y="534"/>
                          </a:lnTo>
                          <a:lnTo>
                            <a:pt x="353" y="542"/>
                          </a:lnTo>
                          <a:lnTo>
                            <a:pt x="341" y="607"/>
                          </a:lnTo>
                          <a:lnTo>
                            <a:pt x="334" y="614"/>
                          </a:lnTo>
                          <a:lnTo>
                            <a:pt x="341" y="628"/>
                          </a:lnTo>
                          <a:lnTo>
                            <a:pt x="327" y="650"/>
                          </a:lnTo>
                          <a:lnTo>
                            <a:pt x="309" y="664"/>
                          </a:lnTo>
                          <a:lnTo>
                            <a:pt x="309" y="671"/>
                          </a:lnTo>
                          <a:lnTo>
                            <a:pt x="283" y="715"/>
                          </a:lnTo>
                          <a:lnTo>
                            <a:pt x="263" y="722"/>
                          </a:lnTo>
                          <a:lnTo>
                            <a:pt x="257" y="744"/>
                          </a:lnTo>
                          <a:lnTo>
                            <a:pt x="245" y="744"/>
                          </a:lnTo>
                          <a:lnTo>
                            <a:pt x="231" y="751"/>
                          </a:lnTo>
                          <a:lnTo>
                            <a:pt x="219" y="758"/>
                          </a:lnTo>
                          <a:lnTo>
                            <a:pt x="193" y="758"/>
                          </a:lnTo>
                          <a:lnTo>
                            <a:pt x="173" y="773"/>
                          </a:lnTo>
                          <a:lnTo>
                            <a:pt x="155" y="787"/>
                          </a:lnTo>
                          <a:lnTo>
                            <a:pt x="135" y="794"/>
                          </a:lnTo>
                          <a:lnTo>
                            <a:pt x="116" y="809"/>
                          </a:lnTo>
                          <a:lnTo>
                            <a:pt x="97" y="816"/>
                          </a:lnTo>
                        </a:path>
                      </a:pathLst>
                    </a:custGeom>
                    <a:solidFill>
                      <a:srgbClr val="ff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5411880" y="2175120"/>
                    <a:ext cx="317520" cy="470520"/>
                    <a:chOff x="5411880" y="2175120"/>
                    <a:chExt cx="317520" cy="47052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5592600" y="2175120"/>
                      <a:ext cx="972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3">
                          <a:moveTo>
                            <a:pt x="6" y="0"/>
                          </a:moveTo>
                          <a:lnTo>
                            <a:pt x="0" y="0"/>
                          </a:lnTo>
                          <a:lnTo>
                            <a:pt x="6" y="22"/>
                          </a:lnTo>
                          <a:lnTo>
                            <a:pt x="6" y="14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5629320" y="2263680"/>
                      <a:ext cx="972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8">
                          <a:moveTo>
                            <a:pt x="6" y="0"/>
                          </a:moveTo>
                          <a:lnTo>
                            <a:pt x="0" y="8"/>
                          </a:lnTo>
                          <a:lnTo>
                            <a:pt x="0" y="37"/>
                          </a:lnTo>
                          <a:lnTo>
                            <a:pt x="6" y="22"/>
                          </a:lnTo>
                          <a:lnTo>
                            <a:pt x="6" y="8"/>
                          </a:lnTo>
                          <a:lnTo>
                            <a:pt x="0" y="8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5656320" y="2328480"/>
                      <a:ext cx="198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23">
                          <a:moveTo>
                            <a:pt x="0" y="0"/>
                          </a:moveTo>
                          <a:lnTo>
                            <a:pt x="0" y="7"/>
                          </a:lnTo>
                          <a:lnTo>
                            <a:pt x="7" y="22"/>
                          </a:lnTo>
                          <a:lnTo>
                            <a:pt x="13" y="15"/>
                          </a:lnTo>
                          <a:lnTo>
                            <a:pt x="13" y="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5538960" y="2320560"/>
                      <a:ext cx="464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37">
                          <a:moveTo>
                            <a:pt x="32" y="14"/>
                          </a:moveTo>
                          <a:lnTo>
                            <a:pt x="26" y="14"/>
                          </a:lnTo>
                          <a:lnTo>
                            <a:pt x="20" y="0"/>
                          </a:lnTo>
                          <a:lnTo>
                            <a:pt x="12" y="14"/>
                          </a:lnTo>
                          <a:lnTo>
                            <a:pt x="0" y="7"/>
                          </a:lnTo>
                          <a:lnTo>
                            <a:pt x="0" y="14"/>
                          </a:lnTo>
                          <a:lnTo>
                            <a:pt x="6" y="22"/>
                          </a:lnTo>
                          <a:lnTo>
                            <a:pt x="6" y="29"/>
                          </a:lnTo>
                          <a:lnTo>
                            <a:pt x="12" y="36"/>
                          </a:lnTo>
                          <a:lnTo>
                            <a:pt x="20" y="29"/>
                          </a:lnTo>
                          <a:lnTo>
                            <a:pt x="26" y="36"/>
                          </a:lnTo>
                          <a:lnTo>
                            <a:pt x="32" y="14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5647680" y="2418480"/>
                      <a:ext cx="648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37">
                          <a:moveTo>
                            <a:pt x="6" y="0"/>
                          </a:moveTo>
                          <a:lnTo>
                            <a:pt x="0" y="7"/>
                          </a:lnTo>
                          <a:lnTo>
                            <a:pt x="13" y="21"/>
                          </a:lnTo>
                          <a:lnTo>
                            <a:pt x="19" y="21"/>
                          </a:lnTo>
                          <a:lnTo>
                            <a:pt x="39" y="36"/>
                          </a:lnTo>
                          <a:lnTo>
                            <a:pt x="45" y="28"/>
                          </a:lnTo>
                          <a:lnTo>
                            <a:pt x="39" y="14"/>
                          </a:lnTo>
                          <a:lnTo>
                            <a:pt x="39" y="7"/>
                          </a:lnTo>
                          <a:lnTo>
                            <a:pt x="25" y="7"/>
                          </a:lnTo>
                          <a:lnTo>
                            <a:pt x="13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5510880" y="2441880"/>
                      <a:ext cx="37800" cy="6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59">
                          <a:moveTo>
                            <a:pt x="26" y="0"/>
                          </a:moveTo>
                          <a:lnTo>
                            <a:pt x="26" y="15"/>
                          </a:lnTo>
                          <a:lnTo>
                            <a:pt x="13" y="36"/>
                          </a:lnTo>
                          <a:lnTo>
                            <a:pt x="13" y="43"/>
                          </a:lnTo>
                          <a:lnTo>
                            <a:pt x="6" y="58"/>
                          </a:lnTo>
                          <a:lnTo>
                            <a:pt x="0" y="43"/>
                          </a:lnTo>
                          <a:lnTo>
                            <a:pt x="0" y="36"/>
                          </a:lnTo>
                          <a:lnTo>
                            <a:pt x="0" y="22"/>
                          </a:lnTo>
                          <a:lnTo>
                            <a:pt x="6" y="15"/>
                          </a:lnTo>
                          <a:lnTo>
                            <a:pt x="0" y="7"/>
                          </a:lnTo>
                          <a:lnTo>
                            <a:pt x="6" y="0"/>
                          </a:lnTo>
                          <a:lnTo>
                            <a:pt x="13" y="7"/>
                          </a:lnTo>
                          <a:lnTo>
                            <a:pt x="26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080" bIns="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5530320" y="2482200"/>
                      <a:ext cx="36720" cy="5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52">
                          <a:moveTo>
                            <a:pt x="18" y="0"/>
                          </a:moveTo>
                          <a:lnTo>
                            <a:pt x="12" y="0"/>
                          </a:lnTo>
                          <a:lnTo>
                            <a:pt x="12" y="7"/>
                          </a:lnTo>
                          <a:lnTo>
                            <a:pt x="12" y="15"/>
                          </a:lnTo>
                          <a:lnTo>
                            <a:pt x="6" y="29"/>
                          </a:lnTo>
                          <a:lnTo>
                            <a:pt x="0" y="44"/>
                          </a:lnTo>
                          <a:lnTo>
                            <a:pt x="6" y="51"/>
                          </a:lnTo>
                          <a:lnTo>
                            <a:pt x="18" y="22"/>
                          </a:lnTo>
                          <a:lnTo>
                            <a:pt x="18" y="15"/>
                          </a:lnTo>
                          <a:lnTo>
                            <a:pt x="25" y="7"/>
                          </a:lnTo>
                          <a:lnTo>
                            <a:pt x="18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5411880" y="2547360"/>
                      <a:ext cx="5508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73">
                          <a:moveTo>
                            <a:pt x="26" y="7"/>
                          </a:moveTo>
                          <a:lnTo>
                            <a:pt x="19" y="7"/>
                          </a:lnTo>
                          <a:lnTo>
                            <a:pt x="12" y="0"/>
                          </a:lnTo>
                          <a:lnTo>
                            <a:pt x="6" y="7"/>
                          </a:lnTo>
                          <a:lnTo>
                            <a:pt x="6" y="22"/>
                          </a:lnTo>
                          <a:lnTo>
                            <a:pt x="6" y="14"/>
                          </a:lnTo>
                          <a:lnTo>
                            <a:pt x="19" y="29"/>
                          </a:lnTo>
                          <a:lnTo>
                            <a:pt x="12" y="36"/>
                          </a:lnTo>
                          <a:lnTo>
                            <a:pt x="6" y="43"/>
                          </a:lnTo>
                          <a:lnTo>
                            <a:pt x="6" y="58"/>
                          </a:lnTo>
                          <a:lnTo>
                            <a:pt x="0" y="65"/>
                          </a:lnTo>
                          <a:lnTo>
                            <a:pt x="6" y="72"/>
                          </a:lnTo>
                          <a:lnTo>
                            <a:pt x="26" y="58"/>
                          </a:lnTo>
                          <a:lnTo>
                            <a:pt x="19" y="50"/>
                          </a:lnTo>
                          <a:lnTo>
                            <a:pt x="26" y="36"/>
                          </a:lnTo>
                          <a:lnTo>
                            <a:pt x="32" y="29"/>
                          </a:lnTo>
                          <a:lnTo>
                            <a:pt x="38" y="14"/>
                          </a:lnTo>
                          <a:lnTo>
                            <a:pt x="26" y="7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5439960" y="2595600"/>
                      <a:ext cx="3672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45">
                          <a:moveTo>
                            <a:pt x="13" y="0"/>
                          </a:moveTo>
                          <a:lnTo>
                            <a:pt x="25" y="7"/>
                          </a:lnTo>
                          <a:lnTo>
                            <a:pt x="19" y="22"/>
                          </a:lnTo>
                          <a:lnTo>
                            <a:pt x="19" y="29"/>
                          </a:lnTo>
                          <a:lnTo>
                            <a:pt x="6" y="44"/>
                          </a:lnTo>
                          <a:lnTo>
                            <a:pt x="0" y="36"/>
                          </a:lnTo>
                          <a:lnTo>
                            <a:pt x="6" y="15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5493600" y="2547360"/>
                      <a:ext cx="3780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66">
                          <a:moveTo>
                            <a:pt x="13" y="0"/>
                          </a:moveTo>
                          <a:lnTo>
                            <a:pt x="26" y="14"/>
                          </a:lnTo>
                          <a:lnTo>
                            <a:pt x="19" y="22"/>
                          </a:lnTo>
                          <a:lnTo>
                            <a:pt x="19" y="29"/>
                          </a:lnTo>
                          <a:lnTo>
                            <a:pt x="26" y="43"/>
                          </a:lnTo>
                          <a:lnTo>
                            <a:pt x="26" y="58"/>
                          </a:lnTo>
                          <a:lnTo>
                            <a:pt x="19" y="65"/>
                          </a:lnTo>
                          <a:lnTo>
                            <a:pt x="6" y="65"/>
                          </a:lnTo>
                          <a:lnTo>
                            <a:pt x="0" y="50"/>
                          </a:lnTo>
                          <a:lnTo>
                            <a:pt x="6" y="43"/>
                          </a:lnTo>
                          <a:lnTo>
                            <a:pt x="13" y="29"/>
                          </a:lnTo>
                          <a:lnTo>
                            <a:pt x="13" y="1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5555880" y="2441880"/>
                      <a:ext cx="173520" cy="20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82">
                          <a:moveTo>
                            <a:pt x="39" y="0"/>
                          </a:moveTo>
                          <a:lnTo>
                            <a:pt x="26" y="15"/>
                          </a:lnTo>
                          <a:lnTo>
                            <a:pt x="20" y="7"/>
                          </a:lnTo>
                          <a:lnTo>
                            <a:pt x="20" y="0"/>
                          </a:lnTo>
                          <a:lnTo>
                            <a:pt x="7" y="0"/>
                          </a:lnTo>
                          <a:lnTo>
                            <a:pt x="0" y="15"/>
                          </a:lnTo>
                          <a:lnTo>
                            <a:pt x="13" y="29"/>
                          </a:lnTo>
                          <a:lnTo>
                            <a:pt x="13" y="43"/>
                          </a:lnTo>
                          <a:lnTo>
                            <a:pt x="26" y="65"/>
                          </a:lnTo>
                          <a:lnTo>
                            <a:pt x="32" y="72"/>
                          </a:lnTo>
                          <a:lnTo>
                            <a:pt x="32" y="80"/>
                          </a:lnTo>
                          <a:lnTo>
                            <a:pt x="32" y="87"/>
                          </a:lnTo>
                          <a:lnTo>
                            <a:pt x="32" y="94"/>
                          </a:lnTo>
                          <a:lnTo>
                            <a:pt x="52" y="94"/>
                          </a:lnTo>
                          <a:lnTo>
                            <a:pt x="65" y="116"/>
                          </a:lnTo>
                          <a:lnTo>
                            <a:pt x="58" y="116"/>
                          </a:lnTo>
                          <a:lnTo>
                            <a:pt x="58" y="130"/>
                          </a:lnTo>
                          <a:lnTo>
                            <a:pt x="45" y="130"/>
                          </a:lnTo>
                          <a:lnTo>
                            <a:pt x="39" y="123"/>
                          </a:lnTo>
                          <a:lnTo>
                            <a:pt x="32" y="130"/>
                          </a:lnTo>
                          <a:lnTo>
                            <a:pt x="32" y="144"/>
                          </a:lnTo>
                          <a:lnTo>
                            <a:pt x="39" y="166"/>
                          </a:lnTo>
                          <a:lnTo>
                            <a:pt x="58" y="181"/>
                          </a:lnTo>
                          <a:lnTo>
                            <a:pt x="77" y="166"/>
                          </a:lnTo>
                          <a:lnTo>
                            <a:pt x="77" y="152"/>
                          </a:lnTo>
                          <a:lnTo>
                            <a:pt x="71" y="144"/>
                          </a:lnTo>
                          <a:lnTo>
                            <a:pt x="77" y="130"/>
                          </a:lnTo>
                          <a:lnTo>
                            <a:pt x="84" y="130"/>
                          </a:lnTo>
                          <a:lnTo>
                            <a:pt x="90" y="123"/>
                          </a:lnTo>
                          <a:lnTo>
                            <a:pt x="97" y="123"/>
                          </a:lnTo>
                          <a:lnTo>
                            <a:pt x="110" y="108"/>
                          </a:lnTo>
                          <a:lnTo>
                            <a:pt x="97" y="94"/>
                          </a:lnTo>
                          <a:lnTo>
                            <a:pt x="84" y="101"/>
                          </a:lnTo>
                          <a:lnTo>
                            <a:pt x="84" y="108"/>
                          </a:lnTo>
                          <a:lnTo>
                            <a:pt x="71" y="94"/>
                          </a:lnTo>
                          <a:lnTo>
                            <a:pt x="77" y="87"/>
                          </a:lnTo>
                          <a:lnTo>
                            <a:pt x="84" y="94"/>
                          </a:lnTo>
                          <a:lnTo>
                            <a:pt x="90" y="80"/>
                          </a:lnTo>
                          <a:lnTo>
                            <a:pt x="103" y="80"/>
                          </a:lnTo>
                          <a:lnTo>
                            <a:pt x="110" y="94"/>
                          </a:lnTo>
                          <a:lnTo>
                            <a:pt x="116" y="101"/>
                          </a:lnTo>
                          <a:lnTo>
                            <a:pt x="122" y="87"/>
                          </a:lnTo>
                          <a:lnTo>
                            <a:pt x="110" y="65"/>
                          </a:lnTo>
                          <a:lnTo>
                            <a:pt x="110" y="58"/>
                          </a:lnTo>
                          <a:lnTo>
                            <a:pt x="103" y="58"/>
                          </a:lnTo>
                          <a:lnTo>
                            <a:pt x="110" y="43"/>
                          </a:lnTo>
                          <a:lnTo>
                            <a:pt x="103" y="43"/>
                          </a:lnTo>
                          <a:lnTo>
                            <a:pt x="84" y="51"/>
                          </a:lnTo>
                          <a:lnTo>
                            <a:pt x="84" y="72"/>
                          </a:lnTo>
                          <a:lnTo>
                            <a:pt x="71" y="65"/>
                          </a:lnTo>
                          <a:lnTo>
                            <a:pt x="65" y="72"/>
                          </a:lnTo>
                          <a:lnTo>
                            <a:pt x="52" y="72"/>
                          </a:lnTo>
                          <a:lnTo>
                            <a:pt x="45" y="58"/>
                          </a:lnTo>
                          <a:lnTo>
                            <a:pt x="45" y="43"/>
                          </a:lnTo>
                          <a:lnTo>
                            <a:pt x="52" y="58"/>
                          </a:lnTo>
                          <a:lnTo>
                            <a:pt x="65" y="51"/>
                          </a:lnTo>
                          <a:lnTo>
                            <a:pt x="71" y="43"/>
                          </a:lnTo>
                          <a:lnTo>
                            <a:pt x="65" y="36"/>
                          </a:lnTo>
                          <a:lnTo>
                            <a:pt x="52" y="29"/>
                          </a:lnTo>
                          <a:lnTo>
                            <a:pt x="45" y="22"/>
                          </a:lnTo>
                          <a:lnTo>
                            <a:pt x="45" y="15"/>
                          </a:lnTo>
                          <a:lnTo>
                            <a:pt x="45" y="0"/>
                          </a:lnTo>
                          <a:lnTo>
                            <a:pt x="39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5538960" y="2547360"/>
                      <a:ext cx="5508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44">
                          <a:moveTo>
                            <a:pt x="32" y="0"/>
                          </a:moveTo>
                          <a:lnTo>
                            <a:pt x="38" y="7"/>
                          </a:lnTo>
                          <a:lnTo>
                            <a:pt x="38" y="14"/>
                          </a:lnTo>
                          <a:lnTo>
                            <a:pt x="38" y="22"/>
                          </a:lnTo>
                          <a:lnTo>
                            <a:pt x="19" y="36"/>
                          </a:lnTo>
                          <a:lnTo>
                            <a:pt x="6" y="43"/>
                          </a:lnTo>
                          <a:lnTo>
                            <a:pt x="0" y="36"/>
                          </a:lnTo>
                          <a:lnTo>
                            <a:pt x="6" y="22"/>
                          </a:lnTo>
                          <a:lnTo>
                            <a:pt x="12" y="14"/>
                          </a:lnTo>
                          <a:lnTo>
                            <a:pt x="32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6" name=""/>
                <p:cNvSpPr/>
                <p:nvPr/>
              </p:nvSpPr>
              <p:spPr>
                <a:xfrm>
                  <a:off x="4740120" y="3544200"/>
                  <a:ext cx="701640" cy="291600"/>
                </a:xfrm>
                <a:custGeom>
                  <a:avLst/>
                  <a:gdLst/>
                  <a:ahLst/>
                  <a:rect l="l" t="t" r="r" b="b"/>
                  <a:pathLst>
                    <a:path w="496" h="260">
                      <a:moveTo>
                        <a:pt x="77" y="194"/>
                      </a:moveTo>
                      <a:lnTo>
                        <a:pt x="77" y="180"/>
                      </a:lnTo>
                      <a:lnTo>
                        <a:pt x="64" y="173"/>
                      </a:lnTo>
                      <a:lnTo>
                        <a:pt x="32" y="137"/>
                      </a:lnTo>
                      <a:lnTo>
                        <a:pt x="26" y="115"/>
                      </a:lnTo>
                      <a:lnTo>
                        <a:pt x="12" y="115"/>
                      </a:lnTo>
                      <a:lnTo>
                        <a:pt x="12" y="93"/>
                      </a:lnTo>
                      <a:lnTo>
                        <a:pt x="6" y="79"/>
                      </a:lnTo>
                      <a:lnTo>
                        <a:pt x="0" y="65"/>
                      </a:lnTo>
                      <a:lnTo>
                        <a:pt x="6" y="57"/>
                      </a:lnTo>
                      <a:lnTo>
                        <a:pt x="12" y="57"/>
                      </a:lnTo>
                      <a:lnTo>
                        <a:pt x="38" y="50"/>
                      </a:lnTo>
                      <a:lnTo>
                        <a:pt x="102" y="14"/>
                      </a:lnTo>
                      <a:lnTo>
                        <a:pt x="116" y="0"/>
                      </a:lnTo>
                      <a:lnTo>
                        <a:pt x="122" y="14"/>
                      </a:lnTo>
                      <a:lnTo>
                        <a:pt x="134" y="7"/>
                      </a:lnTo>
                      <a:lnTo>
                        <a:pt x="148" y="7"/>
                      </a:lnTo>
                      <a:lnTo>
                        <a:pt x="160" y="14"/>
                      </a:lnTo>
                      <a:lnTo>
                        <a:pt x="160" y="28"/>
                      </a:lnTo>
                      <a:lnTo>
                        <a:pt x="180" y="50"/>
                      </a:lnTo>
                      <a:lnTo>
                        <a:pt x="186" y="57"/>
                      </a:lnTo>
                      <a:lnTo>
                        <a:pt x="192" y="72"/>
                      </a:lnTo>
                      <a:lnTo>
                        <a:pt x="199" y="79"/>
                      </a:lnTo>
                      <a:lnTo>
                        <a:pt x="206" y="72"/>
                      </a:lnTo>
                      <a:lnTo>
                        <a:pt x="218" y="65"/>
                      </a:lnTo>
                      <a:lnTo>
                        <a:pt x="224" y="65"/>
                      </a:lnTo>
                      <a:lnTo>
                        <a:pt x="250" y="93"/>
                      </a:lnTo>
                      <a:lnTo>
                        <a:pt x="276" y="108"/>
                      </a:lnTo>
                      <a:lnTo>
                        <a:pt x="282" y="108"/>
                      </a:lnTo>
                      <a:lnTo>
                        <a:pt x="302" y="101"/>
                      </a:lnTo>
                      <a:lnTo>
                        <a:pt x="314" y="101"/>
                      </a:lnTo>
                      <a:lnTo>
                        <a:pt x="334" y="122"/>
                      </a:lnTo>
                      <a:lnTo>
                        <a:pt x="334" y="129"/>
                      </a:lnTo>
                      <a:lnTo>
                        <a:pt x="347" y="122"/>
                      </a:lnTo>
                      <a:lnTo>
                        <a:pt x="360" y="122"/>
                      </a:lnTo>
                      <a:lnTo>
                        <a:pt x="372" y="144"/>
                      </a:lnTo>
                      <a:lnTo>
                        <a:pt x="392" y="151"/>
                      </a:lnTo>
                      <a:lnTo>
                        <a:pt x="398" y="151"/>
                      </a:lnTo>
                      <a:lnTo>
                        <a:pt x="405" y="144"/>
                      </a:lnTo>
                      <a:lnTo>
                        <a:pt x="418" y="144"/>
                      </a:lnTo>
                      <a:lnTo>
                        <a:pt x="437" y="151"/>
                      </a:lnTo>
                      <a:lnTo>
                        <a:pt x="469" y="158"/>
                      </a:lnTo>
                      <a:lnTo>
                        <a:pt x="495" y="166"/>
                      </a:lnTo>
                      <a:lnTo>
                        <a:pt x="488" y="180"/>
                      </a:lnTo>
                      <a:lnTo>
                        <a:pt x="469" y="194"/>
                      </a:lnTo>
                      <a:lnTo>
                        <a:pt x="469" y="202"/>
                      </a:lnTo>
                      <a:lnTo>
                        <a:pt x="469" y="216"/>
                      </a:lnTo>
                      <a:lnTo>
                        <a:pt x="456" y="216"/>
                      </a:lnTo>
                      <a:lnTo>
                        <a:pt x="443" y="209"/>
                      </a:lnTo>
                      <a:lnTo>
                        <a:pt x="430" y="202"/>
                      </a:lnTo>
                      <a:lnTo>
                        <a:pt x="398" y="209"/>
                      </a:lnTo>
                      <a:lnTo>
                        <a:pt x="392" y="216"/>
                      </a:lnTo>
                      <a:lnTo>
                        <a:pt x="385" y="230"/>
                      </a:lnTo>
                      <a:lnTo>
                        <a:pt x="366" y="245"/>
                      </a:lnTo>
                      <a:lnTo>
                        <a:pt x="360" y="245"/>
                      </a:lnTo>
                      <a:lnTo>
                        <a:pt x="347" y="230"/>
                      </a:lnTo>
                      <a:lnTo>
                        <a:pt x="340" y="230"/>
                      </a:lnTo>
                      <a:lnTo>
                        <a:pt x="308" y="252"/>
                      </a:lnTo>
                      <a:lnTo>
                        <a:pt x="289" y="259"/>
                      </a:lnTo>
                      <a:lnTo>
                        <a:pt x="276" y="259"/>
                      </a:lnTo>
                      <a:lnTo>
                        <a:pt x="250" y="259"/>
                      </a:lnTo>
                      <a:lnTo>
                        <a:pt x="244" y="259"/>
                      </a:lnTo>
                      <a:lnTo>
                        <a:pt x="231" y="245"/>
                      </a:lnTo>
                      <a:lnTo>
                        <a:pt x="231" y="238"/>
                      </a:lnTo>
                      <a:lnTo>
                        <a:pt x="218" y="238"/>
                      </a:lnTo>
                      <a:lnTo>
                        <a:pt x="218" y="230"/>
                      </a:lnTo>
                      <a:lnTo>
                        <a:pt x="212" y="216"/>
                      </a:lnTo>
                      <a:lnTo>
                        <a:pt x="212" y="202"/>
                      </a:lnTo>
                      <a:lnTo>
                        <a:pt x="192" y="187"/>
                      </a:lnTo>
                      <a:lnTo>
                        <a:pt x="180" y="194"/>
                      </a:lnTo>
                      <a:lnTo>
                        <a:pt x="166" y="194"/>
                      </a:lnTo>
                      <a:lnTo>
                        <a:pt x="160" y="180"/>
                      </a:lnTo>
                      <a:lnTo>
                        <a:pt x="128" y="180"/>
                      </a:lnTo>
                      <a:lnTo>
                        <a:pt x="122" y="187"/>
                      </a:lnTo>
                      <a:lnTo>
                        <a:pt x="116" y="194"/>
                      </a:lnTo>
                      <a:lnTo>
                        <a:pt x="102" y="194"/>
                      </a:lnTo>
                      <a:lnTo>
                        <a:pt x="90" y="194"/>
                      </a:lnTo>
                      <a:lnTo>
                        <a:pt x="77" y="194"/>
                      </a:lnTo>
                    </a:path>
                  </a:pathLst>
                </a:custGeom>
                <a:solidFill>
                  <a:srgbClr val="ffff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785120" y="3957120"/>
                  <a:ext cx="420120" cy="340560"/>
                </a:xfrm>
                <a:custGeom>
                  <a:avLst/>
                  <a:gdLst/>
                  <a:ahLst/>
                  <a:rect l="l" t="t" r="r" b="b"/>
                  <a:pathLst>
                    <a:path w="297" h="304">
                      <a:moveTo>
                        <a:pt x="0" y="72"/>
                      </a:moveTo>
                      <a:lnTo>
                        <a:pt x="6" y="93"/>
                      </a:lnTo>
                      <a:lnTo>
                        <a:pt x="12" y="108"/>
                      </a:lnTo>
                      <a:lnTo>
                        <a:pt x="20" y="122"/>
                      </a:lnTo>
                      <a:lnTo>
                        <a:pt x="26" y="122"/>
                      </a:lnTo>
                      <a:lnTo>
                        <a:pt x="32" y="115"/>
                      </a:lnTo>
                      <a:lnTo>
                        <a:pt x="38" y="108"/>
                      </a:lnTo>
                      <a:lnTo>
                        <a:pt x="45" y="93"/>
                      </a:lnTo>
                      <a:lnTo>
                        <a:pt x="58" y="101"/>
                      </a:lnTo>
                      <a:lnTo>
                        <a:pt x="64" y="101"/>
                      </a:lnTo>
                      <a:lnTo>
                        <a:pt x="70" y="108"/>
                      </a:lnTo>
                      <a:lnTo>
                        <a:pt x="70" y="122"/>
                      </a:lnTo>
                      <a:lnTo>
                        <a:pt x="70" y="137"/>
                      </a:lnTo>
                      <a:lnTo>
                        <a:pt x="84" y="151"/>
                      </a:lnTo>
                      <a:lnTo>
                        <a:pt x="96" y="166"/>
                      </a:lnTo>
                      <a:lnTo>
                        <a:pt x="90" y="173"/>
                      </a:lnTo>
                      <a:lnTo>
                        <a:pt x="78" y="173"/>
                      </a:lnTo>
                      <a:lnTo>
                        <a:pt x="84" y="180"/>
                      </a:lnTo>
                      <a:lnTo>
                        <a:pt x="128" y="231"/>
                      </a:lnTo>
                      <a:lnTo>
                        <a:pt x="128" y="238"/>
                      </a:lnTo>
                      <a:lnTo>
                        <a:pt x="142" y="238"/>
                      </a:lnTo>
                      <a:lnTo>
                        <a:pt x="148" y="238"/>
                      </a:lnTo>
                      <a:lnTo>
                        <a:pt x="168" y="252"/>
                      </a:lnTo>
                      <a:lnTo>
                        <a:pt x="186" y="267"/>
                      </a:lnTo>
                      <a:lnTo>
                        <a:pt x="186" y="274"/>
                      </a:lnTo>
                      <a:lnTo>
                        <a:pt x="193" y="288"/>
                      </a:lnTo>
                      <a:lnTo>
                        <a:pt x="200" y="281"/>
                      </a:lnTo>
                      <a:lnTo>
                        <a:pt x="212" y="288"/>
                      </a:lnTo>
                      <a:lnTo>
                        <a:pt x="218" y="295"/>
                      </a:lnTo>
                      <a:lnTo>
                        <a:pt x="226" y="303"/>
                      </a:lnTo>
                      <a:lnTo>
                        <a:pt x="226" y="295"/>
                      </a:lnTo>
                      <a:lnTo>
                        <a:pt x="226" y="281"/>
                      </a:lnTo>
                      <a:lnTo>
                        <a:pt x="232" y="274"/>
                      </a:lnTo>
                      <a:lnTo>
                        <a:pt x="232" y="267"/>
                      </a:lnTo>
                      <a:lnTo>
                        <a:pt x="218" y="252"/>
                      </a:lnTo>
                      <a:lnTo>
                        <a:pt x="200" y="223"/>
                      </a:lnTo>
                      <a:lnTo>
                        <a:pt x="186" y="209"/>
                      </a:lnTo>
                      <a:lnTo>
                        <a:pt x="180" y="209"/>
                      </a:lnTo>
                      <a:lnTo>
                        <a:pt x="174" y="209"/>
                      </a:lnTo>
                      <a:lnTo>
                        <a:pt x="160" y="202"/>
                      </a:lnTo>
                      <a:lnTo>
                        <a:pt x="154" y="194"/>
                      </a:lnTo>
                      <a:lnTo>
                        <a:pt x="148" y="180"/>
                      </a:lnTo>
                      <a:lnTo>
                        <a:pt x="148" y="166"/>
                      </a:lnTo>
                      <a:lnTo>
                        <a:pt x="135" y="151"/>
                      </a:lnTo>
                      <a:lnTo>
                        <a:pt x="110" y="122"/>
                      </a:lnTo>
                      <a:lnTo>
                        <a:pt x="110" y="115"/>
                      </a:lnTo>
                      <a:lnTo>
                        <a:pt x="122" y="108"/>
                      </a:lnTo>
                      <a:lnTo>
                        <a:pt x="154" y="122"/>
                      </a:lnTo>
                      <a:lnTo>
                        <a:pt x="180" y="93"/>
                      </a:lnTo>
                      <a:lnTo>
                        <a:pt x="200" y="115"/>
                      </a:lnTo>
                      <a:lnTo>
                        <a:pt x="206" y="115"/>
                      </a:lnTo>
                      <a:lnTo>
                        <a:pt x="206" y="122"/>
                      </a:lnTo>
                      <a:lnTo>
                        <a:pt x="212" y="115"/>
                      </a:lnTo>
                      <a:lnTo>
                        <a:pt x="226" y="115"/>
                      </a:lnTo>
                      <a:lnTo>
                        <a:pt x="238" y="115"/>
                      </a:lnTo>
                      <a:lnTo>
                        <a:pt x="251" y="108"/>
                      </a:lnTo>
                      <a:lnTo>
                        <a:pt x="270" y="115"/>
                      </a:lnTo>
                      <a:lnTo>
                        <a:pt x="276" y="122"/>
                      </a:lnTo>
                      <a:lnTo>
                        <a:pt x="290" y="122"/>
                      </a:lnTo>
                      <a:lnTo>
                        <a:pt x="290" y="115"/>
                      </a:lnTo>
                      <a:lnTo>
                        <a:pt x="296" y="101"/>
                      </a:lnTo>
                      <a:lnTo>
                        <a:pt x="290" y="93"/>
                      </a:lnTo>
                      <a:lnTo>
                        <a:pt x="276" y="86"/>
                      </a:lnTo>
                      <a:lnTo>
                        <a:pt x="276" y="72"/>
                      </a:lnTo>
                      <a:lnTo>
                        <a:pt x="276" y="65"/>
                      </a:lnTo>
                      <a:lnTo>
                        <a:pt x="276" y="57"/>
                      </a:lnTo>
                      <a:lnTo>
                        <a:pt x="264" y="50"/>
                      </a:lnTo>
                      <a:lnTo>
                        <a:pt x="258" y="50"/>
                      </a:lnTo>
                      <a:lnTo>
                        <a:pt x="251" y="57"/>
                      </a:lnTo>
                      <a:lnTo>
                        <a:pt x="244" y="65"/>
                      </a:lnTo>
                      <a:lnTo>
                        <a:pt x="238" y="65"/>
                      </a:lnTo>
                      <a:lnTo>
                        <a:pt x="226" y="50"/>
                      </a:lnTo>
                      <a:lnTo>
                        <a:pt x="212" y="43"/>
                      </a:lnTo>
                      <a:lnTo>
                        <a:pt x="206" y="43"/>
                      </a:lnTo>
                      <a:lnTo>
                        <a:pt x="193" y="36"/>
                      </a:lnTo>
                      <a:lnTo>
                        <a:pt x="168" y="7"/>
                      </a:lnTo>
                      <a:lnTo>
                        <a:pt x="160" y="0"/>
                      </a:lnTo>
                      <a:lnTo>
                        <a:pt x="142" y="28"/>
                      </a:lnTo>
                      <a:lnTo>
                        <a:pt x="128" y="21"/>
                      </a:lnTo>
                      <a:lnTo>
                        <a:pt x="122" y="36"/>
                      </a:lnTo>
                      <a:lnTo>
                        <a:pt x="116" y="43"/>
                      </a:lnTo>
                      <a:lnTo>
                        <a:pt x="84" y="79"/>
                      </a:lnTo>
                      <a:lnTo>
                        <a:pt x="64" y="72"/>
                      </a:lnTo>
                      <a:lnTo>
                        <a:pt x="45" y="72"/>
                      </a:lnTo>
                      <a:lnTo>
                        <a:pt x="32" y="72"/>
                      </a:lnTo>
                      <a:lnTo>
                        <a:pt x="20" y="79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80ff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5266440" y="4360680"/>
                  <a:ext cx="663120" cy="624960"/>
                  <a:chOff x="5266440" y="4360680"/>
                  <a:chExt cx="663120" cy="62496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5284440" y="4685040"/>
                    <a:ext cx="29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3">
                        <a:moveTo>
                          <a:pt x="13" y="0"/>
                        </a:moveTo>
                        <a:lnTo>
                          <a:pt x="20" y="7"/>
                        </a:lnTo>
                        <a:lnTo>
                          <a:pt x="20" y="14"/>
                        </a:lnTo>
                        <a:lnTo>
                          <a:pt x="20" y="22"/>
                        </a:lnTo>
                        <a:lnTo>
                          <a:pt x="13" y="22"/>
                        </a:lnTo>
                        <a:lnTo>
                          <a:pt x="6" y="22"/>
                        </a:lnTo>
                        <a:lnTo>
                          <a:pt x="0" y="14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339520" y="4700520"/>
                    <a:ext cx="20916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146">
                        <a:moveTo>
                          <a:pt x="19" y="0"/>
                        </a:moveTo>
                        <a:lnTo>
                          <a:pt x="13" y="8"/>
                        </a:lnTo>
                        <a:lnTo>
                          <a:pt x="19" y="15"/>
                        </a:lnTo>
                        <a:lnTo>
                          <a:pt x="6" y="22"/>
                        </a:lnTo>
                        <a:lnTo>
                          <a:pt x="0" y="29"/>
                        </a:lnTo>
                        <a:lnTo>
                          <a:pt x="0" y="37"/>
                        </a:lnTo>
                        <a:lnTo>
                          <a:pt x="26" y="51"/>
                        </a:lnTo>
                        <a:lnTo>
                          <a:pt x="32" y="73"/>
                        </a:lnTo>
                        <a:lnTo>
                          <a:pt x="38" y="101"/>
                        </a:lnTo>
                        <a:lnTo>
                          <a:pt x="45" y="116"/>
                        </a:lnTo>
                        <a:lnTo>
                          <a:pt x="58" y="101"/>
                        </a:lnTo>
                        <a:lnTo>
                          <a:pt x="71" y="123"/>
                        </a:lnTo>
                        <a:lnTo>
                          <a:pt x="83" y="145"/>
                        </a:lnTo>
                        <a:lnTo>
                          <a:pt x="89" y="130"/>
                        </a:lnTo>
                        <a:lnTo>
                          <a:pt x="83" y="116"/>
                        </a:lnTo>
                        <a:lnTo>
                          <a:pt x="89" y="116"/>
                        </a:lnTo>
                        <a:lnTo>
                          <a:pt x="115" y="130"/>
                        </a:lnTo>
                        <a:lnTo>
                          <a:pt x="121" y="130"/>
                        </a:lnTo>
                        <a:lnTo>
                          <a:pt x="121" y="123"/>
                        </a:lnTo>
                        <a:lnTo>
                          <a:pt x="109" y="94"/>
                        </a:lnTo>
                        <a:lnTo>
                          <a:pt x="103" y="73"/>
                        </a:lnTo>
                        <a:lnTo>
                          <a:pt x="96" y="58"/>
                        </a:lnTo>
                        <a:lnTo>
                          <a:pt x="103" y="58"/>
                        </a:lnTo>
                        <a:lnTo>
                          <a:pt x="115" y="65"/>
                        </a:lnTo>
                        <a:lnTo>
                          <a:pt x="128" y="73"/>
                        </a:lnTo>
                        <a:lnTo>
                          <a:pt x="135" y="65"/>
                        </a:lnTo>
                        <a:lnTo>
                          <a:pt x="147" y="65"/>
                        </a:lnTo>
                        <a:lnTo>
                          <a:pt x="135" y="44"/>
                        </a:lnTo>
                        <a:lnTo>
                          <a:pt x="121" y="44"/>
                        </a:lnTo>
                        <a:lnTo>
                          <a:pt x="115" y="37"/>
                        </a:lnTo>
                        <a:lnTo>
                          <a:pt x="109" y="22"/>
                        </a:lnTo>
                        <a:lnTo>
                          <a:pt x="103" y="29"/>
                        </a:lnTo>
                        <a:lnTo>
                          <a:pt x="89" y="22"/>
                        </a:lnTo>
                        <a:lnTo>
                          <a:pt x="77" y="0"/>
                        </a:lnTo>
                        <a:lnTo>
                          <a:pt x="64" y="8"/>
                        </a:lnTo>
                        <a:lnTo>
                          <a:pt x="51" y="8"/>
                        </a:lnTo>
                        <a:lnTo>
                          <a:pt x="38" y="0"/>
                        </a:lnTo>
                        <a:lnTo>
                          <a:pt x="32" y="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266440" y="4360680"/>
                    <a:ext cx="491760" cy="39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8" h="355">
                        <a:moveTo>
                          <a:pt x="71" y="87"/>
                        </a:moveTo>
                        <a:lnTo>
                          <a:pt x="65" y="94"/>
                        </a:lnTo>
                        <a:lnTo>
                          <a:pt x="58" y="123"/>
                        </a:lnTo>
                        <a:lnTo>
                          <a:pt x="45" y="152"/>
                        </a:lnTo>
                        <a:lnTo>
                          <a:pt x="45" y="159"/>
                        </a:lnTo>
                        <a:lnTo>
                          <a:pt x="39" y="166"/>
                        </a:lnTo>
                        <a:lnTo>
                          <a:pt x="33" y="174"/>
                        </a:lnTo>
                        <a:lnTo>
                          <a:pt x="20" y="181"/>
                        </a:lnTo>
                        <a:lnTo>
                          <a:pt x="13" y="188"/>
                        </a:lnTo>
                        <a:lnTo>
                          <a:pt x="0" y="188"/>
                        </a:lnTo>
                        <a:lnTo>
                          <a:pt x="13" y="217"/>
                        </a:lnTo>
                        <a:lnTo>
                          <a:pt x="26" y="239"/>
                        </a:lnTo>
                        <a:lnTo>
                          <a:pt x="39" y="239"/>
                        </a:lnTo>
                        <a:lnTo>
                          <a:pt x="45" y="239"/>
                        </a:lnTo>
                        <a:lnTo>
                          <a:pt x="52" y="246"/>
                        </a:lnTo>
                        <a:lnTo>
                          <a:pt x="39" y="253"/>
                        </a:lnTo>
                        <a:lnTo>
                          <a:pt x="39" y="267"/>
                        </a:lnTo>
                        <a:lnTo>
                          <a:pt x="45" y="282"/>
                        </a:lnTo>
                        <a:lnTo>
                          <a:pt x="58" y="296"/>
                        </a:lnTo>
                        <a:lnTo>
                          <a:pt x="65" y="303"/>
                        </a:lnTo>
                        <a:lnTo>
                          <a:pt x="65" y="289"/>
                        </a:lnTo>
                        <a:lnTo>
                          <a:pt x="77" y="289"/>
                        </a:lnTo>
                        <a:lnTo>
                          <a:pt x="84" y="296"/>
                        </a:lnTo>
                        <a:lnTo>
                          <a:pt x="90" y="289"/>
                        </a:lnTo>
                        <a:lnTo>
                          <a:pt x="103" y="289"/>
                        </a:lnTo>
                        <a:lnTo>
                          <a:pt x="129" y="296"/>
                        </a:lnTo>
                        <a:lnTo>
                          <a:pt x="148" y="303"/>
                        </a:lnTo>
                        <a:lnTo>
                          <a:pt x="155" y="311"/>
                        </a:lnTo>
                        <a:lnTo>
                          <a:pt x="161" y="325"/>
                        </a:lnTo>
                        <a:lnTo>
                          <a:pt x="167" y="332"/>
                        </a:lnTo>
                        <a:lnTo>
                          <a:pt x="174" y="325"/>
                        </a:lnTo>
                        <a:lnTo>
                          <a:pt x="187" y="318"/>
                        </a:lnTo>
                        <a:lnTo>
                          <a:pt x="199" y="332"/>
                        </a:lnTo>
                        <a:lnTo>
                          <a:pt x="219" y="354"/>
                        </a:lnTo>
                        <a:lnTo>
                          <a:pt x="225" y="347"/>
                        </a:lnTo>
                        <a:lnTo>
                          <a:pt x="225" y="332"/>
                        </a:lnTo>
                        <a:lnTo>
                          <a:pt x="225" y="318"/>
                        </a:lnTo>
                        <a:lnTo>
                          <a:pt x="225" y="303"/>
                        </a:lnTo>
                        <a:lnTo>
                          <a:pt x="213" y="289"/>
                        </a:lnTo>
                        <a:lnTo>
                          <a:pt x="213" y="296"/>
                        </a:lnTo>
                        <a:lnTo>
                          <a:pt x="193" y="289"/>
                        </a:lnTo>
                        <a:lnTo>
                          <a:pt x="174" y="267"/>
                        </a:lnTo>
                        <a:lnTo>
                          <a:pt x="167" y="260"/>
                        </a:lnTo>
                        <a:lnTo>
                          <a:pt x="155" y="260"/>
                        </a:lnTo>
                        <a:lnTo>
                          <a:pt x="148" y="253"/>
                        </a:lnTo>
                        <a:lnTo>
                          <a:pt x="148" y="246"/>
                        </a:lnTo>
                        <a:lnTo>
                          <a:pt x="155" y="239"/>
                        </a:lnTo>
                        <a:lnTo>
                          <a:pt x="155" y="224"/>
                        </a:lnTo>
                        <a:lnTo>
                          <a:pt x="148" y="217"/>
                        </a:lnTo>
                        <a:lnTo>
                          <a:pt x="155" y="210"/>
                        </a:lnTo>
                        <a:lnTo>
                          <a:pt x="161" y="224"/>
                        </a:lnTo>
                        <a:lnTo>
                          <a:pt x="174" y="231"/>
                        </a:lnTo>
                        <a:lnTo>
                          <a:pt x="174" y="217"/>
                        </a:lnTo>
                        <a:lnTo>
                          <a:pt x="167" y="202"/>
                        </a:lnTo>
                        <a:lnTo>
                          <a:pt x="155" y="188"/>
                        </a:lnTo>
                        <a:lnTo>
                          <a:pt x="141" y="159"/>
                        </a:lnTo>
                        <a:lnTo>
                          <a:pt x="135" y="145"/>
                        </a:lnTo>
                        <a:lnTo>
                          <a:pt x="135" y="137"/>
                        </a:lnTo>
                        <a:lnTo>
                          <a:pt x="135" y="123"/>
                        </a:lnTo>
                        <a:lnTo>
                          <a:pt x="135" y="116"/>
                        </a:lnTo>
                        <a:lnTo>
                          <a:pt x="141" y="109"/>
                        </a:lnTo>
                        <a:lnTo>
                          <a:pt x="141" y="116"/>
                        </a:lnTo>
                        <a:lnTo>
                          <a:pt x="148" y="130"/>
                        </a:lnTo>
                        <a:lnTo>
                          <a:pt x="155" y="130"/>
                        </a:lnTo>
                        <a:lnTo>
                          <a:pt x="155" y="137"/>
                        </a:lnTo>
                        <a:lnTo>
                          <a:pt x="180" y="166"/>
                        </a:lnTo>
                        <a:lnTo>
                          <a:pt x="187" y="159"/>
                        </a:lnTo>
                        <a:lnTo>
                          <a:pt x="180" y="145"/>
                        </a:lnTo>
                        <a:lnTo>
                          <a:pt x="187" y="145"/>
                        </a:lnTo>
                        <a:lnTo>
                          <a:pt x="199" y="152"/>
                        </a:lnTo>
                        <a:lnTo>
                          <a:pt x="206" y="159"/>
                        </a:lnTo>
                        <a:lnTo>
                          <a:pt x="213" y="152"/>
                        </a:lnTo>
                        <a:lnTo>
                          <a:pt x="199" y="137"/>
                        </a:lnTo>
                        <a:lnTo>
                          <a:pt x="199" y="130"/>
                        </a:lnTo>
                        <a:lnTo>
                          <a:pt x="206" y="130"/>
                        </a:lnTo>
                        <a:lnTo>
                          <a:pt x="225" y="137"/>
                        </a:lnTo>
                        <a:lnTo>
                          <a:pt x="231" y="137"/>
                        </a:lnTo>
                        <a:lnTo>
                          <a:pt x="231" y="123"/>
                        </a:lnTo>
                        <a:lnTo>
                          <a:pt x="219" y="123"/>
                        </a:lnTo>
                        <a:lnTo>
                          <a:pt x="206" y="116"/>
                        </a:lnTo>
                        <a:lnTo>
                          <a:pt x="199" y="109"/>
                        </a:lnTo>
                        <a:lnTo>
                          <a:pt x="199" y="101"/>
                        </a:lnTo>
                        <a:lnTo>
                          <a:pt x="199" y="94"/>
                        </a:lnTo>
                        <a:lnTo>
                          <a:pt x="219" y="87"/>
                        </a:lnTo>
                        <a:lnTo>
                          <a:pt x="238" y="80"/>
                        </a:lnTo>
                        <a:lnTo>
                          <a:pt x="257" y="87"/>
                        </a:lnTo>
                        <a:lnTo>
                          <a:pt x="283" y="80"/>
                        </a:lnTo>
                        <a:lnTo>
                          <a:pt x="289" y="73"/>
                        </a:lnTo>
                        <a:lnTo>
                          <a:pt x="303" y="80"/>
                        </a:lnTo>
                        <a:lnTo>
                          <a:pt x="321" y="94"/>
                        </a:lnTo>
                        <a:lnTo>
                          <a:pt x="327" y="73"/>
                        </a:lnTo>
                        <a:lnTo>
                          <a:pt x="341" y="51"/>
                        </a:lnTo>
                        <a:lnTo>
                          <a:pt x="347" y="44"/>
                        </a:lnTo>
                        <a:lnTo>
                          <a:pt x="347" y="15"/>
                        </a:lnTo>
                        <a:lnTo>
                          <a:pt x="347" y="8"/>
                        </a:lnTo>
                        <a:lnTo>
                          <a:pt x="335" y="0"/>
                        </a:lnTo>
                        <a:lnTo>
                          <a:pt x="327" y="0"/>
                        </a:lnTo>
                        <a:lnTo>
                          <a:pt x="321" y="8"/>
                        </a:lnTo>
                        <a:lnTo>
                          <a:pt x="321" y="22"/>
                        </a:lnTo>
                        <a:lnTo>
                          <a:pt x="327" y="29"/>
                        </a:lnTo>
                        <a:lnTo>
                          <a:pt x="315" y="36"/>
                        </a:lnTo>
                        <a:lnTo>
                          <a:pt x="303" y="44"/>
                        </a:lnTo>
                        <a:lnTo>
                          <a:pt x="295" y="44"/>
                        </a:lnTo>
                        <a:lnTo>
                          <a:pt x="277" y="36"/>
                        </a:lnTo>
                        <a:lnTo>
                          <a:pt x="270" y="36"/>
                        </a:lnTo>
                        <a:lnTo>
                          <a:pt x="263" y="44"/>
                        </a:lnTo>
                        <a:lnTo>
                          <a:pt x="245" y="22"/>
                        </a:lnTo>
                        <a:lnTo>
                          <a:pt x="231" y="36"/>
                        </a:lnTo>
                        <a:lnTo>
                          <a:pt x="219" y="44"/>
                        </a:lnTo>
                        <a:lnTo>
                          <a:pt x="206" y="51"/>
                        </a:lnTo>
                        <a:lnTo>
                          <a:pt x="187" y="51"/>
                        </a:lnTo>
                        <a:lnTo>
                          <a:pt x="174" y="58"/>
                        </a:lnTo>
                        <a:lnTo>
                          <a:pt x="161" y="58"/>
                        </a:lnTo>
                        <a:lnTo>
                          <a:pt x="148" y="73"/>
                        </a:lnTo>
                        <a:lnTo>
                          <a:pt x="141" y="73"/>
                        </a:lnTo>
                        <a:lnTo>
                          <a:pt x="123" y="80"/>
                        </a:lnTo>
                        <a:lnTo>
                          <a:pt x="109" y="73"/>
                        </a:lnTo>
                        <a:lnTo>
                          <a:pt x="103" y="94"/>
                        </a:lnTo>
                        <a:lnTo>
                          <a:pt x="90" y="94"/>
                        </a:lnTo>
                        <a:lnTo>
                          <a:pt x="77" y="94"/>
                        </a:lnTo>
                        <a:lnTo>
                          <a:pt x="71" y="87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5510880" y="4628520"/>
                    <a:ext cx="11988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0">
                        <a:moveTo>
                          <a:pt x="6" y="0"/>
                        </a:moveTo>
                        <a:lnTo>
                          <a:pt x="0" y="7"/>
                        </a:lnTo>
                        <a:lnTo>
                          <a:pt x="6" y="28"/>
                        </a:lnTo>
                        <a:lnTo>
                          <a:pt x="20" y="28"/>
                        </a:lnTo>
                        <a:lnTo>
                          <a:pt x="32" y="43"/>
                        </a:lnTo>
                        <a:lnTo>
                          <a:pt x="39" y="50"/>
                        </a:lnTo>
                        <a:lnTo>
                          <a:pt x="58" y="64"/>
                        </a:lnTo>
                        <a:lnTo>
                          <a:pt x="71" y="72"/>
                        </a:lnTo>
                        <a:lnTo>
                          <a:pt x="84" y="79"/>
                        </a:lnTo>
                        <a:lnTo>
                          <a:pt x="58" y="50"/>
                        </a:lnTo>
                        <a:lnTo>
                          <a:pt x="58" y="43"/>
                        </a:lnTo>
                        <a:lnTo>
                          <a:pt x="52" y="36"/>
                        </a:lnTo>
                        <a:lnTo>
                          <a:pt x="46" y="21"/>
                        </a:lnTo>
                        <a:lnTo>
                          <a:pt x="39" y="21"/>
                        </a:lnTo>
                        <a:lnTo>
                          <a:pt x="26" y="14"/>
                        </a:lnTo>
                        <a:lnTo>
                          <a:pt x="20" y="7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547600" y="4928400"/>
                    <a:ext cx="2289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51">
                        <a:moveTo>
                          <a:pt x="32" y="7"/>
                        </a:moveTo>
                        <a:lnTo>
                          <a:pt x="45" y="7"/>
                        </a:lnTo>
                        <a:lnTo>
                          <a:pt x="52" y="7"/>
                        </a:lnTo>
                        <a:lnTo>
                          <a:pt x="58" y="14"/>
                        </a:lnTo>
                        <a:lnTo>
                          <a:pt x="64" y="7"/>
                        </a:lnTo>
                        <a:lnTo>
                          <a:pt x="71" y="7"/>
                        </a:lnTo>
                        <a:lnTo>
                          <a:pt x="96" y="7"/>
                        </a:lnTo>
                        <a:lnTo>
                          <a:pt x="122" y="7"/>
                        </a:lnTo>
                        <a:lnTo>
                          <a:pt x="128" y="14"/>
                        </a:lnTo>
                        <a:lnTo>
                          <a:pt x="128" y="21"/>
                        </a:lnTo>
                        <a:lnTo>
                          <a:pt x="148" y="14"/>
                        </a:lnTo>
                        <a:lnTo>
                          <a:pt x="154" y="14"/>
                        </a:lnTo>
                        <a:lnTo>
                          <a:pt x="161" y="21"/>
                        </a:lnTo>
                        <a:lnTo>
                          <a:pt x="154" y="28"/>
                        </a:lnTo>
                        <a:lnTo>
                          <a:pt x="141" y="28"/>
                        </a:lnTo>
                        <a:lnTo>
                          <a:pt x="128" y="36"/>
                        </a:lnTo>
                        <a:lnTo>
                          <a:pt x="116" y="36"/>
                        </a:lnTo>
                        <a:lnTo>
                          <a:pt x="96" y="43"/>
                        </a:lnTo>
                        <a:lnTo>
                          <a:pt x="77" y="50"/>
                        </a:lnTo>
                        <a:lnTo>
                          <a:pt x="71" y="43"/>
                        </a:lnTo>
                        <a:lnTo>
                          <a:pt x="52" y="28"/>
                        </a:lnTo>
                        <a:lnTo>
                          <a:pt x="38" y="28"/>
                        </a:lnTo>
                        <a:lnTo>
                          <a:pt x="13" y="28"/>
                        </a:lnTo>
                        <a:lnTo>
                          <a:pt x="6" y="21"/>
                        </a:lnTo>
                        <a:lnTo>
                          <a:pt x="0" y="7"/>
                        </a:lnTo>
                        <a:lnTo>
                          <a:pt x="6" y="0"/>
                        </a:lnTo>
                        <a:lnTo>
                          <a:pt x="20" y="7"/>
                        </a:lnTo>
                        <a:lnTo>
                          <a:pt x="32" y="7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5648040" y="4531320"/>
                    <a:ext cx="367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3">
                        <a:moveTo>
                          <a:pt x="25" y="0"/>
                        </a:moveTo>
                        <a:lnTo>
                          <a:pt x="6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0" y="22"/>
                        </a:lnTo>
                        <a:lnTo>
                          <a:pt x="6" y="22"/>
                        </a:lnTo>
                        <a:lnTo>
                          <a:pt x="19" y="14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5874120" y="4790160"/>
                    <a:ext cx="4644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2">
                        <a:moveTo>
                          <a:pt x="32" y="7"/>
                        </a:moveTo>
                        <a:lnTo>
                          <a:pt x="20" y="21"/>
                        </a:lnTo>
                        <a:lnTo>
                          <a:pt x="6" y="21"/>
                        </a:lnTo>
                        <a:lnTo>
                          <a:pt x="0" y="14"/>
                        </a:lnTo>
                        <a:lnTo>
                          <a:pt x="6" y="7"/>
                        </a:lnTo>
                        <a:lnTo>
                          <a:pt x="26" y="0"/>
                        </a:lnTo>
                        <a:lnTo>
                          <a:pt x="32" y="7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5882760" y="4846320"/>
                    <a:ext cx="468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0">
                        <a:moveTo>
                          <a:pt x="32" y="0"/>
                        </a:moveTo>
                        <a:lnTo>
                          <a:pt x="32" y="8"/>
                        </a:lnTo>
                        <a:lnTo>
                          <a:pt x="13" y="22"/>
                        </a:lnTo>
                        <a:lnTo>
                          <a:pt x="6" y="29"/>
                        </a:lnTo>
                        <a:lnTo>
                          <a:pt x="0" y="29"/>
                        </a:lnTo>
                        <a:lnTo>
                          <a:pt x="6" y="15"/>
                        </a:lnTo>
                        <a:lnTo>
                          <a:pt x="20" y="0"/>
                        </a:lnTo>
                        <a:lnTo>
                          <a:pt x="32" y="0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5711760" y="4579200"/>
                    <a:ext cx="55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19" y="0"/>
                        </a:moveTo>
                        <a:lnTo>
                          <a:pt x="38" y="22"/>
                        </a:lnTo>
                        <a:lnTo>
                          <a:pt x="38" y="29"/>
                        </a:lnTo>
                        <a:lnTo>
                          <a:pt x="26" y="29"/>
                        </a:lnTo>
                        <a:lnTo>
                          <a:pt x="26" y="22"/>
                        </a:lnTo>
                        <a:lnTo>
                          <a:pt x="19" y="22"/>
                        </a:lnTo>
                        <a:lnTo>
                          <a:pt x="12" y="22"/>
                        </a:lnTo>
                        <a:lnTo>
                          <a:pt x="6" y="15"/>
                        </a:lnTo>
                        <a:lnTo>
                          <a:pt x="6" y="7"/>
                        </a:lnTo>
                        <a:lnTo>
                          <a:pt x="0" y="15"/>
                        </a:lnTo>
                        <a:lnTo>
                          <a:pt x="0" y="7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3615840" y="3438720"/>
                  <a:ext cx="864000" cy="914760"/>
                  <a:chOff x="3615840" y="3438720"/>
                  <a:chExt cx="864000" cy="91476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4404600" y="4231440"/>
                    <a:ext cx="7488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09">
                        <a:moveTo>
                          <a:pt x="52" y="0"/>
                        </a:moveTo>
                        <a:lnTo>
                          <a:pt x="32" y="22"/>
                        </a:lnTo>
                        <a:lnTo>
                          <a:pt x="13" y="22"/>
                        </a:lnTo>
                        <a:lnTo>
                          <a:pt x="0" y="36"/>
                        </a:lnTo>
                        <a:lnTo>
                          <a:pt x="0" y="58"/>
                        </a:lnTo>
                        <a:lnTo>
                          <a:pt x="0" y="87"/>
                        </a:lnTo>
                        <a:lnTo>
                          <a:pt x="13" y="108"/>
                        </a:lnTo>
                        <a:lnTo>
                          <a:pt x="26" y="101"/>
                        </a:lnTo>
                        <a:lnTo>
                          <a:pt x="32" y="87"/>
                        </a:lnTo>
                        <a:lnTo>
                          <a:pt x="45" y="58"/>
                        </a:lnTo>
                        <a:lnTo>
                          <a:pt x="45" y="43"/>
                        </a:lnTo>
                        <a:lnTo>
                          <a:pt x="52" y="0"/>
                        </a:lnTo>
                      </a:path>
                    </a:pathLst>
                  </a:custGeom>
                  <a:solidFill>
                    <a:srgbClr val="ffff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3615840" y="3438720"/>
                    <a:ext cx="864000" cy="75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672">
                        <a:moveTo>
                          <a:pt x="12" y="94"/>
                        </a:moveTo>
                        <a:lnTo>
                          <a:pt x="20" y="108"/>
                        </a:lnTo>
                        <a:lnTo>
                          <a:pt x="12" y="122"/>
                        </a:lnTo>
                        <a:lnTo>
                          <a:pt x="6" y="130"/>
                        </a:lnTo>
                        <a:lnTo>
                          <a:pt x="0" y="122"/>
                        </a:lnTo>
                        <a:lnTo>
                          <a:pt x="6" y="137"/>
                        </a:lnTo>
                        <a:lnTo>
                          <a:pt x="6" y="144"/>
                        </a:lnTo>
                        <a:lnTo>
                          <a:pt x="12" y="159"/>
                        </a:lnTo>
                        <a:lnTo>
                          <a:pt x="26" y="151"/>
                        </a:lnTo>
                        <a:lnTo>
                          <a:pt x="45" y="173"/>
                        </a:lnTo>
                        <a:lnTo>
                          <a:pt x="52" y="187"/>
                        </a:lnTo>
                        <a:lnTo>
                          <a:pt x="58" y="195"/>
                        </a:lnTo>
                        <a:lnTo>
                          <a:pt x="70" y="195"/>
                        </a:lnTo>
                        <a:lnTo>
                          <a:pt x="77" y="209"/>
                        </a:lnTo>
                        <a:lnTo>
                          <a:pt x="90" y="223"/>
                        </a:lnTo>
                        <a:lnTo>
                          <a:pt x="96" y="223"/>
                        </a:lnTo>
                        <a:lnTo>
                          <a:pt x="102" y="231"/>
                        </a:lnTo>
                        <a:lnTo>
                          <a:pt x="96" y="238"/>
                        </a:lnTo>
                        <a:lnTo>
                          <a:pt x="96" y="252"/>
                        </a:lnTo>
                        <a:lnTo>
                          <a:pt x="96" y="260"/>
                        </a:lnTo>
                        <a:lnTo>
                          <a:pt x="90" y="281"/>
                        </a:lnTo>
                        <a:lnTo>
                          <a:pt x="102" y="296"/>
                        </a:lnTo>
                        <a:lnTo>
                          <a:pt x="116" y="303"/>
                        </a:lnTo>
                        <a:lnTo>
                          <a:pt x="116" y="317"/>
                        </a:lnTo>
                        <a:lnTo>
                          <a:pt x="116" y="339"/>
                        </a:lnTo>
                        <a:lnTo>
                          <a:pt x="109" y="368"/>
                        </a:lnTo>
                        <a:lnTo>
                          <a:pt x="116" y="375"/>
                        </a:lnTo>
                        <a:lnTo>
                          <a:pt x="128" y="382"/>
                        </a:lnTo>
                        <a:lnTo>
                          <a:pt x="128" y="404"/>
                        </a:lnTo>
                        <a:lnTo>
                          <a:pt x="128" y="418"/>
                        </a:lnTo>
                        <a:lnTo>
                          <a:pt x="116" y="397"/>
                        </a:lnTo>
                        <a:lnTo>
                          <a:pt x="109" y="382"/>
                        </a:lnTo>
                        <a:lnTo>
                          <a:pt x="102" y="389"/>
                        </a:lnTo>
                        <a:lnTo>
                          <a:pt x="102" y="397"/>
                        </a:lnTo>
                        <a:lnTo>
                          <a:pt x="102" y="411"/>
                        </a:lnTo>
                        <a:lnTo>
                          <a:pt x="90" y="426"/>
                        </a:lnTo>
                        <a:lnTo>
                          <a:pt x="90" y="433"/>
                        </a:lnTo>
                        <a:lnTo>
                          <a:pt x="96" y="440"/>
                        </a:lnTo>
                        <a:lnTo>
                          <a:pt x="90" y="447"/>
                        </a:lnTo>
                        <a:lnTo>
                          <a:pt x="77" y="462"/>
                        </a:lnTo>
                        <a:lnTo>
                          <a:pt x="77" y="469"/>
                        </a:lnTo>
                        <a:lnTo>
                          <a:pt x="70" y="483"/>
                        </a:lnTo>
                        <a:lnTo>
                          <a:pt x="58" y="505"/>
                        </a:lnTo>
                        <a:lnTo>
                          <a:pt x="45" y="527"/>
                        </a:lnTo>
                        <a:lnTo>
                          <a:pt x="52" y="534"/>
                        </a:lnTo>
                        <a:lnTo>
                          <a:pt x="45" y="541"/>
                        </a:lnTo>
                        <a:lnTo>
                          <a:pt x="45" y="555"/>
                        </a:lnTo>
                        <a:lnTo>
                          <a:pt x="58" y="570"/>
                        </a:lnTo>
                        <a:lnTo>
                          <a:pt x="96" y="591"/>
                        </a:lnTo>
                        <a:lnTo>
                          <a:pt x="122" y="620"/>
                        </a:lnTo>
                        <a:lnTo>
                          <a:pt x="128" y="613"/>
                        </a:lnTo>
                        <a:lnTo>
                          <a:pt x="141" y="613"/>
                        </a:lnTo>
                        <a:lnTo>
                          <a:pt x="186" y="635"/>
                        </a:lnTo>
                        <a:lnTo>
                          <a:pt x="193" y="642"/>
                        </a:lnTo>
                        <a:lnTo>
                          <a:pt x="199" y="656"/>
                        </a:lnTo>
                        <a:lnTo>
                          <a:pt x="205" y="656"/>
                        </a:lnTo>
                        <a:lnTo>
                          <a:pt x="218" y="656"/>
                        </a:lnTo>
                        <a:lnTo>
                          <a:pt x="231" y="671"/>
                        </a:lnTo>
                        <a:lnTo>
                          <a:pt x="263" y="671"/>
                        </a:lnTo>
                        <a:lnTo>
                          <a:pt x="269" y="656"/>
                        </a:lnTo>
                        <a:lnTo>
                          <a:pt x="269" y="649"/>
                        </a:lnTo>
                        <a:lnTo>
                          <a:pt x="269" y="635"/>
                        </a:lnTo>
                        <a:lnTo>
                          <a:pt x="283" y="620"/>
                        </a:lnTo>
                        <a:lnTo>
                          <a:pt x="308" y="606"/>
                        </a:lnTo>
                        <a:lnTo>
                          <a:pt x="315" y="606"/>
                        </a:lnTo>
                        <a:lnTo>
                          <a:pt x="327" y="599"/>
                        </a:lnTo>
                        <a:lnTo>
                          <a:pt x="340" y="599"/>
                        </a:lnTo>
                        <a:lnTo>
                          <a:pt x="353" y="606"/>
                        </a:lnTo>
                        <a:lnTo>
                          <a:pt x="359" y="620"/>
                        </a:lnTo>
                        <a:lnTo>
                          <a:pt x="373" y="620"/>
                        </a:lnTo>
                        <a:lnTo>
                          <a:pt x="379" y="620"/>
                        </a:lnTo>
                        <a:lnTo>
                          <a:pt x="397" y="620"/>
                        </a:lnTo>
                        <a:lnTo>
                          <a:pt x="411" y="642"/>
                        </a:lnTo>
                        <a:lnTo>
                          <a:pt x="417" y="649"/>
                        </a:lnTo>
                        <a:lnTo>
                          <a:pt x="437" y="656"/>
                        </a:lnTo>
                        <a:lnTo>
                          <a:pt x="449" y="664"/>
                        </a:lnTo>
                        <a:lnTo>
                          <a:pt x="455" y="664"/>
                        </a:lnTo>
                        <a:lnTo>
                          <a:pt x="475" y="642"/>
                        </a:lnTo>
                        <a:lnTo>
                          <a:pt x="481" y="642"/>
                        </a:lnTo>
                        <a:lnTo>
                          <a:pt x="494" y="635"/>
                        </a:lnTo>
                        <a:lnTo>
                          <a:pt x="507" y="620"/>
                        </a:lnTo>
                        <a:lnTo>
                          <a:pt x="520" y="620"/>
                        </a:lnTo>
                        <a:lnTo>
                          <a:pt x="520" y="599"/>
                        </a:lnTo>
                        <a:lnTo>
                          <a:pt x="520" y="591"/>
                        </a:lnTo>
                        <a:lnTo>
                          <a:pt x="507" y="577"/>
                        </a:lnTo>
                        <a:lnTo>
                          <a:pt x="501" y="577"/>
                        </a:lnTo>
                        <a:lnTo>
                          <a:pt x="494" y="570"/>
                        </a:lnTo>
                        <a:lnTo>
                          <a:pt x="494" y="541"/>
                        </a:lnTo>
                        <a:lnTo>
                          <a:pt x="501" y="527"/>
                        </a:lnTo>
                        <a:lnTo>
                          <a:pt x="494" y="519"/>
                        </a:lnTo>
                        <a:lnTo>
                          <a:pt x="494" y="512"/>
                        </a:lnTo>
                        <a:lnTo>
                          <a:pt x="513" y="490"/>
                        </a:lnTo>
                        <a:lnTo>
                          <a:pt x="513" y="483"/>
                        </a:lnTo>
                        <a:lnTo>
                          <a:pt x="507" y="462"/>
                        </a:lnTo>
                        <a:lnTo>
                          <a:pt x="520" y="447"/>
                        </a:lnTo>
                        <a:lnTo>
                          <a:pt x="507" y="433"/>
                        </a:lnTo>
                        <a:lnTo>
                          <a:pt x="507" y="426"/>
                        </a:lnTo>
                        <a:lnTo>
                          <a:pt x="507" y="404"/>
                        </a:lnTo>
                        <a:lnTo>
                          <a:pt x="494" y="404"/>
                        </a:lnTo>
                        <a:lnTo>
                          <a:pt x="487" y="404"/>
                        </a:lnTo>
                        <a:lnTo>
                          <a:pt x="481" y="411"/>
                        </a:lnTo>
                        <a:lnTo>
                          <a:pt x="475" y="418"/>
                        </a:lnTo>
                        <a:lnTo>
                          <a:pt x="469" y="418"/>
                        </a:lnTo>
                        <a:lnTo>
                          <a:pt x="462" y="411"/>
                        </a:lnTo>
                        <a:lnTo>
                          <a:pt x="469" y="404"/>
                        </a:lnTo>
                        <a:lnTo>
                          <a:pt x="475" y="397"/>
                        </a:lnTo>
                        <a:lnTo>
                          <a:pt x="475" y="382"/>
                        </a:lnTo>
                        <a:lnTo>
                          <a:pt x="487" y="368"/>
                        </a:lnTo>
                        <a:lnTo>
                          <a:pt x="501" y="361"/>
                        </a:lnTo>
                        <a:lnTo>
                          <a:pt x="501" y="353"/>
                        </a:lnTo>
                        <a:lnTo>
                          <a:pt x="507" y="339"/>
                        </a:lnTo>
                        <a:lnTo>
                          <a:pt x="533" y="317"/>
                        </a:lnTo>
                        <a:lnTo>
                          <a:pt x="539" y="317"/>
                        </a:lnTo>
                        <a:lnTo>
                          <a:pt x="545" y="310"/>
                        </a:lnTo>
                        <a:lnTo>
                          <a:pt x="552" y="303"/>
                        </a:lnTo>
                        <a:lnTo>
                          <a:pt x="558" y="303"/>
                        </a:lnTo>
                        <a:lnTo>
                          <a:pt x="565" y="296"/>
                        </a:lnTo>
                        <a:lnTo>
                          <a:pt x="565" y="288"/>
                        </a:lnTo>
                        <a:lnTo>
                          <a:pt x="571" y="281"/>
                        </a:lnTo>
                        <a:lnTo>
                          <a:pt x="578" y="260"/>
                        </a:lnTo>
                        <a:lnTo>
                          <a:pt x="584" y="252"/>
                        </a:lnTo>
                        <a:lnTo>
                          <a:pt x="584" y="238"/>
                        </a:lnTo>
                        <a:lnTo>
                          <a:pt x="590" y="223"/>
                        </a:lnTo>
                        <a:lnTo>
                          <a:pt x="603" y="216"/>
                        </a:lnTo>
                        <a:lnTo>
                          <a:pt x="610" y="209"/>
                        </a:lnTo>
                        <a:lnTo>
                          <a:pt x="597" y="195"/>
                        </a:lnTo>
                        <a:lnTo>
                          <a:pt x="590" y="195"/>
                        </a:lnTo>
                        <a:lnTo>
                          <a:pt x="578" y="187"/>
                        </a:lnTo>
                        <a:lnTo>
                          <a:pt x="558" y="187"/>
                        </a:lnTo>
                        <a:lnTo>
                          <a:pt x="545" y="187"/>
                        </a:lnTo>
                        <a:lnTo>
                          <a:pt x="539" y="180"/>
                        </a:lnTo>
                        <a:lnTo>
                          <a:pt x="533" y="173"/>
                        </a:lnTo>
                        <a:lnTo>
                          <a:pt x="526" y="159"/>
                        </a:lnTo>
                        <a:lnTo>
                          <a:pt x="520" y="151"/>
                        </a:lnTo>
                        <a:lnTo>
                          <a:pt x="513" y="151"/>
                        </a:lnTo>
                        <a:lnTo>
                          <a:pt x="507" y="144"/>
                        </a:lnTo>
                        <a:lnTo>
                          <a:pt x="501" y="144"/>
                        </a:lnTo>
                        <a:lnTo>
                          <a:pt x="487" y="130"/>
                        </a:lnTo>
                        <a:lnTo>
                          <a:pt x="475" y="115"/>
                        </a:lnTo>
                        <a:lnTo>
                          <a:pt x="469" y="108"/>
                        </a:lnTo>
                        <a:lnTo>
                          <a:pt x="455" y="101"/>
                        </a:lnTo>
                        <a:lnTo>
                          <a:pt x="449" y="94"/>
                        </a:lnTo>
                        <a:lnTo>
                          <a:pt x="443" y="86"/>
                        </a:lnTo>
                        <a:lnTo>
                          <a:pt x="430" y="65"/>
                        </a:lnTo>
                        <a:lnTo>
                          <a:pt x="430" y="57"/>
                        </a:lnTo>
                        <a:lnTo>
                          <a:pt x="417" y="43"/>
                        </a:lnTo>
                        <a:lnTo>
                          <a:pt x="411" y="36"/>
                        </a:lnTo>
                        <a:lnTo>
                          <a:pt x="411" y="29"/>
                        </a:lnTo>
                        <a:lnTo>
                          <a:pt x="397" y="14"/>
                        </a:lnTo>
                        <a:lnTo>
                          <a:pt x="385" y="7"/>
                        </a:lnTo>
                        <a:lnTo>
                          <a:pt x="379" y="0"/>
                        </a:lnTo>
                        <a:lnTo>
                          <a:pt x="353" y="0"/>
                        </a:lnTo>
                        <a:lnTo>
                          <a:pt x="347" y="0"/>
                        </a:lnTo>
                        <a:lnTo>
                          <a:pt x="333" y="7"/>
                        </a:lnTo>
                        <a:lnTo>
                          <a:pt x="340" y="21"/>
                        </a:lnTo>
                        <a:lnTo>
                          <a:pt x="333" y="29"/>
                        </a:lnTo>
                        <a:lnTo>
                          <a:pt x="308" y="65"/>
                        </a:lnTo>
                        <a:lnTo>
                          <a:pt x="301" y="72"/>
                        </a:lnTo>
                        <a:lnTo>
                          <a:pt x="269" y="72"/>
                        </a:lnTo>
                        <a:lnTo>
                          <a:pt x="257" y="79"/>
                        </a:lnTo>
                        <a:lnTo>
                          <a:pt x="250" y="86"/>
                        </a:lnTo>
                        <a:lnTo>
                          <a:pt x="244" y="94"/>
                        </a:lnTo>
                        <a:lnTo>
                          <a:pt x="231" y="86"/>
                        </a:lnTo>
                        <a:lnTo>
                          <a:pt x="212" y="94"/>
                        </a:lnTo>
                        <a:lnTo>
                          <a:pt x="199" y="94"/>
                        </a:lnTo>
                        <a:lnTo>
                          <a:pt x="193" y="79"/>
                        </a:lnTo>
                        <a:lnTo>
                          <a:pt x="186" y="72"/>
                        </a:lnTo>
                        <a:lnTo>
                          <a:pt x="173" y="72"/>
                        </a:lnTo>
                        <a:lnTo>
                          <a:pt x="180" y="57"/>
                        </a:lnTo>
                        <a:lnTo>
                          <a:pt x="173" y="50"/>
                        </a:lnTo>
                        <a:lnTo>
                          <a:pt x="167" y="50"/>
                        </a:lnTo>
                        <a:lnTo>
                          <a:pt x="160" y="50"/>
                        </a:lnTo>
                        <a:lnTo>
                          <a:pt x="167" y="57"/>
                        </a:lnTo>
                        <a:lnTo>
                          <a:pt x="160" y="65"/>
                        </a:lnTo>
                        <a:lnTo>
                          <a:pt x="167" y="72"/>
                        </a:lnTo>
                        <a:lnTo>
                          <a:pt x="167" y="86"/>
                        </a:lnTo>
                        <a:lnTo>
                          <a:pt x="167" y="94"/>
                        </a:lnTo>
                        <a:lnTo>
                          <a:pt x="160" y="101"/>
                        </a:lnTo>
                        <a:lnTo>
                          <a:pt x="154" y="108"/>
                        </a:lnTo>
                        <a:lnTo>
                          <a:pt x="154" y="115"/>
                        </a:lnTo>
                        <a:lnTo>
                          <a:pt x="154" y="122"/>
                        </a:lnTo>
                        <a:lnTo>
                          <a:pt x="148" y="122"/>
                        </a:lnTo>
                        <a:lnTo>
                          <a:pt x="135" y="115"/>
                        </a:lnTo>
                        <a:lnTo>
                          <a:pt x="128" y="122"/>
                        </a:lnTo>
                        <a:lnTo>
                          <a:pt x="122" y="115"/>
                        </a:lnTo>
                        <a:lnTo>
                          <a:pt x="116" y="115"/>
                        </a:lnTo>
                        <a:lnTo>
                          <a:pt x="109" y="115"/>
                        </a:lnTo>
                        <a:lnTo>
                          <a:pt x="102" y="115"/>
                        </a:lnTo>
                        <a:lnTo>
                          <a:pt x="77" y="86"/>
                        </a:lnTo>
                        <a:lnTo>
                          <a:pt x="70" y="86"/>
                        </a:lnTo>
                        <a:lnTo>
                          <a:pt x="64" y="86"/>
                        </a:lnTo>
                        <a:lnTo>
                          <a:pt x="52" y="94"/>
                        </a:lnTo>
                        <a:lnTo>
                          <a:pt x="45" y="94"/>
                        </a:lnTo>
                        <a:lnTo>
                          <a:pt x="38" y="86"/>
                        </a:lnTo>
                        <a:lnTo>
                          <a:pt x="26" y="86"/>
                        </a:lnTo>
                        <a:lnTo>
                          <a:pt x="12" y="94"/>
                        </a:lnTo>
                      </a:path>
                    </a:pathLst>
                  </a:custGeom>
                  <a:solidFill>
                    <a:srgbClr val="ffff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1" name=""/>
                <p:cNvSpPr/>
                <p:nvPr/>
              </p:nvSpPr>
              <p:spPr>
                <a:xfrm>
                  <a:off x="5302800" y="2928240"/>
                  <a:ext cx="418680" cy="195120"/>
                </a:xfrm>
                <a:custGeom>
                  <a:avLst/>
                  <a:gdLst/>
                  <a:ahLst/>
                  <a:rect l="l" t="t" r="r" b="b"/>
                  <a:pathLst>
                    <a:path w="296" h="174">
                      <a:moveTo>
                        <a:pt x="84" y="72"/>
                      </a:moveTo>
                      <a:lnTo>
                        <a:pt x="71" y="58"/>
                      </a:lnTo>
                      <a:lnTo>
                        <a:pt x="71" y="51"/>
                      </a:lnTo>
                      <a:lnTo>
                        <a:pt x="64" y="36"/>
                      </a:lnTo>
                      <a:lnTo>
                        <a:pt x="58" y="22"/>
                      </a:lnTo>
                      <a:lnTo>
                        <a:pt x="45" y="22"/>
                      </a:lnTo>
                      <a:lnTo>
                        <a:pt x="39" y="29"/>
                      </a:lnTo>
                      <a:lnTo>
                        <a:pt x="26" y="43"/>
                      </a:lnTo>
                      <a:lnTo>
                        <a:pt x="13" y="72"/>
                      </a:lnTo>
                      <a:lnTo>
                        <a:pt x="13" y="80"/>
                      </a:lnTo>
                      <a:lnTo>
                        <a:pt x="13" y="87"/>
                      </a:lnTo>
                      <a:lnTo>
                        <a:pt x="7" y="94"/>
                      </a:lnTo>
                      <a:lnTo>
                        <a:pt x="7" y="101"/>
                      </a:lnTo>
                      <a:lnTo>
                        <a:pt x="0" y="108"/>
                      </a:lnTo>
                      <a:lnTo>
                        <a:pt x="0" y="116"/>
                      </a:lnTo>
                      <a:lnTo>
                        <a:pt x="0" y="137"/>
                      </a:lnTo>
                      <a:lnTo>
                        <a:pt x="7" y="152"/>
                      </a:lnTo>
                      <a:lnTo>
                        <a:pt x="13" y="152"/>
                      </a:lnTo>
                      <a:lnTo>
                        <a:pt x="26" y="144"/>
                      </a:lnTo>
                      <a:lnTo>
                        <a:pt x="39" y="137"/>
                      </a:lnTo>
                      <a:lnTo>
                        <a:pt x="45" y="130"/>
                      </a:lnTo>
                      <a:lnTo>
                        <a:pt x="52" y="137"/>
                      </a:lnTo>
                      <a:lnTo>
                        <a:pt x="64" y="137"/>
                      </a:lnTo>
                      <a:lnTo>
                        <a:pt x="77" y="144"/>
                      </a:lnTo>
                      <a:lnTo>
                        <a:pt x="84" y="144"/>
                      </a:lnTo>
                      <a:lnTo>
                        <a:pt x="97" y="137"/>
                      </a:lnTo>
                      <a:lnTo>
                        <a:pt x="109" y="137"/>
                      </a:lnTo>
                      <a:lnTo>
                        <a:pt x="116" y="137"/>
                      </a:lnTo>
                      <a:lnTo>
                        <a:pt x="122" y="144"/>
                      </a:lnTo>
                      <a:lnTo>
                        <a:pt x="135" y="137"/>
                      </a:lnTo>
                      <a:lnTo>
                        <a:pt x="148" y="130"/>
                      </a:lnTo>
                      <a:lnTo>
                        <a:pt x="154" y="130"/>
                      </a:lnTo>
                      <a:lnTo>
                        <a:pt x="161" y="144"/>
                      </a:lnTo>
                      <a:lnTo>
                        <a:pt x="179" y="152"/>
                      </a:lnTo>
                      <a:lnTo>
                        <a:pt x="193" y="144"/>
                      </a:lnTo>
                      <a:lnTo>
                        <a:pt x="205" y="166"/>
                      </a:lnTo>
                      <a:lnTo>
                        <a:pt x="219" y="173"/>
                      </a:lnTo>
                      <a:lnTo>
                        <a:pt x="225" y="173"/>
                      </a:lnTo>
                      <a:lnTo>
                        <a:pt x="237" y="173"/>
                      </a:lnTo>
                      <a:lnTo>
                        <a:pt x="251" y="166"/>
                      </a:lnTo>
                      <a:lnTo>
                        <a:pt x="263" y="159"/>
                      </a:lnTo>
                      <a:lnTo>
                        <a:pt x="263" y="152"/>
                      </a:lnTo>
                      <a:lnTo>
                        <a:pt x="283" y="130"/>
                      </a:lnTo>
                      <a:lnTo>
                        <a:pt x="289" y="123"/>
                      </a:lnTo>
                      <a:lnTo>
                        <a:pt x="295" y="108"/>
                      </a:lnTo>
                      <a:lnTo>
                        <a:pt x="289" y="80"/>
                      </a:lnTo>
                      <a:lnTo>
                        <a:pt x="283" y="80"/>
                      </a:lnTo>
                      <a:lnTo>
                        <a:pt x="269" y="65"/>
                      </a:lnTo>
                      <a:lnTo>
                        <a:pt x="263" y="51"/>
                      </a:lnTo>
                      <a:lnTo>
                        <a:pt x="257" y="29"/>
                      </a:lnTo>
                      <a:lnTo>
                        <a:pt x="251" y="22"/>
                      </a:lnTo>
                      <a:lnTo>
                        <a:pt x="237" y="15"/>
                      </a:lnTo>
                      <a:lnTo>
                        <a:pt x="219" y="22"/>
                      </a:lnTo>
                      <a:lnTo>
                        <a:pt x="205" y="29"/>
                      </a:lnTo>
                      <a:lnTo>
                        <a:pt x="199" y="29"/>
                      </a:lnTo>
                      <a:lnTo>
                        <a:pt x="187" y="15"/>
                      </a:lnTo>
                      <a:lnTo>
                        <a:pt x="173" y="15"/>
                      </a:lnTo>
                      <a:lnTo>
                        <a:pt x="167" y="7"/>
                      </a:lnTo>
                      <a:lnTo>
                        <a:pt x="167" y="0"/>
                      </a:lnTo>
                      <a:lnTo>
                        <a:pt x="154" y="0"/>
                      </a:lnTo>
                      <a:lnTo>
                        <a:pt x="141" y="7"/>
                      </a:lnTo>
                      <a:lnTo>
                        <a:pt x="135" y="7"/>
                      </a:lnTo>
                      <a:lnTo>
                        <a:pt x="129" y="7"/>
                      </a:lnTo>
                      <a:lnTo>
                        <a:pt x="122" y="15"/>
                      </a:lnTo>
                      <a:lnTo>
                        <a:pt x="122" y="36"/>
                      </a:lnTo>
                      <a:lnTo>
                        <a:pt x="129" y="58"/>
                      </a:lnTo>
                      <a:lnTo>
                        <a:pt x="129" y="65"/>
                      </a:lnTo>
                      <a:lnTo>
                        <a:pt x="116" y="80"/>
                      </a:lnTo>
                      <a:lnTo>
                        <a:pt x="109" y="87"/>
                      </a:lnTo>
                      <a:lnTo>
                        <a:pt x="103" y="80"/>
                      </a:lnTo>
                      <a:lnTo>
                        <a:pt x="84" y="72"/>
                      </a:lnTo>
                    </a:path>
                  </a:pathLst>
                </a:custGeom>
                <a:solidFill>
                  <a:srgbClr val="ffff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2" name=""/>
                <p:cNvGrpSpPr/>
                <p:nvPr/>
              </p:nvGrpSpPr>
              <p:grpSpPr>
                <a:xfrm>
                  <a:off x="3624120" y="2669040"/>
                  <a:ext cx="509040" cy="762480"/>
                  <a:chOff x="3624120" y="2669040"/>
                  <a:chExt cx="509040" cy="76248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3624120" y="2676600"/>
                    <a:ext cx="509040" cy="75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673">
                        <a:moveTo>
                          <a:pt x="109" y="433"/>
                        </a:moveTo>
                        <a:lnTo>
                          <a:pt x="129" y="448"/>
                        </a:lnTo>
                        <a:lnTo>
                          <a:pt x="116" y="462"/>
                        </a:lnTo>
                        <a:lnTo>
                          <a:pt x="109" y="477"/>
                        </a:lnTo>
                        <a:lnTo>
                          <a:pt x="90" y="484"/>
                        </a:lnTo>
                        <a:lnTo>
                          <a:pt x="77" y="491"/>
                        </a:lnTo>
                        <a:lnTo>
                          <a:pt x="64" y="498"/>
                        </a:lnTo>
                        <a:lnTo>
                          <a:pt x="58" y="506"/>
                        </a:lnTo>
                        <a:lnTo>
                          <a:pt x="71" y="520"/>
                        </a:lnTo>
                        <a:lnTo>
                          <a:pt x="84" y="520"/>
                        </a:lnTo>
                        <a:lnTo>
                          <a:pt x="90" y="527"/>
                        </a:lnTo>
                        <a:lnTo>
                          <a:pt x="90" y="534"/>
                        </a:lnTo>
                        <a:lnTo>
                          <a:pt x="103" y="534"/>
                        </a:lnTo>
                        <a:lnTo>
                          <a:pt x="109" y="534"/>
                        </a:lnTo>
                        <a:lnTo>
                          <a:pt x="109" y="549"/>
                        </a:lnTo>
                        <a:lnTo>
                          <a:pt x="122" y="556"/>
                        </a:lnTo>
                        <a:lnTo>
                          <a:pt x="135" y="556"/>
                        </a:lnTo>
                        <a:lnTo>
                          <a:pt x="148" y="556"/>
                        </a:lnTo>
                        <a:lnTo>
                          <a:pt x="154" y="556"/>
                        </a:lnTo>
                        <a:lnTo>
                          <a:pt x="129" y="578"/>
                        </a:lnTo>
                        <a:lnTo>
                          <a:pt x="122" y="585"/>
                        </a:lnTo>
                        <a:lnTo>
                          <a:pt x="109" y="578"/>
                        </a:lnTo>
                        <a:lnTo>
                          <a:pt x="84" y="571"/>
                        </a:lnTo>
                        <a:lnTo>
                          <a:pt x="71" y="571"/>
                        </a:lnTo>
                        <a:lnTo>
                          <a:pt x="58" y="578"/>
                        </a:lnTo>
                        <a:lnTo>
                          <a:pt x="45" y="599"/>
                        </a:lnTo>
                        <a:lnTo>
                          <a:pt x="32" y="607"/>
                        </a:lnTo>
                        <a:lnTo>
                          <a:pt x="26" y="607"/>
                        </a:lnTo>
                        <a:lnTo>
                          <a:pt x="13" y="614"/>
                        </a:lnTo>
                        <a:lnTo>
                          <a:pt x="0" y="621"/>
                        </a:lnTo>
                        <a:lnTo>
                          <a:pt x="0" y="628"/>
                        </a:lnTo>
                        <a:lnTo>
                          <a:pt x="13" y="628"/>
                        </a:lnTo>
                        <a:lnTo>
                          <a:pt x="20" y="635"/>
                        </a:lnTo>
                        <a:lnTo>
                          <a:pt x="26" y="643"/>
                        </a:lnTo>
                        <a:lnTo>
                          <a:pt x="39" y="635"/>
                        </a:lnTo>
                        <a:lnTo>
                          <a:pt x="45" y="635"/>
                        </a:lnTo>
                        <a:lnTo>
                          <a:pt x="58" y="635"/>
                        </a:lnTo>
                        <a:lnTo>
                          <a:pt x="71" y="643"/>
                        </a:lnTo>
                        <a:lnTo>
                          <a:pt x="90" y="650"/>
                        </a:lnTo>
                        <a:lnTo>
                          <a:pt x="96" y="643"/>
                        </a:lnTo>
                        <a:lnTo>
                          <a:pt x="103" y="628"/>
                        </a:lnTo>
                        <a:lnTo>
                          <a:pt x="122" y="621"/>
                        </a:lnTo>
                        <a:lnTo>
                          <a:pt x="129" y="621"/>
                        </a:lnTo>
                        <a:lnTo>
                          <a:pt x="141" y="635"/>
                        </a:lnTo>
                        <a:lnTo>
                          <a:pt x="148" y="643"/>
                        </a:lnTo>
                        <a:lnTo>
                          <a:pt x="161" y="643"/>
                        </a:lnTo>
                        <a:lnTo>
                          <a:pt x="173" y="643"/>
                        </a:lnTo>
                        <a:lnTo>
                          <a:pt x="187" y="643"/>
                        </a:lnTo>
                        <a:lnTo>
                          <a:pt x="193" y="635"/>
                        </a:lnTo>
                        <a:lnTo>
                          <a:pt x="205" y="635"/>
                        </a:lnTo>
                        <a:lnTo>
                          <a:pt x="211" y="643"/>
                        </a:lnTo>
                        <a:lnTo>
                          <a:pt x="225" y="657"/>
                        </a:lnTo>
                        <a:lnTo>
                          <a:pt x="237" y="657"/>
                        </a:lnTo>
                        <a:lnTo>
                          <a:pt x="251" y="664"/>
                        </a:lnTo>
                        <a:lnTo>
                          <a:pt x="263" y="664"/>
                        </a:lnTo>
                        <a:lnTo>
                          <a:pt x="276" y="672"/>
                        </a:lnTo>
                        <a:lnTo>
                          <a:pt x="289" y="664"/>
                        </a:lnTo>
                        <a:lnTo>
                          <a:pt x="301" y="657"/>
                        </a:lnTo>
                        <a:lnTo>
                          <a:pt x="308" y="657"/>
                        </a:lnTo>
                        <a:lnTo>
                          <a:pt x="321" y="650"/>
                        </a:lnTo>
                        <a:lnTo>
                          <a:pt x="327" y="643"/>
                        </a:lnTo>
                        <a:lnTo>
                          <a:pt x="321" y="628"/>
                        </a:lnTo>
                        <a:lnTo>
                          <a:pt x="308" y="621"/>
                        </a:lnTo>
                        <a:lnTo>
                          <a:pt x="301" y="614"/>
                        </a:lnTo>
                        <a:lnTo>
                          <a:pt x="301" y="607"/>
                        </a:lnTo>
                        <a:lnTo>
                          <a:pt x="308" y="599"/>
                        </a:lnTo>
                        <a:lnTo>
                          <a:pt x="321" y="599"/>
                        </a:lnTo>
                        <a:lnTo>
                          <a:pt x="333" y="592"/>
                        </a:lnTo>
                        <a:lnTo>
                          <a:pt x="353" y="571"/>
                        </a:lnTo>
                        <a:lnTo>
                          <a:pt x="359" y="556"/>
                        </a:lnTo>
                        <a:lnTo>
                          <a:pt x="359" y="534"/>
                        </a:lnTo>
                        <a:lnTo>
                          <a:pt x="359" y="527"/>
                        </a:lnTo>
                        <a:lnTo>
                          <a:pt x="353" y="520"/>
                        </a:lnTo>
                        <a:lnTo>
                          <a:pt x="340" y="506"/>
                        </a:lnTo>
                        <a:lnTo>
                          <a:pt x="333" y="506"/>
                        </a:lnTo>
                        <a:lnTo>
                          <a:pt x="321" y="506"/>
                        </a:lnTo>
                        <a:lnTo>
                          <a:pt x="315" y="506"/>
                        </a:lnTo>
                        <a:lnTo>
                          <a:pt x="308" y="498"/>
                        </a:lnTo>
                        <a:lnTo>
                          <a:pt x="315" y="484"/>
                        </a:lnTo>
                        <a:lnTo>
                          <a:pt x="315" y="477"/>
                        </a:lnTo>
                        <a:lnTo>
                          <a:pt x="315" y="462"/>
                        </a:lnTo>
                        <a:lnTo>
                          <a:pt x="315" y="433"/>
                        </a:lnTo>
                        <a:lnTo>
                          <a:pt x="321" y="412"/>
                        </a:lnTo>
                        <a:lnTo>
                          <a:pt x="315" y="405"/>
                        </a:lnTo>
                        <a:lnTo>
                          <a:pt x="308" y="390"/>
                        </a:lnTo>
                        <a:lnTo>
                          <a:pt x="289" y="354"/>
                        </a:lnTo>
                        <a:lnTo>
                          <a:pt x="283" y="340"/>
                        </a:lnTo>
                        <a:lnTo>
                          <a:pt x="283" y="318"/>
                        </a:lnTo>
                        <a:lnTo>
                          <a:pt x="276" y="304"/>
                        </a:lnTo>
                        <a:lnTo>
                          <a:pt x="283" y="282"/>
                        </a:lnTo>
                        <a:lnTo>
                          <a:pt x="283" y="267"/>
                        </a:lnTo>
                        <a:lnTo>
                          <a:pt x="283" y="253"/>
                        </a:lnTo>
                        <a:lnTo>
                          <a:pt x="276" y="246"/>
                        </a:lnTo>
                        <a:lnTo>
                          <a:pt x="257" y="231"/>
                        </a:lnTo>
                        <a:lnTo>
                          <a:pt x="251" y="224"/>
                        </a:lnTo>
                        <a:lnTo>
                          <a:pt x="237" y="224"/>
                        </a:lnTo>
                        <a:lnTo>
                          <a:pt x="231" y="224"/>
                        </a:lnTo>
                        <a:lnTo>
                          <a:pt x="231" y="210"/>
                        </a:lnTo>
                        <a:lnTo>
                          <a:pt x="237" y="210"/>
                        </a:lnTo>
                        <a:lnTo>
                          <a:pt x="251" y="202"/>
                        </a:lnTo>
                        <a:lnTo>
                          <a:pt x="257" y="210"/>
                        </a:lnTo>
                        <a:lnTo>
                          <a:pt x="263" y="210"/>
                        </a:lnTo>
                        <a:lnTo>
                          <a:pt x="269" y="202"/>
                        </a:lnTo>
                        <a:lnTo>
                          <a:pt x="269" y="195"/>
                        </a:lnTo>
                        <a:lnTo>
                          <a:pt x="315" y="145"/>
                        </a:lnTo>
                        <a:lnTo>
                          <a:pt x="321" y="138"/>
                        </a:lnTo>
                        <a:lnTo>
                          <a:pt x="321" y="116"/>
                        </a:lnTo>
                        <a:lnTo>
                          <a:pt x="308" y="109"/>
                        </a:lnTo>
                        <a:lnTo>
                          <a:pt x="295" y="109"/>
                        </a:lnTo>
                        <a:lnTo>
                          <a:pt x="289" y="87"/>
                        </a:lnTo>
                        <a:lnTo>
                          <a:pt x="263" y="87"/>
                        </a:lnTo>
                        <a:lnTo>
                          <a:pt x="243" y="94"/>
                        </a:lnTo>
                        <a:lnTo>
                          <a:pt x="243" y="87"/>
                        </a:lnTo>
                        <a:lnTo>
                          <a:pt x="237" y="80"/>
                        </a:lnTo>
                        <a:lnTo>
                          <a:pt x="243" y="73"/>
                        </a:lnTo>
                        <a:lnTo>
                          <a:pt x="257" y="65"/>
                        </a:lnTo>
                        <a:lnTo>
                          <a:pt x="276" y="44"/>
                        </a:lnTo>
                        <a:lnTo>
                          <a:pt x="289" y="44"/>
                        </a:lnTo>
                        <a:lnTo>
                          <a:pt x="301" y="29"/>
                        </a:lnTo>
                        <a:lnTo>
                          <a:pt x="315" y="22"/>
                        </a:lnTo>
                        <a:lnTo>
                          <a:pt x="283" y="15"/>
                        </a:lnTo>
                        <a:lnTo>
                          <a:pt x="269" y="8"/>
                        </a:lnTo>
                        <a:lnTo>
                          <a:pt x="257" y="8"/>
                        </a:lnTo>
                        <a:lnTo>
                          <a:pt x="237" y="0"/>
                        </a:lnTo>
                        <a:lnTo>
                          <a:pt x="225" y="22"/>
                        </a:lnTo>
                        <a:lnTo>
                          <a:pt x="225" y="29"/>
                        </a:lnTo>
                        <a:lnTo>
                          <a:pt x="211" y="29"/>
                        </a:lnTo>
                        <a:lnTo>
                          <a:pt x="199" y="44"/>
                        </a:lnTo>
                        <a:lnTo>
                          <a:pt x="187" y="51"/>
                        </a:lnTo>
                        <a:lnTo>
                          <a:pt x="187" y="65"/>
                        </a:lnTo>
                        <a:lnTo>
                          <a:pt x="187" y="73"/>
                        </a:lnTo>
                        <a:lnTo>
                          <a:pt x="173" y="94"/>
                        </a:lnTo>
                        <a:lnTo>
                          <a:pt x="154" y="116"/>
                        </a:lnTo>
                        <a:lnTo>
                          <a:pt x="148" y="130"/>
                        </a:lnTo>
                        <a:lnTo>
                          <a:pt x="148" y="138"/>
                        </a:lnTo>
                        <a:lnTo>
                          <a:pt x="173" y="138"/>
                        </a:lnTo>
                        <a:lnTo>
                          <a:pt x="173" y="145"/>
                        </a:lnTo>
                        <a:lnTo>
                          <a:pt x="148" y="188"/>
                        </a:lnTo>
                        <a:lnTo>
                          <a:pt x="135" y="210"/>
                        </a:lnTo>
                        <a:lnTo>
                          <a:pt x="129" y="224"/>
                        </a:lnTo>
                        <a:lnTo>
                          <a:pt x="135" y="231"/>
                        </a:lnTo>
                        <a:lnTo>
                          <a:pt x="148" y="217"/>
                        </a:lnTo>
                        <a:lnTo>
                          <a:pt x="161" y="195"/>
                        </a:lnTo>
                        <a:lnTo>
                          <a:pt x="167" y="202"/>
                        </a:lnTo>
                        <a:lnTo>
                          <a:pt x="173" y="231"/>
                        </a:lnTo>
                        <a:lnTo>
                          <a:pt x="173" y="253"/>
                        </a:lnTo>
                        <a:lnTo>
                          <a:pt x="154" y="260"/>
                        </a:lnTo>
                        <a:lnTo>
                          <a:pt x="148" y="275"/>
                        </a:lnTo>
                        <a:lnTo>
                          <a:pt x="141" y="282"/>
                        </a:lnTo>
                        <a:lnTo>
                          <a:pt x="161" y="304"/>
                        </a:lnTo>
                        <a:lnTo>
                          <a:pt x="180" y="296"/>
                        </a:lnTo>
                        <a:lnTo>
                          <a:pt x="187" y="311"/>
                        </a:lnTo>
                        <a:lnTo>
                          <a:pt x="205" y="296"/>
                        </a:lnTo>
                        <a:lnTo>
                          <a:pt x="205" y="304"/>
                        </a:lnTo>
                        <a:lnTo>
                          <a:pt x="187" y="325"/>
                        </a:lnTo>
                        <a:lnTo>
                          <a:pt x="193" y="354"/>
                        </a:lnTo>
                        <a:lnTo>
                          <a:pt x="193" y="361"/>
                        </a:lnTo>
                        <a:lnTo>
                          <a:pt x="211" y="368"/>
                        </a:lnTo>
                        <a:lnTo>
                          <a:pt x="211" y="376"/>
                        </a:lnTo>
                        <a:lnTo>
                          <a:pt x="193" y="405"/>
                        </a:lnTo>
                        <a:lnTo>
                          <a:pt x="187" y="397"/>
                        </a:lnTo>
                        <a:lnTo>
                          <a:pt x="180" y="412"/>
                        </a:lnTo>
                        <a:lnTo>
                          <a:pt x="180" y="419"/>
                        </a:lnTo>
                        <a:lnTo>
                          <a:pt x="161" y="412"/>
                        </a:lnTo>
                        <a:lnTo>
                          <a:pt x="109" y="433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806280" y="3041280"/>
                    <a:ext cx="4644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3">
                        <a:moveTo>
                          <a:pt x="19" y="0"/>
                        </a:moveTo>
                        <a:lnTo>
                          <a:pt x="32" y="0"/>
                        </a:lnTo>
                        <a:lnTo>
                          <a:pt x="32" y="7"/>
                        </a:lnTo>
                        <a:lnTo>
                          <a:pt x="19" y="22"/>
                        </a:lnTo>
                        <a:lnTo>
                          <a:pt x="6" y="22"/>
                        </a:lnTo>
                        <a:lnTo>
                          <a:pt x="0" y="15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3778200" y="2863080"/>
                    <a:ext cx="4644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3">
                        <a:moveTo>
                          <a:pt x="26" y="0"/>
                        </a:moveTo>
                        <a:lnTo>
                          <a:pt x="32" y="15"/>
                        </a:lnTo>
                        <a:lnTo>
                          <a:pt x="20" y="22"/>
                        </a:lnTo>
                        <a:lnTo>
                          <a:pt x="6" y="22"/>
                        </a:lnTo>
                        <a:lnTo>
                          <a:pt x="0" y="15"/>
                        </a:lnTo>
                        <a:lnTo>
                          <a:pt x="6" y="8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3841560" y="2726280"/>
                    <a:ext cx="1980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51">
                        <a:moveTo>
                          <a:pt x="7" y="50"/>
                        </a:moveTo>
                        <a:lnTo>
                          <a:pt x="13" y="36"/>
                        </a:lnTo>
                        <a:lnTo>
                          <a:pt x="13" y="21"/>
                        </a:lnTo>
                        <a:lnTo>
                          <a:pt x="13" y="14"/>
                        </a:lnTo>
                        <a:lnTo>
                          <a:pt x="7" y="0"/>
                        </a:lnTo>
                        <a:lnTo>
                          <a:pt x="0" y="7"/>
                        </a:lnTo>
                        <a:lnTo>
                          <a:pt x="7" y="21"/>
                        </a:lnTo>
                        <a:lnTo>
                          <a:pt x="7" y="5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679200" y="2928240"/>
                    <a:ext cx="11016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95">
                        <a:moveTo>
                          <a:pt x="25" y="0"/>
                        </a:moveTo>
                        <a:lnTo>
                          <a:pt x="45" y="0"/>
                        </a:lnTo>
                        <a:lnTo>
                          <a:pt x="57" y="7"/>
                        </a:lnTo>
                        <a:lnTo>
                          <a:pt x="64" y="22"/>
                        </a:lnTo>
                        <a:lnTo>
                          <a:pt x="71" y="43"/>
                        </a:lnTo>
                        <a:lnTo>
                          <a:pt x="77" y="65"/>
                        </a:lnTo>
                        <a:lnTo>
                          <a:pt x="64" y="72"/>
                        </a:lnTo>
                        <a:lnTo>
                          <a:pt x="64" y="87"/>
                        </a:lnTo>
                        <a:lnTo>
                          <a:pt x="51" y="94"/>
                        </a:lnTo>
                        <a:lnTo>
                          <a:pt x="45" y="80"/>
                        </a:lnTo>
                        <a:lnTo>
                          <a:pt x="39" y="58"/>
                        </a:lnTo>
                        <a:lnTo>
                          <a:pt x="32" y="51"/>
                        </a:lnTo>
                        <a:lnTo>
                          <a:pt x="19" y="51"/>
                        </a:lnTo>
                        <a:lnTo>
                          <a:pt x="0" y="29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833280" y="2669040"/>
                    <a:ext cx="648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30">
                        <a:moveTo>
                          <a:pt x="39" y="0"/>
                        </a:moveTo>
                        <a:lnTo>
                          <a:pt x="45" y="7"/>
                        </a:lnTo>
                        <a:lnTo>
                          <a:pt x="26" y="15"/>
                        </a:lnTo>
                        <a:lnTo>
                          <a:pt x="13" y="29"/>
                        </a:lnTo>
                        <a:lnTo>
                          <a:pt x="6" y="29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9" name=""/>
                <p:cNvSpPr/>
                <p:nvPr/>
              </p:nvSpPr>
              <p:spPr>
                <a:xfrm>
                  <a:off x="3488400" y="1697760"/>
                  <a:ext cx="418320" cy="333000"/>
                </a:xfrm>
                <a:custGeom>
                  <a:avLst/>
                  <a:gdLst/>
                  <a:ahLst/>
                  <a:rect l="l" t="t" r="r" b="b"/>
                  <a:pathLst>
                    <a:path w="296" h="297">
                      <a:moveTo>
                        <a:pt x="20" y="72"/>
                      </a:moveTo>
                      <a:lnTo>
                        <a:pt x="12" y="80"/>
                      </a:lnTo>
                      <a:lnTo>
                        <a:pt x="20" y="101"/>
                      </a:lnTo>
                      <a:lnTo>
                        <a:pt x="32" y="109"/>
                      </a:lnTo>
                      <a:lnTo>
                        <a:pt x="45" y="116"/>
                      </a:lnTo>
                      <a:lnTo>
                        <a:pt x="45" y="145"/>
                      </a:lnTo>
                      <a:lnTo>
                        <a:pt x="32" y="166"/>
                      </a:lnTo>
                      <a:lnTo>
                        <a:pt x="26" y="173"/>
                      </a:lnTo>
                      <a:lnTo>
                        <a:pt x="0" y="166"/>
                      </a:lnTo>
                      <a:lnTo>
                        <a:pt x="0" y="173"/>
                      </a:lnTo>
                      <a:lnTo>
                        <a:pt x="26" y="202"/>
                      </a:lnTo>
                      <a:lnTo>
                        <a:pt x="38" y="210"/>
                      </a:lnTo>
                      <a:lnTo>
                        <a:pt x="38" y="231"/>
                      </a:lnTo>
                      <a:lnTo>
                        <a:pt x="52" y="260"/>
                      </a:lnTo>
                      <a:lnTo>
                        <a:pt x="70" y="275"/>
                      </a:lnTo>
                      <a:lnTo>
                        <a:pt x="90" y="275"/>
                      </a:lnTo>
                      <a:lnTo>
                        <a:pt x="102" y="289"/>
                      </a:lnTo>
                      <a:lnTo>
                        <a:pt x="109" y="289"/>
                      </a:lnTo>
                      <a:lnTo>
                        <a:pt x="122" y="282"/>
                      </a:lnTo>
                      <a:lnTo>
                        <a:pt x="154" y="289"/>
                      </a:lnTo>
                      <a:lnTo>
                        <a:pt x="167" y="296"/>
                      </a:lnTo>
                      <a:lnTo>
                        <a:pt x="179" y="289"/>
                      </a:lnTo>
                      <a:lnTo>
                        <a:pt x="192" y="289"/>
                      </a:lnTo>
                      <a:lnTo>
                        <a:pt x="205" y="275"/>
                      </a:lnTo>
                      <a:lnTo>
                        <a:pt x="211" y="282"/>
                      </a:lnTo>
                      <a:lnTo>
                        <a:pt x="225" y="289"/>
                      </a:lnTo>
                      <a:lnTo>
                        <a:pt x="231" y="282"/>
                      </a:lnTo>
                      <a:lnTo>
                        <a:pt x="243" y="275"/>
                      </a:lnTo>
                      <a:lnTo>
                        <a:pt x="250" y="267"/>
                      </a:lnTo>
                      <a:lnTo>
                        <a:pt x="269" y="260"/>
                      </a:lnTo>
                      <a:lnTo>
                        <a:pt x="275" y="253"/>
                      </a:lnTo>
                      <a:lnTo>
                        <a:pt x="283" y="246"/>
                      </a:lnTo>
                      <a:lnTo>
                        <a:pt x="295" y="231"/>
                      </a:lnTo>
                      <a:lnTo>
                        <a:pt x="295" y="217"/>
                      </a:lnTo>
                      <a:lnTo>
                        <a:pt x="289" y="210"/>
                      </a:lnTo>
                      <a:lnTo>
                        <a:pt x="283" y="202"/>
                      </a:lnTo>
                      <a:lnTo>
                        <a:pt x="283" y="159"/>
                      </a:lnTo>
                      <a:lnTo>
                        <a:pt x="295" y="152"/>
                      </a:lnTo>
                      <a:lnTo>
                        <a:pt x="283" y="137"/>
                      </a:lnTo>
                      <a:lnTo>
                        <a:pt x="275" y="145"/>
                      </a:lnTo>
                      <a:lnTo>
                        <a:pt x="269" y="137"/>
                      </a:lnTo>
                      <a:lnTo>
                        <a:pt x="275" y="130"/>
                      </a:lnTo>
                      <a:lnTo>
                        <a:pt x="269" y="123"/>
                      </a:lnTo>
                      <a:lnTo>
                        <a:pt x="263" y="116"/>
                      </a:lnTo>
                      <a:lnTo>
                        <a:pt x="250" y="123"/>
                      </a:lnTo>
                      <a:lnTo>
                        <a:pt x="237" y="137"/>
                      </a:lnTo>
                      <a:lnTo>
                        <a:pt x="231" y="130"/>
                      </a:lnTo>
                      <a:lnTo>
                        <a:pt x="225" y="130"/>
                      </a:lnTo>
                      <a:lnTo>
                        <a:pt x="211" y="123"/>
                      </a:lnTo>
                      <a:lnTo>
                        <a:pt x="199" y="116"/>
                      </a:lnTo>
                      <a:lnTo>
                        <a:pt x="192" y="123"/>
                      </a:lnTo>
                      <a:lnTo>
                        <a:pt x="186" y="116"/>
                      </a:lnTo>
                      <a:lnTo>
                        <a:pt x="186" y="101"/>
                      </a:lnTo>
                      <a:lnTo>
                        <a:pt x="179" y="101"/>
                      </a:lnTo>
                      <a:lnTo>
                        <a:pt x="167" y="109"/>
                      </a:lnTo>
                      <a:lnTo>
                        <a:pt x="154" y="101"/>
                      </a:lnTo>
                      <a:lnTo>
                        <a:pt x="154" y="94"/>
                      </a:lnTo>
                      <a:lnTo>
                        <a:pt x="154" y="87"/>
                      </a:lnTo>
                      <a:lnTo>
                        <a:pt x="141" y="87"/>
                      </a:lnTo>
                      <a:lnTo>
                        <a:pt x="135" y="94"/>
                      </a:lnTo>
                      <a:lnTo>
                        <a:pt x="135" y="101"/>
                      </a:lnTo>
                      <a:lnTo>
                        <a:pt x="128" y="94"/>
                      </a:lnTo>
                      <a:lnTo>
                        <a:pt x="122" y="101"/>
                      </a:lnTo>
                      <a:lnTo>
                        <a:pt x="109" y="109"/>
                      </a:lnTo>
                      <a:lnTo>
                        <a:pt x="102" y="101"/>
                      </a:lnTo>
                      <a:lnTo>
                        <a:pt x="109" y="72"/>
                      </a:lnTo>
                      <a:lnTo>
                        <a:pt x="116" y="65"/>
                      </a:lnTo>
                      <a:lnTo>
                        <a:pt x="122" y="58"/>
                      </a:lnTo>
                      <a:lnTo>
                        <a:pt x="116" y="44"/>
                      </a:lnTo>
                      <a:lnTo>
                        <a:pt x="122" y="22"/>
                      </a:lnTo>
                      <a:lnTo>
                        <a:pt x="116" y="0"/>
                      </a:lnTo>
                      <a:lnTo>
                        <a:pt x="109" y="0"/>
                      </a:lnTo>
                      <a:lnTo>
                        <a:pt x="102" y="15"/>
                      </a:lnTo>
                      <a:lnTo>
                        <a:pt x="102" y="29"/>
                      </a:lnTo>
                      <a:lnTo>
                        <a:pt x="96" y="44"/>
                      </a:lnTo>
                      <a:lnTo>
                        <a:pt x="90" y="29"/>
                      </a:lnTo>
                      <a:lnTo>
                        <a:pt x="96" y="15"/>
                      </a:lnTo>
                      <a:lnTo>
                        <a:pt x="90" y="8"/>
                      </a:lnTo>
                      <a:lnTo>
                        <a:pt x="77" y="15"/>
                      </a:lnTo>
                      <a:lnTo>
                        <a:pt x="70" y="22"/>
                      </a:lnTo>
                      <a:lnTo>
                        <a:pt x="70" y="29"/>
                      </a:lnTo>
                      <a:lnTo>
                        <a:pt x="70" y="36"/>
                      </a:lnTo>
                      <a:lnTo>
                        <a:pt x="64" y="36"/>
                      </a:lnTo>
                      <a:lnTo>
                        <a:pt x="52" y="29"/>
                      </a:lnTo>
                      <a:lnTo>
                        <a:pt x="45" y="36"/>
                      </a:lnTo>
                      <a:lnTo>
                        <a:pt x="52" y="51"/>
                      </a:lnTo>
                      <a:lnTo>
                        <a:pt x="58" y="51"/>
                      </a:lnTo>
                      <a:lnTo>
                        <a:pt x="77" y="65"/>
                      </a:lnTo>
                      <a:lnTo>
                        <a:pt x="77" y="72"/>
                      </a:lnTo>
                      <a:lnTo>
                        <a:pt x="77" y="80"/>
                      </a:lnTo>
                      <a:lnTo>
                        <a:pt x="70" y="80"/>
                      </a:lnTo>
                      <a:lnTo>
                        <a:pt x="70" y="94"/>
                      </a:lnTo>
                      <a:lnTo>
                        <a:pt x="77" y="101"/>
                      </a:lnTo>
                      <a:lnTo>
                        <a:pt x="70" y="109"/>
                      </a:lnTo>
                      <a:lnTo>
                        <a:pt x="58" y="109"/>
                      </a:lnTo>
                      <a:lnTo>
                        <a:pt x="45" y="87"/>
                      </a:lnTo>
                      <a:lnTo>
                        <a:pt x="32" y="80"/>
                      </a:lnTo>
                      <a:lnTo>
                        <a:pt x="20" y="72"/>
                      </a:lnTo>
                    </a:path>
                  </a:pathLst>
                </a:custGeom>
                <a:solidFill>
                  <a:srgbClr val="80ff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0" name=""/>
                <p:cNvGrpSpPr/>
                <p:nvPr/>
              </p:nvGrpSpPr>
              <p:grpSpPr>
                <a:xfrm>
                  <a:off x="5720400" y="4174560"/>
                  <a:ext cx="1544040" cy="681840"/>
                  <a:chOff x="5720400" y="4174560"/>
                  <a:chExt cx="1544040" cy="68184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5720400" y="4345200"/>
                    <a:ext cx="22896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52">
                        <a:moveTo>
                          <a:pt x="26" y="22"/>
                        </a:moveTo>
                        <a:lnTo>
                          <a:pt x="26" y="65"/>
                        </a:lnTo>
                        <a:lnTo>
                          <a:pt x="0" y="101"/>
                        </a:lnTo>
                        <a:lnTo>
                          <a:pt x="6" y="108"/>
                        </a:lnTo>
                        <a:lnTo>
                          <a:pt x="32" y="108"/>
                        </a:lnTo>
                        <a:lnTo>
                          <a:pt x="20" y="130"/>
                        </a:lnTo>
                        <a:lnTo>
                          <a:pt x="13" y="137"/>
                        </a:lnTo>
                        <a:lnTo>
                          <a:pt x="13" y="151"/>
                        </a:lnTo>
                        <a:lnTo>
                          <a:pt x="39" y="123"/>
                        </a:lnTo>
                        <a:lnTo>
                          <a:pt x="52" y="115"/>
                        </a:lnTo>
                        <a:lnTo>
                          <a:pt x="77" y="79"/>
                        </a:lnTo>
                        <a:lnTo>
                          <a:pt x="103" y="65"/>
                        </a:lnTo>
                        <a:lnTo>
                          <a:pt x="148" y="58"/>
                        </a:lnTo>
                        <a:lnTo>
                          <a:pt x="161" y="58"/>
                        </a:lnTo>
                        <a:lnTo>
                          <a:pt x="154" y="43"/>
                        </a:lnTo>
                        <a:lnTo>
                          <a:pt x="135" y="22"/>
                        </a:lnTo>
                        <a:lnTo>
                          <a:pt x="122" y="29"/>
                        </a:lnTo>
                        <a:lnTo>
                          <a:pt x="122" y="22"/>
                        </a:lnTo>
                        <a:lnTo>
                          <a:pt x="109" y="22"/>
                        </a:lnTo>
                        <a:lnTo>
                          <a:pt x="90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9" y="14"/>
                        </a:lnTo>
                        <a:lnTo>
                          <a:pt x="26" y="22"/>
                        </a:lnTo>
                      </a:path>
                    </a:pathLst>
                  </a:custGeom>
                  <a:solidFill>
                    <a:srgbClr val="80ff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5747040" y="4174560"/>
                    <a:ext cx="1517400" cy="68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3" h="608">
                        <a:moveTo>
                          <a:pt x="148" y="260"/>
                        </a:moveTo>
                        <a:lnTo>
                          <a:pt x="148" y="239"/>
                        </a:lnTo>
                        <a:lnTo>
                          <a:pt x="180" y="231"/>
                        </a:lnTo>
                        <a:lnTo>
                          <a:pt x="186" y="231"/>
                        </a:lnTo>
                        <a:lnTo>
                          <a:pt x="173" y="217"/>
                        </a:lnTo>
                        <a:lnTo>
                          <a:pt x="154" y="217"/>
                        </a:lnTo>
                        <a:lnTo>
                          <a:pt x="154" y="202"/>
                        </a:lnTo>
                        <a:lnTo>
                          <a:pt x="199" y="188"/>
                        </a:lnTo>
                        <a:lnTo>
                          <a:pt x="231" y="181"/>
                        </a:lnTo>
                        <a:lnTo>
                          <a:pt x="257" y="166"/>
                        </a:lnTo>
                        <a:lnTo>
                          <a:pt x="270" y="174"/>
                        </a:lnTo>
                        <a:lnTo>
                          <a:pt x="282" y="159"/>
                        </a:lnTo>
                        <a:lnTo>
                          <a:pt x="308" y="130"/>
                        </a:lnTo>
                        <a:lnTo>
                          <a:pt x="327" y="116"/>
                        </a:lnTo>
                        <a:lnTo>
                          <a:pt x="340" y="101"/>
                        </a:lnTo>
                        <a:lnTo>
                          <a:pt x="366" y="101"/>
                        </a:lnTo>
                        <a:lnTo>
                          <a:pt x="398" y="94"/>
                        </a:lnTo>
                        <a:lnTo>
                          <a:pt x="437" y="80"/>
                        </a:lnTo>
                        <a:lnTo>
                          <a:pt x="443" y="80"/>
                        </a:lnTo>
                        <a:lnTo>
                          <a:pt x="455" y="87"/>
                        </a:lnTo>
                        <a:lnTo>
                          <a:pt x="469" y="101"/>
                        </a:lnTo>
                        <a:lnTo>
                          <a:pt x="488" y="87"/>
                        </a:lnTo>
                        <a:lnTo>
                          <a:pt x="507" y="101"/>
                        </a:lnTo>
                        <a:lnTo>
                          <a:pt x="513" y="109"/>
                        </a:lnTo>
                        <a:lnTo>
                          <a:pt x="533" y="116"/>
                        </a:lnTo>
                        <a:lnTo>
                          <a:pt x="539" y="123"/>
                        </a:lnTo>
                        <a:lnTo>
                          <a:pt x="552" y="109"/>
                        </a:lnTo>
                        <a:lnTo>
                          <a:pt x="577" y="116"/>
                        </a:lnTo>
                        <a:lnTo>
                          <a:pt x="623" y="123"/>
                        </a:lnTo>
                        <a:lnTo>
                          <a:pt x="661" y="116"/>
                        </a:lnTo>
                        <a:lnTo>
                          <a:pt x="674" y="101"/>
                        </a:lnTo>
                        <a:lnTo>
                          <a:pt x="687" y="94"/>
                        </a:lnTo>
                        <a:lnTo>
                          <a:pt x="699" y="87"/>
                        </a:lnTo>
                        <a:lnTo>
                          <a:pt x="719" y="94"/>
                        </a:lnTo>
                        <a:lnTo>
                          <a:pt x="738" y="87"/>
                        </a:lnTo>
                        <a:lnTo>
                          <a:pt x="757" y="73"/>
                        </a:lnTo>
                        <a:lnTo>
                          <a:pt x="783" y="51"/>
                        </a:lnTo>
                        <a:lnTo>
                          <a:pt x="783" y="37"/>
                        </a:lnTo>
                        <a:lnTo>
                          <a:pt x="790" y="29"/>
                        </a:lnTo>
                        <a:lnTo>
                          <a:pt x="802" y="22"/>
                        </a:lnTo>
                        <a:lnTo>
                          <a:pt x="815" y="29"/>
                        </a:lnTo>
                        <a:lnTo>
                          <a:pt x="841" y="29"/>
                        </a:lnTo>
                        <a:lnTo>
                          <a:pt x="847" y="15"/>
                        </a:lnTo>
                        <a:lnTo>
                          <a:pt x="860" y="0"/>
                        </a:lnTo>
                        <a:lnTo>
                          <a:pt x="873" y="8"/>
                        </a:lnTo>
                        <a:lnTo>
                          <a:pt x="880" y="22"/>
                        </a:lnTo>
                        <a:lnTo>
                          <a:pt x="912" y="29"/>
                        </a:lnTo>
                        <a:lnTo>
                          <a:pt x="931" y="80"/>
                        </a:lnTo>
                        <a:lnTo>
                          <a:pt x="995" y="80"/>
                        </a:lnTo>
                        <a:lnTo>
                          <a:pt x="1020" y="116"/>
                        </a:lnTo>
                        <a:lnTo>
                          <a:pt x="988" y="159"/>
                        </a:lnTo>
                        <a:lnTo>
                          <a:pt x="1002" y="166"/>
                        </a:lnTo>
                        <a:lnTo>
                          <a:pt x="1002" y="202"/>
                        </a:lnTo>
                        <a:lnTo>
                          <a:pt x="1028" y="210"/>
                        </a:lnTo>
                        <a:lnTo>
                          <a:pt x="1014" y="253"/>
                        </a:lnTo>
                        <a:lnTo>
                          <a:pt x="1034" y="253"/>
                        </a:lnTo>
                        <a:lnTo>
                          <a:pt x="1052" y="260"/>
                        </a:lnTo>
                        <a:lnTo>
                          <a:pt x="1046" y="275"/>
                        </a:lnTo>
                        <a:lnTo>
                          <a:pt x="1052" y="296"/>
                        </a:lnTo>
                        <a:lnTo>
                          <a:pt x="1072" y="311"/>
                        </a:lnTo>
                        <a:lnTo>
                          <a:pt x="1060" y="318"/>
                        </a:lnTo>
                        <a:lnTo>
                          <a:pt x="1046" y="325"/>
                        </a:lnTo>
                        <a:lnTo>
                          <a:pt x="1014" y="332"/>
                        </a:lnTo>
                        <a:lnTo>
                          <a:pt x="1002" y="340"/>
                        </a:lnTo>
                        <a:lnTo>
                          <a:pt x="988" y="325"/>
                        </a:lnTo>
                        <a:lnTo>
                          <a:pt x="988" y="332"/>
                        </a:lnTo>
                        <a:lnTo>
                          <a:pt x="982" y="340"/>
                        </a:lnTo>
                        <a:lnTo>
                          <a:pt x="963" y="340"/>
                        </a:lnTo>
                        <a:lnTo>
                          <a:pt x="956" y="325"/>
                        </a:lnTo>
                        <a:lnTo>
                          <a:pt x="938" y="340"/>
                        </a:lnTo>
                        <a:lnTo>
                          <a:pt x="944" y="347"/>
                        </a:lnTo>
                        <a:lnTo>
                          <a:pt x="924" y="347"/>
                        </a:lnTo>
                        <a:lnTo>
                          <a:pt x="905" y="347"/>
                        </a:lnTo>
                        <a:lnTo>
                          <a:pt x="892" y="361"/>
                        </a:lnTo>
                        <a:lnTo>
                          <a:pt x="880" y="361"/>
                        </a:lnTo>
                        <a:lnTo>
                          <a:pt x="873" y="361"/>
                        </a:lnTo>
                        <a:lnTo>
                          <a:pt x="873" y="376"/>
                        </a:lnTo>
                        <a:lnTo>
                          <a:pt x="854" y="390"/>
                        </a:lnTo>
                        <a:lnTo>
                          <a:pt x="828" y="419"/>
                        </a:lnTo>
                        <a:lnTo>
                          <a:pt x="790" y="419"/>
                        </a:lnTo>
                        <a:lnTo>
                          <a:pt x="790" y="433"/>
                        </a:lnTo>
                        <a:lnTo>
                          <a:pt x="783" y="441"/>
                        </a:lnTo>
                        <a:lnTo>
                          <a:pt x="764" y="441"/>
                        </a:lnTo>
                        <a:lnTo>
                          <a:pt x="745" y="448"/>
                        </a:lnTo>
                        <a:lnTo>
                          <a:pt x="725" y="441"/>
                        </a:lnTo>
                        <a:lnTo>
                          <a:pt x="713" y="433"/>
                        </a:lnTo>
                        <a:lnTo>
                          <a:pt x="706" y="448"/>
                        </a:lnTo>
                        <a:lnTo>
                          <a:pt x="674" y="462"/>
                        </a:lnTo>
                        <a:lnTo>
                          <a:pt x="642" y="462"/>
                        </a:lnTo>
                        <a:lnTo>
                          <a:pt x="629" y="455"/>
                        </a:lnTo>
                        <a:lnTo>
                          <a:pt x="609" y="469"/>
                        </a:lnTo>
                        <a:lnTo>
                          <a:pt x="617" y="498"/>
                        </a:lnTo>
                        <a:lnTo>
                          <a:pt x="597" y="534"/>
                        </a:lnTo>
                        <a:lnTo>
                          <a:pt x="584" y="542"/>
                        </a:lnTo>
                        <a:lnTo>
                          <a:pt x="571" y="520"/>
                        </a:lnTo>
                        <a:lnTo>
                          <a:pt x="565" y="506"/>
                        </a:lnTo>
                        <a:lnTo>
                          <a:pt x="571" y="491"/>
                        </a:lnTo>
                        <a:lnTo>
                          <a:pt x="577" y="477"/>
                        </a:lnTo>
                        <a:lnTo>
                          <a:pt x="571" y="477"/>
                        </a:lnTo>
                        <a:lnTo>
                          <a:pt x="559" y="477"/>
                        </a:lnTo>
                        <a:lnTo>
                          <a:pt x="552" y="491"/>
                        </a:lnTo>
                        <a:lnTo>
                          <a:pt x="533" y="506"/>
                        </a:lnTo>
                        <a:lnTo>
                          <a:pt x="513" y="498"/>
                        </a:lnTo>
                        <a:lnTo>
                          <a:pt x="495" y="498"/>
                        </a:lnTo>
                        <a:lnTo>
                          <a:pt x="469" y="534"/>
                        </a:lnTo>
                        <a:lnTo>
                          <a:pt x="455" y="542"/>
                        </a:lnTo>
                        <a:lnTo>
                          <a:pt x="455" y="556"/>
                        </a:lnTo>
                        <a:lnTo>
                          <a:pt x="417" y="570"/>
                        </a:lnTo>
                        <a:lnTo>
                          <a:pt x="405" y="570"/>
                        </a:lnTo>
                        <a:lnTo>
                          <a:pt x="340" y="542"/>
                        </a:lnTo>
                        <a:lnTo>
                          <a:pt x="321" y="542"/>
                        </a:lnTo>
                        <a:lnTo>
                          <a:pt x="295" y="534"/>
                        </a:lnTo>
                        <a:lnTo>
                          <a:pt x="270" y="527"/>
                        </a:lnTo>
                        <a:lnTo>
                          <a:pt x="263" y="549"/>
                        </a:lnTo>
                        <a:lnTo>
                          <a:pt x="263" y="570"/>
                        </a:lnTo>
                        <a:lnTo>
                          <a:pt x="257" y="578"/>
                        </a:lnTo>
                        <a:lnTo>
                          <a:pt x="238" y="585"/>
                        </a:lnTo>
                        <a:lnTo>
                          <a:pt x="218" y="607"/>
                        </a:lnTo>
                        <a:lnTo>
                          <a:pt x="206" y="607"/>
                        </a:lnTo>
                        <a:lnTo>
                          <a:pt x="199" y="592"/>
                        </a:lnTo>
                        <a:lnTo>
                          <a:pt x="192" y="585"/>
                        </a:lnTo>
                        <a:lnTo>
                          <a:pt x="180" y="578"/>
                        </a:lnTo>
                        <a:lnTo>
                          <a:pt x="173" y="563"/>
                        </a:lnTo>
                        <a:lnTo>
                          <a:pt x="154" y="563"/>
                        </a:lnTo>
                        <a:lnTo>
                          <a:pt x="141" y="556"/>
                        </a:lnTo>
                        <a:lnTo>
                          <a:pt x="134" y="549"/>
                        </a:lnTo>
                        <a:lnTo>
                          <a:pt x="122" y="549"/>
                        </a:lnTo>
                        <a:lnTo>
                          <a:pt x="109" y="534"/>
                        </a:lnTo>
                        <a:lnTo>
                          <a:pt x="109" y="527"/>
                        </a:lnTo>
                        <a:lnTo>
                          <a:pt x="96" y="534"/>
                        </a:lnTo>
                        <a:lnTo>
                          <a:pt x="84" y="527"/>
                        </a:lnTo>
                        <a:lnTo>
                          <a:pt x="77" y="527"/>
                        </a:lnTo>
                        <a:lnTo>
                          <a:pt x="77" y="513"/>
                        </a:lnTo>
                        <a:lnTo>
                          <a:pt x="64" y="498"/>
                        </a:lnTo>
                        <a:lnTo>
                          <a:pt x="64" y="491"/>
                        </a:lnTo>
                        <a:lnTo>
                          <a:pt x="70" y="484"/>
                        </a:lnTo>
                        <a:lnTo>
                          <a:pt x="52" y="469"/>
                        </a:lnTo>
                        <a:lnTo>
                          <a:pt x="6" y="448"/>
                        </a:lnTo>
                        <a:lnTo>
                          <a:pt x="12" y="433"/>
                        </a:lnTo>
                        <a:lnTo>
                          <a:pt x="32" y="433"/>
                        </a:lnTo>
                        <a:lnTo>
                          <a:pt x="38" y="441"/>
                        </a:lnTo>
                        <a:lnTo>
                          <a:pt x="32" y="426"/>
                        </a:lnTo>
                        <a:lnTo>
                          <a:pt x="38" y="405"/>
                        </a:lnTo>
                        <a:lnTo>
                          <a:pt x="44" y="390"/>
                        </a:lnTo>
                        <a:lnTo>
                          <a:pt x="32" y="376"/>
                        </a:lnTo>
                        <a:lnTo>
                          <a:pt x="20" y="361"/>
                        </a:lnTo>
                        <a:lnTo>
                          <a:pt x="20" y="347"/>
                        </a:lnTo>
                        <a:lnTo>
                          <a:pt x="6" y="347"/>
                        </a:lnTo>
                        <a:lnTo>
                          <a:pt x="0" y="347"/>
                        </a:lnTo>
                        <a:lnTo>
                          <a:pt x="6" y="318"/>
                        </a:lnTo>
                        <a:lnTo>
                          <a:pt x="26" y="275"/>
                        </a:lnTo>
                        <a:lnTo>
                          <a:pt x="32" y="275"/>
                        </a:lnTo>
                        <a:lnTo>
                          <a:pt x="44" y="275"/>
                        </a:lnTo>
                        <a:lnTo>
                          <a:pt x="64" y="282"/>
                        </a:lnTo>
                        <a:lnTo>
                          <a:pt x="70" y="282"/>
                        </a:lnTo>
                        <a:lnTo>
                          <a:pt x="70" y="267"/>
                        </a:lnTo>
                        <a:lnTo>
                          <a:pt x="90" y="260"/>
                        </a:lnTo>
                        <a:lnTo>
                          <a:pt x="122" y="260"/>
                        </a:lnTo>
                        <a:lnTo>
                          <a:pt x="148" y="260"/>
                        </a:lnTo>
                      </a:path>
                    </a:pathLst>
                  </a:custGeom>
                  <a:solidFill>
                    <a:srgbClr val="80ff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6291720" y="4385160"/>
                    <a:ext cx="808200" cy="202320"/>
                    <a:chOff x="6291720" y="4385160"/>
                    <a:chExt cx="808200" cy="20232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6291720" y="4538520"/>
                      <a:ext cx="4644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44">
                          <a:moveTo>
                            <a:pt x="6" y="0"/>
                          </a:moveTo>
                          <a:lnTo>
                            <a:pt x="6" y="15"/>
                          </a:lnTo>
                          <a:lnTo>
                            <a:pt x="0" y="29"/>
                          </a:lnTo>
                          <a:lnTo>
                            <a:pt x="0" y="36"/>
                          </a:lnTo>
                          <a:lnTo>
                            <a:pt x="12" y="36"/>
                          </a:lnTo>
                          <a:lnTo>
                            <a:pt x="20" y="43"/>
                          </a:lnTo>
                          <a:lnTo>
                            <a:pt x="32" y="29"/>
                          </a:lnTo>
                          <a:lnTo>
                            <a:pt x="1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7016760" y="4385160"/>
                      <a:ext cx="8316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66">
                          <a:moveTo>
                            <a:pt x="58" y="7"/>
                          </a:moveTo>
                          <a:lnTo>
                            <a:pt x="39" y="29"/>
                          </a:lnTo>
                          <a:lnTo>
                            <a:pt x="46" y="51"/>
                          </a:lnTo>
                          <a:lnTo>
                            <a:pt x="46" y="58"/>
                          </a:lnTo>
                          <a:lnTo>
                            <a:pt x="13" y="65"/>
                          </a:lnTo>
                          <a:lnTo>
                            <a:pt x="0" y="65"/>
                          </a:lnTo>
                          <a:lnTo>
                            <a:pt x="0" y="51"/>
                          </a:lnTo>
                          <a:lnTo>
                            <a:pt x="0" y="36"/>
                          </a:lnTo>
                          <a:lnTo>
                            <a:pt x="13" y="22"/>
                          </a:lnTo>
                          <a:lnTo>
                            <a:pt x="20" y="14"/>
                          </a:lnTo>
                          <a:lnTo>
                            <a:pt x="32" y="0"/>
                          </a:lnTo>
                          <a:lnTo>
                            <a:pt x="58" y="7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4795200" y="1948680"/>
                  <a:ext cx="636480" cy="1207080"/>
                  <a:chOff x="4795200" y="1948680"/>
                  <a:chExt cx="636480" cy="1207080"/>
                </a:xfrm>
              </p:grpSpPr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4795200" y="1948680"/>
                    <a:ext cx="636480" cy="1207080"/>
                    <a:chOff x="4795200" y="1948680"/>
                    <a:chExt cx="636480" cy="120708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5048280" y="2993040"/>
                      <a:ext cx="46440" cy="8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80">
                          <a:moveTo>
                            <a:pt x="32" y="0"/>
                          </a:moveTo>
                          <a:lnTo>
                            <a:pt x="26" y="22"/>
                          </a:lnTo>
                          <a:lnTo>
                            <a:pt x="20" y="43"/>
                          </a:lnTo>
                          <a:lnTo>
                            <a:pt x="6" y="58"/>
                          </a:lnTo>
                          <a:lnTo>
                            <a:pt x="6" y="72"/>
                          </a:lnTo>
                          <a:lnTo>
                            <a:pt x="0" y="79"/>
                          </a:lnTo>
                          <a:lnTo>
                            <a:pt x="0" y="65"/>
                          </a:lnTo>
                          <a:lnTo>
                            <a:pt x="6" y="50"/>
                          </a:lnTo>
                          <a:lnTo>
                            <a:pt x="6" y="36"/>
                          </a:lnTo>
                          <a:lnTo>
                            <a:pt x="32" y="0"/>
                          </a:lnTo>
                        </a:path>
                      </a:pathLst>
                    </a:custGeom>
                    <a:solidFill>
                      <a:srgbClr val="80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840" bIns="42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5138640" y="2944800"/>
                      <a:ext cx="6624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66">
                          <a:moveTo>
                            <a:pt x="32" y="0"/>
                          </a:moveTo>
                          <a:lnTo>
                            <a:pt x="46" y="0"/>
                          </a:lnTo>
                          <a:lnTo>
                            <a:pt x="32" y="14"/>
                          </a:lnTo>
                          <a:lnTo>
                            <a:pt x="32" y="21"/>
                          </a:lnTo>
                          <a:lnTo>
                            <a:pt x="32" y="36"/>
                          </a:lnTo>
                          <a:lnTo>
                            <a:pt x="26" y="50"/>
                          </a:lnTo>
                          <a:lnTo>
                            <a:pt x="14" y="65"/>
                          </a:lnTo>
                          <a:lnTo>
                            <a:pt x="7" y="50"/>
                          </a:lnTo>
                          <a:lnTo>
                            <a:pt x="0" y="43"/>
                          </a:lnTo>
                          <a:lnTo>
                            <a:pt x="0" y="36"/>
                          </a:lnTo>
                          <a:lnTo>
                            <a:pt x="14" y="21"/>
                          </a:lnTo>
                          <a:lnTo>
                            <a:pt x="32" y="0"/>
                          </a:lnTo>
                        </a:path>
                      </a:pathLst>
                    </a:custGeom>
                    <a:solidFill>
                      <a:srgbClr val="80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4795200" y="1948680"/>
                      <a:ext cx="636480" cy="120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0" h="1076">
                          <a:moveTo>
                            <a:pt x="341" y="0"/>
                          </a:moveTo>
                          <a:lnTo>
                            <a:pt x="347" y="7"/>
                          </a:lnTo>
                          <a:lnTo>
                            <a:pt x="353" y="22"/>
                          </a:lnTo>
                          <a:lnTo>
                            <a:pt x="391" y="65"/>
                          </a:lnTo>
                          <a:lnTo>
                            <a:pt x="398" y="51"/>
                          </a:lnTo>
                          <a:lnTo>
                            <a:pt x="411" y="65"/>
                          </a:lnTo>
                          <a:lnTo>
                            <a:pt x="417" y="79"/>
                          </a:lnTo>
                          <a:lnTo>
                            <a:pt x="417" y="94"/>
                          </a:lnTo>
                          <a:lnTo>
                            <a:pt x="417" y="108"/>
                          </a:lnTo>
                          <a:lnTo>
                            <a:pt x="411" y="115"/>
                          </a:lnTo>
                          <a:lnTo>
                            <a:pt x="423" y="130"/>
                          </a:lnTo>
                          <a:lnTo>
                            <a:pt x="430" y="144"/>
                          </a:lnTo>
                          <a:lnTo>
                            <a:pt x="430" y="152"/>
                          </a:lnTo>
                          <a:lnTo>
                            <a:pt x="430" y="173"/>
                          </a:lnTo>
                          <a:lnTo>
                            <a:pt x="430" y="188"/>
                          </a:lnTo>
                          <a:lnTo>
                            <a:pt x="423" y="195"/>
                          </a:lnTo>
                          <a:lnTo>
                            <a:pt x="430" y="209"/>
                          </a:lnTo>
                          <a:lnTo>
                            <a:pt x="443" y="224"/>
                          </a:lnTo>
                          <a:lnTo>
                            <a:pt x="449" y="238"/>
                          </a:lnTo>
                          <a:lnTo>
                            <a:pt x="449" y="245"/>
                          </a:lnTo>
                          <a:lnTo>
                            <a:pt x="437" y="253"/>
                          </a:lnTo>
                          <a:lnTo>
                            <a:pt x="398" y="253"/>
                          </a:lnTo>
                          <a:lnTo>
                            <a:pt x="391" y="253"/>
                          </a:lnTo>
                          <a:lnTo>
                            <a:pt x="385" y="260"/>
                          </a:lnTo>
                          <a:lnTo>
                            <a:pt x="385" y="274"/>
                          </a:lnTo>
                          <a:lnTo>
                            <a:pt x="379" y="281"/>
                          </a:lnTo>
                          <a:lnTo>
                            <a:pt x="359" y="296"/>
                          </a:lnTo>
                          <a:lnTo>
                            <a:pt x="366" y="310"/>
                          </a:lnTo>
                          <a:lnTo>
                            <a:pt x="359" y="325"/>
                          </a:lnTo>
                          <a:lnTo>
                            <a:pt x="353" y="325"/>
                          </a:lnTo>
                          <a:lnTo>
                            <a:pt x="359" y="346"/>
                          </a:lnTo>
                          <a:lnTo>
                            <a:pt x="366" y="361"/>
                          </a:lnTo>
                          <a:lnTo>
                            <a:pt x="359" y="368"/>
                          </a:lnTo>
                          <a:lnTo>
                            <a:pt x="347" y="382"/>
                          </a:lnTo>
                          <a:lnTo>
                            <a:pt x="347" y="397"/>
                          </a:lnTo>
                          <a:lnTo>
                            <a:pt x="341" y="411"/>
                          </a:lnTo>
                          <a:lnTo>
                            <a:pt x="321" y="419"/>
                          </a:lnTo>
                          <a:lnTo>
                            <a:pt x="309" y="433"/>
                          </a:lnTo>
                          <a:lnTo>
                            <a:pt x="289" y="447"/>
                          </a:lnTo>
                          <a:lnTo>
                            <a:pt x="295" y="455"/>
                          </a:lnTo>
                          <a:lnTo>
                            <a:pt x="276" y="455"/>
                          </a:lnTo>
                          <a:lnTo>
                            <a:pt x="269" y="462"/>
                          </a:lnTo>
                          <a:lnTo>
                            <a:pt x="257" y="491"/>
                          </a:lnTo>
                          <a:lnTo>
                            <a:pt x="244" y="498"/>
                          </a:lnTo>
                          <a:lnTo>
                            <a:pt x="251" y="512"/>
                          </a:lnTo>
                          <a:lnTo>
                            <a:pt x="237" y="520"/>
                          </a:lnTo>
                          <a:lnTo>
                            <a:pt x="231" y="527"/>
                          </a:lnTo>
                          <a:lnTo>
                            <a:pt x="237" y="556"/>
                          </a:lnTo>
                          <a:lnTo>
                            <a:pt x="237" y="570"/>
                          </a:lnTo>
                          <a:lnTo>
                            <a:pt x="225" y="584"/>
                          </a:lnTo>
                          <a:lnTo>
                            <a:pt x="219" y="606"/>
                          </a:lnTo>
                          <a:lnTo>
                            <a:pt x="225" y="642"/>
                          </a:lnTo>
                          <a:lnTo>
                            <a:pt x="231" y="657"/>
                          </a:lnTo>
                          <a:lnTo>
                            <a:pt x="251" y="678"/>
                          </a:lnTo>
                          <a:lnTo>
                            <a:pt x="263" y="700"/>
                          </a:lnTo>
                          <a:lnTo>
                            <a:pt x="269" y="722"/>
                          </a:lnTo>
                          <a:lnTo>
                            <a:pt x="276" y="729"/>
                          </a:lnTo>
                          <a:lnTo>
                            <a:pt x="269" y="743"/>
                          </a:lnTo>
                          <a:lnTo>
                            <a:pt x="257" y="758"/>
                          </a:lnTo>
                          <a:lnTo>
                            <a:pt x="251" y="750"/>
                          </a:lnTo>
                          <a:lnTo>
                            <a:pt x="237" y="743"/>
                          </a:lnTo>
                          <a:lnTo>
                            <a:pt x="231" y="743"/>
                          </a:lnTo>
                          <a:lnTo>
                            <a:pt x="225" y="758"/>
                          </a:lnTo>
                          <a:lnTo>
                            <a:pt x="205" y="758"/>
                          </a:lnTo>
                          <a:lnTo>
                            <a:pt x="180" y="750"/>
                          </a:lnTo>
                          <a:lnTo>
                            <a:pt x="173" y="758"/>
                          </a:lnTo>
                          <a:lnTo>
                            <a:pt x="193" y="772"/>
                          </a:lnTo>
                          <a:lnTo>
                            <a:pt x="219" y="758"/>
                          </a:lnTo>
                          <a:lnTo>
                            <a:pt x="225" y="772"/>
                          </a:lnTo>
                          <a:lnTo>
                            <a:pt x="237" y="772"/>
                          </a:lnTo>
                          <a:lnTo>
                            <a:pt x="257" y="779"/>
                          </a:lnTo>
                          <a:lnTo>
                            <a:pt x="251" y="787"/>
                          </a:lnTo>
                          <a:lnTo>
                            <a:pt x="231" y="787"/>
                          </a:lnTo>
                          <a:lnTo>
                            <a:pt x="231" y="794"/>
                          </a:lnTo>
                          <a:lnTo>
                            <a:pt x="231" y="801"/>
                          </a:lnTo>
                          <a:lnTo>
                            <a:pt x="225" y="815"/>
                          </a:lnTo>
                          <a:lnTo>
                            <a:pt x="205" y="830"/>
                          </a:lnTo>
                          <a:lnTo>
                            <a:pt x="199" y="830"/>
                          </a:lnTo>
                          <a:lnTo>
                            <a:pt x="193" y="837"/>
                          </a:lnTo>
                          <a:lnTo>
                            <a:pt x="199" y="851"/>
                          </a:lnTo>
                          <a:lnTo>
                            <a:pt x="193" y="859"/>
                          </a:lnTo>
                          <a:lnTo>
                            <a:pt x="186" y="880"/>
                          </a:lnTo>
                          <a:lnTo>
                            <a:pt x="186" y="902"/>
                          </a:lnTo>
                          <a:lnTo>
                            <a:pt x="180" y="931"/>
                          </a:lnTo>
                          <a:lnTo>
                            <a:pt x="173" y="945"/>
                          </a:lnTo>
                          <a:lnTo>
                            <a:pt x="173" y="967"/>
                          </a:lnTo>
                          <a:lnTo>
                            <a:pt x="167" y="981"/>
                          </a:lnTo>
                          <a:lnTo>
                            <a:pt x="154" y="1003"/>
                          </a:lnTo>
                          <a:lnTo>
                            <a:pt x="148" y="1017"/>
                          </a:lnTo>
                          <a:lnTo>
                            <a:pt x="128" y="1017"/>
                          </a:lnTo>
                          <a:lnTo>
                            <a:pt x="109" y="1017"/>
                          </a:lnTo>
                          <a:lnTo>
                            <a:pt x="109" y="1025"/>
                          </a:lnTo>
                          <a:lnTo>
                            <a:pt x="96" y="1032"/>
                          </a:lnTo>
                          <a:lnTo>
                            <a:pt x="90" y="1032"/>
                          </a:lnTo>
                          <a:lnTo>
                            <a:pt x="90" y="1046"/>
                          </a:lnTo>
                          <a:lnTo>
                            <a:pt x="90" y="1061"/>
                          </a:lnTo>
                          <a:lnTo>
                            <a:pt x="71" y="1075"/>
                          </a:lnTo>
                          <a:lnTo>
                            <a:pt x="64" y="1061"/>
                          </a:lnTo>
                          <a:lnTo>
                            <a:pt x="52" y="1075"/>
                          </a:lnTo>
                          <a:lnTo>
                            <a:pt x="38" y="1075"/>
                          </a:lnTo>
                          <a:lnTo>
                            <a:pt x="32" y="1061"/>
                          </a:lnTo>
                          <a:lnTo>
                            <a:pt x="38" y="1054"/>
                          </a:lnTo>
                          <a:lnTo>
                            <a:pt x="38" y="1039"/>
                          </a:lnTo>
                          <a:lnTo>
                            <a:pt x="26" y="1010"/>
                          </a:lnTo>
                          <a:lnTo>
                            <a:pt x="26" y="996"/>
                          </a:lnTo>
                          <a:lnTo>
                            <a:pt x="26" y="989"/>
                          </a:lnTo>
                          <a:lnTo>
                            <a:pt x="32" y="989"/>
                          </a:lnTo>
                          <a:lnTo>
                            <a:pt x="32" y="981"/>
                          </a:lnTo>
                          <a:lnTo>
                            <a:pt x="38" y="974"/>
                          </a:lnTo>
                          <a:lnTo>
                            <a:pt x="38" y="967"/>
                          </a:lnTo>
                          <a:lnTo>
                            <a:pt x="38" y="960"/>
                          </a:lnTo>
                          <a:lnTo>
                            <a:pt x="32" y="953"/>
                          </a:lnTo>
                          <a:lnTo>
                            <a:pt x="20" y="931"/>
                          </a:lnTo>
                          <a:lnTo>
                            <a:pt x="26" y="909"/>
                          </a:lnTo>
                          <a:lnTo>
                            <a:pt x="13" y="895"/>
                          </a:lnTo>
                          <a:lnTo>
                            <a:pt x="6" y="880"/>
                          </a:lnTo>
                          <a:lnTo>
                            <a:pt x="13" y="866"/>
                          </a:lnTo>
                          <a:lnTo>
                            <a:pt x="20" y="830"/>
                          </a:lnTo>
                          <a:lnTo>
                            <a:pt x="6" y="815"/>
                          </a:lnTo>
                          <a:lnTo>
                            <a:pt x="0" y="801"/>
                          </a:lnTo>
                          <a:lnTo>
                            <a:pt x="0" y="787"/>
                          </a:lnTo>
                          <a:lnTo>
                            <a:pt x="6" y="772"/>
                          </a:lnTo>
                          <a:lnTo>
                            <a:pt x="20" y="772"/>
                          </a:lnTo>
                          <a:lnTo>
                            <a:pt x="26" y="743"/>
                          </a:lnTo>
                          <a:lnTo>
                            <a:pt x="26" y="714"/>
                          </a:lnTo>
                          <a:lnTo>
                            <a:pt x="26" y="707"/>
                          </a:lnTo>
                          <a:lnTo>
                            <a:pt x="38" y="693"/>
                          </a:lnTo>
                          <a:lnTo>
                            <a:pt x="58" y="678"/>
                          </a:lnTo>
                          <a:lnTo>
                            <a:pt x="58" y="664"/>
                          </a:lnTo>
                          <a:lnTo>
                            <a:pt x="58" y="613"/>
                          </a:lnTo>
                          <a:lnTo>
                            <a:pt x="52" y="606"/>
                          </a:lnTo>
                          <a:lnTo>
                            <a:pt x="52" y="592"/>
                          </a:lnTo>
                          <a:lnTo>
                            <a:pt x="64" y="584"/>
                          </a:lnTo>
                          <a:lnTo>
                            <a:pt x="71" y="584"/>
                          </a:lnTo>
                          <a:lnTo>
                            <a:pt x="64" y="563"/>
                          </a:lnTo>
                          <a:lnTo>
                            <a:pt x="52" y="541"/>
                          </a:lnTo>
                          <a:lnTo>
                            <a:pt x="52" y="520"/>
                          </a:lnTo>
                          <a:lnTo>
                            <a:pt x="58" y="498"/>
                          </a:lnTo>
                          <a:lnTo>
                            <a:pt x="71" y="469"/>
                          </a:lnTo>
                          <a:lnTo>
                            <a:pt x="71" y="455"/>
                          </a:lnTo>
                          <a:lnTo>
                            <a:pt x="71" y="433"/>
                          </a:lnTo>
                          <a:lnTo>
                            <a:pt x="77" y="411"/>
                          </a:lnTo>
                          <a:lnTo>
                            <a:pt x="90" y="397"/>
                          </a:lnTo>
                          <a:lnTo>
                            <a:pt x="109" y="382"/>
                          </a:lnTo>
                          <a:lnTo>
                            <a:pt x="122" y="390"/>
                          </a:lnTo>
                          <a:lnTo>
                            <a:pt x="135" y="397"/>
                          </a:lnTo>
                          <a:lnTo>
                            <a:pt x="141" y="368"/>
                          </a:lnTo>
                          <a:lnTo>
                            <a:pt x="135" y="354"/>
                          </a:lnTo>
                          <a:lnTo>
                            <a:pt x="128" y="339"/>
                          </a:lnTo>
                          <a:lnTo>
                            <a:pt x="128" y="325"/>
                          </a:lnTo>
                          <a:lnTo>
                            <a:pt x="128" y="318"/>
                          </a:lnTo>
                          <a:lnTo>
                            <a:pt x="141" y="318"/>
                          </a:lnTo>
                          <a:lnTo>
                            <a:pt x="141" y="289"/>
                          </a:lnTo>
                          <a:lnTo>
                            <a:pt x="148" y="274"/>
                          </a:lnTo>
                          <a:lnTo>
                            <a:pt x="148" y="253"/>
                          </a:lnTo>
                          <a:lnTo>
                            <a:pt x="148" y="238"/>
                          </a:lnTo>
                          <a:lnTo>
                            <a:pt x="161" y="224"/>
                          </a:lnTo>
                          <a:lnTo>
                            <a:pt x="180" y="209"/>
                          </a:lnTo>
                          <a:lnTo>
                            <a:pt x="193" y="202"/>
                          </a:lnTo>
                          <a:lnTo>
                            <a:pt x="193" y="188"/>
                          </a:lnTo>
                          <a:lnTo>
                            <a:pt x="193" y="180"/>
                          </a:lnTo>
                          <a:lnTo>
                            <a:pt x="205" y="159"/>
                          </a:lnTo>
                          <a:lnTo>
                            <a:pt x="219" y="152"/>
                          </a:lnTo>
                          <a:lnTo>
                            <a:pt x="212" y="123"/>
                          </a:lnTo>
                          <a:lnTo>
                            <a:pt x="237" y="94"/>
                          </a:lnTo>
                          <a:lnTo>
                            <a:pt x="237" y="79"/>
                          </a:lnTo>
                          <a:lnTo>
                            <a:pt x="257" y="79"/>
                          </a:lnTo>
                          <a:lnTo>
                            <a:pt x="269" y="65"/>
                          </a:lnTo>
                          <a:lnTo>
                            <a:pt x="269" y="51"/>
                          </a:lnTo>
                          <a:lnTo>
                            <a:pt x="276" y="43"/>
                          </a:lnTo>
                          <a:lnTo>
                            <a:pt x="295" y="36"/>
                          </a:lnTo>
                          <a:lnTo>
                            <a:pt x="321" y="36"/>
                          </a:lnTo>
                          <a:lnTo>
                            <a:pt x="341" y="22"/>
                          </a:lnTo>
                          <a:lnTo>
                            <a:pt x="333" y="0"/>
                          </a:lnTo>
                          <a:lnTo>
                            <a:pt x="341" y="0"/>
                          </a:lnTo>
                        </a:path>
                      </a:pathLst>
                    </a:custGeom>
                    <a:solidFill>
                      <a:srgbClr val="80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4858920" y="2790000"/>
                    <a:ext cx="136440" cy="138960"/>
                    <a:chOff x="4858920" y="2790000"/>
                    <a:chExt cx="136440" cy="138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4930920" y="2831400"/>
                      <a:ext cx="64440" cy="9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7">
                          <a:moveTo>
                            <a:pt x="45" y="0"/>
                          </a:moveTo>
                          <a:lnTo>
                            <a:pt x="45" y="14"/>
                          </a:lnTo>
                          <a:lnTo>
                            <a:pt x="45" y="28"/>
                          </a:lnTo>
                          <a:lnTo>
                            <a:pt x="45" y="43"/>
                          </a:lnTo>
                          <a:lnTo>
                            <a:pt x="32" y="57"/>
                          </a:lnTo>
                          <a:lnTo>
                            <a:pt x="19" y="72"/>
                          </a:lnTo>
                          <a:lnTo>
                            <a:pt x="7" y="86"/>
                          </a:lnTo>
                          <a:lnTo>
                            <a:pt x="0" y="72"/>
                          </a:lnTo>
                          <a:lnTo>
                            <a:pt x="7" y="64"/>
                          </a:lnTo>
                          <a:lnTo>
                            <a:pt x="19" y="50"/>
                          </a:lnTo>
                          <a:lnTo>
                            <a:pt x="19" y="43"/>
                          </a:lnTo>
                          <a:lnTo>
                            <a:pt x="26" y="28"/>
                          </a:lnTo>
                          <a:lnTo>
                            <a:pt x="45" y="7"/>
                          </a:lnTo>
                          <a:lnTo>
                            <a:pt x="45" y="14"/>
                          </a:lnTo>
                          <a:lnTo>
                            <a:pt x="45" y="21"/>
                          </a:lnTo>
                          <a:lnTo>
                            <a:pt x="45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4858920" y="2790000"/>
                      <a:ext cx="83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74">
                          <a:moveTo>
                            <a:pt x="45" y="0"/>
                          </a:moveTo>
                          <a:lnTo>
                            <a:pt x="38" y="15"/>
                          </a:lnTo>
                          <a:lnTo>
                            <a:pt x="26" y="8"/>
                          </a:lnTo>
                          <a:lnTo>
                            <a:pt x="19" y="8"/>
                          </a:lnTo>
                          <a:lnTo>
                            <a:pt x="19" y="22"/>
                          </a:lnTo>
                          <a:lnTo>
                            <a:pt x="26" y="29"/>
                          </a:lnTo>
                          <a:lnTo>
                            <a:pt x="26" y="37"/>
                          </a:lnTo>
                          <a:lnTo>
                            <a:pt x="19" y="37"/>
                          </a:lnTo>
                          <a:lnTo>
                            <a:pt x="12" y="37"/>
                          </a:lnTo>
                          <a:lnTo>
                            <a:pt x="12" y="29"/>
                          </a:lnTo>
                          <a:lnTo>
                            <a:pt x="6" y="29"/>
                          </a:lnTo>
                          <a:lnTo>
                            <a:pt x="6" y="37"/>
                          </a:lnTo>
                          <a:lnTo>
                            <a:pt x="6" y="44"/>
                          </a:lnTo>
                          <a:lnTo>
                            <a:pt x="0" y="58"/>
                          </a:lnTo>
                          <a:lnTo>
                            <a:pt x="0" y="65"/>
                          </a:lnTo>
                          <a:lnTo>
                            <a:pt x="6" y="73"/>
                          </a:lnTo>
                          <a:lnTo>
                            <a:pt x="12" y="65"/>
                          </a:lnTo>
                          <a:lnTo>
                            <a:pt x="26" y="58"/>
                          </a:lnTo>
                          <a:lnTo>
                            <a:pt x="38" y="58"/>
                          </a:lnTo>
                          <a:lnTo>
                            <a:pt x="45" y="58"/>
                          </a:lnTo>
                          <a:lnTo>
                            <a:pt x="45" y="44"/>
                          </a:lnTo>
                          <a:lnTo>
                            <a:pt x="51" y="37"/>
                          </a:lnTo>
                          <a:lnTo>
                            <a:pt x="58" y="29"/>
                          </a:lnTo>
                          <a:lnTo>
                            <a:pt x="58" y="22"/>
                          </a:lnTo>
                          <a:lnTo>
                            <a:pt x="51" y="15"/>
                          </a:lnTo>
                          <a:lnTo>
                            <a:pt x="45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04" name=""/>
                <p:cNvSpPr/>
                <p:nvPr/>
              </p:nvSpPr>
              <p:spPr>
                <a:xfrm>
                  <a:off x="4941000" y="3988440"/>
                  <a:ext cx="554040" cy="478800"/>
                </a:xfrm>
                <a:custGeom>
                  <a:avLst/>
                  <a:gdLst/>
                  <a:ahLst/>
                  <a:rect l="l" t="t" r="r" b="b"/>
                  <a:pathLst>
                    <a:path w="392" h="427">
                      <a:moveTo>
                        <a:pt x="192" y="347"/>
                      </a:moveTo>
                      <a:lnTo>
                        <a:pt x="198" y="332"/>
                      </a:lnTo>
                      <a:lnTo>
                        <a:pt x="198" y="304"/>
                      </a:lnTo>
                      <a:lnTo>
                        <a:pt x="211" y="296"/>
                      </a:lnTo>
                      <a:lnTo>
                        <a:pt x="230" y="304"/>
                      </a:lnTo>
                      <a:lnTo>
                        <a:pt x="230" y="296"/>
                      </a:lnTo>
                      <a:lnTo>
                        <a:pt x="237" y="304"/>
                      </a:lnTo>
                      <a:lnTo>
                        <a:pt x="243" y="311"/>
                      </a:lnTo>
                      <a:lnTo>
                        <a:pt x="263" y="318"/>
                      </a:lnTo>
                      <a:lnTo>
                        <a:pt x="269" y="325"/>
                      </a:lnTo>
                      <a:lnTo>
                        <a:pt x="269" y="368"/>
                      </a:lnTo>
                      <a:lnTo>
                        <a:pt x="263" y="383"/>
                      </a:lnTo>
                      <a:lnTo>
                        <a:pt x="269" y="405"/>
                      </a:lnTo>
                      <a:lnTo>
                        <a:pt x="275" y="412"/>
                      </a:lnTo>
                      <a:lnTo>
                        <a:pt x="282" y="412"/>
                      </a:lnTo>
                      <a:lnTo>
                        <a:pt x="288" y="419"/>
                      </a:lnTo>
                      <a:lnTo>
                        <a:pt x="307" y="419"/>
                      </a:lnTo>
                      <a:lnTo>
                        <a:pt x="314" y="426"/>
                      </a:lnTo>
                      <a:lnTo>
                        <a:pt x="333" y="426"/>
                      </a:lnTo>
                      <a:lnTo>
                        <a:pt x="339" y="405"/>
                      </a:lnTo>
                      <a:lnTo>
                        <a:pt x="353" y="412"/>
                      </a:lnTo>
                      <a:lnTo>
                        <a:pt x="385" y="405"/>
                      </a:lnTo>
                      <a:lnTo>
                        <a:pt x="391" y="390"/>
                      </a:lnTo>
                      <a:lnTo>
                        <a:pt x="385" y="383"/>
                      </a:lnTo>
                      <a:lnTo>
                        <a:pt x="385" y="347"/>
                      </a:lnTo>
                      <a:lnTo>
                        <a:pt x="371" y="332"/>
                      </a:lnTo>
                      <a:lnTo>
                        <a:pt x="365" y="332"/>
                      </a:lnTo>
                      <a:lnTo>
                        <a:pt x="359" y="318"/>
                      </a:lnTo>
                      <a:lnTo>
                        <a:pt x="365" y="304"/>
                      </a:lnTo>
                      <a:lnTo>
                        <a:pt x="365" y="282"/>
                      </a:lnTo>
                      <a:lnTo>
                        <a:pt x="365" y="267"/>
                      </a:lnTo>
                      <a:lnTo>
                        <a:pt x="385" y="246"/>
                      </a:lnTo>
                      <a:lnTo>
                        <a:pt x="385" y="224"/>
                      </a:lnTo>
                      <a:lnTo>
                        <a:pt x="378" y="217"/>
                      </a:lnTo>
                      <a:lnTo>
                        <a:pt x="365" y="210"/>
                      </a:lnTo>
                      <a:lnTo>
                        <a:pt x="359" y="188"/>
                      </a:lnTo>
                      <a:lnTo>
                        <a:pt x="359" y="181"/>
                      </a:lnTo>
                      <a:lnTo>
                        <a:pt x="365" y="166"/>
                      </a:lnTo>
                      <a:lnTo>
                        <a:pt x="365" y="152"/>
                      </a:lnTo>
                      <a:lnTo>
                        <a:pt x="365" y="145"/>
                      </a:lnTo>
                      <a:lnTo>
                        <a:pt x="353" y="138"/>
                      </a:lnTo>
                      <a:lnTo>
                        <a:pt x="353" y="123"/>
                      </a:lnTo>
                      <a:lnTo>
                        <a:pt x="339" y="109"/>
                      </a:lnTo>
                      <a:lnTo>
                        <a:pt x="327" y="123"/>
                      </a:lnTo>
                      <a:lnTo>
                        <a:pt x="314" y="123"/>
                      </a:lnTo>
                      <a:lnTo>
                        <a:pt x="314" y="109"/>
                      </a:lnTo>
                      <a:lnTo>
                        <a:pt x="314" y="94"/>
                      </a:lnTo>
                      <a:lnTo>
                        <a:pt x="301" y="65"/>
                      </a:lnTo>
                      <a:lnTo>
                        <a:pt x="288" y="65"/>
                      </a:lnTo>
                      <a:lnTo>
                        <a:pt x="282" y="58"/>
                      </a:lnTo>
                      <a:lnTo>
                        <a:pt x="282" y="37"/>
                      </a:lnTo>
                      <a:lnTo>
                        <a:pt x="275" y="22"/>
                      </a:lnTo>
                      <a:lnTo>
                        <a:pt x="269" y="22"/>
                      </a:lnTo>
                      <a:lnTo>
                        <a:pt x="269" y="15"/>
                      </a:lnTo>
                      <a:lnTo>
                        <a:pt x="263" y="8"/>
                      </a:lnTo>
                      <a:lnTo>
                        <a:pt x="243" y="0"/>
                      </a:lnTo>
                      <a:lnTo>
                        <a:pt x="218" y="8"/>
                      </a:lnTo>
                      <a:lnTo>
                        <a:pt x="166" y="29"/>
                      </a:lnTo>
                      <a:lnTo>
                        <a:pt x="166" y="58"/>
                      </a:lnTo>
                      <a:lnTo>
                        <a:pt x="186" y="73"/>
                      </a:lnTo>
                      <a:lnTo>
                        <a:pt x="180" y="87"/>
                      </a:lnTo>
                      <a:lnTo>
                        <a:pt x="180" y="94"/>
                      </a:lnTo>
                      <a:lnTo>
                        <a:pt x="166" y="94"/>
                      </a:lnTo>
                      <a:lnTo>
                        <a:pt x="160" y="87"/>
                      </a:lnTo>
                      <a:lnTo>
                        <a:pt x="148" y="80"/>
                      </a:lnTo>
                      <a:lnTo>
                        <a:pt x="128" y="87"/>
                      </a:lnTo>
                      <a:lnTo>
                        <a:pt x="108" y="87"/>
                      </a:lnTo>
                      <a:lnTo>
                        <a:pt x="96" y="94"/>
                      </a:lnTo>
                      <a:lnTo>
                        <a:pt x="96" y="87"/>
                      </a:lnTo>
                      <a:lnTo>
                        <a:pt x="83" y="87"/>
                      </a:lnTo>
                      <a:lnTo>
                        <a:pt x="70" y="65"/>
                      </a:lnTo>
                      <a:lnTo>
                        <a:pt x="44" y="94"/>
                      </a:lnTo>
                      <a:lnTo>
                        <a:pt x="12" y="80"/>
                      </a:lnTo>
                      <a:lnTo>
                        <a:pt x="0" y="87"/>
                      </a:lnTo>
                      <a:lnTo>
                        <a:pt x="0" y="94"/>
                      </a:lnTo>
                      <a:lnTo>
                        <a:pt x="38" y="138"/>
                      </a:lnTo>
                      <a:lnTo>
                        <a:pt x="44" y="166"/>
                      </a:lnTo>
                      <a:lnTo>
                        <a:pt x="58" y="181"/>
                      </a:lnTo>
                      <a:lnTo>
                        <a:pt x="70" y="181"/>
                      </a:lnTo>
                      <a:lnTo>
                        <a:pt x="122" y="239"/>
                      </a:lnTo>
                      <a:lnTo>
                        <a:pt x="122" y="246"/>
                      </a:lnTo>
                      <a:lnTo>
                        <a:pt x="122" y="253"/>
                      </a:lnTo>
                      <a:lnTo>
                        <a:pt x="116" y="275"/>
                      </a:lnTo>
                      <a:lnTo>
                        <a:pt x="192" y="347"/>
                      </a:lnTo>
                    </a:path>
                  </a:pathLst>
                </a:custGeom>
                <a:solidFill>
                  <a:srgbClr val="ffff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5" name=""/>
                <p:cNvGrpSpPr/>
                <p:nvPr/>
              </p:nvGrpSpPr>
              <p:grpSpPr>
                <a:xfrm>
                  <a:off x="4495320" y="1755000"/>
                  <a:ext cx="1144440" cy="1126080"/>
                  <a:chOff x="4495320" y="1755000"/>
                  <a:chExt cx="1144440" cy="112608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4495320" y="1755000"/>
                    <a:ext cx="1144440" cy="1126080"/>
                  </a:xfrm>
                  <a:custGeom>
                    <a:avLst/>
                    <a:gdLst/>
                    <a:ahLst/>
                    <a:rect l="l" t="t" r="r" b="b"/>
                    <a:pathLst>
                      <a:path w="809" h="1004">
                        <a:moveTo>
                          <a:pt x="212" y="945"/>
                        </a:moveTo>
                        <a:lnTo>
                          <a:pt x="218" y="945"/>
                        </a:lnTo>
                        <a:lnTo>
                          <a:pt x="225" y="938"/>
                        </a:lnTo>
                        <a:lnTo>
                          <a:pt x="231" y="931"/>
                        </a:lnTo>
                        <a:lnTo>
                          <a:pt x="237" y="916"/>
                        </a:lnTo>
                        <a:lnTo>
                          <a:pt x="237" y="909"/>
                        </a:lnTo>
                        <a:lnTo>
                          <a:pt x="237" y="887"/>
                        </a:lnTo>
                        <a:lnTo>
                          <a:pt x="237" y="873"/>
                        </a:lnTo>
                        <a:lnTo>
                          <a:pt x="244" y="866"/>
                        </a:lnTo>
                        <a:lnTo>
                          <a:pt x="269" y="859"/>
                        </a:lnTo>
                        <a:lnTo>
                          <a:pt x="269" y="851"/>
                        </a:lnTo>
                        <a:lnTo>
                          <a:pt x="269" y="815"/>
                        </a:lnTo>
                        <a:lnTo>
                          <a:pt x="263" y="808"/>
                        </a:lnTo>
                        <a:lnTo>
                          <a:pt x="263" y="786"/>
                        </a:lnTo>
                        <a:lnTo>
                          <a:pt x="257" y="779"/>
                        </a:lnTo>
                        <a:lnTo>
                          <a:pt x="263" y="765"/>
                        </a:lnTo>
                        <a:lnTo>
                          <a:pt x="269" y="765"/>
                        </a:lnTo>
                        <a:lnTo>
                          <a:pt x="283" y="757"/>
                        </a:lnTo>
                        <a:lnTo>
                          <a:pt x="269" y="721"/>
                        </a:lnTo>
                        <a:lnTo>
                          <a:pt x="263" y="714"/>
                        </a:lnTo>
                        <a:lnTo>
                          <a:pt x="263" y="685"/>
                        </a:lnTo>
                        <a:lnTo>
                          <a:pt x="276" y="664"/>
                        </a:lnTo>
                        <a:lnTo>
                          <a:pt x="276" y="642"/>
                        </a:lnTo>
                        <a:lnTo>
                          <a:pt x="283" y="620"/>
                        </a:lnTo>
                        <a:lnTo>
                          <a:pt x="276" y="599"/>
                        </a:lnTo>
                        <a:lnTo>
                          <a:pt x="283" y="592"/>
                        </a:lnTo>
                        <a:lnTo>
                          <a:pt x="289" y="577"/>
                        </a:lnTo>
                        <a:lnTo>
                          <a:pt x="301" y="563"/>
                        </a:lnTo>
                        <a:lnTo>
                          <a:pt x="321" y="555"/>
                        </a:lnTo>
                        <a:lnTo>
                          <a:pt x="333" y="563"/>
                        </a:lnTo>
                        <a:lnTo>
                          <a:pt x="340" y="570"/>
                        </a:lnTo>
                        <a:lnTo>
                          <a:pt x="353" y="555"/>
                        </a:lnTo>
                        <a:lnTo>
                          <a:pt x="353" y="541"/>
                        </a:lnTo>
                        <a:lnTo>
                          <a:pt x="340" y="505"/>
                        </a:lnTo>
                        <a:lnTo>
                          <a:pt x="340" y="498"/>
                        </a:lnTo>
                        <a:lnTo>
                          <a:pt x="340" y="491"/>
                        </a:lnTo>
                        <a:lnTo>
                          <a:pt x="347" y="491"/>
                        </a:lnTo>
                        <a:lnTo>
                          <a:pt x="353" y="476"/>
                        </a:lnTo>
                        <a:lnTo>
                          <a:pt x="359" y="462"/>
                        </a:lnTo>
                        <a:lnTo>
                          <a:pt x="359" y="433"/>
                        </a:lnTo>
                        <a:lnTo>
                          <a:pt x="365" y="404"/>
                        </a:lnTo>
                        <a:lnTo>
                          <a:pt x="372" y="397"/>
                        </a:lnTo>
                        <a:lnTo>
                          <a:pt x="391" y="382"/>
                        </a:lnTo>
                        <a:lnTo>
                          <a:pt x="404" y="375"/>
                        </a:lnTo>
                        <a:lnTo>
                          <a:pt x="404" y="353"/>
                        </a:lnTo>
                        <a:lnTo>
                          <a:pt x="411" y="339"/>
                        </a:lnTo>
                        <a:lnTo>
                          <a:pt x="423" y="325"/>
                        </a:lnTo>
                        <a:lnTo>
                          <a:pt x="430" y="317"/>
                        </a:lnTo>
                        <a:lnTo>
                          <a:pt x="423" y="310"/>
                        </a:lnTo>
                        <a:lnTo>
                          <a:pt x="423" y="296"/>
                        </a:lnTo>
                        <a:lnTo>
                          <a:pt x="436" y="281"/>
                        </a:lnTo>
                        <a:lnTo>
                          <a:pt x="449" y="252"/>
                        </a:lnTo>
                        <a:lnTo>
                          <a:pt x="462" y="260"/>
                        </a:lnTo>
                        <a:lnTo>
                          <a:pt x="481" y="238"/>
                        </a:lnTo>
                        <a:lnTo>
                          <a:pt x="481" y="231"/>
                        </a:lnTo>
                        <a:lnTo>
                          <a:pt x="487" y="216"/>
                        </a:lnTo>
                        <a:lnTo>
                          <a:pt x="494" y="216"/>
                        </a:lnTo>
                        <a:lnTo>
                          <a:pt x="507" y="216"/>
                        </a:lnTo>
                        <a:lnTo>
                          <a:pt x="526" y="216"/>
                        </a:lnTo>
                        <a:lnTo>
                          <a:pt x="552" y="195"/>
                        </a:lnTo>
                        <a:lnTo>
                          <a:pt x="545" y="180"/>
                        </a:lnTo>
                        <a:lnTo>
                          <a:pt x="552" y="173"/>
                        </a:lnTo>
                        <a:lnTo>
                          <a:pt x="545" y="173"/>
                        </a:lnTo>
                        <a:lnTo>
                          <a:pt x="558" y="159"/>
                        </a:lnTo>
                        <a:lnTo>
                          <a:pt x="571" y="151"/>
                        </a:lnTo>
                        <a:lnTo>
                          <a:pt x="584" y="173"/>
                        </a:lnTo>
                        <a:lnTo>
                          <a:pt x="610" y="202"/>
                        </a:lnTo>
                        <a:lnTo>
                          <a:pt x="616" y="202"/>
                        </a:lnTo>
                        <a:lnTo>
                          <a:pt x="628" y="187"/>
                        </a:lnTo>
                        <a:lnTo>
                          <a:pt x="635" y="187"/>
                        </a:lnTo>
                        <a:lnTo>
                          <a:pt x="642" y="187"/>
                        </a:lnTo>
                        <a:lnTo>
                          <a:pt x="648" y="202"/>
                        </a:lnTo>
                        <a:lnTo>
                          <a:pt x="660" y="202"/>
                        </a:lnTo>
                        <a:lnTo>
                          <a:pt x="668" y="202"/>
                        </a:lnTo>
                        <a:lnTo>
                          <a:pt x="674" y="187"/>
                        </a:lnTo>
                        <a:lnTo>
                          <a:pt x="674" y="180"/>
                        </a:lnTo>
                        <a:lnTo>
                          <a:pt x="686" y="159"/>
                        </a:lnTo>
                        <a:lnTo>
                          <a:pt x="686" y="151"/>
                        </a:lnTo>
                        <a:lnTo>
                          <a:pt x="686" y="122"/>
                        </a:lnTo>
                        <a:lnTo>
                          <a:pt x="700" y="101"/>
                        </a:lnTo>
                        <a:lnTo>
                          <a:pt x="706" y="108"/>
                        </a:lnTo>
                        <a:lnTo>
                          <a:pt x="724" y="86"/>
                        </a:lnTo>
                        <a:lnTo>
                          <a:pt x="738" y="108"/>
                        </a:lnTo>
                        <a:lnTo>
                          <a:pt x="744" y="115"/>
                        </a:lnTo>
                        <a:lnTo>
                          <a:pt x="757" y="108"/>
                        </a:lnTo>
                        <a:lnTo>
                          <a:pt x="764" y="122"/>
                        </a:lnTo>
                        <a:lnTo>
                          <a:pt x="764" y="130"/>
                        </a:lnTo>
                        <a:lnTo>
                          <a:pt x="764" y="137"/>
                        </a:lnTo>
                        <a:lnTo>
                          <a:pt x="764" y="144"/>
                        </a:lnTo>
                        <a:lnTo>
                          <a:pt x="776" y="130"/>
                        </a:lnTo>
                        <a:lnTo>
                          <a:pt x="789" y="115"/>
                        </a:lnTo>
                        <a:lnTo>
                          <a:pt x="802" y="94"/>
                        </a:lnTo>
                        <a:lnTo>
                          <a:pt x="796" y="94"/>
                        </a:lnTo>
                        <a:lnTo>
                          <a:pt x="782" y="101"/>
                        </a:lnTo>
                        <a:lnTo>
                          <a:pt x="782" y="86"/>
                        </a:lnTo>
                        <a:lnTo>
                          <a:pt x="776" y="86"/>
                        </a:lnTo>
                        <a:lnTo>
                          <a:pt x="770" y="72"/>
                        </a:lnTo>
                        <a:lnTo>
                          <a:pt x="796" y="50"/>
                        </a:lnTo>
                        <a:lnTo>
                          <a:pt x="802" y="58"/>
                        </a:lnTo>
                        <a:lnTo>
                          <a:pt x="808" y="43"/>
                        </a:lnTo>
                        <a:lnTo>
                          <a:pt x="802" y="43"/>
                        </a:lnTo>
                        <a:lnTo>
                          <a:pt x="789" y="36"/>
                        </a:lnTo>
                        <a:lnTo>
                          <a:pt x="776" y="29"/>
                        </a:lnTo>
                        <a:lnTo>
                          <a:pt x="764" y="14"/>
                        </a:lnTo>
                        <a:lnTo>
                          <a:pt x="757" y="14"/>
                        </a:lnTo>
                        <a:lnTo>
                          <a:pt x="744" y="29"/>
                        </a:lnTo>
                        <a:lnTo>
                          <a:pt x="738" y="36"/>
                        </a:lnTo>
                        <a:lnTo>
                          <a:pt x="724" y="29"/>
                        </a:lnTo>
                        <a:lnTo>
                          <a:pt x="732" y="21"/>
                        </a:lnTo>
                        <a:lnTo>
                          <a:pt x="732" y="7"/>
                        </a:lnTo>
                        <a:lnTo>
                          <a:pt x="732" y="0"/>
                        </a:lnTo>
                        <a:lnTo>
                          <a:pt x="718" y="0"/>
                        </a:lnTo>
                        <a:lnTo>
                          <a:pt x="712" y="7"/>
                        </a:lnTo>
                        <a:lnTo>
                          <a:pt x="712" y="14"/>
                        </a:lnTo>
                        <a:lnTo>
                          <a:pt x="712" y="29"/>
                        </a:lnTo>
                        <a:lnTo>
                          <a:pt x="700" y="43"/>
                        </a:lnTo>
                        <a:lnTo>
                          <a:pt x="692" y="21"/>
                        </a:lnTo>
                        <a:lnTo>
                          <a:pt x="680" y="21"/>
                        </a:lnTo>
                        <a:lnTo>
                          <a:pt x="680" y="43"/>
                        </a:lnTo>
                        <a:lnTo>
                          <a:pt x="674" y="65"/>
                        </a:lnTo>
                        <a:lnTo>
                          <a:pt x="660" y="79"/>
                        </a:lnTo>
                        <a:lnTo>
                          <a:pt x="648" y="58"/>
                        </a:lnTo>
                        <a:lnTo>
                          <a:pt x="668" y="50"/>
                        </a:lnTo>
                        <a:lnTo>
                          <a:pt x="668" y="29"/>
                        </a:lnTo>
                        <a:lnTo>
                          <a:pt x="660" y="29"/>
                        </a:lnTo>
                        <a:lnTo>
                          <a:pt x="642" y="29"/>
                        </a:lnTo>
                        <a:lnTo>
                          <a:pt x="635" y="50"/>
                        </a:lnTo>
                        <a:lnTo>
                          <a:pt x="616" y="72"/>
                        </a:lnTo>
                        <a:lnTo>
                          <a:pt x="622" y="86"/>
                        </a:lnTo>
                        <a:lnTo>
                          <a:pt x="616" y="94"/>
                        </a:lnTo>
                        <a:lnTo>
                          <a:pt x="603" y="86"/>
                        </a:lnTo>
                        <a:lnTo>
                          <a:pt x="590" y="94"/>
                        </a:lnTo>
                        <a:lnTo>
                          <a:pt x="596" y="101"/>
                        </a:lnTo>
                        <a:lnTo>
                          <a:pt x="578" y="101"/>
                        </a:lnTo>
                        <a:lnTo>
                          <a:pt x="571" y="108"/>
                        </a:lnTo>
                        <a:lnTo>
                          <a:pt x="558" y="122"/>
                        </a:lnTo>
                        <a:lnTo>
                          <a:pt x="545" y="122"/>
                        </a:lnTo>
                        <a:lnTo>
                          <a:pt x="545" y="130"/>
                        </a:lnTo>
                        <a:lnTo>
                          <a:pt x="532" y="122"/>
                        </a:lnTo>
                        <a:lnTo>
                          <a:pt x="520" y="130"/>
                        </a:lnTo>
                        <a:lnTo>
                          <a:pt x="513" y="144"/>
                        </a:lnTo>
                        <a:lnTo>
                          <a:pt x="500" y="144"/>
                        </a:lnTo>
                        <a:lnTo>
                          <a:pt x="494" y="130"/>
                        </a:lnTo>
                        <a:lnTo>
                          <a:pt x="475" y="137"/>
                        </a:lnTo>
                        <a:lnTo>
                          <a:pt x="455" y="144"/>
                        </a:lnTo>
                        <a:lnTo>
                          <a:pt x="455" y="159"/>
                        </a:lnTo>
                        <a:lnTo>
                          <a:pt x="468" y="166"/>
                        </a:lnTo>
                        <a:lnTo>
                          <a:pt x="468" y="173"/>
                        </a:lnTo>
                        <a:lnTo>
                          <a:pt x="468" y="187"/>
                        </a:lnTo>
                        <a:lnTo>
                          <a:pt x="462" y="180"/>
                        </a:lnTo>
                        <a:lnTo>
                          <a:pt x="449" y="187"/>
                        </a:lnTo>
                        <a:lnTo>
                          <a:pt x="449" y="202"/>
                        </a:lnTo>
                        <a:lnTo>
                          <a:pt x="462" y="209"/>
                        </a:lnTo>
                        <a:lnTo>
                          <a:pt x="462" y="231"/>
                        </a:lnTo>
                        <a:lnTo>
                          <a:pt x="449" y="224"/>
                        </a:lnTo>
                        <a:lnTo>
                          <a:pt x="443" y="224"/>
                        </a:lnTo>
                        <a:lnTo>
                          <a:pt x="443" y="238"/>
                        </a:lnTo>
                        <a:lnTo>
                          <a:pt x="430" y="238"/>
                        </a:lnTo>
                        <a:lnTo>
                          <a:pt x="417" y="238"/>
                        </a:lnTo>
                        <a:lnTo>
                          <a:pt x="411" y="245"/>
                        </a:lnTo>
                        <a:lnTo>
                          <a:pt x="411" y="252"/>
                        </a:lnTo>
                        <a:lnTo>
                          <a:pt x="404" y="260"/>
                        </a:lnTo>
                        <a:lnTo>
                          <a:pt x="397" y="267"/>
                        </a:lnTo>
                        <a:lnTo>
                          <a:pt x="404" y="274"/>
                        </a:lnTo>
                        <a:lnTo>
                          <a:pt x="385" y="281"/>
                        </a:lnTo>
                        <a:lnTo>
                          <a:pt x="397" y="296"/>
                        </a:lnTo>
                        <a:lnTo>
                          <a:pt x="397" y="303"/>
                        </a:lnTo>
                        <a:lnTo>
                          <a:pt x="385" y="310"/>
                        </a:lnTo>
                        <a:lnTo>
                          <a:pt x="365" y="325"/>
                        </a:lnTo>
                        <a:lnTo>
                          <a:pt x="353" y="339"/>
                        </a:lnTo>
                        <a:lnTo>
                          <a:pt x="340" y="361"/>
                        </a:lnTo>
                        <a:lnTo>
                          <a:pt x="327" y="375"/>
                        </a:lnTo>
                        <a:lnTo>
                          <a:pt x="327" y="382"/>
                        </a:lnTo>
                        <a:lnTo>
                          <a:pt x="327" y="397"/>
                        </a:lnTo>
                        <a:lnTo>
                          <a:pt x="321" y="404"/>
                        </a:lnTo>
                        <a:lnTo>
                          <a:pt x="321" y="418"/>
                        </a:lnTo>
                        <a:lnTo>
                          <a:pt x="308" y="440"/>
                        </a:lnTo>
                        <a:lnTo>
                          <a:pt x="301" y="447"/>
                        </a:lnTo>
                        <a:lnTo>
                          <a:pt x="301" y="462"/>
                        </a:lnTo>
                        <a:lnTo>
                          <a:pt x="308" y="469"/>
                        </a:lnTo>
                        <a:lnTo>
                          <a:pt x="295" y="483"/>
                        </a:lnTo>
                        <a:lnTo>
                          <a:pt x="289" y="476"/>
                        </a:lnTo>
                        <a:lnTo>
                          <a:pt x="283" y="483"/>
                        </a:lnTo>
                        <a:lnTo>
                          <a:pt x="283" y="505"/>
                        </a:lnTo>
                        <a:lnTo>
                          <a:pt x="269" y="505"/>
                        </a:lnTo>
                        <a:lnTo>
                          <a:pt x="250" y="512"/>
                        </a:lnTo>
                        <a:lnTo>
                          <a:pt x="244" y="527"/>
                        </a:lnTo>
                        <a:lnTo>
                          <a:pt x="237" y="548"/>
                        </a:lnTo>
                        <a:lnTo>
                          <a:pt x="225" y="555"/>
                        </a:lnTo>
                        <a:lnTo>
                          <a:pt x="225" y="570"/>
                        </a:lnTo>
                        <a:lnTo>
                          <a:pt x="244" y="555"/>
                        </a:lnTo>
                        <a:lnTo>
                          <a:pt x="257" y="541"/>
                        </a:lnTo>
                        <a:lnTo>
                          <a:pt x="263" y="548"/>
                        </a:lnTo>
                        <a:lnTo>
                          <a:pt x="257" y="563"/>
                        </a:lnTo>
                        <a:lnTo>
                          <a:pt x="244" y="577"/>
                        </a:lnTo>
                        <a:lnTo>
                          <a:pt x="231" y="570"/>
                        </a:lnTo>
                        <a:lnTo>
                          <a:pt x="231" y="584"/>
                        </a:lnTo>
                        <a:lnTo>
                          <a:pt x="212" y="599"/>
                        </a:lnTo>
                        <a:lnTo>
                          <a:pt x="205" y="577"/>
                        </a:lnTo>
                        <a:lnTo>
                          <a:pt x="199" y="570"/>
                        </a:lnTo>
                        <a:lnTo>
                          <a:pt x="186" y="592"/>
                        </a:lnTo>
                        <a:lnTo>
                          <a:pt x="173" y="592"/>
                        </a:lnTo>
                        <a:lnTo>
                          <a:pt x="160" y="592"/>
                        </a:lnTo>
                        <a:lnTo>
                          <a:pt x="160" y="606"/>
                        </a:lnTo>
                        <a:lnTo>
                          <a:pt x="154" y="613"/>
                        </a:lnTo>
                        <a:lnTo>
                          <a:pt x="154" y="620"/>
                        </a:lnTo>
                        <a:lnTo>
                          <a:pt x="148" y="613"/>
                        </a:lnTo>
                        <a:lnTo>
                          <a:pt x="135" y="606"/>
                        </a:lnTo>
                        <a:lnTo>
                          <a:pt x="122" y="613"/>
                        </a:lnTo>
                        <a:lnTo>
                          <a:pt x="122" y="620"/>
                        </a:lnTo>
                        <a:lnTo>
                          <a:pt x="122" y="628"/>
                        </a:lnTo>
                        <a:lnTo>
                          <a:pt x="116" y="635"/>
                        </a:lnTo>
                        <a:lnTo>
                          <a:pt x="102" y="628"/>
                        </a:lnTo>
                        <a:lnTo>
                          <a:pt x="90" y="635"/>
                        </a:lnTo>
                        <a:lnTo>
                          <a:pt x="90" y="649"/>
                        </a:lnTo>
                        <a:lnTo>
                          <a:pt x="90" y="656"/>
                        </a:lnTo>
                        <a:lnTo>
                          <a:pt x="77" y="649"/>
                        </a:lnTo>
                        <a:lnTo>
                          <a:pt x="70" y="656"/>
                        </a:lnTo>
                        <a:lnTo>
                          <a:pt x="64" y="664"/>
                        </a:lnTo>
                        <a:lnTo>
                          <a:pt x="52" y="656"/>
                        </a:lnTo>
                        <a:lnTo>
                          <a:pt x="45" y="656"/>
                        </a:lnTo>
                        <a:lnTo>
                          <a:pt x="38" y="671"/>
                        </a:lnTo>
                        <a:lnTo>
                          <a:pt x="32" y="678"/>
                        </a:lnTo>
                        <a:lnTo>
                          <a:pt x="26" y="693"/>
                        </a:lnTo>
                        <a:lnTo>
                          <a:pt x="26" y="714"/>
                        </a:lnTo>
                        <a:lnTo>
                          <a:pt x="26" y="736"/>
                        </a:lnTo>
                        <a:lnTo>
                          <a:pt x="20" y="765"/>
                        </a:lnTo>
                        <a:lnTo>
                          <a:pt x="20" y="794"/>
                        </a:lnTo>
                        <a:lnTo>
                          <a:pt x="12" y="801"/>
                        </a:lnTo>
                        <a:lnTo>
                          <a:pt x="20" y="815"/>
                        </a:lnTo>
                        <a:lnTo>
                          <a:pt x="32" y="808"/>
                        </a:lnTo>
                        <a:lnTo>
                          <a:pt x="45" y="808"/>
                        </a:lnTo>
                        <a:lnTo>
                          <a:pt x="45" y="822"/>
                        </a:lnTo>
                        <a:lnTo>
                          <a:pt x="32" y="830"/>
                        </a:lnTo>
                        <a:lnTo>
                          <a:pt x="26" y="844"/>
                        </a:lnTo>
                        <a:lnTo>
                          <a:pt x="26" y="851"/>
                        </a:lnTo>
                        <a:lnTo>
                          <a:pt x="12" y="851"/>
                        </a:lnTo>
                        <a:lnTo>
                          <a:pt x="6" y="873"/>
                        </a:lnTo>
                        <a:lnTo>
                          <a:pt x="12" y="880"/>
                        </a:lnTo>
                        <a:lnTo>
                          <a:pt x="26" y="873"/>
                        </a:lnTo>
                        <a:lnTo>
                          <a:pt x="32" y="880"/>
                        </a:lnTo>
                        <a:lnTo>
                          <a:pt x="32" y="887"/>
                        </a:lnTo>
                        <a:lnTo>
                          <a:pt x="26" y="895"/>
                        </a:lnTo>
                        <a:lnTo>
                          <a:pt x="26" y="909"/>
                        </a:lnTo>
                        <a:lnTo>
                          <a:pt x="12" y="909"/>
                        </a:lnTo>
                        <a:lnTo>
                          <a:pt x="6" y="902"/>
                        </a:lnTo>
                        <a:lnTo>
                          <a:pt x="6" y="916"/>
                        </a:lnTo>
                        <a:lnTo>
                          <a:pt x="6" y="931"/>
                        </a:lnTo>
                        <a:lnTo>
                          <a:pt x="0" y="931"/>
                        </a:lnTo>
                        <a:lnTo>
                          <a:pt x="12" y="952"/>
                        </a:lnTo>
                        <a:lnTo>
                          <a:pt x="26" y="960"/>
                        </a:lnTo>
                        <a:lnTo>
                          <a:pt x="26" y="981"/>
                        </a:lnTo>
                        <a:lnTo>
                          <a:pt x="45" y="988"/>
                        </a:lnTo>
                        <a:lnTo>
                          <a:pt x="64" y="1003"/>
                        </a:lnTo>
                        <a:lnTo>
                          <a:pt x="84" y="1003"/>
                        </a:lnTo>
                        <a:lnTo>
                          <a:pt x="109" y="981"/>
                        </a:lnTo>
                        <a:lnTo>
                          <a:pt x="135" y="960"/>
                        </a:lnTo>
                        <a:lnTo>
                          <a:pt x="160" y="923"/>
                        </a:lnTo>
                        <a:lnTo>
                          <a:pt x="167" y="923"/>
                        </a:lnTo>
                        <a:lnTo>
                          <a:pt x="173" y="931"/>
                        </a:lnTo>
                        <a:lnTo>
                          <a:pt x="186" y="923"/>
                        </a:lnTo>
                        <a:lnTo>
                          <a:pt x="186" y="909"/>
                        </a:lnTo>
                        <a:lnTo>
                          <a:pt x="186" y="895"/>
                        </a:lnTo>
                        <a:lnTo>
                          <a:pt x="199" y="873"/>
                        </a:lnTo>
                        <a:lnTo>
                          <a:pt x="199" y="895"/>
                        </a:lnTo>
                        <a:lnTo>
                          <a:pt x="205" y="902"/>
                        </a:lnTo>
                        <a:lnTo>
                          <a:pt x="199" y="909"/>
                        </a:lnTo>
                        <a:lnTo>
                          <a:pt x="205" y="931"/>
                        </a:lnTo>
                        <a:lnTo>
                          <a:pt x="205" y="945"/>
                        </a:lnTo>
                        <a:lnTo>
                          <a:pt x="218" y="938"/>
                        </a:lnTo>
                        <a:lnTo>
                          <a:pt x="212" y="945"/>
                        </a:lnTo>
                      </a:path>
                    </a:pathLst>
                  </a:custGeom>
                  <a:solidFill>
                    <a:srgbClr val="ffff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4721760" y="1755000"/>
                    <a:ext cx="727920" cy="647640"/>
                    <a:chOff x="4721760" y="1755000"/>
                    <a:chExt cx="727920" cy="64764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5068080" y="1948680"/>
                      <a:ext cx="367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37">
                          <a:moveTo>
                            <a:pt x="25" y="7"/>
                          </a:moveTo>
                          <a:lnTo>
                            <a:pt x="18" y="14"/>
                          </a:lnTo>
                          <a:lnTo>
                            <a:pt x="25" y="36"/>
                          </a:lnTo>
                          <a:lnTo>
                            <a:pt x="6" y="36"/>
                          </a:lnTo>
                          <a:lnTo>
                            <a:pt x="0" y="29"/>
                          </a:lnTo>
                          <a:lnTo>
                            <a:pt x="0" y="14"/>
                          </a:lnTo>
                          <a:lnTo>
                            <a:pt x="6" y="0"/>
                          </a:lnTo>
                          <a:lnTo>
                            <a:pt x="25" y="7"/>
                          </a:lnTo>
                        </a:path>
                      </a:pathLst>
                    </a:custGeom>
                    <a:solidFill>
                      <a:srgbClr val="ff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5011560" y="1981080"/>
                      <a:ext cx="295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15">
                          <a:moveTo>
                            <a:pt x="20" y="0"/>
                          </a:moveTo>
                          <a:lnTo>
                            <a:pt x="20" y="14"/>
                          </a:lnTo>
                          <a:lnTo>
                            <a:pt x="7" y="14"/>
                          </a:lnTo>
                          <a:lnTo>
                            <a:pt x="0" y="7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solidFill>
                      <a:srgbClr val="ff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5022720" y="1933200"/>
                      <a:ext cx="35280" cy="3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9">
                          <a:moveTo>
                            <a:pt x="0" y="14"/>
                          </a:moveTo>
                          <a:lnTo>
                            <a:pt x="18" y="28"/>
                          </a:lnTo>
                          <a:lnTo>
                            <a:pt x="24" y="7"/>
                          </a:lnTo>
                          <a:lnTo>
                            <a:pt x="12" y="0"/>
                          </a:lnTo>
                          <a:lnTo>
                            <a:pt x="6" y="7"/>
                          </a:lnTo>
                          <a:lnTo>
                            <a:pt x="0" y="14"/>
                          </a:lnTo>
                        </a:path>
                      </a:pathLst>
                    </a:custGeom>
                    <a:solidFill>
                      <a:srgbClr val="ff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5068080" y="1908360"/>
                      <a:ext cx="2664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5">
                          <a:moveTo>
                            <a:pt x="0" y="14"/>
                          </a:moveTo>
                          <a:lnTo>
                            <a:pt x="12" y="0"/>
                          </a:lnTo>
                          <a:lnTo>
                            <a:pt x="18" y="7"/>
                          </a:lnTo>
                          <a:lnTo>
                            <a:pt x="0" y="14"/>
                          </a:lnTo>
                        </a:path>
                      </a:pathLst>
                    </a:custGeom>
                    <a:solidFill>
                      <a:srgbClr val="ff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4966200" y="1989000"/>
                      <a:ext cx="2088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16">
                          <a:moveTo>
                            <a:pt x="14" y="0"/>
                          </a:moveTo>
                          <a:lnTo>
                            <a:pt x="14" y="15"/>
                          </a:lnTo>
                          <a:lnTo>
                            <a:pt x="0" y="15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ff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5184000" y="1860120"/>
                      <a:ext cx="38160" cy="3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9">
                          <a:moveTo>
                            <a:pt x="13" y="0"/>
                          </a:moveTo>
                          <a:lnTo>
                            <a:pt x="0" y="14"/>
                          </a:lnTo>
                          <a:lnTo>
                            <a:pt x="20" y="28"/>
                          </a:lnTo>
                          <a:lnTo>
                            <a:pt x="26" y="1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ff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5221080" y="1835280"/>
                      <a:ext cx="381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30">
                          <a:moveTo>
                            <a:pt x="0" y="7"/>
                          </a:moveTo>
                          <a:lnTo>
                            <a:pt x="13" y="29"/>
                          </a:lnTo>
                          <a:lnTo>
                            <a:pt x="26" y="14"/>
                          </a:lnTo>
                          <a:lnTo>
                            <a:pt x="13" y="0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5321160" y="1787040"/>
                      <a:ext cx="550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30">
                          <a:moveTo>
                            <a:pt x="12" y="7"/>
                          </a:moveTo>
                          <a:lnTo>
                            <a:pt x="19" y="14"/>
                          </a:lnTo>
                          <a:lnTo>
                            <a:pt x="38" y="0"/>
                          </a:lnTo>
                          <a:lnTo>
                            <a:pt x="32" y="29"/>
                          </a:lnTo>
                          <a:lnTo>
                            <a:pt x="12" y="29"/>
                          </a:lnTo>
                          <a:lnTo>
                            <a:pt x="0" y="7"/>
                          </a:lnTo>
                          <a:lnTo>
                            <a:pt x="12" y="7"/>
                          </a:lnTo>
                        </a:path>
                      </a:pathLst>
                    </a:custGeom>
                    <a:solidFill>
                      <a:srgbClr val="ff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5420160" y="1755000"/>
                      <a:ext cx="295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15">
                          <a:moveTo>
                            <a:pt x="14" y="0"/>
                          </a:moveTo>
                          <a:lnTo>
                            <a:pt x="20" y="7"/>
                          </a:lnTo>
                          <a:lnTo>
                            <a:pt x="20" y="14"/>
                          </a:lnTo>
                          <a:lnTo>
                            <a:pt x="0" y="14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ff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721760" y="2377080"/>
                      <a:ext cx="4788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3">
                          <a:moveTo>
                            <a:pt x="33" y="8"/>
                          </a:moveTo>
                          <a:lnTo>
                            <a:pt x="7" y="0"/>
                          </a:lnTo>
                          <a:lnTo>
                            <a:pt x="0" y="8"/>
                          </a:lnTo>
                          <a:lnTo>
                            <a:pt x="0" y="22"/>
                          </a:lnTo>
                          <a:lnTo>
                            <a:pt x="33" y="8"/>
                          </a:lnTo>
                        </a:path>
                      </a:pathLst>
                    </a:custGeom>
                    <a:solidFill>
                      <a:srgbClr val="ff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18" name=""/>
              <p:cNvSpPr/>
              <p:nvPr/>
            </p:nvSpPr>
            <p:spPr>
              <a:xfrm>
                <a:off x="5076720" y="4077360"/>
                <a:ext cx="188280" cy="233280"/>
              </a:xfrm>
              <a:custGeom>
                <a:avLst/>
                <a:gdLst/>
                <a:ahLst/>
                <a:rect l="l" t="t" r="r" b="b"/>
                <a:pathLst>
                  <a:path w="133" h="208">
                    <a:moveTo>
                      <a:pt x="78" y="11"/>
                    </a:moveTo>
                    <a:lnTo>
                      <a:pt x="83" y="11"/>
                    </a:lnTo>
                    <a:lnTo>
                      <a:pt x="88" y="5"/>
                    </a:lnTo>
                    <a:lnTo>
                      <a:pt x="93" y="0"/>
                    </a:lnTo>
                    <a:lnTo>
                      <a:pt x="98" y="0"/>
                    </a:lnTo>
                    <a:lnTo>
                      <a:pt x="113" y="5"/>
                    </a:lnTo>
                    <a:lnTo>
                      <a:pt x="113" y="16"/>
                    </a:lnTo>
                    <a:lnTo>
                      <a:pt x="113" y="22"/>
                    </a:lnTo>
                    <a:lnTo>
                      <a:pt x="113" y="28"/>
                    </a:lnTo>
                    <a:lnTo>
                      <a:pt x="103" y="28"/>
                    </a:lnTo>
                    <a:lnTo>
                      <a:pt x="93" y="33"/>
                    </a:lnTo>
                    <a:lnTo>
                      <a:pt x="98" y="39"/>
                    </a:lnTo>
                    <a:lnTo>
                      <a:pt x="113" y="50"/>
                    </a:lnTo>
                    <a:lnTo>
                      <a:pt x="127" y="61"/>
                    </a:lnTo>
                    <a:lnTo>
                      <a:pt x="127" y="67"/>
                    </a:lnTo>
                    <a:lnTo>
                      <a:pt x="127" y="72"/>
                    </a:lnTo>
                    <a:lnTo>
                      <a:pt x="122" y="78"/>
                    </a:lnTo>
                    <a:lnTo>
                      <a:pt x="113" y="78"/>
                    </a:lnTo>
                    <a:lnTo>
                      <a:pt x="93" y="78"/>
                    </a:lnTo>
                    <a:lnTo>
                      <a:pt x="103" y="78"/>
                    </a:lnTo>
                    <a:lnTo>
                      <a:pt x="118" y="84"/>
                    </a:lnTo>
                    <a:lnTo>
                      <a:pt x="127" y="95"/>
                    </a:lnTo>
                    <a:lnTo>
                      <a:pt x="132" y="100"/>
                    </a:lnTo>
                    <a:lnTo>
                      <a:pt x="127" y="106"/>
                    </a:lnTo>
                    <a:lnTo>
                      <a:pt x="122" y="112"/>
                    </a:lnTo>
                    <a:lnTo>
                      <a:pt x="113" y="112"/>
                    </a:lnTo>
                    <a:lnTo>
                      <a:pt x="93" y="117"/>
                    </a:lnTo>
                    <a:lnTo>
                      <a:pt x="103" y="128"/>
                    </a:lnTo>
                    <a:lnTo>
                      <a:pt x="108" y="134"/>
                    </a:lnTo>
                    <a:lnTo>
                      <a:pt x="98" y="145"/>
                    </a:lnTo>
                    <a:lnTo>
                      <a:pt x="83" y="151"/>
                    </a:lnTo>
                    <a:lnTo>
                      <a:pt x="69" y="173"/>
                    </a:lnTo>
                    <a:lnTo>
                      <a:pt x="59" y="184"/>
                    </a:lnTo>
                    <a:lnTo>
                      <a:pt x="59" y="190"/>
                    </a:lnTo>
                    <a:lnTo>
                      <a:pt x="59" y="196"/>
                    </a:lnTo>
                    <a:lnTo>
                      <a:pt x="54" y="196"/>
                    </a:lnTo>
                    <a:lnTo>
                      <a:pt x="49" y="201"/>
                    </a:lnTo>
                    <a:lnTo>
                      <a:pt x="35" y="207"/>
                    </a:lnTo>
                    <a:lnTo>
                      <a:pt x="30" y="196"/>
                    </a:lnTo>
                    <a:lnTo>
                      <a:pt x="20" y="184"/>
                    </a:lnTo>
                    <a:lnTo>
                      <a:pt x="10" y="184"/>
                    </a:lnTo>
                    <a:lnTo>
                      <a:pt x="5" y="179"/>
                    </a:lnTo>
                    <a:lnTo>
                      <a:pt x="0" y="17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1287360" y="2126160"/>
              <a:ext cx="3393360" cy="2779920"/>
              <a:chOff x="1287360" y="2126160"/>
              <a:chExt cx="3393360" cy="2779920"/>
            </a:xfrm>
          </p:grpSpPr>
          <p:sp>
            <p:nvSpPr>
              <p:cNvPr id="420" name=""/>
              <p:cNvSpPr/>
              <p:nvPr/>
            </p:nvSpPr>
            <p:spPr>
              <a:xfrm>
                <a:off x="1287360" y="212616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ATB/ATB-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287360" y="249084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AW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287360" y="285516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TB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287360" y="322092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TVM/KV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287360" y="358560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ASFA/LZ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287360" y="395136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EBICAB 7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287360" y="431568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SIGNUM/ZU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287360" y="468180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BACC/RSD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4257720" y="3473280"/>
                <a:ext cx="70560" cy="5040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3450240" y="4230720"/>
                <a:ext cx="70560" cy="500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0" name=""/>
              <p:cNvCxnSpPr>
                <a:stCxn id="427" idx="3"/>
                <a:endCxn id="431" idx="4"/>
              </p:cNvCxnSpPr>
              <p:nvPr/>
            </p:nvCxnSpPr>
            <p:spPr>
              <a:xfrm flipV="1">
                <a:off x="2659320" y="4330800"/>
                <a:ext cx="1986480" cy="462600"/>
              </a:xfrm>
              <a:prstGeom prst="bentConnector2">
                <a:avLst/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32" name=""/>
              <p:cNvCxnSpPr>
                <a:stCxn id="426" idx="3"/>
                <a:endCxn id="433" idx="4"/>
              </p:cNvCxnSpPr>
              <p:nvPr/>
            </p:nvCxnSpPr>
            <p:spPr>
              <a:xfrm flipV="1">
                <a:off x="2659320" y="3886560"/>
                <a:ext cx="1782720" cy="541080"/>
              </a:xfrm>
              <a:prstGeom prst="bentConnector2">
                <a:avLst/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34" name=""/>
              <p:cNvCxnSpPr>
                <a:stCxn id="420" idx="3"/>
                <a:endCxn id="435" idx="0"/>
              </p:cNvCxnSpPr>
              <p:nvPr/>
            </p:nvCxnSpPr>
            <p:spPr>
              <a:xfrm>
                <a:off x="2659320" y="2237760"/>
                <a:ext cx="1696320" cy="1121400"/>
              </a:xfrm>
              <a:prstGeom prst="bentConnector2">
                <a:avLst/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36" name=""/>
              <p:cNvCxnSpPr>
                <a:stCxn id="421" idx="3"/>
                <a:endCxn id="437" idx="0"/>
              </p:cNvCxnSpPr>
              <p:nvPr/>
            </p:nvCxnSpPr>
            <p:spPr>
              <a:xfrm>
                <a:off x="2658960" y="2602440"/>
                <a:ext cx="1314360" cy="685440"/>
              </a:xfrm>
              <a:prstGeom prst="bentConnector2">
                <a:avLst/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38" name=""/>
              <p:cNvCxnSpPr/>
              <p:nvPr/>
            </p:nvCxnSpPr>
            <p:spPr>
              <a:xfrm>
                <a:off x="2659320" y="3342240"/>
                <a:ext cx="1386720" cy="447120"/>
              </a:xfrm>
              <a:prstGeom prst="bentConnector3">
                <a:avLst>
                  <a:gd name="adj1" fmla="val 38353"/>
                </a:avLst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39" name=""/>
              <p:cNvCxnSpPr>
                <a:stCxn id="422" idx="3"/>
                <a:endCxn id="428" idx="5"/>
              </p:cNvCxnSpPr>
              <p:nvPr/>
            </p:nvCxnSpPr>
            <p:spPr>
              <a:xfrm>
                <a:off x="2658960" y="2967120"/>
                <a:ext cx="1608840" cy="549000"/>
              </a:xfrm>
              <a:prstGeom prst="bentConnector4">
                <a:avLst>
                  <a:gd name="adj1" fmla="val 49686"/>
                  <a:gd name="adj2" fmla="val 97506"/>
                </a:avLst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40" name=""/>
              <p:cNvCxnSpPr>
                <a:stCxn id="425" idx="3"/>
                <a:endCxn id="441" idx="4"/>
              </p:cNvCxnSpPr>
              <p:nvPr/>
            </p:nvCxnSpPr>
            <p:spPr>
              <a:xfrm>
                <a:off x="2658960" y="4062960"/>
                <a:ext cx="394920" cy="201240"/>
              </a:xfrm>
              <a:prstGeom prst="straightConnector1">
                <a:avLst/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42" name=""/>
              <p:cNvCxnSpPr>
                <a:stCxn id="424" idx="3"/>
                <a:endCxn id="429" idx="7"/>
              </p:cNvCxnSpPr>
              <p:nvPr/>
            </p:nvCxnSpPr>
            <p:spPr>
              <a:xfrm>
                <a:off x="2658960" y="3697200"/>
                <a:ext cx="801000" cy="540360"/>
              </a:xfrm>
              <a:prstGeom prst="straightConnector1">
                <a:avLst/>
              </a:prstGeom>
              <a:ln w="28440">
                <a:solidFill>
                  <a:srgbClr val="c0c0c0"/>
                </a:solidFill>
                <a:miter/>
              </a:ln>
            </p:spPr>
          </p:cxnSp>
          <p:sp>
            <p:nvSpPr>
              <p:cNvPr id="437" name=""/>
              <p:cNvSpPr/>
              <p:nvPr/>
            </p:nvSpPr>
            <p:spPr>
              <a:xfrm flipH="1">
                <a:off x="3938040" y="3288240"/>
                <a:ext cx="70560" cy="500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4610160" y="4282200"/>
                <a:ext cx="70560" cy="500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3018600" y="4214880"/>
                <a:ext cx="70560" cy="5040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4045320" y="3753720"/>
                <a:ext cx="70560" cy="500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4317120" y="3359160"/>
                <a:ext cx="76320" cy="53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4403520" y="1314360"/>
              <a:ext cx="4078080" cy="2786760"/>
              <a:chOff x="4403520" y="1314360"/>
              <a:chExt cx="4078080" cy="2786760"/>
            </a:xfrm>
          </p:grpSpPr>
          <p:sp>
            <p:nvSpPr>
              <p:cNvPr id="445" name=""/>
              <p:cNvSpPr/>
              <p:nvPr/>
            </p:nvSpPr>
            <p:spPr>
              <a:xfrm>
                <a:off x="4615200" y="2966760"/>
                <a:ext cx="0" cy="6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020200" y="3665880"/>
                <a:ext cx="128520" cy="109800"/>
              </a:xfrm>
              <a:custGeom>
                <a:avLst/>
                <a:gdLst/>
                <a:ahLst/>
                <a:rect l="l" t="t" r="r" b="b"/>
                <a:pathLst>
                  <a:path w="91" h="98">
                    <a:moveTo>
                      <a:pt x="90" y="0"/>
                    </a:moveTo>
                    <a:lnTo>
                      <a:pt x="76" y="24"/>
                    </a:lnTo>
                    <a:lnTo>
                      <a:pt x="62" y="43"/>
                    </a:lnTo>
                    <a:lnTo>
                      <a:pt x="57" y="58"/>
                    </a:lnTo>
                    <a:lnTo>
                      <a:pt x="52" y="68"/>
                    </a:lnTo>
                    <a:lnTo>
                      <a:pt x="33" y="82"/>
                    </a:lnTo>
                    <a:lnTo>
                      <a:pt x="19" y="87"/>
                    </a:lnTo>
                    <a:lnTo>
                      <a:pt x="14" y="87"/>
                    </a:lnTo>
                    <a:lnTo>
                      <a:pt x="9" y="87"/>
                    </a:lnTo>
                    <a:lnTo>
                      <a:pt x="9" y="82"/>
                    </a:lnTo>
                    <a:lnTo>
                      <a:pt x="5" y="87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109640" y="131436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EBICAB 700/1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109640" y="167868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EBICAB 9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109640" y="204336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ZUB 12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109640" y="240912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KH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109640" y="277380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INDUSI/LZ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109640" y="313920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INDUSI/LZ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109640" y="3504240"/>
                <a:ext cx="1371960" cy="22392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EV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5594400" y="2473920"/>
                <a:ext cx="76320" cy="53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55" name=""/>
              <p:cNvCxnSpPr>
                <a:stCxn id="447" idx="1"/>
                <a:endCxn id="456" idx="4"/>
              </p:cNvCxnSpPr>
              <p:nvPr/>
            </p:nvCxnSpPr>
            <p:spPr>
              <a:xfrm flipV="1" rot="10800000">
                <a:off x="4997520" y="1425240"/>
                <a:ext cx="2112120" cy="1585800"/>
              </a:xfrm>
              <a:prstGeom prst="bentConnector4">
                <a:avLst>
                  <a:gd name="adj1" fmla="val 100204"/>
                  <a:gd name="adj2" fmla="val 99341"/>
                </a:avLst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57" name=""/>
              <p:cNvCxnSpPr>
                <a:stCxn id="448" idx="1"/>
                <a:endCxn id="454" idx="3"/>
              </p:cNvCxnSpPr>
              <p:nvPr/>
            </p:nvCxnSpPr>
            <p:spPr>
              <a:xfrm flipV="1" rot="10800000">
                <a:off x="5658840" y="1790640"/>
                <a:ext cx="1450080" cy="728640"/>
              </a:xfrm>
              <a:prstGeom prst="bentConnector4">
                <a:avLst>
                  <a:gd name="adj1" fmla="val 99130"/>
                  <a:gd name="adj2" fmla="val 102422"/>
                </a:avLst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58" name=""/>
              <p:cNvCxnSpPr>
                <a:stCxn id="449" idx="1"/>
                <a:endCxn id="459" idx="2"/>
              </p:cNvCxnSpPr>
              <p:nvPr/>
            </p:nvCxnSpPr>
            <p:spPr>
              <a:xfrm flipV="1" rot="10800000">
                <a:off x="4694040" y="2154600"/>
                <a:ext cx="2414880" cy="908280"/>
              </a:xfrm>
              <a:prstGeom prst="bentConnector3">
                <a:avLst>
                  <a:gd name="adj1" fmla="val 49977"/>
                </a:avLst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60" name=""/>
              <p:cNvCxnSpPr>
                <a:stCxn id="450" idx="1"/>
                <a:endCxn id="461" idx="2"/>
              </p:cNvCxnSpPr>
              <p:nvPr/>
            </p:nvCxnSpPr>
            <p:spPr>
              <a:xfrm flipV="1" rot="10800000">
                <a:off x="5162400" y="2520360"/>
                <a:ext cx="1946880" cy="846360"/>
              </a:xfrm>
              <a:prstGeom prst="bentConnector3">
                <a:avLst>
                  <a:gd name="adj1" fmla="val 49990"/>
                </a:avLst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62" name=""/>
              <p:cNvCxnSpPr>
                <a:stCxn id="452" idx="1"/>
                <a:endCxn id="463" idx="3"/>
              </p:cNvCxnSpPr>
              <p:nvPr/>
            </p:nvCxnSpPr>
            <p:spPr>
              <a:xfrm flipV="1" rot="10800000">
                <a:off x="4904640" y="3251160"/>
                <a:ext cx="2204640" cy="630000"/>
              </a:xfrm>
              <a:prstGeom prst="bentConnector4">
                <a:avLst>
                  <a:gd name="adj1" fmla="val 20594"/>
                  <a:gd name="adj2" fmla="val 100686"/>
                </a:avLst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64" name=""/>
              <p:cNvCxnSpPr>
                <a:stCxn id="453" idx="1"/>
                <a:endCxn id="465" idx="4"/>
              </p:cNvCxnSpPr>
              <p:nvPr/>
            </p:nvCxnSpPr>
            <p:spPr>
              <a:xfrm flipV="1" rot="10800000">
                <a:off x="5240160" y="3615120"/>
                <a:ext cx="1869120" cy="323640"/>
              </a:xfrm>
              <a:prstGeom prst="bentConnector4">
                <a:avLst>
                  <a:gd name="adj1" fmla="val 11789"/>
                  <a:gd name="adj2" fmla="val 150334"/>
                </a:avLst>
              </a:prstGeom>
              <a:ln w="28440">
                <a:solidFill>
                  <a:srgbClr val="c0c0c0"/>
                </a:solidFill>
                <a:miter/>
              </a:ln>
            </p:spPr>
          </p:cxnSp>
          <p:sp>
            <p:nvSpPr>
              <p:cNvPr id="466" name=""/>
              <p:cNvSpPr/>
              <p:nvPr/>
            </p:nvSpPr>
            <p:spPr>
              <a:xfrm flipH="1">
                <a:off x="4653720" y="3423240"/>
                <a:ext cx="76320" cy="53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5092560" y="3342600"/>
                <a:ext cx="70560" cy="500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4403520" y="3835080"/>
                <a:ext cx="76320" cy="53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4845960" y="3838320"/>
                <a:ext cx="70560" cy="500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5205240" y="3889800"/>
                <a:ext cx="70560" cy="5040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4959360" y="2958840"/>
                <a:ext cx="76320" cy="53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4618440" y="3037320"/>
                <a:ext cx="76320" cy="53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67" name=""/>
              <p:cNvCxnSpPr>
                <a:stCxn id="451" idx="1"/>
                <a:endCxn id="466" idx="3"/>
              </p:cNvCxnSpPr>
              <p:nvPr/>
            </p:nvCxnSpPr>
            <p:spPr>
              <a:xfrm flipV="1" rot="10800000">
                <a:off x="4717800" y="2885760"/>
                <a:ext cx="2391480" cy="582480"/>
              </a:xfrm>
              <a:prstGeom prst="bentConnector4">
                <a:avLst>
                  <a:gd name="adj1" fmla="val 29343"/>
                  <a:gd name="adj2" fmla="val 129251"/>
                </a:avLst>
              </a:prstGeom>
              <a:ln w="28440">
                <a:solidFill>
                  <a:srgbClr val="c0c0c0"/>
                </a:solidFill>
                <a:miter/>
              </a:ln>
            </p:spPr>
          </p:cxnSp>
        </p:grpSp>
      </p:grpSp>
      <p:sp>
        <p:nvSpPr>
          <p:cNvPr id="468" name=""/>
          <p:cNvSpPr/>
          <p:nvPr/>
        </p:nvSpPr>
        <p:spPr>
          <a:xfrm>
            <a:off x="1352520" y="5229360"/>
            <a:ext cx="7410600" cy="13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ver 20 different </a:t>
            </a:r>
            <a:r>
              <a:rPr b="1" lang="en-GB" sz="2600" spc="-1" strike="noStrike">
                <a:solidFill>
                  <a:srgbClr val="fc5e1a"/>
                </a:solidFill>
                <a:latin typeface="Arial"/>
              </a:rPr>
              <a:t>speed control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ystems in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17 different </a:t>
            </a:r>
            <a:r>
              <a:rPr b="1" lang="fr-CA" sz="2600" spc="-1" strike="noStrike">
                <a:solidFill>
                  <a:srgbClr val="fc5e1a"/>
                </a:solidFill>
                <a:latin typeface="Arial"/>
              </a:rPr>
              <a:t>train radio 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4795920" y="1525680"/>
            <a:ext cx="4078080" cy="30495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3625920" y="4799160"/>
            <a:ext cx="5384880" cy="162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ital cost : </a:t>
            </a:r>
            <a:r>
              <a:rPr b="0" lang="en-GB" sz="2800" spc="-1" strike="noStrike">
                <a:solidFill>
                  <a:srgbClr val="fc5e1a"/>
                </a:solidFill>
                <a:latin typeface="Arial"/>
              </a:rPr>
              <a:t>+7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enance cost : </a:t>
            </a:r>
            <a:r>
              <a:rPr b="0" lang="en-GB" sz="2800" spc="-1" strike="noStrike">
                <a:solidFill>
                  <a:srgbClr val="fc5e1a"/>
                </a:solidFill>
                <a:latin typeface="Arial"/>
              </a:rPr>
              <a:t>+3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ailability rate : </a:t>
            </a:r>
            <a:r>
              <a:rPr b="0" lang="en-GB" sz="2800" spc="-1" strike="noStrike">
                <a:solidFill>
                  <a:srgbClr val="fc5e1a"/>
                </a:solidFill>
                <a:latin typeface="Arial"/>
              </a:rPr>
              <a:t>-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73080" y="1844640"/>
            <a:ext cx="2803680" cy="23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he Thalys cab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7 signalling systems side-     by-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5400000">
            <a:off x="3423600" y="3110760"/>
            <a:ext cx="1187280" cy="1249200"/>
          </a:xfrm>
          <a:custGeom>
            <a:avLst/>
            <a:gdLst>
              <a:gd name="textAreaLeft" fmla="*/ 395640 w 1187280"/>
              <a:gd name="textAreaRight" fmla="*/ 1017000 w 1187280"/>
              <a:gd name="textAreaTop" fmla="*/ 719640 h 1249200"/>
              <a:gd name="textAreaBottom" fmla="*/ 1069920 h 1249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ecc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20880" y="765000"/>
            <a:ext cx="80103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Why an EU action on ERTMS?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974880" y="1627200"/>
            <a:ext cx="85294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additional syste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lled on a locomotive results in a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c5e1a"/>
                </a:solidFill>
                <a:latin typeface="Arial"/>
              </a:rPr>
              <a:t>exponential incre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500"/>
              </a:spcAft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s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equipping the locomotiv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500"/>
              </a:spcAft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 of te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quired to demonstrate that all equipment works safely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06480" y="765000"/>
            <a:ext cx="65437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Without ERTMS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0:53:32Z</dcterms:created>
  <dc:creator>Kathy</dc:creator>
  <dc:description/>
  <dc:language>en-US</dc:language>
  <cp:lastModifiedBy>Otradnova</cp:lastModifiedBy>
  <dcterms:modified xsi:type="dcterms:W3CDTF">2009-11-23T10:40:20Z</dcterms:modified>
  <cp:revision>243</cp:revision>
  <dc:subject>NEW GUIDELINES</dc:subject>
  <dc:title>DG TREN</dc:title>
</cp:coreProperties>
</file>