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7E25-65FE-4603-9814-C1E905600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7752-5514-4447-8A94-208E640E5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EA77-CF3A-4E82-B891-7DF3BABEF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0EC1-751D-4A15-B0E8-F829BD5AF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5A3A-E384-4ACC-822C-1D0492448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102A-479B-458D-B2B7-E59F7CC94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EE3B-FEBC-44DC-860A-FE10EF584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67FA-DC1C-454C-8B28-81AE6D8A4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CE18-07C1-43E7-BCC2-C14A61705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C275-93B2-47F4-BF0E-7F4880CDA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77A6-B048-4E3D-96D6-E844E9F3D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ED35-ED45-4B19-9EE3-76520DFB4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08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08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08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92000" y="64166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4149-CD76-4E90-8B66-7CFF00E49D6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365760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d084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d084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a Bai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sent Masons L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Private Partnerships playing a more importa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e for Public Private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28564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challenges facing rail PP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ity of rai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 or traffic forecast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uth African experience – Gautrain: currently unde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rish experience – Metro North and Metro West: Currently in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4560" y="2349360"/>
            <a:ext cx="6840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NDON    DUBAI    BEIJING    SHANGHAI    HONG KONG    SINGAPORE </a:t>
            </a:r>
            <a:br>
              <a:rPr sz="600"/>
            </a:b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THER UK LOCATIONS: BIRMINGHAM    BRISTOL    EDINBURGH    GLASGOW    LEEDS    MANCHE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insent Masons LLP is a limited liability partnership registered in England &amp; Wales (registered number: OC333653) and regulated by the Solicitors Regulation Authority.  The word 'partner', used in relation to the LLP, refers to a member of the LLP or an employee or consultant of the LLP or any affiliated firm who is a lawyer with equivalent standing and qualifications. A list of the members of the LLP, and of those non-members who are designated as partners, is displayed at the LLP's registered office: CityPoint, One Ropemaker Street, London, EC2Y 9AH, United Kingdom.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use 'Pinsent Masons' to refer to Pinsent Masons LLP and affiliated entities that practise under the name 'Pinsent Masons' or a name that incorporates those words. Reference to 'Pinsent Masons' is to Pinsent Masons LLP and/or one or more of those affiliated entities as the context requires. For important regulatory information please visit: www.pinsentmasons.co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Pinsent Masons LLP 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5805360"/>
            <a:ext cx="20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pinsentmasons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insent Masons"/>
          <p:cNvPicPr/>
          <p:nvPr/>
        </p:nvPicPr>
        <p:blipFill>
          <a:blip r:embed="rId3"/>
          <a:stretch/>
        </p:blipFill>
        <p:spPr>
          <a:xfrm>
            <a:off x="3708360" y="4941720"/>
            <a:ext cx="1690560" cy="75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6:19:35Z</dcterms:created>
  <dc:creator>Pinsent Masons</dc:creator>
  <dc:description/>
  <dc:language>en-US</dc:language>
  <cp:lastModifiedBy>Marilley</cp:lastModifiedBy>
  <cp:lastPrinted>2009-11-17T13:18:02Z</cp:lastPrinted>
  <dcterms:modified xsi:type="dcterms:W3CDTF">2009-11-17T13:18:49Z</dcterms:modified>
  <cp:revision>18</cp:revision>
  <dc:subject/>
  <dc:title>PROJECT FINANCE IN AFRICA</dc:title>
</cp:coreProperties>
</file>