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7614-E910-4EBB-93E8-73918FCE4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2448-D414-4C18-ABF4-D42AE9166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E387-1AAB-47E0-BFC6-62AC47937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B9DF-13EC-4594-8F7C-5D21EDEAC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39EC-8252-4B81-A8BF-5F10A4C1B8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35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0418-7791-401D-A677-FE0EB612D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54E0-F272-4FF0-9CF2-CAFDF6465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A242-FAFA-41DF-A8C8-461D36BF1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05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AF90B-437C-4C5A-A5EF-AA2774581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D088-7EB4-4F6F-9F20-18B54305D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35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DCA5C-732D-4E70-8ACE-3E398816A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352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3AA6-1BBB-4596-A4F4-474338646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d0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d08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d0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d08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d084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492000" y="641664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A121-ECEE-4958-9410-6C9569F61E06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2"/>
          </p:nvPr>
        </p:nvSpPr>
        <p:spPr>
          <a:xfrm>
            <a:off x="3657600" y="4876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d0845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cd0845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cd0845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AKING RAIL PPPs WOR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a Bai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insent Masons LL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KING RAIL PPPs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0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Private Partnerships playing a more important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0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e for Public Private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KING RAIL PPPs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228564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challenges facing rail PP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0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tical 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0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xity of rai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0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and or traffic forecasting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AKING RAIL PPPs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0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uth African experience – Gautrain: currently under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d0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rish experience – Metro North and Metro West: Currently in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4560" y="2349360"/>
            <a:ext cx="68403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ONDON    DUBAI    BEIJING    SHANGHAI    HONG KONG    SINGAPORE </a:t>
            </a:r>
            <a:br>
              <a:rPr sz="600"/>
            </a:br>
            <a:r>
              <a:rPr b="0" lang="en-GB" sz="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THER UK LOCATIONS: BIRMINGHAM    BRISTOL    EDINBURGH    GLASGOW    LEEDS    MANCHEST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insent Masons LLP is a limited liability partnership registered in England &amp; Wales (registered number: OC333653) and regulated by the Solicitors Regulation Authority.  The word 'partner', used in relation to the LLP, refers to a member of the LLP or an employee or consultant of the LLP or any affiliated firm who is a lawyer with equivalent standing and qualifications. A list of the members of the LLP, and of those non-members who are designated as partners, is displayed at the LLP's registered office: CityPoint, One Ropemaker Street, London, EC2Y 9AH, United Kingdom. 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 use 'Pinsent Masons' to refer to Pinsent Masons LLP and affiliated entities that practise under the name 'Pinsent Masons' or a name that incorporates those words. Reference to 'Pinsent Masons' is to Pinsent Masons LLP and/or one or more of those affiliated entities as the context requires. For important regulatory information please visit: www.pinsentmasons.com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© Pinsent Masons LLP 200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64000" y="5805360"/>
            <a:ext cx="208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ww.pinsentmasons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Pinsent Masons"/>
          <p:cNvPicPr/>
          <p:nvPr/>
        </p:nvPicPr>
        <p:blipFill>
          <a:blip r:embed="rId3"/>
          <a:stretch/>
        </p:blipFill>
        <p:spPr>
          <a:xfrm>
            <a:off x="3708360" y="4941720"/>
            <a:ext cx="1690560" cy="75564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6:19:35Z</dcterms:created>
  <dc:creator>Pinsent Masons</dc:creator>
  <dc:description/>
  <dc:language>en-US</dc:language>
  <cp:lastModifiedBy>Marilley</cp:lastModifiedBy>
  <cp:lastPrinted>2009-11-17T13:18:02Z</cp:lastPrinted>
  <dcterms:modified xsi:type="dcterms:W3CDTF">2009-11-17T13:18:49Z</dcterms:modified>
  <cp:revision>18</cp:revision>
  <dc:subject/>
  <dc:title>PROJECT FINANCE IN AFRICA</dc:title>
</cp:coreProperties>
</file>