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9.jpeg" ContentType="image/jpeg"/>
  <Override PartName="/ppt/media/image23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32.png" ContentType="image/png"/>
  <Override PartName="/ppt/media/image15.wmf" ContentType="image/x-wmf"/>
  <Override PartName="/ppt/media/image5.wmf" ContentType="image/x-wmf"/>
  <Override PartName="/ppt/media/image33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jpeg" ContentType="image/jpeg"/>
  <Override PartName="/ppt/media/image13.wmf" ContentType="image/x-wmf"/>
  <Override PartName="/ppt/media/image28.wmf" ContentType="image/x-wmf"/>
  <Override PartName="/ppt/media/image30.png" ContentType="image/png"/>
  <Override PartName="/ppt/media/image3.jpeg" ContentType="image/jpeg"/>
  <Override PartName="/ppt/media/image14.wmf" ContentType="image/x-wmf"/>
  <Override PartName="/ppt/media/image29.png" ContentType="image/png"/>
  <Override PartName="/ppt/media/image31.png" ContentType="image/png"/>
  <Override PartName="/ppt/media/image1.png" ContentType="image/pn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D1AAA-7197-4A7A-88E0-E930072EB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38411-77C4-4E4B-9231-C1023655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33D14-EB19-405F-A1B0-9991AD69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AFD7E-2BF5-4B9C-A1B8-F10DA8E6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16FA-EC29-494B-8541-EFA7E2D8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5755-1838-41C2-A278-2C828868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5FCB-3B89-4230-A90D-11AFD0C2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4365-6824-4C59-93A4-F0DEB46A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0EDD-8B7F-4163-8206-FABEDF73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FF5F-E88D-4FFE-A3BE-5198D4F5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D2F2-D99A-4541-A69E-C8B4A281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7EE74-BE1A-4C71-AA7A-F5936240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297A-9439-4215-ADFD-F27143B8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F3AC-DF0B-4DAA-8A4C-E8EC2FE7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60918-BC97-4A41-BC78-D9F904FE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D1C3-C842-4D53-AD24-87EAF2B9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F9AA-EB89-43C0-85DF-9BC9C9C7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86991-6196-4BC3-B873-5635BAE2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73134-E974-4503-B906-0D55443C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664FF-F9A9-4934-8B98-5B832F3A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90FC9-F41D-4DA3-87D2-05E2EDDA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B9D34-B6C8-4167-83FA-C0DAE72D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90E82-6989-49DC-9D28-6DDEA5A2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440A2-340F-48CD-84D0-F55FC2B9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4736-CDFB-4B4F-8CA0-1195F05BA3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A263-3706-4218-874A-11E4555DA86E}" type="datetime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6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C59F-B1E9-446D-9F22-F4F2AB4FD9A8}" type="datetime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6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4A35-EA34-402D-8512-6B4BC367AF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3280" y="1828800"/>
            <a:ext cx="6300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Global Financial Crisis and Trans-Siberian Railway Transpor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31640" y="4266720"/>
            <a:ext cx="7659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Hisako Tsu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Economic Research Institute for Northeast Asia (ER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November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6172200"/>
            <a:ext cx="4105440" cy="12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Arial"/>
              </a:rPr>
              <a:t>禁無断転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2009 ER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B660-F4C5-43F2-9F1E-9164A87EA5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スライド番号プレースホル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92D6-E6EA-4350-AB6E-42DFAD4E5E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Block Trains Departing Vostochny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DSC00787"/>
          <p:cNvPicPr/>
          <p:nvPr/>
        </p:nvPicPr>
        <p:blipFill>
          <a:blip r:embed="rId1"/>
          <a:stretch/>
        </p:blipFill>
        <p:spPr>
          <a:xfrm>
            <a:off x="4716360" y="1413000"/>
            <a:ext cx="4249800" cy="31874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DSC00798"/>
          <p:cNvPicPr/>
          <p:nvPr/>
        </p:nvPicPr>
        <p:blipFill>
          <a:blip r:embed="rId2"/>
          <a:stretch/>
        </p:blipFill>
        <p:spPr>
          <a:xfrm>
            <a:off x="250920" y="3213000"/>
            <a:ext cx="4319640" cy="32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80C38-4730-4EC0-A552-AAE72D6371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スライド番号プレースホル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CBA2-B99E-4687-8C63-8279D84C93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he Four Periods in the History of TSR International Container Transport: (1) &amp;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(1) </a:t>
            </a:r>
            <a:r>
              <a:rPr b="0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Land Bridge era: 1970s–198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Transit cargo from Japan to Europe and the Middle East, established in 19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Soviet Union set low transit charges in order to secure foreign currency; about 30% lower than the Deep S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Benefited from the unstable political situation in the Middle E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983: Container volume reached 110,683 TEU (filled onl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(2) </a:t>
            </a:r>
            <a:r>
              <a:rPr b="0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Period of chaos: 199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Service deteriorated after the collapse of the Soviet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The route lost its economic competitiveness versus the Deep Sea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The Deep Sea rate decreased due to technological progress and market compe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7E5E0-6D07-45D8-8860-AD98EEBE81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スライド番号プレースホル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1E1E-2041-45AA-866D-8E3FF38055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ransit Cargo Originating in or Destined for Japan: </a:t>
            </a:r>
            <a:br>
              <a:rPr sz="28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971–2006 (filled containers only, data from TSIOAJ)</a:t>
            </a:r>
            <a:br>
              <a:rPr sz="3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Rectangle 15"/>
          <p:cNvGraphicFramePr/>
          <p:nvPr/>
        </p:nvGraphicFramePr>
        <p:xfrm>
          <a:off x="468360" y="1484280"/>
          <a:ext cx="8280360" cy="51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84280"/>
                    <a:ext cx="828036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2E135-68D1-4154-BF62-4B7700687E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スライド番号プレースホル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A92F-2E7C-43E7-BE22-8FE8E3B7E7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he Four Periods in the History of TSR International Container Transport: (3) &amp;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(3) </a:t>
            </a:r>
            <a:r>
              <a:rPr b="0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Recovery period: From 2000 -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Booming Russian economy and active demand for im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Growth due to increase in export cargo shipped directly or via Finland transit from the ROK and China to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Electrical appliances, consumer goods, automob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Improvement in rail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Congestion on competing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(4) </a:t>
            </a:r>
            <a:r>
              <a:rPr b="0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From transit to Russian import/export: 2006 -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Sharp decline in Finland transit cargo due to the abolition of preferential charges for transit car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switching to the Deep Sea route for transport to Finland, or being exported directly to Rus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Local production in Russia by automobile manufacturers from the ROK &amp; Japan is accelerating → the TSR route is used for shipments of production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30A62-0C01-4C9E-BABB-C4564AFBCB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ontainer Throughput at Vostochny Port</a:t>
            </a:r>
            <a:br>
              <a:rPr sz="28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Including coastal and empty containers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400,724 TEU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Rectangle 15"/>
          <p:cNvGraphicFramePr/>
          <p:nvPr/>
        </p:nvGraphicFramePr>
        <p:xfrm>
          <a:off x="971640" y="1981080"/>
          <a:ext cx="7416720" cy="468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981080"/>
                    <a:ext cx="741672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278DF-A8D1-454A-AAEE-4D0C8FB4DB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スライド番号プレースホル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048D-20AA-4C33-AEFE-D151FBB2C6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Volume of International Containers Handled at Vostochny Port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-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About 30</a:t>
            </a:r>
            <a:r>
              <a:rPr b="0" lang="ja-JP" sz="1800" spc="-1" strike="noStrike">
                <a:solidFill>
                  <a:srgbClr val="00007d"/>
                </a:solidFill>
                <a:latin typeface="Arial"/>
              </a:rPr>
              <a:t>％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of total were empty conta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Rectangle 15"/>
          <p:cNvGraphicFramePr/>
          <p:nvPr/>
        </p:nvGraphicFramePr>
        <p:xfrm>
          <a:off x="468360" y="1773360"/>
          <a:ext cx="813600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81360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73E71-A141-4D81-88EE-2A4EA2D54B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スライド番号プレースホル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53BE-9190-49D4-8604-A7933CDCB6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SR Cargo Volume by Direction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Vostochny Port, filled containers only</a:t>
            </a:r>
            <a:br>
              <a:rPr sz="2400"/>
            </a:b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WB:EB = 85:15 (2008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68360" y="1773360"/>
          <a:ext cx="8351640" cy="508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8351640" cy="50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D3417-A2A4-4C73-A3C9-59F9B766B5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スライド番号プレースホル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C4EE-41CB-448D-B474-9A9FFB74E1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SR Container Volume Handled at Vostochny Port by Country </a:t>
            </a:r>
            <a:br>
              <a:rPr sz="28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ROK: China: Japan = 66: 31: 3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(2008)</a:t>
            </a:r>
            <a:br>
              <a:rPr sz="2000"/>
            </a:b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Filled containers only. Not including int’l transshipment at Bus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20" y="1916280"/>
          <a:ext cx="8642160" cy="482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16280"/>
                    <a:ext cx="8642160" cy="48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1B56F-8E23-48A9-878E-04812E48A7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2E95-66A8-4724-B9E2-36C6787AF4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Rapidly Growing Russian Import and Diminishing Transit Cargo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(Vostochny Port, Filled containers on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24000" y="1628640"/>
          <a:ext cx="8280360" cy="522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28640"/>
                    <a:ext cx="828036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0BA03-6A04-4181-98BA-CC77B2EB33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スライド番号プレースホル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B940-5F2D-4B54-88F0-7AA6257B20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Reasons for th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Revival of the TSR Route: From 2000 -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Booming Russian economy, generating active demand for im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ROK cargo played a key 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Household electrical appliances and automobile parts destined for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Export of production components resulting from direct investment in Russia and the CIS – ‘Project Cargo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Hyundai, Kia, Daewoo, LG, Samsung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Surge in Chinese c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Exports of Chinese-made consumer goods to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Congestion and high cost on competing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Crowded St. Petersburg Port and Finnish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he improvement of block train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3ED6F-1BD9-4E33-93CD-63C00742CC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スライド番号プレースホル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A8AC-9025-42A5-9725-DF4CB62A5F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Overview of the TSR Trans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Route, performance and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Business Trends</a:t>
            </a:r>
            <a:r>
              <a:rPr b="0" lang="ja-JP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n Past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Reflecting booming Russian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mpact of the Global Financial Crisis: 2008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Decline of trade vol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A sharp decline of the Deep Sea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he “Watershed”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Analytical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Can TSR compete against the Deep Se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ssues and Opportunities of the TSR Trans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Issues: costs, customs clea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Opportunities: finished c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D1016-8545-49D2-9861-4828CF5FD1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スライド番号プレースホルダ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4B6A-0C46-4EEC-8CE4-6BC91C19B2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Booming Russian Economy</a:t>
            </a:r>
            <a:br>
              <a:rPr sz="2800"/>
            </a:b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- Growing Russian trade with Japan &amp; the R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Rectangle 15"/>
          <p:cNvGraphicFramePr/>
          <p:nvPr/>
        </p:nvGraphicFramePr>
        <p:xfrm>
          <a:off x="179280" y="1628640"/>
          <a:ext cx="4392720" cy="23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8640"/>
                    <a:ext cx="439272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Rectangle 15"/>
          <p:cNvGraphicFramePr/>
          <p:nvPr/>
        </p:nvGraphicFramePr>
        <p:xfrm>
          <a:off x="4572000" y="1628640"/>
          <a:ext cx="4392720" cy="23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7" name="Rectangl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628640"/>
                    <a:ext cx="439272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Rectangle 15"/>
          <p:cNvGraphicFramePr/>
          <p:nvPr/>
        </p:nvGraphicFramePr>
        <p:xfrm>
          <a:off x="4572000" y="4000680"/>
          <a:ext cx="4392720" cy="26683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9" name="Rectangle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4000680"/>
                    <a:ext cx="4392720" cy="26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Rectangle 15"/>
          <p:cNvGraphicFramePr/>
          <p:nvPr/>
        </p:nvGraphicFramePr>
        <p:xfrm>
          <a:off x="179280" y="4000680"/>
          <a:ext cx="4392720" cy="26683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81" name="Rectangle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280" y="4000680"/>
                    <a:ext cx="4392720" cy="26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CC5B6-2B2C-476B-B7BC-A94B961485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mpact of The Global Financial Crisis: 2008~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Sharp decline of Russian trade volume since Q4 of 2008</a:t>
            </a:r>
            <a:br>
              <a:rPr sz="2400"/>
            </a:b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- Slow recovery of Russian im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Rectangle 15"/>
          <p:cNvGraphicFramePr/>
          <p:nvPr/>
        </p:nvGraphicFramePr>
        <p:xfrm>
          <a:off x="755640" y="1700280"/>
          <a:ext cx="7848720" cy="500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00280"/>
                    <a:ext cx="784872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A2192-D5F9-44E7-93F0-FE1AC95977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Sharp decline of ROK-Russia trade since Q4 of 2008</a:t>
            </a:r>
            <a:br>
              <a:rPr sz="24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Slow recovery of ROK exports to Russia versus fast recovery of imports from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Rectangle 15"/>
          <p:cNvGraphicFramePr/>
          <p:nvPr/>
        </p:nvGraphicFramePr>
        <p:xfrm>
          <a:off x="755640" y="1844640"/>
          <a:ext cx="7921800" cy="481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844640"/>
                    <a:ext cx="792180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7D144-528B-44D7-9B52-9F6712A2A3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Sharp Decline of Japan-Russia trade since Q4 of 2008</a:t>
            </a:r>
            <a:br>
              <a:rPr sz="2400"/>
            </a:b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Slow recovery of Japanese exports to Russia versus fast recovery of imports from 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Rectangle 15"/>
          <p:cNvGraphicFramePr/>
          <p:nvPr/>
        </p:nvGraphicFramePr>
        <p:xfrm>
          <a:off x="395280" y="1700280"/>
          <a:ext cx="7848720" cy="495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700280"/>
                    <a:ext cx="7848720" cy="49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EC428-2AE2-4EAE-A3B9-AA466588A5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mpact of The World Financial Crisis: 2008~</a:t>
            </a:r>
            <a:br>
              <a:rPr sz="2800"/>
            </a:b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- Contraction of Japan-Russia Trade: 1H of 2009 vs.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Rectangle 15"/>
          <p:cNvGraphicFramePr/>
          <p:nvPr/>
        </p:nvGraphicFramePr>
        <p:xfrm>
          <a:off x="179280" y="1628640"/>
          <a:ext cx="4753080" cy="26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8640"/>
                    <a:ext cx="475308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Rectangle 15"/>
          <p:cNvGraphicFramePr/>
          <p:nvPr/>
        </p:nvGraphicFramePr>
        <p:xfrm>
          <a:off x="179280" y="4221000"/>
          <a:ext cx="4753080" cy="263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5" name="Rectangl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4221000"/>
                    <a:ext cx="4753080" cy="26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03280" y="1981080"/>
            <a:ext cx="368316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Exports to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Total: -81.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Cars: -88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Machinery: -61.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mports from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Total: -43.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Oil &amp; gas: -41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Coal: -6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Metals: -73.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EAC2F-3E34-4BEC-AACA-57A8144B1B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SR route lost economic competitiveness under the World Financial Crisis</a:t>
            </a:r>
            <a:br>
              <a:rPr sz="28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Sharp decline of the Deep Sea rate from summer 2008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Frequent rises in rail charges up to 2008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Rectangle 15"/>
          <p:cNvGraphicFramePr/>
          <p:nvPr/>
        </p:nvGraphicFramePr>
        <p:xfrm>
          <a:off x="468360" y="2781360"/>
          <a:ext cx="4038480" cy="356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81360"/>
                    <a:ext cx="4038480" cy="35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Rectangle 15"/>
          <p:cNvGraphicFramePr/>
          <p:nvPr/>
        </p:nvGraphicFramePr>
        <p:xfrm>
          <a:off x="4643280" y="2781360"/>
          <a:ext cx="4038840" cy="3552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1" name="Rectangl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2781360"/>
                    <a:ext cx="403884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7A055-9702-437E-B3C7-FA1E69DC4E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Sharp Decline of the TSR Container Volume</a:t>
            </a:r>
            <a:br>
              <a:rPr sz="24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Russian imports and ROK cargo declined severely in 2009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ROK ‘project cargo’ has shifted to Deep Sea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Rectangle 15"/>
          <p:cNvGraphicFramePr/>
          <p:nvPr/>
        </p:nvGraphicFramePr>
        <p:xfrm>
          <a:off x="0" y="2349360"/>
          <a:ext cx="4500720" cy="399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49360"/>
                    <a:ext cx="450072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427640" y="2205000"/>
          <a:ext cx="4536720" cy="4103280"/>
        </p:xfrm>
        <a:graphic>
          <a:graphicData uri="http://schemas.openxmlformats.org/drawingml/2006/table">
            <a:tbl>
              <a:tblPr/>
              <a:tblGrid>
                <a:gridCol w="3598560"/>
                <a:gridCol w="938160"/>
              </a:tblGrid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Jan.-Aug. (2009 vs.200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SR 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▲</a:t>
                      </a: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International 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▲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Russian</a:t>
                      </a: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Im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▲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Russian Ex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▲</a:t>
                      </a: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Russia - Ch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▲</a:t>
                      </a: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Russia - 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▲</a:t>
                      </a:r>
                      <a:r>
                        <a:rPr b="0" lang="en-US" sz="20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Russia - Jap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▲</a:t>
                      </a: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09AF0-5FCB-42C2-9F25-5CA7074F91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Recent Trends in TSR vs. Deep Sea Charges</a:t>
            </a:r>
            <a:br>
              <a:rPr sz="28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Deep Sea charges declined until summer of 2009, followed by a recovery in the Fall of 2009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TSR charges decreased slightly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The gap is narrowing as the economy reco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Rectangle 15"/>
          <p:cNvGraphicFramePr/>
          <p:nvPr/>
        </p:nvGraphicFramePr>
        <p:xfrm>
          <a:off x="1476360" y="2374920"/>
          <a:ext cx="6335640" cy="429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374920"/>
                    <a:ext cx="633564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A0109-F7D5-4698-918F-C97688CA5B9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Watershed’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: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“Where entering from the east (by TSR) and from the west (by Deep Sea) compete on an equal footing” in transporting from Japan to Russia – ‘X’ in th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Rectangle 15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5473440" cy="44766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724000" y="2204640"/>
            <a:ext cx="3419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7d"/>
                </a:solidFill>
                <a:latin typeface="Century"/>
              </a:rPr>
              <a:t>a </a:t>
            </a:r>
            <a:r>
              <a:rPr b="0" lang="en-US" sz="1800" spc="-1" strike="noStrike">
                <a:solidFill>
                  <a:srgbClr val="00007d"/>
                </a:solidFill>
                <a:latin typeface="Century"/>
              </a:rPr>
              <a:t>=Maritime freight charges from Japan to Nakhod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7d"/>
                </a:solidFill>
                <a:latin typeface="Century"/>
              </a:rPr>
              <a:t>b </a:t>
            </a:r>
            <a:r>
              <a:rPr b="0" lang="en-US" sz="1800" spc="-1" strike="noStrike">
                <a:solidFill>
                  <a:srgbClr val="00007d"/>
                </a:solidFill>
                <a:latin typeface="Century"/>
              </a:rPr>
              <a:t>=Railway fees/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7d"/>
                </a:solidFill>
                <a:latin typeface="Century"/>
              </a:rPr>
              <a:t>c </a:t>
            </a:r>
            <a:r>
              <a:rPr b="0" lang="en-US" sz="1800" spc="-1" strike="noStrike">
                <a:solidFill>
                  <a:srgbClr val="00007d"/>
                </a:solidFill>
                <a:latin typeface="Century"/>
              </a:rPr>
              <a:t>=Maritime freight charges from Japan to St. Peter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7d"/>
                </a:solidFill>
                <a:latin typeface="Century"/>
              </a:rPr>
              <a:t>d </a:t>
            </a:r>
            <a:r>
              <a:rPr b="0" lang="en-US" sz="1800" spc="-1" strike="noStrike">
                <a:solidFill>
                  <a:srgbClr val="00007d"/>
                </a:solidFill>
                <a:latin typeface="Century"/>
              </a:rPr>
              <a:t>=The truck haulage fees from St. Petersburg to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7d"/>
                </a:solidFill>
                <a:latin typeface="Century"/>
              </a:rPr>
              <a:t>K </a:t>
            </a:r>
            <a:r>
              <a:rPr b="0" lang="en-US" sz="1800" spc="-1" strike="noStrike">
                <a:solidFill>
                  <a:srgbClr val="00007d"/>
                </a:solidFill>
                <a:latin typeface="Century"/>
              </a:rPr>
              <a:t>=The distance from Nakhodka to St. Petersb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39828-C08A-4E76-9457-6BAA451BFF2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Simulation: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000" spc="-1" strike="noStrike">
                <a:solidFill>
                  <a:srgbClr val="00007d"/>
                </a:solidFill>
                <a:latin typeface="Arial"/>
              </a:rPr>
              <a:t>Case II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: </a:t>
            </a:r>
            <a:r>
              <a:rPr b="0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Increase of Ocean Shipping Charges from Japan to Nakhodka</a:t>
            </a:r>
            <a:r>
              <a:rPr b="0" lang="ja-JP" sz="20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Watershed shifts to east</a:t>
            </a:r>
            <a:r>
              <a:rPr b="0" lang="ja-JP" sz="20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Contraction of TSR market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00007d"/>
                </a:solidFill>
                <a:latin typeface="Arial"/>
              </a:rPr>
              <a:t>Case III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: </a:t>
            </a:r>
            <a:r>
              <a:rPr b="0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Increase of Ocean Shipping Charges (Deep Sea) from Japan to St. Petersburg</a:t>
            </a:r>
            <a:r>
              <a:rPr b="0" lang="ja-JP" sz="20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Watershed shifts to west</a:t>
            </a:r>
            <a:r>
              <a:rPr b="0" lang="ja-JP" sz="20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Expansion of TS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Rectangle 15" descr=""/>
          <p:cNvPicPr/>
          <p:nvPr/>
        </p:nvPicPr>
        <p:blipFill>
          <a:blip r:embed="rId1"/>
          <a:stretch/>
        </p:blipFill>
        <p:spPr>
          <a:xfrm>
            <a:off x="0" y="3033720"/>
            <a:ext cx="4716360" cy="3824280"/>
          </a:xfrm>
          <a:prstGeom prst="rect">
            <a:avLst/>
          </a:prstGeom>
          <a:ln w="0">
            <a:noFill/>
          </a:ln>
        </p:spPr>
      </p:pic>
      <p:pic>
        <p:nvPicPr>
          <p:cNvPr id="214" name="Rectangle 15" descr=""/>
          <p:cNvPicPr/>
          <p:nvPr/>
        </p:nvPicPr>
        <p:blipFill>
          <a:blip r:embed="rId2"/>
          <a:stretch/>
        </p:blipFill>
        <p:spPr>
          <a:xfrm>
            <a:off x="4500720" y="3062160"/>
            <a:ext cx="4643280" cy="37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8CFC7-3B5C-465D-A71A-739D38DBC1A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2200" y="195120"/>
            <a:ext cx="8497800" cy="646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664F6-A5A7-4E36-B9C4-C813963FBD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Simulation:</a:t>
            </a:r>
            <a:br>
              <a:rPr sz="2800"/>
            </a:br>
            <a:r>
              <a:rPr b="0" i="1" lang="en-US" sz="2000" spc="-1" strike="noStrike">
                <a:solidFill>
                  <a:srgbClr val="00007d"/>
                </a:solidFill>
                <a:latin typeface="Arial"/>
              </a:rPr>
              <a:t>Case IV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: </a:t>
            </a:r>
            <a:r>
              <a:rPr b="0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Decrease of  Railway Charges</a:t>
            </a:r>
            <a:r>
              <a:rPr b="0" lang="ja-JP" sz="20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Watershed shifts to west</a:t>
            </a:r>
            <a:r>
              <a:rPr b="0" lang="ja-JP" sz="2000" spc="-1" strike="noStrike">
                <a:solidFill>
                  <a:srgbClr val="00007d"/>
                </a:solidFill>
                <a:latin typeface="Arial"/>
              </a:rPr>
              <a:t>→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Expansion of TS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Rectangle 15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47527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9527A-233B-4DB9-8742-4D2C4EF3F0F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Summary of the ‘Watershed’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Deep Sea rate is determined in the global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Uncontrol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High under a</a:t>
            </a:r>
            <a:r>
              <a:rPr b="0" lang="ja-JP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booming economy, low under rec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Fluctuate sharply – bigger shifts than rail 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Moscow is the main destination of the East Asian c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SR transportation is competitive only when the TSR rate is equal or lower than the Deep Se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When ‘Watershed’ is located in the west of Moscow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East Asian cargo owners are sensitive to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Required tariff setting for maintaining competi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Flexible tariff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Cooperation of </a:t>
            </a:r>
            <a:r>
              <a:rPr b="0" i="1" lang="en-US" sz="2000" spc="-1" strike="noStrike">
                <a:solidFill>
                  <a:srgbClr val="00007d"/>
                </a:solidFill>
                <a:latin typeface="Arial"/>
              </a:rPr>
              <a:t>rail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7d"/>
                </a:solidFill>
                <a:latin typeface="Arial"/>
              </a:rPr>
              <a:t>sea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7d"/>
                </a:solidFill>
                <a:latin typeface="Arial"/>
              </a:rPr>
              <a:t>port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segments of TSR transpor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Quick action to meet a quick change of the Deep Sea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B9924-EE64-480F-875A-8136D39B0A4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スライド番号プレースホル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AA746-6CD6-4D01-9050-7C83846B36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ssues and Recommendations Concerning the TSR Route</a:t>
            </a: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Price competitiveness – The “Watershed” flo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A flexible tariff policy is required to compete against the Deep Sea rate under various econom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A close cooperation is necessary among </a:t>
            </a:r>
            <a:r>
              <a:rPr b="0" lang="en-US" sz="1800" spc="-1" strike="noStrike" u="sng">
                <a:solidFill>
                  <a:srgbClr val="00007d"/>
                </a:solidFill>
                <a:uFillTx/>
                <a:latin typeface="Arial"/>
              </a:rPr>
              <a:t>rail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007d"/>
                </a:solidFill>
                <a:uFillTx/>
                <a:latin typeface="Arial"/>
              </a:rPr>
              <a:t>sea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and </a:t>
            </a:r>
            <a:r>
              <a:rPr b="0" lang="en-US" sz="1800" spc="-1" strike="noStrike" u="sng">
                <a:solidFill>
                  <a:srgbClr val="00007d"/>
                </a:solidFill>
                <a:uFillTx/>
                <a:latin typeface="Arial"/>
              </a:rPr>
              <a:t>port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Seamless ser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Time consuming </a:t>
            </a:r>
            <a:r>
              <a:rPr b="0" lang="en-US" sz="1800" spc="-1" strike="noStrike" u="sng">
                <a:solidFill>
                  <a:srgbClr val="00007d"/>
                </a:solidFill>
                <a:uFillTx/>
                <a:latin typeface="Arial"/>
              </a:rPr>
              <a:t>customs clearances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at Far Eastern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Desired to introduce an electronic document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Frequent feeder services are desirable between Japanese and Russian ports – only 2 services per mont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Port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Wagon and container su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3CCC1-26AC-43D9-AA9D-333F18CF8CC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ransporting finished cars by TSR</a:t>
            </a:r>
            <a:br>
              <a:rPr sz="28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Faster delivery:10 days to Moscow by using a specialized block train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Mazda shipped new cars from Zarubino Port in 2008-09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18 days from Japanese port to Moscow (30 days saving vs. traditional Finnish rou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Rectangle 15" descr=""/>
          <p:cNvPicPr/>
          <p:nvPr/>
        </p:nvPicPr>
        <p:blipFill>
          <a:blip r:embed="rId1"/>
          <a:stretch/>
        </p:blipFill>
        <p:spPr>
          <a:xfrm>
            <a:off x="1332000" y="2276640"/>
            <a:ext cx="6553080" cy="432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17C25-9FF6-4E28-A611-84C6706991B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スライド番号プレースホル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4EBE-BF02-4BE9-9F06-A0F3201521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nternational Container Transport on the Trans-Siberian Rail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77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International Multimodal Transpor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Marine transport + Russian ports + Russian railways + railways in various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Numerous players: forwarders are in charge of control and combine various 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Shorter distance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compared to the Deep Sea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Japan/ROK–Moscow: ½ of Deep Sea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Faster services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using </a:t>
            </a:r>
            <a:r>
              <a:rPr b="0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block tra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Faster than the Deep Sea route for transport from Japan/ROK to Finland, Eastern Europe and destinations in Russia/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Japan/ROK–Moscow: 20–25 days by the TSR, 40–45 days by the Deep S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7d"/>
                </a:solidFill>
                <a:uFillTx/>
                <a:latin typeface="Arial"/>
              </a:rPr>
              <a:t>Economic competitiveness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 versus Deep Sea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The ‘Watershed’ flo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The Deep Sea rate fluctuates dras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Frequent rise of RZD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ED8E5-2CA6-4B26-98C1-E40A0741B8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aritime Transport to Russian Ports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Vostochny &amp; Vladivostok Ports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Busan is the de facto hub port of East Asia, and a fairly large volume of Japanese and Chinese containers are transshipped at Bu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00720" y="2276640"/>
          <a:ext cx="4464000" cy="4222440"/>
        </p:xfrm>
        <a:graphic>
          <a:graphicData uri="http://schemas.openxmlformats.org/drawingml/2006/table">
            <a:tbl>
              <a:tblPr/>
              <a:tblGrid>
                <a:gridCol w="1414440"/>
                <a:gridCol w="1858680"/>
                <a:gridCol w="595440"/>
                <a:gridCol w="5954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hippint Comp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orts of C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hips/We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hips/Mon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aersk L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us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P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us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MA-CG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us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FESCO &amp; Hyundai (KSD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usan, Uls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FESCO China Direct (FCD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Hong Kong, Shanghai, Ningbo, Qingdao, Tianjin, Yantian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inok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usan, Ulsan, Ningbo, Shangh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KL, PCL, KM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Bus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FESCO &amp; Mitsui O.S.K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Kobe, Nagoya, Yokohama, Toyama, Moji, Niig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/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592200" y="6575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Rectangle 15" descr=""/>
          <p:cNvPicPr/>
          <p:nvPr/>
        </p:nvPicPr>
        <p:blipFill>
          <a:blip r:embed="rId1"/>
          <a:srcRect l="12324" t="0" r="0" b="3701"/>
          <a:stretch/>
        </p:blipFill>
        <p:spPr>
          <a:xfrm>
            <a:off x="684360" y="2060640"/>
            <a:ext cx="3600360" cy="47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850B4-1E8E-479B-8D2A-BD7F49BB22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スライド番号プレースホル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4F12-6F21-46CA-9BAD-89D22C7363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Vostochny Port Container 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DSC00877"/>
          <p:cNvPicPr/>
          <p:nvPr/>
        </p:nvPicPr>
        <p:blipFill>
          <a:blip r:embed="rId1"/>
          <a:stretch/>
        </p:blipFill>
        <p:spPr>
          <a:xfrm>
            <a:off x="1332000" y="1360440"/>
            <a:ext cx="6696000" cy="502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40E83-E8D7-4AE2-8B09-693F420F70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ommercial Port of Vladivostok (VMTP)</a:t>
            </a:r>
            <a:br>
              <a:rPr sz="28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Expanding container terminals at VMTP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Started regular block train services in 2009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Joined FESCO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Rectangle 15" descr=""/>
          <p:cNvPicPr/>
          <p:nvPr/>
        </p:nvPicPr>
        <p:blipFill>
          <a:blip r:embed="rId1"/>
          <a:stretch/>
        </p:blipFill>
        <p:spPr>
          <a:xfrm>
            <a:off x="457200" y="2508120"/>
            <a:ext cx="4475160" cy="3137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Rectangle 15"/>
          <p:cNvGraphicFramePr/>
          <p:nvPr/>
        </p:nvGraphicFramePr>
        <p:xfrm>
          <a:off x="4932360" y="1557360"/>
          <a:ext cx="3851280" cy="2592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6" name="Rectangle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360" y="1557360"/>
                    <a:ext cx="385128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Rectangle 15"/>
          <p:cNvGraphicFramePr/>
          <p:nvPr/>
        </p:nvGraphicFramePr>
        <p:xfrm>
          <a:off x="4932360" y="4076640"/>
          <a:ext cx="3851280" cy="2567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28" name="Rectangle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32360" y="4076640"/>
                    <a:ext cx="385128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441CC-A9DE-4FBC-BC7D-715599C7F1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スライド番号プレースホルダ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D1AD-CB13-4FAE-A140-E953D593BA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Rail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Block T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Composition: 100–150T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80ft wagons (40ft containers x 2) x 38 = 152T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Length: Max. 1,00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Transit times: 11 days to Moscow from Vostochny/Vladivost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Major operator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TransContainer, Russkaya Troyka, F.E. Trans, DVT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Major routes from Vostochny/Vladivost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Moscow, Taganrog (Hyundai), Izhevsk (Kia), Uzbekistan (GM Daewoo), Yelabuga (Isuz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Other rou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China-Moscow, Germany-Moscow, Baltic ports-Kazakhstan, Czech-Kaluga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Ordinary Trains for small-lot carg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racing information can be obtained on a daily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71589-F533-4811-8323-A3B37C64AE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スライド番号プレースホルダ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C69B-772F-4DB8-A5A7-C46BE57ADE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7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he Trans-Siberian Railway: performance</a:t>
            </a:r>
            <a:br>
              <a:rPr sz="36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Transport capacity: about 100 million tons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Transport performance: 72.2 million tons (2005)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Major transport items: coal, petroleum, timber, steel</a:t>
            </a:r>
            <a:br>
              <a:rPr sz="2000"/>
            </a:b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- Container share is small but increasing fast – 709,672 TEU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Rectangle 15"/>
          <p:cNvGraphicFramePr/>
          <p:nvPr/>
        </p:nvGraphicFramePr>
        <p:xfrm>
          <a:off x="1258920" y="2421000"/>
          <a:ext cx="6553080" cy="41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Rectangle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421000"/>
                    <a:ext cx="65530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AB842-8674-4345-8B33-30ADECB1A2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6T07:42:35Z</dcterms:created>
  <dc:creator>TSUJI</dc:creator>
  <dc:description/>
  <dc:language>en-US</dc:language>
  <cp:lastModifiedBy>Marilley</cp:lastModifiedBy>
  <cp:lastPrinted>2009-11-16T10:15:35Z</cp:lastPrinted>
  <dcterms:modified xsi:type="dcterms:W3CDTF">2009-11-16T10:16:32Z</dcterms:modified>
  <cp:revision>188</cp:revision>
  <dc:subject/>
  <dc:title>ロシアのロジスティックの現状と将来 －日本企業の今後の基本戦略－</dc:title>
</cp:coreProperties>
</file>