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wmf" ContentType="image/x-wmf"/>
  <Override PartName="/ppt/media/image26.wmf" ContentType="image/x-wmf"/>
  <Override PartName="/ppt/media/image25.wmf" ContentType="image/x-wmf"/>
  <Override PartName="/ppt/media/image24.wmf" ContentType="image/x-wmf"/>
  <Override PartName="/ppt/media/image9.jpeg" ContentType="image/jpeg"/>
  <Override PartName="/ppt/media/image23.wmf" ContentType="image/x-wmf"/>
  <Override PartName="/ppt/media/image4.jpeg" ContentType="image/jpeg"/>
  <Override PartName="/ppt/media/image10.wmf" ContentType="image/x-wmf"/>
  <Override PartName="/ppt/media/image2.png" ContentType="image/png"/>
  <Override PartName="/ppt/media/image32.png" ContentType="image/png"/>
  <Override PartName="/ppt/media/image15.wmf" ContentType="image/x-wmf"/>
  <Override PartName="/ppt/media/image5.wmf" ContentType="image/x-wmf"/>
  <Override PartName="/ppt/media/image33.jpeg" ContentType="image/jpeg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jpeg" ContentType="image/jpeg"/>
  <Override PartName="/ppt/media/image13.wmf" ContentType="image/x-wmf"/>
  <Override PartName="/ppt/media/image28.wmf" ContentType="image/x-wmf"/>
  <Override PartName="/ppt/media/image30.png" ContentType="image/png"/>
  <Override PartName="/ppt/media/image3.jpeg" ContentType="image/jpeg"/>
  <Override PartName="/ppt/media/image14.wmf" ContentType="image/x-wmf"/>
  <Override PartName="/ppt/media/image29.png" ContentType="image/png"/>
  <Override PartName="/ppt/media/image31.png" ContentType="image/png"/>
  <Override PartName="/ppt/media/image1.png" ContentType="image/png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media/image22.wmf" ContentType="image/x-wmf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embeddings/oleObject4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0E1832-C590-4071-B957-581E84C1E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215F8A-904A-4B24-8D60-ECB3877CE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D8FEF5-E955-4719-AA4D-7D9112634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536D2C-825F-485B-B5D9-E976DCC46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BC57B-AC7F-4CB0-97EA-86FDF12FF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4C3AC-043E-44A0-8AC0-E2CEB57A3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4B80E-5DBC-4172-A2AD-68E8D56B9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52D1C-27B5-460F-86A5-1B72525A1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BF96D-979A-4A38-A2FD-EA4885F62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56BC4-AC58-4B9D-9A8B-0C3BC6D61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D92B4-7507-46E8-B8B8-5466E9C13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D582C3-577D-4F50-A4AB-36272F984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C16E5-79EF-4483-BC55-74D6671E3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E73E5-77BC-440D-B8B9-2958D81AA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7228F-D06E-4E01-A3B6-14CED1B9D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65A20-9FF0-430A-85AF-D1A61007C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B62A7-74DC-4CB7-8AF6-7E84B0056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70B3FE-3627-4185-8EC9-77BA6D52B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0AFB5E-4DCF-4958-9ED5-01D5DCEE3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C82307-508E-4370-825D-DB0EBC177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A3CE2D-50AD-4688-8C6B-877C895E7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F828CE-9B86-40EA-AB73-3D7A254C1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1EBDF0-AFA9-4ECE-83E1-17DBBD0DD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8D91A7-624D-4341-94F8-448EE3DFE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FEBC5-881B-4991-98C7-4605C2E7BB8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B2E74-9423-4BA5-98E4-0B0C3EB8CEA1}" type="datetime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26/0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BD0C1-F6CA-48E6-8EE8-D2EC3D167825}" type="datetime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26/0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D82AF-62F1-46F9-9E03-EE6174D9296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7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18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19.wmf"/><Relationship Id="rId9" Type="http://schemas.openxmlformats.org/officeDocument/2006/relationships/slideLayout" Target="../slideLayouts/slideLayout1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3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4.wmf"/><Relationship Id="rId5" Type="http://schemas.openxmlformats.org/officeDocument/2006/relationships/slideLayout" Target="../slideLayouts/slideLayout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5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6.wmf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5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843280" y="1828800"/>
            <a:ext cx="63007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Global Financial Crisis and Trans-Siberian Railway Transpor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31640" y="4266720"/>
            <a:ext cx="7659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Hisako Tsuj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Economic Research Institute for Northeast Asia (ERIN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November, 20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95280" y="6172200"/>
            <a:ext cx="4105440" cy="12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cc0000"/>
                </a:solidFill>
                <a:latin typeface="Arial"/>
              </a:rPr>
              <a:t>禁無断転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09 ERI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26649-C404-42DC-AAEB-08E0CC6743A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スライド番号プレースホルダ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12762-6F72-45F6-8DC0-4393A5620C8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Block Trains Departing Vostochny 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5" descr="DSC00787"/>
          <p:cNvPicPr/>
          <p:nvPr/>
        </p:nvPicPr>
        <p:blipFill>
          <a:blip r:embed="rId1"/>
          <a:stretch/>
        </p:blipFill>
        <p:spPr>
          <a:xfrm>
            <a:off x="4716360" y="1413000"/>
            <a:ext cx="4249800" cy="31874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7" descr="DSC00798"/>
          <p:cNvPicPr/>
          <p:nvPr/>
        </p:nvPicPr>
        <p:blipFill>
          <a:blip r:embed="rId2"/>
          <a:stretch/>
        </p:blipFill>
        <p:spPr>
          <a:xfrm>
            <a:off x="250920" y="3213000"/>
            <a:ext cx="4319640" cy="3240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10B3ED-E5E9-4931-9D89-BB55E23B1B2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スライド番号プレースホルダ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44970-F874-4E23-B6FB-1A87AB226BF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7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The Four Periods in the History of TSR International Container Transport: (1) &amp; 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(1) </a:t>
            </a:r>
            <a:r>
              <a:rPr b="0" lang="en-US" sz="2400" spc="-1" strike="noStrike" u="sng">
                <a:solidFill>
                  <a:srgbClr val="00007d"/>
                </a:solidFill>
                <a:uFillTx/>
                <a:latin typeface="Arial"/>
              </a:rPr>
              <a:t>Land Bridge era: 1970s–1980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Transit cargo from Japan to Europe and the Middle East, established in 197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Soviet Union set low transit charges in order to secure foreign currency; about 30% lower than the Deep S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Benefited from the unstable political situation in the Middle Ea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1983: Container volume reached 110,683 TEU (filled only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(2) </a:t>
            </a:r>
            <a:r>
              <a:rPr b="0" lang="en-US" sz="2400" spc="-1" strike="noStrike" u="sng">
                <a:solidFill>
                  <a:srgbClr val="00007d"/>
                </a:solidFill>
                <a:uFillTx/>
                <a:latin typeface="Arial"/>
              </a:rPr>
              <a:t>Period of chaos: 1990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Service deteriorated after the collapse of the Soviet Un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The route lost its economic competitiveness versus the Deep Sea rou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7d"/>
                </a:solidFill>
                <a:latin typeface="Arial"/>
              </a:rPr>
              <a:t>The Deep Sea rate decreased due to technological progress and market compet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25A42D-F063-40E0-8F91-95211069FD9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スライド番号プレースホルダ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13559-B79E-48CD-B11C-099B9E49803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7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Transit Cargo Originating in or Destined for Japan: </a:t>
            </a:r>
            <a:br>
              <a:rPr sz="2800"/>
            </a:b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1971–2006 (filled containers only, data from TSIOAJ)</a:t>
            </a:r>
            <a:br>
              <a:rPr sz="32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5" name="Rectangle 15"/>
          <p:cNvGraphicFramePr/>
          <p:nvPr/>
        </p:nvGraphicFramePr>
        <p:xfrm>
          <a:off x="468360" y="1484280"/>
          <a:ext cx="8280360" cy="5184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6" name="Rectangle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484280"/>
                    <a:ext cx="8280360" cy="518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DEBEA4-543B-4A82-8FAF-15524103730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スライド番号プレースホルダ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36B8C-A7B6-445C-B455-367A2737F93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The Four Periods in the History of TSR International Container Transport: (3) &amp; (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(3) </a:t>
            </a:r>
            <a:r>
              <a:rPr b="0" lang="en-US" sz="2400" spc="-1" strike="noStrike" u="sng">
                <a:solidFill>
                  <a:srgbClr val="00007d"/>
                </a:solidFill>
                <a:uFillTx/>
                <a:latin typeface="Arial"/>
              </a:rPr>
              <a:t>Recovery period: From 2000 - 20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Booming Russian economy and active demand for impor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Growth due to increase in export cargo shipped directly or via Finland transit from the ROK and China to Russ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7d"/>
                </a:solidFill>
                <a:latin typeface="Arial"/>
              </a:rPr>
              <a:t>Electrical appliances, consumer goods, automob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Improvement in rail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Congestion on competing rou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(4) </a:t>
            </a:r>
            <a:r>
              <a:rPr b="0" lang="en-US" sz="2400" spc="-1" strike="noStrike" u="sng">
                <a:solidFill>
                  <a:srgbClr val="00007d"/>
                </a:solidFill>
                <a:uFillTx/>
                <a:latin typeface="Arial"/>
              </a:rPr>
              <a:t>From transit to Russian import/export: 2006 - 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Sharp decline in Finland transit cargo due to the abolition of preferential charges for transit carg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7d"/>
                </a:solidFill>
                <a:latin typeface="Arial"/>
              </a:rPr>
              <a:t>switching to the Deep Sea route for transport to Finland, or being exported directly to Russ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Local production in Russia by automobile manufacturers from the ROK &amp; Japan is accelerating → the TSR route is used for shipments of production par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64EFA4-5DD0-4C7D-8CD7-4C087E7D0DC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Container Throughput at Vostochny Port</a:t>
            </a:r>
            <a:br>
              <a:rPr sz="2800"/>
            </a:b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- Including coastal and empty containers</a:t>
            </a:r>
            <a:br>
              <a:rPr sz="2000"/>
            </a:b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- 400,724 TEU in 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1" name="Rectangle 15"/>
          <p:cNvGraphicFramePr/>
          <p:nvPr/>
        </p:nvGraphicFramePr>
        <p:xfrm>
          <a:off x="971640" y="1981080"/>
          <a:ext cx="7416720" cy="468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2" name="Rectangle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1981080"/>
                    <a:ext cx="7416720" cy="468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032E4F-01F1-483E-B62D-2DEB177124C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スライド番号プレースホルダ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7EB92-D744-4430-8FAA-5CA407050D3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4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Volume of International Containers Handled at Vostochny Port</a:t>
            </a: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 -</a:t>
            </a:r>
            <a:r>
              <a:rPr b="0" lang="en-US" sz="1800" spc="-1" strike="noStrike">
                <a:solidFill>
                  <a:srgbClr val="00007d"/>
                </a:solidFill>
                <a:latin typeface="Arial"/>
              </a:rPr>
              <a:t> About 30</a:t>
            </a:r>
            <a:r>
              <a:rPr b="0" lang="ja-JP" sz="1800" spc="-1" strike="noStrike">
                <a:solidFill>
                  <a:srgbClr val="00007d"/>
                </a:solidFill>
                <a:latin typeface="Arial"/>
              </a:rPr>
              <a:t>％ </a:t>
            </a:r>
            <a:r>
              <a:rPr b="0" lang="en-US" sz="1800" spc="-1" strike="noStrike">
                <a:solidFill>
                  <a:srgbClr val="00007d"/>
                </a:solidFill>
                <a:latin typeface="Arial"/>
              </a:rPr>
              <a:t>of total were empty contain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5" name="Rectangle 15"/>
          <p:cNvGraphicFramePr/>
          <p:nvPr/>
        </p:nvGraphicFramePr>
        <p:xfrm>
          <a:off x="468360" y="1773360"/>
          <a:ext cx="8136000" cy="4824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6" name="Rectangle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73360"/>
                    <a:ext cx="8136000" cy="482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C2E2BE-75DD-432E-A10D-C2D0D390C37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スライド番号プレースホルダ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BC7D6-AE92-4C14-AAA1-010ED57832C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TSR Cargo Volume by Direction </a:t>
            </a: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- Vostochny Port, filled containers only</a:t>
            </a:r>
            <a:br>
              <a:rPr sz="2400"/>
            </a:br>
            <a:r>
              <a:rPr b="0" lang="en-US" sz="1800" spc="-1" strike="noStrike">
                <a:solidFill>
                  <a:srgbClr val="00007d"/>
                </a:solidFill>
                <a:latin typeface="Arial"/>
              </a:rPr>
              <a:t>WB:EB = 85:15 (2008)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468360" y="1773360"/>
          <a:ext cx="8351640" cy="5084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73360"/>
                    <a:ext cx="8351640" cy="508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5EF23E-C4B2-44D0-A1A9-3B4E0A82CBD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スライド番号プレースホルダ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2F064-2054-4459-877B-01749A3481B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TSR Container Volume Handled at Vostochny Port by Country </a:t>
            </a:r>
            <a:br>
              <a:rPr sz="2800"/>
            </a:b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ROK: China: Japan = 66: 31: 3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(2008)</a:t>
            </a:r>
            <a:br>
              <a:rPr sz="2000"/>
            </a:br>
            <a:r>
              <a:rPr b="0" lang="en-US" sz="1800" spc="-1" strike="noStrike">
                <a:solidFill>
                  <a:srgbClr val="00007d"/>
                </a:solidFill>
                <a:latin typeface="Arial"/>
              </a:rPr>
              <a:t>Filled containers only. Not including int’l transshipment at Busa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250920" y="1916280"/>
          <a:ext cx="8642160" cy="4825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916280"/>
                    <a:ext cx="8642160" cy="48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8CD75B-14C5-47D5-A005-DF2C2191F6E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スライド番号プレースホルダ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A7C9D-7E57-4025-A83B-3A2771D5514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95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Rapidly Growing Russian Import and Diminishing Transit Cargo</a:t>
            </a: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(Vostochny Port, Filled containers onl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324000" y="1628640"/>
          <a:ext cx="8280360" cy="5229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628640"/>
                    <a:ext cx="8280360" cy="522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01A25F-0BC7-40FF-A873-9E191F636A7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スライド番号プレースホルダ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064C2-2F26-4C04-B256-00607DCB678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0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Reasons for the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Revival of the TSR Route: From 2000 - 20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Booming Russian economy, generating active demand for im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ROK cargo played a key ro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Household electrical appliances and automobile parts destined for Russ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Export of production components resulting from direct investment in Russia and the CIS – ‘Project Cargo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7d"/>
                </a:solidFill>
                <a:latin typeface="Arial"/>
              </a:rPr>
              <a:t>Hyundai, Kia, Daewoo, LG, Samsung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Surge in Chinese car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Exports of Chinese-made consumer goods to Russ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Congestion and high cost on competing ro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Crowded St. Petersburg Port and Finnish rou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The improvement of block train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A13AD6-7CDB-490F-81BB-32A57E3850D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スライド番号プレースホルダ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1DCCF-E7C5-4AB8-923B-A66DEDE8377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95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Arial"/>
              </a:rPr>
              <a:t>Cont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Overview of the TSR Transpor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Route, performance and his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Business Trends</a:t>
            </a:r>
            <a:r>
              <a:rPr b="0" lang="ja-JP" sz="24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in Past 10 y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Reflecting booming Russian econom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Impact of the Global Financial Crisis: 2008~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Decline of trade volu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A sharp decline of the Deep Sea 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The “Watershed” Shif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Analytical frame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Can TSR compete against the Deep Se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Issues and Opportunities of the TSR Transpor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Issues: costs, customs clear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Opportunities: finished c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BD5DC6-A79A-4223-8C12-58982698D04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スライド番号プレースホルダ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13F1A-D6D5-414F-A85F-92094CDBFB7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0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Booming Russian Economy</a:t>
            </a:r>
            <a:br>
              <a:rPr sz="2800"/>
            </a:b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- Growing Russian trade with Japan &amp; the R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4" name="Rectangle 15"/>
          <p:cNvGraphicFramePr/>
          <p:nvPr/>
        </p:nvGraphicFramePr>
        <p:xfrm>
          <a:off x="179280" y="1628640"/>
          <a:ext cx="4392720" cy="2376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5" name="Rectangle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628640"/>
                    <a:ext cx="4392720" cy="23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6" name="Rectangle 15"/>
          <p:cNvGraphicFramePr/>
          <p:nvPr/>
        </p:nvGraphicFramePr>
        <p:xfrm>
          <a:off x="4572000" y="1628640"/>
          <a:ext cx="4392720" cy="23767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77" name="Rectangle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628640"/>
                    <a:ext cx="4392720" cy="23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8" name="Rectangle 15"/>
          <p:cNvGraphicFramePr/>
          <p:nvPr/>
        </p:nvGraphicFramePr>
        <p:xfrm>
          <a:off x="4572000" y="4000680"/>
          <a:ext cx="4392720" cy="266832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179" name="Rectangle 1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4000680"/>
                    <a:ext cx="4392720" cy="266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0" name="Rectangle 15"/>
          <p:cNvGraphicFramePr/>
          <p:nvPr/>
        </p:nvGraphicFramePr>
        <p:xfrm>
          <a:off x="179280" y="4000680"/>
          <a:ext cx="4392720" cy="266832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181" name="Rectangle 1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79280" y="4000680"/>
                    <a:ext cx="4392720" cy="266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D2CB5B-AD0A-474C-B862-C8456323A18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Impact of The Global Financial Crisis: 2008~</a:t>
            </a:r>
            <a:br>
              <a:rPr sz="2800"/>
            </a:b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- </a:t>
            </a: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Sharp decline of Russian trade volume since Q4 of 2008</a:t>
            </a:r>
            <a:br>
              <a:rPr sz="2400"/>
            </a:b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- Slow recovery of Russian im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Rectangle 15"/>
          <p:cNvGraphicFramePr/>
          <p:nvPr/>
        </p:nvGraphicFramePr>
        <p:xfrm>
          <a:off x="755640" y="1700280"/>
          <a:ext cx="7848720" cy="5003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4" name="Rectangle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1700280"/>
                    <a:ext cx="7848720" cy="50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788DC8-676D-4386-A782-74D2DCEA0A7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Sharp decline of ROK-Russia trade since Q4 of 2008</a:t>
            </a:r>
            <a:br>
              <a:rPr sz="2400"/>
            </a:b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- Slow recovery of ROK exports to Russia versus fast recovery of imports from Russ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6" name="Rectangle 15"/>
          <p:cNvGraphicFramePr/>
          <p:nvPr/>
        </p:nvGraphicFramePr>
        <p:xfrm>
          <a:off x="755640" y="1844640"/>
          <a:ext cx="7921800" cy="4819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7" name="Rectangle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1844640"/>
                    <a:ext cx="7921800" cy="481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FD7765-9662-44BD-84BB-F063A032903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Sharp Decline of Japan-Russia trade since Q4 of 2008</a:t>
            </a:r>
            <a:br>
              <a:rPr sz="2400"/>
            </a:b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Slow recovery of Japanese exports to Russia versus fast recovery of imports from Russ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9" name="Rectangle 15"/>
          <p:cNvGraphicFramePr/>
          <p:nvPr/>
        </p:nvGraphicFramePr>
        <p:xfrm>
          <a:off x="395280" y="1700280"/>
          <a:ext cx="7848720" cy="4954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0" name="Rectangle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700280"/>
                    <a:ext cx="7848720" cy="495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B49375-FFB1-43B7-B65F-7C79AF1ADB5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Impact of The World Financial Crisis: 2008~</a:t>
            </a:r>
            <a:br>
              <a:rPr sz="2800"/>
            </a:b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- Contraction of Japan-Russia Trade: 1H of 2009 vs. 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2" name="Rectangle 15"/>
          <p:cNvGraphicFramePr/>
          <p:nvPr/>
        </p:nvGraphicFramePr>
        <p:xfrm>
          <a:off x="179280" y="1628640"/>
          <a:ext cx="4753080" cy="2664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3" name="Rectangle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628640"/>
                    <a:ext cx="4753080" cy="266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4" name="Rectangle 15"/>
          <p:cNvGraphicFramePr/>
          <p:nvPr/>
        </p:nvGraphicFramePr>
        <p:xfrm>
          <a:off x="179280" y="4221000"/>
          <a:ext cx="4753080" cy="26370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95" name="Rectangle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9280" y="4221000"/>
                    <a:ext cx="4753080" cy="263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03280" y="1981080"/>
            <a:ext cx="368316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Exports to Russ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Total: -81.1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Cars: -88.7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Machinery: -61.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Imports from Russ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Total: -43.6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Oil &amp; gas: -41.7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Coal: -6.7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Metals: -73.2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668471-7D5C-4943-BB17-C96F6118BAE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7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TSR route lost economic competitiveness under the World Financial Crisis</a:t>
            </a:r>
            <a:br>
              <a:rPr sz="2800"/>
            </a:b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- Sharp decline of the Deep Sea rate from summer 2008</a:t>
            </a:r>
            <a:br>
              <a:rPr sz="2000"/>
            </a:b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- Frequent rises in rail charges up to 2008</a:t>
            </a:r>
            <a:br>
              <a:rPr sz="24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8" name="Rectangle 15"/>
          <p:cNvGraphicFramePr/>
          <p:nvPr/>
        </p:nvGraphicFramePr>
        <p:xfrm>
          <a:off x="468360" y="2781360"/>
          <a:ext cx="4038480" cy="3560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9" name="Rectangle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2781360"/>
                    <a:ext cx="4038480" cy="356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0" name="Rectangle 15"/>
          <p:cNvGraphicFramePr/>
          <p:nvPr/>
        </p:nvGraphicFramePr>
        <p:xfrm>
          <a:off x="4643280" y="2781360"/>
          <a:ext cx="4038840" cy="35528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01" name="Rectangle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3280" y="2781360"/>
                    <a:ext cx="4038840" cy="355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912AFA-016E-4573-AE77-5BDE72A8920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5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Sharp Decline of the TSR Container Volume</a:t>
            </a:r>
            <a:br>
              <a:rPr sz="2400"/>
            </a:b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- Russian imports and ROK cargo declined severely in 2009</a:t>
            </a:r>
            <a:br>
              <a:rPr sz="2000"/>
            </a:b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- ROK ‘project cargo’ has shifted to Deep Sea rou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3" name="Rectangle 15"/>
          <p:cNvGraphicFramePr/>
          <p:nvPr/>
        </p:nvGraphicFramePr>
        <p:xfrm>
          <a:off x="0" y="2349360"/>
          <a:ext cx="4500720" cy="3994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4" name="Rectangle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349360"/>
                    <a:ext cx="4500720" cy="399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5" name=""/>
          <p:cNvGraphicFramePr/>
          <p:nvPr/>
        </p:nvGraphicFramePr>
        <p:xfrm>
          <a:off x="4427640" y="2205000"/>
          <a:ext cx="4536720" cy="4103280"/>
        </p:xfrm>
        <a:graphic>
          <a:graphicData uri="http://schemas.openxmlformats.org/drawingml/2006/table">
            <a:tbl>
              <a:tblPr/>
              <a:tblGrid>
                <a:gridCol w="3598560"/>
                <a:gridCol w="938160"/>
              </a:tblGrid>
              <a:tr h="51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Jan.-Aug. (2009 vs.2008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TSR Contain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▲</a:t>
                      </a:r>
                      <a:r>
                        <a:rPr b="0" lang="en-US" sz="2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3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International contain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▲</a:t>
                      </a:r>
                      <a:r>
                        <a:rPr b="0" lang="en-US" sz="20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6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Russian</a:t>
                      </a:r>
                      <a:r>
                        <a:rPr b="0" lang="en-US" sz="2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Impor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▲</a:t>
                      </a:r>
                      <a:r>
                        <a:rPr b="0" lang="en-US" sz="20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7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Russian Expor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▲</a:t>
                      </a:r>
                      <a:r>
                        <a:rPr b="0" lang="en-US" sz="2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5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Russia - Chi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▲</a:t>
                      </a:r>
                      <a:r>
                        <a:rPr b="0" lang="en-US" sz="2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Russia - RO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▲</a:t>
                      </a:r>
                      <a:r>
                        <a:rPr b="0" lang="en-US" sz="20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7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Russia - Jap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▲</a:t>
                      </a:r>
                      <a:r>
                        <a:rPr b="0" lang="en-US" sz="2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3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F4F310-8FD7-4A48-9FA6-E57FB20E4C58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Recent Trends in TSR vs. Deep Sea Charges</a:t>
            </a:r>
            <a:br>
              <a:rPr sz="2800"/>
            </a:b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- Deep Sea charges declined until summer of 2009, followed by a recovery in the Fall of 2009</a:t>
            </a:r>
            <a:br>
              <a:rPr sz="2000"/>
            </a:b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- TSR charges decreased slightly</a:t>
            </a:r>
            <a:br>
              <a:rPr sz="2000"/>
            </a:b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- The gap is narrowing as the economy reco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7" name="Rectangle 15"/>
          <p:cNvGraphicFramePr/>
          <p:nvPr/>
        </p:nvGraphicFramePr>
        <p:xfrm>
          <a:off x="1476360" y="2374920"/>
          <a:ext cx="6335640" cy="4292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8" name="Rectangle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374920"/>
                    <a:ext cx="6335640" cy="429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19BFE0-1679-4F57-8C64-F70F85A41C64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‘</a:t>
            </a: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Watershed’</a:t>
            </a: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 : </a:t>
            </a: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“Where entering from the east (by TSR) and from the west (by Deep Sea) compete on an equal footing” in transporting from Japan to Russia – ‘X’ in the dia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Rectangle 15" descr=""/>
          <p:cNvPicPr/>
          <p:nvPr/>
        </p:nvPicPr>
        <p:blipFill>
          <a:blip r:embed="rId1"/>
          <a:stretch/>
        </p:blipFill>
        <p:spPr>
          <a:xfrm>
            <a:off x="250920" y="2060640"/>
            <a:ext cx="5473440" cy="447660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5724000" y="2204640"/>
            <a:ext cx="341964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7d"/>
                </a:solidFill>
                <a:latin typeface="Century"/>
              </a:rPr>
              <a:t>a </a:t>
            </a:r>
            <a:r>
              <a:rPr b="0" lang="en-US" sz="1800" spc="-1" strike="noStrike">
                <a:solidFill>
                  <a:srgbClr val="00007d"/>
                </a:solidFill>
                <a:latin typeface="Century"/>
              </a:rPr>
              <a:t>=Maritime freight charges from Japan to Nakhod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7d"/>
                </a:solidFill>
                <a:latin typeface="Century"/>
              </a:rPr>
              <a:t>b </a:t>
            </a:r>
            <a:r>
              <a:rPr b="0" lang="en-US" sz="1800" spc="-1" strike="noStrike">
                <a:solidFill>
                  <a:srgbClr val="00007d"/>
                </a:solidFill>
                <a:latin typeface="Century"/>
              </a:rPr>
              <a:t>=Railway fees/k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7d"/>
                </a:solidFill>
                <a:latin typeface="Century"/>
              </a:rPr>
              <a:t>c </a:t>
            </a:r>
            <a:r>
              <a:rPr b="0" lang="en-US" sz="1800" spc="-1" strike="noStrike">
                <a:solidFill>
                  <a:srgbClr val="00007d"/>
                </a:solidFill>
                <a:latin typeface="Century"/>
              </a:rPr>
              <a:t>=Maritime freight charges from Japan to St. Petersbu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7d"/>
                </a:solidFill>
                <a:latin typeface="Century"/>
              </a:rPr>
              <a:t>d </a:t>
            </a:r>
            <a:r>
              <a:rPr b="0" lang="en-US" sz="1800" spc="-1" strike="noStrike">
                <a:solidFill>
                  <a:srgbClr val="00007d"/>
                </a:solidFill>
                <a:latin typeface="Century"/>
              </a:rPr>
              <a:t>=The truck haulage fees from St. Petersburg to destin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7d"/>
                </a:solidFill>
                <a:latin typeface="Century"/>
              </a:rPr>
              <a:t>K </a:t>
            </a:r>
            <a:r>
              <a:rPr b="0" lang="en-US" sz="1800" spc="-1" strike="noStrike">
                <a:solidFill>
                  <a:srgbClr val="00007d"/>
                </a:solidFill>
                <a:latin typeface="Century"/>
              </a:rPr>
              <a:t>=The distance from Nakhodka to St. Petersbu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045677-2257-4509-89E4-156F85B7400E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23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Simulation:</a:t>
            </a: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 </a:t>
            </a:r>
            <a:br>
              <a:rPr sz="2400"/>
            </a:br>
            <a:r>
              <a:rPr b="0" i="1" lang="en-US" sz="2000" spc="-1" strike="noStrike">
                <a:solidFill>
                  <a:srgbClr val="00007d"/>
                </a:solidFill>
                <a:latin typeface="Arial"/>
              </a:rPr>
              <a:t>Case II</a:t>
            </a: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 : </a:t>
            </a:r>
            <a:r>
              <a:rPr b="0" lang="en-US" sz="2000" spc="-1" strike="noStrike" u="sng">
                <a:solidFill>
                  <a:srgbClr val="00007d"/>
                </a:solidFill>
                <a:uFillTx/>
                <a:latin typeface="Arial"/>
              </a:rPr>
              <a:t>Increase of Ocean Shipping Charges from Japan to Nakhodka</a:t>
            </a:r>
            <a:r>
              <a:rPr b="0" lang="ja-JP" sz="2000" spc="-1" strike="noStrike">
                <a:solidFill>
                  <a:srgbClr val="00007d"/>
                </a:solidFill>
                <a:latin typeface="Arial"/>
              </a:rPr>
              <a:t>→</a:t>
            </a: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Watershed shifts to east</a:t>
            </a:r>
            <a:r>
              <a:rPr b="0" lang="ja-JP" sz="2000" spc="-1" strike="noStrike">
                <a:solidFill>
                  <a:srgbClr val="00007d"/>
                </a:solidFill>
                <a:latin typeface="Arial"/>
              </a:rPr>
              <a:t>→</a:t>
            </a: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Contraction of TSR market</a:t>
            </a:r>
            <a:br>
              <a:rPr sz="2000"/>
            </a:br>
            <a:br>
              <a:rPr sz="2000"/>
            </a:br>
            <a:r>
              <a:rPr b="0" i="1" lang="en-US" sz="2000" spc="-1" strike="noStrike">
                <a:solidFill>
                  <a:srgbClr val="00007d"/>
                </a:solidFill>
                <a:latin typeface="Arial"/>
              </a:rPr>
              <a:t>Case III</a:t>
            </a: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: </a:t>
            </a:r>
            <a:r>
              <a:rPr b="0" lang="en-US" sz="2000" spc="-1" strike="noStrike" u="sng">
                <a:solidFill>
                  <a:srgbClr val="00007d"/>
                </a:solidFill>
                <a:uFillTx/>
                <a:latin typeface="Arial"/>
              </a:rPr>
              <a:t>Increase of Ocean Shipping Charges (Deep Sea) from Japan to St. Petersburg</a:t>
            </a:r>
            <a:r>
              <a:rPr b="0" lang="ja-JP" sz="2000" spc="-1" strike="noStrike">
                <a:solidFill>
                  <a:srgbClr val="00007d"/>
                </a:solidFill>
                <a:latin typeface="Arial"/>
              </a:rPr>
              <a:t>→</a:t>
            </a: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Watershed shifts to west</a:t>
            </a:r>
            <a:r>
              <a:rPr b="0" lang="ja-JP" sz="2000" spc="-1" strike="noStrike">
                <a:solidFill>
                  <a:srgbClr val="00007d"/>
                </a:solidFill>
                <a:latin typeface="Arial"/>
              </a:rPr>
              <a:t>→</a:t>
            </a: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Expansion of TSR mark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Rectangle 15" descr=""/>
          <p:cNvPicPr/>
          <p:nvPr/>
        </p:nvPicPr>
        <p:blipFill>
          <a:blip r:embed="rId1"/>
          <a:stretch/>
        </p:blipFill>
        <p:spPr>
          <a:xfrm>
            <a:off x="0" y="3033720"/>
            <a:ext cx="4716360" cy="3824280"/>
          </a:xfrm>
          <a:prstGeom prst="rect">
            <a:avLst/>
          </a:prstGeom>
          <a:ln w="0">
            <a:noFill/>
          </a:ln>
        </p:spPr>
      </p:pic>
      <p:pic>
        <p:nvPicPr>
          <p:cNvPr id="214" name="Rectangle 15" descr=""/>
          <p:cNvPicPr/>
          <p:nvPr/>
        </p:nvPicPr>
        <p:blipFill>
          <a:blip r:embed="rId2"/>
          <a:stretch/>
        </p:blipFill>
        <p:spPr>
          <a:xfrm>
            <a:off x="4500720" y="3062160"/>
            <a:ext cx="4643280" cy="3795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705147-3293-4488-AEB2-CABAEFC802BB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322200" y="195120"/>
            <a:ext cx="8497800" cy="6467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78944C-87CA-463D-9B57-E6942B1FCE1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Simulation:</a:t>
            </a:r>
            <a:br>
              <a:rPr sz="2800"/>
            </a:br>
            <a:r>
              <a:rPr b="0" i="1" lang="en-US" sz="2000" spc="-1" strike="noStrike">
                <a:solidFill>
                  <a:srgbClr val="00007d"/>
                </a:solidFill>
                <a:latin typeface="Arial"/>
              </a:rPr>
              <a:t>Case IV</a:t>
            </a: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: </a:t>
            </a:r>
            <a:r>
              <a:rPr b="0" lang="en-US" sz="2000" spc="-1" strike="noStrike" u="sng">
                <a:solidFill>
                  <a:srgbClr val="00007d"/>
                </a:solidFill>
                <a:uFillTx/>
                <a:latin typeface="Arial"/>
              </a:rPr>
              <a:t>Decrease of  Railway Charges</a:t>
            </a:r>
            <a:r>
              <a:rPr b="0" lang="ja-JP" sz="2000" spc="-1" strike="noStrike">
                <a:solidFill>
                  <a:srgbClr val="00007d"/>
                </a:solidFill>
                <a:latin typeface="Arial"/>
              </a:rPr>
              <a:t>→</a:t>
            </a: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Watershed shifts to west</a:t>
            </a:r>
            <a:r>
              <a:rPr b="0" lang="ja-JP" sz="2000" spc="-1" strike="noStrike">
                <a:solidFill>
                  <a:srgbClr val="00007d"/>
                </a:solidFill>
                <a:latin typeface="Arial"/>
              </a:rPr>
              <a:t>→</a:t>
            </a: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Expansion of TSR mark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Rectangle 15" descr=""/>
          <p:cNvPicPr/>
          <p:nvPr/>
        </p:nvPicPr>
        <p:blipFill>
          <a:blip r:embed="rId1"/>
          <a:stretch/>
        </p:blipFill>
        <p:spPr>
          <a:xfrm>
            <a:off x="2195640" y="2492280"/>
            <a:ext cx="475272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3AA9AA-DE9F-452B-8CFD-FD1C3E4BD3CC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Summary of the ‘Watershed’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Deep Sea rate is determined in the global mark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Uncontroll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High under a</a:t>
            </a:r>
            <a:r>
              <a:rPr b="0" lang="ja-JP" sz="20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booming economy, low under rec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Fluctuate sharply – bigger shifts than rail char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Moscow is the main destination of the East Asian car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TSR transportation is competitive only when the TSR rate is equal or lower than the Deep Sea 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When ‘Watershed’ is located in the west of Moscow reg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East Asian cargo owners are sensitive to c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Required tariff setting for maintaining competitive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Flexible tariff poli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Cooperation of </a:t>
            </a:r>
            <a:r>
              <a:rPr b="0" i="1" lang="en-US" sz="2000" spc="-1" strike="noStrike">
                <a:solidFill>
                  <a:srgbClr val="00007d"/>
                </a:solidFill>
                <a:latin typeface="Arial"/>
              </a:rPr>
              <a:t>rail</a:t>
            </a: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00007d"/>
                </a:solidFill>
                <a:latin typeface="Arial"/>
              </a:rPr>
              <a:t>sea</a:t>
            </a: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 and </a:t>
            </a:r>
            <a:r>
              <a:rPr b="0" i="1" lang="en-US" sz="2000" spc="-1" strike="noStrike">
                <a:solidFill>
                  <a:srgbClr val="00007d"/>
                </a:solidFill>
                <a:latin typeface="Arial"/>
              </a:rPr>
              <a:t>port</a:t>
            </a: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 segments of TSR transpor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Quick action to meet a quick change of the Deep Sea 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009AC5-19E1-4D79-9DF2-47AED08ADEC1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スライド番号プレースホルダ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B70C3-F9A6-4E65-A540-6B8E72DAA1A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Issues and Recommendations Concerning the TSR Route</a:t>
            </a:r>
            <a:r>
              <a:rPr b="0" lang="en-US" sz="3200" spc="-1" strike="noStrike">
                <a:solidFill>
                  <a:srgbClr val="00007d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68360" y="148392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Price competitiveness – The “Watershed” floa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7d"/>
                </a:solidFill>
                <a:latin typeface="Arial"/>
              </a:rPr>
              <a:t>A flexible tariff policy is required to compete against the Deep Sea rate under various economic cond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7d"/>
                </a:solidFill>
                <a:latin typeface="Arial"/>
              </a:rPr>
              <a:t>A close cooperation is necessary among </a:t>
            </a:r>
            <a:r>
              <a:rPr b="0" lang="en-US" sz="1800" spc="-1" strike="noStrike" u="sng">
                <a:solidFill>
                  <a:srgbClr val="00007d"/>
                </a:solidFill>
                <a:uFillTx/>
                <a:latin typeface="Arial"/>
              </a:rPr>
              <a:t>rail</a:t>
            </a:r>
            <a:r>
              <a:rPr b="0" lang="en-US" sz="1800" spc="-1" strike="noStrike">
                <a:solidFill>
                  <a:srgbClr val="00007d"/>
                </a:solidFill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007d"/>
                </a:solidFill>
                <a:uFillTx/>
                <a:latin typeface="Arial"/>
              </a:rPr>
              <a:t>sea</a:t>
            </a:r>
            <a:r>
              <a:rPr b="0" lang="en-US" sz="1800" spc="-1" strike="noStrike">
                <a:solidFill>
                  <a:srgbClr val="00007d"/>
                </a:solidFill>
                <a:latin typeface="Arial"/>
              </a:rPr>
              <a:t> and </a:t>
            </a:r>
            <a:r>
              <a:rPr b="0" lang="en-US" sz="1800" spc="-1" strike="noStrike" u="sng">
                <a:solidFill>
                  <a:srgbClr val="00007d"/>
                </a:solidFill>
                <a:uFillTx/>
                <a:latin typeface="Arial"/>
              </a:rPr>
              <a:t>port</a:t>
            </a:r>
            <a:r>
              <a:rPr b="0" lang="en-US" sz="1800" spc="-1" strike="noStrike">
                <a:solidFill>
                  <a:srgbClr val="00007d"/>
                </a:solidFill>
                <a:latin typeface="Arial"/>
              </a:rPr>
              <a:t> seg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Seamless servi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7d"/>
                </a:solidFill>
                <a:latin typeface="Arial"/>
              </a:rPr>
              <a:t>Time consuming </a:t>
            </a:r>
            <a:r>
              <a:rPr b="0" lang="en-US" sz="1800" spc="-1" strike="noStrike" u="sng">
                <a:solidFill>
                  <a:srgbClr val="00007d"/>
                </a:solidFill>
                <a:uFillTx/>
                <a:latin typeface="Arial"/>
              </a:rPr>
              <a:t>customs clearances</a:t>
            </a:r>
            <a:r>
              <a:rPr b="0" lang="en-US" sz="1800" spc="-1" strike="noStrike">
                <a:solidFill>
                  <a:srgbClr val="00007d"/>
                </a:solidFill>
                <a:latin typeface="Arial"/>
              </a:rPr>
              <a:t> at Far Eastern po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7d"/>
                </a:solidFill>
                <a:latin typeface="Arial"/>
              </a:rPr>
              <a:t>Desired to introduce an electronic documentation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7d"/>
                </a:solidFill>
                <a:latin typeface="Arial"/>
              </a:rPr>
              <a:t>Frequent feeder services are desirable between Japanese and Russian ports – only 2 services per month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Infrastru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7d"/>
                </a:solidFill>
                <a:latin typeface="Arial"/>
              </a:rPr>
              <a:t>Port facil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7d"/>
                </a:solidFill>
                <a:latin typeface="Arial"/>
              </a:rPr>
              <a:t>Wagon and container supp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45B9E0-76AD-4A0A-81CA-995BA282BCEB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7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Transporting finished cars by TSR</a:t>
            </a:r>
            <a:br>
              <a:rPr sz="2800"/>
            </a:b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- Faster delivery:10 days to Moscow by using a specialized block train</a:t>
            </a:r>
            <a:br>
              <a:rPr sz="2000"/>
            </a:b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- Mazda shipped new cars from Zarubino Port in 2008-09</a:t>
            </a:r>
            <a:br>
              <a:rPr sz="2000"/>
            </a:b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- 18 days from Japanese port to Moscow (30 days saving vs. traditional Finnish rout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Rectangle 15" descr=""/>
          <p:cNvPicPr/>
          <p:nvPr/>
        </p:nvPicPr>
        <p:blipFill>
          <a:blip r:embed="rId1"/>
          <a:stretch/>
        </p:blipFill>
        <p:spPr>
          <a:xfrm>
            <a:off x="1332000" y="2276640"/>
            <a:ext cx="6553080" cy="4321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20DDBD-B4DB-4414-B1F3-AC13165DD887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スライド番号プレースホルダ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ACB63-091B-4E94-9F6A-C2C59CE5AF9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International Container Transport on the Trans-Siberian Rail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10920" y="1413000"/>
            <a:ext cx="7777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7d"/>
                </a:solidFill>
                <a:uFillTx/>
                <a:latin typeface="Arial"/>
              </a:rPr>
              <a:t>International Multimodal Transport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Marine transport + Russian ports + Russian railways + railways in various count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Numerous players: forwarders are in charge of control and combine various char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7d"/>
                </a:solidFill>
                <a:uFillTx/>
                <a:latin typeface="Arial"/>
              </a:rPr>
              <a:t>Shorter distance</a:t>
            </a: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 compared to the Deep Sea ro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Japan/ROK–Moscow: ½ of Deep Sea rou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7d"/>
                </a:solidFill>
                <a:uFillTx/>
                <a:latin typeface="Arial"/>
              </a:rPr>
              <a:t>Faster services</a:t>
            </a: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 using </a:t>
            </a:r>
            <a:r>
              <a:rPr b="0" lang="en-US" sz="2400" spc="-1" strike="noStrike" u="sng">
                <a:solidFill>
                  <a:srgbClr val="00007d"/>
                </a:solidFill>
                <a:uFillTx/>
                <a:latin typeface="Arial"/>
              </a:rPr>
              <a:t>block trai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Faster than the Deep Sea route for transport from Japan/ROK to Finland, Eastern Europe and destinations in Russia/C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Japan/ROK–Moscow: 20–25 days by the TSR, 40–45 days by the Deep S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7d"/>
                </a:solidFill>
                <a:uFillTx/>
                <a:latin typeface="Arial"/>
              </a:rPr>
              <a:t>Economic competitiveness</a:t>
            </a: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 versus Deep Sea ro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The ‘Watershed’ floa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The Deep Sea rate fluctuates drastical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Frequent rise of RZD 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470C5D-3E96-4F71-949A-7BBFD92F9CD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Maritime Transport to Russian Ports</a:t>
            </a:r>
            <a:br>
              <a:rPr sz="2000"/>
            </a:b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Vostochny &amp; Vladivostok Ports</a:t>
            </a:r>
            <a:br>
              <a:rPr sz="2000"/>
            </a:b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Busan is the de facto hub port of East Asia, and a fairly large volume of Japanese and Chinese containers are transshipped at Bus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4500720" y="2276640"/>
          <a:ext cx="4464000" cy="4222440"/>
        </p:xfrm>
        <a:graphic>
          <a:graphicData uri="http://schemas.openxmlformats.org/drawingml/2006/table">
            <a:tbl>
              <a:tblPr/>
              <a:tblGrid>
                <a:gridCol w="1414440"/>
                <a:gridCol w="1858680"/>
                <a:gridCol w="595440"/>
                <a:gridCol w="59544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Shippint Compan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Ports of Cal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Ships/Wee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Ships/Mont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Maersk Li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Bus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AP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Bus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CMA-CG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Bus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FESCO &amp; Hyundai (KSD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Busan, Uls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FESCO China Direct (FCD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Hong Kong, Shanghai, Ningbo, Qingdao, Tianjin, Yantian etc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Sinok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Busan, Ulsan, Ningbo, Shangha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CKL, PCL, KMT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Bus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FESCO &amp; Mitsui O.S.K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Kobe, Nagoya, Yokohama, Toyama, Moji, Niiga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1/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8" name=""/>
          <p:cNvSpPr/>
          <p:nvPr/>
        </p:nvSpPr>
        <p:spPr>
          <a:xfrm>
            <a:off x="592200" y="65754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Rectangle 15" descr=""/>
          <p:cNvPicPr/>
          <p:nvPr/>
        </p:nvPicPr>
        <p:blipFill>
          <a:blip r:embed="rId1"/>
          <a:srcRect l="12324" t="0" r="0" b="3701"/>
          <a:stretch/>
        </p:blipFill>
        <p:spPr>
          <a:xfrm>
            <a:off x="684360" y="2060640"/>
            <a:ext cx="3600360" cy="4797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CA0CD3-9DEB-40D0-AAFE-C0357DD04C7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スライド番号プレースホルダ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55974-63D1-4AD5-9B56-0AE2D81001C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0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Vostochny Port Container Termi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7" descr="DSC00877"/>
          <p:cNvPicPr/>
          <p:nvPr/>
        </p:nvPicPr>
        <p:blipFill>
          <a:blip r:embed="rId1"/>
          <a:stretch/>
        </p:blipFill>
        <p:spPr>
          <a:xfrm>
            <a:off x="1332000" y="1360440"/>
            <a:ext cx="6696000" cy="5021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C596FB-02E6-4D36-8F4E-EE7B5E9CCFC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Commercial Port of Vladivostok (VMTP)</a:t>
            </a:r>
            <a:br>
              <a:rPr sz="2800"/>
            </a:b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- Expanding container terminals at VMTP</a:t>
            </a:r>
            <a:br>
              <a:rPr sz="2000"/>
            </a:b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- Started regular block train services in 2009</a:t>
            </a:r>
            <a:br>
              <a:rPr sz="2000"/>
            </a:b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- Joined FESCO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Rectangle 15" descr=""/>
          <p:cNvPicPr/>
          <p:nvPr/>
        </p:nvPicPr>
        <p:blipFill>
          <a:blip r:embed="rId1"/>
          <a:stretch/>
        </p:blipFill>
        <p:spPr>
          <a:xfrm>
            <a:off x="457200" y="2508120"/>
            <a:ext cx="4475160" cy="3137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5" name="Rectangle 15"/>
          <p:cNvGraphicFramePr/>
          <p:nvPr/>
        </p:nvGraphicFramePr>
        <p:xfrm>
          <a:off x="4932360" y="1557360"/>
          <a:ext cx="3851280" cy="25923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26" name="Rectangle 1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932360" y="1557360"/>
                    <a:ext cx="3851280" cy="259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7" name="Rectangle 15"/>
          <p:cNvGraphicFramePr/>
          <p:nvPr/>
        </p:nvGraphicFramePr>
        <p:xfrm>
          <a:off x="4932360" y="4076640"/>
          <a:ext cx="3851280" cy="2567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28" name="Rectangle 1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932360" y="4076640"/>
                    <a:ext cx="385128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985BC8-216A-4ABD-8E6B-AF5314E9314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スライド番号プレースホルダ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7AB1B-8B27-4682-9EF2-70B3EBB5FED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Rail Trans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Block Tra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Composition: 100–150TE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7d"/>
                </a:solidFill>
                <a:latin typeface="Arial"/>
              </a:rPr>
              <a:t>80ft wagons (40ft containers x 2) x 38 = 152TE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Length: Max. 1,000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Transit times: 11 days to Moscow from Vostochny/Vladivost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Major operator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7d"/>
                </a:solidFill>
                <a:latin typeface="Arial"/>
              </a:rPr>
              <a:t>TransContainer, Russkaya Troyka, F.E. Trans, DVT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Major routes from Vostochny/Vladivosto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7d"/>
                </a:solidFill>
                <a:latin typeface="Arial"/>
              </a:rPr>
              <a:t>Moscow, Taganrog (Hyundai), Izhevsk (Kia), Uzbekistan (GM Daewoo), Yelabuga (Isuzu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Other rout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7d"/>
                </a:solidFill>
                <a:latin typeface="Arial"/>
              </a:rPr>
              <a:t>China-Moscow, Germany-Moscow, Baltic ports-Kazakhstan, Czech-Kaluga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Ordinary Trains for small-lot cargo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Tracing information can be obtained on a daily ba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1CF830-A304-41BE-A6CC-F17942FCD9A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スライド番号プレースホルダ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9CE11-6066-4D3F-9B32-5234303F07A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7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The Trans-Siberian Railway: performance</a:t>
            </a:r>
            <a:br>
              <a:rPr sz="3600"/>
            </a:b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- Transport capacity: about 100 million tons</a:t>
            </a:r>
            <a:br>
              <a:rPr sz="2000"/>
            </a:b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- Transport performance: 72.2 million tons (2005)</a:t>
            </a:r>
            <a:br>
              <a:rPr sz="2000"/>
            </a:b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- Major transport items: coal, petroleum, timber, steel</a:t>
            </a:r>
            <a:br>
              <a:rPr sz="2000"/>
            </a:b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- Container share is small but increasing fast – 709,672 TEU in 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4" name="Rectangle 15"/>
          <p:cNvGraphicFramePr/>
          <p:nvPr/>
        </p:nvGraphicFramePr>
        <p:xfrm>
          <a:off x="1258920" y="2421000"/>
          <a:ext cx="6553080" cy="4176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5" name="Rectangle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2421000"/>
                    <a:ext cx="6553080" cy="41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EF12FA-7316-4A39-8B0A-599802D3C50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6T07:42:35Z</dcterms:created>
  <dc:creator>TSUJI</dc:creator>
  <dc:description/>
  <dc:language>en-US</dc:language>
  <cp:lastModifiedBy>Marilley</cp:lastModifiedBy>
  <cp:lastPrinted>2009-11-16T10:15:35Z</cp:lastPrinted>
  <dcterms:modified xsi:type="dcterms:W3CDTF">2009-11-16T10:16:32Z</dcterms:modified>
  <cp:revision>188</cp:revision>
  <dc:subject/>
  <dc:title>ロシアのロジスティックの現状と将来 －日本企業の今後の基本戦略－</dc:title>
</cp:coreProperties>
</file>