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BCE-B2CF-4934-B256-9C60501D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655-F9EE-4C6C-BB7A-18C65FB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A1B4-101B-4D1C-8CD9-ED53BFBD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583-A15A-4DD4-BA44-68F2F694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A9A0-BB9B-4D60-80AD-BB7CD2C16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BDBD-C99E-402F-B553-8754B069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74CA-76E2-4ACC-91D4-CFD4B533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A0E-10CF-432C-9423-3C5C094B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B7C4-4238-4772-BA55-2C6BBC5F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9536-9254-44A7-8293-E68BBC0C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B828-EED2-4666-81D7-6ACBA4BA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1A2-22F0-425A-A6FB-2D418164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CF06-E576-4AE5-9F3E-D12339B7C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MENT IN RAILWAY INFRASTRUCTURE AND ROLLING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by the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7 (a) of the provisional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trends in the ECE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ion of transport infrastructure investment  (2003-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EU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candidat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-rich EECCA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 investment levels in Western Europe and North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IT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03760" y="913680"/>
            <a:ext cx="502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har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Rail sector's share in inland transport infrastructure investment,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206360"/>
            <a:ext cx="822960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economic cri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DP and investment levels down in most ECE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stimulus packages in some large ECE countries include railway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lway investment levels down in new EU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still strong in Russia and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ancing in the post-crisis peri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cal consolidation expected in most ECE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ublic funds for railway infrastructure invest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P projects could reduce the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accessions to the Luxembourg Rail Protocol could boost private financing of rolling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2440" y="1203840"/>
            <a:ext cx="663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h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tructure of PPP transport infrastructure investment in ECE emerging market econom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1993-2007, per 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64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295280" y="6330960"/>
            <a:ext cx="263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ourc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PPI database, World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3:56:08Z</dcterms:created>
  <dc:creator>Jaromir Cekota</dc:creator>
  <dc:description/>
  <dc:language>en-US</dc:language>
  <cp:lastModifiedBy>Otradnova</cp:lastModifiedBy>
  <dcterms:modified xsi:type="dcterms:W3CDTF">2009-11-23T10:37:05Z</dcterms:modified>
  <cp:revision>7</cp:revision>
  <dc:subject/>
  <dc:title>INVESTMENT IN RAILWAY INFRASTRUCTURE AND ROLLING STOCK</dc:title>
</cp:coreProperties>
</file>