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8D1-F8F5-4AD8-A84D-21C92B70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F754-509E-4A4C-A6CA-69C4376E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E248-6F98-45AB-86E9-AE20DB6F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428B-55EB-4084-B0C6-674F7910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7217-FEEC-47A0-A961-59C4C8F2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1836-CB72-4181-A62D-1084E596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8BEC-07EA-4D17-ABC6-CFF2B408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1F2C-CDBD-4891-8548-E9B17D29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D958-5A07-4F89-AB95-9FDE3945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2256-3BE0-4672-81BE-848B132B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3B4A-AE71-47C8-9902-88B87A41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506F-EFDE-4A77-A371-DFAE81F2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2892-55E0-4FCC-BE6D-39D8208AF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ESTMENT IN RAILWAY INFRASTRUCTURE AND ROLLING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by the secretar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7 (a) of the provisional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trends in the ECE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of transport infrastructure investment  (2003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EU memb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candidate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-rich EECCA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dy investment levels in Western Europe and Nor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: I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03760" y="913680"/>
            <a:ext cx="502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Char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Rail sector's share in inland transport infrastructure investment,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1206360"/>
            <a:ext cx="82296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the economic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and investment levels down in most ECE econom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cal stimulus packages in some large ECE countries include railway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lway investment levels down in new EU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still strong in Russia and Tur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ng in the post-crisis perio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cal consolidation expected in most ECE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ublic funds for railway infrastructure inves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P projects could reduce the funding 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accessions to the Luxembourg Rail Protocol could boost private financing of rolling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52440" y="1203840"/>
            <a:ext cx="663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Char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Structure of PPP transport infrastructure investment in ECE emerging market econom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1993-2007, per 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4649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95280" y="6330960"/>
            <a:ext cx="263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Sourc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PPI database, World B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3:56:08Z</dcterms:created>
  <dc:creator>Jaromir Cekota</dc:creator>
  <dc:description/>
  <dc:language>en-US</dc:language>
  <cp:lastModifiedBy>Otradnova</cp:lastModifiedBy>
  <dcterms:modified xsi:type="dcterms:W3CDTF">2009-11-23T10:37:05Z</dcterms:modified>
  <cp:revision>7</cp:revision>
  <dc:subject/>
  <dc:title>INVESTMENT IN RAILWAY INFRASTRUCTURE AND ROLLING STOCK</dc:title>
</cp:coreProperties>
</file>