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31480" y="744120"/>
            <a:ext cx="452916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0" y="942660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49480" y="9426600"/>
            <a:ext cx="29430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988578-8E2C-45DD-B35D-5F0FE848F75F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91764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5BB52-A91D-4F33-9B4A-6BC138AB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31AE-5FAB-4473-BEE5-309E3E6F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7481-4784-4EF7-9E6A-DC8851A31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297D6-2516-4163-AB28-A0463F3B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E92E7-097C-4A26-BF89-552732D0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A2491-9870-4EDA-B848-495C27AF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63D1B-D61F-411A-9FE9-477534D2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FB6A4-8ED3-4E17-B8B3-8760610D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A201E-C108-4800-9C49-FD355CF7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4C591-A34A-4279-8976-6B403265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D293F-01A7-4BEC-9D82-C1511B8E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B6002-F78D-4D94-9EAF-07DAF944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B8BE3-7F3A-4924-8D02-5A0EE944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02F82-6174-4872-BC11-45E448FB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ADD6E-6745-4517-95D0-2C6F0A42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30128-E1DE-4C34-B3D2-2859D359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E30E2-E89F-4EB9-BD6C-CD022C89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A8EEC-0D35-4B1E-B66C-3A671FD86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2F7B7-86B5-4FA2-8325-7D409F37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0C7A-617C-4A9B-A3E1-7B3F5072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816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FF9E-4149-4D65-A95A-FF56DC4A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1B97-252C-46A1-9C91-CC3E1D9C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6004-D566-403A-8E89-9FD3C17D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AB66-5B33-4DF5-9A3E-C2498C3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35560"/>
            <a:ext cx="9144000" cy="6224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4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1260000" y="6453360"/>
            <a:ext cx="582948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>
          <a:xfrm>
            <a:off x="8459640" y="6453360"/>
            <a:ext cx="57312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3E5EC-3947-4BA6-ABF9-B8344A33A918}" type="slidenum">
              <a: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7019640" y="6462720"/>
            <a:ext cx="143676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11240" y="6245280"/>
            <a:ext cx="110808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235560"/>
            <a:ext cx="9144000" cy="62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346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1260000" y="6453360"/>
            <a:ext cx="5830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8459280" y="6453360"/>
            <a:ext cx="5749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37170D-D9B0-4EB3-984E-7F801D7D5D89}" type="slidenum">
              <a:rPr b="1" lang="de-DE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5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-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200" spc="-1" strike="noStrike">
                <a:solidFill>
                  <a:srgbClr val="333366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dt" idx="6"/>
          </p:nvPr>
        </p:nvSpPr>
        <p:spPr>
          <a:xfrm>
            <a:off x="7019640" y="6453360"/>
            <a:ext cx="1438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11240" y="6245280"/>
            <a:ext cx="1108080" cy="538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286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c7140"/>
                </a:solidFill>
                <a:latin typeface="Arial"/>
              </a:rPr>
              <a:t>Rail Travel for</a:t>
            </a:r>
            <a:br>
              <a:rPr sz="2400"/>
            </a:br>
            <a:r>
              <a:rPr b="1" lang="en-US" sz="2400" spc="-1" strike="noStrike">
                <a:solidFill>
                  <a:srgbClr val="1c7140"/>
                </a:solidFill>
                <a:latin typeface="Arial"/>
              </a:rPr>
              <a:t>Persons with reduced Mobility (PRM):</a:t>
            </a:r>
            <a:br>
              <a:rPr sz="2400"/>
            </a:br>
            <a:r>
              <a:rPr b="1" lang="en-US" sz="2400" spc="-1" strike="noStrike">
                <a:solidFill>
                  <a:srgbClr val="1c7140"/>
                </a:solidFill>
                <a:latin typeface="Arial"/>
              </a:rPr>
              <a:t>Service Provider View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843280" y="5181480"/>
            <a:ext cx="3487680" cy="69552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a50021"/>
                </a:solidFill>
                <a:latin typeface="Arial"/>
              </a:rPr>
              <a:t>Dirk Oelschläger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Senior Advisor Passenger Transport</a:t>
            </a:r>
            <a:endParaRPr b="0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68840" y="3930480"/>
            <a:ext cx="1635120" cy="79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can we o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8640" y="2673360"/>
            <a:ext cx="1737000" cy="934920"/>
          </a:xfrm>
          <a:prstGeom prst="rect">
            <a:avLst/>
          </a:prstGeom>
          <a:solidFill>
            <a:srgbClr val="025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bility pack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673360"/>
            <a:ext cx="6334200" cy="93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uggage porter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lectric cart services within large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ick-up and drop-off services at ho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8640" y="3933720"/>
            <a:ext cx="1737000" cy="935280"/>
          </a:xfrm>
          <a:prstGeom prst="rect">
            <a:avLst/>
          </a:prstGeom>
          <a:solidFill>
            <a:srgbClr val="0256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count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3933720"/>
            <a:ext cx="633420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vel and/or companion discounts for disable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200" y="1844640"/>
            <a:ext cx="8609040" cy="410544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3600" y="1639800"/>
            <a:ext cx="4987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On commercial basis (against pa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3E5A21-B4B6-4060-9775-E1C10243F89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do we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Assistance booking at due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1640" y="2278080"/>
            <a:ext cx="3959280" cy="129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national journeys usually not later than 24 hours prior to departu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international journeys not later than 48 hours prior to depar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3440" y="3860640"/>
            <a:ext cx="3959280" cy="57636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European Handicapped P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3440" y="4581360"/>
            <a:ext cx="3959280" cy="129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To identify the eligibility of its holder for national discount sc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66"/>
                </a:solidFill>
                <a:latin typeface="Arial"/>
              </a:rPr>
              <a:t>To facilitate uniform tariff rules for travel for companion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4560" cy="31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4D6F0-478A-4896-BF8C-13BBA38A4F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do we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Fair contracts for Public Service Oblig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vestment support for improving accessibility in stations and modernisation of rolling st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mitment on additional staff availability in trains and on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parency between compulsory facilities and those to be offered on voluntary, commercial ba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ensation for free or concessionary travel facilities for PRM, if appli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37080" y="2276640"/>
            <a:ext cx="4354560" cy="309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89165-363F-4EEB-B7DB-CC3748C5690D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do we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 Unicode MS"/>
              </a:rPr>
              <a:t>Reliable Investment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asonable migration path for making stations and trains acce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liable funding agreements between governments, railway undertakings and rail infrastructure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4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onger-term agreements rather than “flashes in the pa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4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ecial attention to CEE countries in order to allow them to catch up to European a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4560" cy="309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5CAC37-62C8-4865-AFFF-D6704820BD30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81240" y="1989000"/>
            <a:ext cx="674676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gal Basi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1844640"/>
            <a:ext cx="7188120" cy="366840"/>
          </a:xfrm>
          <a:prstGeom prst="rect">
            <a:avLst/>
          </a:prstGeom>
          <a:solidFill>
            <a:srgbClr val="000099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 Convention on the Rights of Persons with Dis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3278160"/>
            <a:ext cx="7200720" cy="366840"/>
          </a:xfrm>
          <a:prstGeom prst="rect">
            <a:avLst/>
          </a:prstGeom>
          <a:solidFill>
            <a:srgbClr val="0364b5"/>
          </a:solidFill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ssenger Rights Regulation (EU Regulation 1371/2007): “PR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4702320"/>
            <a:ext cx="7200720" cy="366480"/>
          </a:xfrm>
          <a:prstGeom prst="rect">
            <a:avLst/>
          </a:prstGeom>
          <a:solidFill>
            <a:srgbClr val="0096c8"/>
          </a:solidFill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SI PRM (Commission Decision 2008/164/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349360"/>
            <a:ext cx="3168720" cy="52020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Full and effective participation and inclusion in soci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991040" y="2343240"/>
            <a:ext cx="3168720" cy="55548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Accessibility “on an equal basis to others” to transpor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279680" y="2523960"/>
            <a:ext cx="574920" cy="18720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3790800"/>
            <a:ext cx="1412640" cy="555840"/>
          </a:xfrm>
          <a:prstGeom prst="rect">
            <a:avLst/>
          </a:prstGeom>
          <a:noFill/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364b5"/>
                </a:solidFill>
                <a:latin typeface="Arial"/>
              </a:rPr>
              <a:t>Right to 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87560" y="3789360"/>
            <a:ext cx="1413000" cy="555480"/>
          </a:xfrm>
          <a:prstGeom prst="rect">
            <a:avLst/>
          </a:prstGeom>
          <a:noFill/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364b5"/>
                </a:solidFill>
                <a:latin typeface="Arial"/>
              </a:rPr>
              <a:t>Accessibl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3787920"/>
            <a:ext cx="1413000" cy="555480"/>
          </a:xfrm>
          <a:prstGeom prst="rect">
            <a:avLst/>
          </a:prstGeom>
          <a:noFill/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364b5"/>
                </a:solidFill>
                <a:latin typeface="Arial"/>
              </a:rPr>
              <a:t>Access to al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46760" y="3786120"/>
            <a:ext cx="1413000" cy="555840"/>
          </a:xfrm>
          <a:prstGeom prst="rect">
            <a:avLst/>
          </a:prstGeom>
          <a:noFill/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364b5"/>
                </a:solidFill>
                <a:latin typeface="Arial"/>
              </a:rPr>
              <a:t>Assistance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2338200" y="3976560"/>
            <a:ext cx="574920" cy="187200"/>
          </a:xfrm>
          <a:prstGeom prst="triangle">
            <a:avLst>
              <a:gd name="adj" fmla="val 50000"/>
            </a:avLst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4279680" y="3984480"/>
            <a:ext cx="574920" cy="187200"/>
          </a:xfrm>
          <a:prstGeom prst="triangle">
            <a:avLst>
              <a:gd name="adj" fmla="val 50000"/>
            </a:avLst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6222960" y="3983040"/>
            <a:ext cx="574560" cy="187200"/>
          </a:xfrm>
          <a:prstGeom prst="triangle">
            <a:avLst>
              <a:gd name="adj" fmla="val 50000"/>
            </a:avLst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1640" y="5249880"/>
            <a:ext cx="2127240" cy="555480"/>
          </a:xfrm>
          <a:prstGeom prst="rect">
            <a:avLst/>
          </a:prstGeom>
          <a:noFill/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96c8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8200" y="5249880"/>
            <a:ext cx="2127600" cy="555480"/>
          </a:xfrm>
          <a:prstGeom prst="rect">
            <a:avLst/>
          </a:prstGeom>
          <a:noFill/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96c8"/>
                </a:solidFill>
                <a:latin typeface="Arial"/>
              </a:rPr>
              <a:t>Rolling St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32520" y="5249880"/>
            <a:ext cx="2127240" cy="555480"/>
          </a:xfrm>
          <a:prstGeom prst="rect">
            <a:avLst/>
          </a:prstGeom>
          <a:noFill/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96c8"/>
                </a:solidFill>
                <a:latin typeface="Arial"/>
              </a:rPr>
              <a:t>Telematics applications for passen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A6F01-3441-45CD-8042-0FE9D9CD5A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751280" y="2027160"/>
            <a:ext cx="3959280" cy="3240000"/>
          </a:xfrm>
          <a:prstGeom prst="roundRect">
            <a:avLst>
              <a:gd name="adj" fmla="val 46"/>
            </a:avLst>
          </a:prstGeom>
          <a:solidFill>
            <a:srgbClr val="0096c8"/>
          </a:solidFill>
          <a:ln w="38160">
            <a:solidFill>
              <a:srgbClr val="009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sons with other impair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2027160"/>
            <a:ext cx="3959280" cy="3240000"/>
          </a:xfrm>
          <a:prstGeom prst="roundRect">
            <a:avLst>
              <a:gd name="adj" fmla="val 46"/>
            </a:avLst>
          </a:prstGeom>
          <a:solidFill>
            <a:srgbClr val="0364b5"/>
          </a:solidFill>
          <a:ln w="38160">
            <a:solidFill>
              <a:srgbClr val="036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abled persons =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rely handicapped per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o are the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932360" y="2171880"/>
            <a:ext cx="17064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96c8"/>
                </a:solidFill>
                <a:latin typeface="Arial"/>
              </a:rPr>
              <a:t>Passengers carrying small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88160" y="2171880"/>
            <a:ext cx="17064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96c8"/>
                </a:solidFill>
                <a:latin typeface="Arial"/>
              </a:rPr>
              <a:t>Elderly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32360" y="3432240"/>
            <a:ext cx="17064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96c8"/>
                </a:solidFill>
                <a:latin typeface="Arial"/>
              </a:rPr>
              <a:t>Pregnant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9440" y="2171880"/>
            <a:ext cx="173664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364b5"/>
                </a:solidFill>
                <a:latin typeface="Arial"/>
              </a:rPr>
              <a:t>Blind and sight-im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9440" y="3432240"/>
            <a:ext cx="173664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364b5"/>
                </a:solidFill>
                <a:latin typeface="Arial"/>
              </a:rPr>
              <a:t>Deaf and audibly im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11360" y="2171880"/>
            <a:ext cx="173664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364b5"/>
                </a:solidFill>
                <a:latin typeface="Arial"/>
              </a:rPr>
              <a:t>Mentally handica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1360" y="3432240"/>
            <a:ext cx="173664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364b5"/>
                </a:solidFill>
                <a:latin typeface="Arial"/>
              </a:rPr>
              <a:t>Wheelchai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88160" y="3432240"/>
            <a:ext cx="170640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96c8"/>
                </a:solidFill>
                <a:latin typeface="Arial"/>
              </a:rPr>
              <a:t>Persons with communic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1484280"/>
            <a:ext cx="8242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PRR distinguishes between “disabled persons” and “PRM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5494320"/>
            <a:ext cx="76568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he definition of PRM provided by TSI PRM (Decision 2008/164/EC), however, comprises disabled pers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880" y="5445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40920" y="5445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5200" y="1916280"/>
            <a:ext cx="8609040" cy="423036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F42D1-2C40-4BD7-9532-E10D9F7186F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ind and sight-im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e-travel information in accessible forma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.g. websites, printed materials in audio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actile guiding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sistance for ticket 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sistance at embarking and disembar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-board space for guiding d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al-time information in audible form during the jour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00"/>
              </a:spcBef>
              <a:spcAft>
                <a:spcPts val="300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ecial attention in case of lateness and broken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4560" cy="309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114481-47FE-458E-907A-84B6A47728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af and audibly impa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duction loops at ticket counters and help poi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sual accurate departure information in real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.g. sign language interpreted departur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Visual travel information at stations and on board tr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4560" cy="31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D6A87-D257-4385-8F3F-A978DEC766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ntally handicap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ictogram sign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asy read timet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rehensive information, specially in case of irregula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asy to use ticket vending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ecial attention in case of lateness and broken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37080" y="2278080"/>
            <a:ext cx="4356000" cy="3100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D1FFA-D899-410E-A097-456C3ED3236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557360"/>
            <a:ext cx="3959280" cy="576360"/>
          </a:xfrm>
          <a:prstGeom prst="rect">
            <a:avLst/>
          </a:prstGeom>
          <a:solidFill>
            <a:srgbClr val="0364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heelchair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1640" y="2278080"/>
            <a:ext cx="3959280" cy="3743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noAutofit/>
          </a:bodyPr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Lower height ticket cou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sistance at embarking, disembarking and changing tr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-board space for wheelch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acious and accessible toi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spcAft>
                <a:spcPts val="499"/>
              </a:spcAft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538520" y="2276640"/>
            <a:ext cx="4354560" cy="309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7AF89-9F0C-4693-A3C9-9924260C439C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72880"/>
            <a:ext cx="82281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abled persons and PRM – What do they ne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8640" y="1484280"/>
            <a:ext cx="1737000" cy="934920"/>
          </a:xfrm>
          <a:prstGeom prst="rect">
            <a:avLst/>
          </a:prstGeom>
          <a:solidFill>
            <a:srgbClr val="00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ssengers carrying small child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8640" y="2708280"/>
            <a:ext cx="1737000" cy="934920"/>
          </a:xfrm>
          <a:prstGeom prst="rect">
            <a:avLst/>
          </a:prstGeom>
          <a:solidFill>
            <a:srgbClr val="00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gnant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933720"/>
            <a:ext cx="1736640" cy="935280"/>
          </a:xfrm>
          <a:prstGeom prst="rect">
            <a:avLst/>
          </a:prstGeom>
          <a:solidFill>
            <a:srgbClr val="00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derly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1484280"/>
            <a:ext cx="6335640" cy="93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ace for p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iaper changing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340000" y="2709720"/>
            <a:ext cx="633564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fortable seat on 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ossibilities to rest at st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40000" y="3933720"/>
            <a:ext cx="633564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dvice at journey planning and ticket purc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omprehensive information, specially in case of irregular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ssistance at embarking, disembarking and changing tr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5157720"/>
            <a:ext cx="633564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formation in multiple languages (of which at least Engl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iform pict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ecial attention in case of lateness and broken conn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8640" y="5157720"/>
            <a:ext cx="1737000" cy="935280"/>
          </a:xfrm>
          <a:prstGeom prst="rect">
            <a:avLst/>
          </a:prstGeom>
          <a:solidFill>
            <a:srgbClr val="009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rsons with communication difficul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69F3E-FF9A-4C4E-8119-0C33322914E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27160"/>
            <a:ext cx="82296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ways at your service – What can we off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8640" y="2205000"/>
            <a:ext cx="1737000" cy="934920"/>
          </a:xfrm>
          <a:prstGeom prst="rect">
            <a:avLst/>
          </a:prstGeom>
          <a:solidFill>
            <a:srgbClr val="1c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2205000"/>
            <a:ext cx="6334200" cy="93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t the interface platform ↔ 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 board a 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8640" y="3465360"/>
            <a:ext cx="1737000" cy="935280"/>
          </a:xfrm>
          <a:prstGeom prst="rect">
            <a:avLst/>
          </a:prstGeom>
          <a:solidFill>
            <a:srgbClr val="1c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owing a  companion for 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40000" y="3465360"/>
            <a:ext cx="6334200" cy="935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nder certai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Arial"/>
              <a:buChar char="•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for severely handicapped unable to travel al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sed on commercial decision or national legis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0440" y="4726080"/>
            <a:ext cx="1736640" cy="934920"/>
          </a:xfrm>
          <a:prstGeom prst="rect">
            <a:avLst/>
          </a:prstGeom>
          <a:solidFill>
            <a:srgbClr val="1c71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uced fares for elderly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1440" y="4726080"/>
            <a:ext cx="6334200" cy="934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marL="181080" indent="-181080">
              <a:spcBef>
                <a:spcPts val="876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1080"/>
                <a:tab algn="l" pos="628560"/>
                <a:tab algn="l" pos="1077840"/>
                <a:tab algn="l" pos="1527120"/>
                <a:tab algn="l" pos="1976400"/>
                <a:tab algn="l" pos="2425680"/>
                <a:tab algn="l" pos="2874960"/>
                <a:tab algn="l" pos="3324240"/>
                <a:tab algn="l" pos="3773520"/>
                <a:tab algn="l" pos="4222800"/>
                <a:tab algn="l" pos="4672080"/>
                <a:tab algn="l" pos="5121360"/>
                <a:tab algn="l" pos="5570640"/>
                <a:tab algn="l" pos="6019920"/>
                <a:tab algn="l" pos="6469200"/>
                <a:tab algn="l" pos="6918480"/>
                <a:tab algn="l" pos="7367760"/>
                <a:tab algn="l" pos="7816680"/>
                <a:tab algn="l" pos="8265960"/>
                <a:tab algn="l" pos="8715240"/>
                <a:tab algn="l" pos="9164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Based on commercial decision or national legis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5200" y="1844640"/>
            <a:ext cx="8609040" cy="410544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8640" y="1628640"/>
            <a:ext cx="1128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For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UIC Oelschläger • Genève • V 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4104F-B5CE-4F14-9F0F-E37651D93F1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>19/11/2009</a:t>
            </a:r>
          </a:p>
        </p:txBody>
      </p:sp>
    </p:spTree>
  </p:cSld>
  <p:transition spd="med">
    <p:fade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8:05:13Z</dcterms:created>
  <dc:creator>Dirk Oelschläger</dc:creator>
  <dc:description/>
  <dc:language>en-US</dc:language>
  <cp:lastModifiedBy>Dirk Oelschläger</cp:lastModifiedBy>
  <cp:lastPrinted>2009-10-25T19:12:56Z</cp:lastPrinted>
  <dcterms:modified xsi:type="dcterms:W3CDTF">2009-10-29T14:10:08Z</dcterms:modified>
  <cp:revision>232</cp:revision>
  <dc:subject>UNECE Workshop on Accessibility, 19/11/2009</dc:subject>
  <dc:title>Rail travel for PRM: Service provider views</dc:title>
</cp:coreProperties>
</file>