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31480" y="744120"/>
            <a:ext cx="452916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42660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49480" y="942660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8D574A-8FC2-482B-9199-61B20BFD2C1D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C2A64-E6B9-4771-91E8-C5764958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2328E-FC60-4415-ACF0-CC4605D5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9FDD7-DF0C-492D-9594-3B7345A8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804B4-175D-4CDD-AD94-961BC4E3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1DE72-6001-4C9C-AA39-B8657A40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88044-DF6B-4D35-BF0A-F3AF685A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46E4C-EEF8-4832-BADB-F3A9AF88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3D058-E69A-478D-84BE-CD015251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9C314-FAC4-4025-8712-3D7D71A1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816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BC96E-D3AA-4A97-A321-CDBA384A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5BD7B-5CB3-4889-8BCC-25E0796D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376EA-8BD9-4F0A-B76A-751AC25C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BE133-8FAF-44D9-9933-548D9911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6E50A-6D9C-4376-B320-17073CF7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7D8F4-0D90-41F7-BCAC-38A01A0B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FDF27-B8D0-4418-B961-68423EE6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32D48-14AA-4428-A25D-FA3FF820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EF4EF-15FB-4E4D-9621-27629A88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05BEB-43D6-48EA-999E-8ED23CBF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0D77C-1412-4412-BF4D-7551E5EF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816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AD7E0-826F-42B0-9D7B-B57670DF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E8502-0C17-4D2F-8BC9-0B6FFAE6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74632-18C2-4148-856C-C5070F5B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3D001-A1DD-48EE-9614-66D2C330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35560"/>
            <a:ext cx="9144000" cy="622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4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1260000" y="6453360"/>
            <a:ext cx="582948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8459640" y="6453360"/>
            <a:ext cx="5731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35806-3EB3-4124-B248-5BE80CCCC470}" type="slidenum">
              <a:rPr b="1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7019640" y="6462720"/>
            <a:ext cx="143676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11240" y="6245280"/>
            <a:ext cx="1108080" cy="53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235560"/>
            <a:ext cx="9144000" cy="622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46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1260000" y="6453360"/>
            <a:ext cx="5830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8459280" y="6453360"/>
            <a:ext cx="574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5EDF5E-0F0D-4C28-8B15-C480530540F6}" type="slidenum">
              <a:rPr b="1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333366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333366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333366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333366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-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333366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333366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333366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dt" idx="6"/>
          </p:nvPr>
        </p:nvSpPr>
        <p:spPr>
          <a:xfrm>
            <a:off x="7019640" y="6453360"/>
            <a:ext cx="1438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11240" y="6245280"/>
            <a:ext cx="1108080" cy="53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286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c7140"/>
                </a:solidFill>
                <a:latin typeface="Arial"/>
              </a:rPr>
              <a:t>Rail Travel for</a:t>
            </a:r>
            <a:br>
              <a:rPr sz="2400"/>
            </a:br>
            <a:r>
              <a:rPr b="1" lang="en-US" sz="2400" spc="-1" strike="noStrike">
                <a:solidFill>
                  <a:srgbClr val="1c7140"/>
                </a:solidFill>
                <a:latin typeface="Arial"/>
              </a:rPr>
              <a:t>Persons with reduced Mobility (PRM):</a:t>
            </a:r>
            <a:br>
              <a:rPr sz="2400"/>
            </a:br>
            <a:r>
              <a:rPr b="1" lang="en-US" sz="2400" spc="-1" strike="noStrike">
                <a:solidFill>
                  <a:srgbClr val="1c7140"/>
                </a:solidFill>
                <a:latin typeface="Arial"/>
              </a:rPr>
              <a:t>Service Provider View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843280" y="5181480"/>
            <a:ext cx="348768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Dirk Oelschläger</a:t>
            </a: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Senior Advisor Passenger Transport</a:t>
            </a: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768840" y="3930480"/>
            <a:ext cx="1635120" cy="7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227160"/>
            <a:ext cx="82296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ilways at your service – What can we off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8640" y="2673360"/>
            <a:ext cx="1737000" cy="934920"/>
          </a:xfrm>
          <a:prstGeom prst="rect">
            <a:avLst/>
          </a:prstGeom>
          <a:solidFill>
            <a:srgbClr val="0256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bility pack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40000" y="2673360"/>
            <a:ext cx="6334200" cy="934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uggage porter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lectric cart services within large s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ick-up and drop-off services at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8640" y="3933720"/>
            <a:ext cx="1737000" cy="935280"/>
          </a:xfrm>
          <a:prstGeom prst="rect">
            <a:avLst/>
          </a:prstGeom>
          <a:solidFill>
            <a:srgbClr val="0256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count sche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40000" y="3933720"/>
            <a:ext cx="6334200" cy="935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ravel and/or companion discounts for disable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5200" y="1844640"/>
            <a:ext cx="8609040" cy="4105440"/>
          </a:xfrm>
          <a:prstGeom prst="rect">
            <a:avLst/>
          </a:prstGeom>
          <a:noFill/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3600" y="1639800"/>
            <a:ext cx="4987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On commercial basis (against pa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IC Oelschläger • Genève • V 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26672-82A9-4592-85C6-7C71D08DCBDA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19/11/2009</a:t>
            </a:r>
          </a:p>
        </p:txBody>
      </p:sp>
    </p:spTree>
  </p:cSld>
  <p:transition spd="med">
    <p:fad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" y="227160"/>
            <a:ext cx="82296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ilways at your service – What do we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1640" y="1557360"/>
            <a:ext cx="3959280" cy="576360"/>
          </a:xfrm>
          <a:prstGeom prst="rect">
            <a:avLst/>
          </a:prstGeom>
          <a:solidFill>
            <a:srgbClr val="33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Assistance booking at due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1640" y="2278080"/>
            <a:ext cx="3959280" cy="1295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national journeys usually not later than 24 hours prior to depart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international journeys not later than 48 hours prior to depar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3440" y="3860640"/>
            <a:ext cx="3959280" cy="576360"/>
          </a:xfrm>
          <a:prstGeom prst="rect">
            <a:avLst/>
          </a:prstGeom>
          <a:solidFill>
            <a:srgbClr val="33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Handicapped P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3440" y="4581360"/>
            <a:ext cx="3959280" cy="129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To identify the eligibility of its holder for national discount sche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To facilitate uniform tariff rules for travel for companion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37080" y="2278080"/>
            <a:ext cx="4354560" cy="310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IC Oelschläger • Genève • V 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1498A-4729-4986-9E3E-BF1BAEC2C52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19/11/2009</a:t>
            </a:r>
          </a:p>
        </p:txBody>
      </p:sp>
    </p:spTree>
  </p:cSld>
  <p:transition spd="med">
    <p:fad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227160"/>
            <a:ext cx="82296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ilways at your service – What do we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1640" y="1557360"/>
            <a:ext cx="3959280" cy="576360"/>
          </a:xfrm>
          <a:prstGeom prst="rect">
            <a:avLst/>
          </a:prstGeom>
          <a:solidFill>
            <a:srgbClr val="33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Fair contracts for Public Service Oblig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1640" y="2278080"/>
            <a:ext cx="3959280" cy="3743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vestment support for improving accessibility in stations and modernisation of rolling st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ommitment on additional staff availability in trains and on s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ransparency between compulsory facilities and those to be offered on voluntary, commercial ba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ompensation for free or concessionary travel facilities for PRM, if appli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37080" y="2276640"/>
            <a:ext cx="4354560" cy="309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IC Oelschläger • Genève • V 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E3628-F88C-4F27-807E-13F1DC087E3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19/11/2009</a:t>
            </a:r>
          </a:p>
        </p:txBody>
      </p:sp>
    </p:spTree>
  </p:cSld>
  <p:transition spd="med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227160"/>
            <a:ext cx="82296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ilways at your service – What do we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1640" y="1557360"/>
            <a:ext cx="3959280" cy="576360"/>
          </a:xfrm>
          <a:prstGeom prst="rect">
            <a:avLst/>
          </a:prstGeom>
          <a:solidFill>
            <a:srgbClr val="33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Reliable Investment Sche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1640" y="2278080"/>
            <a:ext cx="3959280" cy="3743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asonable migration path for making stations and trains acce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liable funding agreements between governments, railway undertakings and rail infrastructure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4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Arial"/>
              <a:buChar char="•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onger-term agreements rather than “flashes in the pa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4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Arial"/>
              <a:buChar char="•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pecial attention to CEE countries in order to allow them to catch up to European 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37080" y="2278080"/>
            <a:ext cx="4354560" cy="309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IC Oelschläger • Genève • V 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14233-3A07-4E76-9B6D-CF47FC4631D6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19/11/2009</a:t>
            </a:r>
          </a:p>
        </p:txBody>
      </p:sp>
    </p:spTree>
  </p:cSld>
  <p:transition spd="med"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81240" y="1989000"/>
            <a:ext cx="6746760" cy="3273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gal Ba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1844640"/>
            <a:ext cx="7188120" cy="366840"/>
          </a:xfrm>
          <a:prstGeom prst="rect">
            <a:avLst/>
          </a:prstGeom>
          <a:solidFill>
            <a:srgbClr val="0000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 Convention on the Rights of Persons with Dis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3278160"/>
            <a:ext cx="7200720" cy="366840"/>
          </a:xfrm>
          <a:prstGeom prst="rect">
            <a:avLst/>
          </a:prstGeom>
          <a:solidFill>
            <a:srgbClr val="0364b5"/>
          </a:solidFill>
          <a:ln w="38160">
            <a:solidFill>
              <a:srgbClr val="036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ssenger Rights Regulation (EU Regulation 1371/2007): “PR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4702320"/>
            <a:ext cx="7200720" cy="366480"/>
          </a:xfrm>
          <a:prstGeom prst="rect">
            <a:avLst/>
          </a:prstGeom>
          <a:solidFill>
            <a:srgbClr val="0096c8"/>
          </a:solidFill>
          <a:ln w="38160">
            <a:solidFill>
              <a:srgbClr val="0096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SI PRM (Commission Decision 2008/164/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2349360"/>
            <a:ext cx="3168720" cy="5202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Full and effective participation and inclusion in soci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91040" y="2343240"/>
            <a:ext cx="3168720" cy="5554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Accessibility “on an equal basis to others” to transpor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4279680" y="2523960"/>
            <a:ext cx="574920" cy="187200"/>
          </a:xfrm>
          <a:prstGeom prst="triangle">
            <a:avLst>
              <a:gd name="adj" fmla="val 50000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3790800"/>
            <a:ext cx="1412640" cy="555840"/>
          </a:xfrm>
          <a:prstGeom prst="rect">
            <a:avLst/>
          </a:prstGeom>
          <a:noFill/>
          <a:ln w="38160">
            <a:solidFill>
              <a:srgbClr val="036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364b5"/>
                </a:solidFill>
                <a:latin typeface="Arial"/>
              </a:rPr>
              <a:t>Right to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87560" y="3789360"/>
            <a:ext cx="1413000" cy="555480"/>
          </a:xfrm>
          <a:prstGeom prst="rect">
            <a:avLst/>
          </a:prstGeom>
          <a:noFill/>
          <a:ln w="38160">
            <a:solidFill>
              <a:srgbClr val="036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364b5"/>
                </a:solidFill>
                <a:latin typeface="Arial"/>
              </a:rPr>
              <a:t>Accessibl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59280" y="3787920"/>
            <a:ext cx="1413000" cy="555480"/>
          </a:xfrm>
          <a:prstGeom prst="rect">
            <a:avLst/>
          </a:prstGeom>
          <a:noFill/>
          <a:ln w="38160">
            <a:solidFill>
              <a:srgbClr val="036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364b5"/>
                </a:solidFill>
                <a:latin typeface="Arial"/>
              </a:rPr>
              <a:t>Access to all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46760" y="3786120"/>
            <a:ext cx="1413000" cy="555840"/>
          </a:xfrm>
          <a:prstGeom prst="rect">
            <a:avLst/>
          </a:prstGeom>
          <a:noFill/>
          <a:ln w="38160">
            <a:solidFill>
              <a:srgbClr val="036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364b5"/>
                </a:solidFill>
                <a:latin typeface="Arial"/>
              </a:rPr>
              <a:t>Assistance pro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338200" y="3976560"/>
            <a:ext cx="574920" cy="187200"/>
          </a:xfrm>
          <a:prstGeom prst="triangle">
            <a:avLst>
              <a:gd name="adj" fmla="val 50000"/>
            </a:avLst>
          </a:prstGeom>
          <a:solidFill>
            <a:srgbClr val="036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4279680" y="3984480"/>
            <a:ext cx="574920" cy="187200"/>
          </a:xfrm>
          <a:prstGeom prst="triangle">
            <a:avLst>
              <a:gd name="adj" fmla="val 50000"/>
            </a:avLst>
          </a:prstGeom>
          <a:solidFill>
            <a:srgbClr val="036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6222960" y="3983040"/>
            <a:ext cx="574560" cy="187200"/>
          </a:xfrm>
          <a:prstGeom prst="triangle">
            <a:avLst>
              <a:gd name="adj" fmla="val 50000"/>
            </a:avLst>
          </a:prstGeom>
          <a:solidFill>
            <a:srgbClr val="036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5249880"/>
            <a:ext cx="2127240" cy="555480"/>
          </a:xfrm>
          <a:prstGeom prst="rect">
            <a:avLst/>
          </a:prstGeom>
          <a:noFill/>
          <a:ln w="38160">
            <a:solidFill>
              <a:srgbClr val="0096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96c8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8200" y="5249880"/>
            <a:ext cx="2127600" cy="555480"/>
          </a:xfrm>
          <a:prstGeom prst="rect">
            <a:avLst/>
          </a:prstGeom>
          <a:noFill/>
          <a:ln w="38160">
            <a:solidFill>
              <a:srgbClr val="0096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96c8"/>
                </a:solidFill>
                <a:latin typeface="Arial"/>
              </a:rPr>
              <a:t>Rolling St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32520" y="5249880"/>
            <a:ext cx="2127240" cy="555480"/>
          </a:xfrm>
          <a:prstGeom prst="rect">
            <a:avLst/>
          </a:prstGeom>
          <a:noFill/>
          <a:ln w="38160">
            <a:solidFill>
              <a:srgbClr val="0096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96c8"/>
                </a:solidFill>
                <a:latin typeface="Arial"/>
              </a:rPr>
              <a:t>Telematics applications for passen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IC Oelschläger • Genève • V 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3B164-09D4-4F55-A2B4-00261178B48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19/11/2009</a:t>
            </a: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751280" y="2027160"/>
            <a:ext cx="3959280" cy="3240000"/>
          </a:xfrm>
          <a:prstGeom prst="roundRect">
            <a:avLst>
              <a:gd name="adj" fmla="val 46"/>
            </a:avLst>
          </a:prstGeom>
          <a:solidFill>
            <a:srgbClr val="0096c8"/>
          </a:solidFill>
          <a:ln w="38160">
            <a:solidFill>
              <a:srgbClr val="0096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b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rsons with other impair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2027160"/>
            <a:ext cx="3959280" cy="3240000"/>
          </a:xfrm>
          <a:prstGeom prst="roundRect">
            <a:avLst>
              <a:gd name="adj" fmla="val 46"/>
            </a:avLst>
          </a:prstGeom>
          <a:solidFill>
            <a:srgbClr val="0364b5"/>
          </a:solidFill>
          <a:ln w="38160">
            <a:solidFill>
              <a:srgbClr val="036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b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abled persons =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rely handicapped pers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bled persons and PRM – Who are the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32360" y="2171880"/>
            <a:ext cx="170640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96c8"/>
                </a:solidFill>
                <a:latin typeface="Arial"/>
              </a:rPr>
              <a:t>Passengers carrying small child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88160" y="2171880"/>
            <a:ext cx="170640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96c8"/>
                </a:solidFill>
                <a:latin typeface="Arial"/>
              </a:rPr>
              <a:t>Elderly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2360" y="3432240"/>
            <a:ext cx="170640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96c8"/>
                </a:solidFill>
                <a:latin typeface="Arial"/>
              </a:rPr>
              <a:t>Pregnant wo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9440" y="2171880"/>
            <a:ext cx="173664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364b5"/>
                </a:solidFill>
                <a:latin typeface="Arial"/>
              </a:rPr>
              <a:t>Blind and sight-impa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9440" y="3432240"/>
            <a:ext cx="173664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364b5"/>
                </a:solidFill>
                <a:latin typeface="Arial"/>
              </a:rPr>
              <a:t>Deaf and audibly impa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11360" y="2171880"/>
            <a:ext cx="173664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364b5"/>
                </a:solidFill>
                <a:latin typeface="Arial"/>
              </a:rPr>
              <a:t>Mentally handicap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1360" y="3432240"/>
            <a:ext cx="173664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364b5"/>
                </a:solidFill>
                <a:latin typeface="Arial"/>
              </a:rPr>
              <a:t>Wheelchair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88160" y="3432240"/>
            <a:ext cx="170640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96c8"/>
                </a:solidFill>
                <a:latin typeface="Arial"/>
              </a:rPr>
              <a:t>Persons with communication difficu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484280"/>
            <a:ext cx="8242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e PRR distinguishes between “disabled persons” and “PRM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5494320"/>
            <a:ext cx="76568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e definition of PRM provided by TSI PRM (Decision 2008/164/EC), however, comprises disabled pers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4880" y="5445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440920" y="5445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5200" y="1916280"/>
            <a:ext cx="8609040" cy="4230360"/>
          </a:xfrm>
          <a:prstGeom prst="rect">
            <a:avLst/>
          </a:prstGeom>
          <a:noFill/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IC Oelschläger • Genève • V 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B8273-293D-4BBF-9F7F-8B56A57B142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19/11/2009</a:t>
            </a: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bled persons and PRM – What do they ne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1640" y="1557360"/>
            <a:ext cx="3959280" cy="576360"/>
          </a:xfrm>
          <a:prstGeom prst="rect">
            <a:avLst/>
          </a:prstGeom>
          <a:solidFill>
            <a:srgbClr val="036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lind and sight-impa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1640" y="2278080"/>
            <a:ext cx="3959280" cy="3743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pPr marL="181080" indent="-181080">
              <a:spcBef>
                <a:spcPts val="300"/>
              </a:spcBef>
              <a:spcAft>
                <a:spcPts val="300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e-travel information in accessible form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a50021"/>
              </a:buClr>
              <a:buFont typeface="Arial"/>
              <a:buChar char="•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.g. websites, printed materials in audio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spcAft>
                <a:spcPts val="300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ctile guiding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spcAft>
                <a:spcPts val="300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ssistance for ticket purc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spcAft>
                <a:spcPts val="300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ssistance at embarking and disemba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spcAft>
                <a:spcPts val="300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n-board space for guiding d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spcAft>
                <a:spcPts val="300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al-time information in audible form during the journ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spcAft>
                <a:spcPts val="300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pecial attention in case of lateness and broken conn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37080" y="2278080"/>
            <a:ext cx="4354560" cy="309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IC Oelschläger • Genève • V 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0CA69-34E0-4206-8B6A-53D3011EC3A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19/11/2009</a:t>
            </a:r>
          </a:p>
        </p:txBody>
      </p:sp>
    </p:spTree>
  </p:cSld>
  <p:transition spd="med"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bled persons and PRM – What do they ne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1640" y="1557360"/>
            <a:ext cx="3959280" cy="576360"/>
          </a:xfrm>
          <a:prstGeom prst="rect">
            <a:avLst/>
          </a:prstGeom>
          <a:solidFill>
            <a:srgbClr val="036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af and audibly impa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1640" y="2278080"/>
            <a:ext cx="3959280" cy="3743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duction loops at ticket counters and help poi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isual accurate departure information in real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Arial"/>
              <a:buChar char="•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.g. sign language interpreted departur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isual travel information at stations and on board tr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37080" y="2278080"/>
            <a:ext cx="4354560" cy="31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IC Oelschläger • Genève • V 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D8144-31BD-490F-8F1C-5A2905071FB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19/11/2009</a:t>
            </a:r>
          </a:p>
        </p:txBody>
      </p:sp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bled persons and PRM – What do they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1640" y="1557360"/>
            <a:ext cx="3959280" cy="576360"/>
          </a:xfrm>
          <a:prstGeom prst="rect">
            <a:avLst/>
          </a:prstGeom>
          <a:solidFill>
            <a:srgbClr val="036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ntally handicap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1640" y="2278080"/>
            <a:ext cx="3959280" cy="3743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ictogram sign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asy read time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omprehensive information, specially in case of irregular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asy to use ticket vending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pecial attention in case of lateness and broken conn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37080" y="2278080"/>
            <a:ext cx="4356000" cy="310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IC Oelschläger • Genève • V 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54915-DC0E-4922-99B4-060419AE16C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19/11/2009</a:t>
            </a:r>
          </a:p>
        </p:txBody>
      </p:sp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bled persons and PRM – What do they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1640" y="1557360"/>
            <a:ext cx="3959280" cy="576360"/>
          </a:xfrm>
          <a:prstGeom prst="rect">
            <a:avLst/>
          </a:prstGeom>
          <a:solidFill>
            <a:srgbClr val="036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elchair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1640" y="2278080"/>
            <a:ext cx="3959280" cy="3743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ower height ticket cou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ssistance at embarking, disembarking and changing tr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n-board space for wheelch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pacious and accessible toi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38520" y="2276640"/>
            <a:ext cx="4354560" cy="309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IC Oelschläger • Genève • V 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4D62F-181F-43EB-B34C-4744AFE5FDB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19/11/2009</a:t>
            </a:r>
          </a:p>
        </p:txBody>
      </p:sp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bled persons and PRM – What do they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8640" y="1484280"/>
            <a:ext cx="1737000" cy="934920"/>
          </a:xfrm>
          <a:prstGeom prst="rect">
            <a:avLst/>
          </a:prstGeom>
          <a:solidFill>
            <a:srgbClr val="00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ssengers carrying small child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8640" y="2708280"/>
            <a:ext cx="1737000" cy="934920"/>
          </a:xfrm>
          <a:prstGeom prst="rect">
            <a:avLst/>
          </a:prstGeom>
          <a:solidFill>
            <a:srgbClr val="00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gnant wo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3933720"/>
            <a:ext cx="1736640" cy="935280"/>
          </a:xfrm>
          <a:prstGeom prst="rect">
            <a:avLst/>
          </a:prstGeom>
          <a:solidFill>
            <a:srgbClr val="00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derly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40000" y="1484280"/>
            <a:ext cx="6335640" cy="934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pace for p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iaper changing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40000" y="2709720"/>
            <a:ext cx="6335640" cy="935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omfortable seat on 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ossibilities to rest at s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3933720"/>
            <a:ext cx="6335640" cy="935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vice at journey planning and ticket purc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omprehensive information, specially in case of irregular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ssistance at embarking, disembarking and changing tr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00" y="5157720"/>
            <a:ext cx="6335640" cy="935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formation in multiple languages (of which at least Engli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niform pict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pecial attention in case of lateness and broken conn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8640" y="5157720"/>
            <a:ext cx="1737000" cy="935280"/>
          </a:xfrm>
          <a:prstGeom prst="rect">
            <a:avLst/>
          </a:prstGeom>
          <a:solidFill>
            <a:srgbClr val="00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rsons with communication difficu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IC Oelschläger • Genève • V 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8D76C-3D2B-4197-97B9-3B97F2BF2AD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19/11/2009</a:t>
            </a:r>
          </a:p>
        </p:txBody>
      </p:sp>
    </p:spTree>
  </p:cSld>
  <p:transition spd="med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227160"/>
            <a:ext cx="82296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ilways at your service – What can we off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8640" y="2205000"/>
            <a:ext cx="1737000" cy="934920"/>
          </a:xfrm>
          <a:prstGeom prst="rect">
            <a:avLst/>
          </a:prstGeom>
          <a:solidFill>
            <a:srgbClr val="1c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2205000"/>
            <a:ext cx="6334200" cy="934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t the interface platform ↔ 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n board a 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8640" y="3465360"/>
            <a:ext cx="1737000" cy="935280"/>
          </a:xfrm>
          <a:prstGeom prst="rect">
            <a:avLst/>
          </a:prstGeom>
          <a:solidFill>
            <a:srgbClr val="1c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lowing a  companion for tra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40000" y="3465360"/>
            <a:ext cx="6334200" cy="935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nder certain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100000"/>
              </a:lnSpc>
              <a:spcBef>
                <a:spcPts val="876"/>
              </a:spcBef>
              <a:buClr>
                <a:srgbClr val="a50021"/>
              </a:buClr>
              <a:buFont typeface="Arial"/>
              <a:buChar char="•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severely handicapped unable to travel al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ased on commercial decision or national legis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0440" y="4726080"/>
            <a:ext cx="1736640" cy="934920"/>
          </a:xfrm>
          <a:prstGeom prst="rect">
            <a:avLst/>
          </a:prstGeom>
          <a:solidFill>
            <a:srgbClr val="1c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duced fares for elderly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41440" y="4726080"/>
            <a:ext cx="6334200" cy="934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ased on commercial decision or national legis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5200" y="1844640"/>
            <a:ext cx="8609040" cy="4105440"/>
          </a:xfrm>
          <a:prstGeom prst="rect">
            <a:avLst/>
          </a:prstGeom>
          <a:noFill/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8640" y="1628640"/>
            <a:ext cx="1128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For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IC Oelschläger • Genève • V 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07325-501C-4912-8409-1CEB8638C45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19/11/2009</a:t>
            </a:r>
          </a:p>
        </p:txBody>
      </p:sp>
    </p:spTree>
  </p:cSld>
  <p:transition spd="med">
    <p:fad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8:05:13Z</dcterms:created>
  <dc:creator>Dirk Oelschläger</dc:creator>
  <dc:description/>
  <dc:language>en-US</dc:language>
  <cp:lastModifiedBy>Dirk Oelschläger</cp:lastModifiedBy>
  <cp:lastPrinted>2009-10-25T19:12:56Z</cp:lastPrinted>
  <dcterms:modified xsi:type="dcterms:W3CDTF">2009-10-29T14:10:08Z</dcterms:modified>
  <cp:revision>232</cp:revision>
  <dc:subject>UNECE Workshop on Accessibility, 19/11/2009</dc:subject>
  <dc:title>Rail travel for PRM: Service provider views</dc:title>
</cp:coreProperties>
</file>