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BB1-2673-487A-84D7-2EF57C76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B0E-544C-495E-A64C-8AF5B67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149-291E-406B-A905-BBDBAE51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4DA-08C0-4788-B637-798EFEF8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83A-3448-40EE-A197-B321603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789-31E1-4FB7-9544-5C83B334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E37-5B81-402A-9ADB-312207A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25D-9193-4DBA-8DF5-F97EA427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320" y="228600"/>
            <a:ext cx="7696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E4F-914C-4F96-8AC0-BDE44115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CE1-2F4F-495C-A4B0-383C110F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9C3-2078-4596-AC53-E3100AA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317-A3A0-48CD-B5AC-5075D9B7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477120" y="66294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4560" y="6629400"/>
            <a:ext cx="486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C.1 Meeting 21 October 20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52880" y="66294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E56A62E2-E085-4A45-BCF1-39534B684737}" type="slidenum">
              <a:rPr b="0" lang="en-US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0160" y="250920"/>
            <a:ext cx="2016000" cy="87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usandcoach.travel/en/bus_and_coach_the_smart_move.htm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busworld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usandcoach.travel/en/bus_and_coach_the_smart_move.htm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busworld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4880" y="1916280"/>
            <a:ext cx="82803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Multilateral agreement on international regular transport of passengers by bus and c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(OmniB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2520" y="4365720"/>
            <a:ext cx="763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ECE SC.1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eneva, 21 Octo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37240" y="5751360"/>
            <a:ext cx="3168720" cy="70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2720880" y="33336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5AD-7048-4B79-ACE2-B0AF877C2EF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30320" y="1744560"/>
            <a:ext cx="5973840" cy="442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D78-3B73-464A-AB39-469DB84E13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-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000 international regular lines in Europe al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ilateral agreements create a complicated framework &amp; a burden for authorities and oper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n preferential treatment of coaches at borders &amp; waiting ti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ciety’s interest to promote collective bus and coach transport – safe, environmentally-friendly, afford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multilateral agreement on international regular bus and coach lines is expected to facilitate these services considerably by creating a harmonised and fairer legal framework, control documents and, ultimately, enforcement procedures across the board, whilst at the same time reducing the administrative burden and costs for both authorities and oper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767-8DF7-40ED-832B-3C8774A93A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-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quest by SC.1 (101 session) to prepare a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U meetings with partner UNECE Governments 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sion to prepare a proposal for an agreement to allow real 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U Working Group of Member Associations (both EU and non EU) with input from several Governments (EU and non-E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osal submitted in July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osal briefly presented at 103rd session (postpon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9E0-060F-4FC7-8AD9-675BB19B72B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– Sour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1628640"/>
            <a:ext cx="924552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lateral Agre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and future EU legislation on mark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bus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ECE Consolidated Resolution on the Facilitation of International Road Transport (R.E.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ECE Conventions on Road Traffic of 1949 and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TO General Agreement on Trade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7C2-809B-4198-842B-694140DCCB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– Main fea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ne applic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the “authorising authority” in the country where one of the termini of the service is situ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thorities of transited countries without picking up or setting down passengers only in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uration to issue authorisation (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3 month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&amp; 2 months for other authorities involved to respond (if no response = automatic granting of authoris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mon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ist of conditions for refus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an author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botage allowed &amp;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5% seat capacity limit for cabotag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roposed (to be controlled via a passengers li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al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hapters on safety, environmental provisions, facilit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border controls, visas) and com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dministrative Committe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facilitate implementation and adapt anne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36C-5BA4-474C-830C-8956812789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– Main fea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application form (EU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form of authorisation (EU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form of passengers’ list (industry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list of serious infringements (EU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checking procedures and form to avoid multiple controls en route (checks ONLY at terminals and NOT on road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D21-B454-4653-AB07-CCEA14EB89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mniBUS – Proposed Follow-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r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IRU proposal for further consideration by SC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of a dedicated SC.1 Ad-Hoc Working 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work on the draft agreement on a continuous ba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6D1-12E3-4D39-9C35-3A4A933F56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1440" y="1484280"/>
            <a:ext cx="9296280" cy="51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7360" y="69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52640" y="1773360"/>
            <a:ext cx="780084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Smart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U &amp; Busworld long-term global initiative 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5 yea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ilitate bus/coach transport &amp;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le bus/coach use in 10-1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Open to all, who share Smart Mov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Bus &amp; Coach - Smart Mo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04640"/>
            <a:ext cx="1728720" cy="7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Bannière Busworl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4640"/>
            <a:ext cx="282924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208160" y="5300640"/>
            <a:ext cx="676908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8A-01A4-4AC2-A343-5CC89BC798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1000" y="1484280"/>
            <a:ext cx="9294480" cy="51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27360" y="69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2640" y="1628640"/>
            <a:ext cx="780084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oubling the use of buses and coaches means (EU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50 mio tonnes CO2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500  less road fatalit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tacular reduction in congestion, since 10-15% less car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4 million new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Bus &amp; Coach - Smart Mo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04640"/>
            <a:ext cx="1728720" cy="7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" descr="Bannière Busworl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4640"/>
            <a:ext cx="2829240" cy="66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065240" y="5300640"/>
            <a:ext cx="7200720" cy="7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478-DF10-4E7B-AD7A-ACC6DC1015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9:39:06Z</dcterms:created>
  <dc:creator>okamberski</dc:creator>
  <dc:description/>
  <dc:language>en-US</dc:language>
  <cp:lastModifiedBy>Tanase</cp:lastModifiedBy>
  <dcterms:modified xsi:type="dcterms:W3CDTF">2009-12-24T09:37:48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