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004-8B0C-4F10-B457-463BFF642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9CED-A5A3-4B73-AD3F-20F3B875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C377-56B3-4A42-B526-B69FF8F90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62A-7C45-4637-B1E9-2592BF3A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2CC-1DF3-4680-809C-2084126E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D9D-9A8D-4FAD-8FEA-787D0577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B2DA-E59E-4BF9-8F12-4976D483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2C8-996D-45CE-9D08-9D47EA06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09320" y="228600"/>
            <a:ext cx="76964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38C-AD74-4D3A-BB12-5255E50B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911C-7BB4-4247-BE98-E7E1B400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5ACA-6C23-471C-9402-C498701D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ACD-5EF8-4C13-8462-54A2D231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09320" y="2286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477120" y="66294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© International Road Transport Union (IRU)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4560" y="6629400"/>
            <a:ext cx="4865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SC.1 Meeting 21 October 200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952880" y="662940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Page </a:t>
            </a:r>
            <a:fld id="{1207FBCA-11A3-4FD7-8F57-FB5AA187A40F}" type="slidenum">
              <a:rPr b="0" lang="en-US" sz="10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3716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000000"/>
              </a:buClr>
              <a:buSzPct val="13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200160" y="250920"/>
            <a:ext cx="2016000" cy="87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usandcoach.travel/en/bus_and_coach_the_smart_move.htm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busworld.org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usandcoach.travel/en/bus_and_coach_the_smart_move.htm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www.busworld.org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04880" y="1916280"/>
            <a:ext cx="828036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Multilateral agreement on international regular transport of passengers by bus and c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ff"/>
                </a:solidFill>
                <a:latin typeface="Arial"/>
              </a:rPr>
              <a:t>(OmniBU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2520" y="4365720"/>
            <a:ext cx="763272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UNECE SC.1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Geneva, 21 October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37240" y="5751360"/>
            <a:ext cx="3168720" cy="70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6" name=""/>
          <p:cNvSpPr/>
          <p:nvPr/>
        </p:nvSpPr>
        <p:spPr>
          <a:xfrm>
            <a:off x="2720880" y="333360"/>
            <a:ext cx="59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50AF-1D03-4088-8033-4018F6285B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30320" y="1744560"/>
            <a:ext cx="5973840" cy="4422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B3D0-3FCF-46C7-A692-0D2E2E179801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4880" y="228600"/>
            <a:ext cx="68403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OmniBUS - 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88880" y="1412640"/>
            <a:ext cx="92455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47640" indent="-533160">
              <a:lnSpc>
                <a:spcPct val="115000"/>
              </a:lnSpc>
              <a:spcBef>
                <a:spcPts val="414"/>
              </a:spcBef>
              <a:spcAft>
                <a:spcPts val="825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3000 international regular lines in Europe alon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14"/>
              </a:spcBef>
              <a:spcAft>
                <a:spcPts val="825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ilateral agreements create a complicated framework &amp; a burden for authorities and opera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14"/>
              </a:spcBef>
              <a:spcAft>
                <a:spcPts val="825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Non preferential treatment of coaches at borders &amp; waiting tim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14"/>
              </a:spcBef>
              <a:spcAft>
                <a:spcPts val="825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Society’s interest to promote collective bus and coach transport – safe, environmentally-friendly, affordab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95000"/>
              </a:lnSpc>
              <a:spcBef>
                <a:spcPts val="414"/>
              </a:spcBef>
              <a:spcAft>
                <a:spcPts val="41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a multilateral agreement on international regular bus and coach lines is expected to facilitate these services considerably by creating a harmonised and fairer legal framework, control documents and, ultimately, enforcement procedures across the board, whilst at the same time reducing the administrative burden and costs for both authorities and opera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41F3-059E-4E1A-BEBD-47431A885FDC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4880" y="228600"/>
            <a:ext cx="68403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OmniBUS - 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880" y="1412640"/>
            <a:ext cx="92455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47640" indent="-533160">
              <a:lnSpc>
                <a:spcPct val="115000"/>
              </a:lnSpc>
              <a:spcBef>
                <a:spcPts val="451"/>
              </a:spcBef>
              <a:spcAft>
                <a:spcPts val="901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quest by SC.1 (101 session) to prepare a 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51"/>
              </a:spcBef>
              <a:spcAft>
                <a:spcPts val="901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U meetings with partner UNECE Governments (2008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51"/>
              </a:spcBef>
              <a:spcAft>
                <a:spcPts val="901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cision to prepare a proposal for an agreement to allow real discuss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51"/>
              </a:spcBef>
              <a:spcAft>
                <a:spcPts val="901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U Working Group of Member Associations (both EU and non EU) with input from several Governments (EU and non-E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51"/>
              </a:spcBef>
              <a:spcAft>
                <a:spcPts val="901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posal submitted in July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51"/>
              </a:spcBef>
              <a:spcAft>
                <a:spcPts val="901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roposal briefly presented at 103rd session (postpon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98C-CBC7-471A-B3CF-5612451D97B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4880" y="228600"/>
            <a:ext cx="68403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OmniBUS – Sourc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88880" y="1628640"/>
            <a:ext cx="9245520" cy="468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ilateral Agre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urrent and future EU legislation on market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bus agre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ECE Consolidated Resolution on the Facilitation of International Road Transport (R.E.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NECE Conventions on Road Traffic of 1949 and 196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05000"/>
              </a:lnSpc>
              <a:spcBef>
                <a:spcPts val="524"/>
              </a:spcBef>
              <a:spcAft>
                <a:spcPts val="524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TO General Agreement on Trade o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2DC-1DE9-4397-8391-47E1FC40C9B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4880" y="228600"/>
            <a:ext cx="68403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OmniBUS – Main feat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8880" y="1412640"/>
            <a:ext cx="92455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47640" indent="-533160">
              <a:lnSpc>
                <a:spcPct val="115000"/>
              </a:lnSpc>
              <a:spcBef>
                <a:spcPts val="499"/>
              </a:spcBef>
              <a:spcAft>
                <a:spcPts val="374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nly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one applica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the “authorising authority” in the country where one of the termini of the service is situ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99"/>
              </a:spcBef>
              <a:spcAft>
                <a:spcPts val="374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uthorities of transited countries without picking up or setting down passengers only inform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99"/>
              </a:spcBef>
              <a:spcAft>
                <a:spcPts val="374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uration to issue authorisation (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3 month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&amp; 2 months for other authorities involved to respond (if no response = automatic granting of authoris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99"/>
              </a:spcBef>
              <a:spcAft>
                <a:spcPts val="374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mon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list of conditions for refusa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an authori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99"/>
              </a:spcBef>
              <a:spcAft>
                <a:spcPts val="374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botage allowed &amp;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25% seat capacity limit for cabotag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proposed (to be controlled via a passengers li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99"/>
              </a:spcBef>
              <a:spcAft>
                <a:spcPts val="374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ecial 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chapters on safety, environmental provisions, facilita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(border controls, visas) and comf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499"/>
              </a:spcBef>
              <a:spcAft>
                <a:spcPts val="374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Administrative Committe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o facilitate implementation and adapt annex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1AD7-BE69-4DB3-BDD4-0BE8F9F4CE9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4880" y="228600"/>
            <a:ext cx="68403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"/>
              </a:rPr>
              <a:t>OmniBUS – Main featu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8880" y="1412640"/>
            <a:ext cx="92455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application form (EU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form of authorisation (EU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form of passengers’ list (industry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list of serious infringements (EU mod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15000"/>
              </a:lnSpc>
              <a:spcBef>
                <a:spcPts val="524"/>
              </a:spcBef>
              <a:spcAft>
                <a:spcPts val="1049"/>
              </a:spcAft>
              <a:buClr>
                <a:srgbClr val="ffffff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mmon checking procedures and form to avoid multiple controls en route (checks ONLY at terminals and NOT on roadsi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5D5-3F47-43BC-B251-8842F01F751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4880" y="228600"/>
            <a:ext cx="684036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OmniBUS – Proposed Follow-up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88880" y="1412640"/>
            <a:ext cx="9245520" cy="511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47640" indent="-5331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pprov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e IRU proposal for further consideration by SC.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47640" indent="-533160">
              <a:lnSpc>
                <a:spcPct val="13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reate of a dedicated SC.1 Ad-Hoc Working Grou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work on the draft agreement on a continuous bas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243C-07FC-4021-8B2E-1991C45922F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71440" y="1484280"/>
            <a:ext cx="9296280" cy="511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27360" y="692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52640" y="1773360"/>
            <a:ext cx="7800840" cy="33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Smart M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RU &amp; Busworld long-term global initiative 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5 yea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cilitate bus/coach transport &amp; tr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uble bus/coach use in 10-1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Open to all, who share Smart Move 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Bus &amp; Coach - Smart Mo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404640"/>
            <a:ext cx="1728720" cy="7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3" name="" descr="Bannière Busworl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04640"/>
            <a:ext cx="2829240" cy="667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208160" y="5300640"/>
            <a:ext cx="6769080" cy="68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49A-9E95-463A-81B3-9D7AF7EEC95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1000" y="1484280"/>
            <a:ext cx="9294480" cy="511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27360" y="69228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52640" y="1628640"/>
            <a:ext cx="780084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c00"/>
                </a:solidFill>
                <a:latin typeface="Arial"/>
              </a:rPr>
              <a:t>Doubling the use of buses and coaches means (EU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ess 50 mio tonnes CO2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500  less road fatalities per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ctacular reduction in congestion, since 10-15% less car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+ 4 million new jo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Bus &amp; Coach - Smart Mov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404640"/>
            <a:ext cx="1728720" cy="75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69" name="" descr="Bannière Busworl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04640"/>
            <a:ext cx="2829240" cy="667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1065240" y="5300640"/>
            <a:ext cx="7200720" cy="72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3BE-6844-4B26-90EF-AC7D6DD6F82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1T09:39:06Z</dcterms:created>
  <dc:creator>okamberski</dc:creator>
  <dc:description/>
  <dc:language>en-US</dc:language>
  <cp:lastModifiedBy>Tanase</cp:lastModifiedBy>
  <dcterms:modified xsi:type="dcterms:W3CDTF">2009-12-24T09:37:48Z</dcterms:modified>
  <cp:revision>1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