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D672-A587-43D9-AF21-F33E1B8BEF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morning, Ladies and Gentlem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 of parking areas also at borders – Governments to a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 ITF-IRU IT development initiative – objective: Security,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, Social rules, Business, Comf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ruck and bus &amp; coa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ed versi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ternet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/. Home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A11E-F295-4DA6-90F9-84923A5B57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le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Home Page and introduction to the scre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Page … main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/. Information H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one stop information shop for drivers: Route Planner with parking indica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/. … and many oth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rch for and contact some 3000 parking ar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ute plann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el prices in 40 countri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rder waiting tim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lash information on traffic restric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urity guidelines and checklist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ather condi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rrency convert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gal advice and suppor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sy to update by external data sub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Free of charge, also in a portable device-friendly forma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./. See Live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12D-EC83-4D0E-8D96-245E114A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D805-D74E-4AFB-A4E4-BBFBE524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4B9F-5012-493C-8083-FB381035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3AF6-579C-4A41-B5F5-C57CBE0F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E26-21A6-4478-8695-5490FF09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ACAF-82B2-42A7-9778-B8FC4B67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30E-DDC3-4CC9-B088-B4558003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7AE5-B390-4CA4-95AE-168FE2BF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09320" y="228600"/>
            <a:ext cx="76964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B22-A6E0-4DDA-8E60-A5D55D74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05CA-2C3D-402E-9403-6D034F82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A6C7-9642-4C05-BD44-7002A098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9402-91F4-45C7-91DB-68AF9F97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0160" y="260280"/>
            <a:ext cx="2016000" cy="871560"/>
          </a:xfrm>
          <a:prstGeom prst="rect">
            <a:avLst/>
          </a:prstGeom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477120" y="66294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© International Road Transport Union (IRU)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560" y="6629400"/>
            <a:ext cx="486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&lt;footer&gt;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4952880" y="66294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Page </a:t>
            </a:r>
            <a:fld id="{4A7A0BCB-EF36-4542-B895-AAFE3253FE90}" type="slidenum">
              <a:rPr b="0" lang="en-GB" sz="10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37160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6160" y="2349000"/>
            <a:ext cx="84204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Arial"/>
              </a:rPr>
              <a:t>TRANSPark</a:t>
            </a:r>
            <a:endParaRPr b="1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85720" y="3428640"/>
            <a:ext cx="693396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er KRAUSZ, IRU, Head – Goods Transport and Facil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ECE SC1, Geneva, 21 Octob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5240" y="5300640"/>
            <a:ext cx="7991280" cy="102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3C02-C986-4310-BA83-37F1CA85E10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408880" y="5821200"/>
            <a:ext cx="1440000" cy="847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TRANSPark – History &amp; Databas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507680"/>
            <a:ext cx="929628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278280" indent="-278280">
              <a:lnSpc>
                <a:spcPct val="105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atabase developed over many years by the IRU together with its Members and with the International Transport Forum (ITF) / national Ministries of Transpor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8280" indent="-278280">
              <a:lnSpc>
                <a:spcPct val="105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ources of other Information </a:t>
            </a:r>
            <a:r>
              <a:rPr b="0" i="1" lang="en-GB" sz="3600" spc="-1" strike="noStrike">
                <a:solidFill>
                  <a:srgbClr val="ffffff"/>
                </a:solidFill>
                <a:latin typeface="Arial"/>
              </a:rPr>
              <a:t>Hub services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, are exclusively based on IRU-owned databas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external applications like Goog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C54F-7F4B-4E69-AA00-025323B6877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72880" y="260280"/>
            <a:ext cx="77756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TRANSPark - Purpose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9296280" cy="39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6000"/>
          </a:bodyPr>
          <a:p>
            <a:pPr marL="272520" indent="-272520">
              <a:lnSpc>
                <a:spcPct val="105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ck of parking areas  – Governments to a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2520" indent="-272520">
              <a:lnSpc>
                <a:spcPct val="105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t ITF-IRU IT development initiative – objective: Security,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fety, Social rules, Business, Comf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2520" indent="-272520">
              <a:lnSpc>
                <a:spcPct val="105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ck and bus &amp; coac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odu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2520" indent="-272520">
              <a:lnSpc>
                <a:spcPct val="105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nted version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ternet appl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408880" y="5749920"/>
            <a:ext cx="1440000" cy="8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42E2-E267-4784-9806-D1E0B477F62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TRANSPark - What is it?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507680"/>
            <a:ext cx="929628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278280" indent="-278280">
              <a:lnSpc>
                <a:spcPct val="105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nteractive internet application with search functions to locate parking areas (trucks and, </a:t>
            </a:r>
            <a:r>
              <a:rPr b="0" i="1" lang="en-GB" sz="3600" spc="-1" strike="noStrike">
                <a:solidFill>
                  <a:srgbClr val="ffffff"/>
                </a:solidFill>
                <a:latin typeface="Arial"/>
              </a:rPr>
              <a:t>at a later stage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, buses and coache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8280" indent="-278280">
              <a:lnSpc>
                <a:spcPct val="105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river Start-Up Point, a genuine Professional Driver Information Hub for assisting </a:t>
            </a:r>
            <a:r>
              <a:rPr b="0" i="1" lang="en-GB" sz="3600" spc="-1" strike="noStrike">
                <a:solidFill>
                  <a:srgbClr val="ffffff"/>
                </a:solidFill>
                <a:latin typeface="Arial"/>
              </a:rPr>
              <a:t>drivers and transport company operations manager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=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river Information One-Stop Shop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408880" y="5749920"/>
            <a:ext cx="1440000" cy="8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DD15-BA97-4FA0-8AEF-7B2D39DD88F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TRANSPark - Map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889280"/>
            <a:ext cx="9296280" cy="211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61000"/>
          </a:bodyPr>
          <a:p>
            <a:pPr marL="173160" indent="-173160">
              <a:lnSpc>
                <a:spcPct val="95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RANSPark maps - the heart of the application, based on Google Map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95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EO-Coordinates: the Alpha and Omeg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95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oday, TRANSPark contains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880 parking areas, of which 1820 (63.19%) have been “GEO-identified and 1060 are still to be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n 43 countri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408880" y="5749920"/>
            <a:ext cx="1440000" cy="8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C4AF-1364-4B89-9A8E-D1C162DC6E9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TRANSPark Homepage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2880" y="1484280"/>
            <a:ext cx="9288720" cy="5186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408880" y="5749920"/>
            <a:ext cx="1440000" cy="84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0AC1-C9ED-4A92-A256-9543FB5EA61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lan your Route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2880" y="1484280"/>
            <a:ext cx="9288720" cy="5237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408880" y="5749920"/>
            <a:ext cx="1440000" cy="84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87F9-9EB8-4D54-9C02-E4ACD64A9DD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TRANSPark: the ultimate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one stop-shop for informatio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4520" y="1341360"/>
            <a:ext cx="9361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: radius, text (address), advanced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 planne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t 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el prices in 40 countri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der waiting tim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sh information on traffic restriction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guidelines and checklist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ther condition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cy converte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al advice and suppor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pdate by external data submi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20008200">
            <a:off x="-230040" y="3547800"/>
            <a:ext cx="102466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Free of charge, also in a portable device-friendly form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408880" y="5749920"/>
            <a:ext cx="1440000" cy="84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7B9E-B8E2-43A0-8FE3-469AEC2FF5D0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85960" y="1700280"/>
            <a:ext cx="6275520" cy="4629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408880" y="5749920"/>
            <a:ext cx="1440000" cy="84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ED4C-8F9E-42B9-A1FA-6295EABB097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6:34:30Z</dcterms:created>
  <dc:creator>pkrausz</dc:creator>
  <dc:description/>
  <dc:language>en-US</dc:language>
  <cp:lastModifiedBy>csd</cp:lastModifiedBy>
  <dcterms:modified xsi:type="dcterms:W3CDTF">2009-10-20T13:00:16Z</dcterms:modified>
  <cp:revision>32</cp:revision>
  <dc:subject/>
  <dc:title>Slide 1</dc:title>
</cp:coreProperties>
</file>