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921D-7D55-4CDE-AA03-1B2E01D7FB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morning, Ladies and Gentlem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k of parking areas also at borders – Governments to a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int ITF-IRU IT development initiative – objective: Security,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, Social rules, Business, Comf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ruck and bus &amp; coac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ed version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ternet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/. Home P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5E6C-C05D-486B-9518-222697AA6C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le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Home Page and introduction to the scre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 Page … main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/. Information H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one stop information shop for drivers: Route Planner with parking indicati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/. … and many oth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arch for and contact some 3000 parking ar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oute plann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el prices in 40 countri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rder waiting tim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lash information on traffic restric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urity guidelines and checklist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ather condi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rrency convert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gal advice and suppor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to update by external data sub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Free of charge, also in a portable device-friendly form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./. See Live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A1CE-1E65-44F0-8EB5-EC0DE5806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6DCF-E06B-40D7-8CBA-7E1507FF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C0F2-BC1E-430D-B6C1-2C636163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CD7-DCB2-4F05-87EC-588948C6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A5E2-05EB-4ED2-A88F-28907D0C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2308-B8A4-4C7D-BBB8-60445320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FD4-84B6-42DA-AEAF-7F9522DA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77C4-BADB-443A-AC70-E84DAFAD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09320" y="228600"/>
            <a:ext cx="7696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31E-D235-4127-8F16-DB3FF091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CD2B-FF7A-45CB-933E-30EC2BB7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40B-DB6F-4022-A4CC-15DF05FF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1098-874C-4AA4-A135-F5E7BF6C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0160" y="260280"/>
            <a:ext cx="2016000" cy="87156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477120" y="66294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© International Road Transport Union (IRU)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560" y="6629400"/>
            <a:ext cx="486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&lt;footer&gt;</a:t>
            </a: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4952880" y="66294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0000"/>
                </a:solidFill>
                <a:latin typeface="Arial"/>
              </a:rPr>
              <a:t>Page </a:t>
            </a:r>
            <a:fld id="{F2E24CD3-6778-4B87-8EA4-57D1AA3E4540}" type="slidenum">
              <a:rPr b="0" lang="en-GB" sz="10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137160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6160" y="2349000"/>
            <a:ext cx="84204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Arial"/>
              </a:rPr>
              <a:t>TRANSPark</a:t>
            </a:r>
            <a:endParaRPr b="1" lang="en-US" sz="6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85720" y="3428640"/>
            <a:ext cx="6933960" cy="15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ter KRAUSZ, IRU, Head – Goods Transport and Facil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ECE SC1, Geneva, 21 October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65240" y="5300640"/>
            <a:ext cx="7991280" cy="102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08B-99AC-45B9-B020-C840B3B4D8C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8408880" y="5821200"/>
            <a:ext cx="1440000" cy="8478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RANSPark – History &amp; Databas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507680"/>
            <a:ext cx="92962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278280" indent="-278280">
              <a:lnSpc>
                <a:spcPct val="10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atabase developed over many years by the IRU together with its Members and with the International Transport Forum (ITF) / national Ministries of Transpor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8280" indent="-278280">
              <a:lnSpc>
                <a:spcPct val="10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ources of other Information </a:t>
            </a: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Hub services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, are exclusively based on IRU-owned databas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and external applications like Goog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4697-A636-4C33-BD1C-B656376F35A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72880" y="260280"/>
            <a:ext cx="77756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RANSPark - Purpose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9296280" cy="396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rmAutofit fontScale="96000"/>
          </a:bodyPr>
          <a:p>
            <a:pPr marL="272520" indent="-272520">
              <a:lnSpc>
                <a:spcPct val="10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ck of parking areas  – Governments to a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2520" indent="-272520">
              <a:lnSpc>
                <a:spcPct val="10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oint ITF-IRU IT development initiative – objective: Security,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fety, Social rules, Business, Comf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2520" indent="-272520">
              <a:lnSpc>
                <a:spcPct val="10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ck and bus &amp; coach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odu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2520" indent="-272520">
              <a:lnSpc>
                <a:spcPct val="10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nted version </a:t>
            </a:r>
            <a:r>
              <a:rPr b="0" lang="en-US" sz="3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Internet appl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408880" y="5749920"/>
            <a:ext cx="144000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A886-0E0E-4C03-8A36-F4011C235F1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TRANSPark - What is it?</a:t>
            </a: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507680"/>
            <a:ext cx="92962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278280" indent="-278280">
              <a:lnSpc>
                <a:spcPct val="10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teractive internet application with search functions to locate parking areas (trucks and, </a:t>
            </a: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at a later stage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, buses and coache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78280" indent="-278280">
              <a:lnSpc>
                <a:spcPct val="10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river Start-Up Point, a genuine Professional Driver Information Hub for assisting </a:t>
            </a:r>
            <a:r>
              <a:rPr b="0" i="1" lang="en-GB" sz="3600" spc="-1" strike="noStrike">
                <a:solidFill>
                  <a:srgbClr val="ffffff"/>
                </a:solidFill>
                <a:latin typeface="Arial"/>
              </a:rPr>
              <a:t>drivers and transport company operations manage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(=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Driver Information One-Stop Shop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408880" y="5749920"/>
            <a:ext cx="144000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5C24-B23F-4236-B32D-85452182B36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RANSPark - Maps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889280"/>
            <a:ext cx="9296280" cy="211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61000"/>
          </a:bodyPr>
          <a:p>
            <a:pPr marL="173160" indent="-173160">
              <a:lnSpc>
                <a:spcPct val="9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RANSPark maps - the heart of the application, based on Google Map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9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EO-Coordinates: the Alpha and Omega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95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oday, TRANSPark contains </a:t>
            </a: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880 parking areas, of which 1820 (63.19%) have been “GEO-identified and 1060 are still to be </a:t>
            </a: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in 43 countrie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408880" y="5749920"/>
            <a:ext cx="144000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1433-3772-4B1F-A518-C82B1986A45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TRANSPark Homepage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2880" y="1484280"/>
            <a:ext cx="9288720" cy="5186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8408880" y="5749920"/>
            <a:ext cx="1440000" cy="8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21E3-C44A-4013-801A-BF368CB6C1D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Plan your Route 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72880" y="1484280"/>
            <a:ext cx="9288720" cy="5237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408880" y="5749920"/>
            <a:ext cx="1440000" cy="8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B52-1429-4664-B3A8-CB66C759B6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TRANSPark: the ultimate 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one stop-shop for informatio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520" y="1341360"/>
            <a:ext cx="9361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arch: radius, text (address), advanced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 plann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t avail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el prices in 40 countri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rder waiting tim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sh information on traffic restrictio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urity guidelines and checklist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ather conditio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rency converte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al advice and suppor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y to update by external data submi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20008200">
            <a:off x="-230040" y="3547800"/>
            <a:ext cx="10246680" cy="5814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66"/>
                </a:solidFill>
                <a:latin typeface="Arial"/>
              </a:rPr>
              <a:t>Free of charge, also in a portable device-friendly form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408880" y="5749920"/>
            <a:ext cx="1440000" cy="84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FAA7-F51F-4FC9-9F98-61F1E2960664}" type="slidenum">
              <a:t>8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85960" y="1700280"/>
            <a:ext cx="6275520" cy="46292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408880" y="5749920"/>
            <a:ext cx="1440000" cy="84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AFD4-5486-4EEB-B68D-A3AA92B53606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6:34:30Z</dcterms:created>
  <dc:creator>pkrausz</dc:creator>
  <dc:description/>
  <dc:language>en-US</dc:language>
  <cp:lastModifiedBy>csd</cp:lastModifiedBy>
  <dcterms:modified xsi:type="dcterms:W3CDTF">2009-10-20T13:00:16Z</dcterms:modified>
  <cp:revision>32</cp:revision>
  <dc:subject/>
  <dc:title>Slide 1</dc:title>
</cp:coreProperties>
</file>