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260013" cy="7199313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14320" y="766440"/>
            <a:ext cx="547056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896335C-E215-46B4-9933-3899A73A0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456CDBC-CF0D-448F-8FEE-6692F9FEB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995400" y="790560"/>
            <a:ext cx="5094360" cy="378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53640" y="4894200"/>
            <a:ext cx="5172120" cy="45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800" spc="-1" strike="noStrike">
              <a:solidFill>
                <a:srgbClr val="000000"/>
              </a:solidFill>
              <a:latin typeface="Arial Unicode MS"/>
              <a:ea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1B761A-F69C-483A-8328-AB316F40C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995400" y="790560"/>
            <a:ext cx="5094360" cy="378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53640" y="4894200"/>
            <a:ext cx="5172120" cy="45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800" spc="-1" strike="noStrike">
              <a:solidFill>
                <a:srgbClr val="000000"/>
              </a:solidFill>
              <a:latin typeface="Arial Unicode MS"/>
              <a:ea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3000" y="287280"/>
            <a:ext cx="9233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3000" y="1684800"/>
            <a:ext cx="9233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000" y="3866040"/>
            <a:ext cx="9233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3000" y="287280"/>
            <a:ext cx="9233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3000" y="1684800"/>
            <a:ext cx="45057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4480" y="1684800"/>
            <a:ext cx="45057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3000" y="3866040"/>
            <a:ext cx="45057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44480" y="3866040"/>
            <a:ext cx="45057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3000" y="287280"/>
            <a:ext cx="9233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3000" y="1684800"/>
            <a:ext cx="29728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4920" y="1684800"/>
            <a:ext cx="29728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56840" y="1684800"/>
            <a:ext cx="29728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3000" y="3866040"/>
            <a:ext cx="29728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4920" y="3866040"/>
            <a:ext cx="29728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56840" y="3866040"/>
            <a:ext cx="29728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3000" y="287280"/>
            <a:ext cx="9233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3000" y="1684800"/>
            <a:ext cx="9233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836"/>
              </a:spcBef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3000" y="287280"/>
            <a:ext cx="9233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3000" y="1684800"/>
            <a:ext cx="9233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3000" y="287280"/>
            <a:ext cx="9233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3000" y="1684800"/>
            <a:ext cx="45057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44480" y="1684800"/>
            <a:ext cx="45057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3000" y="287280"/>
            <a:ext cx="9233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3000" y="287280"/>
            <a:ext cx="9233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836"/>
              </a:spcBef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3000" y="287280"/>
            <a:ext cx="9233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3000" y="1684800"/>
            <a:ext cx="45057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4480" y="1684800"/>
            <a:ext cx="45057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000" y="3866040"/>
            <a:ext cx="45057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3000" y="287280"/>
            <a:ext cx="9233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3000" y="1684800"/>
            <a:ext cx="45057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4480" y="1684800"/>
            <a:ext cx="45057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44480" y="3866040"/>
            <a:ext cx="45057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3000" y="287280"/>
            <a:ext cx="9233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3000" y="1684800"/>
            <a:ext cx="45057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4480" y="1684800"/>
            <a:ext cx="45057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3000" y="3866040"/>
            <a:ext cx="9233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136440" y="774720"/>
            <a:ext cx="99554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36440" y="6437160"/>
            <a:ext cx="9980640" cy="18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0" descr="大众奥运标志单体"/>
          <p:cNvPicPr/>
          <p:nvPr/>
        </p:nvPicPr>
        <p:blipFill>
          <a:blip r:embed="rId2"/>
          <a:stretch/>
        </p:blipFill>
        <p:spPr>
          <a:xfrm>
            <a:off x="9212400" y="0"/>
            <a:ext cx="1049040" cy="1484280"/>
          </a:xfrm>
          <a:prstGeom prst="rect">
            <a:avLst/>
          </a:prstGeom>
          <a:ln w="0">
            <a:noFill/>
          </a:ln>
        </p:spPr>
      </p:pic>
      <p:sp>
        <p:nvSpPr>
          <p:cNvPr id="3" name="Text Box 32"/>
          <p:cNvSpPr/>
          <p:nvPr/>
        </p:nvSpPr>
        <p:spPr>
          <a:xfrm>
            <a:off x="222120" y="6589800"/>
            <a:ext cx="58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FCVs Demonstration in Beijing Olympics/ Paralympics  2008.09.23 HFCV-GTR/SGS Tok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3000" y="287280"/>
            <a:ext cx="9233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13000" y="1684800"/>
            <a:ext cx="9233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93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97000">
              <a:lnSpc>
                <a:spcPct val="93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90520" indent="-237960">
              <a:lnSpc>
                <a:spcPct val="93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  <a:tab algn="l" pos="10302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66800" indent="-23796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  <a:tab algn="l" pos="10302840"/>
                <a:tab algn="l" pos="1077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143080" indent="-237960">
              <a:lnSpc>
                <a:spcPct val="93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  <a:tab algn="l" pos="9834480"/>
                <a:tab algn="l" pos="10302840"/>
                <a:tab algn="l" pos="1077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143080" indent="-2379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143080" indent="-2379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98360" y="2001960"/>
            <a:ext cx="9780840" cy="32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FCVs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Beijing 2008 Olympics and Paralym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Yunt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@CATARC.ac.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27680" y="995400"/>
            <a:ext cx="329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GS 4 – 1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6251400" cy="7201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88120" y="6721560"/>
            <a:ext cx="341280" cy="3189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89440" y="3679920"/>
            <a:ext cx="1452600" cy="960480"/>
          </a:xfrm>
          <a:prstGeom prst="wedgeRoundRectCallout">
            <a:avLst>
              <a:gd name="adj1" fmla="val 2939"/>
              <a:gd name="adj2" fmla="val 255208"/>
              <a:gd name="adj3" fmla="val 16667"/>
            </a:avLst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折返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联想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82680" y="479520"/>
            <a:ext cx="341280" cy="3207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36720" y="320760"/>
            <a:ext cx="1111320" cy="958680"/>
          </a:xfrm>
          <a:prstGeom prst="wedgeRoundRectCallout">
            <a:avLst>
              <a:gd name="adj1" fmla="val -150000"/>
              <a:gd name="adj2" fmla="val -17708"/>
              <a:gd name="adj3" fmla="val 16667"/>
            </a:avLst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永丰场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3896400">
            <a:off x="1462680" y="767520"/>
            <a:ext cx="322200" cy="212760"/>
          </a:xfrm>
          <a:prstGeom prst="leftRightArrow">
            <a:avLst>
              <a:gd name="adj1" fmla="val 50000"/>
              <a:gd name="adj2" fmla="val 30147"/>
            </a:avLst>
          </a:prstGeom>
          <a:solidFill>
            <a:srgbClr val="0000ff"/>
          </a:solidFill>
          <a:ln w="15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4012800">
            <a:off x="1623600" y="1174680"/>
            <a:ext cx="320760" cy="212760"/>
          </a:xfrm>
          <a:prstGeom prst="leftRightArrow">
            <a:avLst>
              <a:gd name="adj1" fmla="val 50000"/>
              <a:gd name="adj2" fmla="val 30012"/>
            </a:avLst>
          </a:prstGeom>
          <a:solidFill>
            <a:srgbClr val="0000ff"/>
          </a:solidFill>
          <a:ln w="15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4364400">
            <a:off x="1773360" y="1575000"/>
            <a:ext cx="320400" cy="212400"/>
          </a:xfrm>
          <a:prstGeom prst="leftRightArrow">
            <a:avLst>
              <a:gd name="adj1" fmla="val 50000"/>
              <a:gd name="adj2" fmla="val 30030"/>
            </a:avLst>
          </a:prstGeom>
          <a:solidFill>
            <a:srgbClr val="0000ff"/>
          </a:solidFill>
          <a:ln w="15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3425400">
            <a:off x="2018880" y="1974960"/>
            <a:ext cx="320760" cy="212760"/>
          </a:xfrm>
          <a:prstGeom prst="leftRightArrow">
            <a:avLst>
              <a:gd name="adj1" fmla="val 50000"/>
              <a:gd name="adj2" fmla="val 30012"/>
            </a:avLst>
          </a:prstGeom>
          <a:solidFill>
            <a:srgbClr val="0000ff"/>
          </a:solidFill>
          <a:ln w="15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4250400">
            <a:off x="2169000" y="2375280"/>
            <a:ext cx="320760" cy="211320"/>
          </a:xfrm>
          <a:prstGeom prst="leftRightArrow">
            <a:avLst>
              <a:gd name="adj1" fmla="val 50000"/>
              <a:gd name="adj2" fmla="val 30217"/>
            </a:avLst>
          </a:prstGeom>
          <a:solidFill>
            <a:srgbClr val="0000ff"/>
          </a:solidFill>
          <a:ln w="15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885400">
            <a:off x="2338560" y="2694960"/>
            <a:ext cx="322560" cy="212760"/>
          </a:xfrm>
          <a:prstGeom prst="leftRightArrow">
            <a:avLst>
              <a:gd name="adj1" fmla="val 50000"/>
              <a:gd name="adj2" fmla="val 30181"/>
            </a:avLst>
          </a:prstGeom>
          <a:solidFill>
            <a:srgbClr val="0000ff"/>
          </a:solidFill>
          <a:ln w="15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2424600" y="3094920"/>
            <a:ext cx="322200" cy="212760"/>
          </a:xfrm>
          <a:prstGeom prst="leftRightArrow">
            <a:avLst>
              <a:gd name="adj1" fmla="val 50000"/>
              <a:gd name="adj2" fmla="val 30147"/>
            </a:avLst>
          </a:prstGeom>
          <a:solidFill>
            <a:srgbClr val="0000ff"/>
          </a:solidFill>
          <a:ln w="15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4518000">
            <a:off x="2456280" y="3494880"/>
            <a:ext cx="322200" cy="212760"/>
          </a:xfrm>
          <a:prstGeom prst="leftRightArrow">
            <a:avLst>
              <a:gd name="adj1" fmla="val 50000"/>
              <a:gd name="adj2" fmla="val 30147"/>
            </a:avLst>
          </a:prstGeom>
          <a:solidFill>
            <a:srgbClr val="0000ff"/>
          </a:solidFill>
          <a:ln w="15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4986600">
            <a:off x="2530440" y="3894840"/>
            <a:ext cx="322200" cy="212760"/>
          </a:xfrm>
          <a:prstGeom prst="leftRightArrow">
            <a:avLst>
              <a:gd name="adj1" fmla="val 50000"/>
              <a:gd name="adj2" fmla="val 30147"/>
            </a:avLst>
          </a:prstGeom>
          <a:solidFill>
            <a:srgbClr val="0000ff"/>
          </a:solidFill>
          <a:ln w="15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4782600">
            <a:off x="2563200" y="4295520"/>
            <a:ext cx="322560" cy="211320"/>
          </a:xfrm>
          <a:prstGeom prst="leftRightArrow">
            <a:avLst>
              <a:gd name="adj1" fmla="val 50000"/>
              <a:gd name="adj2" fmla="val 30387"/>
            </a:avLst>
          </a:prstGeom>
          <a:solidFill>
            <a:srgbClr val="0000ff"/>
          </a:solidFill>
          <a:ln w="15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541600">
            <a:off x="2744280" y="4640400"/>
            <a:ext cx="344520" cy="198360"/>
          </a:xfrm>
          <a:prstGeom prst="leftRightArrow">
            <a:avLst>
              <a:gd name="adj1" fmla="val 50000"/>
              <a:gd name="adj2" fmla="val 34576"/>
            </a:avLst>
          </a:prstGeom>
          <a:solidFill>
            <a:srgbClr val="0000ff"/>
          </a:solidFill>
          <a:ln w="15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1320" y="5121360"/>
            <a:ext cx="1454040" cy="958680"/>
          </a:xfrm>
          <a:prstGeom prst="wedgeRoundRectCallout">
            <a:avLst>
              <a:gd name="adj1" fmla="val 80148"/>
              <a:gd name="adj2" fmla="val -71875"/>
              <a:gd name="adj3" fmla="val 16667"/>
            </a:avLst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折返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北宫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15200">
            <a:off x="3078000" y="4879440"/>
            <a:ext cx="428760" cy="160560"/>
          </a:xfrm>
          <a:prstGeom prst="leftRightArrow">
            <a:avLst>
              <a:gd name="adj1" fmla="val 50000"/>
              <a:gd name="adj2" fmla="val 53161"/>
            </a:avLst>
          </a:prstGeom>
          <a:solidFill>
            <a:srgbClr val="0000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140200">
            <a:off x="3590640" y="5040360"/>
            <a:ext cx="428400" cy="160200"/>
          </a:xfrm>
          <a:prstGeom prst="leftRightArrow">
            <a:avLst>
              <a:gd name="adj1" fmla="val 50000"/>
              <a:gd name="adj2" fmla="val 53235"/>
            </a:avLst>
          </a:prstGeom>
          <a:solidFill>
            <a:srgbClr val="0000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1031800">
            <a:off x="4019040" y="5200560"/>
            <a:ext cx="427320" cy="160560"/>
          </a:xfrm>
          <a:prstGeom prst="leftRightArrow">
            <a:avLst>
              <a:gd name="adj1" fmla="val 50000"/>
              <a:gd name="adj2" fmla="val 52982"/>
            </a:avLst>
          </a:prstGeom>
          <a:solidFill>
            <a:srgbClr val="0000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0291400">
            <a:off x="4510080" y="5070240"/>
            <a:ext cx="428760" cy="160200"/>
          </a:xfrm>
          <a:prstGeom prst="leftRightArrow">
            <a:avLst>
              <a:gd name="adj1" fmla="val 50000"/>
              <a:gd name="adj2" fmla="val 53280"/>
            </a:avLst>
          </a:prstGeom>
          <a:solidFill>
            <a:srgbClr val="0000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1280" y="6931080"/>
            <a:ext cx="257040" cy="160200"/>
          </a:xfrm>
          <a:prstGeom prst="leftRightArrow">
            <a:avLst>
              <a:gd name="adj1" fmla="val 50000"/>
              <a:gd name="adj2" fmla="val 31941"/>
            </a:avLst>
          </a:prstGeom>
          <a:solidFill>
            <a:srgbClr val="0000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107800">
            <a:off x="4813200" y="5263920"/>
            <a:ext cx="399960" cy="171360"/>
          </a:xfrm>
          <a:prstGeom prst="leftRightArrow">
            <a:avLst>
              <a:gd name="adj1" fmla="val 50000"/>
              <a:gd name="adj2" fmla="val 46464"/>
            </a:avLst>
          </a:prstGeom>
          <a:solidFill>
            <a:srgbClr val="0000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5035200">
            <a:off x="4844880" y="5775120"/>
            <a:ext cx="399960" cy="171360"/>
          </a:xfrm>
          <a:prstGeom prst="leftRightArrow">
            <a:avLst>
              <a:gd name="adj1" fmla="val 50000"/>
              <a:gd name="adj2" fmla="val 46464"/>
            </a:avLst>
          </a:prstGeom>
          <a:solidFill>
            <a:srgbClr val="0000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4225200">
            <a:off x="5016240" y="6675120"/>
            <a:ext cx="400320" cy="171360"/>
          </a:xfrm>
          <a:prstGeom prst="leftRightArrow">
            <a:avLst>
              <a:gd name="adj1" fmla="val 50000"/>
              <a:gd name="adj2" fmla="val 46506"/>
            </a:avLst>
          </a:prstGeom>
          <a:solidFill>
            <a:srgbClr val="0000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4870800">
            <a:off x="4898880" y="6275160"/>
            <a:ext cx="399960" cy="171360"/>
          </a:xfrm>
          <a:prstGeom prst="leftRightArrow">
            <a:avLst>
              <a:gd name="adj1" fmla="val 50000"/>
              <a:gd name="adj2" fmla="val 46464"/>
            </a:avLst>
          </a:prstGeom>
          <a:solidFill>
            <a:srgbClr val="0000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06640" y="4721400"/>
            <a:ext cx="343080" cy="3189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9440" y="4960800"/>
            <a:ext cx="341280" cy="239760"/>
          </a:xfrm>
          <a:custGeom>
            <a:avLst/>
            <a:gdLst>
              <a:gd name="textAreaLeft" fmla="*/ 140760 w 341280"/>
              <a:gd name="textAreaRight" fmla="*/ 200520 w 341280"/>
              <a:gd name="textAreaTop" fmla="*/ 98640 h 239760"/>
              <a:gd name="textAreaBottom" fmla="*/ 141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56200" y="6880320"/>
            <a:ext cx="341280" cy="241200"/>
          </a:xfrm>
          <a:custGeom>
            <a:avLst/>
            <a:gdLst>
              <a:gd name="textAreaLeft" fmla="*/ 140760 w 341280"/>
              <a:gd name="textAreaRight" fmla="*/ 200520 w 341280"/>
              <a:gd name="textAreaTop" fmla="*/ 99360 h 241200"/>
              <a:gd name="textAreaBottom" fmla="*/ 14184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78000" y="3760920"/>
            <a:ext cx="1540080" cy="479160"/>
          </a:xfrm>
          <a:prstGeom prst="wedgeRoundRectCallout">
            <a:avLst>
              <a:gd name="adj1" fmla="val 64583"/>
              <a:gd name="adj2" fmla="val 1916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清华西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36720" y="6721560"/>
            <a:ext cx="1197000" cy="479520"/>
          </a:xfrm>
          <a:prstGeom prst="wedgeRoundRectCallout">
            <a:avLst>
              <a:gd name="adj1" fmla="val 141069"/>
              <a:gd name="adj2" fmla="val 8333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algn="ctr"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四通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38360"/>
            <a:ext cx="18874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Rou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792520"/>
            <a:ext cx="4189320" cy="6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lnSpc>
                <a:spcPct val="120000"/>
              </a:lnSpc>
              <a:spcBef>
                <a:spcPts val="193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rial"/>
                <a:ea typeface="黑体"/>
              </a:rPr>
              <a:t>About 105km/d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362640" y="4890960"/>
            <a:ext cx="3898800" cy="2310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729400" y="1303200"/>
            <a:ext cx="4532040" cy="22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ctr">
            <a:spAutoFit/>
          </a:bodyPr>
          <a:p>
            <a:pPr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a Pingpong Gym, Summer Palace, Yuanmingyuan Palace, Beida, Tsinghua, Renda, and Zhongguanc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591240" y="3591000"/>
            <a:ext cx="3670200" cy="1355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399960"/>
            <a:ext cx="9235800" cy="12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720" rIns="99720" tIns="50040" bIns="5004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黑体"/>
              </a:rPr>
              <a:t>Demorunning da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7720" y="1616040"/>
          <a:ext cx="9591840" cy="2733840"/>
        </p:xfrm>
        <a:graphic>
          <a:graphicData uri="http://schemas.openxmlformats.org/drawingml/2006/table">
            <a:tbl>
              <a:tblPr/>
              <a:tblGrid>
                <a:gridCol w="2027520"/>
                <a:gridCol w="2247840"/>
                <a:gridCol w="2477880"/>
                <a:gridCol w="2838600"/>
              </a:tblGrid>
              <a:tr h="547560">
                <a:tc>
                  <a:txBody>
                    <a:bodyPr lIns="99720" rIns="99720" tIns="50040" bIns="500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83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Bus No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720" marR="99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720" rIns="99720" tIns="50040" bIns="500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83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Km of Aug 1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720" marR="99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720" rIns="99720" tIns="50040" bIns="500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83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Km of Aug 24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720" marR="99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720" rIns="99720" tIns="50040" bIns="500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83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km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720" marR="99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9720" rIns="99720" tIns="50040" bIns="500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83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京</a:t>
                      </a: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AE0000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720" marR="99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720" rIns="99720" tIns="50040" bIns="500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83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8429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720" marR="99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720" rIns="99720" tIns="50040" bIns="500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83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0358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720" marR="99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720" rIns="99720" tIns="50040" bIns="500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83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929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720" marR="99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9720" rIns="99720" tIns="50040" bIns="500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83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京</a:t>
                      </a: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AE0001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720" marR="99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720" rIns="99720" tIns="50040" bIns="500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83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014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720" marR="99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720" rIns="99720" tIns="50040" bIns="500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83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2517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720" marR="99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720" rIns="99720" tIns="50040" bIns="500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83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503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720" marR="99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9720" rIns="99720" tIns="50040" bIns="500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83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京</a:t>
                      </a: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AE0002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720" marR="99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720" rIns="99720" tIns="50040" bIns="500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83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017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720" marR="99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720" rIns="99720" tIns="50040" bIns="500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83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2956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720" marR="99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720" rIns="99720" tIns="50040" bIns="500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83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939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720" marR="99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9720" rIns="99720" tIns="50040" bIns="500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83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Total 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720" marR="99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720" rIns="99720" tIns="50040" bIns="500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83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0460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720" marR="99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720" rIns="99720" tIns="50040" bIns="500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83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5831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720" marR="99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720" rIns="99720" tIns="50040" bIns="5004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83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5371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720" marR="99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560160"/>
            <a:ext cx="9235800" cy="11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720" rIns="99720" tIns="50040" bIns="5004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  <a:ea typeface="黑体"/>
              </a:rPr>
              <a:t>H2 consump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79400"/>
            <a:ext cx="10261440" cy="441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720" rIns="99720" tIns="50040" bIns="50040" anchor="t">
            <a:normAutofit/>
          </a:bodyPr>
          <a:p>
            <a:pPr indent="0">
              <a:lnSpc>
                <a:spcPct val="110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黑体"/>
              </a:rPr>
              <a:t>During Aug 1 to Aug 2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黑体"/>
              </a:rPr>
              <a:t>H2 consumption: 585.39kg (5371km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黑体"/>
              </a:rPr>
              <a:t>Average H2 economy:10.9kg/100k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1280" y="799920"/>
            <a:ext cx="9236160" cy="6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Key poi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10261440" cy="51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720" rIns="99720" tIns="50040" bIns="50040" anchor="t">
            <a:normAutofit/>
          </a:bodyPr>
          <a:p>
            <a:pPr marL="355680" indent="-355680">
              <a:lnSpc>
                <a:spcPct val="93000"/>
              </a:lnSpc>
              <a:spcBef>
                <a:spcPts val="836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008.08.01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emorunning with custom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3000"/>
              </a:lnSpc>
              <a:spcBef>
                <a:spcPts val="836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008.08.17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rathon race/Olympic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3000"/>
              </a:lnSpc>
              <a:spcBef>
                <a:spcPts val="836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008.09.17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rathon race/ Paralympic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41280" y="2396880"/>
            <a:ext cx="936144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ctr">
            <a:spAutoFit/>
          </a:bodyPr>
          <a:p>
            <a:pPr>
              <a:lnSpc>
                <a:spcPct val="105000"/>
              </a:lnSpc>
              <a:spcBef>
                <a:spcPts val="71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3512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黑体"/>
              </a:rPr>
              <a:t>单车最大考核里程 </a:t>
            </a:r>
            <a:r>
              <a:rPr b="1" lang="en-US" sz="2300" spc="-1" strike="noStrike">
                <a:solidFill>
                  <a:srgbClr val="808000"/>
                </a:solidFill>
                <a:latin typeface="Arial"/>
                <a:ea typeface="黑体"/>
              </a:rPr>
              <a:t>40,000 </a:t>
            </a:r>
            <a:r>
              <a:rPr b="1" lang="zh-CN" sz="2300" spc="-1" strike="noStrike">
                <a:solidFill>
                  <a:srgbClr val="808000"/>
                </a:solidFill>
                <a:latin typeface="Arial"/>
                <a:ea typeface="黑体"/>
              </a:rPr>
              <a:t>公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1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3512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黑体"/>
              </a:rPr>
              <a:t>最大日考核里程超过</a:t>
            </a:r>
            <a:r>
              <a:rPr b="1" lang="en-US" sz="2300" spc="-1" strike="noStrike">
                <a:solidFill>
                  <a:srgbClr val="808000"/>
                </a:solidFill>
                <a:latin typeface="Arial"/>
                <a:ea typeface="黑体"/>
              </a:rPr>
              <a:t>500</a:t>
            </a:r>
            <a:r>
              <a:rPr b="1" lang="zh-CN" sz="2300" spc="-1" strike="noStrike">
                <a:solidFill>
                  <a:srgbClr val="808000"/>
                </a:solidFill>
                <a:latin typeface="Arial"/>
                <a:ea typeface="黑体"/>
              </a:rPr>
              <a:t>公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82680" y="960480"/>
            <a:ext cx="860256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Before Olympi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4233960"/>
            <a:ext cx="1026144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08240" y="1360440"/>
            <a:ext cx="638496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"/>
              <a:tabLst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F-GB Gothic"/>
                <a:ea typeface="KF-GB Gothic"/>
              </a:rPr>
              <a:t>Level 1: 0.4% voice/light preca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"/>
              <a:tabLst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F-GB Gothic"/>
                <a:ea typeface="KF-GB Gothic"/>
              </a:rPr>
              <a:t>Level 2: 1.2% decrease the sp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"/>
              <a:tabLst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F-GB Gothic"/>
                <a:ea typeface="KF-GB Gothic"/>
              </a:rPr>
              <a:t>Level 3: 2.0% power o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9120" y="651960"/>
            <a:ext cx="9223200" cy="6145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黑体"/>
              </a:rPr>
              <a:t>Leakage monitoring and precaution sy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06400" y="2992320"/>
            <a:ext cx="6262920" cy="336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448000" y="1199880"/>
            <a:ext cx="6443280" cy="5067360"/>
            <a:chOff x="2448000" y="1199880"/>
            <a:chExt cx="6443280" cy="50673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3072240" y="1880640"/>
              <a:ext cx="4903560" cy="43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512840" y="4560120"/>
              <a:ext cx="1376640" cy="392760"/>
            </a:xfrm>
            <a:prstGeom prst="wedgeRectCallout">
              <a:avLst>
                <a:gd name="adj1" fmla="val -128351"/>
                <a:gd name="adj2" fmla="val 7627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50040" bIns="50040" anchor="ctr">
              <a:spAutoFit/>
            </a:bodyPr>
            <a:p>
              <a:pPr marL="374760" indent="-374760" algn="ctr">
                <a:lnSpc>
                  <a:spcPct val="120000"/>
                </a:lnSpc>
                <a:tabLst>
                  <a:tab algn="l" pos="0"/>
                  <a:tab algn="l" pos="998640"/>
                  <a:tab algn="l" pos="1996920"/>
                  <a:tab algn="l" pos="2995560"/>
                  <a:tab algn="l" pos="3994200"/>
                  <a:tab algn="l" pos="4992840"/>
                  <a:tab algn="l" pos="5991120"/>
                  <a:tab algn="l" pos="6989760"/>
                  <a:tab algn="l" pos="7988400"/>
                  <a:tab algn="l" pos="8986680"/>
                  <a:tab algn="l" pos="99853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KF-GB Gothic"/>
                  <a:ea typeface="KF-GB Gothic"/>
                </a:rPr>
                <a:t>碰撞台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75800" y="1772640"/>
              <a:ext cx="1374120" cy="392760"/>
            </a:xfrm>
            <a:prstGeom prst="wedgeRectCallout">
              <a:avLst>
                <a:gd name="adj1" fmla="val -127027"/>
                <a:gd name="adj2" fmla="val 95236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50040" bIns="50040" anchor="ctr">
              <a:spAutoFit/>
            </a:bodyPr>
            <a:p>
              <a:pPr marL="374760" indent="-374760" algn="ctr">
                <a:lnSpc>
                  <a:spcPct val="120000"/>
                </a:lnSpc>
                <a:tabLst>
                  <a:tab algn="l" pos="0"/>
                  <a:tab algn="l" pos="998640"/>
                  <a:tab algn="l" pos="1996920"/>
                  <a:tab algn="l" pos="2995560"/>
                  <a:tab algn="l" pos="3994200"/>
                  <a:tab algn="l" pos="4992840"/>
                  <a:tab algn="l" pos="5991120"/>
                  <a:tab algn="l" pos="6989760"/>
                  <a:tab algn="l" pos="7988400"/>
                  <a:tab algn="l" pos="8986680"/>
                  <a:tab algn="l" pos="99853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KF-GB Gothic"/>
                  <a:ea typeface="KF-GB Gothic"/>
                </a:rPr>
                <a:t>蓄电池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09920" y="1568520"/>
              <a:ext cx="1436040" cy="392760"/>
            </a:xfrm>
            <a:prstGeom prst="wedgeRectCallout">
              <a:avLst>
                <a:gd name="adj1" fmla="val 54912"/>
                <a:gd name="adj2" fmla="val 109430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50040" bIns="50040" anchor="ctr">
              <a:spAutoFit/>
            </a:bodyPr>
            <a:p>
              <a:pPr marL="374760" indent="-374760" algn="ctr">
                <a:lnSpc>
                  <a:spcPct val="120000"/>
                </a:lnSpc>
                <a:tabLst>
                  <a:tab algn="l" pos="0"/>
                  <a:tab algn="l" pos="998640"/>
                  <a:tab algn="l" pos="1996920"/>
                  <a:tab algn="l" pos="2995560"/>
                  <a:tab algn="l" pos="3994200"/>
                  <a:tab algn="l" pos="4992840"/>
                  <a:tab algn="l" pos="5991120"/>
                  <a:tab algn="l" pos="6989760"/>
                  <a:tab algn="l" pos="7988400"/>
                  <a:tab algn="l" pos="8986680"/>
                  <a:tab algn="l" pos="99853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KF-GB Gothic"/>
                  <a:ea typeface="KF-GB Gothic"/>
                </a:rPr>
                <a:t>数采系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10800" y="1199880"/>
              <a:ext cx="1625400" cy="392760"/>
            </a:xfrm>
            <a:prstGeom prst="wedgeRectCallout">
              <a:avLst>
                <a:gd name="adj1" fmla="val 45236"/>
                <a:gd name="adj2" fmla="val 133240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50040" bIns="50040" anchor="ctr">
              <a:spAutoFit/>
            </a:bodyPr>
            <a:p>
              <a:pPr marL="374760" indent="-374760" algn="ctr">
                <a:lnSpc>
                  <a:spcPct val="120000"/>
                </a:lnSpc>
                <a:tabLst>
                  <a:tab algn="l" pos="0"/>
                  <a:tab algn="l" pos="998640"/>
                  <a:tab algn="l" pos="1996920"/>
                  <a:tab algn="l" pos="2995560"/>
                  <a:tab algn="l" pos="3994200"/>
                  <a:tab algn="l" pos="4992840"/>
                  <a:tab algn="l" pos="5991120"/>
                  <a:tab algn="l" pos="6989760"/>
                  <a:tab algn="l" pos="7988400"/>
                  <a:tab algn="l" pos="8986680"/>
                  <a:tab algn="l" pos="99853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KF-GB Gothic"/>
                  <a:ea typeface="KF-GB Gothic"/>
                </a:rPr>
                <a:t>电安全系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63720" y="3162960"/>
              <a:ext cx="1627560" cy="392760"/>
            </a:xfrm>
            <a:prstGeom prst="wedgeRectCallout">
              <a:avLst>
                <a:gd name="adj1" fmla="val -121671"/>
                <a:gd name="adj2" fmla="val 92671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50040" bIns="50040" anchor="ctr">
              <a:spAutoFit/>
            </a:bodyPr>
            <a:p>
              <a:pPr marL="374760" indent="-374760" algn="ctr">
                <a:lnSpc>
                  <a:spcPct val="120000"/>
                </a:lnSpc>
                <a:tabLst>
                  <a:tab algn="l" pos="0"/>
                  <a:tab algn="l" pos="998640"/>
                  <a:tab algn="l" pos="1996920"/>
                  <a:tab algn="l" pos="2995560"/>
                  <a:tab algn="l" pos="3994200"/>
                  <a:tab algn="l" pos="4992840"/>
                  <a:tab algn="l" pos="5991120"/>
                  <a:tab algn="l" pos="6989760"/>
                  <a:tab algn="l" pos="7988400"/>
                  <a:tab algn="l" pos="8986680"/>
                  <a:tab algn="l" pos="99853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KF-GB Gothic"/>
                  <a:ea typeface="KF-GB Gothic"/>
                </a:rPr>
                <a:t>高压储氢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48000" y="5327280"/>
              <a:ext cx="1625400" cy="392760"/>
            </a:xfrm>
            <a:prstGeom prst="wedgeRectCallout">
              <a:avLst>
                <a:gd name="adj1" fmla="val 16736"/>
                <a:gd name="adj2" fmla="val -150731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50040" bIns="50040" anchor="ctr">
              <a:spAutoFit/>
            </a:bodyPr>
            <a:p>
              <a:pPr marL="374760" indent="-374760" algn="ctr">
                <a:lnSpc>
                  <a:spcPct val="120000"/>
                </a:lnSpc>
                <a:tabLst>
                  <a:tab algn="l" pos="0"/>
                  <a:tab algn="l" pos="998640"/>
                  <a:tab algn="l" pos="1996920"/>
                  <a:tab algn="l" pos="2995560"/>
                  <a:tab algn="l" pos="3994200"/>
                  <a:tab algn="l" pos="4992840"/>
                  <a:tab algn="l" pos="5991120"/>
                  <a:tab algn="l" pos="6989760"/>
                  <a:tab algn="l" pos="7988400"/>
                  <a:tab algn="l" pos="8986680"/>
                  <a:tab algn="l" pos="99853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KF-GB Gothic"/>
                  <a:ea typeface="KF-GB Gothic"/>
                </a:rPr>
                <a:t>氢管路系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435600">
              <a:off x="3197880" y="2899800"/>
              <a:ext cx="811800" cy="1846440"/>
            </a:xfrm>
            <a:prstGeom prst="ellipse">
              <a:avLst/>
            </a:prstGeom>
            <a:noFill/>
            <a:ln w="28440">
              <a:solidFill>
                <a:srgbClr val="1fe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9172440" y="5340240"/>
            <a:ext cx="8701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Verdana"/>
                <a:ea typeface="KF-GB Gothic"/>
              </a:rPr>
              <a:t>氢系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91440" y="2844720"/>
            <a:ext cx="8701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Verdana"/>
                <a:ea typeface="KF-GB Gothic"/>
              </a:rPr>
              <a:t>电系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7520" y="573120"/>
            <a:ext cx="4446720" cy="63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98640"/>
                <a:tab algn="l" pos="1996920"/>
                <a:tab algn="l" pos="2995560"/>
                <a:tab algn="l" pos="3994200"/>
                <a:tab algn="l" pos="4992840"/>
                <a:tab algn="l" pos="5991120"/>
                <a:tab algn="l" pos="6989760"/>
                <a:tab algn="l" pos="7988400"/>
                <a:tab algn="l" pos="8986680"/>
                <a:tab algn="l" pos="99853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黑体"/>
              </a:rPr>
              <a:t>Simulation of impac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711520"/>
            <a:ext cx="92361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Part 3 Marath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0"/>
            <a:ext cx="923616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3000"/>
              </a:lnSpc>
              <a:spcBef>
                <a:spcPts val="836"/>
              </a:spcBef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HEV attending the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rath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DSC00042"/>
          <p:cNvPicPr/>
          <p:nvPr/>
        </p:nvPicPr>
        <p:blipFill>
          <a:blip r:embed="rId1"/>
          <a:stretch/>
        </p:blipFill>
        <p:spPr>
          <a:xfrm>
            <a:off x="1090440" y="896760"/>
            <a:ext cx="6728040" cy="507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374840"/>
            <a:ext cx="10261440" cy="371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2640" y="288720"/>
            <a:ext cx="92361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ontent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2640" y="1679040"/>
            <a:ext cx="9236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3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art 1 PC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3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art 2 Bu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3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art 3 FCV in Marath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3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200240"/>
            <a:ext cx="10261440" cy="499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16280" y="2538360"/>
            <a:ext cx="5645160" cy="3960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998640"/>
            <a:ext cx="5391000" cy="3360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3108240"/>
            <a:ext cx="92361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Part 4 Conclus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2640" y="288720"/>
            <a:ext cx="92361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2640" y="1679040"/>
            <a:ext cx="9236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3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ood reliability,runs smoothly and safe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3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lf-confident___they are safe!!!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3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uture experienc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3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3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ll in one :A great succe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3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rice- next topic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3000"/>
              </a:lnSpc>
              <a:spcBef>
                <a:spcPts val="836"/>
              </a:spcBef>
              <a:buNone/>
              <a:tabLst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9680" y="2236320"/>
            <a:ext cx="8721720" cy="15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Thanks!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3720" y="2900160"/>
            <a:ext cx="92361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Part 1 PC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243000"/>
            <a:ext cx="92361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4440" y="1398240"/>
            <a:ext cx="9155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3000"/>
              </a:lnSpc>
              <a:spcBef>
                <a:spcPts val="836"/>
              </a:spcBef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xed Line: Yongfeng base ——MOST, Transport Burea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quarters, branchs of Chaoyang, fengtai, haidia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3000"/>
              </a:lnSpc>
              <a:spcBef>
                <a:spcPts val="836"/>
              </a:spcBef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3000"/>
              </a:lnSpc>
              <a:spcBef>
                <a:spcPts val="836"/>
              </a:spcBef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line: The random official business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3000"/>
              </a:lnSpc>
              <a:spcBef>
                <a:spcPts val="836"/>
              </a:spcBef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3000"/>
              </a:lnSpc>
              <a:spcBef>
                <a:spcPts val="836"/>
              </a:spcBef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rath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n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ne set by BOC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2640" y="288720"/>
            <a:ext cx="871560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oup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9040" y="806040"/>
            <a:ext cx="938376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3000"/>
              </a:lnSpc>
              <a:spcBef>
                <a:spcPts val="836"/>
              </a:spcBef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up includes more than 10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3000"/>
              </a:lnSpc>
              <a:spcBef>
                <a:spcPts val="836"/>
              </a:spcBef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- shift operation, 19h/day , 7 days/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3000"/>
              </a:lnSpc>
              <a:spcBef>
                <a:spcPts val="836"/>
              </a:spcBef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subgroup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3000"/>
              </a:lnSpc>
              <a:spcBef>
                <a:spcPts val="836"/>
              </a:spcBef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scheduling and driv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3000"/>
              </a:lnSpc>
              <a:spcBef>
                <a:spcPts val="836"/>
              </a:spcBef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3000"/>
              </a:lnSpc>
              <a:spcBef>
                <a:spcPts val="836"/>
              </a:spcBef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management and logistics supp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3000"/>
              </a:lnSpc>
              <a:spcBef>
                <a:spcPts val="836"/>
              </a:spcBef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sub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63520" y="1041120"/>
            <a:ext cx="92361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6240" indent="-156240">
              <a:lnSpc>
                <a:spcPct val="93000"/>
              </a:lnSpc>
              <a:spcBef>
                <a:spcPts val="836"/>
              </a:spcBef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Dr.Wan Ga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6240" indent="-156240">
              <a:lnSpc>
                <a:spcPct val="93000"/>
              </a:lnSpc>
              <a:spcBef>
                <a:spcPts val="836"/>
              </a:spcBef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Minster of MOST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2440" y="247680"/>
            <a:ext cx="92361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005"/>
          <p:cNvPicPr/>
          <p:nvPr/>
        </p:nvPicPr>
        <p:blipFill>
          <a:blip r:embed="rId1"/>
          <a:stretch/>
        </p:blipFill>
        <p:spPr>
          <a:xfrm>
            <a:off x="3701880" y="1179360"/>
            <a:ext cx="6559560" cy="4924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71"/>
          <p:cNvSpPr/>
          <p:nvPr/>
        </p:nvSpPr>
        <p:spPr>
          <a:xfrm>
            <a:off x="536400" y="279360"/>
            <a:ext cx="599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emorunning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0" y="4587840"/>
            <a:ext cx="97646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sum distances of 20 FCVs  is 50566km From 14 July to 24 Aug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ydrogen consumption: 1.2kg/100k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Documents and Settings\fcv-pt\桌面\From Wangzhe\4-Small Size（For PPT）\CIMG2926.JPG"/>
          <p:cNvPicPr/>
          <p:nvPr/>
        </p:nvPicPr>
        <p:blipFill>
          <a:blip r:embed="rId1"/>
          <a:stretch/>
        </p:blipFill>
        <p:spPr>
          <a:xfrm>
            <a:off x="2476440" y="1152360"/>
            <a:ext cx="4064040" cy="3121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2640" y="289080"/>
            <a:ext cx="92361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drogen fueling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31280" y="1469520"/>
            <a:ext cx="93632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09240" indent="-309240">
              <a:lnSpc>
                <a:spcPct val="150000"/>
              </a:lnSpc>
              <a:spcBef>
                <a:spcPts val="836"/>
              </a:spcBef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Documents and Settings\fcv-pt\桌面\From Wangzhe\4-Small Size（For PPT）\加氢站.JPG"/>
          <p:cNvPicPr/>
          <p:nvPr/>
        </p:nvPicPr>
        <p:blipFill>
          <a:blip r:embed="rId1"/>
          <a:stretch/>
        </p:blipFill>
        <p:spPr>
          <a:xfrm>
            <a:off x="2651040" y="1332000"/>
            <a:ext cx="7089840" cy="465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4320"/>
            <a:ext cx="923616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Part 2 Bu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03:43:23Z</dcterms:created>
  <dc:creator>CI</dc:creator>
  <dc:description/>
  <dc:language>en-US</dc:language>
  <cp:lastModifiedBy>Gianotti</cp:lastModifiedBy>
  <dcterms:modified xsi:type="dcterms:W3CDTF">2008-11-27T07:54:40Z</dcterms:modified>
  <cp:revision>161</cp:revision>
  <dc:subject/>
  <dc:title>幻灯片 1</dc:title>
</cp:coreProperties>
</file>