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F7B3-CBBE-4584-A681-FED0FB13D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FCCB-8127-4597-AE7C-328CD6A85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4A86-7935-447A-8E5A-D0C533CB4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AF99-D92F-45B1-8102-0D13E977D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2616-5696-4D3C-B10E-A6E684690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7159-C771-4DFD-AABF-C882A6F2D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BDDA-9501-4DCE-9950-4A4974A13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9627-DDB3-496D-BC98-4615250D5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207C-0C81-474E-9136-DCD2D868B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B86D-D873-4E7A-BE13-5D010004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CA1A-BF86-4ED7-A032-9F6879B82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1719-6DBF-4361-8033-CB70529C4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C698E-BD14-479E-A368-7967A7BA7E62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2929ff"/>
            </a:gs>
            <a:gs pos="100000">
              <a:srgbClr val="0000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73240" y="1155600"/>
            <a:ext cx="6781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be0e3"/>
                </a:solidFill>
                <a:latin typeface="Arial"/>
              </a:rPr>
              <a:t>Safety Regulation</a:t>
            </a:r>
            <a:br>
              <a:rPr sz="3600"/>
            </a:br>
            <a:r>
              <a:rPr b="1" lang="en-US" sz="3600" spc="-1" strike="noStrike">
                <a:solidFill>
                  <a:srgbClr val="bbe0e3"/>
                </a:solidFill>
                <a:latin typeface="Arial"/>
              </a:rPr>
              <a:t>for Fuel Cell Vehicles in Japan</a:t>
            </a:r>
            <a:br>
              <a:rPr sz="3600"/>
            </a:br>
            <a:r>
              <a:rPr b="1" lang="en-US" sz="3600" spc="-1" strike="noStrike">
                <a:solidFill>
                  <a:srgbClr val="bbe0e3"/>
                </a:solidFill>
                <a:latin typeface="Arial"/>
              </a:rPr>
              <a:t>-Hydrogen Safety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182600" y="4508640"/>
            <a:ext cx="682308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Japan Automobile Standards Internationalization Center (JAS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24-26 September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UN/ECE/WP29/AC3 GRSP HFCV-SGS</a:t>
            </a:r>
            <a:r>
              <a:rPr b="1" lang="zh-CN" sz="1800" spc="-1" strike="noStrike">
                <a:solidFill>
                  <a:srgbClr val="bbe0e3"/>
                </a:solidFill>
                <a:latin typeface="Arial"/>
              </a:rPr>
              <a:t>　</a:t>
            </a: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4</a:t>
            </a:r>
            <a:r>
              <a:rPr b="1" lang="en-US" sz="1800" spc="-1" strike="noStrike" baseline="30000">
                <a:solidFill>
                  <a:srgbClr val="bbe0e3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435640" y="26028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SGS 04 -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3EB1-AD65-4099-A52F-B29E6FD0BFF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2929ff"/>
            </a:gs>
            <a:gs pos="100000">
              <a:srgbClr val="0000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09600" y="923760"/>
            <a:ext cx="883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Equipment and Structural Requirement 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4720" y="1498680"/>
            <a:ext cx="8460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3.5 Gas containers, piping, etc. 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Gas piping with both ends secured shall have an appropriate bend at i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midpoint, and shall be supported at an interval of 1 m or les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Gas containers, piping, etc. shall be protected by appropriate heat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insulating measures. Not to be exposed to direct sunlight, containers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shall be provided with an adequate cover or other adequate sunsha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3.6 Recepta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The receptacle shall be provided with check val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The receptacle shall be located at least 200 mm away from expos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electrical terminals, electrical switches, and other ignition sources.</a:t>
            </a: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3.7 Air tightness, etc. of piping, etc.</a:t>
            </a: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Piping, etc. shall be durable and sturdy, with air tightness from exter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atmosphere under nominal working pressure,</a:t>
            </a:r>
            <a:r>
              <a:rPr b="1" lang="en-US" sz="18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666699"/>
                </a:solidFill>
                <a:latin typeface="Arial"/>
              </a:rPr>
              <a:t>allowing no gas leak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99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666699"/>
                </a:solidFill>
                <a:latin typeface="Arial"/>
              </a:rPr>
              <a:t>when tested for air tightness of piping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864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echnical standards Attachment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E10A-C539-45CD-A826-19BADEC4145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2929ff"/>
            </a:gs>
            <a:gs pos="100000">
              <a:srgbClr val="0000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09600" y="923760"/>
            <a:ext cx="865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Equipment and Structural Requirement 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4720" y="1498680"/>
            <a:ext cx="8460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cc"/>
                </a:solidFill>
                <a:latin typeface="Arial"/>
              </a:rPr>
              <a:t>3.7 Air tightness, etc. of piping, etc.  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bbe0e3"/>
                </a:solidFill>
                <a:latin typeface="Arial"/>
              </a:rPr>
              <a:t>Piping, etc. from the receptacle to the first pressure regulator in th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bbe0e3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bbe0e3"/>
                </a:solidFill>
                <a:latin typeface="Arial"/>
              </a:rPr>
              <a:t>downstream of the gas container shall be durable and sturdy, having,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bbe0e3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bbe0e3"/>
                </a:solidFill>
                <a:latin typeface="Arial"/>
              </a:rPr>
              <a:t>addition to the requirement prescribed in mentioned above, the pressur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bbe0e3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bbe0e3"/>
                </a:solidFill>
                <a:latin typeface="Arial"/>
              </a:rPr>
              <a:t>resistance 1.5 times the nominal working pressure, taking into account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bbe0e3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bbe0e3"/>
                </a:solidFill>
                <a:latin typeface="Arial"/>
              </a:rPr>
              <a:t>embrittlement caused by hydrog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cc"/>
                </a:solidFill>
                <a:latin typeface="Arial"/>
              </a:rPr>
              <a:t>3.9 Detection of hydrogen gas leakage, etc.</a:t>
            </a:r>
            <a:r>
              <a:rPr b="1" lang="ja-JP" sz="18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bbe0e3"/>
                </a:solidFill>
                <a:latin typeface="Arial"/>
              </a:rPr>
              <a:t>At least one detector of hydrogen leakage, a device that gives a warning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bbe0e3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bbe0e3"/>
                </a:solidFill>
                <a:latin typeface="Arial"/>
              </a:rPr>
              <a:t>to the driver and a device that shuts off the supply of hydrogen gas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bbe0e3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bbe0e3"/>
                </a:solidFill>
                <a:latin typeface="Arial"/>
              </a:rPr>
              <a:t>should be provid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bbe0e3"/>
                </a:solidFill>
                <a:latin typeface="Arial"/>
              </a:rPr>
              <a:t>The device which gives a warning to the driver when a hydrogen ga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bbe0e3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bbe0e3"/>
                </a:solidFill>
                <a:latin typeface="Arial"/>
              </a:rPr>
              <a:t>detector fails shall be provi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cc"/>
                </a:solidFill>
                <a:latin typeface="Arial"/>
              </a:rPr>
              <a:t>3.10 Pressure gauge and fuel gauge</a:t>
            </a: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bbe0e3"/>
                </a:solidFill>
                <a:latin typeface="Arial"/>
              </a:rPr>
              <a:t>A pressure gage or a fuel meter that </a:t>
            </a: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bbe0e3"/>
                </a:solidFill>
                <a:latin typeface="Arial"/>
              </a:rPr>
              <a:t>pressure was compensated in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bbe0e3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bbe0e3"/>
                </a:solidFill>
                <a:latin typeface="Arial"/>
              </a:rPr>
              <a:t>hydrogen gas temperature shall be provi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864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echnical standards Attachment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2489-003B-4E36-AE03-EBC1F16D58D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2929ff"/>
            </a:gs>
            <a:gs pos="100000">
              <a:srgbClr val="0000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4720" y="1490760"/>
            <a:ext cx="846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cc"/>
                </a:solidFill>
                <a:latin typeface="Arial"/>
              </a:rPr>
              <a:t>3.1 Container attach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bbe0e3"/>
                </a:solidFill>
                <a:latin typeface="Arial"/>
              </a:rPr>
              <a:t>The main shut off valve shall be operated electromagnetically, and sha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bbe0e3"/>
                </a:solidFill>
                <a:latin typeface="Arial"/>
              </a:rPr>
              <a:t>   </a:t>
            </a:r>
            <a:r>
              <a:rPr b="1" lang="ja-JP" sz="1800" spc="-1" strike="noStrike">
                <a:solidFill>
                  <a:srgbClr val="bbe0e3"/>
                </a:solidFill>
                <a:latin typeface="Arial"/>
              </a:rPr>
              <a:t>be normally closed when the power source of its operation stops or fails.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9600" y="92232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Functional Requi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5360" y="270828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buClr>
                <a:srgbClr val="ffff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Performance Requi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1200" y="3284640"/>
            <a:ext cx="8351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cc"/>
                </a:solidFill>
                <a:latin typeface="Arial"/>
              </a:rPr>
              <a:t>3.5 Gas containers, piping, etc.</a:t>
            </a:r>
            <a:r>
              <a:rPr b="1" lang="ja-JP" sz="18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ff99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00ff99"/>
                </a:solidFill>
                <a:latin typeface="Arial"/>
              </a:rPr>
              <a:t>Allowable hydrogen leakage at post crash (…</a:t>
            </a:r>
            <a:r>
              <a:rPr b="1" lang="en-GB" sz="1800" spc="-1" strike="noStrike">
                <a:solidFill>
                  <a:srgbClr val="00ff99"/>
                </a:solidFill>
                <a:latin typeface="Arial"/>
              </a:rPr>
              <a:t>is finished the discussion </a:t>
            </a:r>
            <a:r>
              <a:rPr b="1" lang="ja-JP" sz="1800" spc="-1" strike="noStrike">
                <a:solidFill>
                  <a:srgbClr val="00ff99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ff99"/>
                </a:solidFill>
                <a:latin typeface="Arial"/>
              </a:rPr>
              <a:t>　</a:t>
            </a:r>
            <a:r>
              <a:rPr b="1" lang="en-GB" sz="1800" spc="-1" strike="noStrike">
                <a:solidFill>
                  <a:srgbClr val="00ff99"/>
                </a:solidFill>
                <a:latin typeface="Arial"/>
              </a:rPr>
              <a:t>and is drafting now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cc"/>
                </a:solidFill>
                <a:latin typeface="Arial"/>
              </a:rPr>
              <a:t>3.7 Air tightness, etc. of piping, etc.</a:t>
            </a:r>
            <a:r>
              <a:rPr b="1" lang="ja-JP" sz="1800" spc="-1" strike="noStrike">
                <a:solidFill>
                  <a:srgbClr val="bbe0e3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bbe0e3"/>
                </a:solidFill>
                <a:latin typeface="Arial"/>
              </a:rPr>
              <a:t>Piping, etc. shall be</a:t>
            </a:r>
            <a:r>
              <a:rPr b="1" lang="ja-JP" sz="18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666699"/>
                </a:solidFill>
                <a:latin typeface="Arial"/>
              </a:rPr>
              <a:t>durable and sturdy, with air tightness from exter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666699"/>
                </a:solidFill>
                <a:latin typeface="Arial"/>
              </a:rPr>
              <a:t>   </a:t>
            </a:r>
            <a:r>
              <a:rPr b="1" lang="ja-JP" sz="1800" spc="-1" strike="noStrike">
                <a:solidFill>
                  <a:srgbClr val="666699"/>
                </a:solidFill>
                <a:latin typeface="Arial"/>
              </a:rPr>
              <a:t>atmosphere under nominal working pressure,</a:t>
            </a:r>
            <a:r>
              <a:rPr b="1" lang="ja-JP" sz="18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bbe0e3"/>
                </a:solidFill>
                <a:latin typeface="Arial"/>
              </a:rPr>
              <a:t>allowing no gas leak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bbe0e3"/>
                </a:solidFill>
                <a:latin typeface="Arial"/>
              </a:rPr>
              <a:t>   </a:t>
            </a:r>
            <a:r>
              <a:rPr b="1" lang="ja-JP" sz="1800" spc="-1" strike="noStrike">
                <a:solidFill>
                  <a:srgbClr val="bbe0e3"/>
                </a:solidFill>
                <a:latin typeface="Arial"/>
              </a:rPr>
              <a:t>when tested for air tightness of piping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864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echnical standards Attachment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C8DA-DA2A-45D0-9C47-AE93BDF51C8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2929ff"/>
            </a:gs>
            <a:gs pos="100000">
              <a:srgbClr val="0000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12840" y="922320"/>
            <a:ext cx="859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Performance Requirement 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1200" y="1484280"/>
            <a:ext cx="83516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cc"/>
                </a:solidFill>
                <a:latin typeface="Arial"/>
              </a:rPr>
              <a:t>3.7 Air tightness, etc. of piping, etc.  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bbe0e3"/>
                </a:solidFill>
                <a:latin typeface="Arial"/>
              </a:rPr>
              <a:t>Piping, etc. from the receptacle to the first pressure regulator in th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bbe0e3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bbe0e3"/>
                </a:solidFill>
                <a:latin typeface="Arial"/>
              </a:rPr>
              <a:t>downstream of the gas container</a:t>
            </a:r>
            <a:r>
              <a:rPr b="1" lang="ja-JP" sz="18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bbe0e3"/>
                </a:solidFill>
                <a:latin typeface="Arial"/>
              </a:rPr>
              <a:t>shall be durable and sturdy, having,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bbe0e3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bbe0e3"/>
                </a:solidFill>
                <a:latin typeface="Arial"/>
              </a:rPr>
              <a:t>addition to the requirement prescribed in mentioned above, </a:t>
            </a:r>
            <a:r>
              <a:rPr b="1" lang="ja-JP" sz="1800" spc="-1" strike="noStrike">
                <a:solidFill>
                  <a:srgbClr val="808080"/>
                </a:solidFill>
                <a:latin typeface="Arial"/>
              </a:rPr>
              <a:t>the pressur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808080"/>
                </a:solidFill>
                <a:latin typeface="Arial"/>
              </a:rPr>
              <a:t>resistance 1.5 times the nominal working pressure, taking into accou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808080"/>
                </a:solidFill>
                <a:latin typeface="Arial"/>
              </a:rPr>
              <a:t>the embitterment caused by hydro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cc"/>
                </a:solidFill>
                <a:latin typeface="Arial"/>
              </a:rPr>
              <a:t>3.8 Purge</a:t>
            </a:r>
            <a:r>
              <a:rPr b="1" lang="ja-JP" sz="18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00ff99"/>
                </a:solidFill>
                <a:latin typeface="Arial"/>
              </a:rPr>
              <a:t>Hydrogen concentration of the purge gas discharged in the atmospher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ff99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ff99"/>
                </a:solidFill>
                <a:latin typeface="Arial"/>
              </a:rPr>
              <a:t>shall not exceed 4% in air by volume at the discharge point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ff99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ff99"/>
                </a:solidFill>
                <a:latin typeface="Arial"/>
              </a:rPr>
              <a:t>( …</a:t>
            </a:r>
            <a:r>
              <a:rPr b="1" lang="en-GB" sz="1800" spc="-1" strike="noStrike">
                <a:solidFill>
                  <a:srgbClr val="00ff99"/>
                </a:solidFill>
                <a:latin typeface="Arial"/>
              </a:rPr>
              <a:t>is discussing now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cc"/>
                </a:solidFill>
                <a:latin typeface="Arial"/>
              </a:rPr>
              <a:t>3.9 Detection of hydrogen gas leakage, etc.</a:t>
            </a:r>
            <a:r>
              <a:rPr b="1" lang="ja-JP" sz="18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bbe0e3"/>
                </a:solidFill>
                <a:latin typeface="Arial"/>
              </a:rPr>
              <a:t>Give a warning to the driver, and shut off the supply of hydrogen ga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bbe0e3"/>
                </a:solidFill>
                <a:latin typeface="Arial"/>
              </a:rPr>
              <a:t>   </a:t>
            </a:r>
            <a:r>
              <a:rPr b="1" lang="ja-JP" sz="1800" spc="-1" strike="noStrike">
                <a:solidFill>
                  <a:srgbClr val="bbe0e3"/>
                </a:solidFill>
                <a:latin typeface="Arial"/>
              </a:rPr>
              <a:t>when hydrogen concentration 4% in air is detect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64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echnical standards Attachment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62BA-7FC3-4FF0-AFC4-61A36DE3594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2929ff"/>
            </a:gs>
            <a:gs pos="100000">
              <a:srgbClr val="0000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029040" y="3068640"/>
            <a:ext cx="305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be0e3"/>
                </a:solidFill>
                <a:latin typeface="Arial"/>
              </a:rPr>
              <a:t>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FE46-7440-46C4-9FEC-34DFDE51501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2929ff"/>
            </a:gs>
            <a:gs pos="100000">
              <a:srgbClr val="0000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72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ncepts of Japanese technical standards      regarding hydrogen gas lea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4000" y="1986120"/>
            <a:ext cx="8496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1. Have no lea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2. Sense and shut off hydrogen gas                       when leakage occ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3. Have no accumulation and no entry of gas  into the passenger compartment                    in the event of a le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2F46-0F7B-4C58-9A67-3FCF6651273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2929ff"/>
            </a:gs>
            <a:gs pos="100000">
              <a:srgbClr val="0000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849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Construction of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8200" y="1287360"/>
            <a:ext cx="856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Even if any other hydrogen safety syste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are used,  the minimum number pf devices shall be approved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in such a case that hydrogen leaka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wi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their own failur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can't be stopped.</a:t>
            </a: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23800" y="2293920"/>
            <a:ext cx="80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buClr>
                <a:srgbClr val="ffff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Equipment and Structural Requi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6720" y="2766960"/>
            <a:ext cx="835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A minimum requirement about the equipment and structure                                to secure the safety of the vehicle and the hydrogen system                                                              shall be prescribed.</a:t>
            </a: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79640" y="380196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buClr>
                <a:srgbClr val="ffff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Functional Requi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42840" y="4308480"/>
            <a:ext cx="722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A minimum requirement about the function                                                                         to secure the safety of the vehicle and the hydrogen system                                       shall be prescrib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65240" y="524520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buClr>
                <a:srgbClr val="ffff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Performance Requi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71640" y="5748480"/>
            <a:ext cx="72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A minimum requirement about the performance                                                                         to secure the safety of the vehicle and the hydrogen system                                       shall be prescrib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24240" y="793800"/>
            <a:ext cx="426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buClr>
                <a:srgbClr val="ffff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Approval of De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939F-8596-4770-99C3-9D0D6804691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2929ff"/>
            </a:gs>
            <a:gs pos="100000">
              <a:srgbClr val="0000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864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Construction of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044720" y="2843280"/>
            <a:ext cx="7129440" cy="3824280"/>
            <a:chOff x="1044720" y="2843280"/>
            <a:chExt cx="7129440" cy="3824280"/>
          </a:xfrm>
        </p:grpSpPr>
        <p:sp>
          <p:nvSpPr>
            <p:cNvPr id="57" name=""/>
            <p:cNvSpPr/>
            <p:nvPr/>
          </p:nvSpPr>
          <p:spPr>
            <a:xfrm flipV="1">
              <a:off x="2320920" y="5589000"/>
              <a:ext cx="4537080" cy="587160"/>
            </a:xfrm>
            <a:custGeom>
              <a:avLst/>
              <a:gdLst>
                <a:gd name="textAreaLeft" fmla="*/ 580680 w 4537080"/>
                <a:gd name="textAreaRight" fmla="*/ 3956400 w 4537080"/>
                <a:gd name="textAreaTop" fmla="*/ 74880 h 587160"/>
                <a:gd name="textAreaBottom" fmla="*/ 512280 h 58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772" y="21600"/>
                  </a:lnTo>
                  <a:lnTo>
                    <a:pt x="1828" y="21600"/>
                  </a:lnTo>
                  <a:close/>
                </a:path>
              </a:pathLst>
            </a:custGeom>
            <a:solidFill>
              <a:srgbClr val="00cc00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044720" y="6168960"/>
              <a:ext cx="71294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709720" y="2843280"/>
              <a:ext cx="3760920" cy="2741760"/>
            </a:xfrm>
            <a:prstGeom prst="triangle">
              <a:avLst>
                <a:gd name="adj" fmla="val 50097"/>
              </a:avLst>
            </a:prstGeom>
            <a:solidFill>
              <a:srgbClr val="ff6600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084480" y="5632560"/>
              <a:ext cx="304956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9cffd"/>
                  </a:solidFill>
                  <a:latin typeface="Arial"/>
                </a:rPr>
                <a:t>Equipment and Structural Require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541680" y="4881600"/>
              <a:ext cx="211932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9cffd"/>
                  </a:solidFill>
                  <a:latin typeface="Arial"/>
                </a:rPr>
                <a:t>Functional Requir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4200">
              <a:off x="1983960" y="6174000"/>
              <a:ext cx="5208480" cy="490320"/>
            </a:xfrm>
            <a:custGeom>
              <a:avLst/>
              <a:gdLst>
                <a:gd name="textAreaLeft" fmla="*/ 610560 w 5208480"/>
                <a:gd name="textAreaRight" fmla="*/ 4597920 w 5208480"/>
                <a:gd name="textAreaTop" fmla="*/ 57240 h 490320"/>
                <a:gd name="textAreaBottom" fmla="*/ 433080 h 49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191" y="21600"/>
                  </a:lnTo>
                  <a:lnTo>
                    <a:pt x="1409" y="21600"/>
                  </a:lnTo>
                  <a:close/>
                </a:path>
              </a:pathLst>
            </a:custGeom>
            <a:solidFill>
              <a:srgbClr val="808080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201840" y="2853000"/>
              <a:ext cx="2765520" cy="2016000"/>
            </a:xfrm>
            <a:prstGeom prst="triangle">
              <a:avLst>
                <a:gd name="adj" fmla="val 50426"/>
              </a:avLst>
            </a:prstGeom>
            <a:solidFill>
              <a:srgbClr val="9933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87760" y="6265800"/>
              <a:ext cx="201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9cffd"/>
                  </a:solidFill>
                  <a:latin typeface="Arial"/>
                </a:rPr>
                <a:t>Approval of Devic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127320" y="3814920"/>
              <a:ext cx="290664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9cffd"/>
                  </a:solidFill>
                  <a:latin typeface="Arial"/>
                </a:rPr>
                <a:t>Performance Requiremen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309600" y="722160"/>
            <a:ext cx="8496360" cy="19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1. Have no lea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2. Sense and shut off hydrogen gas when leakage occ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3. Have no accumulation and no entry of gas into the passenger compartment in the event of a l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1817-FF41-4F7D-8CDE-EBF777795CD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2929ff"/>
            </a:gs>
            <a:gs pos="100000">
              <a:srgbClr val="0000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09600" y="722160"/>
            <a:ext cx="8496360" cy="19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1. Have no lea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2. Sense and shut off hydrogen gas when leakage occ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3. Have no accumulation and no entry of gas into the passenger compartment in the event of a l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716360" y="2852640"/>
            <a:ext cx="4103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627960" y="4094280"/>
            <a:ext cx="24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9cffd"/>
                </a:solidFill>
                <a:latin typeface="Arial"/>
              </a:rPr>
              <a:t>Whole Vehicle, Hydrogen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650000" y="2900520"/>
            <a:ext cx="432000" cy="936360"/>
          </a:xfrm>
          <a:prstGeom prst="upArrow">
            <a:avLst>
              <a:gd name="adj1" fmla="val 43380"/>
              <a:gd name="adj2" fmla="val 14732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7650000" y="5173560"/>
            <a:ext cx="432000" cy="936720"/>
          </a:xfrm>
          <a:prstGeom prst="upArrow">
            <a:avLst>
              <a:gd name="adj1" fmla="val 43380"/>
              <a:gd name="adj2" fmla="val 14737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044720" y="2843280"/>
            <a:ext cx="7607160" cy="3823920"/>
            <a:chOff x="1044720" y="2843280"/>
            <a:chExt cx="7607160" cy="3823920"/>
          </a:xfrm>
        </p:grpSpPr>
        <p:sp>
          <p:nvSpPr>
            <p:cNvPr id="73" name=""/>
            <p:cNvSpPr/>
            <p:nvPr/>
          </p:nvSpPr>
          <p:spPr>
            <a:xfrm flipV="1">
              <a:off x="2320920" y="5589000"/>
              <a:ext cx="4537080" cy="587160"/>
            </a:xfrm>
            <a:custGeom>
              <a:avLst/>
              <a:gdLst>
                <a:gd name="textAreaLeft" fmla="*/ 580680 w 4537080"/>
                <a:gd name="textAreaRight" fmla="*/ 3956400 w 4537080"/>
                <a:gd name="textAreaTop" fmla="*/ 74880 h 587160"/>
                <a:gd name="textAreaBottom" fmla="*/ 512280 h 58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772" y="21600"/>
                  </a:lnTo>
                  <a:lnTo>
                    <a:pt x="1828" y="21600"/>
                  </a:lnTo>
                  <a:close/>
                </a:path>
              </a:pathLst>
            </a:custGeom>
            <a:solidFill>
              <a:srgbClr val="00cc00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044720" y="6168960"/>
              <a:ext cx="7607160" cy="32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709720" y="2843280"/>
              <a:ext cx="3760920" cy="2741400"/>
            </a:xfrm>
            <a:prstGeom prst="triangle">
              <a:avLst>
                <a:gd name="adj" fmla="val 50097"/>
              </a:avLst>
            </a:prstGeom>
            <a:solidFill>
              <a:srgbClr val="ff6600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5632560"/>
              <a:ext cx="304956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9cffd"/>
                  </a:solidFill>
                  <a:latin typeface="Arial"/>
                </a:rPr>
                <a:t>Equipment and Structural Require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541680" y="4881600"/>
              <a:ext cx="211932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9cffd"/>
                  </a:solidFill>
                  <a:latin typeface="Arial"/>
                </a:rPr>
                <a:t>Functional Requir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 rot="4200">
              <a:off x="1983960" y="6172920"/>
              <a:ext cx="5208480" cy="490680"/>
            </a:xfrm>
            <a:custGeom>
              <a:avLst/>
              <a:gdLst>
                <a:gd name="textAreaLeft" fmla="*/ 610560 w 5208480"/>
                <a:gd name="textAreaRight" fmla="*/ 4597920 w 5208480"/>
                <a:gd name="textAreaTop" fmla="*/ 57240 h 490680"/>
                <a:gd name="textAreaBottom" fmla="*/ 433440 h 49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191" y="21600"/>
                  </a:lnTo>
                  <a:lnTo>
                    <a:pt x="1409" y="21600"/>
                  </a:lnTo>
                  <a:close/>
                </a:path>
              </a:pathLst>
            </a:custGeom>
            <a:solidFill>
              <a:srgbClr val="808080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201840" y="2852640"/>
              <a:ext cx="2765520" cy="2016360"/>
            </a:xfrm>
            <a:prstGeom prst="triangle">
              <a:avLst>
                <a:gd name="adj" fmla="val 50426"/>
              </a:avLst>
            </a:prstGeom>
            <a:solidFill>
              <a:srgbClr val="9933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87760" y="6265800"/>
              <a:ext cx="201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9cffd"/>
                  </a:solidFill>
                  <a:latin typeface="Arial"/>
                </a:rPr>
                <a:t>Approval of Devic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127320" y="3814920"/>
              <a:ext cx="290664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9cffd"/>
                  </a:solidFill>
                  <a:latin typeface="Arial"/>
                </a:rPr>
                <a:t>Performance Requiremen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0" y="864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Construction of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983C-FD85-48CE-940C-16C13C7D0C8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2929ff"/>
            </a:gs>
            <a:gs pos="100000">
              <a:srgbClr val="0000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09600" y="722160"/>
            <a:ext cx="8496360" cy="19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1. Have no lea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2. Sense and shut off hydrogen gas when leakage occ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3. Have no accumulation and no entry of gas into the passenger compartment in the event of a l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294680" y="6697800"/>
            <a:ext cx="15112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044720" y="2843280"/>
            <a:ext cx="8064360" cy="3865320"/>
            <a:chOff x="1044720" y="2843280"/>
            <a:chExt cx="8064360" cy="3865320"/>
          </a:xfrm>
        </p:grpSpPr>
        <p:sp>
          <p:nvSpPr>
            <p:cNvPr id="86" name=""/>
            <p:cNvSpPr/>
            <p:nvPr/>
          </p:nvSpPr>
          <p:spPr>
            <a:xfrm>
              <a:off x="6948360" y="6127920"/>
              <a:ext cx="1905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9cffd"/>
                  </a:solidFill>
                  <a:latin typeface="Arial"/>
                </a:rPr>
                <a:t>Container, Attachm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24720" y="4094280"/>
              <a:ext cx="2484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9cffd"/>
                  </a:solidFill>
                  <a:latin typeface="Arial"/>
                </a:rPr>
                <a:t>Whole Vehicle, Hydrogen Syste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716360" y="2852640"/>
              <a:ext cx="41036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1044720" y="2843280"/>
              <a:ext cx="7592760" cy="3823920"/>
              <a:chOff x="1044720" y="2843280"/>
              <a:chExt cx="7592760" cy="3823920"/>
            </a:xfrm>
          </p:grpSpPr>
          <p:sp>
            <p:nvSpPr>
              <p:cNvPr id="90" name=""/>
              <p:cNvSpPr/>
              <p:nvPr/>
            </p:nvSpPr>
            <p:spPr>
              <a:xfrm>
                <a:off x="7647120" y="2900520"/>
                <a:ext cx="431640" cy="936360"/>
              </a:xfrm>
              <a:prstGeom prst="upArrow">
                <a:avLst>
                  <a:gd name="adj1" fmla="val 43380"/>
                  <a:gd name="adj2" fmla="val 147442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>
                <a:off x="7647120" y="5173560"/>
                <a:ext cx="431640" cy="936720"/>
              </a:xfrm>
              <a:prstGeom prst="upArrow">
                <a:avLst>
                  <a:gd name="adj1" fmla="val 43380"/>
                  <a:gd name="adj2" fmla="val 147499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" name=""/>
              <p:cNvGrpSpPr/>
              <p:nvPr/>
            </p:nvGrpSpPr>
            <p:grpSpPr>
              <a:xfrm>
                <a:off x="1044720" y="2843280"/>
                <a:ext cx="7592760" cy="3823920"/>
                <a:chOff x="1044720" y="2843280"/>
                <a:chExt cx="7592760" cy="3823920"/>
              </a:xfrm>
            </p:grpSpPr>
            <p:sp>
              <p:nvSpPr>
                <p:cNvPr id="93" name=""/>
                <p:cNvSpPr/>
                <p:nvPr/>
              </p:nvSpPr>
              <p:spPr>
                <a:xfrm flipV="1">
                  <a:off x="2320920" y="5589000"/>
                  <a:ext cx="4537080" cy="587160"/>
                </a:xfrm>
                <a:custGeom>
                  <a:avLst/>
                  <a:gdLst>
                    <a:gd name="textAreaLeft" fmla="*/ 580680 w 4537080"/>
                    <a:gd name="textAreaRight" fmla="*/ 3956400 w 4537080"/>
                    <a:gd name="textAreaTop" fmla="*/ 74880 h 587160"/>
                    <a:gd name="textAreaBottom" fmla="*/ 512280 h 587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772" y="21600"/>
                      </a:lnTo>
                      <a:lnTo>
                        <a:pt x="1828" y="21600"/>
                      </a:lnTo>
                      <a:close/>
                    </a:path>
                  </a:pathLst>
                </a:custGeom>
                <a:solidFill>
                  <a:srgbClr val="00cc00"/>
                </a:solidFill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1044720" y="6168960"/>
                  <a:ext cx="7592760" cy="1260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2709720" y="2843280"/>
                  <a:ext cx="3760920" cy="2741400"/>
                </a:xfrm>
                <a:prstGeom prst="triangle">
                  <a:avLst>
                    <a:gd name="adj" fmla="val 50097"/>
                  </a:avLst>
                </a:prstGeom>
                <a:solidFill>
                  <a:srgbClr val="ff6600"/>
                </a:solidFill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3084480" y="5632560"/>
                  <a:ext cx="3049560" cy="53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c9cffd"/>
                      </a:solidFill>
                      <a:latin typeface="Arial"/>
                    </a:rPr>
                    <a:t>Equipment and Structural Requiremen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3541680" y="4881600"/>
                  <a:ext cx="2119320" cy="67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c9cffd"/>
                      </a:solidFill>
                      <a:latin typeface="Arial"/>
                    </a:rPr>
                    <a:t>Functional Requirement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 flipV="1" rot="4200">
                  <a:off x="1983960" y="6172920"/>
                  <a:ext cx="5208480" cy="490680"/>
                </a:xfrm>
                <a:custGeom>
                  <a:avLst/>
                  <a:gdLst>
                    <a:gd name="textAreaLeft" fmla="*/ 610560 w 5208480"/>
                    <a:gd name="textAreaRight" fmla="*/ 4597920 w 5208480"/>
                    <a:gd name="textAreaTop" fmla="*/ 57240 h 490680"/>
                    <a:gd name="textAreaBottom" fmla="*/ 433440 h 490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20191" y="21600"/>
                      </a:lnTo>
                      <a:lnTo>
                        <a:pt x="1409" y="2160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3201840" y="2852640"/>
                  <a:ext cx="2765520" cy="2016360"/>
                </a:xfrm>
                <a:prstGeom prst="triangle">
                  <a:avLst>
                    <a:gd name="adj" fmla="val 50426"/>
                  </a:avLst>
                </a:prstGeom>
                <a:solidFill>
                  <a:srgbClr val="993300"/>
                </a:solidFill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3587760" y="6265800"/>
                  <a:ext cx="2016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c9cffd"/>
                      </a:solidFill>
                      <a:latin typeface="Arial"/>
                    </a:rPr>
                    <a:t>Approval of Device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3127320" y="3814920"/>
                  <a:ext cx="2906640" cy="77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c9cffd"/>
                      </a:solidFill>
                      <a:latin typeface="Arial"/>
                    </a:rPr>
                    <a:t>Performance Requirement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2" name=""/>
          <p:cNvSpPr/>
          <p:nvPr/>
        </p:nvSpPr>
        <p:spPr>
          <a:xfrm>
            <a:off x="0" y="864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Construction of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3C09-D8EF-40E9-B97B-AD97F5448C9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2929ff"/>
            </a:gs>
            <a:gs pos="100000">
              <a:srgbClr val="0000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09600" y="722160"/>
            <a:ext cx="8496360" cy="19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1. Have no lea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2. Sense and shut off hydrogen gas when leakage occ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3. Have no accumulation and no entry of gas into the passenger compartment in the event of a l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849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Construction of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79280" y="2843280"/>
            <a:ext cx="8929800" cy="3865320"/>
            <a:chOff x="179280" y="2843280"/>
            <a:chExt cx="8929800" cy="3865320"/>
          </a:xfrm>
        </p:grpSpPr>
        <p:sp>
          <p:nvSpPr>
            <p:cNvPr id="106" name=""/>
            <p:cNvSpPr/>
            <p:nvPr/>
          </p:nvSpPr>
          <p:spPr>
            <a:xfrm>
              <a:off x="7294680" y="6697800"/>
              <a:ext cx="15112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948360" y="6127920"/>
              <a:ext cx="1905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9cffd"/>
                  </a:solidFill>
                  <a:latin typeface="Arial"/>
                </a:rPr>
                <a:t>Container, Attachm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24720" y="4094280"/>
              <a:ext cx="2484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9cffd"/>
                  </a:solidFill>
                  <a:latin typeface="Arial"/>
                </a:rPr>
                <a:t>Whole Vehicle, Hydrogen Syste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47120" y="2900520"/>
              <a:ext cx="431640" cy="936360"/>
            </a:xfrm>
            <a:prstGeom prst="upArrow">
              <a:avLst>
                <a:gd name="adj1" fmla="val 43380"/>
                <a:gd name="adj2" fmla="val 14744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7647120" y="5173560"/>
              <a:ext cx="431640" cy="936720"/>
            </a:xfrm>
            <a:prstGeom prst="upArrow">
              <a:avLst>
                <a:gd name="adj1" fmla="val 43380"/>
                <a:gd name="adj2" fmla="val 147499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716360" y="2852640"/>
              <a:ext cx="41036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2320920" y="5589000"/>
              <a:ext cx="4537080" cy="587160"/>
            </a:xfrm>
            <a:custGeom>
              <a:avLst/>
              <a:gdLst>
                <a:gd name="textAreaLeft" fmla="*/ 580680 w 4537080"/>
                <a:gd name="textAreaRight" fmla="*/ 3956400 w 4537080"/>
                <a:gd name="textAreaTop" fmla="*/ 74880 h 587160"/>
                <a:gd name="textAreaBottom" fmla="*/ 512280 h 58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772" y="21600"/>
                  </a:lnTo>
                  <a:lnTo>
                    <a:pt x="1828" y="21600"/>
                  </a:lnTo>
                  <a:close/>
                </a:path>
              </a:pathLst>
            </a:custGeom>
            <a:solidFill>
              <a:srgbClr val="00cc00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044720" y="6168960"/>
              <a:ext cx="7592760" cy="126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709720" y="2843280"/>
              <a:ext cx="3760920" cy="2741400"/>
            </a:xfrm>
            <a:prstGeom prst="triangle">
              <a:avLst>
                <a:gd name="adj" fmla="val 50097"/>
              </a:avLst>
            </a:prstGeom>
            <a:solidFill>
              <a:srgbClr val="ff6600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084480" y="5632560"/>
              <a:ext cx="304956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9cffd"/>
                  </a:solidFill>
                  <a:latin typeface="Arial"/>
                </a:rPr>
                <a:t>Equipment and Structural Require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41680" y="4881600"/>
              <a:ext cx="211932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9cffd"/>
                  </a:solidFill>
                  <a:latin typeface="Arial"/>
                </a:rPr>
                <a:t>Functional Requir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 rot="4200">
              <a:off x="1983960" y="6172920"/>
              <a:ext cx="5208480" cy="490680"/>
            </a:xfrm>
            <a:custGeom>
              <a:avLst/>
              <a:gdLst>
                <a:gd name="textAreaLeft" fmla="*/ 610560 w 5208480"/>
                <a:gd name="textAreaRight" fmla="*/ 4597920 w 5208480"/>
                <a:gd name="textAreaTop" fmla="*/ 57240 h 490680"/>
                <a:gd name="textAreaBottom" fmla="*/ 433440 h 49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191" y="21600"/>
                  </a:lnTo>
                  <a:lnTo>
                    <a:pt x="1409" y="21600"/>
                  </a:lnTo>
                  <a:close/>
                </a:path>
              </a:pathLst>
            </a:custGeom>
            <a:solidFill>
              <a:srgbClr val="808080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201840" y="2852640"/>
              <a:ext cx="2765520" cy="2016360"/>
            </a:xfrm>
            <a:prstGeom prst="triangle">
              <a:avLst>
                <a:gd name="adj" fmla="val 50426"/>
              </a:avLst>
            </a:prstGeom>
            <a:solidFill>
              <a:srgbClr val="9933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587760" y="6265800"/>
              <a:ext cx="201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9cffd"/>
                  </a:solidFill>
                  <a:latin typeface="Arial"/>
                </a:rPr>
                <a:t>Approval of Devic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127320" y="3816360"/>
              <a:ext cx="290664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9cffd"/>
                  </a:solidFill>
                  <a:latin typeface="Arial"/>
                </a:rPr>
                <a:t>Performance Requiremen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79280" y="4122720"/>
              <a:ext cx="2880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Japanese technical standards : Attachment 1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403280" y="2916360"/>
              <a:ext cx="432000" cy="936360"/>
            </a:xfrm>
            <a:prstGeom prst="upArrow">
              <a:avLst>
                <a:gd name="adj1" fmla="val 43380"/>
                <a:gd name="adj2" fmla="val 147320"/>
              </a:avLst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1403280" y="5189400"/>
              <a:ext cx="432000" cy="936720"/>
            </a:xfrm>
            <a:prstGeom prst="upArrow">
              <a:avLst>
                <a:gd name="adj1" fmla="val 43380"/>
                <a:gd name="adj2" fmla="val 147376"/>
              </a:avLst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042920" y="2852640"/>
              <a:ext cx="3441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5E2F-0342-4E8A-B6C2-430B4A1045B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2929ff"/>
            </a:gs>
            <a:gs pos="100000">
              <a:srgbClr val="0000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504720" y="1484280"/>
            <a:ext cx="874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bbe0e3"/>
                </a:solidFill>
                <a:latin typeface="Arial"/>
              </a:rPr>
              <a:t>Container and its Attachment (Main shut off valve, Container check valve   </a:t>
            </a: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bbe0e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bbe0e3"/>
                </a:solidFill>
                <a:latin typeface="Arial"/>
              </a:rPr>
              <a:t>   </a:t>
            </a:r>
            <a:r>
              <a:rPr b="1" lang="ja-JP" sz="1800" spc="-1" strike="noStrike">
                <a:solidFill>
                  <a:srgbClr val="bbe0e3"/>
                </a:solidFill>
                <a:latin typeface="Arial"/>
              </a:rPr>
              <a:t>and PRD) shall be approv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bbe0e3"/>
                </a:solidFill>
                <a:latin typeface="Arial"/>
              </a:rPr>
              <a:t>Container shall be periodically inspected in law or in serv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98440" y="270828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Equipment and Structural Requi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04720" y="3284640"/>
            <a:ext cx="8350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cc"/>
                </a:solidFill>
                <a:latin typeface="Arial"/>
              </a:rPr>
              <a:t>3.1 Container attachments</a:t>
            </a:r>
            <a:r>
              <a:rPr b="1" lang="ja-JP" sz="18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bbe0e3"/>
                </a:solidFill>
                <a:latin typeface="Arial"/>
              </a:rPr>
              <a:t>Container attachments shall be attached directly to each gas contain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ff99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00ff99"/>
                </a:solidFill>
                <a:latin typeface="Arial"/>
              </a:rPr>
              <a:t>The direction of hydrogen gas discharge from P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ff99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00ff99"/>
                </a:solidFill>
                <a:latin typeface="Arial"/>
              </a:rPr>
              <a:t>(…is finished the discussion and is drafting now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cc"/>
                </a:solidFill>
                <a:latin typeface="Arial"/>
              </a:rPr>
              <a:t>3.2 Excess flow valve, etc.</a:t>
            </a: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bbe0e3"/>
                </a:solidFill>
                <a:latin typeface="Arial"/>
              </a:rPr>
              <a:t>One of the devices shall be provided to prevent the excess flow.</a:t>
            </a: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cc"/>
                </a:solidFill>
                <a:latin typeface="Arial"/>
              </a:rPr>
              <a:t>3.3 Pressure reg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bbe0e3"/>
                </a:solidFill>
                <a:latin typeface="Arial"/>
              </a:rPr>
              <a:t>The pressure regulator providing the passage to the atmosphere shall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bbe0e3"/>
                </a:solidFill>
                <a:latin typeface="Arial"/>
              </a:rPr>
              <a:t>   </a:t>
            </a:r>
            <a:r>
              <a:rPr b="1" lang="ja-JP" sz="1800" spc="-1" strike="noStrike">
                <a:solidFill>
                  <a:srgbClr val="bbe0e3"/>
                </a:solidFill>
                <a:latin typeface="Arial"/>
              </a:rPr>
              <a:t>not be attached upstream of the main shut off val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8440" y="922320"/>
            <a:ext cx="426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Approval of De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864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echnical standards Attachment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C2AE-748F-42FE-AC64-1504333C12B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2929ff"/>
            </a:gs>
            <a:gs pos="100000">
              <a:srgbClr val="0000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09600" y="923760"/>
            <a:ext cx="883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Equipment and Structural Requirement 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4720" y="1498680"/>
            <a:ext cx="84996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cc"/>
                </a:solidFill>
                <a:latin typeface="Arial"/>
              </a:rPr>
              <a:t>3.4 Safety 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bbe0e3"/>
                </a:solidFill>
                <a:latin typeface="Arial"/>
              </a:rPr>
              <a:t>A safety device capable of preventing significant over-pressure shall 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bbe0e3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bbe0e3"/>
                </a:solidFill>
                <a:latin typeface="Arial"/>
              </a:rPr>
              <a:t>provided.</a:t>
            </a: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ff99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ff99"/>
                </a:solidFill>
                <a:latin typeface="Arial"/>
              </a:rPr>
              <a:t>The direction of hydrogen gas discharge from PR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ff99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00ff99"/>
                </a:solidFill>
                <a:latin typeface="Arial"/>
              </a:rPr>
              <a:t>(…is finished the discussion and is drafting now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cc"/>
                </a:solidFill>
                <a:latin typeface="Arial"/>
              </a:rPr>
              <a:t>3.5 Gas containers, piping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bbe0e3"/>
                </a:solidFill>
                <a:latin typeface="Arial"/>
              </a:rPr>
              <a:t>Gas containers, piping, etc. shall not be removed for re-fuel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bbe0e3"/>
                </a:solidFill>
                <a:latin typeface="Arial"/>
              </a:rPr>
              <a:t>Gas containers, piping, etc. shall not be provided in the passeng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bbe0e3"/>
                </a:solidFill>
                <a:latin typeface="Arial"/>
              </a:rPr>
              <a:t>   </a:t>
            </a:r>
            <a:r>
              <a:rPr b="1" lang="ja-JP" sz="1800" spc="-1" strike="noStrike">
                <a:solidFill>
                  <a:srgbClr val="bbe0e3"/>
                </a:solidFill>
                <a:latin typeface="Arial"/>
              </a:rPr>
              <a:t>compartment, luggage compartment or other places where ventilation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bbe0e3"/>
                </a:solidFill>
                <a:latin typeface="Arial"/>
              </a:rPr>
              <a:t>   </a:t>
            </a:r>
            <a:r>
              <a:rPr b="1" lang="ja-JP" sz="1800" spc="-1" strike="noStrike">
                <a:solidFill>
                  <a:srgbClr val="bbe0e3"/>
                </a:solidFill>
                <a:latin typeface="Arial"/>
              </a:rPr>
              <a:t>not sufficient. (This provision shall not apply to cases where the g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bbe0e3"/>
                </a:solidFill>
                <a:latin typeface="Arial"/>
              </a:rPr>
              <a:t>   </a:t>
            </a:r>
            <a:r>
              <a:rPr b="1" lang="ja-JP" sz="1800" spc="-1" strike="noStrike">
                <a:solidFill>
                  <a:srgbClr val="bbe0e3"/>
                </a:solidFill>
                <a:latin typeface="Arial"/>
              </a:rPr>
              <a:t>containers, piping, etc. are housed in a housing where</a:t>
            </a: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bbe0e3"/>
                </a:solidFill>
                <a:latin typeface="Arial"/>
              </a:rPr>
              <a:t>air-tightness an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bbe0e3"/>
                </a:solidFill>
                <a:latin typeface="Arial"/>
              </a:rPr>
              <a:t>   </a:t>
            </a:r>
            <a:r>
              <a:rPr b="1" lang="ja-JP" sz="1800" spc="-1" strike="noStrike">
                <a:solidFill>
                  <a:srgbClr val="bbe0e3"/>
                </a:solidFill>
                <a:latin typeface="Arial"/>
              </a:rPr>
              <a:t>ventilation is sufficient.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bbe0e3"/>
                </a:solidFill>
                <a:latin typeface="Arial"/>
              </a:rPr>
              <a:t>Gas containers and piping, etc </a:t>
            </a: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sh</a:t>
            </a:r>
            <a:r>
              <a:rPr b="1" lang="ja-JP" sz="1800" spc="-1" strike="noStrike">
                <a:solidFill>
                  <a:srgbClr val="bbe0e3"/>
                </a:solidFill>
                <a:latin typeface="Arial"/>
              </a:rPr>
              <a:t>all</a:t>
            </a: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 be protected by the cover to the </a:t>
            </a:r>
            <a:r>
              <a:rPr b="1" lang="ja-JP" sz="18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bbe0e3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external factor.</a:t>
            </a: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bbe0e3"/>
                </a:solidFill>
                <a:latin typeface="Arial"/>
              </a:rPr>
              <a:t>Metal parts of the supporting fixtures for the piping shall not be in dir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bbe0e3"/>
                </a:solidFill>
                <a:latin typeface="Arial"/>
              </a:rPr>
              <a:t>   </a:t>
            </a:r>
            <a:r>
              <a:rPr b="1" lang="ja-JP" sz="1800" spc="-1" strike="noStrike">
                <a:solidFill>
                  <a:srgbClr val="bbe0e3"/>
                </a:solidFill>
                <a:latin typeface="Arial"/>
              </a:rPr>
              <a:t>contact with the pip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864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echnical standards Attachment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1400-449A-4F73-9F27-91C88DD12F2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5T05:37:40Z</dcterms:created>
  <dc:creator>栃木研究所</dc:creator>
  <dc:description/>
  <dc:language>en-US</dc:language>
  <cp:lastModifiedBy>Gianotti</cp:lastModifiedBy>
  <dcterms:modified xsi:type="dcterms:W3CDTF">2008-11-27T07:54:11Z</dcterms:modified>
  <cp:revision>25</cp:revision>
  <dc:subject/>
  <dc:title>スライド 1</dc:title>
</cp:coreProperties>
</file>