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7239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95560" y="721800"/>
            <a:ext cx="492408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87C-6043-4A3E-A91D-87CA5F0235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822-87F4-418B-98F4-DA3445838F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GTR should contain a good balanc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evention measures and Measures to limit the consequences of an acci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6E8-E39F-4B54-B2E2-744549A4E1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3CF-2E88-4473-8698-0BE8876921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which provisions shall be covered in Part I and which Par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oth parts cover system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750-72F9-40A4-AAA7-853ADAFCAD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sher sind Details für Prüfungen von H2-Systemen nach dem OICA-proposal erarbeitet, aber es ist noch nicht klar, was ein storage system sein soll, was es umfasst, was ein vehicle fuel system is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 ist noch nicht einmal klar, ob der Container überhaupt erfasst werden soll (Japa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 ist nicht klar, an wen sich die Provisiosn richten: Behälter-, Ventil-, System-, Fahrzeugherstell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 sind störfallbegrenzende Maßnahmen vorgeschlagen, aber noch keine Basisanforderungen zur Störfallvermeidung, die zu einem sicheren System führen (Prävention) und den Stand der Technik festlegen s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s muss der Scope und die wesentlichen Maßnahmen festliegen, bevor Funktionsprüfungen an einem nicht spezifizierten System (was das Sicherheitsniveau betrifft) beschlossen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539D-5EA8-448C-BC88-A32B2D8BB2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nehmen: Systemanforderungen und Komponentenanford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nnen: Anforderungen für System – Anforderungen für Komponenten, da verschiedene Verantwortlichk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monisierung Tank, Hauptventil, PRD, und Fülleinrichtung bzw. Füllbedingungen: muss enthalten sein! Sonst können auch Störfall-Versuche keine Aussage über das System herstel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5302-015D-4509-AACD-041B952F84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tzt Basisanforderungen an Tank und seine Absperrung vor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536-BE3E-4829-8D5D-7DD7B23A73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264-D1C8-4EEB-B38B-F142FA7F6F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7A9-E5B9-4285-8C9D-23E992A8F0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5CF9-61BC-451E-B915-0365604A52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9C6-4B0D-4480-85ED-DB86255CF9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st people are frightened because of crash accidents with gas vehicles because of the risk that the container might bu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incidents of the last years with burst of containers show that a lack of safety of installation and quality of components might lead more often to a burst of contai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rmation of the public is very importan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B536-7046-4208-8BF0-FF479BAE14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mponen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ainer, valve, PRD, filling 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ponsibility/target group: component manufactu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ste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as components, safety equipment, fixation, protection devices (e.g. ventilation, temperature protection, mechanical protection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ponsibility/target group: system or vehicle manufactu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070-B2BA-4CA7-861B-A7CEF74C05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mponent Safety: design, materials, durability, pressure, temperature, media, acceleration, ambient condition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stem Safety: Installation and mounting, safety equipment, e.g. sensors, PRD, PRV, shut off valves, shut down system, ventil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chanical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ctric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eak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ir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eat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338-0BC6-44C1-A3F4-F35B74AF80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mponent testing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.g. cycling of container, burst test, bonfire tes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stem insp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.g. visible insp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ghtn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ction/performance test – e.g. acc. OICA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5E2-4549-426D-8D60-39610BECE7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95560" y="722160"/>
            <a:ext cx="4924080" cy="3598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cident Prevention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itable design, material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itable equipment, e.g. safety equipment, detectors, filling interface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itable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itable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tection of failures of safety equipment (e.g. leak sen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mitation of consequences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tection of system failures (e.g. lea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hut off and emergency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ail saf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gle failur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cess flow valve/check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645E-F1FF-43C6-9886-25B7D3CCB6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6B2-E666-4361-90CE-A06A5C03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120" y="413640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B54-A609-46A3-911F-F3A28355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775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F79-EC79-4065-B12C-996B86EC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2376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12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2376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09F-A63D-4F52-95F7-B28AEA08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630-B082-4C32-9B7E-BD2D42B2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509-7674-47CF-968C-7601302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7943-9A4E-4336-9D31-5310DB5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FEC-2144-4FD7-90B9-A1D25BB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639A-28AA-4BD6-A5DF-93E142A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90240" y="380880"/>
            <a:ext cx="67942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01B-EDC6-4D0D-B83C-D1563F70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277C-25DF-43A8-9F0D-DC3A5CF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DCD-E27E-4E58-AC6C-ECAE56A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775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C051-0DB3-4CB9-8C40-2C5782F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B7F-C4C8-4F9D-A2D7-AAB24FC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120" y="413640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3DC6-5DA0-459F-8382-78990EAA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775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E97D-5477-4C90-B474-ADD605DE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376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56348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12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376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136400"/>
            <a:ext cx="287064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C8E5-ECE8-44D7-8E4A-E2DF80C1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7C7-56B7-4FCC-9173-11122A1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06B-1D2A-4B6B-B35C-875FA4A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AFA-1280-4659-A401-E6C0D48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90240" y="380880"/>
            <a:ext cx="67942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660-C8DE-4700-9FA2-685B475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40B-0AA0-4C09-9FE8-E37A3AF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77520" y="413640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0C0-9045-47EE-B106-EB86EE9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334440"/>
            <a:ext cx="6794280" cy="524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77520" y="1563480"/>
            <a:ext cx="43506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136400"/>
            <a:ext cx="8915400" cy="2349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F9E-FEA7-4063-A456-07F9726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380880"/>
            <a:ext cx="6794280" cy="432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21A-72CD-403F-AA54-BD803534F6BF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832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3256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1BC-AB1A-4F7B-A0A7-3C3A2935763D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9"/>
          <p:cNvGraphicFramePr/>
          <p:nvPr/>
        </p:nvGraphicFramePr>
        <p:xfrm>
          <a:off x="378000" y="379440"/>
          <a:ext cx="803592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379440"/>
                    <a:ext cx="8035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" name="Group 52"/>
          <p:cNvGrpSpPr/>
          <p:nvPr/>
        </p:nvGrpSpPr>
        <p:grpSpPr>
          <a:xfrm>
            <a:off x="379440" y="384120"/>
            <a:ext cx="7923240" cy="432000"/>
            <a:chOff x="379440" y="384120"/>
            <a:chExt cx="7923240" cy="432000"/>
          </a:xfrm>
        </p:grpSpPr>
        <p:sp>
          <p:nvSpPr>
            <p:cNvPr id="8" name="Rectangle 53"/>
            <p:cNvSpPr/>
            <p:nvPr/>
          </p:nvSpPr>
          <p:spPr>
            <a:xfrm>
              <a:off x="379440" y="384120"/>
              <a:ext cx="6013440" cy="432000"/>
            </a:xfrm>
            <a:prstGeom prst="rect">
              <a:avLst/>
            </a:prstGeom>
            <a:solidFill>
              <a:srgbClr val="00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54"/>
            <p:cNvSpPr/>
            <p:nvPr/>
          </p:nvSpPr>
          <p:spPr>
            <a:xfrm>
              <a:off x="6321600" y="384120"/>
              <a:ext cx="1981080" cy="432000"/>
            </a:xfrm>
            <a:prstGeom prst="rect">
              <a:avLst/>
            </a:prstGeom>
            <a:gradFill rotWithShape="0">
              <a:gsLst>
                <a:gs pos="0">
                  <a:srgbClr val="0060a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Text Box 57"/>
          <p:cNvSpPr/>
          <p:nvPr/>
        </p:nvSpPr>
        <p:spPr>
          <a:xfrm>
            <a:off x="287280" y="6818400"/>
            <a:ext cx="16574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TÜV SÜD Automotive 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58" descr=""/>
          <p:cNvPicPr/>
          <p:nvPr/>
        </p:nvPicPr>
        <p:blipFill>
          <a:blip r:embed="rId4"/>
          <a:stretch/>
        </p:blipFill>
        <p:spPr>
          <a:xfrm>
            <a:off x="8508960" y="77760"/>
            <a:ext cx="1101600" cy="13143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59" descr=""/>
          <p:cNvPicPr/>
          <p:nvPr/>
        </p:nvPicPr>
        <p:blipFill>
          <a:blip r:embed="rId5"/>
          <a:stretch/>
        </p:blipFill>
        <p:spPr>
          <a:xfrm>
            <a:off x="2360520" y="6846840"/>
            <a:ext cx="355680" cy="158760"/>
          </a:xfrm>
          <a:prstGeom prst="rect">
            <a:avLst/>
          </a:prstGeom>
          <a:ln w="0">
            <a:noFill/>
          </a:ln>
        </p:spPr>
      </p:pic>
      <p:sp>
        <p:nvSpPr>
          <p:cNvPr id="13" name="Textfeld 13"/>
          <p:cNvSpPr/>
          <p:nvPr/>
        </p:nvSpPr>
        <p:spPr>
          <a:xfrm>
            <a:off x="401760" y="34920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GS HFCV, Japan, 24th – 26th Sept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6"/>
          <p:cNvSpPr/>
          <p:nvPr/>
        </p:nvSpPr>
        <p:spPr>
          <a:xfrm>
            <a:off x="287280" y="6818400"/>
            <a:ext cx="16574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Narrow"/>
              </a:rPr>
              <a:t>TÜV SÜD Automotive Gm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378000" y="379440"/>
          <a:ext cx="803592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379440"/>
                    <a:ext cx="8035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64"/>
          <p:cNvGrpSpPr/>
          <p:nvPr/>
        </p:nvGrpSpPr>
        <p:grpSpPr>
          <a:xfrm>
            <a:off x="379440" y="384120"/>
            <a:ext cx="7923240" cy="432000"/>
            <a:chOff x="379440" y="384120"/>
            <a:chExt cx="7923240" cy="432000"/>
          </a:xfrm>
        </p:grpSpPr>
        <p:sp>
          <p:nvSpPr>
            <p:cNvPr id="54" name="Rectangle 65"/>
            <p:cNvSpPr/>
            <p:nvPr/>
          </p:nvSpPr>
          <p:spPr>
            <a:xfrm>
              <a:off x="379440" y="384120"/>
              <a:ext cx="6013440" cy="432000"/>
            </a:xfrm>
            <a:prstGeom prst="rect">
              <a:avLst/>
            </a:prstGeom>
            <a:solidFill>
              <a:srgbClr val="006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6"/>
            <p:cNvSpPr/>
            <p:nvPr/>
          </p:nvSpPr>
          <p:spPr>
            <a:xfrm>
              <a:off x="6321600" y="384120"/>
              <a:ext cx="1981080" cy="432000"/>
            </a:xfrm>
            <a:prstGeom prst="rect">
              <a:avLst/>
            </a:prstGeom>
            <a:gradFill rotWithShape="0">
              <a:gsLst>
                <a:gs pos="0">
                  <a:srgbClr val="0060a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68" descr=""/>
          <p:cNvPicPr/>
          <p:nvPr/>
        </p:nvPicPr>
        <p:blipFill>
          <a:blip r:embed="rId4"/>
          <a:stretch/>
        </p:blipFill>
        <p:spPr>
          <a:xfrm>
            <a:off x="8508960" y="77760"/>
            <a:ext cx="110160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9" descr=""/>
          <p:cNvPicPr/>
          <p:nvPr/>
        </p:nvPicPr>
        <p:blipFill>
          <a:blip r:embed="rId5"/>
          <a:stretch/>
        </p:blipFill>
        <p:spPr>
          <a:xfrm>
            <a:off x="2360520" y="6846840"/>
            <a:ext cx="355680" cy="15876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1"/>
          <p:cNvSpPr/>
          <p:nvPr/>
        </p:nvSpPr>
        <p:spPr>
          <a:xfrm>
            <a:off x="401760" y="34920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GS HFCV, Japan, 24th – 26th Sept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0240" y="380880"/>
            <a:ext cx="6794280" cy="432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09120" y="1563480"/>
            <a:ext cx="8915400" cy="49258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05000" indent="-2458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39A2-1C56-472F-93A4-DF2DB1C43942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6832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23256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5EAF-7931-4385-B320-A5025F4EDC23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4048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TR-Developmen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H2- and FC-Vehicle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TÜV SÜD - opin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60880" y="1098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S 4 - 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5171652-D996-4DBC-A4B7-0A23C4F9A48E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ußzeilenplatzhalter 2"/>
          <p:cNvSpPr/>
          <p:nvPr/>
        </p:nvSpPr>
        <p:spPr>
          <a:xfrm>
            <a:off x="349740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F29F84D-8A53-430A-8622-356E435B3E1E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Gleichschenkliges Dreieck 5"/>
          <p:cNvSpPr/>
          <p:nvPr/>
        </p:nvSpPr>
        <p:spPr>
          <a:xfrm rot="10800000">
            <a:off x="1809720" y="904680"/>
            <a:ext cx="6539040" cy="3133440"/>
          </a:xfrm>
          <a:prstGeom prst="triangle">
            <a:avLst>
              <a:gd name="adj" fmla="val 50000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feld 6"/>
          <p:cNvSpPr/>
          <p:nvPr/>
        </p:nvSpPr>
        <p:spPr>
          <a:xfrm>
            <a:off x="4838400" y="3362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7"/>
          <p:cNvSpPr/>
          <p:nvPr/>
        </p:nvSpPr>
        <p:spPr>
          <a:xfrm>
            <a:off x="3649680" y="2048040"/>
            <a:ext cx="280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mitation of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erade Verbindung 8"/>
          <p:cNvSpPr/>
          <p:nvPr/>
        </p:nvSpPr>
        <p:spPr>
          <a:xfrm flipH="1">
            <a:off x="3062160" y="2048040"/>
            <a:ext cx="410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Gleichschenkliges Dreieck 10"/>
          <p:cNvSpPr/>
          <p:nvPr/>
        </p:nvSpPr>
        <p:spPr>
          <a:xfrm rot="16200000">
            <a:off x="3645000" y="2309400"/>
            <a:ext cx="6102360" cy="33051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onent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11"/>
          <p:cNvSpPr/>
          <p:nvPr/>
        </p:nvSpPr>
        <p:spPr>
          <a:xfrm rot="16200000">
            <a:off x="5423400" y="3706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2"/>
          <p:cNvSpPr/>
          <p:nvPr/>
        </p:nvSpPr>
        <p:spPr>
          <a:xfrm rot="16200000">
            <a:off x="5350320" y="34758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erade Verbindung 13"/>
          <p:cNvSpPr/>
          <p:nvPr/>
        </p:nvSpPr>
        <p:spPr>
          <a:xfrm flipV="1">
            <a:off x="7095960" y="2070000"/>
            <a:ext cx="14400" cy="376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uppieren 14"/>
          <p:cNvGrpSpPr/>
          <p:nvPr/>
        </p:nvGrpSpPr>
        <p:grpSpPr>
          <a:xfrm>
            <a:off x="1809360" y="905040"/>
            <a:ext cx="3233880" cy="6108480"/>
            <a:chOff x="1809360" y="905040"/>
            <a:chExt cx="3233880" cy="6108480"/>
          </a:xfrm>
        </p:grpSpPr>
        <p:sp>
          <p:nvSpPr>
            <p:cNvPr id="202" name="Gleichschenkliges Dreieck 15"/>
            <p:cNvSpPr/>
            <p:nvPr/>
          </p:nvSpPr>
          <p:spPr>
            <a:xfrm rot="5400000">
              <a:off x="371880" y="2342160"/>
              <a:ext cx="6108480" cy="32338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Component Safe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feld 16"/>
            <p:cNvSpPr/>
            <p:nvPr/>
          </p:nvSpPr>
          <p:spPr>
            <a:xfrm rot="5400000">
              <a:off x="4402080" y="37332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feld 17"/>
            <p:cNvSpPr/>
            <p:nvPr/>
          </p:nvSpPr>
          <p:spPr>
            <a:xfrm rot="5400000">
              <a:off x="2918880" y="3490920"/>
              <a:ext cx="1616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ystem Safe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Gerade Verbindung 18"/>
            <p:cNvSpPr/>
            <p:nvPr/>
          </p:nvSpPr>
          <p:spPr>
            <a:xfrm flipH="1">
              <a:off x="3024360" y="2048040"/>
              <a:ext cx="21240" cy="38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uppieren 19"/>
          <p:cNvGrpSpPr/>
          <p:nvPr/>
        </p:nvGrpSpPr>
        <p:grpSpPr>
          <a:xfrm>
            <a:off x="1816200" y="3936960"/>
            <a:ext cx="6532560" cy="3067200"/>
            <a:chOff x="1816200" y="3936960"/>
            <a:chExt cx="6532560" cy="3067200"/>
          </a:xfrm>
        </p:grpSpPr>
        <p:sp>
          <p:nvSpPr>
            <p:cNvPr id="207" name="Gleichschenkliges Dreieck 20"/>
            <p:cNvSpPr/>
            <p:nvPr/>
          </p:nvSpPr>
          <p:spPr>
            <a:xfrm>
              <a:off x="1816200" y="3936960"/>
              <a:ext cx="6532560" cy="30672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feld 21"/>
            <p:cNvSpPr/>
            <p:nvPr/>
          </p:nvSpPr>
          <p:spPr>
            <a:xfrm>
              <a:off x="4279320" y="4718520"/>
              <a:ext cx="162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feld 22"/>
            <p:cNvSpPr/>
            <p:nvPr/>
          </p:nvSpPr>
          <p:spPr>
            <a:xfrm>
              <a:off x="4958640" y="40676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Gerade Verbindung 26"/>
          <p:cNvSpPr/>
          <p:nvPr/>
        </p:nvSpPr>
        <p:spPr>
          <a:xfrm flipV="1">
            <a:off x="3024360" y="5832000"/>
            <a:ext cx="404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feld 28"/>
          <p:cNvSpPr/>
          <p:nvPr/>
        </p:nvSpPr>
        <p:spPr>
          <a:xfrm>
            <a:off x="3188520" y="119052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cident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4048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GTR-Developmen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686-CAAD-4482-95B1-E289DB0095CF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9E8-87E2-4AA6-B8DB-28644EA916E0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hteck 4"/>
          <p:cNvSpPr/>
          <p:nvPr/>
        </p:nvSpPr>
        <p:spPr>
          <a:xfrm>
            <a:off x="3428280" y="2544840"/>
            <a:ext cx="30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. Storage system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hteck 5"/>
          <p:cNvSpPr/>
          <p:nvPr/>
        </p:nvSpPr>
        <p:spPr>
          <a:xfrm>
            <a:off x="2775600" y="382104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I. Vehicle fuel system integrity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eck 6"/>
          <p:cNvSpPr/>
          <p:nvPr/>
        </p:nvSpPr>
        <p:spPr>
          <a:xfrm>
            <a:off x="3819240" y="4821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II. Electric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eck 7"/>
          <p:cNvSpPr/>
          <p:nvPr/>
        </p:nvSpPr>
        <p:spPr>
          <a:xfrm>
            <a:off x="480600" y="1690560"/>
            <a:ext cx="69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DRAFT STRUCTURE of HFCV-GTR, SGS 3-10, dated 2008-0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bgerundete rechteckige Legende 19"/>
          <p:cNvSpPr/>
          <p:nvPr/>
        </p:nvSpPr>
        <p:spPr>
          <a:xfrm>
            <a:off x="2595600" y="5977080"/>
            <a:ext cx="2857320" cy="785520"/>
          </a:xfrm>
          <a:prstGeom prst="wedgeRoundRectCallout">
            <a:avLst>
              <a:gd name="adj1" fmla="val -50541"/>
              <a:gd name="adj2" fmla="val -151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e Legende 18"/>
          <p:cNvSpPr/>
          <p:nvPr/>
        </p:nvSpPr>
        <p:spPr>
          <a:xfrm>
            <a:off x="5595840" y="5619600"/>
            <a:ext cx="2000520" cy="500040"/>
          </a:xfrm>
          <a:prstGeom prst="wedgeEllipseCallout">
            <a:avLst>
              <a:gd name="adj1" fmla="val -97388"/>
              <a:gd name="adj2" fmla="val -4544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e Legende 17"/>
          <p:cNvSpPr/>
          <p:nvPr/>
        </p:nvSpPr>
        <p:spPr>
          <a:xfrm>
            <a:off x="8096400" y="2405160"/>
            <a:ext cx="2000160" cy="1000080"/>
          </a:xfrm>
          <a:prstGeom prst="wedgeEllipseCallout">
            <a:avLst>
              <a:gd name="adj1" fmla="val -28546"/>
              <a:gd name="adj2" fmla="val -13687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eckige Legende 16"/>
          <p:cNvSpPr/>
          <p:nvPr/>
        </p:nvSpPr>
        <p:spPr>
          <a:xfrm>
            <a:off x="4738680" y="4191120"/>
            <a:ext cx="3214800" cy="1000080"/>
          </a:xfrm>
          <a:prstGeom prst="wedgeRectCallout">
            <a:avLst>
              <a:gd name="adj1" fmla="val -65384"/>
              <a:gd name="adj2" fmla="val 261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 rechteckige Legende 15"/>
          <p:cNvSpPr/>
          <p:nvPr/>
        </p:nvSpPr>
        <p:spPr>
          <a:xfrm>
            <a:off x="4452840" y="2762280"/>
            <a:ext cx="3643560" cy="1143000"/>
          </a:xfrm>
          <a:prstGeom prst="wedgeRoundRectCallout">
            <a:avLst>
              <a:gd name="adj1" fmla="val -71916"/>
              <a:gd name="adj2" fmla="val 962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e Legende 14"/>
          <p:cNvSpPr/>
          <p:nvPr/>
        </p:nvSpPr>
        <p:spPr>
          <a:xfrm>
            <a:off x="4738680" y="1119240"/>
            <a:ext cx="4238640" cy="571320"/>
          </a:xfrm>
          <a:prstGeom prst="wedgeEllipseCallout">
            <a:avLst>
              <a:gd name="adj1" fmla="val -116740"/>
              <a:gd name="adj2" fmla="val 15117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bgerundete rechteckige Legende 12"/>
          <p:cNvSpPr/>
          <p:nvPr/>
        </p:nvSpPr>
        <p:spPr>
          <a:xfrm>
            <a:off x="4595760" y="1833480"/>
            <a:ext cx="3929040" cy="642960"/>
          </a:xfrm>
          <a:prstGeom prst="wedgeRoundRectCallout">
            <a:avLst>
              <a:gd name="adj1" fmla="val -80555"/>
              <a:gd name="adj2" fmla="val 11047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2FC4-8E40-495D-9BE4-8F3888D6F3F7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951-BC03-42E6-82CC-566403C57057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4"/>
          <p:cNvSpPr/>
          <p:nvPr/>
        </p:nvSpPr>
        <p:spPr>
          <a:xfrm>
            <a:off x="413640" y="1405080"/>
            <a:ext cx="4492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stions arised during GTR-Discu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. Storage system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ope and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ex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6"/>
          <p:cNvSpPr/>
          <p:nvPr/>
        </p:nvSpPr>
        <p:spPr>
          <a:xfrm>
            <a:off x="4763880" y="119052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components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system requir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7"/>
          <p:cNvSpPr/>
          <p:nvPr/>
        </p:nvSpPr>
        <p:spPr>
          <a:xfrm>
            <a:off x="4595760" y="1830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Which components? 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Container, valve, PRD, filling dev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9"/>
          <p:cNvSpPr/>
          <p:nvPr/>
        </p:nvSpPr>
        <p:spPr>
          <a:xfrm>
            <a:off x="4738680" y="419580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Who is adressed? Component manufacturer or 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vehicle/system manufactur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11"/>
          <p:cNvSpPr/>
          <p:nvPr/>
        </p:nvSpPr>
        <p:spPr>
          <a:xfrm>
            <a:off x="4452840" y="276228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rotection against over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otential ignition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Mechanical protec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art I or 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13"/>
          <p:cNvSpPr/>
          <p:nvPr/>
        </p:nvSpPr>
        <p:spPr>
          <a:xfrm>
            <a:off x="5667480" y="56786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Docu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14"/>
          <p:cNvSpPr/>
          <p:nvPr/>
        </p:nvSpPr>
        <p:spPr>
          <a:xfrm>
            <a:off x="8024760" y="2476440"/>
            <a:ext cx="17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Functional safety/quality of EC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e Legende 20"/>
          <p:cNvSpPr/>
          <p:nvPr/>
        </p:nvSpPr>
        <p:spPr>
          <a:xfrm>
            <a:off x="8381880" y="5334120"/>
            <a:ext cx="1214640" cy="571320"/>
          </a:xfrm>
          <a:prstGeom prst="wedgeEllipseCallout">
            <a:avLst>
              <a:gd name="adj1" fmla="val -188657"/>
              <a:gd name="adj2" fmla="val -3002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3"/>
          <p:cNvSpPr/>
          <p:nvPr/>
        </p:nvSpPr>
        <p:spPr>
          <a:xfrm>
            <a:off x="2738520" y="61070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Burst ratios, fire protec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eckige Legende 28"/>
          <p:cNvSpPr/>
          <p:nvPr/>
        </p:nvSpPr>
        <p:spPr>
          <a:xfrm>
            <a:off x="4524480" y="5048280"/>
            <a:ext cx="5381640" cy="857160"/>
          </a:xfrm>
          <a:prstGeom prst="wedgeRectCallout">
            <a:avLst>
              <a:gd name="adj1" fmla="val -65050"/>
              <a:gd name="adj2" fmla="val -47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ige Legende 27"/>
          <p:cNvSpPr/>
          <p:nvPr/>
        </p:nvSpPr>
        <p:spPr>
          <a:xfrm>
            <a:off x="4524480" y="5048280"/>
            <a:ext cx="5381640" cy="857160"/>
          </a:xfrm>
          <a:prstGeom prst="wedgeRectCallout">
            <a:avLst>
              <a:gd name="adj1" fmla="val -65462"/>
              <a:gd name="adj2" fmla="val -3902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eckige Legende 25"/>
          <p:cNvSpPr/>
          <p:nvPr/>
        </p:nvSpPr>
        <p:spPr>
          <a:xfrm>
            <a:off x="4486320" y="3833640"/>
            <a:ext cx="5452920" cy="785880"/>
          </a:xfrm>
          <a:prstGeom prst="wedgeRectCallout">
            <a:avLst>
              <a:gd name="adj1" fmla="val -66268"/>
              <a:gd name="adj2" fmla="val 4006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eckige Legende 26"/>
          <p:cNvSpPr/>
          <p:nvPr/>
        </p:nvSpPr>
        <p:spPr>
          <a:xfrm>
            <a:off x="4476600" y="2476440"/>
            <a:ext cx="5429520" cy="928800"/>
          </a:xfrm>
          <a:prstGeom prst="wedgeRectCallout">
            <a:avLst>
              <a:gd name="adj1" fmla="val -67907"/>
              <a:gd name="adj2" fmla="val -749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1B4-C049-4021-8066-5DDB9704ABF8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4D3C-9AFB-4813-83D9-02489CE0CB7B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4"/>
          <p:cNvSpPr/>
          <p:nvPr/>
        </p:nvSpPr>
        <p:spPr>
          <a:xfrm>
            <a:off x="359280" y="1405080"/>
            <a:ext cx="9048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sal: Part I: basic requirements for accident prevention for system an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. Storage system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Scope and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Gener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Annex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20"/>
          <p:cNvSpPr/>
          <p:nvPr/>
        </p:nvSpPr>
        <p:spPr>
          <a:xfrm>
            <a:off x="4595760" y="2519280"/>
            <a:ext cx="531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 and component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GH2 and LH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2-system excluding propulsion s. or other 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feld 22"/>
          <p:cNvSpPr/>
          <p:nvPr/>
        </p:nvSpPr>
        <p:spPr>
          <a:xfrm>
            <a:off x="4637160" y="3905280"/>
            <a:ext cx="497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, e.g. mechanical, electrical, functional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onents, e.g. P, T, Material, Media, function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feld 24"/>
          <p:cNvSpPr/>
          <p:nvPr/>
        </p:nvSpPr>
        <p:spPr>
          <a:xfrm>
            <a:off x="4524480" y="5052960"/>
            <a:ext cx="53816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,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g. overpressure/temperature, leakage, ignition sources, single failure, monitoring, vehicle integration, shut off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onents (container, valve, PRD, filling de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ige Legende 29"/>
          <p:cNvSpPr/>
          <p:nvPr/>
        </p:nvSpPr>
        <p:spPr>
          <a:xfrm>
            <a:off x="4524480" y="6191280"/>
            <a:ext cx="5381640" cy="642960"/>
          </a:xfrm>
          <a:prstGeom prst="wedgeRectCallout">
            <a:avLst>
              <a:gd name="adj1" fmla="val -65254"/>
              <a:gd name="adj2" fmla="val -10713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ument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umentation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F62C-7EF6-4321-ABEA-FE17D7836547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17A-DA6F-49AB-A37E-1AA5E0C6C32E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feld 4"/>
          <p:cNvSpPr/>
          <p:nvPr/>
        </p:nvSpPr>
        <p:spPr>
          <a:xfrm>
            <a:off x="556200" y="2355840"/>
            <a:ext cx="585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I. Vehicle fuel system integrity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ope and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ments and test procedures - in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ments and test procedures - post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eck 5"/>
          <p:cNvSpPr/>
          <p:nvPr/>
        </p:nvSpPr>
        <p:spPr>
          <a:xfrm>
            <a:off x="554040" y="976320"/>
            <a:ext cx="54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sal: Part II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ments and test procedur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limitation of 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eckige Legende 6"/>
          <p:cNvSpPr/>
          <p:nvPr/>
        </p:nvSpPr>
        <p:spPr>
          <a:xfrm>
            <a:off x="7310520" y="2405160"/>
            <a:ext cx="2357280" cy="1928880"/>
          </a:xfrm>
          <a:prstGeom prst="wedgeRectCallout">
            <a:avLst>
              <a:gd name="adj1" fmla="val -139912"/>
              <a:gd name="adj2" fmla="val -4073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ICA-Propo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rth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equire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sible insp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ghtn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3C2-4C04-4CF1-BC17-48379B118A4B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9DDC-F5DA-4F55-A920-5BAA96576C08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4"/>
          <p:cNvSpPr/>
          <p:nvPr/>
        </p:nvSpPr>
        <p:spPr>
          <a:xfrm>
            <a:off x="523800" y="1119240"/>
            <a:ext cx="591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II. Electric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ope and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ments and test procedures - in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quirements and test procedures - post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1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2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condition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ige Legende 5"/>
          <p:cNvSpPr/>
          <p:nvPr/>
        </p:nvSpPr>
        <p:spPr>
          <a:xfrm>
            <a:off x="7310520" y="2619360"/>
            <a:ext cx="2143080" cy="1214280"/>
          </a:xfrm>
          <a:prstGeom prst="wedgeRectCallout">
            <a:avLst>
              <a:gd name="adj1" fmla="val -183425"/>
              <a:gd name="adj2" fmla="val -14487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4048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me Thoughts on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 Approval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GTR-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4048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 Approva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14F60A3-0D4D-4D0C-9B75-E899CFE3B147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ABC4CDC-A0D8-4CF8-9A6F-26D6E5F4A06F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feld 4"/>
          <p:cNvSpPr/>
          <p:nvPr/>
        </p:nvSpPr>
        <p:spPr>
          <a:xfrm>
            <a:off x="611640" y="1762200"/>
            <a:ext cx="57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e of the most important Rules in Safety Techn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5"/>
          <p:cNvSpPr/>
          <p:nvPr/>
        </p:nvSpPr>
        <p:spPr>
          <a:xfrm>
            <a:off x="993240" y="3048120"/>
            <a:ext cx="807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cc"/>
                </a:solidFill>
                <a:latin typeface="Arial"/>
              </a:rPr>
              <a:t>Prevention is better than c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583F1BB-BBB0-4898-87A5-7EC3658FACB7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6872842-4662-4196-B928-9B64CD5BD3FE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4"/>
          <p:cNvSpPr/>
          <p:nvPr/>
        </p:nvSpPr>
        <p:spPr>
          <a:xfrm>
            <a:off x="452520" y="1476360"/>
            <a:ext cx="878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me experiences in the last 5 years with CNG- and LPG-vehicles in Eur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6 burst incidents (Saarland-CNG, Recklinghausen-LPG, Emmendingen-LPG, Speyer-LPG, Brescia-CNG, France-C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easons: position of PRD, LPG-tank was filled at a CNG-station, missing PRD, failing solenoid valve, too small orifice of PRD-ven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crash incidents with LPG-vehicles (Rinteln, Dülmen, Thalwil-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burst of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1" descr=""/>
          <p:cNvPicPr/>
          <p:nvPr/>
        </p:nvPicPr>
        <p:blipFill>
          <a:blip r:embed="rId1"/>
          <a:stretch/>
        </p:blipFill>
        <p:spPr>
          <a:xfrm>
            <a:off x="488880" y="4626000"/>
            <a:ext cx="3892680" cy="1922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2"/>
          <a:stretch/>
        </p:blipFill>
        <p:spPr>
          <a:xfrm>
            <a:off x="4595760" y="4162320"/>
            <a:ext cx="1997280" cy="267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Tank4"/>
          <p:cNvPicPr/>
          <p:nvPr/>
        </p:nvPicPr>
        <p:blipFill>
          <a:blip r:embed="rId3"/>
          <a:stretch/>
        </p:blipFill>
        <p:spPr>
          <a:xfrm>
            <a:off x="6784920" y="4476600"/>
            <a:ext cx="2732040" cy="204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EC7B2B3-D837-4B15-9B63-BBD4442B2BDD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52D847-3283-43B0-9D37-5C24D2183EDD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Gleichschenkliges Dreieck 6"/>
          <p:cNvSpPr/>
          <p:nvPr/>
        </p:nvSpPr>
        <p:spPr>
          <a:xfrm>
            <a:off x="2238480" y="169056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Gleichschenkliges Dreieck 7"/>
          <p:cNvSpPr/>
          <p:nvPr/>
        </p:nvSpPr>
        <p:spPr>
          <a:xfrm>
            <a:off x="1738440" y="19051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Gleichschenkliges Dreieck 5"/>
          <p:cNvSpPr/>
          <p:nvPr/>
        </p:nvSpPr>
        <p:spPr>
          <a:xfrm>
            <a:off x="1238400" y="21193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, Characteristics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tibility, D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essure, Temperature, Media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leration, Ambient Conditi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feld 11"/>
          <p:cNvSpPr/>
          <p:nvPr/>
        </p:nvSpPr>
        <p:spPr>
          <a:xfrm>
            <a:off x="4314600" y="2405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12"/>
          <p:cNvSpPr/>
          <p:nvPr/>
        </p:nvSpPr>
        <p:spPr>
          <a:xfrm>
            <a:off x="4781520" y="21193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feld 13"/>
          <p:cNvSpPr/>
          <p:nvPr/>
        </p:nvSpPr>
        <p:spPr>
          <a:xfrm>
            <a:off x="5265360" y="1889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uppieren 14"/>
          <p:cNvGrpSpPr/>
          <p:nvPr/>
        </p:nvGrpSpPr>
        <p:grpSpPr>
          <a:xfrm>
            <a:off x="666720" y="2405160"/>
            <a:ext cx="6494400" cy="3924360"/>
            <a:chOff x="666720" y="2405160"/>
            <a:chExt cx="6494400" cy="3924360"/>
          </a:xfrm>
        </p:grpSpPr>
        <p:sp>
          <p:nvSpPr>
            <p:cNvPr id="133" name="Gleichschenkliges Dreieck 4"/>
            <p:cNvSpPr/>
            <p:nvPr/>
          </p:nvSpPr>
          <p:spPr>
            <a:xfrm>
              <a:off x="666720" y="240516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feld 9"/>
            <p:cNvSpPr/>
            <p:nvPr/>
          </p:nvSpPr>
          <p:spPr>
            <a:xfrm>
              <a:off x="3033000" y="3691080"/>
              <a:ext cx="162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feld 10"/>
            <p:cNvSpPr/>
            <p:nvPr/>
          </p:nvSpPr>
          <p:spPr>
            <a:xfrm>
              <a:off x="3789720" y="2572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erade Verbindung 18"/>
          <p:cNvSpPr/>
          <p:nvPr/>
        </p:nvSpPr>
        <p:spPr>
          <a:xfrm>
            <a:off x="2019240" y="4691160"/>
            <a:ext cx="379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pieren 14"/>
          <p:cNvGrpSpPr/>
          <p:nvPr/>
        </p:nvGrpSpPr>
        <p:grpSpPr>
          <a:xfrm>
            <a:off x="666720" y="2405160"/>
            <a:ext cx="6494400" cy="3924360"/>
            <a:chOff x="666720" y="2405160"/>
            <a:chExt cx="6494400" cy="3924360"/>
          </a:xfrm>
        </p:grpSpPr>
        <p:sp>
          <p:nvSpPr>
            <p:cNvPr id="139" name="Gleichschenkliges Dreieck 4"/>
            <p:cNvSpPr/>
            <p:nvPr/>
          </p:nvSpPr>
          <p:spPr>
            <a:xfrm>
              <a:off x="666720" y="240516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feld 9"/>
            <p:cNvSpPr/>
            <p:nvPr/>
          </p:nvSpPr>
          <p:spPr>
            <a:xfrm>
              <a:off x="3032640" y="3905280"/>
              <a:ext cx="180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feld 10"/>
            <p:cNvSpPr/>
            <p:nvPr/>
          </p:nvSpPr>
          <p:spPr>
            <a:xfrm>
              <a:off x="3789720" y="2572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7212EB7-E391-44C6-A599-DA77A0B8948B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60B457B-C574-4044-8B53-E0FC9785B4D4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leichschenkliges Dreieck 6"/>
          <p:cNvSpPr/>
          <p:nvPr/>
        </p:nvSpPr>
        <p:spPr>
          <a:xfrm>
            <a:off x="2238480" y="169056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leichschenkliges Dreieck 7"/>
          <p:cNvSpPr/>
          <p:nvPr/>
        </p:nvSpPr>
        <p:spPr>
          <a:xfrm>
            <a:off x="1738440" y="19051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feld 12"/>
          <p:cNvSpPr/>
          <p:nvPr/>
        </p:nvSpPr>
        <p:spPr>
          <a:xfrm>
            <a:off x="4781520" y="21193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feld 13"/>
          <p:cNvSpPr/>
          <p:nvPr/>
        </p:nvSpPr>
        <p:spPr>
          <a:xfrm>
            <a:off x="5265360" y="1889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uppieren 20"/>
          <p:cNvGrpSpPr/>
          <p:nvPr/>
        </p:nvGrpSpPr>
        <p:grpSpPr>
          <a:xfrm>
            <a:off x="1238400" y="2119320"/>
            <a:ext cx="6494400" cy="3924360"/>
            <a:chOff x="1238400" y="2119320"/>
            <a:chExt cx="6494400" cy="3924360"/>
          </a:xfrm>
        </p:grpSpPr>
        <p:sp>
          <p:nvSpPr>
            <p:cNvPr id="151" name="Gleichschenkliges Dreieck 5"/>
            <p:cNvSpPr/>
            <p:nvPr/>
          </p:nvSpPr>
          <p:spPr>
            <a:xfrm>
              <a:off x="1238400" y="211932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Component Safe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feld 11"/>
            <p:cNvSpPr/>
            <p:nvPr/>
          </p:nvSpPr>
          <p:spPr>
            <a:xfrm>
              <a:off x="4313880" y="24048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feld 16"/>
            <p:cNvSpPr/>
            <p:nvPr/>
          </p:nvSpPr>
          <p:spPr>
            <a:xfrm>
              <a:off x="2666880" y="358632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System Saf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Gerade Verbindung 18"/>
            <p:cNvSpPr/>
            <p:nvPr/>
          </p:nvSpPr>
          <p:spPr>
            <a:xfrm flipV="1">
              <a:off x="2523960" y="4476960"/>
              <a:ext cx="392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uppieren 14"/>
          <p:cNvGrpSpPr/>
          <p:nvPr/>
        </p:nvGrpSpPr>
        <p:grpSpPr>
          <a:xfrm>
            <a:off x="666720" y="2405160"/>
            <a:ext cx="6494400" cy="3924360"/>
            <a:chOff x="666720" y="2405160"/>
            <a:chExt cx="6494400" cy="3924360"/>
          </a:xfrm>
        </p:grpSpPr>
        <p:sp>
          <p:nvSpPr>
            <p:cNvPr id="156" name="Gleichschenkliges Dreieck 4"/>
            <p:cNvSpPr/>
            <p:nvPr/>
          </p:nvSpPr>
          <p:spPr>
            <a:xfrm>
              <a:off x="666720" y="240516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feld 9"/>
            <p:cNvSpPr/>
            <p:nvPr/>
          </p:nvSpPr>
          <p:spPr>
            <a:xfrm>
              <a:off x="3032640" y="3905280"/>
              <a:ext cx="180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feld 10"/>
            <p:cNvSpPr/>
            <p:nvPr/>
          </p:nvSpPr>
          <p:spPr>
            <a:xfrm>
              <a:off x="3789720" y="25725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0F07623-1557-4348-9819-51FFCCC880C6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478DE3-8DA5-4E86-AE2F-E660B3A6AB43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Gleichschenkliges Dreieck 6"/>
          <p:cNvSpPr/>
          <p:nvPr/>
        </p:nvSpPr>
        <p:spPr>
          <a:xfrm>
            <a:off x="2238480" y="169056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d2d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Gleichschenkliges Dreieck 5"/>
          <p:cNvSpPr/>
          <p:nvPr/>
        </p:nvSpPr>
        <p:spPr>
          <a:xfrm>
            <a:off x="1238400" y="21193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, Characteristics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tibility, D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essure, Temperature, Media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leration, Ambient Conditi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1"/>
          <p:cNvSpPr/>
          <p:nvPr/>
        </p:nvSpPr>
        <p:spPr>
          <a:xfrm>
            <a:off x="4314600" y="2405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feld 13"/>
          <p:cNvSpPr/>
          <p:nvPr/>
        </p:nvSpPr>
        <p:spPr>
          <a:xfrm>
            <a:off x="5265360" y="1889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16"/>
          <p:cNvSpPr/>
          <p:nvPr/>
        </p:nvSpPr>
        <p:spPr>
          <a:xfrm>
            <a:off x="3667320" y="3048120"/>
            <a:ext cx="17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 Safe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uppieren 20"/>
          <p:cNvGrpSpPr/>
          <p:nvPr/>
        </p:nvGrpSpPr>
        <p:grpSpPr>
          <a:xfrm>
            <a:off x="1738440" y="1905120"/>
            <a:ext cx="6494400" cy="3924360"/>
            <a:chOff x="1738440" y="1905120"/>
            <a:chExt cx="6494400" cy="3924360"/>
          </a:xfrm>
        </p:grpSpPr>
        <p:sp>
          <p:nvSpPr>
            <p:cNvPr id="169" name="Gleichschenkliges Dreieck 7"/>
            <p:cNvSpPr/>
            <p:nvPr/>
          </p:nvSpPr>
          <p:spPr>
            <a:xfrm>
              <a:off x="1738440" y="190512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Component T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feld 12"/>
            <p:cNvSpPr/>
            <p:nvPr/>
          </p:nvSpPr>
          <p:spPr>
            <a:xfrm>
              <a:off x="4780800" y="21193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60606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feld 17"/>
            <p:cNvSpPr/>
            <p:nvPr/>
          </p:nvSpPr>
          <p:spPr>
            <a:xfrm>
              <a:off x="3896280" y="2899440"/>
              <a:ext cx="221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System Inspe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Gerade Verbindung 19"/>
            <p:cNvSpPr/>
            <p:nvPr/>
          </p:nvSpPr>
          <p:spPr>
            <a:xfrm>
              <a:off x="3079080" y="4262760"/>
              <a:ext cx="38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uppieren 14"/>
          <p:cNvGrpSpPr/>
          <p:nvPr/>
        </p:nvGrpSpPr>
        <p:grpSpPr>
          <a:xfrm>
            <a:off x="744480" y="2333520"/>
            <a:ext cx="6494400" cy="3924360"/>
            <a:chOff x="744480" y="2333520"/>
            <a:chExt cx="6494400" cy="3924360"/>
          </a:xfrm>
        </p:grpSpPr>
        <p:sp>
          <p:nvSpPr>
            <p:cNvPr id="174" name="Gleichschenkliges Dreieck 4"/>
            <p:cNvSpPr/>
            <p:nvPr/>
          </p:nvSpPr>
          <p:spPr>
            <a:xfrm>
              <a:off x="744480" y="2333520"/>
              <a:ext cx="6494400" cy="39243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9"/>
            <p:cNvSpPr/>
            <p:nvPr/>
          </p:nvSpPr>
          <p:spPr>
            <a:xfrm>
              <a:off x="3110400" y="3833640"/>
              <a:ext cx="180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feld 10"/>
            <p:cNvSpPr/>
            <p:nvPr/>
          </p:nvSpPr>
          <p:spPr>
            <a:xfrm>
              <a:off x="3867480" y="25009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Datumsplatzhalter 1"/>
          <p:cNvSpPr/>
          <p:nvPr/>
        </p:nvSpPr>
        <p:spPr>
          <a:xfrm>
            <a:off x="8674200" y="6858000"/>
            <a:ext cx="761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709E948-0C18-44C2-83AD-1398F96D150F}" type="datetime">
              <a:rPr b="0" lang="de-DE" sz="700" spc="-1" strike="noStrike">
                <a:solidFill>
                  <a:srgbClr val="000000"/>
                </a:solidFill>
                <a:latin typeface="Arial Narrow"/>
              </a:rPr>
              <a:t>29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2"/>
          <p:cNvSpPr/>
          <p:nvPr/>
        </p:nvSpPr>
        <p:spPr>
          <a:xfrm>
            <a:off x="3568680" y="6858000"/>
            <a:ext cx="52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 Narrow"/>
              </a:rPr>
              <a:t>Abteilun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9232920" y="6858000"/>
            <a:ext cx="368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D6BB82D-7312-45AD-AC5D-AE975F9FC348}" type="slidenum">
              <a:rPr b="0" lang="de-DE" sz="7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leichschenkliges Dreieck 5"/>
          <p:cNvSpPr/>
          <p:nvPr/>
        </p:nvSpPr>
        <p:spPr>
          <a:xfrm>
            <a:off x="1238400" y="21193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, Characteristics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tibility, D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ressure, Temperature, Media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leration, Ambient Conditi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11"/>
          <p:cNvSpPr/>
          <p:nvPr/>
        </p:nvSpPr>
        <p:spPr>
          <a:xfrm>
            <a:off x="4314600" y="2405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leichschenkliges Dreieck 7"/>
          <p:cNvSpPr/>
          <p:nvPr/>
        </p:nvSpPr>
        <p:spPr>
          <a:xfrm>
            <a:off x="1738440" y="1905120"/>
            <a:ext cx="6494400" cy="3924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2"/>
          <p:cNvSpPr/>
          <p:nvPr/>
        </p:nvSpPr>
        <p:spPr>
          <a:xfrm>
            <a:off x="4781520" y="21193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0606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pieren 20"/>
          <p:cNvGrpSpPr/>
          <p:nvPr/>
        </p:nvGrpSpPr>
        <p:grpSpPr>
          <a:xfrm>
            <a:off x="2238480" y="1695600"/>
            <a:ext cx="6494400" cy="3924000"/>
            <a:chOff x="2238480" y="1695600"/>
            <a:chExt cx="6494400" cy="3924000"/>
          </a:xfrm>
        </p:grpSpPr>
        <p:sp>
          <p:nvSpPr>
            <p:cNvPr id="186" name="Gleichschenkliges Dreieck 6"/>
            <p:cNvSpPr/>
            <p:nvPr/>
          </p:nvSpPr>
          <p:spPr>
            <a:xfrm>
              <a:off x="2238480" y="1695600"/>
              <a:ext cx="6494400" cy="3924000"/>
            </a:xfrm>
            <a:prstGeom prst="triangle">
              <a:avLst>
                <a:gd name="adj" fmla="val 50000"/>
              </a:avLst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Accident Preven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feld 13"/>
            <p:cNvSpPr/>
            <p:nvPr/>
          </p:nvSpPr>
          <p:spPr>
            <a:xfrm>
              <a:off x="5270400" y="196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606060"/>
                  </a:solidFill>
                  <a:latin typeface="Arial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feld 17"/>
            <p:cNvSpPr/>
            <p:nvPr/>
          </p:nvSpPr>
          <p:spPr>
            <a:xfrm>
              <a:off x="4117320" y="2950920"/>
              <a:ext cx="278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Limitation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Consequen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Gerade Verbindung 19"/>
            <p:cNvSpPr/>
            <p:nvPr/>
          </p:nvSpPr>
          <p:spPr>
            <a:xfrm>
              <a:off x="3524400" y="4119480"/>
              <a:ext cx="39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5:40:29Z</dcterms:created>
  <dc:creator>TÜV SÜD AM Ortenburger</dc:creator>
  <dc:description/>
  <dc:language>en-US</dc:language>
  <cp:lastModifiedBy>Gianotti</cp:lastModifiedBy>
  <dcterms:modified xsi:type="dcterms:W3CDTF">2008-11-27T10:22:40Z</dcterms:modified>
  <cp:revision>165</cp:revision>
  <dc:subject/>
  <dc:title>Folie 1</dc:title>
</cp:coreProperties>
</file>