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CB21-A9F5-4939-A5A0-831E7BCEE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Fuel cell produces no voltage when crash test is conducted using helium surro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isolation by applying test voltage from an external source (megohm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Research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 isolation testing with and without known short circuit and hydrogen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 isolation testing with and without known short circuit, no hydrogen present, using megohm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Possible Out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esting can be conducted with the megohmmeter, without inducing additional damage to either the vehicle propulsion circuit or the test instrument</a:t>
            </a: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4E9-98CD-47AB-8D8B-FD0619DA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B18-2E26-4341-A502-0CD32406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02A-25C0-4040-8215-447B7E38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A65-F4E1-48FD-B27C-00FAEF6C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8919-97C3-4E61-AEDD-E9B20E7F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E497-442C-4EA6-A055-37A5BDD5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28C8-3568-4931-B2F0-1BDF7BD3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305A-6217-444B-A2C2-1EB10744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D318-F1E6-431A-9ACA-56B57EF4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BFB8-6A7E-4204-84E3-FD7B6A2A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912B-592A-4D1E-AABC-79BE25F8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485-8D3A-4610-8F93-4BE8453E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7B6C-EC5B-4C4F-8D46-FE1AFBD1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325D-F981-4820-9980-07EF71A1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BA9C-629E-40ED-8EFA-C787F70F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4F00-0373-475B-BCF8-347D14AF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A166-E92A-49D7-8A9F-066CD0B5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2DB-55E3-4C2E-B2CE-403918E0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CCB-F923-4118-B8E2-93E6BC66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4B1-3798-45A5-9093-CDF35F64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9D4-3A3B-424C-98F3-888E7F65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1F6-BE32-4788-BD56-2C17B256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261-A600-4176-8BF8-E970F0A5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D0E-195C-4D46-9C76-B9B0D98E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745D-F3CB-4A80-9E7C-E6C4105D9D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of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6E4C-BDD3-487B-A0EE-93835D4D89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of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ydrogen Fuel Cell Vehicle Safe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to Support Rulemaking/GTR Objec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tember 20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304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GS 04 -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aft Deliberative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31C0-5B3E-466F-AF7E-7819DD8DE7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mulative cylinder life cycle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Generate simulated real-world life cycle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E TIR 2579 expected service and durability testing. (pneumatic gas cycling, parking, extreme temperature, flaw, chemical tolerance, burs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procedures developed under contract to DOE/NR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apan considering similar requirements in new standard, JARI 001 upgrad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esearch Task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 results indicate that altering test protocol effects resul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uct life cycle testing on representative hydrogen storage systems, vary test conditions to represent different service condi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ssible Outcom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irement for pneumatic rather than hydraulic pressure cycling test (FMVSS No. 3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irement for post pressure-cycle burst strengt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 Deliberative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BFF8-3D4F-4902-93BB-522D5B6651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parative assessment of fueling options for crash test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eling options advocated by indus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ressure hydrogen (SA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ressure helium (SAE, Jap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 pressure hydrogen (SAE,G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search tas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uct testing to compare container vulnerability to impact at high and low pressure fi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uct leakage tests of hydrogen and helium at high and low pressure fill for a range of cylinder siz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le Outco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ion of most appropriate fill option for assessing pass/fail leakage and fuel system vulnerability per FMVSS crash condi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 Deliberative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EF58-4D35-42D0-85DE-AB547579C0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re safety of proposed leakage limi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ydrogen concentrations exceed lower flammability limit in vehicle compar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search Tas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uct hydrogen ignition tests in the trunk, engine and occupant compartments of vehicles and crash tested ICE vehi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utco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 of the fire safety of proposed leakage limits, which are currently based on the thermal energy equivalent to gaso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 Deliberative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DFC-9B2F-4C1D-A02F-C655274D4B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ical isolation testing in the absence of hydro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el cell produces no voltage when crash test is conducted using helium surrog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 isolation by applying test voltage from an external source (megohmme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search Tas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uct isolation testing with no hydrogen present, using megohm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le Outco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 that testing can be conducted with the megohmmeter, without inducing damage to the vehicle propulsion circu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 Deliberative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21E-BB72-427E-A62A-5827307C06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932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&amp;D Timeline to Support Rulemaking Objectiv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61840" y="1752480"/>
          <a:ext cx="8106120" cy="474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1752480"/>
                    <a:ext cx="810612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 Deliberative Docu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9BC-9736-495C-A949-D7E0C27E8F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du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ocalized flame impingement on hydrogen storage cylind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mulative cylinder life cycle test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15 mont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arative assessment of fueling options for crash testing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15 mont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re safety of proposed leakage lim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12 mont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lectrical isolation testing in the absence of hydroge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12 mont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 Deliberative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138-B916-4CDA-A5E6-DF7622022C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TR Action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ernative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/Rulemak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 Deliberative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002-B1F6-4820-9918-51867E684A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TR Action Pla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CE/TRANS/WP.29/2007/41 (April 2007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in equivalent levels of safety to conventional gasoline vehi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 a global technical regulation concerning hydrogen/fuel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based and does not restrict future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ten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requirements for fuel contai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llowable hydrogen lea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 Deliberative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E02-C7E8-4F33-97B4-85505097C9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fety issues to be address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el system crashworth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drogen leakage lim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 integrity of high voltage fuel cell propulsion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ressure container saf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afety level consistent with gasoline, CNG, conventional electric hybr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VSS Nos. 301, 303, 304, and 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 Deliberative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71D-7598-444E-92B5-9075588399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roaches to address fuel system crashworth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ydrogen leakage lim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ydrogen (SAE) vs. helium surrogate (SAE, Japan, OICA, FMV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 pressure vs. low pressure and scaling up (SA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lectrical integrity of high voltage fuel cell propulsion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ve fuel cell with hydrogen onboard v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active fuel cell, system “off” (SAE, AIAM, Japa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igh pressure container saf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mulative life cycle and extreme use durability (SAE) vs. discrete testing (i.e., FMVSS, CSA/NGV2, HGV2, ISO, EIHP, etc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alized flame impingement (SAE) vs. bonfire (FMVSS, etc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 pressure (FMVSS No. 303) and/or low pressure (SAE,GM) – vulnerability to impact is greater at low press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 Deliberative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873-D7BB-42E2-99A0-35CDFEB11E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ssues Associated with Each Fueling Approach for Crash Tes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igh pressure hydro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Electrical system is operat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Worse case for leak r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oses additional fire haz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igh pressure heli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Consistent with FMVSS Nos. 301, 30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Non-flamm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Surrogate leak rate is slightly differ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Electrical system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s no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perat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ow pressure hydrogen 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Electrical System operat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 Must scale up leak rate to represent worse case at high press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/- Cylinders more vulnerable to impact at low press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 Deliberative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FB0-1F0C-4B26-89E0-9538243470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arch/Rulemaking go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duct research to assess all proposed altern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rm that selected alternative detects potential fail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escribe additional requirements if results indicate safety need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alized flame impingement test replaces bonfire test for hydrogen contain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d post-crash leakage measurement beyond 60 minutes to adjust for reduced flow rate of helium through same sized orif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efer selecting option that is analogous to and consistent with existing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 pressure heli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crash test for both electrical isolation and fuel leak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 Deliberative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B9F-B20D-4167-8AEA-52C5303FE4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arch Tasks to Support Rulemaking/GTR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ocalized flame impingement on hydrogen storage cylin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umulative cylinder life cyc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mparative assessment of fueling options for crash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re safety of proposed leakage lim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lectrical isolation testing in the absence of hydro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 Deliberative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0E1-164D-48CF-B535-09CF4A6E10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ized flame impingement on hydrogen storage cylind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MVSS No. 3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ires bonfire te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ylinder must survive engulfing fire for 20 minutes or vent cont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ocalized flame impingement (SA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l world data indicates Type IV composite cylinders do not vent in localized fi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ck of heat transfer to P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osite loses structural integrity, resulting in catastrophic rupt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esearch Task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ized fire test procedure – Developed by Powertech under contract to Transport Canad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fication testing – Conducted under contract to NHTSA.  Cylinders which have failed in real world fires will be tested and mitigating technologies will be assessed (heat transfer, sensing, shielding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ssible Outcom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irement for localized flame te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 Deliberative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989-B583-42EE-9B30-7B6C9E0A14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20:54:04Z</dcterms:created>
  <dc:creator>Barbara.Hennessey</dc:creator>
  <dc:description/>
  <dc:language>en-US</dc:language>
  <cp:lastModifiedBy>Gianotti</cp:lastModifiedBy>
  <dcterms:modified xsi:type="dcterms:W3CDTF">2008-11-27T07:52:49Z</dcterms:modified>
  <cp:revision>143</cp:revision>
  <dc:subject/>
  <dc:title>Hydrogen Fuel Cell Vehicle Safety</dc:title>
</cp:coreProperties>
</file>