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12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12668" t="83566" r="59819" b="12079"/>
          <a:stretch/>
        </p:blipFill>
        <p:spPr>
          <a:xfrm>
            <a:off x="0" y="6303960"/>
            <a:ext cx="1928880" cy="55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"/>
          <p:cNvGraphicFramePr/>
          <p:nvPr/>
        </p:nvGraphicFramePr>
        <p:xfrm>
          <a:off x="2000160" y="6335640"/>
          <a:ext cx="1584360" cy="4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6335640"/>
                    <a:ext cx="15843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52520" y="260280"/>
            <a:ext cx="4744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866880" y="260280"/>
            <a:ext cx="35532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85720" y="682560"/>
            <a:ext cx="459000" cy="474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987480" y="682560"/>
            <a:ext cx="398520" cy="4748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38240" y="609480"/>
            <a:ext cx="60624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825480" y="152280"/>
            <a:ext cx="3492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79520" y="942840"/>
            <a:ext cx="8912160" cy="32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8696160" y="64152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1d7d"/>
                </a:solidFill>
                <a:latin typeface="Arial Narrow"/>
                <a:ea typeface="굴림"/>
              </a:rPr>
              <a:t>Page </a:t>
            </a:r>
            <a:fld id="{B2331D24-C36B-4C57-AF86-7EB56480CFAF}" type="slidenum">
              <a:rPr b="1" lang="en-US" sz="1200" spc="-1" strike="noStrike">
                <a:solidFill>
                  <a:srgbClr val="2b1d7d"/>
                </a:solidFill>
                <a:latin typeface="Arial Narrow"/>
                <a:ea typeface="굴림"/>
              </a:rPr>
              <a:t>&lt;number&gt;</a:t>
            </a:fld>
            <a:r>
              <a:rPr b="1" lang="en-US" sz="1200" spc="-1" strike="noStrike">
                <a:solidFill>
                  <a:srgbClr val="2b1d7d"/>
                </a:solidFill>
                <a:latin typeface="Arial Narrow"/>
                <a:ea typeface="굴림"/>
              </a:rPr>
              <a:t> of 12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12668" t="83566" r="59819" b="12079"/>
          <a:stretch/>
        </p:blipFill>
        <p:spPr>
          <a:xfrm>
            <a:off x="0" y="6303960"/>
            <a:ext cx="1928880" cy="55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2000160" y="6335640"/>
          <a:ext cx="1584360" cy="4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6335640"/>
                    <a:ext cx="15843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88880" y="781200"/>
            <a:ext cx="8928000" cy="5329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628640"/>
            <a:ext cx="9906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search Activities of HFCV 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ule-making in Korea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403440"/>
            <a:ext cx="990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. 24 ~ 26, 2008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5" name=""/>
          <p:cNvSpPr/>
          <p:nvPr/>
        </p:nvSpPr>
        <p:spPr>
          <a:xfrm>
            <a:off x="614160" y="907920"/>
            <a:ext cx="23292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으뜸체"/>
              </a:rPr>
              <a:t>4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  <a:ea typeface="으뜸체"/>
              </a:rPr>
              <a:t>th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으뜸체"/>
              </a:rPr>
              <a:t>HFCV-SGS Meeting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363920"/>
            <a:ext cx="990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Ministry of Land, Transport and Maritime Affairs, 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Korea Transportation Safety Authority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(Korea Automobile Testing and Research Institute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" name=""/>
          <p:cNvSpPr/>
          <p:nvPr/>
        </p:nvSpPr>
        <p:spPr>
          <a:xfrm>
            <a:off x="6176880" y="907920"/>
            <a:ext cx="3024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헤드라인M"/>
              </a:rPr>
              <a:t>SGS 4 - 06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745240" y="985680"/>
            <a:ext cx="2952720" cy="2044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734080" y="3062160"/>
            <a:ext cx="2963880" cy="2052720"/>
          </a:xfrm>
          <a:prstGeom prst="rect">
            <a:avLst/>
          </a:prstGeom>
          <a:ln w="0">
            <a:noFill/>
          </a:ln>
        </p:spPr>
      </p:pic>
      <p:sp>
        <p:nvSpPr>
          <p:cNvPr id="271" name="타원 20"/>
          <p:cNvSpPr/>
          <p:nvPr/>
        </p:nvSpPr>
        <p:spPr>
          <a:xfrm>
            <a:off x="1209600" y="1268280"/>
            <a:ext cx="3629160" cy="3457800"/>
          </a:xfrm>
          <a:prstGeom prst="ellipse">
            <a:avLst/>
          </a:prstGeom>
          <a:noFill/>
          <a:ln w="63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72" name="_x69608416" descr="EMB00000ba8259a"/>
          <p:cNvPicPr/>
          <p:nvPr/>
        </p:nvPicPr>
        <p:blipFill>
          <a:blip r:embed="rId3"/>
          <a:stretch/>
        </p:blipFill>
        <p:spPr>
          <a:xfrm>
            <a:off x="3287880" y="3429000"/>
            <a:ext cx="1463400" cy="917640"/>
          </a:xfrm>
          <a:prstGeom prst="rect">
            <a:avLst/>
          </a:prstGeom>
          <a:ln w="0">
            <a:noFill/>
          </a:ln>
        </p:spPr>
      </p:pic>
      <p:pic>
        <p:nvPicPr>
          <p:cNvPr id="273" name="_x35075272" descr="EMB00000ba82599"/>
          <p:cNvPicPr/>
          <p:nvPr/>
        </p:nvPicPr>
        <p:blipFill>
          <a:blip r:embed="rId4"/>
          <a:stretch/>
        </p:blipFill>
        <p:spPr>
          <a:xfrm>
            <a:off x="1246320" y="1495440"/>
            <a:ext cx="1928520" cy="901800"/>
          </a:xfrm>
          <a:prstGeom prst="rect">
            <a:avLst/>
          </a:prstGeom>
          <a:ln w="0">
            <a:noFill/>
          </a:ln>
        </p:spPr>
      </p:pic>
      <p:pic>
        <p:nvPicPr>
          <p:cNvPr id="274" name="_x69729984" descr="EMB00000ba8258a"/>
          <p:cNvPicPr/>
          <p:nvPr/>
        </p:nvPicPr>
        <p:blipFill>
          <a:blip r:embed="rId5"/>
          <a:stretch/>
        </p:blipFill>
        <p:spPr>
          <a:xfrm>
            <a:off x="3274920" y="1495440"/>
            <a:ext cx="1397160" cy="1273320"/>
          </a:xfrm>
          <a:prstGeom prst="rect">
            <a:avLst/>
          </a:prstGeom>
          <a:ln w="0">
            <a:noFill/>
          </a:ln>
        </p:spPr>
      </p:pic>
      <p:pic>
        <p:nvPicPr>
          <p:cNvPr id="275" name="_x159354400" descr="EMB00000ba82596"/>
          <p:cNvPicPr/>
          <p:nvPr/>
        </p:nvPicPr>
        <p:blipFill>
          <a:blip r:embed="rId6"/>
          <a:stretch/>
        </p:blipFill>
        <p:spPr>
          <a:xfrm>
            <a:off x="1440000" y="3063960"/>
            <a:ext cx="1110960" cy="1307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3"/>
          <p:cNvPicPr/>
          <p:nvPr/>
        </p:nvPicPr>
        <p:blipFill>
          <a:blip r:embed="rId7"/>
          <a:srcRect l="61014" t="0" r="20824" b="3415"/>
          <a:stretch/>
        </p:blipFill>
        <p:spPr>
          <a:xfrm>
            <a:off x="5003640" y="2444760"/>
            <a:ext cx="525600" cy="1109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444840" y="4797360"/>
            <a:ext cx="6351480" cy="196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come : Test Results from Fuel Efficiency and Fuel-cell Stack Stabilit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Arial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Perform coast down test for driving resistance data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Obtain basic data for dynamometer input for fuel consumption test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Establish measurement system of hydrogen consumption rate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Basic study of fail safety mode in HFCV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0000cc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 Year’s Results </a:t>
            </a:r>
            <a:r>
              <a:rPr b="0" lang="en-US" sz="2000" spc="-1" strike="noStrike">
                <a:solidFill>
                  <a:srgbClr val="0000cc"/>
                </a:solidFill>
                <a:latin typeface="Arial Black"/>
              </a:rPr>
              <a:t>(Vehicle Operation Safety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344520" y="1190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uel Efficiency Test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76160" y="4437000"/>
            <a:ext cx="8640720" cy="147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come : Noise and EMC analysis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Noise analysis in the low frequency band (below 30MHz)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EMC research in HFCV and electrical system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Develop methodology of the electric safety assessment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81" name="그림 8" descr="civic.jpg"/>
          <p:cNvPicPr/>
          <p:nvPr/>
        </p:nvPicPr>
        <p:blipFill>
          <a:blip r:embed="rId1"/>
          <a:stretch/>
        </p:blipFill>
        <p:spPr>
          <a:xfrm>
            <a:off x="992160" y="1197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82" name="타원 10"/>
          <p:cNvSpPr/>
          <p:nvPr/>
        </p:nvSpPr>
        <p:spPr>
          <a:xfrm rot="2038800">
            <a:off x="5643360" y="2585880"/>
            <a:ext cx="1893600" cy="601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4599000" y="981000"/>
          <a:ext cx="5178240" cy="33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99000" y="981000"/>
                    <a:ext cx="517824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0000cc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 Year’s Results </a:t>
            </a:r>
            <a:r>
              <a:rPr b="0" lang="en-US" sz="2000" spc="-1" strike="noStrike">
                <a:solidFill>
                  <a:srgbClr val="0000cc"/>
                </a:solidFill>
                <a:latin typeface="Arial Black"/>
              </a:rPr>
              <a:t>(Electric Safety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6" name=""/>
          <p:cNvSpPr/>
          <p:nvPr/>
        </p:nvSpPr>
        <p:spPr>
          <a:xfrm>
            <a:off x="3152880" y="4653000"/>
            <a:ext cx="115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7" name=""/>
          <p:cNvSpPr/>
          <p:nvPr/>
        </p:nvSpPr>
        <p:spPr>
          <a:xfrm>
            <a:off x="3152880" y="465300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8" name=""/>
          <p:cNvSpPr/>
          <p:nvPr/>
        </p:nvSpPr>
        <p:spPr>
          <a:xfrm>
            <a:off x="3081240" y="501336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9" name=""/>
          <p:cNvSpPr/>
          <p:nvPr/>
        </p:nvSpPr>
        <p:spPr>
          <a:xfrm>
            <a:off x="4592520" y="5013360"/>
            <a:ext cx="403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0" name=""/>
          <p:cNvSpPr/>
          <p:nvPr/>
        </p:nvSpPr>
        <p:spPr>
          <a:xfrm>
            <a:off x="1424160" y="5373720"/>
            <a:ext cx="727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2</a:t>
            </a:r>
            <a:r>
              <a:rPr b="0" lang="en-US" sz="2800" spc="-1" strike="noStrike" baseline="30000">
                <a:solidFill>
                  <a:srgbClr val="0000cc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 Year’s Research Plans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776160" y="907920"/>
            <a:ext cx="7921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704880" y="1197000"/>
            <a:ext cx="8840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2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ulemaking, Policy and Harmonization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ticipate in HFCV-SGE, SGS and ELSA activities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Analyze severe crash accident data in Korea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355680" indent="-355680">
              <a:lnSpc>
                <a:spcPct val="12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ydrogen Safet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ind installation position of container and valves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Prepare mock-up for rear impact test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355680" indent="-355680">
              <a:lnSpc>
                <a:spcPct val="12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ehicle Operation Safet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velop a method to measure fuel efficienc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Develop a test method of fail safety mode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355680" indent="-3556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lectric Safet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HY견고딕"/>
              </a:rPr>
              <a:t>Analysis of electromagnetic compatibility in HFCV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alysis of electric shock and fire possibilities, etc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340200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9" name="Line 3"/>
          <p:cNvSpPr/>
          <p:nvPr/>
        </p:nvSpPr>
        <p:spPr>
          <a:xfrm>
            <a:off x="819144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340200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819144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286080" y="395604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Research Period and Budge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880" y="1197000"/>
            <a:ext cx="8928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Title : Development of Safety Assessment Procedures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of HFC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55680" indent="-3556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Research Period : Dec. 2007 ~ Sept. 2012 (4 years and 9 month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Y견고딕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year : Dec. 2007 ~ Sept. 2008 (9 month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HY견고딕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year : Oct. 2008 ~ Sept. 2009 (1 year), 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55680" indent="-3556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Total Budget : $30 million (Government $15million, Industry $15millio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ear : $3mill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: $4mill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0">
              <a:lnSpc>
                <a:spcPct val="125000"/>
              </a:lnSpc>
              <a:spcBef>
                <a:spcPts val="24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55680" indent="-3556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Main Research Institute : KATRI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Cooperation with  5 universities, 2 industries and 1 public corpor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3402000" y="363384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191440" y="363384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3402000" y="363384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191440" y="363384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286080" y="358632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0" name="AutoShape 23"/>
          <p:cNvSpPr/>
          <p:nvPr/>
        </p:nvSpPr>
        <p:spPr>
          <a:xfrm>
            <a:off x="108000" y="2660760"/>
            <a:ext cx="2287440" cy="519120"/>
          </a:xfrm>
          <a:prstGeom prst="roundRect">
            <a:avLst>
              <a:gd name="adj" fmla="val 16667"/>
            </a:avLst>
          </a:prstGeom>
          <a:solidFill>
            <a:srgbClr val="cc99ff">
              <a:alpha val="7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HY견고딕"/>
              </a:rPr>
              <a:t>Rulemaking, Policy and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HY견고딕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HY견고딕"/>
              </a:rPr>
              <a:t>Harmonization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1243080" y="2405160"/>
            <a:ext cx="0" cy="214200"/>
          </a:xfrm>
          <a:prstGeom prst="line">
            <a:avLst/>
          </a:prstGeom>
          <a:ln w="316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2" name="Line 32"/>
          <p:cNvSpPr/>
          <p:nvPr/>
        </p:nvSpPr>
        <p:spPr>
          <a:xfrm>
            <a:off x="6211800" y="3197160"/>
            <a:ext cx="1800" cy="25416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3" name="Line 44"/>
          <p:cNvSpPr/>
          <p:nvPr/>
        </p:nvSpPr>
        <p:spPr>
          <a:xfrm>
            <a:off x="3692520" y="3197160"/>
            <a:ext cx="1440" cy="25416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4" name="Line 47"/>
          <p:cNvSpPr/>
          <p:nvPr/>
        </p:nvSpPr>
        <p:spPr>
          <a:xfrm>
            <a:off x="1243080" y="3197160"/>
            <a:ext cx="1440" cy="25416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104760" y="3468600"/>
            <a:ext cx="2349360" cy="2768760"/>
          </a:xfrm>
          <a:prstGeom prst="rect">
            <a:avLst/>
          </a:prstGeom>
          <a:solidFill>
            <a:srgbClr val="ffff99">
              <a:alpha val="75000"/>
            </a:srgbClr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080" bIns="4608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recent trend of regulation system and policy for HFCV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tional harmonization of safety standards for HFCV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search for safety management, rescue system and recycling plan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6" name="Line 57"/>
          <p:cNvSpPr/>
          <p:nvPr/>
        </p:nvSpPr>
        <p:spPr>
          <a:xfrm flipH="1">
            <a:off x="1243080" y="2405160"/>
            <a:ext cx="7416720" cy="0"/>
          </a:xfrm>
          <a:prstGeom prst="line">
            <a:avLst/>
          </a:prstGeom>
          <a:ln w="316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7" name="Line 59"/>
          <p:cNvSpPr/>
          <p:nvPr/>
        </p:nvSpPr>
        <p:spPr>
          <a:xfrm>
            <a:off x="3692520" y="2405160"/>
            <a:ext cx="0" cy="242640"/>
          </a:xfrm>
          <a:prstGeom prst="line">
            <a:avLst/>
          </a:prstGeom>
          <a:ln w="316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8" name="Line 61"/>
          <p:cNvSpPr/>
          <p:nvPr/>
        </p:nvSpPr>
        <p:spPr>
          <a:xfrm>
            <a:off x="6188040" y="2405160"/>
            <a:ext cx="0" cy="214200"/>
          </a:xfrm>
          <a:prstGeom prst="line">
            <a:avLst/>
          </a:prstGeom>
          <a:ln w="316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9" name="Line 65"/>
          <p:cNvSpPr/>
          <p:nvPr/>
        </p:nvSpPr>
        <p:spPr>
          <a:xfrm>
            <a:off x="8659800" y="3197160"/>
            <a:ext cx="1440" cy="25416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0" name="Line 66"/>
          <p:cNvSpPr/>
          <p:nvPr/>
        </p:nvSpPr>
        <p:spPr>
          <a:xfrm>
            <a:off x="8659800" y="2405160"/>
            <a:ext cx="0" cy="214200"/>
          </a:xfrm>
          <a:prstGeom prst="line">
            <a:avLst/>
          </a:prstGeom>
          <a:ln w="316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1" name="AutoShape 70"/>
          <p:cNvSpPr/>
          <p:nvPr/>
        </p:nvSpPr>
        <p:spPr>
          <a:xfrm>
            <a:off x="1963800" y="1197000"/>
            <a:ext cx="5400720" cy="865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HY견고딕"/>
              </a:rPr>
              <a:t>KATRI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HY견고딕"/>
              </a:rPr>
              <a:t>(Korea Automobile Testing &amp; Research Institute)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2" name="Line 72"/>
          <p:cNvSpPr/>
          <p:nvPr/>
        </p:nvSpPr>
        <p:spPr>
          <a:xfrm>
            <a:off x="4627440" y="2060640"/>
            <a:ext cx="0" cy="358560"/>
          </a:xfrm>
          <a:prstGeom prst="line">
            <a:avLst/>
          </a:prstGeom>
          <a:ln w="316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3" name="AutoShape 76"/>
          <p:cNvSpPr/>
          <p:nvPr/>
        </p:nvSpPr>
        <p:spPr>
          <a:xfrm>
            <a:off x="2540160" y="2671920"/>
            <a:ext cx="2295360" cy="519120"/>
          </a:xfrm>
          <a:prstGeom prst="roundRect">
            <a:avLst>
              <a:gd name="adj" fmla="val 16667"/>
            </a:avLst>
          </a:prstGeom>
          <a:solidFill>
            <a:srgbClr val="cc99ff">
              <a:alpha val="7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HY견고딕"/>
              </a:rPr>
              <a:t>Hydrogen Safety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4" name="AutoShape 77"/>
          <p:cNvSpPr/>
          <p:nvPr/>
        </p:nvSpPr>
        <p:spPr>
          <a:xfrm>
            <a:off x="4987800" y="2671920"/>
            <a:ext cx="2341800" cy="519120"/>
          </a:xfrm>
          <a:prstGeom prst="roundRect">
            <a:avLst>
              <a:gd name="adj" fmla="val 16667"/>
            </a:avLst>
          </a:prstGeom>
          <a:solidFill>
            <a:srgbClr val="cc99ff">
              <a:alpha val="7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HY헤드라인M"/>
              </a:rPr>
              <a:t>Vehicle Operation Safety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5" name="AutoShape 78"/>
          <p:cNvSpPr/>
          <p:nvPr/>
        </p:nvSpPr>
        <p:spPr>
          <a:xfrm>
            <a:off x="7435800" y="2676600"/>
            <a:ext cx="2392560" cy="519120"/>
          </a:xfrm>
          <a:prstGeom prst="roundRect">
            <a:avLst>
              <a:gd name="adj" fmla="val 16667"/>
            </a:avLst>
          </a:prstGeom>
          <a:solidFill>
            <a:srgbClr val="cc99ff">
              <a:alpha val="75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lectric Safety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6" name="Rectangle 79"/>
          <p:cNvSpPr/>
          <p:nvPr/>
        </p:nvSpPr>
        <p:spPr>
          <a:xfrm>
            <a:off x="2522520" y="3479760"/>
            <a:ext cx="2349360" cy="2757600"/>
          </a:xfrm>
          <a:prstGeom prst="rect">
            <a:avLst/>
          </a:prstGeom>
          <a:solidFill>
            <a:srgbClr val="ffff99">
              <a:alpha val="75000"/>
            </a:srgbClr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080" bIns="46080" anchor="t">
            <a:noAutofit/>
          </a:bodyPr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for hydrogen  storage and supply system 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fety assessment of  vehicle safety  from  charge station while  charging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7" name="Rectangle 80"/>
          <p:cNvSpPr/>
          <p:nvPr/>
        </p:nvSpPr>
        <p:spPr>
          <a:xfrm>
            <a:off x="5008680" y="3489480"/>
            <a:ext cx="2349360" cy="2747880"/>
          </a:xfrm>
          <a:prstGeom prst="rect">
            <a:avLst/>
          </a:prstGeom>
          <a:solidFill>
            <a:srgbClr val="ffff99">
              <a:alpha val="75000"/>
            </a:srgbClr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080" bIns="46080" anchor="t">
            <a:noAutofit/>
          </a:bodyPr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essment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FCV in  compliance with safety standards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for fail safety mode of HFCV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8" name="Rectangle 81"/>
          <p:cNvSpPr/>
          <p:nvPr/>
        </p:nvSpPr>
        <p:spPr>
          <a:xfrm>
            <a:off x="7499520" y="3495600"/>
            <a:ext cx="2349360" cy="2741760"/>
          </a:xfrm>
          <a:prstGeom prst="rect">
            <a:avLst/>
          </a:prstGeom>
          <a:solidFill>
            <a:srgbClr val="ffff99">
              <a:alpha val="75000"/>
            </a:srgbClr>
          </a:solidFill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080" bIns="4608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for electric  safety of high-voltage and fuel cell system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for electromagnetic compatibility in electrical/ electronic and fuel cell system</a:t>
            </a:r>
            <a:endParaRPr b="0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Organization for HFCV Research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2"/>
          <p:cNvSpPr/>
          <p:nvPr/>
        </p:nvSpPr>
        <p:spPr>
          <a:xfrm>
            <a:off x="340200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819144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40200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819144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286080" y="395604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04880" y="119700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alysis of Recent Trend of  Regulation System and Policy for HFC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foreign regulation system such as Europe, USA and Jap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Examination of compatibility of fuel cell components for vehicle appl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ion of development status of HFCV and hydrogen fueled vehicle in domestic and foreign automobile manufactur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ernational Harmonization of Safety Standards for HFC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Participate in HFCV-SGE, SGS and ELSA activities for harmonization work with HFCV GT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Develop instruction manual to secure safety at emergenc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vanced Research for Safety Management, Rescue System and Recycling P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Create documents for educational and P.R (Public Relation) purpos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20800" indent="-28584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for environmentally friendly recycling p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Rulemaking, Policy and Harmonization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>
            <a:off x="340200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819144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340200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819144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286080" y="395604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Hydrogen safety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819144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819144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704880" y="1125360"/>
            <a:ext cx="8640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2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Research for Hydrogen Storage and Supply System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ydrogen leak test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Leak detection by sensor, pressure gage and flow meter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Research for Position of sensor installation and detection range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Flow dynamics of hydrogen leak in the underground parking lo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HY견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Safety standards for allowable hydrogen leak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355680" indent="-3556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Clr>
                <a:srgbClr val="0000ff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Safety Assessment of Vehicle Safety from Charge Station while Charging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alysis of accident data and modeling results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velopment of hydrogen charging process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6465960" y="4292640"/>
            <a:ext cx="3439800" cy="2179080"/>
            <a:chOff x="6465960" y="4292640"/>
            <a:chExt cx="3439800" cy="2179080"/>
          </a:xfrm>
        </p:grpSpPr>
        <p:sp>
          <p:nvSpPr>
            <p:cNvPr id="147" name="Line 2"/>
            <p:cNvSpPr/>
            <p:nvPr/>
          </p:nvSpPr>
          <p:spPr>
            <a:xfrm>
              <a:off x="8106840" y="5996520"/>
              <a:ext cx="0" cy="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48" name="Line 4"/>
            <p:cNvSpPr/>
            <p:nvPr/>
          </p:nvSpPr>
          <p:spPr>
            <a:xfrm>
              <a:off x="8106840" y="5996520"/>
              <a:ext cx="0" cy="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7971120" y="5937120"/>
              <a:ext cx="0" cy="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pic>
          <p:nvPicPr>
            <p:cNvPr id="150" name="Picture 9" descr=""/>
            <p:cNvPicPr/>
            <p:nvPr/>
          </p:nvPicPr>
          <p:blipFill>
            <a:blip r:embed="rId1"/>
            <a:stretch/>
          </p:blipFill>
          <p:spPr>
            <a:xfrm>
              <a:off x="6465960" y="4292640"/>
              <a:ext cx="3439800" cy="21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2"/>
            <p:cNvSpPr/>
            <p:nvPr/>
          </p:nvSpPr>
          <p:spPr>
            <a:xfrm>
              <a:off x="6499080" y="4921920"/>
              <a:ext cx="1029960" cy="321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Y헤드라인M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HY헤드라인M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8802720" y="4751640"/>
              <a:ext cx="1029960" cy="321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Y헤드라인M"/>
                </a:rPr>
                <a:t>H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HY헤드라인M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4448160" y="2349360"/>
            <a:ext cx="5240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Vehicle Operation Safety (1/2)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5" name="Line 2"/>
          <p:cNvSpPr/>
          <p:nvPr/>
        </p:nvSpPr>
        <p:spPr>
          <a:xfrm>
            <a:off x="361800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840744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361800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8407440" y="400356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2080" y="395604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704880" y="1197000"/>
            <a:ext cx="8840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20000"/>
              </a:lnSpc>
              <a:spcAft>
                <a:spcPts val="451"/>
              </a:spcAft>
              <a:buClr>
                <a:srgbClr val="0000ff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Assessment of HFCV in Compliance with Safety Standards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alysis of current domestic and foreign safety standards for HFCV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Occupant crash protection, fuel leakage in collision, engine power, windshield wiping and defrosting system, accelerator control, fuel econom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Develop new safety standards for HFCV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Fuel cell power output, electric motor power output, installation standard for high-pressure pipeline, high voltage safet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Establish necessary safety standards and detailed regulation for application for HFCV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epare compliance test for each test item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Develop a method to measure fuel efficiency for passenger vehicle/bus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Vehicle Operation Safety (2/2)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704880" y="1197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search for the Fail Safety Mode of HFCV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63" name="Picture 4" descr="MCj02330300000[1]"/>
          <p:cNvPicPr/>
          <p:nvPr/>
        </p:nvPicPr>
        <p:blipFill>
          <a:blip r:embed="rId1"/>
          <a:stretch/>
        </p:blipFill>
        <p:spPr>
          <a:xfrm>
            <a:off x="2144880" y="1654200"/>
            <a:ext cx="1204920" cy="1225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514520" y="2997360"/>
            <a:ext cx="27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Search references and necessary documents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65" name="Picture 6" descr="MCj00898400000[1]"/>
          <p:cNvPicPr/>
          <p:nvPr/>
        </p:nvPicPr>
        <p:blipFill>
          <a:blip r:embed="rId2"/>
          <a:stretch/>
        </p:blipFill>
        <p:spPr>
          <a:xfrm>
            <a:off x="6032520" y="1197000"/>
            <a:ext cx="1366920" cy="1233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5745240" y="2351160"/>
            <a:ext cx="403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System definition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omponent 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condition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024520" y="4809960"/>
            <a:ext cx="475272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Analysis of fail safety mode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ical and mechanical malfunction mode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-tightness of fuel cell stack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f fuel cell stack with tilted position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oltage components safety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68" name="Picture 9" descr="MCBD07161_0000[1]"/>
          <p:cNvPicPr/>
          <p:nvPr/>
        </p:nvPicPr>
        <p:blipFill>
          <a:blip r:embed="rId3"/>
          <a:stretch/>
        </p:blipFill>
        <p:spPr>
          <a:xfrm>
            <a:off x="6103800" y="3456000"/>
            <a:ext cx="1513080" cy="1341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1289160" y="5291280"/>
            <a:ext cx="39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Analysis of potential fail safety 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70" name="Picture 11" descr="MCj03434450000[1]"/>
          <p:cNvPicPr/>
          <p:nvPr/>
        </p:nvPicPr>
        <p:blipFill>
          <a:blip r:embed="rId4"/>
          <a:stretch/>
        </p:blipFill>
        <p:spPr>
          <a:xfrm>
            <a:off x="2149560" y="3797280"/>
            <a:ext cx="136368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arrow_circle_3"/>
          <p:cNvPicPr/>
          <p:nvPr/>
        </p:nvPicPr>
        <p:blipFill>
          <a:blip r:embed="rId5"/>
          <a:stretch/>
        </p:blipFill>
        <p:spPr>
          <a:xfrm>
            <a:off x="3800520" y="2421000"/>
            <a:ext cx="1903320" cy="20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Electric Safety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74640" y="1127160"/>
            <a:ext cx="903132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2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Assessment of Electric Safet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search for electrical characteristics of fuel cell stack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Electric safety of high voltage in HFCV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Safety standards for insulation of high-voltage syste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HY견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Occupant protection against high voltage system in HFCV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Establish safety standards for application of electric safet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HY견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355680" indent="-355680">
              <a:lnSpc>
                <a:spcPct val="12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HY견고딕"/>
              </a:rPr>
              <a:t>Assessment of Electromagnetic Compatibility (EMC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Investigation of electromagnetic wave emitted from fuel cell vehicles &amp; parts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Refer to noise analysis data from diesel/gasoline/hybrid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Analysis of electromagnetic wave on electrical/electrical system in HFCV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Examine potential danger directly related to safety issue and find solutions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0" y="333360"/>
            <a:ext cx="990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17280" bIns="4356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0000cc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 Year’s Results </a:t>
            </a:r>
            <a:r>
              <a:rPr b="0" lang="en-US" sz="2000" spc="-1" strike="noStrike">
                <a:solidFill>
                  <a:srgbClr val="0000cc"/>
                </a:solidFill>
                <a:latin typeface="Arial Black"/>
              </a:rPr>
              <a:t>(Hydrogen Safety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5" name=""/>
          <p:cNvSpPr/>
          <p:nvPr/>
        </p:nvSpPr>
        <p:spPr>
          <a:xfrm>
            <a:off x="1076400" y="5135400"/>
            <a:ext cx="14414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15800" y="4508640"/>
            <a:ext cx="3673080" cy="1655280"/>
            <a:chOff x="415800" y="4508640"/>
            <a:chExt cx="3673080" cy="16552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45400" y="4508640"/>
              <a:ext cx="3543480" cy="15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770200" y="4882320"/>
              <a:ext cx="100440" cy="466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37720" y="4687920"/>
              <a:ext cx="224280" cy="20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1935720" y="5839560"/>
              <a:ext cx="493920" cy="196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41760" y="5142960"/>
              <a:ext cx="627840" cy="461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2429640" y="5834520"/>
              <a:ext cx="498240" cy="162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3453480" y="5767200"/>
              <a:ext cx="363960" cy="15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8880" y="5229720"/>
              <a:ext cx="543240" cy="270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1209960" y="5826960"/>
              <a:ext cx="215280" cy="2476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8880" y="5691240"/>
              <a:ext cx="117720" cy="2019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87160" y="5952960"/>
              <a:ext cx="224280" cy="20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0880" y="4970160"/>
              <a:ext cx="224280" cy="20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03040" y="5940360"/>
              <a:ext cx="224280" cy="20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86120" y="5853960"/>
              <a:ext cx="224280" cy="20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280" y="5046480"/>
              <a:ext cx="224280" cy="20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97520" y="5950440"/>
              <a:ext cx="224640" cy="20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240" y="5531040"/>
              <a:ext cx="224280" cy="20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528280" y="4565880"/>
              <a:ext cx="164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48600" y="4565880"/>
              <a:ext cx="164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9440" y="4570920"/>
              <a:ext cx="0" cy="14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6640" y="4912920"/>
              <a:ext cx="164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809160" y="6085440"/>
              <a:ext cx="164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813760" y="5923800"/>
              <a:ext cx="164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33720" y="5923800"/>
              <a:ext cx="164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266200" y="5931360"/>
              <a:ext cx="164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85800" y="5931360"/>
              <a:ext cx="164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668960" y="5861160"/>
              <a:ext cx="0" cy="143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00280" y="6015240"/>
              <a:ext cx="1645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71840" y="6020640"/>
              <a:ext cx="0" cy="143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1280" y="5089680"/>
              <a:ext cx="0" cy="143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15800" y="5496480"/>
              <a:ext cx="1648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86320" y="1341360"/>
            <a:ext cx="3527640" cy="22449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849240" y="1555920"/>
            <a:ext cx="3887640" cy="2304360"/>
            <a:chOff x="849240" y="1555920"/>
            <a:chExt cx="3887640" cy="2304360"/>
          </a:xfrm>
        </p:grpSpPr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849240" y="1712880"/>
              <a:ext cx="3887640" cy="214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1356840" y="2828880"/>
              <a:ext cx="213120" cy="136800"/>
              <a:chOff x="1356840" y="2828880"/>
              <a:chExt cx="213120" cy="136800"/>
            </a:xfrm>
          </p:grpSpPr>
          <p:sp>
            <p:nvSpPr>
              <p:cNvPr id="212" name=""/>
              <p:cNvSpPr/>
              <p:nvPr/>
            </p:nvSpPr>
            <p:spPr>
              <a:xfrm>
                <a:off x="1399320" y="2828880"/>
                <a:ext cx="128160" cy="136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27480" y="2836800"/>
                <a:ext cx="42480" cy="121680"/>
              </a:xfrm>
              <a:prstGeom prst="flowChartDelay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356840" y="2838960"/>
                <a:ext cx="42480" cy="121320"/>
              </a:xfrm>
              <a:prstGeom prst="flowChartDelay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35320" y="2868840"/>
                <a:ext cx="56520" cy="604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68720" y="2889720"/>
                <a:ext cx="21240" cy="226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36840" y="2889720"/>
                <a:ext cx="21240" cy="226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356840" y="2811240"/>
              <a:ext cx="213120" cy="138600"/>
              <a:chOff x="1356840" y="2811240"/>
              <a:chExt cx="213120" cy="138600"/>
            </a:xfrm>
          </p:grpSpPr>
          <p:sp>
            <p:nvSpPr>
              <p:cNvPr id="219" name=""/>
              <p:cNvSpPr/>
              <p:nvPr/>
            </p:nvSpPr>
            <p:spPr>
              <a:xfrm>
                <a:off x="1399320" y="2811240"/>
                <a:ext cx="128160" cy="1386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527480" y="2819160"/>
                <a:ext cx="42480" cy="123120"/>
              </a:xfrm>
              <a:prstGeom prst="flowChartDelay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356840" y="2821320"/>
                <a:ext cx="42480" cy="122760"/>
              </a:xfrm>
              <a:prstGeom prst="flowChartDelay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35320" y="2851560"/>
                <a:ext cx="56520" cy="612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68720" y="2872800"/>
                <a:ext cx="21240" cy="230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36840" y="2872800"/>
                <a:ext cx="21240" cy="230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411560" y="2589480"/>
              <a:ext cx="210240" cy="138600"/>
              <a:chOff x="1411560" y="2589480"/>
              <a:chExt cx="210240" cy="138600"/>
            </a:xfrm>
          </p:grpSpPr>
          <p:sp>
            <p:nvSpPr>
              <p:cNvPr id="226" name=""/>
              <p:cNvSpPr/>
              <p:nvPr/>
            </p:nvSpPr>
            <p:spPr>
              <a:xfrm>
                <a:off x="1453320" y="2589480"/>
                <a:ext cx="126360" cy="1386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580040" y="2597400"/>
                <a:ext cx="41760" cy="123120"/>
              </a:xfrm>
              <a:prstGeom prst="flowChartDelay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411560" y="2599560"/>
                <a:ext cx="41760" cy="122760"/>
              </a:xfrm>
              <a:prstGeom prst="flowChartDelay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88960" y="2629800"/>
                <a:ext cx="55800" cy="612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23080" y="2651040"/>
                <a:ext cx="20880" cy="230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589400" y="2651040"/>
                <a:ext cx="20880" cy="230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3354120" y="1878120"/>
              <a:ext cx="208800" cy="136800"/>
              <a:chOff x="3354120" y="1878120"/>
              <a:chExt cx="208800" cy="136800"/>
            </a:xfrm>
          </p:grpSpPr>
          <p:sp>
            <p:nvSpPr>
              <p:cNvPr id="233" name=""/>
              <p:cNvSpPr/>
              <p:nvPr/>
            </p:nvSpPr>
            <p:spPr>
              <a:xfrm>
                <a:off x="3395880" y="1878120"/>
                <a:ext cx="125280" cy="136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21520" y="1886040"/>
                <a:ext cx="41400" cy="121680"/>
              </a:xfrm>
              <a:prstGeom prst="flowChartDelay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3353760" y="1888200"/>
                <a:ext cx="41400" cy="121320"/>
              </a:xfrm>
              <a:prstGeom prst="flowChartDelay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31520" y="1918080"/>
                <a:ext cx="55440" cy="60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66000" y="1938960"/>
                <a:ext cx="20520" cy="22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30880" y="1938960"/>
                <a:ext cx="20520" cy="22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70400" y="2827080"/>
              <a:ext cx="211320" cy="138600"/>
              <a:chOff x="1670400" y="2827080"/>
              <a:chExt cx="211320" cy="138600"/>
            </a:xfrm>
          </p:grpSpPr>
          <p:sp>
            <p:nvSpPr>
              <p:cNvPr id="240" name=""/>
              <p:cNvSpPr/>
              <p:nvPr/>
            </p:nvSpPr>
            <p:spPr>
              <a:xfrm>
                <a:off x="1712880" y="2827080"/>
                <a:ext cx="126720" cy="1386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39600" y="2835000"/>
                <a:ext cx="42120" cy="123120"/>
              </a:xfrm>
              <a:prstGeom prst="flowChartDelay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1670040" y="2837160"/>
                <a:ext cx="42120" cy="122760"/>
              </a:xfrm>
              <a:prstGeom prst="flowChartDelay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48520" y="2867400"/>
                <a:ext cx="56160" cy="612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82280" y="2888640"/>
                <a:ext cx="20880" cy="230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48960" y="2888640"/>
                <a:ext cx="20880" cy="230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836080" y="1878120"/>
              <a:ext cx="210240" cy="138600"/>
              <a:chOff x="2836080" y="1878120"/>
              <a:chExt cx="210240" cy="138600"/>
            </a:xfrm>
          </p:grpSpPr>
          <p:sp>
            <p:nvSpPr>
              <p:cNvPr id="247" name=""/>
              <p:cNvSpPr/>
              <p:nvPr/>
            </p:nvSpPr>
            <p:spPr>
              <a:xfrm>
                <a:off x="2877840" y="1878120"/>
                <a:ext cx="126360" cy="13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04560" y="1886040"/>
                <a:ext cx="41760" cy="123120"/>
              </a:xfrm>
              <a:prstGeom prst="flowChartDelay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36080" y="1888200"/>
                <a:ext cx="41760" cy="122760"/>
              </a:xfrm>
              <a:prstGeom prst="flowChartDelay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13480" y="1918440"/>
                <a:ext cx="55800" cy="61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47600" y="1939680"/>
                <a:ext cx="20880" cy="23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13920" y="1939680"/>
                <a:ext cx="20880" cy="23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716920" y="1569960"/>
              <a:ext cx="340560" cy="3182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24880" y="1555920"/>
              <a:ext cx="340560" cy="3182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523400" y="2813040"/>
              <a:ext cx="208800" cy="136800"/>
              <a:chOff x="4523400" y="2813040"/>
              <a:chExt cx="208800" cy="136800"/>
            </a:xfrm>
          </p:grpSpPr>
          <p:sp>
            <p:nvSpPr>
              <p:cNvPr id="256" name=""/>
              <p:cNvSpPr/>
              <p:nvPr/>
            </p:nvSpPr>
            <p:spPr>
              <a:xfrm>
                <a:off x="4565160" y="2813040"/>
                <a:ext cx="125280" cy="136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90800" y="2820960"/>
                <a:ext cx="41400" cy="121680"/>
              </a:xfrm>
              <a:prstGeom prst="flowChartDelay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4523040" y="2823120"/>
                <a:ext cx="41400" cy="121320"/>
              </a:xfrm>
              <a:prstGeom prst="flowChartDelay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00800" y="2853000"/>
                <a:ext cx="55440" cy="60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35280" y="2873880"/>
                <a:ext cx="20520" cy="22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00160" y="2873880"/>
                <a:ext cx="20520" cy="22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303920" y="2234520"/>
              <a:ext cx="340560" cy="318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89640" y="2885400"/>
              <a:ext cx="340560" cy="318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96400" y="3004200"/>
              <a:ext cx="340200" cy="318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592520" y="3645000"/>
            <a:ext cx="5256360" cy="2849040"/>
          </a:xfrm>
          <a:prstGeom prst="rect">
            <a:avLst/>
          </a:prstGeom>
          <a:solidFill>
            <a:srgbClr val="ffffff"/>
          </a:solidFill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come : Establishment of Hydrogen Leakage Assessment Technique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Prepare hydrogen leakage simulation equipment</a:t>
            </a:r>
            <a:r>
              <a:rPr b="0" lang="ko-KR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and mock-up vehicle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Build comprehensive test facility for fire safety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Build measurement system of hydrogen consumption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Develop fuel cell NVH/impact assessment system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HY헤드라인M"/>
              </a:rPr>
              <a:t>Assess performance and durability of hydrogen leakage sensor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200160" y="1197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sitions of hydrogen leakage test sensor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5602320" y="981000"/>
            <a:ext cx="32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ogen Leakage Test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200160" y="37958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ected Hydrogen Leakage Points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High/Low pressure line and engine room)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11:22:37Z</dcterms:created>
  <dc:creator>J.W. LEE</dc:creator>
  <dc:description/>
  <dc:language>en-US</dc:language>
  <cp:lastModifiedBy>Gianotti</cp:lastModifiedBy>
  <cp:lastPrinted>2003-09-24T09:52:06Z</cp:lastPrinted>
  <dcterms:modified xsi:type="dcterms:W3CDTF">2008-11-27T07:52:23Z</dcterms:modified>
  <cp:revision>2665</cp:revision>
  <dc:subject/>
  <dc:title>HFCV_R&amp;D in Korea</dc:title>
</cp:coreProperties>
</file>