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E1E8-098B-4396-8EED-46EA0641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B826-B47A-411C-AFBB-B2FD84CF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99BC-DC3B-47B4-9A86-B4AB2C3D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D62D-199F-4334-BFD7-65718EA2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A374-A2BD-4066-87A5-D0CC8E60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CD3B-1B6B-4A21-8E8C-152F70CC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5659-ADC5-4A58-999D-DA0D7910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F5B0-7401-44C2-A6BE-A9C15B84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816A-0EB8-48C2-B800-A6211939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E4E3-CF34-4DC8-BDF4-AA8F1B71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5C3F-E657-4C21-9FD9-9955637B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5850-F2FC-47C3-BD84-C39386C9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9620-5BF4-4B37-ABFA-368F2F10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87B3-5DFC-4C13-B1A5-CF097BF6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48D0-7B1C-4C51-84A1-A53B30B7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1E7A-CE26-4F1B-84EA-E43358DF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523B-2FEE-4673-93C0-3E927571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6DE4-C742-4A30-A9FF-BE776F89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9F6D-C9B4-4B83-8C4C-AFA7B81F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3BFA-FBA8-41FD-AF30-B74FC1A9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CB2-FEDA-4671-817F-908C9DA6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588-3B82-4EE5-9991-59C0F674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98FB-B978-456A-944E-E4F438F3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49B7-F4BD-4C81-8D30-43B2A423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403440"/>
            <a:ext cx="9144000" cy="3454560"/>
            <a:chOff x="0" y="3403440"/>
            <a:chExt cx="9144000" cy="3454560"/>
          </a:xfrm>
        </p:grpSpPr>
        <p:sp>
          <p:nvSpPr>
            <p:cNvPr id="1" name="Freeform 3"/>
            <p:cNvSpPr/>
            <p:nvPr/>
          </p:nvSpPr>
          <p:spPr>
            <a:xfrm>
              <a:off x="0" y="5051520"/>
              <a:ext cx="9144000" cy="1800000"/>
            </a:xfrm>
            <a:prstGeom prst="pie">
              <a:avLst/>
            </a:prstGeom>
            <a:gradFill rotWithShape="0">
              <a:gsLst>
                <a:gs pos="0">
                  <a:srgbClr val="d8b38e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248600" y="3403440"/>
              <a:ext cx="1895040" cy="3454560"/>
              <a:chOff x="7248600" y="3403440"/>
              <a:chExt cx="1895040" cy="345456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7404480" y="3403440"/>
                <a:ext cx="1552680" cy="1836720"/>
                <a:chOff x="7404480" y="3403440"/>
                <a:chExt cx="1552680" cy="1836720"/>
              </a:xfrm>
            </p:grpSpPr>
            <p:sp>
              <p:nvSpPr>
                <p:cNvPr id="4" name="Oval 6"/>
                <p:cNvSpPr/>
                <p:nvPr/>
              </p:nvSpPr>
              <p:spPr>
                <a:xfrm>
                  <a:off x="8128800" y="3458520"/>
                  <a:ext cx="40680" cy="5508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8057520" y="3403440"/>
                  <a:ext cx="199440" cy="1157760"/>
                </a:xfrm>
                <a:prstGeom prst="pi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Oval 8"/>
                <p:cNvSpPr/>
                <p:nvPr/>
              </p:nvSpPr>
              <p:spPr>
                <a:xfrm>
                  <a:off x="8128800" y="3529800"/>
                  <a:ext cx="40680" cy="5508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Oval 9"/>
                <p:cNvSpPr/>
                <p:nvPr/>
              </p:nvSpPr>
              <p:spPr>
                <a:xfrm>
                  <a:off x="8118360" y="3782520"/>
                  <a:ext cx="77400" cy="4572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8118360" y="3846240"/>
                  <a:ext cx="77400" cy="4464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8118360" y="3908160"/>
                  <a:ext cx="77400" cy="4572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8118360" y="3972240"/>
                  <a:ext cx="77400" cy="4464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8108640" y="4165560"/>
                  <a:ext cx="96840" cy="4536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8112960" y="4103640"/>
                  <a:ext cx="87120" cy="4464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8111880" y="4035240"/>
                  <a:ext cx="88920" cy="4464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8108640" y="4229280"/>
                  <a:ext cx="96840" cy="4464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8105760" y="4294080"/>
                  <a:ext cx="101520" cy="4572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8089920" y="4357800"/>
                  <a:ext cx="136440" cy="88560"/>
                </a:xfrm>
                <a:prstGeom prst="pi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7404480" y="4554360"/>
                  <a:ext cx="1552680" cy="685800"/>
                </a:xfrm>
                <a:prstGeom prst="pi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" name="Freeform 20"/>
              <p:cNvSpPr/>
              <p:nvPr/>
            </p:nvSpPr>
            <p:spPr>
              <a:xfrm flipH="1">
                <a:off x="8107920" y="3614760"/>
                <a:ext cx="40680" cy="164520"/>
              </a:xfrm>
              <a:prstGeom prst="pie">
                <a:avLst/>
              </a:pr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8153280" y="3614760"/>
                <a:ext cx="41040" cy="164520"/>
              </a:xfrm>
              <a:prstGeom prst="pie">
                <a:avLst/>
              </a:pr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8091720" y="5231160"/>
                <a:ext cx="917280" cy="542880"/>
              </a:xfrm>
              <a:prstGeom prst="pie">
                <a:avLst/>
              </a:pr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8481600" y="5241600"/>
                <a:ext cx="126360" cy="85680"/>
              </a:xfrm>
              <a:prstGeom prst="pie">
                <a:avLst/>
              </a:pr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7359840" y="5219640"/>
                <a:ext cx="882360" cy="559800"/>
              </a:xfrm>
              <a:prstGeom prst="pie">
                <a:avLst/>
              </a:pr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7724880" y="5256000"/>
                <a:ext cx="114120" cy="125640"/>
              </a:xfrm>
              <a:prstGeom prst="pie">
                <a:avLst/>
              </a:pr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grpSp>
            <p:nvGrpSpPr>
              <p:cNvPr id="24" name="Group 26"/>
              <p:cNvGrpSpPr/>
              <p:nvPr/>
            </p:nvGrpSpPr>
            <p:grpSpPr>
              <a:xfrm>
                <a:off x="7323480" y="5749200"/>
                <a:ext cx="1740240" cy="575280"/>
                <a:chOff x="7323480" y="5749200"/>
                <a:chExt cx="1740240" cy="575280"/>
              </a:xfrm>
            </p:grpSpPr>
            <p:sp>
              <p:nvSpPr>
                <p:cNvPr id="25" name="Freeform 27"/>
                <p:cNvSpPr/>
                <p:nvPr/>
              </p:nvSpPr>
              <p:spPr>
                <a:xfrm>
                  <a:off x="7323480" y="5749200"/>
                  <a:ext cx="943560" cy="575280"/>
                </a:xfrm>
                <a:prstGeom prst="pi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7683120" y="5790240"/>
                  <a:ext cx="182880" cy="104760"/>
                </a:xfrm>
                <a:prstGeom prst="pi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247600" y="5749200"/>
                  <a:ext cx="816120" cy="555840"/>
                </a:xfrm>
                <a:prstGeom prst="pi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8516160" y="5775840"/>
                  <a:ext cx="132120" cy="87480"/>
                </a:xfrm>
                <a:prstGeom prst="pi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7248600" y="6279840"/>
                <a:ext cx="1031400" cy="576000"/>
              </a:xfrm>
              <a:prstGeom prst="pie">
                <a:avLst/>
              </a:pr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7640280" y="6322680"/>
                <a:ext cx="197640" cy="104760"/>
              </a:xfrm>
              <a:prstGeom prst="pie">
                <a:avLst/>
              </a:pr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248680" y="6279840"/>
                <a:ext cx="894960" cy="578160"/>
              </a:xfrm>
              <a:prstGeom prst="pie">
                <a:avLst/>
              </a:pr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546760" y="6307560"/>
                <a:ext cx="142560" cy="87480"/>
              </a:xfrm>
              <a:prstGeom prst="pie">
                <a:avLst/>
              </a:pr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57472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57472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60BF-9387-4EE8-B666-03E6A8082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2247840"/>
            <a:ext cx="9144000" cy="4609440"/>
            <a:chOff x="0" y="2247840"/>
            <a:chExt cx="9144000" cy="4609440"/>
          </a:xfrm>
        </p:grpSpPr>
        <p:sp>
          <p:nvSpPr>
            <p:cNvPr id="75" name="Freeform 3"/>
            <p:cNvSpPr/>
            <p:nvPr/>
          </p:nvSpPr>
          <p:spPr>
            <a:xfrm>
              <a:off x="0" y="5052240"/>
              <a:ext cx="9144000" cy="1800360"/>
            </a:xfrm>
            <a:prstGeom prst="pie">
              <a:avLst/>
            </a:prstGeom>
            <a:gradFill rotWithShape="0">
              <a:gsLst>
                <a:gs pos="0">
                  <a:srgbClr val="d8b38e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7472b"/>
                </a:solidFill>
                <a:latin typeface="Times New Roman"/>
              </a:endParaRPr>
            </a:p>
          </p:txBody>
        </p:sp>
        <p:grpSp>
          <p:nvGrpSpPr>
            <p:cNvPr id="76" name="Group 4"/>
            <p:cNvGrpSpPr/>
            <p:nvPr/>
          </p:nvGrpSpPr>
          <p:grpSpPr>
            <a:xfrm>
              <a:off x="6505560" y="2247840"/>
              <a:ext cx="2534760" cy="4609440"/>
              <a:chOff x="6505560" y="2247840"/>
              <a:chExt cx="2534760" cy="4609440"/>
            </a:xfrm>
          </p:grpSpPr>
          <p:grpSp>
            <p:nvGrpSpPr>
              <p:cNvPr id="77" name="Group 5"/>
              <p:cNvGrpSpPr/>
              <p:nvPr/>
            </p:nvGrpSpPr>
            <p:grpSpPr>
              <a:xfrm>
                <a:off x="6712920" y="2247840"/>
                <a:ext cx="2076840" cy="2449800"/>
                <a:chOff x="6712920" y="2247840"/>
                <a:chExt cx="2076840" cy="2449800"/>
              </a:xfrm>
            </p:grpSpPr>
            <p:sp>
              <p:nvSpPr>
                <p:cNvPr id="78" name="Oval 6"/>
                <p:cNvSpPr/>
                <p:nvPr/>
              </p:nvSpPr>
              <p:spPr>
                <a:xfrm>
                  <a:off x="7683120" y="2322720"/>
                  <a:ext cx="55800" cy="7488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7"/>
                <p:cNvSpPr/>
                <p:nvPr/>
              </p:nvSpPr>
              <p:spPr>
                <a:xfrm>
                  <a:off x="7587720" y="2247840"/>
                  <a:ext cx="268200" cy="1544040"/>
                </a:xfrm>
                <a:prstGeom prst="pi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Oval 8"/>
                <p:cNvSpPr/>
                <p:nvPr/>
              </p:nvSpPr>
              <p:spPr>
                <a:xfrm>
                  <a:off x="7683120" y="2418120"/>
                  <a:ext cx="55800" cy="7488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Oval 9"/>
                <p:cNvSpPr/>
                <p:nvPr/>
              </p:nvSpPr>
              <p:spPr>
                <a:xfrm>
                  <a:off x="7666200" y="2753280"/>
                  <a:ext cx="104760" cy="5940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Oval 10"/>
                <p:cNvSpPr/>
                <p:nvPr/>
              </p:nvSpPr>
              <p:spPr>
                <a:xfrm>
                  <a:off x="7666200" y="2838600"/>
                  <a:ext cx="104760" cy="5976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Oval 11"/>
                <p:cNvSpPr/>
                <p:nvPr/>
              </p:nvSpPr>
              <p:spPr>
                <a:xfrm>
                  <a:off x="7666200" y="2922480"/>
                  <a:ext cx="104760" cy="5940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Oval 12"/>
                <p:cNvSpPr/>
                <p:nvPr/>
              </p:nvSpPr>
              <p:spPr>
                <a:xfrm>
                  <a:off x="7666200" y="3006360"/>
                  <a:ext cx="104760" cy="5796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Oval 13"/>
                <p:cNvSpPr/>
                <p:nvPr/>
              </p:nvSpPr>
              <p:spPr>
                <a:xfrm>
                  <a:off x="7655760" y="3265560"/>
                  <a:ext cx="128520" cy="5940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Oval 14"/>
                <p:cNvSpPr/>
                <p:nvPr/>
              </p:nvSpPr>
              <p:spPr>
                <a:xfrm>
                  <a:off x="7660440" y="3180600"/>
                  <a:ext cx="119160" cy="5940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Oval 15"/>
                <p:cNvSpPr/>
                <p:nvPr/>
              </p:nvSpPr>
              <p:spPr>
                <a:xfrm>
                  <a:off x="7660440" y="3090240"/>
                  <a:ext cx="118080" cy="5796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Oval 16"/>
                <p:cNvSpPr/>
                <p:nvPr/>
              </p:nvSpPr>
              <p:spPr>
                <a:xfrm>
                  <a:off x="7655760" y="3349440"/>
                  <a:ext cx="128520" cy="5940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Oval 17"/>
                <p:cNvSpPr/>
                <p:nvPr/>
              </p:nvSpPr>
              <p:spPr>
                <a:xfrm>
                  <a:off x="7651080" y="3435840"/>
                  <a:ext cx="137160" cy="59400"/>
                </a:xfrm>
                <a:prstGeom prst="ellips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18"/>
                <p:cNvSpPr/>
                <p:nvPr/>
              </p:nvSpPr>
              <p:spPr>
                <a:xfrm>
                  <a:off x="7630560" y="3520800"/>
                  <a:ext cx="182520" cy="117000"/>
                </a:xfrm>
                <a:prstGeom prst="pi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19"/>
                <p:cNvSpPr/>
                <p:nvPr/>
              </p:nvSpPr>
              <p:spPr>
                <a:xfrm>
                  <a:off x="6712920" y="3783960"/>
                  <a:ext cx="2076840" cy="913680"/>
                </a:xfrm>
                <a:prstGeom prst="pi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Freeform 20"/>
              <p:cNvSpPr/>
              <p:nvPr/>
            </p:nvSpPr>
            <p:spPr>
              <a:xfrm flipH="1">
                <a:off x="7656120" y="2528280"/>
                <a:ext cx="53280" cy="221040"/>
              </a:xfrm>
              <a:prstGeom prst="pie">
                <a:avLst/>
              </a:pr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93" name="Freeform 21"/>
              <p:cNvSpPr/>
              <p:nvPr/>
            </p:nvSpPr>
            <p:spPr>
              <a:xfrm>
                <a:off x="7714440" y="2528280"/>
                <a:ext cx="55800" cy="221040"/>
              </a:xfrm>
              <a:prstGeom prst="pie">
                <a:avLst/>
              </a:pr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94" name="Freeform 22"/>
              <p:cNvSpPr/>
              <p:nvPr/>
            </p:nvSpPr>
            <p:spPr>
              <a:xfrm>
                <a:off x="7632000" y="4685400"/>
                <a:ext cx="1227240" cy="725400"/>
              </a:xfrm>
              <a:prstGeom prst="pie">
                <a:avLst/>
              </a:pr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95" name="Freeform 23"/>
              <p:cNvSpPr/>
              <p:nvPr/>
            </p:nvSpPr>
            <p:spPr>
              <a:xfrm>
                <a:off x="8155080" y="4701960"/>
                <a:ext cx="168120" cy="114120"/>
              </a:xfrm>
              <a:prstGeom prst="pie">
                <a:avLst/>
              </a:pr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96" name="Freeform 24"/>
              <p:cNvSpPr/>
              <p:nvPr/>
            </p:nvSpPr>
            <p:spPr>
              <a:xfrm>
                <a:off x="6653160" y="4671360"/>
                <a:ext cx="1182600" cy="747360"/>
              </a:xfrm>
              <a:prstGeom prst="pie">
                <a:avLst/>
              </a:pr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97" name="Freeform 25"/>
              <p:cNvSpPr/>
              <p:nvPr/>
            </p:nvSpPr>
            <p:spPr>
              <a:xfrm>
                <a:off x="7141320" y="4719600"/>
                <a:ext cx="153720" cy="167400"/>
              </a:xfrm>
              <a:prstGeom prst="pie">
                <a:avLst/>
              </a:pr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grpSp>
            <p:nvGrpSpPr>
              <p:cNvPr id="98" name="Group 26"/>
              <p:cNvGrpSpPr/>
              <p:nvPr/>
            </p:nvGrpSpPr>
            <p:grpSpPr>
              <a:xfrm>
                <a:off x="6605640" y="5378040"/>
                <a:ext cx="2327040" cy="768960"/>
                <a:chOff x="6605640" y="5378040"/>
                <a:chExt cx="2327040" cy="768960"/>
              </a:xfrm>
            </p:grpSpPr>
            <p:sp>
              <p:nvSpPr>
                <p:cNvPr id="99" name="Freeform 27"/>
                <p:cNvSpPr/>
                <p:nvPr/>
              </p:nvSpPr>
              <p:spPr>
                <a:xfrm>
                  <a:off x="6605640" y="5378040"/>
                  <a:ext cx="1260360" cy="768960"/>
                </a:xfrm>
                <a:prstGeom prst="pi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Freeform 28"/>
                <p:cNvSpPr/>
                <p:nvPr/>
              </p:nvSpPr>
              <p:spPr>
                <a:xfrm>
                  <a:off x="7086600" y="5433840"/>
                  <a:ext cx="243360" cy="139680"/>
                </a:xfrm>
                <a:prstGeom prst="pi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Freeform 29"/>
                <p:cNvSpPr/>
                <p:nvPr/>
              </p:nvSpPr>
              <p:spPr>
                <a:xfrm>
                  <a:off x="7842240" y="5378040"/>
                  <a:ext cx="1090440" cy="743400"/>
                </a:xfrm>
                <a:prstGeom prst="pi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Freeform 30"/>
                <p:cNvSpPr/>
                <p:nvPr/>
              </p:nvSpPr>
              <p:spPr>
                <a:xfrm>
                  <a:off x="8200080" y="5412240"/>
                  <a:ext cx="176400" cy="117000"/>
                </a:xfrm>
                <a:prstGeom prst="pie">
                  <a:avLst/>
                </a:prstGeom>
                <a:solidFill>
                  <a:srgbClr val="ab9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7472b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Freeform 31"/>
              <p:cNvSpPr/>
              <p:nvPr/>
            </p:nvSpPr>
            <p:spPr>
              <a:xfrm>
                <a:off x="6505560" y="6087240"/>
                <a:ext cx="1379520" cy="766080"/>
              </a:xfrm>
              <a:prstGeom prst="pie">
                <a:avLst/>
              </a:pr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104" name="Freeform 32"/>
              <p:cNvSpPr/>
              <p:nvPr/>
            </p:nvSpPr>
            <p:spPr>
              <a:xfrm>
                <a:off x="7029360" y="6143400"/>
                <a:ext cx="264600" cy="139680"/>
              </a:xfrm>
              <a:prstGeom prst="pie">
                <a:avLst/>
              </a:pr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105" name="Freeform 33"/>
              <p:cNvSpPr/>
              <p:nvPr/>
            </p:nvSpPr>
            <p:spPr>
              <a:xfrm>
                <a:off x="7842240" y="6087240"/>
                <a:ext cx="1198080" cy="770040"/>
              </a:xfrm>
              <a:prstGeom prst="pie">
                <a:avLst/>
              </a:pr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  <p:sp>
            <p:nvSpPr>
              <p:cNvPr id="106" name="Freeform 34"/>
              <p:cNvSpPr/>
              <p:nvPr/>
            </p:nvSpPr>
            <p:spPr>
              <a:xfrm>
                <a:off x="8243280" y="6122880"/>
                <a:ext cx="191880" cy="117000"/>
              </a:xfrm>
              <a:prstGeom prst="pie">
                <a:avLst/>
              </a:pr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7472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57472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57472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472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472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7AF6-8E71-407B-8B2F-45499A2CE672}" type="slidenum">
              <a:rPr b="0" lang="en-US" sz="1400" spc="-1" strike="noStrike">
                <a:solidFill>
                  <a:srgbClr val="5747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1400" y="1569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Jap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 Research on ECE R94 Amendment (PDB)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596520" y="4412880"/>
            <a:ext cx="7921800" cy="13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tober 6, 2008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nd Meeting of the Informal Group on Frontal Impact</a:t>
            </a:r>
            <a:endParaRPr b="0" lang="en-US" sz="20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94880" y="54864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7472b"/>
                </a:solidFill>
                <a:latin typeface="Times New Roman"/>
              </a:rPr>
              <a:t>FI-02-07</a:t>
            </a:r>
            <a:endParaRPr b="0" lang="en-US" sz="1800" spc="-1" strike="noStrike">
              <a:solidFill>
                <a:srgbClr val="5747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862920" y="26028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st Matrix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866880" y="387684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st Schedule</a:t>
            </a:r>
            <a:endParaRPr b="0" lang="en-US" sz="2400" spc="-1" strike="noStrike">
              <a:solidFill>
                <a:srgbClr val="57472b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82720" y="743040"/>
          <a:ext cx="7416720" cy="2762280"/>
        </p:xfrm>
        <a:graphic>
          <a:graphicData uri="http://schemas.openxmlformats.org/drawingml/2006/table">
            <a:tbl>
              <a:tblPr/>
              <a:tblGrid>
                <a:gridCol w="1925640"/>
                <a:gridCol w="1830240"/>
                <a:gridCol w="1830600"/>
                <a:gridCol w="1830240"/>
              </a:tblGrid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7472b"/>
                      </a:solidFill>
                    </a:lnR>
                    <a:lnT w="1368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DB 60kph at 50% overlap</a:t>
                      </a: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France proposal)</a:t>
                      </a:r>
                      <a:endParaRPr b="0" lang="en-US" sz="14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7472b"/>
                      </a:solidFill>
                    </a:lnL>
                    <a:lnR w="5760">
                      <a:solidFill>
                        <a:srgbClr val="57472b"/>
                      </a:solidFill>
                    </a:lnR>
                    <a:lnT w="1368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DB 56kph at 40% overlap</a:t>
                      </a: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urrent  ECE R94 )</a:t>
                      </a:r>
                      <a:endParaRPr b="0" lang="en-US" sz="14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7472b"/>
                      </a:solidFill>
                    </a:lnL>
                    <a:lnR w="5760">
                      <a:solidFill>
                        <a:srgbClr val="57472b"/>
                      </a:solidFill>
                    </a:lnR>
                    <a:lnT w="1368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DB 64kph at 40% overlap</a:t>
                      </a: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JNCAP)</a:t>
                      </a:r>
                      <a:endParaRPr b="0" lang="en-US" sz="14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7472b"/>
                      </a:solidFill>
                    </a:lnL>
                    <a:lnR>
                      <a:noFill/>
                    </a:lnR>
                    <a:lnT w="1368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icar A</a:t>
                      </a: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urb mass: 910kg)</a:t>
                      </a:r>
                      <a:endParaRPr b="0" lang="en-US" sz="14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LIT)</a:t>
                      </a:r>
                      <a:endParaRPr b="0" lang="en-US" sz="14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7472b"/>
                      </a:solidFill>
                    </a:lnL>
                    <a:lnR w="576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LIT)</a:t>
                      </a:r>
                      <a:endParaRPr b="0" lang="en-US" sz="14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7472b"/>
                      </a:solidFill>
                    </a:lnL>
                    <a:lnR w="576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JNCAP)</a:t>
                      </a:r>
                      <a:endParaRPr b="0" lang="en-US" sz="14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7472b"/>
                      </a:solidFill>
                    </a:lnL>
                    <a:lnR>
                      <a:noFill/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icar B</a:t>
                      </a: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urb mass: 940kg)</a:t>
                      </a:r>
                      <a:endParaRPr b="0" lang="en-US" sz="14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JAMA)</a:t>
                      </a:r>
                      <a:endParaRPr b="0" lang="en-US" sz="14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7472b"/>
                      </a:solidFill>
                    </a:lnL>
                    <a:lnR w="576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7472b"/>
                      </a:solidFill>
                    </a:lnL>
                    <a:lnR w="576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JNCAP)</a:t>
                      </a:r>
                      <a:endParaRPr b="0" lang="en-US" sz="14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7472b"/>
                      </a:solidFill>
                    </a:lnL>
                    <a:lnR>
                      <a:noFill/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ivan (Heavy)</a:t>
                      </a: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urb mass: 1890kg)</a:t>
                      </a:r>
                      <a:endParaRPr b="0" lang="en-US" sz="14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1368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JAMA)</a:t>
                      </a:r>
                      <a:endParaRPr b="0" lang="en-US" sz="14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7472b"/>
                      </a:solidFill>
                    </a:lnL>
                    <a:lnR w="576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1368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7472b"/>
                      </a:solidFill>
                    </a:lnL>
                    <a:lnR w="576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1368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JNCAP)</a:t>
                      </a:r>
                      <a:endParaRPr b="0" lang="en-US" sz="14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7472b"/>
                      </a:solidFill>
                    </a:lnL>
                    <a:lnR>
                      <a:noFill/>
                    </a:lnR>
                    <a:lnT w="5760">
                      <a:solidFill>
                        <a:srgbClr val="57472b"/>
                      </a:solidFill>
                    </a:lnT>
                    <a:lnB w="13680">
                      <a:solidFill>
                        <a:srgbClr val="57472b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882720" y="4351320"/>
          <a:ext cx="7413480" cy="2102040"/>
        </p:xfrm>
        <a:graphic>
          <a:graphicData uri="http://schemas.openxmlformats.org/drawingml/2006/table">
            <a:tbl>
              <a:tblPr/>
              <a:tblGrid>
                <a:gridCol w="1446120"/>
                <a:gridCol w="852480"/>
                <a:gridCol w="852480"/>
                <a:gridCol w="852480"/>
                <a:gridCol w="852480"/>
                <a:gridCol w="852480"/>
                <a:gridCol w="852480"/>
                <a:gridCol w="85248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7472b"/>
                      </a:solidFill>
                    </a:lnR>
                    <a:lnT w="1368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7472b"/>
                      </a:solidFill>
                    </a:lnL>
                    <a:lnR w="5760">
                      <a:solidFill>
                        <a:srgbClr val="57472b"/>
                      </a:solidFill>
                    </a:lnR>
                    <a:lnT w="1368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4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7472b"/>
                      </a:solidFill>
                    </a:lnL>
                    <a:lnR>
                      <a:noFill/>
                    </a:lnR>
                    <a:lnT w="1368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7472b"/>
                      </a:solidFill>
                    </a:lnL>
                    <a:lnR w="288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57472b"/>
                      </a:solidFill>
                    </a:lnL>
                    <a:lnR w="288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57472b"/>
                      </a:solidFill>
                    </a:lnL>
                    <a:lnR w="288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57472b"/>
                      </a:solidFill>
                    </a:lnL>
                    <a:lnR w="288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57472b"/>
                      </a:solidFill>
                    </a:lnL>
                    <a:lnR w="576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7472b"/>
                      </a:solidFill>
                    </a:lnL>
                    <a:lnR w="288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57472b"/>
                      </a:solidFill>
                    </a:lnL>
                    <a:lnR>
                      <a:noFill/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icar A</a:t>
                      </a: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7472b"/>
                      </a:solidFill>
                    </a:lnL>
                    <a:lnR w="288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57472b"/>
                      </a:solidFill>
                    </a:lnL>
                    <a:lnR w="288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57472b"/>
                      </a:solidFill>
                    </a:lnL>
                    <a:lnR w="288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57472b"/>
                      </a:solidFill>
                    </a:lnL>
                    <a:lnR w="288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57472b"/>
                      </a:solidFill>
                    </a:lnL>
                    <a:lnR w="576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7472b"/>
                      </a:solidFill>
                    </a:lnL>
                    <a:lnR w="288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57472b"/>
                      </a:solidFill>
                    </a:lnL>
                    <a:lnR>
                      <a:noFill/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icar B</a:t>
                      </a: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7472b"/>
                      </a:solidFill>
                    </a:lnL>
                    <a:lnR w="288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57472b"/>
                      </a:solidFill>
                    </a:lnL>
                    <a:lnR w="288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57472b"/>
                      </a:solidFill>
                    </a:lnL>
                    <a:lnR w="288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57472b"/>
                      </a:solidFill>
                    </a:lnL>
                    <a:lnR w="288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57472b"/>
                      </a:solidFill>
                    </a:lnL>
                    <a:lnR w="576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7472b"/>
                      </a:solidFill>
                    </a:lnL>
                    <a:lnR w="288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57472b"/>
                      </a:solidFill>
                    </a:lnL>
                    <a:lnR>
                      <a:noFill/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ivan</a:t>
                      </a: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7472b"/>
                      </a:solidFill>
                    </a:lnL>
                    <a:lnR w="288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57472b"/>
                      </a:solidFill>
                    </a:lnL>
                    <a:lnR w="288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57472b"/>
                      </a:solidFill>
                    </a:lnL>
                    <a:lnR w="288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57472b"/>
                      </a:solidFill>
                    </a:lnL>
                    <a:lnR w="288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57472b"/>
                      </a:solidFill>
                    </a:lnL>
                    <a:lnR w="576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7472b"/>
                      </a:solidFill>
                    </a:lnL>
                    <a:lnR w="288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57472b"/>
                      </a:solidFill>
                    </a:lnL>
                    <a:lnR>
                      <a:noFill/>
                    </a:lnR>
                    <a:lnT w="5760">
                      <a:solidFill>
                        <a:srgbClr val="57472b"/>
                      </a:solidFill>
                    </a:lnT>
                    <a:lnB w="5760">
                      <a:solidFill>
                        <a:srgbClr val="57472b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eting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)</a:t>
                      </a: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1368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7472b"/>
                      </a:solidFill>
                    </a:lnL>
                    <a:lnR w="288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1368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57472b"/>
                      </a:solidFill>
                    </a:lnL>
                    <a:lnR w="288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1368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57472b"/>
                      </a:solidFill>
                    </a:lnL>
                    <a:lnR w="288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1368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57472b"/>
                      </a:solidFill>
                    </a:lnL>
                    <a:lnR w="288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1368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57472b"/>
                      </a:solidFill>
                    </a:lnL>
                    <a:lnR w="576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1368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7472b"/>
                      </a:solidFill>
                    </a:lnL>
                    <a:lnR w="2880">
                      <a:solidFill>
                        <a:srgbClr val="57472b"/>
                      </a:solidFill>
                    </a:lnR>
                    <a:lnT w="5760">
                      <a:solidFill>
                        <a:srgbClr val="57472b"/>
                      </a:solidFill>
                    </a:lnT>
                    <a:lnB w="13680">
                      <a:solidFill>
                        <a:srgbClr val="57472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472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80">
                      <a:solidFill>
                        <a:srgbClr val="57472b"/>
                      </a:solidFill>
                    </a:lnL>
                    <a:lnR>
                      <a:noFill/>
                    </a:lnR>
                    <a:lnT w="5760">
                      <a:solidFill>
                        <a:srgbClr val="57472b"/>
                      </a:solidFill>
                    </a:lnT>
                    <a:lnB w="13680">
                      <a:solidFill>
                        <a:srgbClr val="57472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Text Box 443"/>
          <p:cNvSpPr/>
          <p:nvPr/>
        </p:nvSpPr>
        <p:spPr>
          <a:xfrm>
            <a:off x="5050800" y="4979880"/>
            <a:ext cx="23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DB 60kph &amp; ODB 56kph)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56" name="Text Box 491"/>
          <p:cNvSpPr/>
          <p:nvPr/>
        </p:nvSpPr>
        <p:spPr>
          <a:xfrm>
            <a:off x="4200480" y="60912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57" name="Text Box 492"/>
          <p:cNvSpPr/>
          <p:nvPr/>
        </p:nvSpPr>
        <p:spPr>
          <a:xfrm>
            <a:off x="5908680" y="609120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58" name="Text Box 496"/>
          <p:cNvSpPr/>
          <p:nvPr/>
        </p:nvSpPr>
        <p:spPr>
          <a:xfrm>
            <a:off x="3032640" y="535464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DB 64kph)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59" name="Text Box 497"/>
          <p:cNvSpPr/>
          <p:nvPr/>
        </p:nvSpPr>
        <p:spPr>
          <a:xfrm>
            <a:off x="3027960" y="497988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DB 64kph)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60" name="Text Box 498"/>
          <p:cNvSpPr/>
          <p:nvPr/>
        </p:nvSpPr>
        <p:spPr>
          <a:xfrm>
            <a:off x="3402360" y="571824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DB 64kph)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61" name="Text Box 499"/>
          <p:cNvSpPr/>
          <p:nvPr/>
        </p:nvSpPr>
        <p:spPr>
          <a:xfrm>
            <a:off x="6441480" y="571968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DB 60kph)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62" name="Text Box 501"/>
          <p:cNvSpPr/>
          <p:nvPr/>
        </p:nvSpPr>
        <p:spPr>
          <a:xfrm>
            <a:off x="5054040" y="535140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DB 60kph)</a:t>
            </a:r>
            <a:endParaRPr b="0" lang="en-US" sz="1400" spc="-1" strike="noStrike">
              <a:solidFill>
                <a:srgbClr val="57472b"/>
              </a:solidFill>
              <a:latin typeface="Times New Roman"/>
            </a:endParaRPr>
          </a:p>
        </p:txBody>
      </p:sp>
      <p:sp>
        <p:nvSpPr>
          <p:cNvPr id="163" name="Text Box 510"/>
          <p:cNvSpPr/>
          <p:nvPr/>
        </p:nvSpPr>
        <p:spPr>
          <a:xfrm>
            <a:off x="4551840" y="6456240"/>
            <a:ext cx="362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Meeting of the Informal Group on Frontal Impact</a:t>
            </a:r>
            <a:endParaRPr b="0" lang="en-US" sz="1200" spc="-1" strike="noStrike">
              <a:solidFill>
                <a:srgbClr val="5747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6:39:37Z</dcterms:created>
  <dc:creator>ARAI</dc:creator>
  <dc:description/>
  <dc:language>en-US</dc:language>
  <cp:lastModifiedBy>Gianotti</cp:lastModifiedBy>
  <dcterms:modified xsi:type="dcterms:W3CDTF">2008-12-09T10:38:26Z</dcterms:modified>
  <cp:revision>18</cp:revision>
  <dc:subject/>
  <dc:title>Japan’s Research for R94 Amendment</dc:title>
</cp:coreProperties>
</file>