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FC04-51D0-4F2E-8B4D-8684EF47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C293-BEE1-4BAD-BA30-A6660D19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CBC6-CA02-477C-8713-531A0714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0A09-FA82-4383-84A2-AD907679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5470-9A01-4FE8-B464-7A16C694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89ED-7E00-430A-A86E-B5DC6D5F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EECF-90EF-40CB-B8AE-7DA45EFC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4AF1-75E8-4795-A8E4-E203D4EB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2B67-1C64-459C-93DC-10991267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335C-2D1B-463D-84EF-D8E98900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102D-5131-4BF0-8F55-84B34AB5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CBB9-3AAA-4A7A-93CB-1F115519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9320" y="6226200"/>
            <a:ext cx="654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6723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67235"/>
                </a:solidFill>
                <a:latin typeface="Times New Roman"/>
              </a:rPr>
              <a:t>Netherlands’ presentation for Informal Group on Frontal Impact of GRSP 6 Oct.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9534-5750-4DBB-AE09-321B77377BE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36960" y="2484360"/>
            <a:ext cx="3932280" cy="27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UNECE Reg.94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ast, Present &amp; Fu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resentation by the expert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The Netherlands to provide a broader view on frontal impact pro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30760" y="593640"/>
            <a:ext cx="325116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974640" y="8802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FI-02-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89000" y="555480"/>
            <a:ext cx="744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in conclusions of EEVC research that lead to UNECE R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79880" y="1047600"/>
            <a:ext cx="4683240" cy="54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test parameters which best replicated the baseline 50km/h 50% overlap car to car impact were as follow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most appropriate design of deformable barrier worked out to be the one now specified in UNECE R94, hereafter called EEVC barr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overlap which gave results most similar to a 50 percent , 50km/h car to car impact was 40 percent of the car’s widt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test speed to replicate the 50km/h 50% overlap baseline test should be between 55km/h and 60 km/h, but closer to the former. It was agreed that the most appropriate test speed to replicate the baseline tests was 56km/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1560" y="1349280"/>
            <a:ext cx="311796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9440" y="744480"/>
            <a:ext cx="90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ackground for the baseline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car to car impact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50km/h and 50% overl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25600" y="1295280"/>
            <a:ext cx="6737400" cy="36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rious accidents studies suggested that the appropriate overlap lay in the range of 40 to 60 percent, for the baseline test was selected 50 percent overlap as a good comprom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value of 50km/h for the baseline test was selected for pragmatic rea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 the used accident data showed that to address an adequate proportion of fatal and serious injuries the test should replicate rather a car to car impact speed of 60km/h or grea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21840" y="28195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67235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25640" y="6276960"/>
            <a:ext cx="657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94640" y="663480"/>
            <a:ext cx="45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Early remarks on the EEVC Barrie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5600" y="1295280"/>
            <a:ext cx="67374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uring the validation phase  it was already found that in some cases stiff members penetrated the deformable EEVC barrier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is was generally not considered to be of major importance because one of the main advantages of a deformable face is the removal of the initial very high inertial force generated when the stiff members of the car structure impacts a rigid wall without any deformable fa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21840" y="28195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67235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67640" y="604800"/>
            <a:ext cx="48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Use of EEVC barrier from 1996 to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20840" y="1009800"/>
            <a:ext cx="6737400" cy="50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baseline test has lead to an EEVC test procedure and in 1996 this EEVC test procedure has been introduced in UNECE- and in EC-legislation with EEVC’s recommended impact speed of 56km/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 Euro NCAP adopted also the EEVC test procedure in 1996, but with an increased impact speed of 64km/h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first Euro NCAP phases showed many cases where the structural integrity of the passenger compartments was seriously compromis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Following Euro NCAP phases with new car models, replacing the ones already tested, clearly showed big improvements on structural integrity as well as on occupant rating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 was demonstrated that the severe Euro NCAP demands were feasi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21840" y="28195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67235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60160" y="517680"/>
            <a:ext cx="63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ole of vehicle mass in UNECE R94 test 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7040" y="895320"/>
            <a:ext cx="8429760" cy="50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UNECE R94 testprocedure is a crash against a fixed barr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 the generated kinetic energy is related to the mass of the test vehic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refore lighter vehicles are tested with less initial kinetic energy than the heavier 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in reality both light and heavy vehicles meet the same collission partner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ow, again we find ourselves on a point of taking decisions for an introduction of a more realistic frontal impa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Netherlands would like to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avoid non-validated calculation methods to guarantee a minimum test severity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needed in case of using a fixed (PDB) barr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Netherlands would like a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guaranteed amount of initial kinetic energy provided by the collission partne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21840" y="28195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67235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05040" y="404640"/>
            <a:ext cx="6296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etherlands’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esearch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on a moving P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5200" y="933480"/>
            <a:ext cx="7786800" cy="41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f. Document No. GRSP-42-32 already reported about a moving PDB to car test (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45/45 km/h, barrier 1500 kg, Astra 1400 kg, 50% overlap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)  that generated roughly the same kinetic energy compared with the fixed PDB test (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60 km/h, Astra 1400 kg, 50% overlap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) and lead to simular resul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eplicating a car to car test of 45/45 km/h is thought to be in contradiction of EEVC’s recommendation for a baseline tes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21840" y="28195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67235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66880" y="631800"/>
            <a:ext cx="6296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etherlands’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esearch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on a moving PDB (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9720" y="933480"/>
            <a:ext cx="7296120" cy="53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etherlands is of the opinion that complementary research is needed, therefore TNO was asked to further explore the moving PDB procedure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chosen test severity in the continued research is the follow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56/56 km/h, moving PDB to car, 50% overlap. As representative of a lighter car the Euro NCAP 5 star car FIAT 500 has been cho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oing so the following tests will be taken into consider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NO test:    FIAT 500 to moving PDB, 56/56 km/h, 50% overlap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DAC test:  FIAT 500 to an Audi Q7, 56/56 km/h, 50% overlap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uro NCAP: FIAT 500 to static EEVC barrier, 64/0 km/h, 40% overla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21840" y="28195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67235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0720" y="517680"/>
            <a:ext cx="695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etherlands’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esearch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on a moving PDB (I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5200" y="1236600"/>
            <a:ext cx="786276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(moving) PDB test has the potential to also assess (to a certain extent) compatibi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Netherlands is of the opinion that an additonal full width test is necessary to overcome possible misuse of the (moving) PDB barri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 full width test seems also useful as restraint te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21840" y="28195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67235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5T09:29:06Z</dcterms:created>
  <dc:creator>van Geenhuizen</dc:creator>
  <dc:description/>
  <dc:language>en-US</dc:language>
  <cp:lastModifiedBy>Gianotti</cp:lastModifiedBy>
  <dcterms:modified xsi:type="dcterms:W3CDTF">2008-12-05T09:55:41Z</dcterms:modified>
  <cp:revision>79</cp:revision>
  <dc:subject/>
  <dc:title>Geen diatitel</dc:title>
</cp:coreProperties>
</file>