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3319" t="0" r="0" b="267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370560"/>
            <a:ext cx="9144000" cy="4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4041720"/>
            <a:ext cx="50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576760"/>
            <a:ext cx="500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370560"/>
            <a:ext cx="9144000" cy="4874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39640" y="549360"/>
            <a:ext cx="2519280" cy="1224000"/>
            <a:chOff x="539640" y="549360"/>
            <a:chExt cx="2519280" cy="1224000"/>
          </a:xfrm>
        </p:grpSpPr>
        <p:sp>
          <p:nvSpPr>
            <p:cNvPr id="45" name=""/>
            <p:cNvSpPr/>
            <p:nvPr/>
          </p:nvSpPr>
          <p:spPr>
            <a:xfrm>
              <a:off x="582120" y="1470600"/>
              <a:ext cx="41760" cy="302760"/>
            </a:xfrm>
            <a:prstGeom prst="rect">
              <a:avLst/>
            </a:pr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3800" y="1470600"/>
              <a:ext cx="243720" cy="302760"/>
            </a:xfrm>
            <a:custGeom>
              <a:avLst/>
              <a:gdLst/>
              <a:ahLst/>
              <a:rect l="l" t="t" r="r" b="b"/>
              <a:pathLst>
                <a:path w="1600" h="2072">
                  <a:moveTo>
                    <a:pt x="1600" y="1037"/>
                  </a:moveTo>
                  <a:lnTo>
                    <a:pt x="1600" y="1106"/>
                  </a:lnTo>
                  <a:lnTo>
                    <a:pt x="1599" y="1169"/>
                  </a:lnTo>
                  <a:lnTo>
                    <a:pt x="1599" y="1226"/>
                  </a:lnTo>
                  <a:lnTo>
                    <a:pt x="1598" y="1278"/>
                  </a:lnTo>
                  <a:lnTo>
                    <a:pt x="1595" y="1325"/>
                  </a:lnTo>
                  <a:lnTo>
                    <a:pt x="1593" y="1365"/>
                  </a:lnTo>
                  <a:lnTo>
                    <a:pt x="1591" y="1401"/>
                  </a:lnTo>
                  <a:lnTo>
                    <a:pt x="1588" y="1433"/>
                  </a:lnTo>
                  <a:lnTo>
                    <a:pt x="1585" y="1462"/>
                  </a:lnTo>
                  <a:lnTo>
                    <a:pt x="1581" y="1490"/>
                  </a:lnTo>
                  <a:lnTo>
                    <a:pt x="1577" y="1516"/>
                  </a:lnTo>
                  <a:lnTo>
                    <a:pt x="1571" y="1543"/>
                  </a:lnTo>
                  <a:lnTo>
                    <a:pt x="1566" y="1569"/>
                  </a:lnTo>
                  <a:lnTo>
                    <a:pt x="1560" y="1594"/>
                  </a:lnTo>
                  <a:lnTo>
                    <a:pt x="1553" y="1619"/>
                  </a:lnTo>
                  <a:lnTo>
                    <a:pt x="1546" y="1642"/>
                  </a:lnTo>
                  <a:lnTo>
                    <a:pt x="1539" y="1664"/>
                  </a:lnTo>
                  <a:lnTo>
                    <a:pt x="1531" y="1686"/>
                  </a:lnTo>
                  <a:lnTo>
                    <a:pt x="1523" y="1708"/>
                  </a:lnTo>
                  <a:lnTo>
                    <a:pt x="1514" y="1728"/>
                  </a:lnTo>
                  <a:lnTo>
                    <a:pt x="1505" y="1748"/>
                  </a:lnTo>
                  <a:lnTo>
                    <a:pt x="1494" y="1768"/>
                  </a:lnTo>
                  <a:lnTo>
                    <a:pt x="1484" y="1785"/>
                  </a:lnTo>
                  <a:lnTo>
                    <a:pt x="1473" y="1802"/>
                  </a:lnTo>
                  <a:lnTo>
                    <a:pt x="1460" y="1821"/>
                  </a:lnTo>
                  <a:lnTo>
                    <a:pt x="1446" y="1840"/>
                  </a:lnTo>
                  <a:lnTo>
                    <a:pt x="1433" y="1857"/>
                  </a:lnTo>
                  <a:lnTo>
                    <a:pt x="1419" y="1873"/>
                  </a:lnTo>
                  <a:lnTo>
                    <a:pt x="1403" y="1889"/>
                  </a:lnTo>
                  <a:lnTo>
                    <a:pt x="1388" y="1904"/>
                  </a:lnTo>
                  <a:lnTo>
                    <a:pt x="1372" y="1919"/>
                  </a:lnTo>
                  <a:lnTo>
                    <a:pt x="1356" y="1933"/>
                  </a:lnTo>
                  <a:lnTo>
                    <a:pt x="1338" y="1945"/>
                  </a:lnTo>
                  <a:lnTo>
                    <a:pt x="1321" y="1957"/>
                  </a:lnTo>
                  <a:lnTo>
                    <a:pt x="1302" y="1969"/>
                  </a:lnTo>
                  <a:lnTo>
                    <a:pt x="1284" y="1980"/>
                  </a:lnTo>
                  <a:lnTo>
                    <a:pt x="1264" y="1991"/>
                  </a:lnTo>
                  <a:lnTo>
                    <a:pt x="1244" y="2000"/>
                  </a:lnTo>
                  <a:lnTo>
                    <a:pt x="1224" y="2008"/>
                  </a:lnTo>
                  <a:lnTo>
                    <a:pt x="1203" y="2016"/>
                  </a:lnTo>
                  <a:lnTo>
                    <a:pt x="1183" y="2023"/>
                  </a:lnTo>
                  <a:lnTo>
                    <a:pt x="1160" y="2030"/>
                  </a:lnTo>
                  <a:lnTo>
                    <a:pt x="1138" y="2036"/>
                  </a:lnTo>
                  <a:lnTo>
                    <a:pt x="1115" y="2041"/>
                  </a:lnTo>
                  <a:lnTo>
                    <a:pt x="1090" y="2047"/>
                  </a:lnTo>
                  <a:lnTo>
                    <a:pt x="1064" y="2051"/>
                  </a:lnTo>
                  <a:lnTo>
                    <a:pt x="1037" y="2055"/>
                  </a:lnTo>
                  <a:lnTo>
                    <a:pt x="1009" y="2058"/>
                  </a:lnTo>
                  <a:lnTo>
                    <a:pt x="950" y="2065"/>
                  </a:lnTo>
                  <a:lnTo>
                    <a:pt x="886" y="2069"/>
                  </a:lnTo>
                  <a:lnTo>
                    <a:pt x="819" y="2072"/>
                  </a:lnTo>
                  <a:lnTo>
                    <a:pt x="747" y="2072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817" y="1"/>
                  </a:lnTo>
                  <a:lnTo>
                    <a:pt x="885" y="4"/>
                  </a:lnTo>
                  <a:lnTo>
                    <a:pt x="948" y="8"/>
                  </a:lnTo>
                  <a:lnTo>
                    <a:pt x="1007" y="14"/>
                  </a:lnTo>
                  <a:lnTo>
                    <a:pt x="1035" y="18"/>
                  </a:lnTo>
                  <a:lnTo>
                    <a:pt x="1062" y="22"/>
                  </a:lnTo>
                  <a:lnTo>
                    <a:pt x="1087" y="27"/>
                  </a:lnTo>
                  <a:lnTo>
                    <a:pt x="1112" y="32"/>
                  </a:lnTo>
                  <a:lnTo>
                    <a:pt x="1135" y="37"/>
                  </a:lnTo>
                  <a:lnTo>
                    <a:pt x="1158" y="43"/>
                  </a:lnTo>
                  <a:lnTo>
                    <a:pt x="1179" y="49"/>
                  </a:lnTo>
                  <a:lnTo>
                    <a:pt x="1200" y="56"/>
                  </a:lnTo>
                  <a:lnTo>
                    <a:pt x="1221" y="64"/>
                  </a:lnTo>
                  <a:lnTo>
                    <a:pt x="1241" y="72"/>
                  </a:lnTo>
                  <a:lnTo>
                    <a:pt x="1262" y="83"/>
                  </a:lnTo>
                  <a:lnTo>
                    <a:pt x="1280" y="92"/>
                  </a:lnTo>
                  <a:lnTo>
                    <a:pt x="1299" y="104"/>
                  </a:lnTo>
                  <a:lnTo>
                    <a:pt x="1317" y="115"/>
                  </a:lnTo>
                  <a:lnTo>
                    <a:pt x="1335" y="127"/>
                  </a:lnTo>
                  <a:lnTo>
                    <a:pt x="1352" y="141"/>
                  </a:lnTo>
                  <a:lnTo>
                    <a:pt x="1369" y="154"/>
                  </a:lnTo>
                  <a:lnTo>
                    <a:pt x="1385" y="169"/>
                  </a:lnTo>
                  <a:lnTo>
                    <a:pt x="1401" y="184"/>
                  </a:lnTo>
                  <a:lnTo>
                    <a:pt x="1416" y="200"/>
                  </a:lnTo>
                  <a:lnTo>
                    <a:pt x="1430" y="217"/>
                  </a:lnTo>
                  <a:lnTo>
                    <a:pt x="1444" y="233"/>
                  </a:lnTo>
                  <a:lnTo>
                    <a:pt x="1457" y="251"/>
                  </a:lnTo>
                  <a:lnTo>
                    <a:pt x="1470" y="270"/>
                  </a:lnTo>
                  <a:lnTo>
                    <a:pt x="1481" y="287"/>
                  </a:lnTo>
                  <a:lnTo>
                    <a:pt x="1492" y="306"/>
                  </a:lnTo>
                  <a:lnTo>
                    <a:pt x="1501" y="326"/>
                  </a:lnTo>
                  <a:lnTo>
                    <a:pt x="1512" y="346"/>
                  </a:lnTo>
                  <a:lnTo>
                    <a:pt x="1520" y="367"/>
                  </a:lnTo>
                  <a:lnTo>
                    <a:pt x="1529" y="387"/>
                  </a:lnTo>
                  <a:lnTo>
                    <a:pt x="1537" y="410"/>
                  </a:lnTo>
                  <a:lnTo>
                    <a:pt x="1544" y="433"/>
                  </a:lnTo>
                  <a:lnTo>
                    <a:pt x="1551" y="457"/>
                  </a:lnTo>
                  <a:lnTo>
                    <a:pt x="1558" y="482"/>
                  </a:lnTo>
                  <a:lnTo>
                    <a:pt x="1564" y="506"/>
                  </a:lnTo>
                  <a:lnTo>
                    <a:pt x="1570" y="533"/>
                  </a:lnTo>
                  <a:lnTo>
                    <a:pt x="1576" y="558"/>
                  </a:lnTo>
                  <a:lnTo>
                    <a:pt x="1580" y="586"/>
                  </a:lnTo>
                  <a:lnTo>
                    <a:pt x="1585" y="614"/>
                  </a:lnTo>
                  <a:lnTo>
                    <a:pt x="1588" y="643"/>
                  </a:lnTo>
                  <a:lnTo>
                    <a:pt x="1591" y="675"/>
                  </a:lnTo>
                  <a:lnTo>
                    <a:pt x="1593" y="712"/>
                  </a:lnTo>
                  <a:lnTo>
                    <a:pt x="1595" y="753"/>
                  </a:lnTo>
                  <a:lnTo>
                    <a:pt x="1598" y="800"/>
                  </a:lnTo>
                  <a:lnTo>
                    <a:pt x="1599" y="851"/>
                  </a:lnTo>
                  <a:lnTo>
                    <a:pt x="1599" y="908"/>
                  </a:lnTo>
                  <a:lnTo>
                    <a:pt x="1600" y="971"/>
                  </a:lnTo>
                  <a:lnTo>
                    <a:pt x="1600" y="1037"/>
                  </a:lnTo>
                  <a:close/>
                  <a:moveTo>
                    <a:pt x="1322" y="1037"/>
                  </a:moveTo>
                  <a:lnTo>
                    <a:pt x="1322" y="978"/>
                  </a:lnTo>
                  <a:lnTo>
                    <a:pt x="1321" y="920"/>
                  </a:lnTo>
                  <a:lnTo>
                    <a:pt x="1319" y="865"/>
                  </a:lnTo>
                  <a:lnTo>
                    <a:pt x="1316" y="813"/>
                  </a:lnTo>
                  <a:lnTo>
                    <a:pt x="1313" y="764"/>
                  </a:lnTo>
                  <a:lnTo>
                    <a:pt x="1308" y="718"/>
                  </a:lnTo>
                  <a:lnTo>
                    <a:pt x="1303" y="673"/>
                  </a:lnTo>
                  <a:lnTo>
                    <a:pt x="1298" y="632"/>
                  </a:lnTo>
                  <a:lnTo>
                    <a:pt x="1291" y="593"/>
                  </a:lnTo>
                  <a:lnTo>
                    <a:pt x="1283" y="557"/>
                  </a:lnTo>
                  <a:lnTo>
                    <a:pt x="1274" y="523"/>
                  </a:lnTo>
                  <a:lnTo>
                    <a:pt x="1265" y="493"/>
                  </a:lnTo>
                  <a:lnTo>
                    <a:pt x="1256" y="465"/>
                  </a:lnTo>
                  <a:lnTo>
                    <a:pt x="1245" y="440"/>
                  </a:lnTo>
                  <a:lnTo>
                    <a:pt x="1234" y="418"/>
                  </a:lnTo>
                  <a:lnTo>
                    <a:pt x="1221" y="397"/>
                  </a:lnTo>
                  <a:lnTo>
                    <a:pt x="1212" y="385"/>
                  </a:lnTo>
                  <a:lnTo>
                    <a:pt x="1202" y="374"/>
                  </a:lnTo>
                  <a:lnTo>
                    <a:pt x="1192" y="363"/>
                  </a:lnTo>
                  <a:lnTo>
                    <a:pt x="1181" y="353"/>
                  </a:lnTo>
                  <a:lnTo>
                    <a:pt x="1170" y="342"/>
                  </a:lnTo>
                  <a:lnTo>
                    <a:pt x="1157" y="333"/>
                  </a:lnTo>
                  <a:lnTo>
                    <a:pt x="1144" y="324"/>
                  </a:lnTo>
                  <a:lnTo>
                    <a:pt x="1130" y="315"/>
                  </a:lnTo>
                  <a:lnTo>
                    <a:pt x="1116" y="307"/>
                  </a:lnTo>
                  <a:lnTo>
                    <a:pt x="1101" y="300"/>
                  </a:lnTo>
                  <a:lnTo>
                    <a:pt x="1085" y="293"/>
                  </a:lnTo>
                  <a:lnTo>
                    <a:pt x="1069" y="286"/>
                  </a:lnTo>
                  <a:lnTo>
                    <a:pt x="1052" y="282"/>
                  </a:lnTo>
                  <a:lnTo>
                    <a:pt x="1034" y="276"/>
                  </a:lnTo>
                  <a:lnTo>
                    <a:pt x="1015" y="271"/>
                  </a:lnTo>
                  <a:lnTo>
                    <a:pt x="997" y="267"/>
                  </a:lnTo>
                  <a:lnTo>
                    <a:pt x="974" y="263"/>
                  </a:lnTo>
                  <a:lnTo>
                    <a:pt x="949" y="261"/>
                  </a:lnTo>
                  <a:lnTo>
                    <a:pt x="921" y="257"/>
                  </a:lnTo>
                  <a:lnTo>
                    <a:pt x="888" y="256"/>
                  </a:lnTo>
                  <a:lnTo>
                    <a:pt x="854" y="254"/>
                  </a:lnTo>
                  <a:lnTo>
                    <a:pt x="814" y="253"/>
                  </a:lnTo>
                  <a:lnTo>
                    <a:pt x="772" y="251"/>
                  </a:lnTo>
                  <a:lnTo>
                    <a:pt x="727" y="251"/>
                  </a:lnTo>
                  <a:lnTo>
                    <a:pt x="273" y="251"/>
                  </a:lnTo>
                  <a:lnTo>
                    <a:pt x="273" y="1821"/>
                  </a:lnTo>
                  <a:lnTo>
                    <a:pt x="727" y="1821"/>
                  </a:lnTo>
                  <a:lnTo>
                    <a:pt x="772" y="1821"/>
                  </a:lnTo>
                  <a:lnTo>
                    <a:pt x="814" y="1820"/>
                  </a:lnTo>
                  <a:lnTo>
                    <a:pt x="854" y="1819"/>
                  </a:lnTo>
                  <a:lnTo>
                    <a:pt x="888" y="1818"/>
                  </a:lnTo>
                  <a:lnTo>
                    <a:pt x="921" y="1815"/>
                  </a:lnTo>
                  <a:lnTo>
                    <a:pt x="949" y="1813"/>
                  </a:lnTo>
                  <a:lnTo>
                    <a:pt x="974" y="1809"/>
                  </a:lnTo>
                  <a:lnTo>
                    <a:pt x="997" y="1806"/>
                  </a:lnTo>
                  <a:lnTo>
                    <a:pt x="1015" y="1802"/>
                  </a:lnTo>
                  <a:lnTo>
                    <a:pt x="1034" y="1798"/>
                  </a:lnTo>
                  <a:lnTo>
                    <a:pt x="1052" y="1793"/>
                  </a:lnTo>
                  <a:lnTo>
                    <a:pt x="1069" y="1787"/>
                  </a:lnTo>
                  <a:lnTo>
                    <a:pt x="1085" y="1782"/>
                  </a:lnTo>
                  <a:lnTo>
                    <a:pt x="1101" y="1775"/>
                  </a:lnTo>
                  <a:lnTo>
                    <a:pt x="1116" y="1768"/>
                  </a:lnTo>
                  <a:lnTo>
                    <a:pt x="1130" y="1759"/>
                  </a:lnTo>
                  <a:lnTo>
                    <a:pt x="1144" y="1751"/>
                  </a:lnTo>
                  <a:lnTo>
                    <a:pt x="1157" y="1743"/>
                  </a:lnTo>
                  <a:lnTo>
                    <a:pt x="1170" y="1734"/>
                  </a:lnTo>
                  <a:lnTo>
                    <a:pt x="1181" y="1723"/>
                  </a:lnTo>
                  <a:lnTo>
                    <a:pt x="1192" y="1713"/>
                  </a:lnTo>
                  <a:lnTo>
                    <a:pt x="1202" y="1702"/>
                  </a:lnTo>
                  <a:lnTo>
                    <a:pt x="1212" y="1691"/>
                  </a:lnTo>
                  <a:lnTo>
                    <a:pt x="1221" y="1678"/>
                  </a:lnTo>
                  <a:lnTo>
                    <a:pt x="1234" y="1658"/>
                  </a:lnTo>
                  <a:lnTo>
                    <a:pt x="1245" y="1636"/>
                  </a:lnTo>
                  <a:lnTo>
                    <a:pt x="1256" y="1611"/>
                  </a:lnTo>
                  <a:lnTo>
                    <a:pt x="1265" y="1583"/>
                  </a:lnTo>
                  <a:lnTo>
                    <a:pt x="1274" y="1552"/>
                  </a:lnTo>
                  <a:lnTo>
                    <a:pt x="1283" y="1519"/>
                  </a:lnTo>
                  <a:lnTo>
                    <a:pt x="1291" y="1483"/>
                  </a:lnTo>
                  <a:lnTo>
                    <a:pt x="1298" y="1444"/>
                  </a:lnTo>
                  <a:lnTo>
                    <a:pt x="1303" y="1402"/>
                  </a:lnTo>
                  <a:lnTo>
                    <a:pt x="1308" y="1358"/>
                  </a:lnTo>
                  <a:lnTo>
                    <a:pt x="1313" y="1312"/>
                  </a:lnTo>
                  <a:lnTo>
                    <a:pt x="1316" y="1262"/>
                  </a:lnTo>
                  <a:lnTo>
                    <a:pt x="1319" y="1211"/>
                  </a:lnTo>
                  <a:lnTo>
                    <a:pt x="1321" y="1156"/>
                  </a:lnTo>
                  <a:lnTo>
                    <a:pt x="1322" y="1098"/>
                  </a:lnTo>
                  <a:lnTo>
                    <a:pt x="1322" y="1037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21320" y="1470600"/>
              <a:ext cx="42120" cy="302760"/>
            </a:xfrm>
            <a:prstGeom prst="rect">
              <a:avLst/>
            </a:pr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08440" y="1470600"/>
              <a:ext cx="286560" cy="302760"/>
            </a:xfrm>
            <a:custGeom>
              <a:avLst/>
              <a:gdLst/>
              <a:ahLst/>
              <a:rect l="l" t="t" r="r" b="b"/>
              <a:pathLst>
                <a:path w="1876" h="2072">
                  <a:moveTo>
                    <a:pt x="1876" y="2072"/>
                  </a:moveTo>
                  <a:lnTo>
                    <a:pt x="1574" y="2072"/>
                  </a:lnTo>
                  <a:lnTo>
                    <a:pt x="1364" y="1501"/>
                  </a:lnTo>
                  <a:lnTo>
                    <a:pt x="495" y="1501"/>
                  </a:lnTo>
                  <a:lnTo>
                    <a:pt x="288" y="2072"/>
                  </a:lnTo>
                  <a:lnTo>
                    <a:pt x="0" y="2072"/>
                  </a:lnTo>
                  <a:lnTo>
                    <a:pt x="801" y="0"/>
                  </a:lnTo>
                  <a:lnTo>
                    <a:pt x="1076" y="0"/>
                  </a:lnTo>
                  <a:lnTo>
                    <a:pt x="1876" y="2072"/>
                  </a:lnTo>
                  <a:close/>
                  <a:moveTo>
                    <a:pt x="1275" y="1261"/>
                  </a:moveTo>
                  <a:lnTo>
                    <a:pt x="931" y="333"/>
                  </a:lnTo>
                  <a:lnTo>
                    <a:pt x="587" y="1261"/>
                  </a:lnTo>
                  <a:lnTo>
                    <a:pt x="1275" y="1261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0000" y="1470600"/>
              <a:ext cx="244080" cy="302760"/>
            </a:xfrm>
            <a:custGeom>
              <a:avLst/>
              <a:gdLst/>
              <a:ahLst/>
              <a:rect l="l" t="t" r="r" b="b"/>
              <a:pathLst>
                <a:path w="1600" h="2072">
                  <a:moveTo>
                    <a:pt x="1600" y="1037"/>
                  </a:moveTo>
                  <a:lnTo>
                    <a:pt x="1600" y="1106"/>
                  </a:lnTo>
                  <a:lnTo>
                    <a:pt x="1599" y="1169"/>
                  </a:lnTo>
                  <a:lnTo>
                    <a:pt x="1599" y="1226"/>
                  </a:lnTo>
                  <a:lnTo>
                    <a:pt x="1596" y="1278"/>
                  </a:lnTo>
                  <a:lnTo>
                    <a:pt x="1595" y="1325"/>
                  </a:lnTo>
                  <a:lnTo>
                    <a:pt x="1593" y="1365"/>
                  </a:lnTo>
                  <a:lnTo>
                    <a:pt x="1591" y="1401"/>
                  </a:lnTo>
                  <a:lnTo>
                    <a:pt x="1588" y="1433"/>
                  </a:lnTo>
                  <a:lnTo>
                    <a:pt x="1585" y="1462"/>
                  </a:lnTo>
                  <a:lnTo>
                    <a:pt x="1580" y="1490"/>
                  </a:lnTo>
                  <a:lnTo>
                    <a:pt x="1577" y="1516"/>
                  </a:lnTo>
                  <a:lnTo>
                    <a:pt x="1571" y="1543"/>
                  </a:lnTo>
                  <a:lnTo>
                    <a:pt x="1566" y="1569"/>
                  </a:lnTo>
                  <a:lnTo>
                    <a:pt x="1560" y="1594"/>
                  </a:lnTo>
                  <a:lnTo>
                    <a:pt x="1553" y="1619"/>
                  </a:lnTo>
                  <a:lnTo>
                    <a:pt x="1546" y="1642"/>
                  </a:lnTo>
                  <a:lnTo>
                    <a:pt x="1539" y="1664"/>
                  </a:lnTo>
                  <a:lnTo>
                    <a:pt x="1531" y="1686"/>
                  </a:lnTo>
                  <a:lnTo>
                    <a:pt x="1522" y="1708"/>
                  </a:lnTo>
                  <a:lnTo>
                    <a:pt x="1514" y="1728"/>
                  </a:lnTo>
                  <a:lnTo>
                    <a:pt x="1505" y="1748"/>
                  </a:lnTo>
                  <a:lnTo>
                    <a:pt x="1494" y="1768"/>
                  </a:lnTo>
                  <a:lnTo>
                    <a:pt x="1484" y="1785"/>
                  </a:lnTo>
                  <a:lnTo>
                    <a:pt x="1472" y="1802"/>
                  </a:lnTo>
                  <a:lnTo>
                    <a:pt x="1459" y="1821"/>
                  </a:lnTo>
                  <a:lnTo>
                    <a:pt x="1446" y="1840"/>
                  </a:lnTo>
                  <a:lnTo>
                    <a:pt x="1432" y="1857"/>
                  </a:lnTo>
                  <a:lnTo>
                    <a:pt x="1419" y="1873"/>
                  </a:lnTo>
                  <a:lnTo>
                    <a:pt x="1403" y="1889"/>
                  </a:lnTo>
                  <a:lnTo>
                    <a:pt x="1388" y="1904"/>
                  </a:lnTo>
                  <a:lnTo>
                    <a:pt x="1372" y="1919"/>
                  </a:lnTo>
                  <a:lnTo>
                    <a:pt x="1356" y="1933"/>
                  </a:lnTo>
                  <a:lnTo>
                    <a:pt x="1338" y="1945"/>
                  </a:lnTo>
                  <a:lnTo>
                    <a:pt x="1321" y="1957"/>
                  </a:lnTo>
                  <a:lnTo>
                    <a:pt x="1302" y="1969"/>
                  </a:lnTo>
                  <a:lnTo>
                    <a:pt x="1284" y="1980"/>
                  </a:lnTo>
                  <a:lnTo>
                    <a:pt x="1264" y="1991"/>
                  </a:lnTo>
                  <a:lnTo>
                    <a:pt x="1244" y="2000"/>
                  </a:lnTo>
                  <a:lnTo>
                    <a:pt x="1223" y="2008"/>
                  </a:lnTo>
                  <a:lnTo>
                    <a:pt x="1202" y="2016"/>
                  </a:lnTo>
                  <a:lnTo>
                    <a:pt x="1183" y="2023"/>
                  </a:lnTo>
                  <a:lnTo>
                    <a:pt x="1160" y="2030"/>
                  </a:lnTo>
                  <a:lnTo>
                    <a:pt x="1138" y="2036"/>
                  </a:lnTo>
                  <a:lnTo>
                    <a:pt x="1115" y="2041"/>
                  </a:lnTo>
                  <a:lnTo>
                    <a:pt x="1090" y="2047"/>
                  </a:lnTo>
                  <a:lnTo>
                    <a:pt x="1064" y="2051"/>
                  </a:lnTo>
                  <a:lnTo>
                    <a:pt x="1037" y="2055"/>
                  </a:lnTo>
                  <a:lnTo>
                    <a:pt x="1009" y="2058"/>
                  </a:lnTo>
                  <a:lnTo>
                    <a:pt x="950" y="2065"/>
                  </a:lnTo>
                  <a:lnTo>
                    <a:pt x="886" y="2069"/>
                  </a:lnTo>
                  <a:lnTo>
                    <a:pt x="819" y="2072"/>
                  </a:lnTo>
                  <a:lnTo>
                    <a:pt x="747" y="2072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817" y="1"/>
                  </a:lnTo>
                  <a:lnTo>
                    <a:pt x="885" y="4"/>
                  </a:lnTo>
                  <a:lnTo>
                    <a:pt x="948" y="8"/>
                  </a:lnTo>
                  <a:lnTo>
                    <a:pt x="1007" y="14"/>
                  </a:lnTo>
                  <a:lnTo>
                    <a:pt x="1035" y="18"/>
                  </a:lnTo>
                  <a:lnTo>
                    <a:pt x="1062" y="22"/>
                  </a:lnTo>
                  <a:lnTo>
                    <a:pt x="1087" y="27"/>
                  </a:lnTo>
                  <a:lnTo>
                    <a:pt x="1112" y="32"/>
                  </a:lnTo>
                  <a:lnTo>
                    <a:pt x="1135" y="37"/>
                  </a:lnTo>
                  <a:lnTo>
                    <a:pt x="1158" y="43"/>
                  </a:lnTo>
                  <a:lnTo>
                    <a:pt x="1179" y="49"/>
                  </a:lnTo>
                  <a:lnTo>
                    <a:pt x="1200" y="56"/>
                  </a:lnTo>
                  <a:lnTo>
                    <a:pt x="1221" y="64"/>
                  </a:lnTo>
                  <a:lnTo>
                    <a:pt x="1241" y="72"/>
                  </a:lnTo>
                  <a:lnTo>
                    <a:pt x="1262" y="83"/>
                  </a:lnTo>
                  <a:lnTo>
                    <a:pt x="1280" y="92"/>
                  </a:lnTo>
                  <a:lnTo>
                    <a:pt x="1299" y="104"/>
                  </a:lnTo>
                  <a:lnTo>
                    <a:pt x="1317" y="115"/>
                  </a:lnTo>
                  <a:lnTo>
                    <a:pt x="1335" y="127"/>
                  </a:lnTo>
                  <a:lnTo>
                    <a:pt x="1352" y="141"/>
                  </a:lnTo>
                  <a:lnTo>
                    <a:pt x="1369" y="154"/>
                  </a:lnTo>
                  <a:lnTo>
                    <a:pt x="1385" y="169"/>
                  </a:lnTo>
                  <a:lnTo>
                    <a:pt x="1401" y="184"/>
                  </a:lnTo>
                  <a:lnTo>
                    <a:pt x="1415" y="200"/>
                  </a:lnTo>
                  <a:lnTo>
                    <a:pt x="1430" y="217"/>
                  </a:lnTo>
                  <a:lnTo>
                    <a:pt x="1444" y="233"/>
                  </a:lnTo>
                  <a:lnTo>
                    <a:pt x="1457" y="251"/>
                  </a:lnTo>
                  <a:lnTo>
                    <a:pt x="1470" y="270"/>
                  </a:lnTo>
                  <a:lnTo>
                    <a:pt x="1481" y="287"/>
                  </a:lnTo>
                  <a:lnTo>
                    <a:pt x="1492" y="306"/>
                  </a:lnTo>
                  <a:lnTo>
                    <a:pt x="1501" y="326"/>
                  </a:lnTo>
                  <a:lnTo>
                    <a:pt x="1510" y="346"/>
                  </a:lnTo>
                  <a:lnTo>
                    <a:pt x="1520" y="367"/>
                  </a:lnTo>
                  <a:lnTo>
                    <a:pt x="1529" y="387"/>
                  </a:lnTo>
                  <a:lnTo>
                    <a:pt x="1537" y="410"/>
                  </a:lnTo>
                  <a:lnTo>
                    <a:pt x="1544" y="433"/>
                  </a:lnTo>
                  <a:lnTo>
                    <a:pt x="1551" y="457"/>
                  </a:lnTo>
                  <a:lnTo>
                    <a:pt x="1558" y="482"/>
                  </a:lnTo>
                  <a:lnTo>
                    <a:pt x="1564" y="506"/>
                  </a:lnTo>
                  <a:lnTo>
                    <a:pt x="1570" y="533"/>
                  </a:lnTo>
                  <a:lnTo>
                    <a:pt x="1576" y="558"/>
                  </a:lnTo>
                  <a:lnTo>
                    <a:pt x="1580" y="586"/>
                  </a:lnTo>
                  <a:lnTo>
                    <a:pt x="1585" y="614"/>
                  </a:lnTo>
                  <a:lnTo>
                    <a:pt x="1588" y="643"/>
                  </a:lnTo>
                  <a:lnTo>
                    <a:pt x="1591" y="675"/>
                  </a:lnTo>
                  <a:lnTo>
                    <a:pt x="1593" y="712"/>
                  </a:lnTo>
                  <a:lnTo>
                    <a:pt x="1595" y="753"/>
                  </a:lnTo>
                  <a:lnTo>
                    <a:pt x="1596" y="800"/>
                  </a:lnTo>
                  <a:lnTo>
                    <a:pt x="1599" y="851"/>
                  </a:lnTo>
                  <a:lnTo>
                    <a:pt x="1599" y="908"/>
                  </a:lnTo>
                  <a:lnTo>
                    <a:pt x="1600" y="971"/>
                  </a:lnTo>
                  <a:lnTo>
                    <a:pt x="1600" y="1037"/>
                  </a:lnTo>
                  <a:close/>
                  <a:moveTo>
                    <a:pt x="1322" y="1037"/>
                  </a:moveTo>
                  <a:lnTo>
                    <a:pt x="1322" y="978"/>
                  </a:lnTo>
                  <a:lnTo>
                    <a:pt x="1321" y="920"/>
                  </a:lnTo>
                  <a:lnTo>
                    <a:pt x="1319" y="865"/>
                  </a:lnTo>
                  <a:lnTo>
                    <a:pt x="1316" y="813"/>
                  </a:lnTo>
                  <a:lnTo>
                    <a:pt x="1313" y="764"/>
                  </a:lnTo>
                  <a:lnTo>
                    <a:pt x="1308" y="718"/>
                  </a:lnTo>
                  <a:lnTo>
                    <a:pt x="1303" y="673"/>
                  </a:lnTo>
                  <a:lnTo>
                    <a:pt x="1298" y="632"/>
                  </a:lnTo>
                  <a:lnTo>
                    <a:pt x="1291" y="593"/>
                  </a:lnTo>
                  <a:lnTo>
                    <a:pt x="1283" y="557"/>
                  </a:lnTo>
                  <a:lnTo>
                    <a:pt x="1274" y="523"/>
                  </a:lnTo>
                  <a:lnTo>
                    <a:pt x="1265" y="493"/>
                  </a:lnTo>
                  <a:lnTo>
                    <a:pt x="1256" y="465"/>
                  </a:lnTo>
                  <a:lnTo>
                    <a:pt x="1245" y="440"/>
                  </a:lnTo>
                  <a:lnTo>
                    <a:pt x="1234" y="418"/>
                  </a:lnTo>
                  <a:lnTo>
                    <a:pt x="1221" y="397"/>
                  </a:lnTo>
                  <a:lnTo>
                    <a:pt x="1212" y="385"/>
                  </a:lnTo>
                  <a:lnTo>
                    <a:pt x="1202" y="374"/>
                  </a:lnTo>
                  <a:lnTo>
                    <a:pt x="1192" y="363"/>
                  </a:lnTo>
                  <a:lnTo>
                    <a:pt x="1181" y="353"/>
                  </a:lnTo>
                  <a:lnTo>
                    <a:pt x="1170" y="342"/>
                  </a:lnTo>
                  <a:lnTo>
                    <a:pt x="1157" y="333"/>
                  </a:lnTo>
                  <a:lnTo>
                    <a:pt x="1144" y="324"/>
                  </a:lnTo>
                  <a:lnTo>
                    <a:pt x="1130" y="315"/>
                  </a:lnTo>
                  <a:lnTo>
                    <a:pt x="1116" y="307"/>
                  </a:lnTo>
                  <a:lnTo>
                    <a:pt x="1101" y="300"/>
                  </a:lnTo>
                  <a:lnTo>
                    <a:pt x="1085" y="293"/>
                  </a:lnTo>
                  <a:lnTo>
                    <a:pt x="1069" y="286"/>
                  </a:lnTo>
                  <a:lnTo>
                    <a:pt x="1051" y="282"/>
                  </a:lnTo>
                  <a:lnTo>
                    <a:pt x="1034" y="276"/>
                  </a:lnTo>
                  <a:lnTo>
                    <a:pt x="1015" y="271"/>
                  </a:lnTo>
                  <a:lnTo>
                    <a:pt x="996" y="267"/>
                  </a:lnTo>
                  <a:lnTo>
                    <a:pt x="974" y="263"/>
                  </a:lnTo>
                  <a:lnTo>
                    <a:pt x="949" y="261"/>
                  </a:lnTo>
                  <a:lnTo>
                    <a:pt x="921" y="257"/>
                  </a:lnTo>
                  <a:lnTo>
                    <a:pt x="888" y="256"/>
                  </a:lnTo>
                  <a:lnTo>
                    <a:pt x="853" y="254"/>
                  </a:lnTo>
                  <a:lnTo>
                    <a:pt x="814" y="253"/>
                  </a:lnTo>
                  <a:lnTo>
                    <a:pt x="772" y="251"/>
                  </a:lnTo>
                  <a:lnTo>
                    <a:pt x="727" y="251"/>
                  </a:lnTo>
                  <a:lnTo>
                    <a:pt x="272" y="251"/>
                  </a:lnTo>
                  <a:lnTo>
                    <a:pt x="272" y="1821"/>
                  </a:lnTo>
                  <a:lnTo>
                    <a:pt x="727" y="1821"/>
                  </a:lnTo>
                  <a:lnTo>
                    <a:pt x="772" y="1821"/>
                  </a:lnTo>
                  <a:lnTo>
                    <a:pt x="814" y="1820"/>
                  </a:lnTo>
                  <a:lnTo>
                    <a:pt x="853" y="1819"/>
                  </a:lnTo>
                  <a:lnTo>
                    <a:pt x="888" y="1818"/>
                  </a:lnTo>
                  <a:lnTo>
                    <a:pt x="921" y="1815"/>
                  </a:lnTo>
                  <a:lnTo>
                    <a:pt x="949" y="1813"/>
                  </a:lnTo>
                  <a:lnTo>
                    <a:pt x="974" y="1809"/>
                  </a:lnTo>
                  <a:lnTo>
                    <a:pt x="996" y="1806"/>
                  </a:lnTo>
                  <a:lnTo>
                    <a:pt x="1015" y="1802"/>
                  </a:lnTo>
                  <a:lnTo>
                    <a:pt x="1034" y="1798"/>
                  </a:lnTo>
                  <a:lnTo>
                    <a:pt x="1051" y="1793"/>
                  </a:lnTo>
                  <a:lnTo>
                    <a:pt x="1069" y="1787"/>
                  </a:lnTo>
                  <a:lnTo>
                    <a:pt x="1085" y="1782"/>
                  </a:lnTo>
                  <a:lnTo>
                    <a:pt x="1101" y="1775"/>
                  </a:lnTo>
                  <a:lnTo>
                    <a:pt x="1116" y="1768"/>
                  </a:lnTo>
                  <a:lnTo>
                    <a:pt x="1130" y="1759"/>
                  </a:lnTo>
                  <a:lnTo>
                    <a:pt x="1144" y="1751"/>
                  </a:lnTo>
                  <a:lnTo>
                    <a:pt x="1157" y="1743"/>
                  </a:lnTo>
                  <a:lnTo>
                    <a:pt x="1170" y="1734"/>
                  </a:lnTo>
                  <a:lnTo>
                    <a:pt x="1181" y="1723"/>
                  </a:lnTo>
                  <a:lnTo>
                    <a:pt x="1192" y="1713"/>
                  </a:lnTo>
                  <a:lnTo>
                    <a:pt x="1202" y="1702"/>
                  </a:lnTo>
                  <a:lnTo>
                    <a:pt x="1212" y="1691"/>
                  </a:lnTo>
                  <a:lnTo>
                    <a:pt x="1221" y="1678"/>
                  </a:lnTo>
                  <a:lnTo>
                    <a:pt x="1234" y="1658"/>
                  </a:lnTo>
                  <a:lnTo>
                    <a:pt x="1245" y="1636"/>
                  </a:lnTo>
                  <a:lnTo>
                    <a:pt x="1256" y="1611"/>
                  </a:lnTo>
                  <a:lnTo>
                    <a:pt x="1265" y="1583"/>
                  </a:lnTo>
                  <a:lnTo>
                    <a:pt x="1274" y="1552"/>
                  </a:lnTo>
                  <a:lnTo>
                    <a:pt x="1283" y="1519"/>
                  </a:lnTo>
                  <a:lnTo>
                    <a:pt x="1291" y="1483"/>
                  </a:lnTo>
                  <a:lnTo>
                    <a:pt x="1298" y="1444"/>
                  </a:lnTo>
                  <a:lnTo>
                    <a:pt x="1303" y="1402"/>
                  </a:lnTo>
                  <a:lnTo>
                    <a:pt x="1308" y="1358"/>
                  </a:lnTo>
                  <a:lnTo>
                    <a:pt x="1313" y="1312"/>
                  </a:lnTo>
                  <a:lnTo>
                    <a:pt x="1316" y="1262"/>
                  </a:lnTo>
                  <a:lnTo>
                    <a:pt x="1319" y="1211"/>
                  </a:lnTo>
                  <a:lnTo>
                    <a:pt x="1321" y="1156"/>
                  </a:lnTo>
                  <a:lnTo>
                    <a:pt x="1322" y="1098"/>
                  </a:lnTo>
                  <a:lnTo>
                    <a:pt x="1322" y="1037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20800" y="1470600"/>
              <a:ext cx="285840" cy="302760"/>
            </a:xfrm>
            <a:custGeom>
              <a:avLst/>
              <a:gdLst/>
              <a:ahLst/>
              <a:rect l="l" t="t" r="r" b="b"/>
              <a:pathLst>
                <a:path w="1876" h="2072">
                  <a:moveTo>
                    <a:pt x="1876" y="2072"/>
                  </a:moveTo>
                  <a:lnTo>
                    <a:pt x="1574" y="2072"/>
                  </a:lnTo>
                  <a:lnTo>
                    <a:pt x="1363" y="1501"/>
                  </a:lnTo>
                  <a:lnTo>
                    <a:pt x="495" y="1501"/>
                  </a:lnTo>
                  <a:lnTo>
                    <a:pt x="288" y="2072"/>
                  </a:lnTo>
                  <a:lnTo>
                    <a:pt x="0" y="2072"/>
                  </a:lnTo>
                  <a:lnTo>
                    <a:pt x="801" y="0"/>
                  </a:lnTo>
                  <a:lnTo>
                    <a:pt x="1076" y="0"/>
                  </a:lnTo>
                  <a:lnTo>
                    <a:pt x="1876" y="2072"/>
                  </a:lnTo>
                  <a:close/>
                  <a:moveTo>
                    <a:pt x="1275" y="1261"/>
                  </a:moveTo>
                  <a:lnTo>
                    <a:pt x="931" y="333"/>
                  </a:lnTo>
                  <a:lnTo>
                    <a:pt x="587" y="1261"/>
                  </a:lnTo>
                  <a:lnTo>
                    <a:pt x="1275" y="1261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7400" y="756720"/>
              <a:ext cx="250560" cy="533160"/>
            </a:xfrm>
            <a:custGeom>
              <a:avLst/>
              <a:gdLst/>
              <a:ahLst/>
              <a:rect l="l" t="t" r="r" b="b"/>
              <a:pathLst>
                <a:path w="1643" h="3649">
                  <a:moveTo>
                    <a:pt x="1643" y="2046"/>
                  </a:moveTo>
                  <a:lnTo>
                    <a:pt x="1628" y="2060"/>
                  </a:lnTo>
                  <a:lnTo>
                    <a:pt x="1609" y="2075"/>
                  </a:lnTo>
                  <a:lnTo>
                    <a:pt x="1592" y="2084"/>
                  </a:lnTo>
                  <a:lnTo>
                    <a:pt x="1573" y="2097"/>
                  </a:lnTo>
                  <a:lnTo>
                    <a:pt x="1552" y="2105"/>
                  </a:lnTo>
                  <a:lnTo>
                    <a:pt x="1531" y="2115"/>
                  </a:lnTo>
                  <a:lnTo>
                    <a:pt x="1510" y="2120"/>
                  </a:lnTo>
                  <a:lnTo>
                    <a:pt x="1486" y="2126"/>
                  </a:lnTo>
                  <a:lnTo>
                    <a:pt x="1461" y="2133"/>
                  </a:lnTo>
                  <a:lnTo>
                    <a:pt x="1435" y="2136"/>
                  </a:lnTo>
                  <a:lnTo>
                    <a:pt x="1380" y="2141"/>
                  </a:lnTo>
                  <a:lnTo>
                    <a:pt x="1321" y="2145"/>
                  </a:lnTo>
                  <a:lnTo>
                    <a:pt x="1254" y="2145"/>
                  </a:lnTo>
                  <a:lnTo>
                    <a:pt x="1206" y="2145"/>
                  </a:lnTo>
                  <a:lnTo>
                    <a:pt x="1161" y="2145"/>
                  </a:lnTo>
                  <a:lnTo>
                    <a:pt x="1118" y="2141"/>
                  </a:lnTo>
                  <a:lnTo>
                    <a:pt x="1077" y="2139"/>
                  </a:lnTo>
                  <a:lnTo>
                    <a:pt x="1038" y="2133"/>
                  </a:lnTo>
                  <a:lnTo>
                    <a:pt x="1002" y="2126"/>
                  </a:lnTo>
                  <a:lnTo>
                    <a:pt x="965" y="2120"/>
                  </a:lnTo>
                  <a:lnTo>
                    <a:pt x="932" y="2111"/>
                  </a:lnTo>
                  <a:lnTo>
                    <a:pt x="902" y="2103"/>
                  </a:lnTo>
                  <a:lnTo>
                    <a:pt x="872" y="2090"/>
                  </a:lnTo>
                  <a:lnTo>
                    <a:pt x="845" y="2079"/>
                  </a:lnTo>
                  <a:lnTo>
                    <a:pt x="818" y="2063"/>
                  </a:lnTo>
                  <a:lnTo>
                    <a:pt x="794" y="2046"/>
                  </a:lnTo>
                  <a:lnTo>
                    <a:pt x="773" y="2027"/>
                  </a:lnTo>
                  <a:lnTo>
                    <a:pt x="752" y="2009"/>
                  </a:lnTo>
                  <a:lnTo>
                    <a:pt x="731" y="1988"/>
                  </a:lnTo>
                  <a:lnTo>
                    <a:pt x="713" y="1965"/>
                  </a:lnTo>
                  <a:lnTo>
                    <a:pt x="698" y="1940"/>
                  </a:lnTo>
                  <a:lnTo>
                    <a:pt x="682" y="1913"/>
                  </a:lnTo>
                  <a:lnTo>
                    <a:pt x="667" y="1883"/>
                  </a:lnTo>
                  <a:lnTo>
                    <a:pt x="656" y="1849"/>
                  </a:lnTo>
                  <a:lnTo>
                    <a:pt x="644" y="1817"/>
                  </a:lnTo>
                  <a:lnTo>
                    <a:pt x="635" y="1781"/>
                  </a:lnTo>
                  <a:lnTo>
                    <a:pt x="625" y="1741"/>
                  </a:lnTo>
                  <a:lnTo>
                    <a:pt x="620" y="1703"/>
                  </a:lnTo>
                  <a:lnTo>
                    <a:pt x="610" y="1658"/>
                  </a:lnTo>
                  <a:lnTo>
                    <a:pt x="601" y="1565"/>
                  </a:lnTo>
                  <a:lnTo>
                    <a:pt x="599" y="1513"/>
                  </a:lnTo>
                  <a:lnTo>
                    <a:pt x="599" y="1459"/>
                  </a:lnTo>
                  <a:lnTo>
                    <a:pt x="595" y="1402"/>
                  </a:lnTo>
                  <a:lnTo>
                    <a:pt x="595" y="1345"/>
                  </a:lnTo>
                  <a:lnTo>
                    <a:pt x="599" y="1227"/>
                  </a:lnTo>
                  <a:lnTo>
                    <a:pt x="601" y="1122"/>
                  </a:lnTo>
                  <a:lnTo>
                    <a:pt x="605" y="1098"/>
                  </a:lnTo>
                  <a:lnTo>
                    <a:pt x="608" y="1074"/>
                  </a:lnTo>
                  <a:lnTo>
                    <a:pt x="610" y="1029"/>
                  </a:lnTo>
                  <a:lnTo>
                    <a:pt x="620" y="983"/>
                  </a:lnTo>
                  <a:lnTo>
                    <a:pt x="625" y="945"/>
                  </a:lnTo>
                  <a:lnTo>
                    <a:pt x="635" y="905"/>
                  </a:lnTo>
                  <a:lnTo>
                    <a:pt x="644" y="869"/>
                  </a:lnTo>
                  <a:lnTo>
                    <a:pt x="656" y="833"/>
                  </a:lnTo>
                  <a:lnTo>
                    <a:pt x="667" y="803"/>
                  </a:lnTo>
                  <a:lnTo>
                    <a:pt x="682" y="773"/>
                  </a:lnTo>
                  <a:lnTo>
                    <a:pt x="698" y="746"/>
                  </a:lnTo>
                  <a:lnTo>
                    <a:pt x="713" y="719"/>
                  </a:lnTo>
                  <a:lnTo>
                    <a:pt x="731" y="695"/>
                  </a:lnTo>
                  <a:lnTo>
                    <a:pt x="752" y="674"/>
                  </a:lnTo>
                  <a:lnTo>
                    <a:pt x="773" y="653"/>
                  </a:lnTo>
                  <a:lnTo>
                    <a:pt x="794" y="634"/>
                  </a:lnTo>
                  <a:lnTo>
                    <a:pt x="818" y="617"/>
                  </a:lnTo>
                  <a:lnTo>
                    <a:pt x="845" y="602"/>
                  </a:lnTo>
                  <a:lnTo>
                    <a:pt x="872" y="589"/>
                  </a:lnTo>
                  <a:lnTo>
                    <a:pt x="902" y="578"/>
                  </a:lnTo>
                  <a:lnTo>
                    <a:pt x="932" y="568"/>
                  </a:lnTo>
                  <a:lnTo>
                    <a:pt x="965" y="559"/>
                  </a:lnTo>
                  <a:lnTo>
                    <a:pt x="1002" y="551"/>
                  </a:lnTo>
                  <a:lnTo>
                    <a:pt x="1038" y="545"/>
                  </a:lnTo>
                  <a:lnTo>
                    <a:pt x="1077" y="541"/>
                  </a:lnTo>
                  <a:lnTo>
                    <a:pt x="1118" y="536"/>
                  </a:lnTo>
                  <a:lnTo>
                    <a:pt x="1161" y="532"/>
                  </a:lnTo>
                  <a:lnTo>
                    <a:pt x="1206" y="532"/>
                  </a:lnTo>
                  <a:lnTo>
                    <a:pt x="1254" y="532"/>
                  </a:lnTo>
                  <a:lnTo>
                    <a:pt x="1321" y="532"/>
                  </a:lnTo>
                  <a:lnTo>
                    <a:pt x="1351" y="536"/>
                  </a:lnTo>
                  <a:lnTo>
                    <a:pt x="1380" y="538"/>
                  </a:lnTo>
                  <a:lnTo>
                    <a:pt x="1438" y="547"/>
                  </a:lnTo>
                  <a:lnTo>
                    <a:pt x="1465" y="551"/>
                  </a:lnTo>
                  <a:lnTo>
                    <a:pt x="1489" y="557"/>
                  </a:lnTo>
                  <a:lnTo>
                    <a:pt x="1537" y="572"/>
                  </a:lnTo>
                  <a:lnTo>
                    <a:pt x="1577" y="589"/>
                  </a:lnTo>
                  <a:lnTo>
                    <a:pt x="1594" y="598"/>
                  </a:lnTo>
                  <a:lnTo>
                    <a:pt x="1613" y="610"/>
                  </a:lnTo>
                  <a:lnTo>
                    <a:pt x="1628" y="623"/>
                  </a:lnTo>
                  <a:lnTo>
                    <a:pt x="1643" y="634"/>
                  </a:lnTo>
                  <a:lnTo>
                    <a:pt x="1643" y="24"/>
                  </a:lnTo>
                  <a:lnTo>
                    <a:pt x="1577" y="15"/>
                  </a:lnTo>
                  <a:lnTo>
                    <a:pt x="1504" y="9"/>
                  </a:lnTo>
                  <a:lnTo>
                    <a:pt x="1468" y="5"/>
                  </a:lnTo>
                  <a:lnTo>
                    <a:pt x="1429" y="3"/>
                  </a:lnTo>
                  <a:lnTo>
                    <a:pt x="1389" y="3"/>
                  </a:lnTo>
                  <a:lnTo>
                    <a:pt x="1351" y="0"/>
                  </a:lnTo>
                  <a:lnTo>
                    <a:pt x="1296" y="0"/>
                  </a:lnTo>
                  <a:lnTo>
                    <a:pt x="1245" y="3"/>
                  </a:lnTo>
                  <a:lnTo>
                    <a:pt x="1192" y="5"/>
                  </a:lnTo>
                  <a:lnTo>
                    <a:pt x="1137" y="12"/>
                  </a:lnTo>
                  <a:lnTo>
                    <a:pt x="1082" y="18"/>
                  </a:lnTo>
                  <a:lnTo>
                    <a:pt x="1029" y="28"/>
                  </a:lnTo>
                  <a:lnTo>
                    <a:pt x="978" y="39"/>
                  </a:lnTo>
                  <a:lnTo>
                    <a:pt x="923" y="51"/>
                  </a:lnTo>
                  <a:lnTo>
                    <a:pt x="872" y="69"/>
                  </a:lnTo>
                  <a:lnTo>
                    <a:pt x="821" y="87"/>
                  </a:lnTo>
                  <a:lnTo>
                    <a:pt x="770" y="105"/>
                  </a:lnTo>
                  <a:lnTo>
                    <a:pt x="722" y="130"/>
                  </a:lnTo>
                  <a:lnTo>
                    <a:pt x="674" y="157"/>
                  </a:lnTo>
                  <a:lnTo>
                    <a:pt x="629" y="183"/>
                  </a:lnTo>
                  <a:lnTo>
                    <a:pt x="605" y="198"/>
                  </a:lnTo>
                  <a:lnTo>
                    <a:pt x="584" y="217"/>
                  </a:lnTo>
                  <a:lnTo>
                    <a:pt x="542" y="250"/>
                  </a:lnTo>
                  <a:lnTo>
                    <a:pt x="542" y="42"/>
                  </a:lnTo>
                  <a:lnTo>
                    <a:pt x="0" y="42"/>
                  </a:lnTo>
                  <a:lnTo>
                    <a:pt x="0" y="1844"/>
                  </a:lnTo>
                  <a:lnTo>
                    <a:pt x="0" y="3649"/>
                  </a:lnTo>
                  <a:lnTo>
                    <a:pt x="601" y="3649"/>
                  </a:lnTo>
                  <a:lnTo>
                    <a:pt x="601" y="2448"/>
                  </a:lnTo>
                  <a:lnTo>
                    <a:pt x="635" y="2482"/>
                  </a:lnTo>
                  <a:lnTo>
                    <a:pt x="667" y="2512"/>
                  </a:lnTo>
                  <a:lnTo>
                    <a:pt x="703" y="2539"/>
                  </a:lnTo>
                  <a:lnTo>
                    <a:pt x="739" y="2563"/>
                  </a:lnTo>
                  <a:lnTo>
                    <a:pt x="779" y="2584"/>
                  </a:lnTo>
                  <a:lnTo>
                    <a:pt x="818" y="2602"/>
                  </a:lnTo>
                  <a:lnTo>
                    <a:pt x="860" y="2617"/>
                  </a:lnTo>
                  <a:lnTo>
                    <a:pt x="900" y="2632"/>
                  </a:lnTo>
                  <a:lnTo>
                    <a:pt x="944" y="2644"/>
                  </a:lnTo>
                  <a:lnTo>
                    <a:pt x="987" y="2653"/>
                  </a:lnTo>
                  <a:lnTo>
                    <a:pt x="1035" y="2662"/>
                  </a:lnTo>
                  <a:lnTo>
                    <a:pt x="1080" y="2668"/>
                  </a:lnTo>
                  <a:lnTo>
                    <a:pt x="1128" y="2672"/>
                  </a:lnTo>
                  <a:lnTo>
                    <a:pt x="1177" y="2674"/>
                  </a:lnTo>
                  <a:lnTo>
                    <a:pt x="1228" y="2677"/>
                  </a:lnTo>
                  <a:lnTo>
                    <a:pt x="1281" y="2677"/>
                  </a:lnTo>
                  <a:lnTo>
                    <a:pt x="1330" y="2677"/>
                  </a:lnTo>
                  <a:lnTo>
                    <a:pt x="1380" y="2674"/>
                  </a:lnTo>
                  <a:lnTo>
                    <a:pt x="1425" y="2672"/>
                  </a:lnTo>
                  <a:lnTo>
                    <a:pt x="1474" y="2668"/>
                  </a:lnTo>
                  <a:lnTo>
                    <a:pt x="1516" y="2662"/>
                  </a:lnTo>
                  <a:lnTo>
                    <a:pt x="1561" y="2656"/>
                  </a:lnTo>
                  <a:lnTo>
                    <a:pt x="1603" y="2647"/>
                  </a:lnTo>
                  <a:lnTo>
                    <a:pt x="1643" y="2638"/>
                  </a:lnTo>
                  <a:lnTo>
                    <a:pt x="1643" y="2046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2520" y="549360"/>
              <a:ext cx="356400" cy="335880"/>
            </a:xfrm>
            <a:custGeom>
              <a:avLst/>
              <a:gdLst/>
              <a:ahLst/>
              <a:rect l="l" t="t" r="r" b="b"/>
              <a:pathLst>
                <a:path w="2339" h="2297">
                  <a:moveTo>
                    <a:pt x="0" y="1145"/>
                  </a:moveTo>
                  <a:lnTo>
                    <a:pt x="2" y="1061"/>
                  </a:lnTo>
                  <a:lnTo>
                    <a:pt x="2" y="980"/>
                  </a:lnTo>
                  <a:lnTo>
                    <a:pt x="6" y="940"/>
                  </a:lnTo>
                  <a:lnTo>
                    <a:pt x="8" y="904"/>
                  </a:lnTo>
                  <a:lnTo>
                    <a:pt x="15" y="832"/>
                  </a:lnTo>
                  <a:lnTo>
                    <a:pt x="23" y="764"/>
                  </a:lnTo>
                  <a:lnTo>
                    <a:pt x="32" y="697"/>
                  </a:lnTo>
                  <a:lnTo>
                    <a:pt x="44" y="637"/>
                  </a:lnTo>
                  <a:lnTo>
                    <a:pt x="59" y="580"/>
                  </a:lnTo>
                  <a:lnTo>
                    <a:pt x="74" y="523"/>
                  </a:lnTo>
                  <a:lnTo>
                    <a:pt x="93" y="472"/>
                  </a:lnTo>
                  <a:lnTo>
                    <a:pt x="114" y="423"/>
                  </a:lnTo>
                  <a:lnTo>
                    <a:pt x="138" y="379"/>
                  </a:lnTo>
                  <a:lnTo>
                    <a:pt x="162" y="336"/>
                  </a:lnTo>
                  <a:lnTo>
                    <a:pt x="189" y="297"/>
                  </a:lnTo>
                  <a:lnTo>
                    <a:pt x="205" y="279"/>
                  </a:lnTo>
                  <a:lnTo>
                    <a:pt x="220" y="261"/>
                  </a:lnTo>
                  <a:lnTo>
                    <a:pt x="252" y="228"/>
                  </a:lnTo>
                  <a:lnTo>
                    <a:pt x="288" y="197"/>
                  </a:lnTo>
                  <a:lnTo>
                    <a:pt x="307" y="182"/>
                  </a:lnTo>
                  <a:lnTo>
                    <a:pt x="328" y="167"/>
                  </a:lnTo>
                  <a:lnTo>
                    <a:pt x="370" y="144"/>
                  </a:lnTo>
                  <a:lnTo>
                    <a:pt x="411" y="119"/>
                  </a:lnTo>
                  <a:lnTo>
                    <a:pt x="459" y="98"/>
                  </a:lnTo>
                  <a:lnTo>
                    <a:pt x="508" y="80"/>
                  </a:lnTo>
                  <a:lnTo>
                    <a:pt x="561" y="62"/>
                  </a:lnTo>
                  <a:lnTo>
                    <a:pt x="616" y="47"/>
                  </a:lnTo>
                  <a:lnTo>
                    <a:pt x="677" y="36"/>
                  </a:lnTo>
                  <a:lnTo>
                    <a:pt x="737" y="26"/>
                  </a:lnTo>
                  <a:lnTo>
                    <a:pt x="802" y="17"/>
                  </a:lnTo>
                  <a:lnTo>
                    <a:pt x="836" y="14"/>
                  </a:lnTo>
                  <a:lnTo>
                    <a:pt x="872" y="8"/>
                  </a:lnTo>
                  <a:lnTo>
                    <a:pt x="944" y="5"/>
                  </a:lnTo>
                  <a:lnTo>
                    <a:pt x="1020" y="2"/>
                  </a:lnTo>
                  <a:lnTo>
                    <a:pt x="1097" y="0"/>
                  </a:lnTo>
                  <a:lnTo>
                    <a:pt x="1181" y="0"/>
                  </a:lnTo>
                  <a:lnTo>
                    <a:pt x="1263" y="0"/>
                  </a:lnTo>
                  <a:lnTo>
                    <a:pt x="1344" y="2"/>
                  </a:lnTo>
                  <a:lnTo>
                    <a:pt x="1420" y="5"/>
                  </a:lnTo>
                  <a:lnTo>
                    <a:pt x="1492" y="11"/>
                  </a:lnTo>
                  <a:lnTo>
                    <a:pt x="1560" y="17"/>
                  </a:lnTo>
                  <a:lnTo>
                    <a:pt x="1594" y="21"/>
                  </a:lnTo>
                  <a:lnTo>
                    <a:pt x="1624" y="26"/>
                  </a:lnTo>
                  <a:lnTo>
                    <a:pt x="1687" y="36"/>
                  </a:lnTo>
                  <a:lnTo>
                    <a:pt x="1744" y="47"/>
                  </a:lnTo>
                  <a:lnTo>
                    <a:pt x="1801" y="62"/>
                  </a:lnTo>
                  <a:lnTo>
                    <a:pt x="1852" y="80"/>
                  </a:lnTo>
                  <a:lnTo>
                    <a:pt x="1901" y="98"/>
                  </a:lnTo>
                  <a:lnTo>
                    <a:pt x="1946" y="119"/>
                  </a:lnTo>
                  <a:lnTo>
                    <a:pt x="1990" y="144"/>
                  </a:lnTo>
                  <a:lnTo>
                    <a:pt x="2030" y="171"/>
                  </a:lnTo>
                  <a:lnTo>
                    <a:pt x="2066" y="197"/>
                  </a:lnTo>
                  <a:lnTo>
                    <a:pt x="2102" y="228"/>
                  </a:lnTo>
                  <a:lnTo>
                    <a:pt x="2117" y="246"/>
                  </a:lnTo>
                  <a:lnTo>
                    <a:pt x="2132" y="261"/>
                  </a:lnTo>
                  <a:lnTo>
                    <a:pt x="2162" y="300"/>
                  </a:lnTo>
                  <a:lnTo>
                    <a:pt x="2189" y="339"/>
                  </a:lnTo>
                  <a:lnTo>
                    <a:pt x="2214" y="381"/>
                  </a:lnTo>
                  <a:lnTo>
                    <a:pt x="2235" y="426"/>
                  </a:lnTo>
                  <a:lnTo>
                    <a:pt x="2256" y="474"/>
                  </a:lnTo>
                  <a:lnTo>
                    <a:pt x="2271" y="525"/>
                  </a:lnTo>
                  <a:lnTo>
                    <a:pt x="2286" y="580"/>
                  </a:lnTo>
                  <a:lnTo>
                    <a:pt x="2301" y="637"/>
                  </a:lnTo>
                  <a:lnTo>
                    <a:pt x="2310" y="700"/>
                  </a:lnTo>
                  <a:lnTo>
                    <a:pt x="2318" y="764"/>
                  </a:lnTo>
                  <a:lnTo>
                    <a:pt x="2328" y="832"/>
                  </a:lnTo>
                  <a:lnTo>
                    <a:pt x="2333" y="904"/>
                  </a:lnTo>
                  <a:lnTo>
                    <a:pt x="2337" y="980"/>
                  </a:lnTo>
                  <a:lnTo>
                    <a:pt x="2339" y="1061"/>
                  </a:lnTo>
                  <a:lnTo>
                    <a:pt x="2339" y="1145"/>
                  </a:lnTo>
                  <a:lnTo>
                    <a:pt x="2339" y="1226"/>
                  </a:lnTo>
                  <a:lnTo>
                    <a:pt x="2337" y="1308"/>
                  </a:lnTo>
                  <a:lnTo>
                    <a:pt x="2333" y="1383"/>
                  </a:lnTo>
                  <a:lnTo>
                    <a:pt x="2328" y="1455"/>
                  </a:lnTo>
                  <a:lnTo>
                    <a:pt x="2318" y="1524"/>
                  </a:lnTo>
                  <a:lnTo>
                    <a:pt x="2310" y="1588"/>
                  </a:lnTo>
                  <a:lnTo>
                    <a:pt x="2297" y="1651"/>
                  </a:lnTo>
                  <a:lnTo>
                    <a:pt x="2292" y="1677"/>
                  </a:lnTo>
                  <a:lnTo>
                    <a:pt x="2286" y="1708"/>
                  </a:lnTo>
                  <a:lnTo>
                    <a:pt x="2280" y="1734"/>
                  </a:lnTo>
                  <a:lnTo>
                    <a:pt x="2271" y="1762"/>
                  </a:lnTo>
                  <a:lnTo>
                    <a:pt x="2252" y="1813"/>
                  </a:lnTo>
                  <a:lnTo>
                    <a:pt x="2231" y="1861"/>
                  </a:lnTo>
                  <a:lnTo>
                    <a:pt x="2210" y="1909"/>
                  </a:lnTo>
                  <a:lnTo>
                    <a:pt x="2199" y="1931"/>
                  </a:lnTo>
                  <a:lnTo>
                    <a:pt x="2186" y="1952"/>
                  </a:lnTo>
                  <a:lnTo>
                    <a:pt x="2174" y="1969"/>
                  </a:lnTo>
                  <a:lnTo>
                    <a:pt x="2159" y="1990"/>
                  </a:lnTo>
                  <a:lnTo>
                    <a:pt x="2144" y="2009"/>
                  </a:lnTo>
                  <a:lnTo>
                    <a:pt x="2129" y="2026"/>
                  </a:lnTo>
                  <a:lnTo>
                    <a:pt x="2114" y="2045"/>
                  </a:lnTo>
                  <a:lnTo>
                    <a:pt x="2099" y="2060"/>
                  </a:lnTo>
                  <a:lnTo>
                    <a:pt x="2062" y="2093"/>
                  </a:lnTo>
                  <a:lnTo>
                    <a:pt x="2026" y="2119"/>
                  </a:lnTo>
                  <a:lnTo>
                    <a:pt x="1985" y="2147"/>
                  </a:lnTo>
                  <a:lnTo>
                    <a:pt x="1943" y="2170"/>
                  </a:lnTo>
                  <a:lnTo>
                    <a:pt x="1895" y="2193"/>
                  </a:lnTo>
                  <a:lnTo>
                    <a:pt x="1846" y="2213"/>
                  </a:lnTo>
                  <a:lnTo>
                    <a:pt x="1795" y="2229"/>
                  </a:lnTo>
                  <a:lnTo>
                    <a:pt x="1738" y="2244"/>
                  </a:lnTo>
                  <a:lnTo>
                    <a:pt x="1681" y="2259"/>
                  </a:lnTo>
                  <a:lnTo>
                    <a:pt x="1618" y="2267"/>
                  </a:lnTo>
                  <a:lnTo>
                    <a:pt x="1554" y="2276"/>
                  </a:lnTo>
                  <a:lnTo>
                    <a:pt x="1486" y="2286"/>
                  </a:lnTo>
                  <a:lnTo>
                    <a:pt x="1414" y="2288"/>
                  </a:lnTo>
                  <a:lnTo>
                    <a:pt x="1335" y="2295"/>
                  </a:lnTo>
                  <a:lnTo>
                    <a:pt x="1257" y="2295"/>
                  </a:lnTo>
                  <a:lnTo>
                    <a:pt x="1173" y="2297"/>
                  </a:lnTo>
                  <a:lnTo>
                    <a:pt x="1092" y="2295"/>
                  </a:lnTo>
                  <a:lnTo>
                    <a:pt x="1014" y="2295"/>
                  </a:lnTo>
                  <a:lnTo>
                    <a:pt x="938" y="2288"/>
                  </a:lnTo>
                  <a:lnTo>
                    <a:pt x="866" y="2286"/>
                  </a:lnTo>
                  <a:lnTo>
                    <a:pt x="796" y="2276"/>
                  </a:lnTo>
                  <a:lnTo>
                    <a:pt x="734" y="2267"/>
                  </a:lnTo>
                  <a:lnTo>
                    <a:pt x="700" y="2261"/>
                  </a:lnTo>
                  <a:lnTo>
                    <a:pt x="671" y="2259"/>
                  </a:lnTo>
                  <a:lnTo>
                    <a:pt x="613" y="2244"/>
                  </a:lnTo>
                  <a:lnTo>
                    <a:pt x="556" y="2229"/>
                  </a:lnTo>
                  <a:lnTo>
                    <a:pt x="504" y="2210"/>
                  </a:lnTo>
                  <a:lnTo>
                    <a:pt x="457" y="2193"/>
                  </a:lnTo>
                  <a:lnTo>
                    <a:pt x="409" y="2170"/>
                  </a:lnTo>
                  <a:lnTo>
                    <a:pt x="366" y="2147"/>
                  </a:lnTo>
                  <a:lnTo>
                    <a:pt x="324" y="2119"/>
                  </a:lnTo>
                  <a:lnTo>
                    <a:pt x="285" y="2090"/>
                  </a:lnTo>
                  <a:lnTo>
                    <a:pt x="267" y="2075"/>
                  </a:lnTo>
                  <a:lnTo>
                    <a:pt x="252" y="2060"/>
                  </a:lnTo>
                  <a:lnTo>
                    <a:pt x="220" y="2026"/>
                  </a:lnTo>
                  <a:lnTo>
                    <a:pt x="189" y="1988"/>
                  </a:lnTo>
                  <a:lnTo>
                    <a:pt x="162" y="1948"/>
                  </a:lnTo>
                  <a:lnTo>
                    <a:pt x="135" y="1906"/>
                  </a:lnTo>
                  <a:lnTo>
                    <a:pt x="123" y="1886"/>
                  </a:lnTo>
                  <a:lnTo>
                    <a:pt x="114" y="1861"/>
                  </a:lnTo>
                  <a:lnTo>
                    <a:pt x="102" y="1837"/>
                  </a:lnTo>
                  <a:lnTo>
                    <a:pt x="93" y="1813"/>
                  </a:lnTo>
                  <a:lnTo>
                    <a:pt x="84" y="1786"/>
                  </a:lnTo>
                  <a:lnTo>
                    <a:pt x="74" y="1762"/>
                  </a:lnTo>
                  <a:lnTo>
                    <a:pt x="66" y="1734"/>
                  </a:lnTo>
                  <a:lnTo>
                    <a:pt x="57" y="1704"/>
                  </a:lnTo>
                  <a:lnTo>
                    <a:pt x="44" y="1647"/>
                  </a:lnTo>
                  <a:lnTo>
                    <a:pt x="32" y="1588"/>
                  </a:lnTo>
                  <a:lnTo>
                    <a:pt x="21" y="1522"/>
                  </a:lnTo>
                  <a:lnTo>
                    <a:pt x="15" y="1452"/>
                  </a:lnTo>
                  <a:lnTo>
                    <a:pt x="8" y="1383"/>
                  </a:lnTo>
                  <a:lnTo>
                    <a:pt x="2" y="1304"/>
                  </a:lnTo>
                  <a:lnTo>
                    <a:pt x="2" y="1266"/>
                  </a:lnTo>
                  <a:lnTo>
                    <a:pt x="2" y="1226"/>
                  </a:lnTo>
                  <a:lnTo>
                    <a:pt x="0" y="1145"/>
                  </a:lnTo>
                  <a:close/>
                  <a:moveTo>
                    <a:pt x="2024" y="1145"/>
                  </a:moveTo>
                  <a:lnTo>
                    <a:pt x="2024" y="1079"/>
                  </a:lnTo>
                  <a:lnTo>
                    <a:pt x="2021" y="1019"/>
                  </a:lnTo>
                  <a:lnTo>
                    <a:pt x="2018" y="961"/>
                  </a:lnTo>
                  <a:lnTo>
                    <a:pt x="2015" y="908"/>
                  </a:lnTo>
                  <a:lnTo>
                    <a:pt x="2009" y="857"/>
                  </a:lnTo>
                  <a:lnTo>
                    <a:pt x="2003" y="808"/>
                  </a:lnTo>
                  <a:lnTo>
                    <a:pt x="1997" y="764"/>
                  </a:lnTo>
                  <a:lnTo>
                    <a:pt x="1988" y="718"/>
                  </a:lnTo>
                  <a:lnTo>
                    <a:pt x="1975" y="679"/>
                  </a:lnTo>
                  <a:lnTo>
                    <a:pt x="1964" y="643"/>
                  </a:lnTo>
                  <a:lnTo>
                    <a:pt x="1949" y="607"/>
                  </a:lnTo>
                  <a:lnTo>
                    <a:pt x="1933" y="576"/>
                  </a:lnTo>
                  <a:lnTo>
                    <a:pt x="1916" y="546"/>
                  </a:lnTo>
                  <a:lnTo>
                    <a:pt x="1897" y="519"/>
                  </a:lnTo>
                  <a:lnTo>
                    <a:pt x="1876" y="493"/>
                  </a:lnTo>
                  <a:lnTo>
                    <a:pt x="1856" y="472"/>
                  </a:lnTo>
                  <a:lnTo>
                    <a:pt x="1829" y="451"/>
                  </a:lnTo>
                  <a:lnTo>
                    <a:pt x="1801" y="430"/>
                  </a:lnTo>
                  <a:lnTo>
                    <a:pt x="1774" y="411"/>
                  </a:lnTo>
                  <a:lnTo>
                    <a:pt x="1742" y="396"/>
                  </a:lnTo>
                  <a:lnTo>
                    <a:pt x="1726" y="390"/>
                  </a:lnTo>
                  <a:lnTo>
                    <a:pt x="1708" y="385"/>
                  </a:lnTo>
                  <a:lnTo>
                    <a:pt x="1672" y="372"/>
                  </a:lnTo>
                  <a:lnTo>
                    <a:pt x="1632" y="360"/>
                  </a:lnTo>
                  <a:lnTo>
                    <a:pt x="1594" y="351"/>
                  </a:lnTo>
                  <a:lnTo>
                    <a:pt x="1549" y="345"/>
                  </a:lnTo>
                  <a:lnTo>
                    <a:pt x="1503" y="339"/>
                  </a:lnTo>
                  <a:lnTo>
                    <a:pt x="1456" y="333"/>
                  </a:lnTo>
                  <a:lnTo>
                    <a:pt x="1404" y="330"/>
                  </a:lnTo>
                  <a:lnTo>
                    <a:pt x="1293" y="324"/>
                  </a:lnTo>
                  <a:lnTo>
                    <a:pt x="1170" y="321"/>
                  </a:lnTo>
                  <a:lnTo>
                    <a:pt x="1050" y="324"/>
                  </a:lnTo>
                  <a:lnTo>
                    <a:pt x="995" y="328"/>
                  </a:lnTo>
                  <a:lnTo>
                    <a:pt x="941" y="330"/>
                  </a:lnTo>
                  <a:lnTo>
                    <a:pt x="893" y="333"/>
                  </a:lnTo>
                  <a:lnTo>
                    <a:pt x="845" y="339"/>
                  </a:lnTo>
                  <a:lnTo>
                    <a:pt x="800" y="345"/>
                  </a:lnTo>
                  <a:lnTo>
                    <a:pt x="754" y="354"/>
                  </a:lnTo>
                  <a:lnTo>
                    <a:pt x="715" y="364"/>
                  </a:lnTo>
                  <a:lnTo>
                    <a:pt x="677" y="372"/>
                  </a:lnTo>
                  <a:lnTo>
                    <a:pt x="641" y="385"/>
                  </a:lnTo>
                  <a:lnTo>
                    <a:pt x="607" y="400"/>
                  </a:lnTo>
                  <a:lnTo>
                    <a:pt x="574" y="415"/>
                  </a:lnTo>
                  <a:lnTo>
                    <a:pt x="548" y="432"/>
                  </a:lnTo>
                  <a:lnTo>
                    <a:pt x="532" y="441"/>
                  </a:lnTo>
                  <a:lnTo>
                    <a:pt x="520" y="453"/>
                  </a:lnTo>
                  <a:lnTo>
                    <a:pt x="493" y="474"/>
                  </a:lnTo>
                  <a:lnTo>
                    <a:pt x="468" y="495"/>
                  </a:lnTo>
                  <a:lnTo>
                    <a:pt x="448" y="523"/>
                  </a:lnTo>
                  <a:lnTo>
                    <a:pt x="430" y="550"/>
                  </a:lnTo>
                  <a:lnTo>
                    <a:pt x="411" y="580"/>
                  </a:lnTo>
                  <a:lnTo>
                    <a:pt x="402" y="595"/>
                  </a:lnTo>
                  <a:lnTo>
                    <a:pt x="394" y="612"/>
                  </a:lnTo>
                  <a:lnTo>
                    <a:pt x="381" y="646"/>
                  </a:lnTo>
                  <a:lnTo>
                    <a:pt x="366" y="684"/>
                  </a:lnTo>
                  <a:lnTo>
                    <a:pt x="358" y="724"/>
                  </a:lnTo>
                  <a:lnTo>
                    <a:pt x="345" y="766"/>
                  </a:lnTo>
                  <a:lnTo>
                    <a:pt x="339" y="811"/>
                  </a:lnTo>
                  <a:lnTo>
                    <a:pt x="330" y="859"/>
                  </a:lnTo>
                  <a:lnTo>
                    <a:pt x="328" y="910"/>
                  </a:lnTo>
                  <a:lnTo>
                    <a:pt x="321" y="965"/>
                  </a:lnTo>
                  <a:lnTo>
                    <a:pt x="318" y="1022"/>
                  </a:lnTo>
                  <a:lnTo>
                    <a:pt x="318" y="1082"/>
                  </a:lnTo>
                  <a:lnTo>
                    <a:pt x="315" y="1145"/>
                  </a:lnTo>
                  <a:lnTo>
                    <a:pt x="318" y="1209"/>
                  </a:lnTo>
                  <a:lnTo>
                    <a:pt x="318" y="1268"/>
                  </a:lnTo>
                  <a:lnTo>
                    <a:pt x="321" y="1325"/>
                  </a:lnTo>
                  <a:lnTo>
                    <a:pt x="328" y="1380"/>
                  </a:lnTo>
                  <a:lnTo>
                    <a:pt x="334" y="1427"/>
                  </a:lnTo>
                  <a:lnTo>
                    <a:pt x="339" y="1476"/>
                  </a:lnTo>
                  <a:lnTo>
                    <a:pt x="349" y="1524"/>
                  </a:lnTo>
                  <a:lnTo>
                    <a:pt x="358" y="1566"/>
                  </a:lnTo>
                  <a:lnTo>
                    <a:pt x="370" y="1605"/>
                  </a:lnTo>
                  <a:lnTo>
                    <a:pt x="375" y="1624"/>
                  </a:lnTo>
                  <a:lnTo>
                    <a:pt x="381" y="1641"/>
                  </a:lnTo>
                  <a:lnTo>
                    <a:pt x="396" y="1677"/>
                  </a:lnTo>
                  <a:lnTo>
                    <a:pt x="415" y="1711"/>
                  </a:lnTo>
                  <a:lnTo>
                    <a:pt x="432" y="1741"/>
                  </a:lnTo>
                  <a:lnTo>
                    <a:pt x="453" y="1768"/>
                  </a:lnTo>
                  <a:lnTo>
                    <a:pt x="474" y="1795"/>
                  </a:lnTo>
                  <a:lnTo>
                    <a:pt x="499" y="1819"/>
                  </a:lnTo>
                  <a:lnTo>
                    <a:pt x="523" y="1840"/>
                  </a:lnTo>
                  <a:lnTo>
                    <a:pt x="553" y="1858"/>
                  </a:lnTo>
                  <a:lnTo>
                    <a:pt x="584" y="1876"/>
                  </a:lnTo>
                  <a:lnTo>
                    <a:pt x="598" y="1886"/>
                  </a:lnTo>
                  <a:lnTo>
                    <a:pt x="613" y="1891"/>
                  </a:lnTo>
                  <a:lnTo>
                    <a:pt x="649" y="1906"/>
                  </a:lnTo>
                  <a:lnTo>
                    <a:pt x="686" y="1918"/>
                  </a:lnTo>
                  <a:lnTo>
                    <a:pt x="724" y="1931"/>
                  </a:lnTo>
                  <a:lnTo>
                    <a:pt x="764" y="1939"/>
                  </a:lnTo>
                  <a:lnTo>
                    <a:pt x="809" y="1948"/>
                  </a:lnTo>
                  <a:lnTo>
                    <a:pt x="853" y="1954"/>
                  </a:lnTo>
                  <a:lnTo>
                    <a:pt x="902" y="1960"/>
                  </a:lnTo>
                  <a:lnTo>
                    <a:pt x="953" y="1967"/>
                  </a:lnTo>
                  <a:lnTo>
                    <a:pt x="1007" y="1969"/>
                  </a:lnTo>
                  <a:lnTo>
                    <a:pt x="1061" y="1969"/>
                  </a:lnTo>
                  <a:lnTo>
                    <a:pt x="1122" y="1973"/>
                  </a:lnTo>
                  <a:lnTo>
                    <a:pt x="1181" y="1973"/>
                  </a:lnTo>
                  <a:lnTo>
                    <a:pt x="1304" y="1969"/>
                  </a:lnTo>
                  <a:lnTo>
                    <a:pt x="1359" y="1969"/>
                  </a:lnTo>
                  <a:lnTo>
                    <a:pt x="1414" y="1963"/>
                  </a:lnTo>
                  <a:lnTo>
                    <a:pt x="1465" y="1960"/>
                  </a:lnTo>
                  <a:lnTo>
                    <a:pt x="1513" y="1954"/>
                  </a:lnTo>
                  <a:lnTo>
                    <a:pt x="1558" y="1948"/>
                  </a:lnTo>
                  <a:lnTo>
                    <a:pt x="1600" y="1939"/>
                  </a:lnTo>
                  <a:lnTo>
                    <a:pt x="1642" y="1931"/>
                  </a:lnTo>
                  <a:lnTo>
                    <a:pt x="1678" y="1918"/>
                  </a:lnTo>
                  <a:lnTo>
                    <a:pt x="1714" y="1906"/>
                  </a:lnTo>
                  <a:lnTo>
                    <a:pt x="1747" y="1891"/>
                  </a:lnTo>
                  <a:lnTo>
                    <a:pt x="1778" y="1876"/>
                  </a:lnTo>
                  <a:lnTo>
                    <a:pt x="1808" y="1858"/>
                  </a:lnTo>
                  <a:lnTo>
                    <a:pt x="1835" y="1837"/>
                  </a:lnTo>
                  <a:lnTo>
                    <a:pt x="1858" y="1816"/>
                  </a:lnTo>
                  <a:lnTo>
                    <a:pt x="1880" y="1791"/>
                  </a:lnTo>
                  <a:lnTo>
                    <a:pt x="1892" y="1780"/>
                  </a:lnTo>
                  <a:lnTo>
                    <a:pt x="1901" y="1765"/>
                  </a:lnTo>
                  <a:lnTo>
                    <a:pt x="1918" y="1738"/>
                  </a:lnTo>
                  <a:lnTo>
                    <a:pt x="1937" y="1708"/>
                  </a:lnTo>
                  <a:lnTo>
                    <a:pt x="1952" y="1675"/>
                  </a:lnTo>
                  <a:lnTo>
                    <a:pt x="1967" y="1641"/>
                  </a:lnTo>
                  <a:lnTo>
                    <a:pt x="1979" y="1603"/>
                  </a:lnTo>
                  <a:lnTo>
                    <a:pt x="1988" y="1563"/>
                  </a:lnTo>
                  <a:lnTo>
                    <a:pt x="1997" y="1522"/>
                  </a:lnTo>
                  <a:lnTo>
                    <a:pt x="2003" y="1476"/>
                  </a:lnTo>
                  <a:lnTo>
                    <a:pt x="2009" y="1427"/>
                  </a:lnTo>
                  <a:lnTo>
                    <a:pt x="2015" y="1376"/>
                  </a:lnTo>
                  <a:lnTo>
                    <a:pt x="2018" y="1323"/>
                  </a:lnTo>
                  <a:lnTo>
                    <a:pt x="2021" y="1296"/>
                  </a:lnTo>
                  <a:lnTo>
                    <a:pt x="2021" y="1266"/>
                  </a:lnTo>
                  <a:lnTo>
                    <a:pt x="2024" y="1205"/>
                  </a:lnTo>
                  <a:lnTo>
                    <a:pt x="2024" y="1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640" y="624240"/>
              <a:ext cx="513720" cy="517680"/>
            </a:xfrm>
            <a:custGeom>
              <a:avLst/>
              <a:gdLst/>
              <a:ahLst/>
              <a:rect l="l" t="t" r="r" b="b"/>
              <a:pathLst>
                <a:path w="3372" h="3543">
                  <a:moveTo>
                    <a:pt x="1456" y="2096"/>
                  </a:moveTo>
                  <a:lnTo>
                    <a:pt x="2165" y="2096"/>
                  </a:lnTo>
                  <a:lnTo>
                    <a:pt x="1672" y="697"/>
                  </a:lnTo>
                  <a:lnTo>
                    <a:pt x="1160" y="2120"/>
                  </a:lnTo>
                  <a:lnTo>
                    <a:pt x="652" y="3543"/>
                  </a:lnTo>
                  <a:lnTo>
                    <a:pt x="0" y="3543"/>
                  </a:lnTo>
                  <a:lnTo>
                    <a:pt x="683" y="1772"/>
                  </a:lnTo>
                  <a:lnTo>
                    <a:pt x="1369" y="0"/>
                  </a:lnTo>
                  <a:lnTo>
                    <a:pt x="2012" y="0"/>
                  </a:lnTo>
                  <a:lnTo>
                    <a:pt x="2692" y="1772"/>
                  </a:lnTo>
                  <a:lnTo>
                    <a:pt x="3372" y="3543"/>
                  </a:lnTo>
                  <a:lnTo>
                    <a:pt x="2686" y="3543"/>
                  </a:lnTo>
                  <a:lnTo>
                    <a:pt x="2358" y="2638"/>
                  </a:lnTo>
                  <a:lnTo>
                    <a:pt x="1260" y="2638"/>
                  </a:lnTo>
                  <a:lnTo>
                    <a:pt x="1456" y="2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64040" y="756720"/>
              <a:ext cx="364680" cy="533160"/>
            </a:xfrm>
            <a:custGeom>
              <a:avLst/>
              <a:gdLst/>
              <a:ahLst/>
              <a:rect l="l" t="t" r="r" b="b"/>
              <a:pathLst>
                <a:path w="2395" h="3649">
                  <a:moveTo>
                    <a:pt x="1279" y="2677"/>
                  </a:moveTo>
                  <a:lnTo>
                    <a:pt x="1228" y="2677"/>
                  </a:lnTo>
                  <a:lnTo>
                    <a:pt x="1176" y="2674"/>
                  </a:lnTo>
                  <a:lnTo>
                    <a:pt x="1128" y="2672"/>
                  </a:lnTo>
                  <a:lnTo>
                    <a:pt x="1080" y="2668"/>
                  </a:lnTo>
                  <a:lnTo>
                    <a:pt x="1032" y="2662"/>
                  </a:lnTo>
                  <a:lnTo>
                    <a:pt x="987" y="2653"/>
                  </a:lnTo>
                  <a:lnTo>
                    <a:pt x="942" y="2644"/>
                  </a:lnTo>
                  <a:lnTo>
                    <a:pt x="900" y="2632"/>
                  </a:lnTo>
                  <a:lnTo>
                    <a:pt x="858" y="2617"/>
                  </a:lnTo>
                  <a:lnTo>
                    <a:pt x="818" y="2602"/>
                  </a:lnTo>
                  <a:lnTo>
                    <a:pt x="779" y="2584"/>
                  </a:lnTo>
                  <a:lnTo>
                    <a:pt x="740" y="2563"/>
                  </a:lnTo>
                  <a:lnTo>
                    <a:pt x="704" y="2539"/>
                  </a:lnTo>
                  <a:lnTo>
                    <a:pt x="686" y="2524"/>
                  </a:lnTo>
                  <a:lnTo>
                    <a:pt x="668" y="2512"/>
                  </a:lnTo>
                  <a:lnTo>
                    <a:pt x="632" y="2482"/>
                  </a:lnTo>
                  <a:lnTo>
                    <a:pt x="599" y="2448"/>
                  </a:lnTo>
                  <a:lnTo>
                    <a:pt x="599" y="3649"/>
                  </a:lnTo>
                  <a:lnTo>
                    <a:pt x="0" y="3649"/>
                  </a:lnTo>
                  <a:lnTo>
                    <a:pt x="0" y="1844"/>
                  </a:lnTo>
                  <a:lnTo>
                    <a:pt x="0" y="42"/>
                  </a:lnTo>
                  <a:lnTo>
                    <a:pt x="542" y="42"/>
                  </a:lnTo>
                  <a:lnTo>
                    <a:pt x="542" y="250"/>
                  </a:lnTo>
                  <a:lnTo>
                    <a:pt x="583" y="217"/>
                  </a:lnTo>
                  <a:lnTo>
                    <a:pt x="625" y="183"/>
                  </a:lnTo>
                  <a:lnTo>
                    <a:pt x="674" y="157"/>
                  </a:lnTo>
                  <a:lnTo>
                    <a:pt x="695" y="141"/>
                  </a:lnTo>
                  <a:lnTo>
                    <a:pt x="719" y="130"/>
                  </a:lnTo>
                  <a:lnTo>
                    <a:pt x="771" y="105"/>
                  </a:lnTo>
                  <a:lnTo>
                    <a:pt x="818" y="87"/>
                  </a:lnTo>
                  <a:lnTo>
                    <a:pt x="845" y="75"/>
                  </a:lnTo>
                  <a:lnTo>
                    <a:pt x="869" y="69"/>
                  </a:lnTo>
                  <a:lnTo>
                    <a:pt x="924" y="51"/>
                  </a:lnTo>
                  <a:lnTo>
                    <a:pt x="975" y="39"/>
                  </a:lnTo>
                  <a:lnTo>
                    <a:pt x="1029" y="28"/>
                  </a:lnTo>
                  <a:lnTo>
                    <a:pt x="1083" y="18"/>
                  </a:lnTo>
                  <a:lnTo>
                    <a:pt x="1137" y="12"/>
                  </a:lnTo>
                  <a:lnTo>
                    <a:pt x="1188" y="5"/>
                  </a:lnTo>
                  <a:lnTo>
                    <a:pt x="1243" y="3"/>
                  </a:lnTo>
                  <a:lnTo>
                    <a:pt x="1296" y="0"/>
                  </a:lnTo>
                  <a:lnTo>
                    <a:pt x="1347" y="0"/>
                  </a:lnTo>
                  <a:lnTo>
                    <a:pt x="1432" y="3"/>
                  </a:lnTo>
                  <a:lnTo>
                    <a:pt x="1514" y="9"/>
                  </a:lnTo>
                  <a:lnTo>
                    <a:pt x="1588" y="18"/>
                  </a:lnTo>
                  <a:lnTo>
                    <a:pt x="1624" y="21"/>
                  </a:lnTo>
                  <a:lnTo>
                    <a:pt x="1658" y="28"/>
                  </a:lnTo>
                  <a:lnTo>
                    <a:pt x="1724" y="42"/>
                  </a:lnTo>
                  <a:lnTo>
                    <a:pt x="1787" y="57"/>
                  </a:lnTo>
                  <a:lnTo>
                    <a:pt x="1817" y="66"/>
                  </a:lnTo>
                  <a:lnTo>
                    <a:pt x="1847" y="79"/>
                  </a:lnTo>
                  <a:lnTo>
                    <a:pt x="1901" y="100"/>
                  </a:lnTo>
                  <a:lnTo>
                    <a:pt x="1929" y="111"/>
                  </a:lnTo>
                  <a:lnTo>
                    <a:pt x="1952" y="123"/>
                  </a:lnTo>
                  <a:lnTo>
                    <a:pt x="1976" y="138"/>
                  </a:lnTo>
                  <a:lnTo>
                    <a:pt x="2001" y="151"/>
                  </a:lnTo>
                  <a:lnTo>
                    <a:pt x="2046" y="181"/>
                  </a:lnTo>
                  <a:lnTo>
                    <a:pt x="2064" y="195"/>
                  </a:lnTo>
                  <a:lnTo>
                    <a:pt x="2084" y="214"/>
                  </a:lnTo>
                  <a:lnTo>
                    <a:pt x="2124" y="250"/>
                  </a:lnTo>
                  <a:lnTo>
                    <a:pt x="2157" y="286"/>
                  </a:lnTo>
                  <a:lnTo>
                    <a:pt x="2172" y="307"/>
                  </a:lnTo>
                  <a:lnTo>
                    <a:pt x="2190" y="325"/>
                  </a:lnTo>
                  <a:lnTo>
                    <a:pt x="2217" y="367"/>
                  </a:lnTo>
                  <a:lnTo>
                    <a:pt x="2244" y="412"/>
                  </a:lnTo>
                  <a:lnTo>
                    <a:pt x="2268" y="460"/>
                  </a:lnTo>
                  <a:lnTo>
                    <a:pt x="2289" y="509"/>
                  </a:lnTo>
                  <a:lnTo>
                    <a:pt x="2308" y="559"/>
                  </a:lnTo>
                  <a:lnTo>
                    <a:pt x="2323" y="614"/>
                  </a:lnTo>
                  <a:lnTo>
                    <a:pt x="2337" y="671"/>
                  </a:lnTo>
                  <a:lnTo>
                    <a:pt x="2350" y="727"/>
                  </a:lnTo>
                  <a:lnTo>
                    <a:pt x="2361" y="788"/>
                  </a:lnTo>
                  <a:lnTo>
                    <a:pt x="2371" y="851"/>
                  </a:lnTo>
                  <a:lnTo>
                    <a:pt x="2376" y="915"/>
                  </a:lnTo>
                  <a:lnTo>
                    <a:pt x="2382" y="981"/>
                  </a:lnTo>
                  <a:lnTo>
                    <a:pt x="2386" y="1050"/>
                  </a:lnTo>
                  <a:lnTo>
                    <a:pt x="2391" y="1122"/>
                  </a:lnTo>
                  <a:lnTo>
                    <a:pt x="2391" y="1194"/>
                  </a:lnTo>
                  <a:lnTo>
                    <a:pt x="2395" y="1345"/>
                  </a:lnTo>
                  <a:lnTo>
                    <a:pt x="2391" y="1462"/>
                  </a:lnTo>
                  <a:lnTo>
                    <a:pt x="2391" y="1522"/>
                  </a:lnTo>
                  <a:lnTo>
                    <a:pt x="2388" y="1582"/>
                  </a:lnTo>
                  <a:lnTo>
                    <a:pt x="2382" y="1639"/>
                  </a:lnTo>
                  <a:lnTo>
                    <a:pt x="2376" y="1700"/>
                  </a:lnTo>
                  <a:lnTo>
                    <a:pt x="2371" y="1760"/>
                  </a:lnTo>
                  <a:lnTo>
                    <a:pt x="2361" y="1817"/>
                  </a:lnTo>
                  <a:lnTo>
                    <a:pt x="2350" y="1874"/>
                  </a:lnTo>
                  <a:lnTo>
                    <a:pt x="2337" y="1931"/>
                  </a:lnTo>
                  <a:lnTo>
                    <a:pt x="2323" y="1986"/>
                  </a:lnTo>
                  <a:lnTo>
                    <a:pt x="2304" y="2039"/>
                  </a:lnTo>
                  <a:lnTo>
                    <a:pt x="2286" y="2094"/>
                  </a:lnTo>
                  <a:lnTo>
                    <a:pt x="2265" y="2145"/>
                  </a:lnTo>
                  <a:lnTo>
                    <a:pt x="2253" y="2172"/>
                  </a:lnTo>
                  <a:lnTo>
                    <a:pt x="2241" y="2196"/>
                  </a:lnTo>
                  <a:lnTo>
                    <a:pt x="2214" y="2244"/>
                  </a:lnTo>
                  <a:lnTo>
                    <a:pt x="2184" y="2292"/>
                  </a:lnTo>
                  <a:lnTo>
                    <a:pt x="2147" y="2338"/>
                  </a:lnTo>
                  <a:lnTo>
                    <a:pt x="2111" y="2380"/>
                  </a:lnTo>
                  <a:lnTo>
                    <a:pt x="2073" y="2422"/>
                  </a:lnTo>
                  <a:lnTo>
                    <a:pt x="2031" y="2458"/>
                  </a:lnTo>
                  <a:lnTo>
                    <a:pt x="2007" y="2476"/>
                  </a:lnTo>
                  <a:lnTo>
                    <a:pt x="1982" y="2494"/>
                  </a:lnTo>
                  <a:lnTo>
                    <a:pt x="1958" y="2512"/>
                  </a:lnTo>
                  <a:lnTo>
                    <a:pt x="1931" y="2526"/>
                  </a:lnTo>
                  <a:lnTo>
                    <a:pt x="1904" y="2541"/>
                  </a:lnTo>
                  <a:lnTo>
                    <a:pt x="1878" y="2556"/>
                  </a:lnTo>
                  <a:lnTo>
                    <a:pt x="1847" y="2569"/>
                  </a:lnTo>
                  <a:lnTo>
                    <a:pt x="1817" y="2584"/>
                  </a:lnTo>
                  <a:lnTo>
                    <a:pt x="1754" y="2608"/>
                  </a:lnTo>
                  <a:lnTo>
                    <a:pt x="1721" y="2617"/>
                  </a:lnTo>
                  <a:lnTo>
                    <a:pt x="1688" y="2628"/>
                  </a:lnTo>
                  <a:lnTo>
                    <a:pt x="1616" y="2644"/>
                  </a:lnTo>
                  <a:lnTo>
                    <a:pt x="1576" y="2653"/>
                  </a:lnTo>
                  <a:lnTo>
                    <a:pt x="1537" y="2659"/>
                  </a:lnTo>
                  <a:lnTo>
                    <a:pt x="1498" y="2666"/>
                  </a:lnTo>
                  <a:lnTo>
                    <a:pt x="1455" y="2668"/>
                  </a:lnTo>
                  <a:lnTo>
                    <a:pt x="1414" y="2672"/>
                  </a:lnTo>
                  <a:lnTo>
                    <a:pt x="1372" y="2674"/>
                  </a:lnTo>
                  <a:lnTo>
                    <a:pt x="1326" y="2677"/>
                  </a:lnTo>
                  <a:lnTo>
                    <a:pt x="1279" y="2677"/>
                  </a:lnTo>
                  <a:close/>
                  <a:moveTo>
                    <a:pt x="1252" y="532"/>
                  </a:moveTo>
                  <a:lnTo>
                    <a:pt x="1207" y="532"/>
                  </a:lnTo>
                  <a:lnTo>
                    <a:pt x="1161" y="532"/>
                  </a:lnTo>
                  <a:lnTo>
                    <a:pt x="1076" y="541"/>
                  </a:lnTo>
                  <a:lnTo>
                    <a:pt x="1038" y="545"/>
                  </a:lnTo>
                  <a:lnTo>
                    <a:pt x="1002" y="551"/>
                  </a:lnTo>
                  <a:lnTo>
                    <a:pt x="966" y="559"/>
                  </a:lnTo>
                  <a:lnTo>
                    <a:pt x="932" y="568"/>
                  </a:lnTo>
                  <a:lnTo>
                    <a:pt x="902" y="578"/>
                  </a:lnTo>
                  <a:lnTo>
                    <a:pt x="873" y="589"/>
                  </a:lnTo>
                  <a:lnTo>
                    <a:pt x="845" y="602"/>
                  </a:lnTo>
                  <a:lnTo>
                    <a:pt x="818" y="617"/>
                  </a:lnTo>
                  <a:lnTo>
                    <a:pt x="794" y="634"/>
                  </a:lnTo>
                  <a:lnTo>
                    <a:pt x="771" y="653"/>
                  </a:lnTo>
                  <a:lnTo>
                    <a:pt x="749" y="674"/>
                  </a:lnTo>
                  <a:lnTo>
                    <a:pt x="731" y="695"/>
                  </a:lnTo>
                  <a:lnTo>
                    <a:pt x="713" y="719"/>
                  </a:lnTo>
                  <a:lnTo>
                    <a:pt x="695" y="746"/>
                  </a:lnTo>
                  <a:lnTo>
                    <a:pt x="680" y="773"/>
                  </a:lnTo>
                  <a:lnTo>
                    <a:pt x="674" y="788"/>
                  </a:lnTo>
                  <a:lnTo>
                    <a:pt x="668" y="803"/>
                  </a:lnTo>
                  <a:lnTo>
                    <a:pt x="653" y="833"/>
                  </a:lnTo>
                  <a:lnTo>
                    <a:pt x="644" y="869"/>
                  </a:lnTo>
                  <a:lnTo>
                    <a:pt x="635" y="905"/>
                  </a:lnTo>
                  <a:lnTo>
                    <a:pt x="625" y="945"/>
                  </a:lnTo>
                  <a:lnTo>
                    <a:pt x="617" y="983"/>
                  </a:lnTo>
                  <a:lnTo>
                    <a:pt x="610" y="1029"/>
                  </a:lnTo>
                  <a:lnTo>
                    <a:pt x="602" y="1122"/>
                  </a:lnTo>
                  <a:lnTo>
                    <a:pt x="599" y="1173"/>
                  </a:lnTo>
                  <a:lnTo>
                    <a:pt x="596" y="1227"/>
                  </a:lnTo>
                  <a:lnTo>
                    <a:pt x="596" y="1284"/>
                  </a:lnTo>
                  <a:lnTo>
                    <a:pt x="596" y="1345"/>
                  </a:lnTo>
                  <a:lnTo>
                    <a:pt x="596" y="1459"/>
                  </a:lnTo>
                  <a:lnTo>
                    <a:pt x="602" y="1565"/>
                  </a:lnTo>
                  <a:lnTo>
                    <a:pt x="604" y="1612"/>
                  </a:lnTo>
                  <a:lnTo>
                    <a:pt x="610" y="1658"/>
                  </a:lnTo>
                  <a:lnTo>
                    <a:pt x="617" y="1703"/>
                  </a:lnTo>
                  <a:lnTo>
                    <a:pt x="625" y="1741"/>
                  </a:lnTo>
                  <a:lnTo>
                    <a:pt x="629" y="1762"/>
                  </a:lnTo>
                  <a:lnTo>
                    <a:pt x="635" y="1781"/>
                  </a:lnTo>
                  <a:lnTo>
                    <a:pt x="644" y="1817"/>
                  </a:lnTo>
                  <a:lnTo>
                    <a:pt x="653" y="1849"/>
                  </a:lnTo>
                  <a:lnTo>
                    <a:pt x="668" y="1883"/>
                  </a:lnTo>
                  <a:lnTo>
                    <a:pt x="680" y="1913"/>
                  </a:lnTo>
                  <a:lnTo>
                    <a:pt x="695" y="1940"/>
                  </a:lnTo>
                  <a:lnTo>
                    <a:pt x="713" y="1965"/>
                  </a:lnTo>
                  <a:lnTo>
                    <a:pt x="731" y="1988"/>
                  </a:lnTo>
                  <a:lnTo>
                    <a:pt x="749" y="2009"/>
                  </a:lnTo>
                  <a:lnTo>
                    <a:pt x="771" y="2027"/>
                  </a:lnTo>
                  <a:lnTo>
                    <a:pt x="794" y="2046"/>
                  </a:lnTo>
                  <a:lnTo>
                    <a:pt x="807" y="2054"/>
                  </a:lnTo>
                  <a:lnTo>
                    <a:pt x="818" y="2063"/>
                  </a:lnTo>
                  <a:lnTo>
                    <a:pt x="845" y="2079"/>
                  </a:lnTo>
                  <a:lnTo>
                    <a:pt x="873" y="2090"/>
                  </a:lnTo>
                  <a:lnTo>
                    <a:pt x="902" y="2103"/>
                  </a:lnTo>
                  <a:lnTo>
                    <a:pt x="932" y="2111"/>
                  </a:lnTo>
                  <a:lnTo>
                    <a:pt x="966" y="2120"/>
                  </a:lnTo>
                  <a:lnTo>
                    <a:pt x="1002" y="2126"/>
                  </a:lnTo>
                  <a:lnTo>
                    <a:pt x="1038" y="2133"/>
                  </a:lnTo>
                  <a:lnTo>
                    <a:pt x="1076" y="2139"/>
                  </a:lnTo>
                  <a:lnTo>
                    <a:pt x="1116" y="2141"/>
                  </a:lnTo>
                  <a:lnTo>
                    <a:pt x="1161" y="2145"/>
                  </a:lnTo>
                  <a:lnTo>
                    <a:pt x="1207" y="2145"/>
                  </a:lnTo>
                  <a:lnTo>
                    <a:pt x="1252" y="2145"/>
                  </a:lnTo>
                  <a:lnTo>
                    <a:pt x="1294" y="2145"/>
                  </a:lnTo>
                  <a:lnTo>
                    <a:pt x="1332" y="2145"/>
                  </a:lnTo>
                  <a:lnTo>
                    <a:pt x="1368" y="2141"/>
                  </a:lnTo>
                  <a:lnTo>
                    <a:pt x="1404" y="2136"/>
                  </a:lnTo>
                  <a:lnTo>
                    <a:pt x="1438" y="2130"/>
                  </a:lnTo>
                  <a:lnTo>
                    <a:pt x="1468" y="2124"/>
                  </a:lnTo>
                  <a:lnTo>
                    <a:pt x="1498" y="2115"/>
                  </a:lnTo>
                  <a:lnTo>
                    <a:pt x="1525" y="2105"/>
                  </a:lnTo>
                  <a:lnTo>
                    <a:pt x="1552" y="2094"/>
                  </a:lnTo>
                  <a:lnTo>
                    <a:pt x="1576" y="2082"/>
                  </a:lnTo>
                  <a:lnTo>
                    <a:pt x="1597" y="2067"/>
                  </a:lnTo>
                  <a:lnTo>
                    <a:pt x="1618" y="2052"/>
                  </a:lnTo>
                  <a:lnTo>
                    <a:pt x="1639" y="2033"/>
                  </a:lnTo>
                  <a:lnTo>
                    <a:pt x="1658" y="2016"/>
                  </a:lnTo>
                  <a:lnTo>
                    <a:pt x="1675" y="1995"/>
                  </a:lnTo>
                  <a:lnTo>
                    <a:pt x="1690" y="1970"/>
                  </a:lnTo>
                  <a:lnTo>
                    <a:pt x="1705" y="1946"/>
                  </a:lnTo>
                  <a:lnTo>
                    <a:pt x="1718" y="1922"/>
                  </a:lnTo>
                  <a:lnTo>
                    <a:pt x="1730" y="1893"/>
                  </a:lnTo>
                  <a:lnTo>
                    <a:pt x="1739" y="1865"/>
                  </a:lnTo>
                  <a:lnTo>
                    <a:pt x="1751" y="1832"/>
                  </a:lnTo>
                  <a:lnTo>
                    <a:pt x="1757" y="1798"/>
                  </a:lnTo>
                  <a:lnTo>
                    <a:pt x="1766" y="1762"/>
                  </a:lnTo>
                  <a:lnTo>
                    <a:pt x="1772" y="1724"/>
                  </a:lnTo>
                  <a:lnTo>
                    <a:pt x="1778" y="1684"/>
                  </a:lnTo>
                  <a:lnTo>
                    <a:pt x="1781" y="1643"/>
                  </a:lnTo>
                  <a:lnTo>
                    <a:pt x="1787" y="1597"/>
                  </a:lnTo>
                  <a:lnTo>
                    <a:pt x="1790" y="1552"/>
                  </a:lnTo>
                  <a:lnTo>
                    <a:pt x="1793" y="1453"/>
                  </a:lnTo>
                  <a:lnTo>
                    <a:pt x="1793" y="1345"/>
                  </a:lnTo>
                  <a:lnTo>
                    <a:pt x="1793" y="1288"/>
                  </a:lnTo>
                  <a:lnTo>
                    <a:pt x="1793" y="1237"/>
                  </a:lnTo>
                  <a:lnTo>
                    <a:pt x="1790" y="1134"/>
                  </a:lnTo>
                  <a:lnTo>
                    <a:pt x="1787" y="1089"/>
                  </a:lnTo>
                  <a:lnTo>
                    <a:pt x="1781" y="1044"/>
                  </a:lnTo>
                  <a:lnTo>
                    <a:pt x="1772" y="962"/>
                  </a:lnTo>
                  <a:lnTo>
                    <a:pt x="1766" y="924"/>
                  </a:lnTo>
                  <a:lnTo>
                    <a:pt x="1757" y="887"/>
                  </a:lnTo>
                  <a:lnTo>
                    <a:pt x="1751" y="854"/>
                  </a:lnTo>
                  <a:lnTo>
                    <a:pt x="1739" y="822"/>
                  </a:lnTo>
                  <a:lnTo>
                    <a:pt x="1730" y="791"/>
                  </a:lnTo>
                  <a:lnTo>
                    <a:pt x="1718" y="761"/>
                  </a:lnTo>
                  <a:lnTo>
                    <a:pt x="1705" y="737"/>
                  </a:lnTo>
                  <a:lnTo>
                    <a:pt x="1690" y="710"/>
                  </a:lnTo>
                  <a:lnTo>
                    <a:pt x="1675" y="689"/>
                  </a:lnTo>
                  <a:lnTo>
                    <a:pt x="1658" y="668"/>
                  </a:lnTo>
                  <a:lnTo>
                    <a:pt x="1639" y="647"/>
                  </a:lnTo>
                  <a:lnTo>
                    <a:pt x="1618" y="629"/>
                  </a:lnTo>
                  <a:lnTo>
                    <a:pt x="1597" y="614"/>
                  </a:lnTo>
                  <a:lnTo>
                    <a:pt x="1576" y="598"/>
                  </a:lnTo>
                  <a:lnTo>
                    <a:pt x="1552" y="583"/>
                  </a:lnTo>
                  <a:lnTo>
                    <a:pt x="1525" y="574"/>
                  </a:lnTo>
                  <a:lnTo>
                    <a:pt x="1498" y="562"/>
                  </a:lnTo>
                  <a:lnTo>
                    <a:pt x="1468" y="553"/>
                  </a:lnTo>
                  <a:lnTo>
                    <a:pt x="1438" y="547"/>
                  </a:lnTo>
                  <a:lnTo>
                    <a:pt x="1404" y="541"/>
                  </a:lnTo>
                  <a:lnTo>
                    <a:pt x="1368" y="538"/>
                  </a:lnTo>
                  <a:lnTo>
                    <a:pt x="1332" y="536"/>
                  </a:lnTo>
                  <a:lnTo>
                    <a:pt x="1294" y="532"/>
                  </a:lnTo>
                  <a:lnTo>
                    <a:pt x="1252" y="532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73360" y="624240"/>
              <a:ext cx="91800" cy="517680"/>
            </a:xfrm>
            <a:custGeom>
              <a:avLst/>
              <a:gdLst/>
              <a:ahLst/>
              <a:rect l="l" t="t" r="r" b="b"/>
              <a:pathLst>
                <a:path w="602" h="3540">
                  <a:moveTo>
                    <a:pt x="0" y="3540"/>
                  </a:moveTo>
                  <a:lnTo>
                    <a:pt x="0" y="1769"/>
                  </a:lnTo>
                  <a:lnTo>
                    <a:pt x="0" y="0"/>
                  </a:lnTo>
                  <a:lnTo>
                    <a:pt x="602" y="0"/>
                  </a:lnTo>
                  <a:lnTo>
                    <a:pt x="602" y="1769"/>
                  </a:lnTo>
                  <a:lnTo>
                    <a:pt x="602" y="3540"/>
                  </a:lnTo>
                  <a:lnTo>
                    <a:pt x="0" y="3540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17720" y="762840"/>
              <a:ext cx="345960" cy="385200"/>
            </a:xfrm>
            <a:custGeom>
              <a:avLst/>
              <a:gdLst/>
              <a:ahLst/>
              <a:rect l="l" t="t" r="r" b="b"/>
              <a:pathLst>
                <a:path w="2273" h="2635">
                  <a:moveTo>
                    <a:pt x="1754" y="2593"/>
                  </a:moveTo>
                  <a:lnTo>
                    <a:pt x="1754" y="2385"/>
                  </a:lnTo>
                  <a:lnTo>
                    <a:pt x="1723" y="2410"/>
                  </a:lnTo>
                  <a:lnTo>
                    <a:pt x="1693" y="2434"/>
                  </a:lnTo>
                  <a:lnTo>
                    <a:pt x="1661" y="2457"/>
                  </a:lnTo>
                  <a:lnTo>
                    <a:pt x="1625" y="2478"/>
                  </a:lnTo>
                  <a:lnTo>
                    <a:pt x="1589" y="2503"/>
                  </a:lnTo>
                  <a:lnTo>
                    <a:pt x="1546" y="2521"/>
                  </a:lnTo>
                  <a:lnTo>
                    <a:pt x="1504" y="2542"/>
                  </a:lnTo>
                  <a:lnTo>
                    <a:pt x="1458" y="2560"/>
                  </a:lnTo>
                  <a:lnTo>
                    <a:pt x="1413" y="2575"/>
                  </a:lnTo>
                  <a:lnTo>
                    <a:pt x="1362" y="2590"/>
                  </a:lnTo>
                  <a:lnTo>
                    <a:pt x="1312" y="2602"/>
                  </a:lnTo>
                  <a:lnTo>
                    <a:pt x="1254" y="2614"/>
                  </a:lnTo>
                  <a:lnTo>
                    <a:pt x="1197" y="2624"/>
                  </a:lnTo>
                  <a:lnTo>
                    <a:pt x="1134" y="2630"/>
                  </a:lnTo>
                  <a:lnTo>
                    <a:pt x="1071" y="2632"/>
                  </a:lnTo>
                  <a:lnTo>
                    <a:pt x="1005" y="2635"/>
                  </a:lnTo>
                  <a:lnTo>
                    <a:pt x="956" y="2635"/>
                  </a:lnTo>
                  <a:lnTo>
                    <a:pt x="908" y="2632"/>
                  </a:lnTo>
                  <a:lnTo>
                    <a:pt x="821" y="2626"/>
                  </a:lnTo>
                  <a:lnTo>
                    <a:pt x="779" y="2624"/>
                  </a:lnTo>
                  <a:lnTo>
                    <a:pt x="736" y="2617"/>
                  </a:lnTo>
                  <a:lnTo>
                    <a:pt x="698" y="2611"/>
                  </a:lnTo>
                  <a:lnTo>
                    <a:pt x="662" y="2605"/>
                  </a:lnTo>
                  <a:lnTo>
                    <a:pt x="626" y="2596"/>
                  </a:lnTo>
                  <a:lnTo>
                    <a:pt x="590" y="2590"/>
                  </a:lnTo>
                  <a:lnTo>
                    <a:pt x="524" y="2569"/>
                  </a:lnTo>
                  <a:lnTo>
                    <a:pt x="463" y="2548"/>
                  </a:lnTo>
                  <a:lnTo>
                    <a:pt x="433" y="2535"/>
                  </a:lnTo>
                  <a:lnTo>
                    <a:pt x="406" y="2524"/>
                  </a:lnTo>
                  <a:lnTo>
                    <a:pt x="378" y="2509"/>
                  </a:lnTo>
                  <a:lnTo>
                    <a:pt x="355" y="2493"/>
                  </a:lnTo>
                  <a:lnTo>
                    <a:pt x="306" y="2463"/>
                  </a:lnTo>
                  <a:lnTo>
                    <a:pt x="285" y="2448"/>
                  </a:lnTo>
                  <a:lnTo>
                    <a:pt x="264" y="2431"/>
                  </a:lnTo>
                  <a:lnTo>
                    <a:pt x="247" y="2416"/>
                  </a:lnTo>
                  <a:lnTo>
                    <a:pt x="228" y="2397"/>
                  </a:lnTo>
                  <a:lnTo>
                    <a:pt x="192" y="2359"/>
                  </a:lnTo>
                  <a:lnTo>
                    <a:pt x="162" y="2319"/>
                  </a:lnTo>
                  <a:lnTo>
                    <a:pt x="147" y="2298"/>
                  </a:lnTo>
                  <a:lnTo>
                    <a:pt x="135" y="2277"/>
                  </a:lnTo>
                  <a:lnTo>
                    <a:pt x="111" y="2235"/>
                  </a:lnTo>
                  <a:lnTo>
                    <a:pt x="90" y="2190"/>
                  </a:lnTo>
                  <a:lnTo>
                    <a:pt x="81" y="2166"/>
                  </a:lnTo>
                  <a:lnTo>
                    <a:pt x="72" y="2145"/>
                  </a:lnTo>
                  <a:lnTo>
                    <a:pt x="54" y="2097"/>
                  </a:lnTo>
                  <a:lnTo>
                    <a:pt x="42" y="2048"/>
                  </a:lnTo>
                  <a:lnTo>
                    <a:pt x="33" y="1997"/>
                  </a:lnTo>
                  <a:lnTo>
                    <a:pt x="24" y="1946"/>
                  </a:lnTo>
                  <a:lnTo>
                    <a:pt x="14" y="1895"/>
                  </a:lnTo>
                  <a:lnTo>
                    <a:pt x="12" y="1841"/>
                  </a:lnTo>
                  <a:lnTo>
                    <a:pt x="6" y="1790"/>
                  </a:lnTo>
                  <a:lnTo>
                    <a:pt x="3" y="1735"/>
                  </a:lnTo>
                  <a:lnTo>
                    <a:pt x="0" y="1627"/>
                  </a:lnTo>
                  <a:lnTo>
                    <a:pt x="0" y="1413"/>
                  </a:lnTo>
                  <a:lnTo>
                    <a:pt x="0" y="0"/>
                  </a:lnTo>
                  <a:lnTo>
                    <a:pt x="601" y="0"/>
                  </a:lnTo>
                  <a:lnTo>
                    <a:pt x="601" y="1366"/>
                  </a:lnTo>
                  <a:lnTo>
                    <a:pt x="598" y="1540"/>
                  </a:lnTo>
                  <a:lnTo>
                    <a:pt x="598" y="1618"/>
                  </a:lnTo>
                  <a:lnTo>
                    <a:pt x="601" y="1690"/>
                  </a:lnTo>
                  <a:lnTo>
                    <a:pt x="605" y="1727"/>
                  </a:lnTo>
                  <a:lnTo>
                    <a:pt x="605" y="1756"/>
                  </a:lnTo>
                  <a:lnTo>
                    <a:pt x="613" y="1817"/>
                  </a:lnTo>
                  <a:lnTo>
                    <a:pt x="619" y="1847"/>
                  </a:lnTo>
                  <a:lnTo>
                    <a:pt x="622" y="1859"/>
                  </a:lnTo>
                  <a:lnTo>
                    <a:pt x="626" y="1874"/>
                  </a:lnTo>
                  <a:lnTo>
                    <a:pt x="632" y="1898"/>
                  </a:lnTo>
                  <a:lnTo>
                    <a:pt x="641" y="1923"/>
                  </a:lnTo>
                  <a:lnTo>
                    <a:pt x="653" y="1944"/>
                  </a:lnTo>
                  <a:lnTo>
                    <a:pt x="664" y="1964"/>
                  </a:lnTo>
                  <a:lnTo>
                    <a:pt x="679" y="1982"/>
                  </a:lnTo>
                  <a:lnTo>
                    <a:pt x="694" y="2000"/>
                  </a:lnTo>
                  <a:lnTo>
                    <a:pt x="713" y="2018"/>
                  </a:lnTo>
                  <a:lnTo>
                    <a:pt x="721" y="2025"/>
                  </a:lnTo>
                  <a:lnTo>
                    <a:pt x="734" y="2033"/>
                  </a:lnTo>
                  <a:lnTo>
                    <a:pt x="755" y="2046"/>
                  </a:lnTo>
                  <a:lnTo>
                    <a:pt x="779" y="2057"/>
                  </a:lnTo>
                  <a:lnTo>
                    <a:pt x="806" y="2069"/>
                  </a:lnTo>
                  <a:lnTo>
                    <a:pt x="836" y="2078"/>
                  </a:lnTo>
                  <a:lnTo>
                    <a:pt x="869" y="2084"/>
                  </a:lnTo>
                  <a:lnTo>
                    <a:pt x="903" y="2094"/>
                  </a:lnTo>
                  <a:lnTo>
                    <a:pt x="941" y="2097"/>
                  </a:lnTo>
                  <a:lnTo>
                    <a:pt x="984" y="2099"/>
                  </a:lnTo>
                  <a:lnTo>
                    <a:pt x="1026" y="2103"/>
                  </a:lnTo>
                  <a:lnTo>
                    <a:pt x="1074" y="2103"/>
                  </a:lnTo>
                  <a:lnTo>
                    <a:pt x="1130" y="2103"/>
                  </a:lnTo>
                  <a:lnTo>
                    <a:pt x="1187" y="2099"/>
                  </a:lnTo>
                  <a:lnTo>
                    <a:pt x="1236" y="2094"/>
                  </a:lnTo>
                  <a:lnTo>
                    <a:pt x="1261" y="2088"/>
                  </a:lnTo>
                  <a:lnTo>
                    <a:pt x="1284" y="2084"/>
                  </a:lnTo>
                  <a:lnTo>
                    <a:pt x="1308" y="2078"/>
                  </a:lnTo>
                  <a:lnTo>
                    <a:pt x="1329" y="2073"/>
                  </a:lnTo>
                  <a:lnTo>
                    <a:pt x="1369" y="2061"/>
                  </a:lnTo>
                  <a:lnTo>
                    <a:pt x="1407" y="2046"/>
                  </a:lnTo>
                  <a:lnTo>
                    <a:pt x="1441" y="2027"/>
                  </a:lnTo>
                  <a:lnTo>
                    <a:pt x="1471" y="2006"/>
                  </a:lnTo>
                  <a:lnTo>
                    <a:pt x="1486" y="1997"/>
                  </a:lnTo>
                  <a:lnTo>
                    <a:pt x="1498" y="1985"/>
                  </a:lnTo>
                  <a:lnTo>
                    <a:pt x="1525" y="1964"/>
                  </a:lnTo>
                  <a:lnTo>
                    <a:pt x="1549" y="1938"/>
                  </a:lnTo>
                  <a:lnTo>
                    <a:pt x="1558" y="1925"/>
                  </a:lnTo>
                  <a:lnTo>
                    <a:pt x="1566" y="1913"/>
                  </a:lnTo>
                  <a:lnTo>
                    <a:pt x="1576" y="1898"/>
                  </a:lnTo>
                  <a:lnTo>
                    <a:pt x="1585" y="1883"/>
                  </a:lnTo>
                  <a:lnTo>
                    <a:pt x="1603" y="1856"/>
                  </a:lnTo>
                  <a:lnTo>
                    <a:pt x="1610" y="1841"/>
                  </a:lnTo>
                  <a:lnTo>
                    <a:pt x="1615" y="1823"/>
                  </a:lnTo>
                  <a:lnTo>
                    <a:pt x="1627" y="1792"/>
                  </a:lnTo>
                  <a:lnTo>
                    <a:pt x="1639" y="1760"/>
                  </a:lnTo>
                  <a:lnTo>
                    <a:pt x="1648" y="1724"/>
                  </a:lnTo>
                  <a:lnTo>
                    <a:pt x="1654" y="1688"/>
                  </a:lnTo>
                  <a:lnTo>
                    <a:pt x="1661" y="1652"/>
                  </a:lnTo>
                  <a:lnTo>
                    <a:pt x="1663" y="1616"/>
                  </a:lnTo>
                  <a:lnTo>
                    <a:pt x="1669" y="1576"/>
                  </a:lnTo>
                  <a:lnTo>
                    <a:pt x="1669" y="1538"/>
                  </a:lnTo>
                  <a:lnTo>
                    <a:pt x="1672" y="1456"/>
                  </a:lnTo>
                  <a:lnTo>
                    <a:pt x="1672" y="1375"/>
                  </a:lnTo>
                  <a:lnTo>
                    <a:pt x="1672" y="1206"/>
                  </a:lnTo>
                  <a:lnTo>
                    <a:pt x="1672" y="0"/>
                  </a:lnTo>
                  <a:lnTo>
                    <a:pt x="2273" y="0"/>
                  </a:lnTo>
                  <a:lnTo>
                    <a:pt x="2273" y="1297"/>
                  </a:lnTo>
                  <a:lnTo>
                    <a:pt x="2273" y="2593"/>
                  </a:lnTo>
                  <a:lnTo>
                    <a:pt x="1754" y="2593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10840" y="756720"/>
              <a:ext cx="348840" cy="391320"/>
            </a:xfrm>
            <a:custGeom>
              <a:avLst/>
              <a:gdLst/>
              <a:ahLst/>
              <a:rect l="l" t="t" r="r" b="b"/>
              <a:pathLst>
                <a:path w="2292" h="2677">
                  <a:moveTo>
                    <a:pt x="1742" y="818"/>
                  </a:moveTo>
                  <a:lnTo>
                    <a:pt x="1738" y="773"/>
                  </a:lnTo>
                  <a:lnTo>
                    <a:pt x="1738" y="752"/>
                  </a:lnTo>
                  <a:lnTo>
                    <a:pt x="1735" y="734"/>
                  </a:lnTo>
                  <a:lnTo>
                    <a:pt x="1729" y="712"/>
                  </a:lnTo>
                  <a:lnTo>
                    <a:pt x="1727" y="695"/>
                  </a:lnTo>
                  <a:lnTo>
                    <a:pt x="1721" y="680"/>
                  </a:lnTo>
                  <a:lnTo>
                    <a:pt x="1714" y="661"/>
                  </a:lnTo>
                  <a:lnTo>
                    <a:pt x="1708" y="647"/>
                  </a:lnTo>
                  <a:lnTo>
                    <a:pt x="1699" y="632"/>
                  </a:lnTo>
                  <a:lnTo>
                    <a:pt x="1691" y="619"/>
                  </a:lnTo>
                  <a:lnTo>
                    <a:pt x="1681" y="604"/>
                  </a:lnTo>
                  <a:lnTo>
                    <a:pt x="1672" y="593"/>
                  </a:lnTo>
                  <a:lnTo>
                    <a:pt x="1660" y="583"/>
                  </a:lnTo>
                  <a:lnTo>
                    <a:pt x="1648" y="572"/>
                  </a:lnTo>
                  <a:lnTo>
                    <a:pt x="1632" y="562"/>
                  </a:lnTo>
                  <a:lnTo>
                    <a:pt x="1603" y="545"/>
                  </a:lnTo>
                  <a:lnTo>
                    <a:pt x="1567" y="530"/>
                  </a:lnTo>
                  <a:lnTo>
                    <a:pt x="1528" y="517"/>
                  </a:lnTo>
                  <a:lnTo>
                    <a:pt x="1486" y="505"/>
                  </a:lnTo>
                  <a:lnTo>
                    <a:pt x="1437" y="496"/>
                  </a:lnTo>
                  <a:lnTo>
                    <a:pt x="1384" y="490"/>
                  </a:lnTo>
                  <a:lnTo>
                    <a:pt x="1327" y="487"/>
                  </a:lnTo>
                  <a:lnTo>
                    <a:pt x="1263" y="484"/>
                  </a:lnTo>
                  <a:lnTo>
                    <a:pt x="1170" y="481"/>
                  </a:lnTo>
                  <a:lnTo>
                    <a:pt x="1088" y="484"/>
                  </a:lnTo>
                  <a:lnTo>
                    <a:pt x="1052" y="487"/>
                  </a:lnTo>
                  <a:lnTo>
                    <a:pt x="1016" y="490"/>
                  </a:lnTo>
                  <a:lnTo>
                    <a:pt x="950" y="496"/>
                  </a:lnTo>
                  <a:lnTo>
                    <a:pt x="923" y="502"/>
                  </a:lnTo>
                  <a:lnTo>
                    <a:pt x="896" y="505"/>
                  </a:lnTo>
                  <a:lnTo>
                    <a:pt x="845" y="521"/>
                  </a:lnTo>
                  <a:lnTo>
                    <a:pt x="806" y="536"/>
                  </a:lnTo>
                  <a:lnTo>
                    <a:pt x="785" y="545"/>
                  </a:lnTo>
                  <a:lnTo>
                    <a:pt x="770" y="553"/>
                  </a:lnTo>
                  <a:lnTo>
                    <a:pt x="739" y="572"/>
                  </a:lnTo>
                  <a:lnTo>
                    <a:pt x="728" y="583"/>
                  </a:lnTo>
                  <a:lnTo>
                    <a:pt x="715" y="593"/>
                  </a:lnTo>
                  <a:lnTo>
                    <a:pt x="707" y="604"/>
                  </a:lnTo>
                  <a:lnTo>
                    <a:pt x="698" y="617"/>
                  </a:lnTo>
                  <a:lnTo>
                    <a:pt x="688" y="629"/>
                  </a:lnTo>
                  <a:lnTo>
                    <a:pt x="683" y="644"/>
                  </a:lnTo>
                  <a:lnTo>
                    <a:pt x="677" y="655"/>
                  </a:lnTo>
                  <a:lnTo>
                    <a:pt x="671" y="671"/>
                  </a:lnTo>
                  <a:lnTo>
                    <a:pt x="664" y="697"/>
                  </a:lnTo>
                  <a:lnTo>
                    <a:pt x="658" y="727"/>
                  </a:lnTo>
                  <a:lnTo>
                    <a:pt x="658" y="761"/>
                  </a:lnTo>
                  <a:lnTo>
                    <a:pt x="658" y="812"/>
                  </a:lnTo>
                  <a:lnTo>
                    <a:pt x="658" y="833"/>
                  </a:lnTo>
                  <a:lnTo>
                    <a:pt x="662" y="858"/>
                  </a:lnTo>
                  <a:lnTo>
                    <a:pt x="664" y="875"/>
                  </a:lnTo>
                  <a:lnTo>
                    <a:pt x="671" y="896"/>
                  </a:lnTo>
                  <a:lnTo>
                    <a:pt x="677" y="911"/>
                  </a:lnTo>
                  <a:lnTo>
                    <a:pt x="683" y="930"/>
                  </a:lnTo>
                  <a:lnTo>
                    <a:pt x="688" y="945"/>
                  </a:lnTo>
                  <a:lnTo>
                    <a:pt x="698" y="957"/>
                  </a:lnTo>
                  <a:lnTo>
                    <a:pt x="707" y="968"/>
                  </a:lnTo>
                  <a:lnTo>
                    <a:pt x="715" y="981"/>
                  </a:lnTo>
                  <a:lnTo>
                    <a:pt x="728" y="993"/>
                  </a:lnTo>
                  <a:lnTo>
                    <a:pt x="739" y="1002"/>
                  </a:lnTo>
                  <a:lnTo>
                    <a:pt x="751" y="1011"/>
                  </a:lnTo>
                  <a:lnTo>
                    <a:pt x="766" y="1017"/>
                  </a:lnTo>
                  <a:lnTo>
                    <a:pt x="794" y="1032"/>
                  </a:lnTo>
                  <a:lnTo>
                    <a:pt x="812" y="1034"/>
                  </a:lnTo>
                  <a:lnTo>
                    <a:pt x="827" y="1040"/>
                  </a:lnTo>
                  <a:lnTo>
                    <a:pt x="863" y="1047"/>
                  </a:lnTo>
                  <a:lnTo>
                    <a:pt x="899" y="1053"/>
                  </a:lnTo>
                  <a:lnTo>
                    <a:pt x="941" y="1059"/>
                  </a:lnTo>
                  <a:lnTo>
                    <a:pt x="984" y="1062"/>
                  </a:lnTo>
                  <a:lnTo>
                    <a:pt x="1077" y="1068"/>
                  </a:lnTo>
                  <a:lnTo>
                    <a:pt x="1299" y="1080"/>
                  </a:lnTo>
                  <a:lnTo>
                    <a:pt x="1356" y="1083"/>
                  </a:lnTo>
                  <a:lnTo>
                    <a:pt x="1410" y="1086"/>
                  </a:lnTo>
                  <a:lnTo>
                    <a:pt x="1465" y="1089"/>
                  </a:lnTo>
                  <a:lnTo>
                    <a:pt x="1518" y="1095"/>
                  </a:lnTo>
                  <a:lnTo>
                    <a:pt x="1621" y="1107"/>
                  </a:lnTo>
                  <a:lnTo>
                    <a:pt x="1672" y="1116"/>
                  </a:lnTo>
                  <a:lnTo>
                    <a:pt x="1723" y="1125"/>
                  </a:lnTo>
                  <a:lnTo>
                    <a:pt x="1771" y="1134"/>
                  </a:lnTo>
                  <a:lnTo>
                    <a:pt x="1816" y="1150"/>
                  </a:lnTo>
                  <a:lnTo>
                    <a:pt x="1861" y="1165"/>
                  </a:lnTo>
                  <a:lnTo>
                    <a:pt x="1907" y="1179"/>
                  </a:lnTo>
                  <a:lnTo>
                    <a:pt x="1949" y="1201"/>
                  </a:lnTo>
                  <a:lnTo>
                    <a:pt x="1988" y="1222"/>
                  </a:lnTo>
                  <a:lnTo>
                    <a:pt x="2024" y="1245"/>
                  </a:lnTo>
                  <a:lnTo>
                    <a:pt x="2042" y="1258"/>
                  </a:lnTo>
                  <a:lnTo>
                    <a:pt x="2060" y="1273"/>
                  </a:lnTo>
                  <a:lnTo>
                    <a:pt x="2093" y="1303"/>
                  </a:lnTo>
                  <a:lnTo>
                    <a:pt x="2127" y="1336"/>
                  </a:lnTo>
                  <a:lnTo>
                    <a:pt x="2153" y="1372"/>
                  </a:lnTo>
                  <a:lnTo>
                    <a:pt x="2165" y="1393"/>
                  </a:lnTo>
                  <a:lnTo>
                    <a:pt x="2180" y="1413"/>
                  </a:lnTo>
                  <a:lnTo>
                    <a:pt x="2201" y="1459"/>
                  </a:lnTo>
                  <a:lnTo>
                    <a:pt x="2214" y="1480"/>
                  </a:lnTo>
                  <a:lnTo>
                    <a:pt x="2223" y="1506"/>
                  </a:lnTo>
                  <a:lnTo>
                    <a:pt x="2241" y="1558"/>
                  </a:lnTo>
                  <a:lnTo>
                    <a:pt x="2252" y="1616"/>
                  </a:lnTo>
                  <a:lnTo>
                    <a:pt x="2259" y="1643"/>
                  </a:lnTo>
                  <a:lnTo>
                    <a:pt x="2265" y="1675"/>
                  </a:lnTo>
                  <a:lnTo>
                    <a:pt x="2274" y="1741"/>
                  </a:lnTo>
                  <a:lnTo>
                    <a:pt x="2274" y="1775"/>
                  </a:lnTo>
                  <a:lnTo>
                    <a:pt x="2277" y="1811"/>
                  </a:lnTo>
                  <a:lnTo>
                    <a:pt x="2277" y="1886"/>
                  </a:lnTo>
                  <a:lnTo>
                    <a:pt x="2274" y="1944"/>
                  </a:lnTo>
                  <a:lnTo>
                    <a:pt x="2267" y="2001"/>
                  </a:lnTo>
                  <a:lnTo>
                    <a:pt x="2265" y="2027"/>
                  </a:lnTo>
                  <a:lnTo>
                    <a:pt x="2261" y="2052"/>
                  </a:lnTo>
                  <a:lnTo>
                    <a:pt x="2250" y="2103"/>
                  </a:lnTo>
                  <a:lnTo>
                    <a:pt x="2244" y="2126"/>
                  </a:lnTo>
                  <a:lnTo>
                    <a:pt x="2237" y="2151"/>
                  </a:lnTo>
                  <a:lnTo>
                    <a:pt x="2229" y="2175"/>
                  </a:lnTo>
                  <a:lnTo>
                    <a:pt x="2223" y="2196"/>
                  </a:lnTo>
                  <a:lnTo>
                    <a:pt x="2204" y="2238"/>
                  </a:lnTo>
                  <a:lnTo>
                    <a:pt x="2184" y="2280"/>
                  </a:lnTo>
                  <a:lnTo>
                    <a:pt x="2159" y="2316"/>
                  </a:lnTo>
                  <a:lnTo>
                    <a:pt x="2132" y="2352"/>
                  </a:lnTo>
                  <a:lnTo>
                    <a:pt x="2106" y="2388"/>
                  </a:lnTo>
                  <a:lnTo>
                    <a:pt x="2075" y="2418"/>
                  </a:lnTo>
                  <a:lnTo>
                    <a:pt x="2060" y="2433"/>
                  </a:lnTo>
                  <a:lnTo>
                    <a:pt x="2042" y="2448"/>
                  </a:lnTo>
                  <a:lnTo>
                    <a:pt x="2027" y="2461"/>
                  </a:lnTo>
                  <a:lnTo>
                    <a:pt x="2009" y="2476"/>
                  </a:lnTo>
                  <a:lnTo>
                    <a:pt x="1973" y="2499"/>
                  </a:lnTo>
                  <a:lnTo>
                    <a:pt x="1934" y="2524"/>
                  </a:lnTo>
                  <a:lnTo>
                    <a:pt x="1892" y="2545"/>
                  </a:lnTo>
                  <a:lnTo>
                    <a:pt x="1850" y="2566"/>
                  </a:lnTo>
                  <a:lnTo>
                    <a:pt x="1805" y="2584"/>
                  </a:lnTo>
                  <a:lnTo>
                    <a:pt x="1784" y="2590"/>
                  </a:lnTo>
                  <a:lnTo>
                    <a:pt x="1759" y="2599"/>
                  </a:lnTo>
                  <a:lnTo>
                    <a:pt x="1712" y="2615"/>
                  </a:lnTo>
                  <a:lnTo>
                    <a:pt x="1660" y="2626"/>
                  </a:lnTo>
                  <a:lnTo>
                    <a:pt x="1609" y="2638"/>
                  </a:lnTo>
                  <a:lnTo>
                    <a:pt x="1555" y="2647"/>
                  </a:lnTo>
                  <a:lnTo>
                    <a:pt x="1501" y="2656"/>
                  </a:lnTo>
                  <a:lnTo>
                    <a:pt x="1443" y="2662"/>
                  </a:lnTo>
                  <a:lnTo>
                    <a:pt x="1386" y="2668"/>
                  </a:lnTo>
                  <a:lnTo>
                    <a:pt x="1327" y="2672"/>
                  </a:lnTo>
                  <a:lnTo>
                    <a:pt x="1266" y="2674"/>
                  </a:lnTo>
                  <a:lnTo>
                    <a:pt x="1206" y="2677"/>
                  </a:lnTo>
                  <a:lnTo>
                    <a:pt x="1077" y="2677"/>
                  </a:lnTo>
                  <a:lnTo>
                    <a:pt x="956" y="2672"/>
                  </a:lnTo>
                  <a:lnTo>
                    <a:pt x="899" y="2668"/>
                  </a:lnTo>
                  <a:lnTo>
                    <a:pt x="842" y="2666"/>
                  </a:lnTo>
                  <a:lnTo>
                    <a:pt x="788" y="2659"/>
                  </a:lnTo>
                  <a:lnTo>
                    <a:pt x="734" y="2653"/>
                  </a:lnTo>
                  <a:lnTo>
                    <a:pt x="683" y="2644"/>
                  </a:lnTo>
                  <a:lnTo>
                    <a:pt x="635" y="2635"/>
                  </a:lnTo>
                  <a:lnTo>
                    <a:pt x="584" y="2623"/>
                  </a:lnTo>
                  <a:lnTo>
                    <a:pt x="538" y="2611"/>
                  </a:lnTo>
                  <a:lnTo>
                    <a:pt x="493" y="2596"/>
                  </a:lnTo>
                  <a:lnTo>
                    <a:pt x="448" y="2581"/>
                  </a:lnTo>
                  <a:lnTo>
                    <a:pt x="406" y="2563"/>
                  </a:lnTo>
                  <a:lnTo>
                    <a:pt x="366" y="2545"/>
                  </a:lnTo>
                  <a:lnTo>
                    <a:pt x="330" y="2524"/>
                  </a:lnTo>
                  <a:lnTo>
                    <a:pt x="294" y="2503"/>
                  </a:lnTo>
                  <a:lnTo>
                    <a:pt x="258" y="2479"/>
                  </a:lnTo>
                  <a:lnTo>
                    <a:pt x="226" y="2452"/>
                  </a:lnTo>
                  <a:lnTo>
                    <a:pt x="195" y="2425"/>
                  </a:lnTo>
                  <a:lnTo>
                    <a:pt x="169" y="2395"/>
                  </a:lnTo>
                  <a:lnTo>
                    <a:pt x="141" y="2361"/>
                  </a:lnTo>
                  <a:lnTo>
                    <a:pt x="117" y="2329"/>
                  </a:lnTo>
                  <a:lnTo>
                    <a:pt x="95" y="2292"/>
                  </a:lnTo>
                  <a:lnTo>
                    <a:pt x="74" y="2253"/>
                  </a:lnTo>
                  <a:lnTo>
                    <a:pt x="57" y="2213"/>
                  </a:lnTo>
                  <a:lnTo>
                    <a:pt x="42" y="2169"/>
                  </a:lnTo>
                  <a:lnTo>
                    <a:pt x="30" y="2124"/>
                  </a:lnTo>
                  <a:lnTo>
                    <a:pt x="17" y="2075"/>
                  </a:lnTo>
                  <a:lnTo>
                    <a:pt x="12" y="2027"/>
                  </a:lnTo>
                  <a:lnTo>
                    <a:pt x="2" y="1973"/>
                  </a:lnTo>
                  <a:lnTo>
                    <a:pt x="0" y="1916"/>
                  </a:lnTo>
                  <a:lnTo>
                    <a:pt x="0" y="1859"/>
                  </a:lnTo>
                  <a:lnTo>
                    <a:pt x="550" y="1859"/>
                  </a:lnTo>
                  <a:lnTo>
                    <a:pt x="550" y="1880"/>
                  </a:lnTo>
                  <a:lnTo>
                    <a:pt x="553" y="1898"/>
                  </a:lnTo>
                  <a:lnTo>
                    <a:pt x="556" y="1937"/>
                  </a:lnTo>
                  <a:lnTo>
                    <a:pt x="559" y="1955"/>
                  </a:lnTo>
                  <a:lnTo>
                    <a:pt x="562" y="1973"/>
                  </a:lnTo>
                  <a:lnTo>
                    <a:pt x="574" y="2003"/>
                  </a:lnTo>
                  <a:lnTo>
                    <a:pt x="580" y="2018"/>
                  </a:lnTo>
                  <a:lnTo>
                    <a:pt x="586" y="2033"/>
                  </a:lnTo>
                  <a:lnTo>
                    <a:pt x="605" y="2060"/>
                  </a:lnTo>
                  <a:lnTo>
                    <a:pt x="626" y="2088"/>
                  </a:lnTo>
                  <a:lnTo>
                    <a:pt x="637" y="2097"/>
                  </a:lnTo>
                  <a:lnTo>
                    <a:pt x="652" y="2109"/>
                  </a:lnTo>
                  <a:lnTo>
                    <a:pt x="683" y="2126"/>
                  </a:lnTo>
                  <a:lnTo>
                    <a:pt x="700" y="2136"/>
                  </a:lnTo>
                  <a:lnTo>
                    <a:pt x="722" y="2145"/>
                  </a:lnTo>
                  <a:lnTo>
                    <a:pt x="764" y="2160"/>
                  </a:lnTo>
                  <a:lnTo>
                    <a:pt x="785" y="2166"/>
                  </a:lnTo>
                  <a:lnTo>
                    <a:pt x="812" y="2172"/>
                  </a:lnTo>
                  <a:lnTo>
                    <a:pt x="866" y="2184"/>
                  </a:lnTo>
                  <a:lnTo>
                    <a:pt x="927" y="2190"/>
                  </a:lnTo>
                  <a:lnTo>
                    <a:pt x="995" y="2196"/>
                  </a:lnTo>
                  <a:lnTo>
                    <a:pt x="1071" y="2198"/>
                  </a:lnTo>
                  <a:lnTo>
                    <a:pt x="1164" y="2198"/>
                  </a:lnTo>
                  <a:lnTo>
                    <a:pt x="1245" y="2198"/>
                  </a:lnTo>
                  <a:lnTo>
                    <a:pt x="1284" y="2196"/>
                  </a:lnTo>
                  <a:lnTo>
                    <a:pt x="1317" y="2192"/>
                  </a:lnTo>
                  <a:lnTo>
                    <a:pt x="1384" y="2187"/>
                  </a:lnTo>
                  <a:lnTo>
                    <a:pt x="1441" y="2177"/>
                  </a:lnTo>
                  <a:lnTo>
                    <a:pt x="1488" y="2162"/>
                  </a:lnTo>
                  <a:lnTo>
                    <a:pt x="1531" y="2148"/>
                  </a:lnTo>
                  <a:lnTo>
                    <a:pt x="1552" y="2139"/>
                  </a:lnTo>
                  <a:lnTo>
                    <a:pt x="1567" y="2130"/>
                  </a:lnTo>
                  <a:lnTo>
                    <a:pt x="1585" y="2120"/>
                  </a:lnTo>
                  <a:lnTo>
                    <a:pt x="1596" y="2111"/>
                  </a:lnTo>
                  <a:lnTo>
                    <a:pt x="1612" y="2099"/>
                  </a:lnTo>
                  <a:lnTo>
                    <a:pt x="1621" y="2088"/>
                  </a:lnTo>
                  <a:lnTo>
                    <a:pt x="1632" y="2075"/>
                  </a:lnTo>
                  <a:lnTo>
                    <a:pt x="1642" y="2063"/>
                  </a:lnTo>
                  <a:lnTo>
                    <a:pt x="1651" y="2052"/>
                  </a:lnTo>
                  <a:lnTo>
                    <a:pt x="1657" y="2037"/>
                  </a:lnTo>
                  <a:lnTo>
                    <a:pt x="1663" y="2024"/>
                  </a:lnTo>
                  <a:lnTo>
                    <a:pt x="1670" y="2009"/>
                  </a:lnTo>
                  <a:lnTo>
                    <a:pt x="1675" y="1980"/>
                  </a:lnTo>
                  <a:lnTo>
                    <a:pt x="1678" y="1961"/>
                  </a:lnTo>
                  <a:lnTo>
                    <a:pt x="1681" y="1946"/>
                  </a:lnTo>
                  <a:lnTo>
                    <a:pt x="1681" y="1913"/>
                  </a:lnTo>
                  <a:lnTo>
                    <a:pt x="1681" y="1859"/>
                  </a:lnTo>
                  <a:lnTo>
                    <a:pt x="1681" y="1832"/>
                  </a:lnTo>
                  <a:lnTo>
                    <a:pt x="1678" y="1811"/>
                  </a:lnTo>
                  <a:lnTo>
                    <a:pt x="1672" y="1790"/>
                  </a:lnTo>
                  <a:lnTo>
                    <a:pt x="1670" y="1769"/>
                  </a:lnTo>
                  <a:lnTo>
                    <a:pt x="1655" y="1732"/>
                  </a:lnTo>
                  <a:lnTo>
                    <a:pt x="1648" y="1718"/>
                  </a:lnTo>
                  <a:lnTo>
                    <a:pt x="1639" y="1703"/>
                  </a:lnTo>
                  <a:lnTo>
                    <a:pt x="1627" y="1690"/>
                  </a:lnTo>
                  <a:lnTo>
                    <a:pt x="1618" y="1675"/>
                  </a:lnTo>
                  <a:lnTo>
                    <a:pt x="1606" y="1667"/>
                  </a:lnTo>
                  <a:lnTo>
                    <a:pt x="1594" y="1654"/>
                  </a:lnTo>
                  <a:lnTo>
                    <a:pt x="1579" y="1645"/>
                  </a:lnTo>
                  <a:lnTo>
                    <a:pt x="1564" y="1639"/>
                  </a:lnTo>
                  <a:lnTo>
                    <a:pt x="1549" y="1631"/>
                  </a:lnTo>
                  <a:lnTo>
                    <a:pt x="1531" y="1624"/>
                  </a:lnTo>
                  <a:lnTo>
                    <a:pt x="1516" y="1618"/>
                  </a:lnTo>
                  <a:lnTo>
                    <a:pt x="1494" y="1612"/>
                  </a:lnTo>
                  <a:lnTo>
                    <a:pt x="1458" y="1603"/>
                  </a:lnTo>
                  <a:lnTo>
                    <a:pt x="1414" y="1597"/>
                  </a:lnTo>
                  <a:lnTo>
                    <a:pt x="1369" y="1591"/>
                  </a:lnTo>
                  <a:lnTo>
                    <a:pt x="1320" y="1588"/>
                  </a:lnTo>
                  <a:lnTo>
                    <a:pt x="1215" y="1582"/>
                  </a:lnTo>
                  <a:lnTo>
                    <a:pt x="1107" y="1576"/>
                  </a:lnTo>
                  <a:lnTo>
                    <a:pt x="999" y="1570"/>
                  </a:lnTo>
                  <a:lnTo>
                    <a:pt x="893" y="1565"/>
                  </a:lnTo>
                  <a:lnTo>
                    <a:pt x="788" y="1555"/>
                  </a:lnTo>
                  <a:lnTo>
                    <a:pt x="737" y="1550"/>
                  </a:lnTo>
                  <a:lnTo>
                    <a:pt x="686" y="1543"/>
                  </a:lnTo>
                  <a:lnTo>
                    <a:pt x="637" y="1534"/>
                  </a:lnTo>
                  <a:lnTo>
                    <a:pt x="590" y="1522"/>
                  </a:lnTo>
                  <a:lnTo>
                    <a:pt x="544" y="1513"/>
                  </a:lnTo>
                  <a:lnTo>
                    <a:pt x="499" y="1498"/>
                  </a:lnTo>
                  <a:lnTo>
                    <a:pt x="453" y="1483"/>
                  </a:lnTo>
                  <a:lnTo>
                    <a:pt x="412" y="1465"/>
                  </a:lnTo>
                  <a:lnTo>
                    <a:pt x="372" y="1447"/>
                  </a:lnTo>
                  <a:lnTo>
                    <a:pt x="334" y="1426"/>
                  </a:lnTo>
                  <a:lnTo>
                    <a:pt x="315" y="1413"/>
                  </a:lnTo>
                  <a:lnTo>
                    <a:pt x="298" y="1398"/>
                  </a:lnTo>
                  <a:lnTo>
                    <a:pt x="283" y="1387"/>
                  </a:lnTo>
                  <a:lnTo>
                    <a:pt x="264" y="1372"/>
                  </a:lnTo>
                  <a:lnTo>
                    <a:pt x="231" y="1341"/>
                  </a:lnTo>
                  <a:lnTo>
                    <a:pt x="201" y="1309"/>
                  </a:lnTo>
                  <a:lnTo>
                    <a:pt x="190" y="1290"/>
                  </a:lnTo>
                  <a:lnTo>
                    <a:pt x="174" y="1273"/>
                  </a:lnTo>
                  <a:lnTo>
                    <a:pt x="162" y="1254"/>
                  </a:lnTo>
                  <a:lnTo>
                    <a:pt x="150" y="1233"/>
                  </a:lnTo>
                  <a:lnTo>
                    <a:pt x="129" y="1191"/>
                  </a:lnTo>
                  <a:lnTo>
                    <a:pt x="108" y="1143"/>
                  </a:lnTo>
                  <a:lnTo>
                    <a:pt x="93" y="1091"/>
                  </a:lnTo>
                  <a:lnTo>
                    <a:pt x="84" y="1065"/>
                  </a:lnTo>
                  <a:lnTo>
                    <a:pt x="78" y="1038"/>
                  </a:lnTo>
                  <a:lnTo>
                    <a:pt x="69" y="977"/>
                  </a:lnTo>
                  <a:lnTo>
                    <a:pt x="66" y="947"/>
                  </a:lnTo>
                  <a:lnTo>
                    <a:pt x="63" y="915"/>
                  </a:lnTo>
                  <a:lnTo>
                    <a:pt x="57" y="848"/>
                  </a:lnTo>
                  <a:lnTo>
                    <a:pt x="57" y="776"/>
                  </a:lnTo>
                  <a:lnTo>
                    <a:pt x="57" y="746"/>
                  </a:lnTo>
                  <a:lnTo>
                    <a:pt x="59" y="716"/>
                  </a:lnTo>
                  <a:lnTo>
                    <a:pt x="66" y="661"/>
                  </a:lnTo>
                  <a:lnTo>
                    <a:pt x="69" y="634"/>
                  </a:lnTo>
                  <a:lnTo>
                    <a:pt x="72" y="608"/>
                  </a:lnTo>
                  <a:lnTo>
                    <a:pt x="84" y="557"/>
                  </a:lnTo>
                  <a:lnTo>
                    <a:pt x="90" y="532"/>
                  </a:lnTo>
                  <a:lnTo>
                    <a:pt x="95" y="511"/>
                  </a:lnTo>
                  <a:lnTo>
                    <a:pt x="105" y="487"/>
                  </a:lnTo>
                  <a:lnTo>
                    <a:pt x="114" y="466"/>
                  </a:lnTo>
                  <a:lnTo>
                    <a:pt x="133" y="421"/>
                  </a:lnTo>
                  <a:lnTo>
                    <a:pt x="153" y="382"/>
                  </a:lnTo>
                  <a:lnTo>
                    <a:pt x="177" y="346"/>
                  </a:lnTo>
                  <a:lnTo>
                    <a:pt x="201" y="310"/>
                  </a:lnTo>
                  <a:lnTo>
                    <a:pt x="228" y="276"/>
                  </a:lnTo>
                  <a:lnTo>
                    <a:pt x="258" y="246"/>
                  </a:lnTo>
                  <a:lnTo>
                    <a:pt x="292" y="217"/>
                  </a:lnTo>
                  <a:lnTo>
                    <a:pt x="328" y="189"/>
                  </a:lnTo>
                  <a:lnTo>
                    <a:pt x="364" y="166"/>
                  </a:lnTo>
                  <a:lnTo>
                    <a:pt x="402" y="144"/>
                  </a:lnTo>
                  <a:lnTo>
                    <a:pt x="445" y="123"/>
                  </a:lnTo>
                  <a:lnTo>
                    <a:pt x="487" y="105"/>
                  </a:lnTo>
                  <a:lnTo>
                    <a:pt x="533" y="87"/>
                  </a:lnTo>
                  <a:lnTo>
                    <a:pt x="577" y="72"/>
                  </a:lnTo>
                  <a:lnTo>
                    <a:pt x="626" y="57"/>
                  </a:lnTo>
                  <a:lnTo>
                    <a:pt x="677" y="45"/>
                  </a:lnTo>
                  <a:lnTo>
                    <a:pt x="728" y="36"/>
                  </a:lnTo>
                  <a:lnTo>
                    <a:pt x="779" y="28"/>
                  </a:lnTo>
                  <a:lnTo>
                    <a:pt x="836" y="18"/>
                  </a:lnTo>
                  <a:lnTo>
                    <a:pt x="889" y="12"/>
                  </a:lnTo>
                  <a:lnTo>
                    <a:pt x="950" y="9"/>
                  </a:lnTo>
                  <a:lnTo>
                    <a:pt x="1007" y="5"/>
                  </a:lnTo>
                  <a:lnTo>
                    <a:pt x="1067" y="3"/>
                  </a:lnTo>
                  <a:lnTo>
                    <a:pt x="1130" y="0"/>
                  </a:lnTo>
                  <a:lnTo>
                    <a:pt x="1257" y="0"/>
                  </a:lnTo>
                  <a:lnTo>
                    <a:pt x="1317" y="3"/>
                  </a:lnTo>
                  <a:lnTo>
                    <a:pt x="1374" y="5"/>
                  </a:lnTo>
                  <a:lnTo>
                    <a:pt x="1431" y="9"/>
                  </a:lnTo>
                  <a:lnTo>
                    <a:pt x="1486" y="15"/>
                  </a:lnTo>
                  <a:lnTo>
                    <a:pt x="1539" y="21"/>
                  </a:lnTo>
                  <a:lnTo>
                    <a:pt x="1591" y="28"/>
                  </a:lnTo>
                  <a:lnTo>
                    <a:pt x="1642" y="36"/>
                  </a:lnTo>
                  <a:lnTo>
                    <a:pt x="1691" y="45"/>
                  </a:lnTo>
                  <a:lnTo>
                    <a:pt x="1738" y="57"/>
                  </a:lnTo>
                  <a:lnTo>
                    <a:pt x="1784" y="72"/>
                  </a:lnTo>
                  <a:lnTo>
                    <a:pt x="1825" y="85"/>
                  </a:lnTo>
                  <a:lnTo>
                    <a:pt x="1867" y="102"/>
                  </a:lnTo>
                  <a:lnTo>
                    <a:pt x="1888" y="111"/>
                  </a:lnTo>
                  <a:lnTo>
                    <a:pt x="1907" y="121"/>
                  </a:lnTo>
                  <a:lnTo>
                    <a:pt x="1946" y="138"/>
                  </a:lnTo>
                  <a:lnTo>
                    <a:pt x="1982" y="159"/>
                  </a:lnTo>
                  <a:lnTo>
                    <a:pt x="2015" y="183"/>
                  </a:lnTo>
                  <a:lnTo>
                    <a:pt x="2034" y="195"/>
                  </a:lnTo>
                  <a:lnTo>
                    <a:pt x="2049" y="208"/>
                  </a:lnTo>
                  <a:lnTo>
                    <a:pt x="2078" y="235"/>
                  </a:lnTo>
                  <a:lnTo>
                    <a:pt x="2108" y="261"/>
                  </a:lnTo>
                  <a:lnTo>
                    <a:pt x="2136" y="291"/>
                  </a:lnTo>
                  <a:lnTo>
                    <a:pt x="2159" y="325"/>
                  </a:lnTo>
                  <a:lnTo>
                    <a:pt x="2180" y="358"/>
                  </a:lnTo>
                  <a:lnTo>
                    <a:pt x="2201" y="394"/>
                  </a:lnTo>
                  <a:lnTo>
                    <a:pt x="2220" y="433"/>
                  </a:lnTo>
                  <a:lnTo>
                    <a:pt x="2237" y="472"/>
                  </a:lnTo>
                  <a:lnTo>
                    <a:pt x="2252" y="515"/>
                  </a:lnTo>
                  <a:lnTo>
                    <a:pt x="2265" y="559"/>
                  </a:lnTo>
                  <a:lnTo>
                    <a:pt x="2274" y="608"/>
                  </a:lnTo>
                  <a:lnTo>
                    <a:pt x="2282" y="655"/>
                  </a:lnTo>
                  <a:lnTo>
                    <a:pt x="2288" y="707"/>
                  </a:lnTo>
                  <a:lnTo>
                    <a:pt x="2292" y="761"/>
                  </a:lnTo>
                  <a:lnTo>
                    <a:pt x="2292" y="818"/>
                  </a:lnTo>
                  <a:lnTo>
                    <a:pt x="1742" y="818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86400" y="624240"/>
              <a:ext cx="188640" cy="184320"/>
            </a:xfrm>
            <a:custGeom>
              <a:avLst/>
              <a:gdLst/>
              <a:ahLst/>
              <a:rect l="l" t="t" r="r" b="b"/>
              <a:pathLst>
                <a:path w="1239" h="1260">
                  <a:moveTo>
                    <a:pt x="475" y="0"/>
                  </a:moveTo>
                  <a:lnTo>
                    <a:pt x="475" y="484"/>
                  </a:lnTo>
                  <a:lnTo>
                    <a:pt x="0" y="484"/>
                  </a:lnTo>
                  <a:lnTo>
                    <a:pt x="0" y="779"/>
                  </a:lnTo>
                  <a:lnTo>
                    <a:pt x="475" y="779"/>
                  </a:lnTo>
                  <a:lnTo>
                    <a:pt x="475" y="1260"/>
                  </a:lnTo>
                  <a:lnTo>
                    <a:pt x="764" y="1260"/>
                  </a:lnTo>
                  <a:lnTo>
                    <a:pt x="764" y="779"/>
                  </a:lnTo>
                  <a:lnTo>
                    <a:pt x="1239" y="779"/>
                  </a:lnTo>
                  <a:lnTo>
                    <a:pt x="1239" y="484"/>
                  </a:lnTo>
                  <a:lnTo>
                    <a:pt x="764" y="484"/>
                  </a:lnTo>
                  <a:lnTo>
                    <a:pt x="764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4360" y="3933720"/>
            <a:ext cx="824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/ECE Regulation No. 107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AM Edinburgh Octo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PANISH COMMENTS ON QUESTION P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89000"/>
            <a:ext cx="2664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SG-95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th GRSG, 21 – 24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genda item 3(e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ted by the expert from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731880"/>
            <a:ext cx="8713800" cy="554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59280" y="2203560"/>
            <a:ext cx="3889440" cy="1081080"/>
          </a:xfrm>
          <a:prstGeom prst="rect">
            <a:avLst/>
          </a:prstGeom>
          <a:noFill/>
          <a:ln w="76320">
            <a:solidFill>
              <a:srgbClr val="f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840" y="1704960"/>
            <a:ext cx="8291520" cy="280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832280"/>
            <a:ext cx="8280360" cy="104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2276640"/>
            <a:ext cx="8280360" cy="1296720"/>
          </a:xfrm>
          <a:prstGeom prst="rect">
            <a:avLst/>
          </a:prstGeom>
          <a:noFill/>
          <a:ln w="76320">
            <a:solidFill>
              <a:srgbClr val="f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797360"/>
            <a:ext cx="8424720" cy="1152720"/>
          </a:xfrm>
          <a:prstGeom prst="rect">
            <a:avLst/>
          </a:prstGeom>
          <a:noFill/>
          <a:ln w="76320">
            <a:solidFill>
              <a:srgbClr val="f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3400" y="83664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Arial"/>
              </a:rPr>
              <a:t>EC Letter to T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42840"/>
            <a:ext cx="8820360" cy="7013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88560" y="461880"/>
            <a:ext cx="42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AM 2005 BORL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3357720"/>
            <a:ext cx="7777440" cy="1079280"/>
          </a:xfrm>
          <a:prstGeom prst="rect">
            <a:avLst/>
          </a:prstGeom>
          <a:noFill/>
          <a:ln w="57240">
            <a:solidFill>
              <a:srgbClr val="f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3770" t="0" r="0" b="0"/>
          <a:stretch/>
        </p:blipFill>
        <p:spPr>
          <a:xfrm>
            <a:off x="36360" y="4998960"/>
            <a:ext cx="9144000" cy="102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193080" cy="509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00000" y="2071800"/>
            <a:ext cx="7417080" cy="420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701800" y="3213000"/>
            <a:ext cx="3238560" cy="3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881440" y="2637000"/>
            <a:ext cx="2842920" cy="36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34920" y="3789360"/>
            <a:ext cx="16574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080" y="8301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ter on 2007, the ECE Regulation No.107 was amended according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746" t="0" r="2746" b="0"/>
          <a:stretch/>
        </p:blipFill>
        <p:spPr>
          <a:xfrm>
            <a:off x="395280" y="1268280"/>
            <a:ext cx="849636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8856720" cy="190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029080" y="578016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2637000"/>
            <a:ext cx="6266160" cy="504720"/>
          </a:xfrm>
          <a:prstGeom prst="rect">
            <a:avLst/>
          </a:prstGeom>
          <a:noFill/>
          <a:ln w="57240">
            <a:solidFill>
              <a:srgbClr val="f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360" y="584028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Same paragraph and figures as in R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5600" y="4041720"/>
            <a:ext cx="50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5576760"/>
            <a:ext cx="500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549360"/>
            <a:ext cx="2519280" cy="1224000"/>
            <a:chOff x="539640" y="549360"/>
            <a:chExt cx="2519280" cy="1224000"/>
          </a:xfrm>
        </p:grpSpPr>
        <p:sp>
          <p:nvSpPr>
            <p:cNvPr id="119" name=""/>
            <p:cNvSpPr/>
            <p:nvPr/>
          </p:nvSpPr>
          <p:spPr>
            <a:xfrm>
              <a:off x="582120" y="1470600"/>
              <a:ext cx="41760" cy="302760"/>
            </a:xfrm>
            <a:prstGeom prst="rect">
              <a:avLst/>
            </a:pr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3800" y="1470600"/>
              <a:ext cx="243720" cy="302760"/>
            </a:xfrm>
            <a:custGeom>
              <a:avLst/>
              <a:gdLst/>
              <a:ahLst/>
              <a:rect l="l" t="t" r="r" b="b"/>
              <a:pathLst>
                <a:path w="1600" h="2072">
                  <a:moveTo>
                    <a:pt x="1600" y="1037"/>
                  </a:moveTo>
                  <a:lnTo>
                    <a:pt x="1600" y="1106"/>
                  </a:lnTo>
                  <a:lnTo>
                    <a:pt x="1599" y="1169"/>
                  </a:lnTo>
                  <a:lnTo>
                    <a:pt x="1599" y="1226"/>
                  </a:lnTo>
                  <a:lnTo>
                    <a:pt x="1598" y="1278"/>
                  </a:lnTo>
                  <a:lnTo>
                    <a:pt x="1595" y="1325"/>
                  </a:lnTo>
                  <a:lnTo>
                    <a:pt x="1593" y="1365"/>
                  </a:lnTo>
                  <a:lnTo>
                    <a:pt x="1591" y="1401"/>
                  </a:lnTo>
                  <a:lnTo>
                    <a:pt x="1588" y="1433"/>
                  </a:lnTo>
                  <a:lnTo>
                    <a:pt x="1585" y="1462"/>
                  </a:lnTo>
                  <a:lnTo>
                    <a:pt x="1581" y="1490"/>
                  </a:lnTo>
                  <a:lnTo>
                    <a:pt x="1577" y="1516"/>
                  </a:lnTo>
                  <a:lnTo>
                    <a:pt x="1571" y="1543"/>
                  </a:lnTo>
                  <a:lnTo>
                    <a:pt x="1566" y="1569"/>
                  </a:lnTo>
                  <a:lnTo>
                    <a:pt x="1560" y="1594"/>
                  </a:lnTo>
                  <a:lnTo>
                    <a:pt x="1553" y="1619"/>
                  </a:lnTo>
                  <a:lnTo>
                    <a:pt x="1546" y="1642"/>
                  </a:lnTo>
                  <a:lnTo>
                    <a:pt x="1539" y="1664"/>
                  </a:lnTo>
                  <a:lnTo>
                    <a:pt x="1531" y="1686"/>
                  </a:lnTo>
                  <a:lnTo>
                    <a:pt x="1523" y="1708"/>
                  </a:lnTo>
                  <a:lnTo>
                    <a:pt x="1514" y="1728"/>
                  </a:lnTo>
                  <a:lnTo>
                    <a:pt x="1505" y="1748"/>
                  </a:lnTo>
                  <a:lnTo>
                    <a:pt x="1494" y="1768"/>
                  </a:lnTo>
                  <a:lnTo>
                    <a:pt x="1484" y="1785"/>
                  </a:lnTo>
                  <a:lnTo>
                    <a:pt x="1473" y="1802"/>
                  </a:lnTo>
                  <a:lnTo>
                    <a:pt x="1460" y="1821"/>
                  </a:lnTo>
                  <a:lnTo>
                    <a:pt x="1446" y="1840"/>
                  </a:lnTo>
                  <a:lnTo>
                    <a:pt x="1433" y="1857"/>
                  </a:lnTo>
                  <a:lnTo>
                    <a:pt x="1419" y="1873"/>
                  </a:lnTo>
                  <a:lnTo>
                    <a:pt x="1403" y="1889"/>
                  </a:lnTo>
                  <a:lnTo>
                    <a:pt x="1388" y="1904"/>
                  </a:lnTo>
                  <a:lnTo>
                    <a:pt x="1372" y="1919"/>
                  </a:lnTo>
                  <a:lnTo>
                    <a:pt x="1356" y="1933"/>
                  </a:lnTo>
                  <a:lnTo>
                    <a:pt x="1338" y="1945"/>
                  </a:lnTo>
                  <a:lnTo>
                    <a:pt x="1321" y="1957"/>
                  </a:lnTo>
                  <a:lnTo>
                    <a:pt x="1302" y="1969"/>
                  </a:lnTo>
                  <a:lnTo>
                    <a:pt x="1284" y="1980"/>
                  </a:lnTo>
                  <a:lnTo>
                    <a:pt x="1264" y="1991"/>
                  </a:lnTo>
                  <a:lnTo>
                    <a:pt x="1244" y="2000"/>
                  </a:lnTo>
                  <a:lnTo>
                    <a:pt x="1224" y="2008"/>
                  </a:lnTo>
                  <a:lnTo>
                    <a:pt x="1203" y="2016"/>
                  </a:lnTo>
                  <a:lnTo>
                    <a:pt x="1183" y="2023"/>
                  </a:lnTo>
                  <a:lnTo>
                    <a:pt x="1160" y="2030"/>
                  </a:lnTo>
                  <a:lnTo>
                    <a:pt x="1138" y="2036"/>
                  </a:lnTo>
                  <a:lnTo>
                    <a:pt x="1115" y="2041"/>
                  </a:lnTo>
                  <a:lnTo>
                    <a:pt x="1090" y="2047"/>
                  </a:lnTo>
                  <a:lnTo>
                    <a:pt x="1064" y="2051"/>
                  </a:lnTo>
                  <a:lnTo>
                    <a:pt x="1037" y="2055"/>
                  </a:lnTo>
                  <a:lnTo>
                    <a:pt x="1009" y="2058"/>
                  </a:lnTo>
                  <a:lnTo>
                    <a:pt x="950" y="2065"/>
                  </a:lnTo>
                  <a:lnTo>
                    <a:pt x="886" y="2069"/>
                  </a:lnTo>
                  <a:lnTo>
                    <a:pt x="819" y="2072"/>
                  </a:lnTo>
                  <a:lnTo>
                    <a:pt x="747" y="2072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817" y="1"/>
                  </a:lnTo>
                  <a:lnTo>
                    <a:pt x="885" y="4"/>
                  </a:lnTo>
                  <a:lnTo>
                    <a:pt x="948" y="8"/>
                  </a:lnTo>
                  <a:lnTo>
                    <a:pt x="1007" y="14"/>
                  </a:lnTo>
                  <a:lnTo>
                    <a:pt x="1035" y="18"/>
                  </a:lnTo>
                  <a:lnTo>
                    <a:pt x="1062" y="22"/>
                  </a:lnTo>
                  <a:lnTo>
                    <a:pt x="1087" y="27"/>
                  </a:lnTo>
                  <a:lnTo>
                    <a:pt x="1112" y="32"/>
                  </a:lnTo>
                  <a:lnTo>
                    <a:pt x="1135" y="37"/>
                  </a:lnTo>
                  <a:lnTo>
                    <a:pt x="1158" y="43"/>
                  </a:lnTo>
                  <a:lnTo>
                    <a:pt x="1179" y="49"/>
                  </a:lnTo>
                  <a:lnTo>
                    <a:pt x="1200" y="56"/>
                  </a:lnTo>
                  <a:lnTo>
                    <a:pt x="1221" y="64"/>
                  </a:lnTo>
                  <a:lnTo>
                    <a:pt x="1241" y="72"/>
                  </a:lnTo>
                  <a:lnTo>
                    <a:pt x="1262" y="83"/>
                  </a:lnTo>
                  <a:lnTo>
                    <a:pt x="1280" y="92"/>
                  </a:lnTo>
                  <a:lnTo>
                    <a:pt x="1299" y="104"/>
                  </a:lnTo>
                  <a:lnTo>
                    <a:pt x="1317" y="115"/>
                  </a:lnTo>
                  <a:lnTo>
                    <a:pt x="1335" y="127"/>
                  </a:lnTo>
                  <a:lnTo>
                    <a:pt x="1352" y="141"/>
                  </a:lnTo>
                  <a:lnTo>
                    <a:pt x="1369" y="154"/>
                  </a:lnTo>
                  <a:lnTo>
                    <a:pt x="1385" y="169"/>
                  </a:lnTo>
                  <a:lnTo>
                    <a:pt x="1401" y="184"/>
                  </a:lnTo>
                  <a:lnTo>
                    <a:pt x="1416" y="200"/>
                  </a:lnTo>
                  <a:lnTo>
                    <a:pt x="1430" y="217"/>
                  </a:lnTo>
                  <a:lnTo>
                    <a:pt x="1444" y="233"/>
                  </a:lnTo>
                  <a:lnTo>
                    <a:pt x="1457" y="251"/>
                  </a:lnTo>
                  <a:lnTo>
                    <a:pt x="1470" y="270"/>
                  </a:lnTo>
                  <a:lnTo>
                    <a:pt x="1481" y="287"/>
                  </a:lnTo>
                  <a:lnTo>
                    <a:pt x="1492" y="306"/>
                  </a:lnTo>
                  <a:lnTo>
                    <a:pt x="1501" y="326"/>
                  </a:lnTo>
                  <a:lnTo>
                    <a:pt x="1512" y="346"/>
                  </a:lnTo>
                  <a:lnTo>
                    <a:pt x="1520" y="367"/>
                  </a:lnTo>
                  <a:lnTo>
                    <a:pt x="1529" y="387"/>
                  </a:lnTo>
                  <a:lnTo>
                    <a:pt x="1537" y="410"/>
                  </a:lnTo>
                  <a:lnTo>
                    <a:pt x="1544" y="433"/>
                  </a:lnTo>
                  <a:lnTo>
                    <a:pt x="1551" y="457"/>
                  </a:lnTo>
                  <a:lnTo>
                    <a:pt x="1558" y="482"/>
                  </a:lnTo>
                  <a:lnTo>
                    <a:pt x="1564" y="506"/>
                  </a:lnTo>
                  <a:lnTo>
                    <a:pt x="1570" y="533"/>
                  </a:lnTo>
                  <a:lnTo>
                    <a:pt x="1576" y="558"/>
                  </a:lnTo>
                  <a:lnTo>
                    <a:pt x="1580" y="586"/>
                  </a:lnTo>
                  <a:lnTo>
                    <a:pt x="1585" y="614"/>
                  </a:lnTo>
                  <a:lnTo>
                    <a:pt x="1588" y="643"/>
                  </a:lnTo>
                  <a:lnTo>
                    <a:pt x="1591" y="675"/>
                  </a:lnTo>
                  <a:lnTo>
                    <a:pt x="1593" y="712"/>
                  </a:lnTo>
                  <a:lnTo>
                    <a:pt x="1595" y="753"/>
                  </a:lnTo>
                  <a:lnTo>
                    <a:pt x="1598" y="800"/>
                  </a:lnTo>
                  <a:lnTo>
                    <a:pt x="1599" y="851"/>
                  </a:lnTo>
                  <a:lnTo>
                    <a:pt x="1599" y="908"/>
                  </a:lnTo>
                  <a:lnTo>
                    <a:pt x="1600" y="971"/>
                  </a:lnTo>
                  <a:lnTo>
                    <a:pt x="1600" y="1037"/>
                  </a:lnTo>
                  <a:close/>
                  <a:moveTo>
                    <a:pt x="1322" y="1037"/>
                  </a:moveTo>
                  <a:lnTo>
                    <a:pt x="1322" y="978"/>
                  </a:lnTo>
                  <a:lnTo>
                    <a:pt x="1321" y="920"/>
                  </a:lnTo>
                  <a:lnTo>
                    <a:pt x="1319" y="865"/>
                  </a:lnTo>
                  <a:lnTo>
                    <a:pt x="1316" y="813"/>
                  </a:lnTo>
                  <a:lnTo>
                    <a:pt x="1313" y="764"/>
                  </a:lnTo>
                  <a:lnTo>
                    <a:pt x="1308" y="718"/>
                  </a:lnTo>
                  <a:lnTo>
                    <a:pt x="1303" y="673"/>
                  </a:lnTo>
                  <a:lnTo>
                    <a:pt x="1298" y="632"/>
                  </a:lnTo>
                  <a:lnTo>
                    <a:pt x="1291" y="593"/>
                  </a:lnTo>
                  <a:lnTo>
                    <a:pt x="1283" y="557"/>
                  </a:lnTo>
                  <a:lnTo>
                    <a:pt x="1274" y="523"/>
                  </a:lnTo>
                  <a:lnTo>
                    <a:pt x="1265" y="493"/>
                  </a:lnTo>
                  <a:lnTo>
                    <a:pt x="1256" y="465"/>
                  </a:lnTo>
                  <a:lnTo>
                    <a:pt x="1245" y="440"/>
                  </a:lnTo>
                  <a:lnTo>
                    <a:pt x="1234" y="418"/>
                  </a:lnTo>
                  <a:lnTo>
                    <a:pt x="1221" y="397"/>
                  </a:lnTo>
                  <a:lnTo>
                    <a:pt x="1212" y="385"/>
                  </a:lnTo>
                  <a:lnTo>
                    <a:pt x="1202" y="374"/>
                  </a:lnTo>
                  <a:lnTo>
                    <a:pt x="1192" y="363"/>
                  </a:lnTo>
                  <a:lnTo>
                    <a:pt x="1181" y="353"/>
                  </a:lnTo>
                  <a:lnTo>
                    <a:pt x="1170" y="342"/>
                  </a:lnTo>
                  <a:lnTo>
                    <a:pt x="1157" y="333"/>
                  </a:lnTo>
                  <a:lnTo>
                    <a:pt x="1144" y="324"/>
                  </a:lnTo>
                  <a:lnTo>
                    <a:pt x="1130" y="315"/>
                  </a:lnTo>
                  <a:lnTo>
                    <a:pt x="1116" y="307"/>
                  </a:lnTo>
                  <a:lnTo>
                    <a:pt x="1101" y="300"/>
                  </a:lnTo>
                  <a:lnTo>
                    <a:pt x="1085" y="293"/>
                  </a:lnTo>
                  <a:lnTo>
                    <a:pt x="1069" y="286"/>
                  </a:lnTo>
                  <a:lnTo>
                    <a:pt x="1052" y="282"/>
                  </a:lnTo>
                  <a:lnTo>
                    <a:pt x="1034" y="276"/>
                  </a:lnTo>
                  <a:lnTo>
                    <a:pt x="1015" y="271"/>
                  </a:lnTo>
                  <a:lnTo>
                    <a:pt x="997" y="267"/>
                  </a:lnTo>
                  <a:lnTo>
                    <a:pt x="974" y="263"/>
                  </a:lnTo>
                  <a:lnTo>
                    <a:pt x="949" y="261"/>
                  </a:lnTo>
                  <a:lnTo>
                    <a:pt x="921" y="257"/>
                  </a:lnTo>
                  <a:lnTo>
                    <a:pt x="888" y="256"/>
                  </a:lnTo>
                  <a:lnTo>
                    <a:pt x="854" y="254"/>
                  </a:lnTo>
                  <a:lnTo>
                    <a:pt x="814" y="253"/>
                  </a:lnTo>
                  <a:lnTo>
                    <a:pt x="772" y="251"/>
                  </a:lnTo>
                  <a:lnTo>
                    <a:pt x="727" y="251"/>
                  </a:lnTo>
                  <a:lnTo>
                    <a:pt x="273" y="251"/>
                  </a:lnTo>
                  <a:lnTo>
                    <a:pt x="273" y="1821"/>
                  </a:lnTo>
                  <a:lnTo>
                    <a:pt x="727" y="1821"/>
                  </a:lnTo>
                  <a:lnTo>
                    <a:pt x="772" y="1821"/>
                  </a:lnTo>
                  <a:lnTo>
                    <a:pt x="814" y="1820"/>
                  </a:lnTo>
                  <a:lnTo>
                    <a:pt x="854" y="1819"/>
                  </a:lnTo>
                  <a:lnTo>
                    <a:pt x="888" y="1818"/>
                  </a:lnTo>
                  <a:lnTo>
                    <a:pt x="921" y="1815"/>
                  </a:lnTo>
                  <a:lnTo>
                    <a:pt x="949" y="1813"/>
                  </a:lnTo>
                  <a:lnTo>
                    <a:pt x="974" y="1809"/>
                  </a:lnTo>
                  <a:lnTo>
                    <a:pt x="997" y="1806"/>
                  </a:lnTo>
                  <a:lnTo>
                    <a:pt x="1015" y="1802"/>
                  </a:lnTo>
                  <a:lnTo>
                    <a:pt x="1034" y="1798"/>
                  </a:lnTo>
                  <a:lnTo>
                    <a:pt x="1052" y="1793"/>
                  </a:lnTo>
                  <a:lnTo>
                    <a:pt x="1069" y="1787"/>
                  </a:lnTo>
                  <a:lnTo>
                    <a:pt x="1085" y="1782"/>
                  </a:lnTo>
                  <a:lnTo>
                    <a:pt x="1101" y="1775"/>
                  </a:lnTo>
                  <a:lnTo>
                    <a:pt x="1116" y="1768"/>
                  </a:lnTo>
                  <a:lnTo>
                    <a:pt x="1130" y="1759"/>
                  </a:lnTo>
                  <a:lnTo>
                    <a:pt x="1144" y="1751"/>
                  </a:lnTo>
                  <a:lnTo>
                    <a:pt x="1157" y="1743"/>
                  </a:lnTo>
                  <a:lnTo>
                    <a:pt x="1170" y="1734"/>
                  </a:lnTo>
                  <a:lnTo>
                    <a:pt x="1181" y="1723"/>
                  </a:lnTo>
                  <a:lnTo>
                    <a:pt x="1192" y="1713"/>
                  </a:lnTo>
                  <a:lnTo>
                    <a:pt x="1202" y="1702"/>
                  </a:lnTo>
                  <a:lnTo>
                    <a:pt x="1212" y="1691"/>
                  </a:lnTo>
                  <a:lnTo>
                    <a:pt x="1221" y="1678"/>
                  </a:lnTo>
                  <a:lnTo>
                    <a:pt x="1234" y="1658"/>
                  </a:lnTo>
                  <a:lnTo>
                    <a:pt x="1245" y="1636"/>
                  </a:lnTo>
                  <a:lnTo>
                    <a:pt x="1256" y="1611"/>
                  </a:lnTo>
                  <a:lnTo>
                    <a:pt x="1265" y="1583"/>
                  </a:lnTo>
                  <a:lnTo>
                    <a:pt x="1274" y="1552"/>
                  </a:lnTo>
                  <a:lnTo>
                    <a:pt x="1283" y="1519"/>
                  </a:lnTo>
                  <a:lnTo>
                    <a:pt x="1291" y="1483"/>
                  </a:lnTo>
                  <a:lnTo>
                    <a:pt x="1298" y="1444"/>
                  </a:lnTo>
                  <a:lnTo>
                    <a:pt x="1303" y="1402"/>
                  </a:lnTo>
                  <a:lnTo>
                    <a:pt x="1308" y="1358"/>
                  </a:lnTo>
                  <a:lnTo>
                    <a:pt x="1313" y="1312"/>
                  </a:lnTo>
                  <a:lnTo>
                    <a:pt x="1316" y="1262"/>
                  </a:lnTo>
                  <a:lnTo>
                    <a:pt x="1319" y="1211"/>
                  </a:lnTo>
                  <a:lnTo>
                    <a:pt x="1321" y="1156"/>
                  </a:lnTo>
                  <a:lnTo>
                    <a:pt x="1322" y="1098"/>
                  </a:lnTo>
                  <a:lnTo>
                    <a:pt x="1322" y="1037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1320" y="1470600"/>
              <a:ext cx="42120" cy="302760"/>
            </a:xfrm>
            <a:prstGeom prst="rect">
              <a:avLst/>
            </a:pr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08440" y="1470600"/>
              <a:ext cx="286560" cy="302760"/>
            </a:xfrm>
            <a:custGeom>
              <a:avLst/>
              <a:gdLst/>
              <a:ahLst/>
              <a:rect l="l" t="t" r="r" b="b"/>
              <a:pathLst>
                <a:path w="1876" h="2072">
                  <a:moveTo>
                    <a:pt x="1876" y="2072"/>
                  </a:moveTo>
                  <a:lnTo>
                    <a:pt x="1574" y="2072"/>
                  </a:lnTo>
                  <a:lnTo>
                    <a:pt x="1364" y="1501"/>
                  </a:lnTo>
                  <a:lnTo>
                    <a:pt x="495" y="1501"/>
                  </a:lnTo>
                  <a:lnTo>
                    <a:pt x="288" y="2072"/>
                  </a:lnTo>
                  <a:lnTo>
                    <a:pt x="0" y="2072"/>
                  </a:lnTo>
                  <a:lnTo>
                    <a:pt x="801" y="0"/>
                  </a:lnTo>
                  <a:lnTo>
                    <a:pt x="1076" y="0"/>
                  </a:lnTo>
                  <a:lnTo>
                    <a:pt x="1876" y="2072"/>
                  </a:lnTo>
                  <a:close/>
                  <a:moveTo>
                    <a:pt x="1275" y="1261"/>
                  </a:moveTo>
                  <a:lnTo>
                    <a:pt x="931" y="333"/>
                  </a:lnTo>
                  <a:lnTo>
                    <a:pt x="587" y="1261"/>
                  </a:lnTo>
                  <a:lnTo>
                    <a:pt x="1275" y="1261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000" y="1470600"/>
              <a:ext cx="244080" cy="302760"/>
            </a:xfrm>
            <a:custGeom>
              <a:avLst/>
              <a:gdLst/>
              <a:ahLst/>
              <a:rect l="l" t="t" r="r" b="b"/>
              <a:pathLst>
                <a:path w="1600" h="2072">
                  <a:moveTo>
                    <a:pt x="1600" y="1037"/>
                  </a:moveTo>
                  <a:lnTo>
                    <a:pt x="1600" y="1106"/>
                  </a:lnTo>
                  <a:lnTo>
                    <a:pt x="1599" y="1169"/>
                  </a:lnTo>
                  <a:lnTo>
                    <a:pt x="1599" y="1226"/>
                  </a:lnTo>
                  <a:lnTo>
                    <a:pt x="1596" y="1278"/>
                  </a:lnTo>
                  <a:lnTo>
                    <a:pt x="1595" y="1325"/>
                  </a:lnTo>
                  <a:lnTo>
                    <a:pt x="1593" y="1365"/>
                  </a:lnTo>
                  <a:lnTo>
                    <a:pt x="1591" y="1401"/>
                  </a:lnTo>
                  <a:lnTo>
                    <a:pt x="1588" y="1433"/>
                  </a:lnTo>
                  <a:lnTo>
                    <a:pt x="1585" y="1462"/>
                  </a:lnTo>
                  <a:lnTo>
                    <a:pt x="1580" y="1490"/>
                  </a:lnTo>
                  <a:lnTo>
                    <a:pt x="1577" y="1516"/>
                  </a:lnTo>
                  <a:lnTo>
                    <a:pt x="1571" y="1543"/>
                  </a:lnTo>
                  <a:lnTo>
                    <a:pt x="1566" y="1569"/>
                  </a:lnTo>
                  <a:lnTo>
                    <a:pt x="1560" y="1594"/>
                  </a:lnTo>
                  <a:lnTo>
                    <a:pt x="1553" y="1619"/>
                  </a:lnTo>
                  <a:lnTo>
                    <a:pt x="1546" y="1642"/>
                  </a:lnTo>
                  <a:lnTo>
                    <a:pt x="1539" y="1664"/>
                  </a:lnTo>
                  <a:lnTo>
                    <a:pt x="1531" y="1686"/>
                  </a:lnTo>
                  <a:lnTo>
                    <a:pt x="1522" y="1708"/>
                  </a:lnTo>
                  <a:lnTo>
                    <a:pt x="1514" y="1728"/>
                  </a:lnTo>
                  <a:lnTo>
                    <a:pt x="1505" y="1748"/>
                  </a:lnTo>
                  <a:lnTo>
                    <a:pt x="1494" y="1768"/>
                  </a:lnTo>
                  <a:lnTo>
                    <a:pt x="1484" y="1785"/>
                  </a:lnTo>
                  <a:lnTo>
                    <a:pt x="1472" y="1802"/>
                  </a:lnTo>
                  <a:lnTo>
                    <a:pt x="1459" y="1821"/>
                  </a:lnTo>
                  <a:lnTo>
                    <a:pt x="1446" y="1840"/>
                  </a:lnTo>
                  <a:lnTo>
                    <a:pt x="1432" y="1857"/>
                  </a:lnTo>
                  <a:lnTo>
                    <a:pt x="1419" y="1873"/>
                  </a:lnTo>
                  <a:lnTo>
                    <a:pt x="1403" y="1889"/>
                  </a:lnTo>
                  <a:lnTo>
                    <a:pt x="1388" y="1904"/>
                  </a:lnTo>
                  <a:lnTo>
                    <a:pt x="1372" y="1919"/>
                  </a:lnTo>
                  <a:lnTo>
                    <a:pt x="1356" y="1933"/>
                  </a:lnTo>
                  <a:lnTo>
                    <a:pt x="1338" y="1945"/>
                  </a:lnTo>
                  <a:lnTo>
                    <a:pt x="1321" y="1957"/>
                  </a:lnTo>
                  <a:lnTo>
                    <a:pt x="1302" y="1969"/>
                  </a:lnTo>
                  <a:lnTo>
                    <a:pt x="1284" y="1980"/>
                  </a:lnTo>
                  <a:lnTo>
                    <a:pt x="1264" y="1991"/>
                  </a:lnTo>
                  <a:lnTo>
                    <a:pt x="1244" y="2000"/>
                  </a:lnTo>
                  <a:lnTo>
                    <a:pt x="1223" y="2008"/>
                  </a:lnTo>
                  <a:lnTo>
                    <a:pt x="1202" y="2016"/>
                  </a:lnTo>
                  <a:lnTo>
                    <a:pt x="1183" y="2023"/>
                  </a:lnTo>
                  <a:lnTo>
                    <a:pt x="1160" y="2030"/>
                  </a:lnTo>
                  <a:lnTo>
                    <a:pt x="1138" y="2036"/>
                  </a:lnTo>
                  <a:lnTo>
                    <a:pt x="1115" y="2041"/>
                  </a:lnTo>
                  <a:lnTo>
                    <a:pt x="1090" y="2047"/>
                  </a:lnTo>
                  <a:lnTo>
                    <a:pt x="1064" y="2051"/>
                  </a:lnTo>
                  <a:lnTo>
                    <a:pt x="1037" y="2055"/>
                  </a:lnTo>
                  <a:lnTo>
                    <a:pt x="1009" y="2058"/>
                  </a:lnTo>
                  <a:lnTo>
                    <a:pt x="950" y="2065"/>
                  </a:lnTo>
                  <a:lnTo>
                    <a:pt x="886" y="2069"/>
                  </a:lnTo>
                  <a:lnTo>
                    <a:pt x="819" y="2072"/>
                  </a:lnTo>
                  <a:lnTo>
                    <a:pt x="747" y="2072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817" y="1"/>
                  </a:lnTo>
                  <a:lnTo>
                    <a:pt x="885" y="4"/>
                  </a:lnTo>
                  <a:lnTo>
                    <a:pt x="948" y="8"/>
                  </a:lnTo>
                  <a:lnTo>
                    <a:pt x="1007" y="14"/>
                  </a:lnTo>
                  <a:lnTo>
                    <a:pt x="1035" y="18"/>
                  </a:lnTo>
                  <a:lnTo>
                    <a:pt x="1062" y="22"/>
                  </a:lnTo>
                  <a:lnTo>
                    <a:pt x="1087" y="27"/>
                  </a:lnTo>
                  <a:lnTo>
                    <a:pt x="1112" y="32"/>
                  </a:lnTo>
                  <a:lnTo>
                    <a:pt x="1135" y="37"/>
                  </a:lnTo>
                  <a:lnTo>
                    <a:pt x="1158" y="43"/>
                  </a:lnTo>
                  <a:lnTo>
                    <a:pt x="1179" y="49"/>
                  </a:lnTo>
                  <a:lnTo>
                    <a:pt x="1200" y="56"/>
                  </a:lnTo>
                  <a:lnTo>
                    <a:pt x="1221" y="64"/>
                  </a:lnTo>
                  <a:lnTo>
                    <a:pt x="1241" y="72"/>
                  </a:lnTo>
                  <a:lnTo>
                    <a:pt x="1262" y="83"/>
                  </a:lnTo>
                  <a:lnTo>
                    <a:pt x="1280" y="92"/>
                  </a:lnTo>
                  <a:lnTo>
                    <a:pt x="1299" y="104"/>
                  </a:lnTo>
                  <a:lnTo>
                    <a:pt x="1317" y="115"/>
                  </a:lnTo>
                  <a:lnTo>
                    <a:pt x="1335" y="127"/>
                  </a:lnTo>
                  <a:lnTo>
                    <a:pt x="1352" y="141"/>
                  </a:lnTo>
                  <a:lnTo>
                    <a:pt x="1369" y="154"/>
                  </a:lnTo>
                  <a:lnTo>
                    <a:pt x="1385" y="169"/>
                  </a:lnTo>
                  <a:lnTo>
                    <a:pt x="1401" y="184"/>
                  </a:lnTo>
                  <a:lnTo>
                    <a:pt x="1415" y="200"/>
                  </a:lnTo>
                  <a:lnTo>
                    <a:pt x="1430" y="217"/>
                  </a:lnTo>
                  <a:lnTo>
                    <a:pt x="1444" y="233"/>
                  </a:lnTo>
                  <a:lnTo>
                    <a:pt x="1457" y="251"/>
                  </a:lnTo>
                  <a:lnTo>
                    <a:pt x="1470" y="270"/>
                  </a:lnTo>
                  <a:lnTo>
                    <a:pt x="1481" y="287"/>
                  </a:lnTo>
                  <a:lnTo>
                    <a:pt x="1492" y="306"/>
                  </a:lnTo>
                  <a:lnTo>
                    <a:pt x="1501" y="326"/>
                  </a:lnTo>
                  <a:lnTo>
                    <a:pt x="1510" y="346"/>
                  </a:lnTo>
                  <a:lnTo>
                    <a:pt x="1520" y="367"/>
                  </a:lnTo>
                  <a:lnTo>
                    <a:pt x="1529" y="387"/>
                  </a:lnTo>
                  <a:lnTo>
                    <a:pt x="1537" y="410"/>
                  </a:lnTo>
                  <a:lnTo>
                    <a:pt x="1544" y="433"/>
                  </a:lnTo>
                  <a:lnTo>
                    <a:pt x="1551" y="457"/>
                  </a:lnTo>
                  <a:lnTo>
                    <a:pt x="1558" y="482"/>
                  </a:lnTo>
                  <a:lnTo>
                    <a:pt x="1564" y="506"/>
                  </a:lnTo>
                  <a:lnTo>
                    <a:pt x="1570" y="533"/>
                  </a:lnTo>
                  <a:lnTo>
                    <a:pt x="1576" y="558"/>
                  </a:lnTo>
                  <a:lnTo>
                    <a:pt x="1580" y="586"/>
                  </a:lnTo>
                  <a:lnTo>
                    <a:pt x="1585" y="614"/>
                  </a:lnTo>
                  <a:lnTo>
                    <a:pt x="1588" y="643"/>
                  </a:lnTo>
                  <a:lnTo>
                    <a:pt x="1591" y="675"/>
                  </a:lnTo>
                  <a:lnTo>
                    <a:pt x="1593" y="712"/>
                  </a:lnTo>
                  <a:lnTo>
                    <a:pt x="1595" y="753"/>
                  </a:lnTo>
                  <a:lnTo>
                    <a:pt x="1596" y="800"/>
                  </a:lnTo>
                  <a:lnTo>
                    <a:pt x="1599" y="851"/>
                  </a:lnTo>
                  <a:lnTo>
                    <a:pt x="1599" y="908"/>
                  </a:lnTo>
                  <a:lnTo>
                    <a:pt x="1600" y="971"/>
                  </a:lnTo>
                  <a:lnTo>
                    <a:pt x="1600" y="1037"/>
                  </a:lnTo>
                  <a:close/>
                  <a:moveTo>
                    <a:pt x="1322" y="1037"/>
                  </a:moveTo>
                  <a:lnTo>
                    <a:pt x="1322" y="978"/>
                  </a:lnTo>
                  <a:lnTo>
                    <a:pt x="1321" y="920"/>
                  </a:lnTo>
                  <a:lnTo>
                    <a:pt x="1319" y="865"/>
                  </a:lnTo>
                  <a:lnTo>
                    <a:pt x="1316" y="813"/>
                  </a:lnTo>
                  <a:lnTo>
                    <a:pt x="1313" y="764"/>
                  </a:lnTo>
                  <a:lnTo>
                    <a:pt x="1308" y="718"/>
                  </a:lnTo>
                  <a:lnTo>
                    <a:pt x="1303" y="673"/>
                  </a:lnTo>
                  <a:lnTo>
                    <a:pt x="1298" y="632"/>
                  </a:lnTo>
                  <a:lnTo>
                    <a:pt x="1291" y="593"/>
                  </a:lnTo>
                  <a:lnTo>
                    <a:pt x="1283" y="557"/>
                  </a:lnTo>
                  <a:lnTo>
                    <a:pt x="1274" y="523"/>
                  </a:lnTo>
                  <a:lnTo>
                    <a:pt x="1265" y="493"/>
                  </a:lnTo>
                  <a:lnTo>
                    <a:pt x="1256" y="465"/>
                  </a:lnTo>
                  <a:lnTo>
                    <a:pt x="1245" y="440"/>
                  </a:lnTo>
                  <a:lnTo>
                    <a:pt x="1234" y="418"/>
                  </a:lnTo>
                  <a:lnTo>
                    <a:pt x="1221" y="397"/>
                  </a:lnTo>
                  <a:lnTo>
                    <a:pt x="1212" y="385"/>
                  </a:lnTo>
                  <a:lnTo>
                    <a:pt x="1202" y="374"/>
                  </a:lnTo>
                  <a:lnTo>
                    <a:pt x="1192" y="363"/>
                  </a:lnTo>
                  <a:lnTo>
                    <a:pt x="1181" y="353"/>
                  </a:lnTo>
                  <a:lnTo>
                    <a:pt x="1170" y="342"/>
                  </a:lnTo>
                  <a:lnTo>
                    <a:pt x="1157" y="333"/>
                  </a:lnTo>
                  <a:lnTo>
                    <a:pt x="1144" y="324"/>
                  </a:lnTo>
                  <a:lnTo>
                    <a:pt x="1130" y="315"/>
                  </a:lnTo>
                  <a:lnTo>
                    <a:pt x="1116" y="307"/>
                  </a:lnTo>
                  <a:lnTo>
                    <a:pt x="1101" y="300"/>
                  </a:lnTo>
                  <a:lnTo>
                    <a:pt x="1085" y="293"/>
                  </a:lnTo>
                  <a:lnTo>
                    <a:pt x="1069" y="286"/>
                  </a:lnTo>
                  <a:lnTo>
                    <a:pt x="1051" y="282"/>
                  </a:lnTo>
                  <a:lnTo>
                    <a:pt x="1034" y="276"/>
                  </a:lnTo>
                  <a:lnTo>
                    <a:pt x="1015" y="271"/>
                  </a:lnTo>
                  <a:lnTo>
                    <a:pt x="996" y="267"/>
                  </a:lnTo>
                  <a:lnTo>
                    <a:pt x="974" y="263"/>
                  </a:lnTo>
                  <a:lnTo>
                    <a:pt x="949" y="261"/>
                  </a:lnTo>
                  <a:lnTo>
                    <a:pt x="921" y="257"/>
                  </a:lnTo>
                  <a:lnTo>
                    <a:pt x="888" y="256"/>
                  </a:lnTo>
                  <a:lnTo>
                    <a:pt x="853" y="254"/>
                  </a:lnTo>
                  <a:lnTo>
                    <a:pt x="814" y="253"/>
                  </a:lnTo>
                  <a:lnTo>
                    <a:pt x="772" y="251"/>
                  </a:lnTo>
                  <a:lnTo>
                    <a:pt x="727" y="251"/>
                  </a:lnTo>
                  <a:lnTo>
                    <a:pt x="272" y="251"/>
                  </a:lnTo>
                  <a:lnTo>
                    <a:pt x="272" y="1821"/>
                  </a:lnTo>
                  <a:lnTo>
                    <a:pt x="727" y="1821"/>
                  </a:lnTo>
                  <a:lnTo>
                    <a:pt x="772" y="1821"/>
                  </a:lnTo>
                  <a:lnTo>
                    <a:pt x="814" y="1820"/>
                  </a:lnTo>
                  <a:lnTo>
                    <a:pt x="853" y="1819"/>
                  </a:lnTo>
                  <a:lnTo>
                    <a:pt x="888" y="1818"/>
                  </a:lnTo>
                  <a:lnTo>
                    <a:pt x="921" y="1815"/>
                  </a:lnTo>
                  <a:lnTo>
                    <a:pt x="949" y="1813"/>
                  </a:lnTo>
                  <a:lnTo>
                    <a:pt x="974" y="1809"/>
                  </a:lnTo>
                  <a:lnTo>
                    <a:pt x="996" y="1806"/>
                  </a:lnTo>
                  <a:lnTo>
                    <a:pt x="1015" y="1802"/>
                  </a:lnTo>
                  <a:lnTo>
                    <a:pt x="1034" y="1798"/>
                  </a:lnTo>
                  <a:lnTo>
                    <a:pt x="1051" y="1793"/>
                  </a:lnTo>
                  <a:lnTo>
                    <a:pt x="1069" y="1787"/>
                  </a:lnTo>
                  <a:lnTo>
                    <a:pt x="1085" y="1782"/>
                  </a:lnTo>
                  <a:lnTo>
                    <a:pt x="1101" y="1775"/>
                  </a:lnTo>
                  <a:lnTo>
                    <a:pt x="1116" y="1768"/>
                  </a:lnTo>
                  <a:lnTo>
                    <a:pt x="1130" y="1759"/>
                  </a:lnTo>
                  <a:lnTo>
                    <a:pt x="1144" y="1751"/>
                  </a:lnTo>
                  <a:lnTo>
                    <a:pt x="1157" y="1743"/>
                  </a:lnTo>
                  <a:lnTo>
                    <a:pt x="1170" y="1734"/>
                  </a:lnTo>
                  <a:lnTo>
                    <a:pt x="1181" y="1723"/>
                  </a:lnTo>
                  <a:lnTo>
                    <a:pt x="1192" y="1713"/>
                  </a:lnTo>
                  <a:lnTo>
                    <a:pt x="1202" y="1702"/>
                  </a:lnTo>
                  <a:lnTo>
                    <a:pt x="1212" y="1691"/>
                  </a:lnTo>
                  <a:lnTo>
                    <a:pt x="1221" y="1678"/>
                  </a:lnTo>
                  <a:lnTo>
                    <a:pt x="1234" y="1658"/>
                  </a:lnTo>
                  <a:lnTo>
                    <a:pt x="1245" y="1636"/>
                  </a:lnTo>
                  <a:lnTo>
                    <a:pt x="1256" y="1611"/>
                  </a:lnTo>
                  <a:lnTo>
                    <a:pt x="1265" y="1583"/>
                  </a:lnTo>
                  <a:lnTo>
                    <a:pt x="1274" y="1552"/>
                  </a:lnTo>
                  <a:lnTo>
                    <a:pt x="1283" y="1519"/>
                  </a:lnTo>
                  <a:lnTo>
                    <a:pt x="1291" y="1483"/>
                  </a:lnTo>
                  <a:lnTo>
                    <a:pt x="1298" y="1444"/>
                  </a:lnTo>
                  <a:lnTo>
                    <a:pt x="1303" y="1402"/>
                  </a:lnTo>
                  <a:lnTo>
                    <a:pt x="1308" y="1358"/>
                  </a:lnTo>
                  <a:lnTo>
                    <a:pt x="1313" y="1312"/>
                  </a:lnTo>
                  <a:lnTo>
                    <a:pt x="1316" y="1262"/>
                  </a:lnTo>
                  <a:lnTo>
                    <a:pt x="1319" y="1211"/>
                  </a:lnTo>
                  <a:lnTo>
                    <a:pt x="1321" y="1156"/>
                  </a:lnTo>
                  <a:lnTo>
                    <a:pt x="1322" y="1098"/>
                  </a:lnTo>
                  <a:lnTo>
                    <a:pt x="1322" y="1037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20800" y="1470600"/>
              <a:ext cx="285840" cy="302760"/>
            </a:xfrm>
            <a:custGeom>
              <a:avLst/>
              <a:gdLst/>
              <a:ahLst/>
              <a:rect l="l" t="t" r="r" b="b"/>
              <a:pathLst>
                <a:path w="1876" h="2072">
                  <a:moveTo>
                    <a:pt x="1876" y="2072"/>
                  </a:moveTo>
                  <a:lnTo>
                    <a:pt x="1574" y="2072"/>
                  </a:lnTo>
                  <a:lnTo>
                    <a:pt x="1363" y="1501"/>
                  </a:lnTo>
                  <a:lnTo>
                    <a:pt x="495" y="1501"/>
                  </a:lnTo>
                  <a:lnTo>
                    <a:pt x="288" y="2072"/>
                  </a:lnTo>
                  <a:lnTo>
                    <a:pt x="0" y="2072"/>
                  </a:lnTo>
                  <a:lnTo>
                    <a:pt x="801" y="0"/>
                  </a:lnTo>
                  <a:lnTo>
                    <a:pt x="1076" y="0"/>
                  </a:lnTo>
                  <a:lnTo>
                    <a:pt x="1876" y="2072"/>
                  </a:lnTo>
                  <a:close/>
                  <a:moveTo>
                    <a:pt x="1275" y="1261"/>
                  </a:moveTo>
                  <a:lnTo>
                    <a:pt x="931" y="333"/>
                  </a:lnTo>
                  <a:lnTo>
                    <a:pt x="587" y="1261"/>
                  </a:lnTo>
                  <a:lnTo>
                    <a:pt x="1275" y="1261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7400" y="756720"/>
              <a:ext cx="250560" cy="533160"/>
            </a:xfrm>
            <a:custGeom>
              <a:avLst/>
              <a:gdLst/>
              <a:ahLst/>
              <a:rect l="l" t="t" r="r" b="b"/>
              <a:pathLst>
                <a:path w="1643" h="3649">
                  <a:moveTo>
                    <a:pt x="1643" y="2046"/>
                  </a:moveTo>
                  <a:lnTo>
                    <a:pt x="1628" y="2060"/>
                  </a:lnTo>
                  <a:lnTo>
                    <a:pt x="1609" y="2075"/>
                  </a:lnTo>
                  <a:lnTo>
                    <a:pt x="1592" y="2084"/>
                  </a:lnTo>
                  <a:lnTo>
                    <a:pt x="1573" y="2097"/>
                  </a:lnTo>
                  <a:lnTo>
                    <a:pt x="1552" y="2105"/>
                  </a:lnTo>
                  <a:lnTo>
                    <a:pt x="1531" y="2115"/>
                  </a:lnTo>
                  <a:lnTo>
                    <a:pt x="1510" y="2120"/>
                  </a:lnTo>
                  <a:lnTo>
                    <a:pt x="1486" y="2126"/>
                  </a:lnTo>
                  <a:lnTo>
                    <a:pt x="1461" y="2133"/>
                  </a:lnTo>
                  <a:lnTo>
                    <a:pt x="1435" y="2136"/>
                  </a:lnTo>
                  <a:lnTo>
                    <a:pt x="1380" y="2141"/>
                  </a:lnTo>
                  <a:lnTo>
                    <a:pt x="1321" y="2145"/>
                  </a:lnTo>
                  <a:lnTo>
                    <a:pt x="1254" y="2145"/>
                  </a:lnTo>
                  <a:lnTo>
                    <a:pt x="1206" y="2145"/>
                  </a:lnTo>
                  <a:lnTo>
                    <a:pt x="1161" y="2145"/>
                  </a:lnTo>
                  <a:lnTo>
                    <a:pt x="1118" y="2141"/>
                  </a:lnTo>
                  <a:lnTo>
                    <a:pt x="1077" y="2139"/>
                  </a:lnTo>
                  <a:lnTo>
                    <a:pt x="1038" y="2133"/>
                  </a:lnTo>
                  <a:lnTo>
                    <a:pt x="1002" y="2126"/>
                  </a:lnTo>
                  <a:lnTo>
                    <a:pt x="965" y="2120"/>
                  </a:lnTo>
                  <a:lnTo>
                    <a:pt x="932" y="2111"/>
                  </a:lnTo>
                  <a:lnTo>
                    <a:pt x="902" y="2103"/>
                  </a:lnTo>
                  <a:lnTo>
                    <a:pt x="872" y="2090"/>
                  </a:lnTo>
                  <a:lnTo>
                    <a:pt x="845" y="2079"/>
                  </a:lnTo>
                  <a:lnTo>
                    <a:pt x="818" y="2063"/>
                  </a:lnTo>
                  <a:lnTo>
                    <a:pt x="794" y="2046"/>
                  </a:lnTo>
                  <a:lnTo>
                    <a:pt x="773" y="2027"/>
                  </a:lnTo>
                  <a:lnTo>
                    <a:pt x="752" y="2009"/>
                  </a:lnTo>
                  <a:lnTo>
                    <a:pt x="731" y="1988"/>
                  </a:lnTo>
                  <a:lnTo>
                    <a:pt x="713" y="1965"/>
                  </a:lnTo>
                  <a:lnTo>
                    <a:pt x="698" y="1940"/>
                  </a:lnTo>
                  <a:lnTo>
                    <a:pt x="682" y="1913"/>
                  </a:lnTo>
                  <a:lnTo>
                    <a:pt x="667" y="1883"/>
                  </a:lnTo>
                  <a:lnTo>
                    <a:pt x="656" y="1849"/>
                  </a:lnTo>
                  <a:lnTo>
                    <a:pt x="644" y="1817"/>
                  </a:lnTo>
                  <a:lnTo>
                    <a:pt x="635" y="1781"/>
                  </a:lnTo>
                  <a:lnTo>
                    <a:pt x="625" y="1741"/>
                  </a:lnTo>
                  <a:lnTo>
                    <a:pt x="620" y="1703"/>
                  </a:lnTo>
                  <a:lnTo>
                    <a:pt x="610" y="1658"/>
                  </a:lnTo>
                  <a:lnTo>
                    <a:pt x="601" y="1565"/>
                  </a:lnTo>
                  <a:lnTo>
                    <a:pt x="599" y="1513"/>
                  </a:lnTo>
                  <a:lnTo>
                    <a:pt x="599" y="1459"/>
                  </a:lnTo>
                  <a:lnTo>
                    <a:pt x="595" y="1402"/>
                  </a:lnTo>
                  <a:lnTo>
                    <a:pt x="595" y="1345"/>
                  </a:lnTo>
                  <a:lnTo>
                    <a:pt x="599" y="1227"/>
                  </a:lnTo>
                  <a:lnTo>
                    <a:pt x="601" y="1122"/>
                  </a:lnTo>
                  <a:lnTo>
                    <a:pt x="605" y="1098"/>
                  </a:lnTo>
                  <a:lnTo>
                    <a:pt x="608" y="1074"/>
                  </a:lnTo>
                  <a:lnTo>
                    <a:pt x="610" y="1029"/>
                  </a:lnTo>
                  <a:lnTo>
                    <a:pt x="620" y="983"/>
                  </a:lnTo>
                  <a:lnTo>
                    <a:pt x="625" y="945"/>
                  </a:lnTo>
                  <a:lnTo>
                    <a:pt x="635" y="905"/>
                  </a:lnTo>
                  <a:lnTo>
                    <a:pt x="644" y="869"/>
                  </a:lnTo>
                  <a:lnTo>
                    <a:pt x="656" y="833"/>
                  </a:lnTo>
                  <a:lnTo>
                    <a:pt x="667" y="803"/>
                  </a:lnTo>
                  <a:lnTo>
                    <a:pt x="682" y="773"/>
                  </a:lnTo>
                  <a:lnTo>
                    <a:pt x="698" y="746"/>
                  </a:lnTo>
                  <a:lnTo>
                    <a:pt x="713" y="719"/>
                  </a:lnTo>
                  <a:lnTo>
                    <a:pt x="731" y="695"/>
                  </a:lnTo>
                  <a:lnTo>
                    <a:pt x="752" y="674"/>
                  </a:lnTo>
                  <a:lnTo>
                    <a:pt x="773" y="653"/>
                  </a:lnTo>
                  <a:lnTo>
                    <a:pt x="794" y="634"/>
                  </a:lnTo>
                  <a:lnTo>
                    <a:pt x="818" y="617"/>
                  </a:lnTo>
                  <a:lnTo>
                    <a:pt x="845" y="602"/>
                  </a:lnTo>
                  <a:lnTo>
                    <a:pt x="872" y="589"/>
                  </a:lnTo>
                  <a:lnTo>
                    <a:pt x="902" y="578"/>
                  </a:lnTo>
                  <a:lnTo>
                    <a:pt x="932" y="568"/>
                  </a:lnTo>
                  <a:lnTo>
                    <a:pt x="965" y="559"/>
                  </a:lnTo>
                  <a:lnTo>
                    <a:pt x="1002" y="551"/>
                  </a:lnTo>
                  <a:lnTo>
                    <a:pt x="1038" y="545"/>
                  </a:lnTo>
                  <a:lnTo>
                    <a:pt x="1077" y="541"/>
                  </a:lnTo>
                  <a:lnTo>
                    <a:pt x="1118" y="536"/>
                  </a:lnTo>
                  <a:lnTo>
                    <a:pt x="1161" y="532"/>
                  </a:lnTo>
                  <a:lnTo>
                    <a:pt x="1206" y="532"/>
                  </a:lnTo>
                  <a:lnTo>
                    <a:pt x="1254" y="532"/>
                  </a:lnTo>
                  <a:lnTo>
                    <a:pt x="1321" y="532"/>
                  </a:lnTo>
                  <a:lnTo>
                    <a:pt x="1351" y="536"/>
                  </a:lnTo>
                  <a:lnTo>
                    <a:pt x="1380" y="538"/>
                  </a:lnTo>
                  <a:lnTo>
                    <a:pt x="1438" y="547"/>
                  </a:lnTo>
                  <a:lnTo>
                    <a:pt x="1465" y="551"/>
                  </a:lnTo>
                  <a:lnTo>
                    <a:pt x="1489" y="557"/>
                  </a:lnTo>
                  <a:lnTo>
                    <a:pt x="1537" y="572"/>
                  </a:lnTo>
                  <a:lnTo>
                    <a:pt x="1577" y="589"/>
                  </a:lnTo>
                  <a:lnTo>
                    <a:pt x="1594" y="598"/>
                  </a:lnTo>
                  <a:lnTo>
                    <a:pt x="1613" y="610"/>
                  </a:lnTo>
                  <a:lnTo>
                    <a:pt x="1628" y="623"/>
                  </a:lnTo>
                  <a:lnTo>
                    <a:pt x="1643" y="634"/>
                  </a:lnTo>
                  <a:lnTo>
                    <a:pt x="1643" y="24"/>
                  </a:lnTo>
                  <a:lnTo>
                    <a:pt x="1577" y="15"/>
                  </a:lnTo>
                  <a:lnTo>
                    <a:pt x="1504" y="9"/>
                  </a:lnTo>
                  <a:lnTo>
                    <a:pt x="1468" y="5"/>
                  </a:lnTo>
                  <a:lnTo>
                    <a:pt x="1429" y="3"/>
                  </a:lnTo>
                  <a:lnTo>
                    <a:pt x="1389" y="3"/>
                  </a:lnTo>
                  <a:lnTo>
                    <a:pt x="1351" y="0"/>
                  </a:lnTo>
                  <a:lnTo>
                    <a:pt x="1296" y="0"/>
                  </a:lnTo>
                  <a:lnTo>
                    <a:pt x="1245" y="3"/>
                  </a:lnTo>
                  <a:lnTo>
                    <a:pt x="1192" y="5"/>
                  </a:lnTo>
                  <a:lnTo>
                    <a:pt x="1137" y="12"/>
                  </a:lnTo>
                  <a:lnTo>
                    <a:pt x="1082" y="18"/>
                  </a:lnTo>
                  <a:lnTo>
                    <a:pt x="1029" y="28"/>
                  </a:lnTo>
                  <a:lnTo>
                    <a:pt x="978" y="39"/>
                  </a:lnTo>
                  <a:lnTo>
                    <a:pt x="923" y="51"/>
                  </a:lnTo>
                  <a:lnTo>
                    <a:pt x="872" y="69"/>
                  </a:lnTo>
                  <a:lnTo>
                    <a:pt x="821" y="87"/>
                  </a:lnTo>
                  <a:lnTo>
                    <a:pt x="770" y="105"/>
                  </a:lnTo>
                  <a:lnTo>
                    <a:pt x="722" y="130"/>
                  </a:lnTo>
                  <a:lnTo>
                    <a:pt x="674" y="157"/>
                  </a:lnTo>
                  <a:lnTo>
                    <a:pt x="629" y="183"/>
                  </a:lnTo>
                  <a:lnTo>
                    <a:pt x="605" y="198"/>
                  </a:lnTo>
                  <a:lnTo>
                    <a:pt x="584" y="217"/>
                  </a:lnTo>
                  <a:lnTo>
                    <a:pt x="542" y="250"/>
                  </a:lnTo>
                  <a:lnTo>
                    <a:pt x="542" y="42"/>
                  </a:lnTo>
                  <a:lnTo>
                    <a:pt x="0" y="42"/>
                  </a:lnTo>
                  <a:lnTo>
                    <a:pt x="0" y="1844"/>
                  </a:lnTo>
                  <a:lnTo>
                    <a:pt x="0" y="3649"/>
                  </a:lnTo>
                  <a:lnTo>
                    <a:pt x="601" y="3649"/>
                  </a:lnTo>
                  <a:lnTo>
                    <a:pt x="601" y="2448"/>
                  </a:lnTo>
                  <a:lnTo>
                    <a:pt x="635" y="2482"/>
                  </a:lnTo>
                  <a:lnTo>
                    <a:pt x="667" y="2512"/>
                  </a:lnTo>
                  <a:lnTo>
                    <a:pt x="703" y="2539"/>
                  </a:lnTo>
                  <a:lnTo>
                    <a:pt x="739" y="2563"/>
                  </a:lnTo>
                  <a:lnTo>
                    <a:pt x="779" y="2584"/>
                  </a:lnTo>
                  <a:lnTo>
                    <a:pt x="818" y="2602"/>
                  </a:lnTo>
                  <a:lnTo>
                    <a:pt x="860" y="2617"/>
                  </a:lnTo>
                  <a:lnTo>
                    <a:pt x="900" y="2632"/>
                  </a:lnTo>
                  <a:lnTo>
                    <a:pt x="944" y="2644"/>
                  </a:lnTo>
                  <a:lnTo>
                    <a:pt x="987" y="2653"/>
                  </a:lnTo>
                  <a:lnTo>
                    <a:pt x="1035" y="2662"/>
                  </a:lnTo>
                  <a:lnTo>
                    <a:pt x="1080" y="2668"/>
                  </a:lnTo>
                  <a:lnTo>
                    <a:pt x="1128" y="2672"/>
                  </a:lnTo>
                  <a:lnTo>
                    <a:pt x="1177" y="2674"/>
                  </a:lnTo>
                  <a:lnTo>
                    <a:pt x="1228" y="2677"/>
                  </a:lnTo>
                  <a:lnTo>
                    <a:pt x="1281" y="2677"/>
                  </a:lnTo>
                  <a:lnTo>
                    <a:pt x="1330" y="2677"/>
                  </a:lnTo>
                  <a:lnTo>
                    <a:pt x="1380" y="2674"/>
                  </a:lnTo>
                  <a:lnTo>
                    <a:pt x="1425" y="2672"/>
                  </a:lnTo>
                  <a:lnTo>
                    <a:pt x="1474" y="2668"/>
                  </a:lnTo>
                  <a:lnTo>
                    <a:pt x="1516" y="2662"/>
                  </a:lnTo>
                  <a:lnTo>
                    <a:pt x="1561" y="2656"/>
                  </a:lnTo>
                  <a:lnTo>
                    <a:pt x="1603" y="2647"/>
                  </a:lnTo>
                  <a:lnTo>
                    <a:pt x="1643" y="2638"/>
                  </a:lnTo>
                  <a:lnTo>
                    <a:pt x="1643" y="2046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02520" y="549360"/>
              <a:ext cx="356400" cy="335880"/>
            </a:xfrm>
            <a:custGeom>
              <a:avLst/>
              <a:gdLst/>
              <a:ahLst/>
              <a:rect l="l" t="t" r="r" b="b"/>
              <a:pathLst>
                <a:path w="2339" h="2297">
                  <a:moveTo>
                    <a:pt x="0" y="1145"/>
                  </a:moveTo>
                  <a:lnTo>
                    <a:pt x="2" y="1061"/>
                  </a:lnTo>
                  <a:lnTo>
                    <a:pt x="2" y="980"/>
                  </a:lnTo>
                  <a:lnTo>
                    <a:pt x="6" y="940"/>
                  </a:lnTo>
                  <a:lnTo>
                    <a:pt x="8" y="904"/>
                  </a:lnTo>
                  <a:lnTo>
                    <a:pt x="15" y="832"/>
                  </a:lnTo>
                  <a:lnTo>
                    <a:pt x="23" y="764"/>
                  </a:lnTo>
                  <a:lnTo>
                    <a:pt x="32" y="697"/>
                  </a:lnTo>
                  <a:lnTo>
                    <a:pt x="44" y="637"/>
                  </a:lnTo>
                  <a:lnTo>
                    <a:pt x="59" y="580"/>
                  </a:lnTo>
                  <a:lnTo>
                    <a:pt x="74" y="523"/>
                  </a:lnTo>
                  <a:lnTo>
                    <a:pt x="93" y="472"/>
                  </a:lnTo>
                  <a:lnTo>
                    <a:pt x="114" y="423"/>
                  </a:lnTo>
                  <a:lnTo>
                    <a:pt x="138" y="379"/>
                  </a:lnTo>
                  <a:lnTo>
                    <a:pt x="162" y="336"/>
                  </a:lnTo>
                  <a:lnTo>
                    <a:pt x="189" y="297"/>
                  </a:lnTo>
                  <a:lnTo>
                    <a:pt x="205" y="279"/>
                  </a:lnTo>
                  <a:lnTo>
                    <a:pt x="220" y="261"/>
                  </a:lnTo>
                  <a:lnTo>
                    <a:pt x="252" y="228"/>
                  </a:lnTo>
                  <a:lnTo>
                    <a:pt x="288" y="197"/>
                  </a:lnTo>
                  <a:lnTo>
                    <a:pt x="307" y="182"/>
                  </a:lnTo>
                  <a:lnTo>
                    <a:pt x="328" y="167"/>
                  </a:lnTo>
                  <a:lnTo>
                    <a:pt x="370" y="144"/>
                  </a:lnTo>
                  <a:lnTo>
                    <a:pt x="411" y="119"/>
                  </a:lnTo>
                  <a:lnTo>
                    <a:pt x="459" y="98"/>
                  </a:lnTo>
                  <a:lnTo>
                    <a:pt x="508" y="80"/>
                  </a:lnTo>
                  <a:lnTo>
                    <a:pt x="561" y="62"/>
                  </a:lnTo>
                  <a:lnTo>
                    <a:pt x="616" y="47"/>
                  </a:lnTo>
                  <a:lnTo>
                    <a:pt x="677" y="36"/>
                  </a:lnTo>
                  <a:lnTo>
                    <a:pt x="737" y="26"/>
                  </a:lnTo>
                  <a:lnTo>
                    <a:pt x="802" y="17"/>
                  </a:lnTo>
                  <a:lnTo>
                    <a:pt x="836" y="14"/>
                  </a:lnTo>
                  <a:lnTo>
                    <a:pt x="872" y="8"/>
                  </a:lnTo>
                  <a:lnTo>
                    <a:pt x="944" y="5"/>
                  </a:lnTo>
                  <a:lnTo>
                    <a:pt x="1020" y="2"/>
                  </a:lnTo>
                  <a:lnTo>
                    <a:pt x="1097" y="0"/>
                  </a:lnTo>
                  <a:lnTo>
                    <a:pt x="1181" y="0"/>
                  </a:lnTo>
                  <a:lnTo>
                    <a:pt x="1263" y="0"/>
                  </a:lnTo>
                  <a:lnTo>
                    <a:pt x="1344" y="2"/>
                  </a:lnTo>
                  <a:lnTo>
                    <a:pt x="1420" y="5"/>
                  </a:lnTo>
                  <a:lnTo>
                    <a:pt x="1492" y="11"/>
                  </a:lnTo>
                  <a:lnTo>
                    <a:pt x="1560" y="17"/>
                  </a:lnTo>
                  <a:lnTo>
                    <a:pt x="1594" y="21"/>
                  </a:lnTo>
                  <a:lnTo>
                    <a:pt x="1624" y="26"/>
                  </a:lnTo>
                  <a:lnTo>
                    <a:pt x="1687" y="36"/>
                  </a:lnTo>
                  <a:lnTo>
                    <a:pt x="1744" y="47"/>
                  </a:lnTo>
                  <a:lnTo>
                    <a:pt x="1801" y="62"/>
                  </a:lnTo>
                  <a:lnTo>
                    <a:pt x="1852" y="80"/>
                  </a:lnTo>
                  <a:lnTo>
                    <a:pt x="1901" y="98"/>
                  </a:lnTo>
                  <a:lnTo>
                    <a:pt x="1946" y="119"/>
                  </a:lnTo>
                  <a:lnTo>
                    <a:pt x="1990" y="144"/>
                  </a:lnTo>
                  <a:lnTo>
                    <a:pt x="2030" y="171"/>
                  </a:lnTo>
                  <a:lnTo>
                    <a:pt x="2066" y="197"/>
                  </a:lnTo>
                  <a:lnTo>
                    <a:pt x="2102" y="228"/>
                  </a:lnTo>
                  <a:lnTo>
                    <a:pt x="2117" y="246"/>
                  </a:lnTo>
                  <a:lnTo>
                    <a:pt x="2132" y="261"/>
                  </a:lnTo>
                  <a:lnTo>
                    <a:pt x="2162" y="300"/>
                  </a:lnTo>
                  <a:lnTo>
                    <a:pt x="2189" y="339"/>
                  </a:lnTo>
                  <a:lnTo>
                    <a:pt x="2214" y="381"/>
                  </a:lnTo>
                  <a:lnTo>
                    <a:pt x="2235" y="426"/>
                  </a:lnTo>
                  <a:lnTo>
                    <a:pt x="2256" y="474"/>
                  </a:lnTo>
                  <a:lnTo>
                    <a:pt x="2271" y="525"/>
                  </a:lnTo>
                  <a:lnTo>
                    <a:pt x="2286" y="580"/>
                  </a:lnTo>
                  <a:lnTo>
                    <a:pt x="2301" y="637"/>
                  </a:lnTo>
                  <a:lnTo>
                    <a:pt x="2310" y="700"/>
                  </a:lnTo>
                  <a:lnTo>
                    <a:pt x="2318" y="764"/>
                  </a:lnTo>
                  <a:lnTo>
                    <a:pt x="2328" y="832"/>
                  </a:lnTo>
                  <a:lnTo>
                    <a:pt x="2333" y="904"/>
                  </a:lnTo>
                  <a:lnTo>
                    <a:pt x="2337" y="980"/>
                  </a:lnTo>
                  <a:lnTo>
                    <a:pt x="2339" y="1061"/>
                  </a:lnTo>
                  <a:lnTo>
                    <a:pt x="2339" y="1145"/>
                  </a:lnTo>
                  <a:lnTo>
                    <a:pt x="2339" y="1226"/>
                  </a:lnTo>
                  <a:lnTo>
                    <a:pt x="2337" y="1308"/>
                  </a:lnTo>
                  <a:lnTo>
                    <a:pt x="2333" y="1383"/>
                  </a:lnTo>
                  <a:lnTo>
                    <a:pt x="2328" y="1455"/>
                  </a:lnTo>
                  <a:lnTo>
                    <a:pt x="2318" y="1524"/>
                  </a:lnTo>
                  <a:lnTo>
                    <a:pt x="2310" y="1588"/>
                  </a:lnTo>
                  <a:lnTo>
                    <a:pt x="2297" y="1651"/>
                  </a:lnTo>
                  <a:lnTo>
                    <a:pt x="2292" y="1677"/>
                  </a:lnTo>
                  <a:lnTo>
                    <a:pt x="2286" y="1708"/>
                  </a:lnTo>
                  <a:lnTo>
                    <a:pt x="2280" y="1734"/>
                  </a:lnTo>
                  <a:lnTo>
                    <a:pt x="2271" y="1762"/>
                  </a:lnTo>
                  <a:lnTo>
                    <a:pt x="2252" y="1813"/>
                  </a:lnTo>
                  <a:lnTo>
                    <a:pt x="2231" y="1861"/>
                  </a:lnTo>
                  <a:lnTo>
                    <a:pt x="2210" y="1909"/>
                  </a:lnTo>
                  <a:lnTo>
                    <a:pt x="2199" y="1931"/>
                  </a:lnTo>
                  <a:lnTo>
                    <a:pt x="2186" y="1952"/>
                  </a:lnTo>
                  <a:lnTo>
                    <a:pt x="2174" y="1969"/>
                  </a:lnTo>
                  <a:lnTo>
                    <a:pt x="2159" y="1990"/>
                  </a:lnTo>
                  <a:lnTo>
                    <a:pt x="2144" y="2009"/>
                  </a:lnTo>
                  <a:lnTo>
                    <a:pt x="2129" y="2026"/>
                  </a:lnTo>
                  <a:lnTo>
                    <a:pt x="2114" y="2045"/>
                  </a:lnTo>
                  <a:lnTo>
                    <a:pt x="2099" y="2060"/>
                  </a:lnTo>
                  <a:lnTo>
                    <a:pt x="2062" y="2093"/>
                  </a:lnTo>
                  <a:lnTo>
                    <a:pt x="2026" y="2119"/>
                  </a:lnTo>
                  <a:lnTo>
                    <a:pt x="1985" y="2147"/>
                  </a:lnTo>
                  <a:lnTo>
                    <a:pt x="1943" y="2170"/>
                  </a:lnTo>
                  <a:lnTo>
                    <a:pt x="1895" y="2193"/>
                  </a:lnTo>
                  <a:lnTo>
                    <a:pt x="1846" y="2213"/>
                  </a:lnTo>
                  <a:lnTo>
                    <a:pt x="1795" y="2229"/>
                  </a:lnTo>
                  <a:lnTo>
                    <a:pt x="1738" y="2244"/>
                  </a:lnTo>
                  <a:lnTo>
                    <a:pt x="1681" y="2259"/>
                  </a:lnTo>
                  <a:lnTo>
                    <a:pt x="1618" y="2267"/>
                  </a:lnTo>
                  <a:lnTo>
                    <a:pt x="1554" y="2276"/>
                  </a:lnTo>
                  <a:lnTo>
                    <a:pt x="1486" y="2286"/>
                  </a:lnTo>
                  <a:lnTo>
                    <a:pt x="1414" y="2288"/>
                  </a:lnTo>
                  <a:lnTo>
                    <a:pt x="1335" y="2295"/>
                  </a:lnTo>
                  <a:lnTo>
                    <a:pt x="1257" y="2295"/>
                  </a:lnTo>
                  <a:lnTo>
                    <a:pt x="1173" y="2297"/>
                  </a:lnTo>
                  <a:lnTo>
                    <a:pt x="1092" y="2295"/>
                  </a:lnTo>
                  <a:lnTo>
                    <a:pt x="1014" y="2295"/>
                  </a:lnTo>
                  <a:lnTo>
                    <a:pt x="938" y="2288"/>
                  </a:lnTo>
                  <a:lnTo>
                    <a:pt x="866" y="2286"/>
                  </a:lnTo>
                  <a:lnTo>
                    <a:pt x="796" y="2276"/>
                  </a:lnTo>
                  <a:lnTo>
                    <a:pt x="734" y="2267"/>
                  </a:lnTo>
                  <a:lnTo>
                    <a:pt x="700" y="2261"/>
                  </a:lnTo>
                  <a:lnTo>
                    <a:pt x="671" y="2259"/>
                  </a:lnTo>
                  <a:lnTo>
                    <a:pt x="613" y="2244"/>
                  </a:lnTo>
                  <a:lnTo>
                    <a:pt x="556" y="2229"/>
                  </a:lnTo>
                  <a:lnTo>
                    <a:pt x="504" y="2210"/>
                  </a:lnTo>
                  <a:lnTo>
                    <a:pt x="457" y="2193"/>
                  </a:lnTo>
                  <a:lnTo>
                    <a:pt x="409" y="2170"/>
                  </a:lnTo>
                  <a:lnTo>
                    <a:pt x="366" y="2147"/>
                  </a:lnTo>
                  <a:lnTo>
                    <a:pt x="324" y="2119"/>
                  </a:lnTo>
                  <a:lnTo>
                    <a:pt x="285" y="2090"/>
                  </a:lnTo>
                  <a:lnTo>
                    <a:pt x="267" y="2075"/>
                  </a:lnTo>
                  <a:lnTo>
                    <a:pt x="252" y="2060"/>
                  </a:lnTo>
                  <a:lnTo>
                    <a:pt x="220" y="2026"/>
                  </a:lnTo>
                  <a:lnTo>
                    <a:pt x="189" y="1988"/>
                  </a:lnTo>
                  <a:lnTo>
                    <a:pt x="162" y="1948"/>
                  </a:lnTo>
                  <a:lnTo>
                    <a:pt x="135" y="1906"/>
                  </a:lnTo>
                  <a:lnTo>
                    <a:pt x="123" y="1886"/>
                  </a:lnTo>
                  <a:lnTo>
                    <a:pt x="114" y="1861"/>
                  </a:lnTo>
                  <a:lnTo>
                    <a:pt x="102" y="1837"/>
                  </a:lnTo>
                  <a:lnTo>
                    <a:pt x="93" y="1813"/>
                  </a:lnTo>
                  <a:lnTo>
                    <a:pt x="84" y="1786"/>
                  </a:lnTo>
                  <a:lnTo>
                    <a:pt x="74" y="1762"/>
                  </a:lnTo>
                  <a:lnTo>
                    <a:pt x="66" y="1734"/>
                  </a:lnTo>
                  <a:lnTo>
                    <a:pt x="57" y="1704"/>
                  </a:lnTo>
                  <a:lnTo>
                    <a:pt x="44" y="1647"/>
                  </a:lnTo>
                  <a:lnTo>
                    <a:pt x="32" y="1588"/>
                  </a:lnTo>
                  <a:lnTo>
                    <a:pt x="21" y="1522"/>
                  </a:lnTo>
                  <a:lnTo>
                    <a:pt x="15" y="1452"/>
                  </a:lnTo>
                  <a:lnTo>
                    <a:pt x="8" y="1383"/>
                  </a:lnTo>
                  <a:lnTo>
                    <a:pt x="2" y="1304"/>
                  </a:lnTo>
                  <a:lnTo>
                    <a:pt x="2" y="1266"/>
                  </a:lnTo>
                  <a:lnTo>
                    <a:pt x="2" y="1226"/>
                  </a:lnTo>
                  <a:lnTo>
                    <a:pt x="0" y="1145"/>
                  </a:lnTo>
                  <a:close/>
                  <a:moveTo>
                    <a:pt x="2024" y="1145"/>
                  </a:moveTo>
                  <a:lnTo>
                    <a:pt x="2024" y="1079"/>
                  </a:lnTo>
                  <a:lnTo>
                    <a:pt x="2021" y="1019"/>
                  </a:lnTo>
                  <a:lnTo>
                    <a:pt x="2018" y="961"/>
                  </a:lnTo>
                  <a:lnTo>
                    <a:pt x="2015" y="908"/>
                  </a:lnTo>
                  <a:lnTo>
                    <a:pt x="2009" y="857"/>
                  </a:lnTo>
                  <a:lnTo>
                    <a:pt x="2003" y="808"/>
                  </a:lnTo>
                  <a:lnTo>
                    <a:pt x="1997" y="764"/>
                  </a:lnTo>
                  <a:lnTo>
                    <a:pt x="1988" y="718"/>
                  </a:lnTo>
                  <a:lnTo>
                    <a:pt x="1975" y="679"/>
                  </a:lnTo>
                  <a:lnTo>
                    <a:pt x="1964" y="643"/>
                  </a:lnTo>
                  <a:lnTo>
                    <a:pt x="1949" y="607"/>
                  </a:lnTo>
                  <a:lnTo>
                    <a:pt x="1933" y="576"/>
                  </a:lnTo>
                  <a:lnTo>
                    <a:pt x="1916" y="546"/>
                  </a:lnTo>
                  <a:lnTo>
                    <a:pt x="1897" y="519"/>
                  </a:lnTo>
                  <a:lnTo>
                    <a:pt x="1876" y="493"/>
                  </a:lnTo>
                  <a:lnTo>
                    <a:pt x="1856" y="472"/>
                  </a:lnTo>
                  <a:lnTo>
                    <a:pt x="1829" y="451"/>
                  </a:lnTo>
                  <a:lnTo>
                    <a:pt x="1801" y="430"/>
                  </a:lnTo>
                  <a:lnTo>
                    <a:pt x="1774" y="411"/>
                  </a:lnTo>
                  <a:lnTo>
                    <a:pt x="1742" y="396"/>
                  </a:lnTo>
                  <a:lnTo>
                    <a:pt x="1726" y="390"/>
                  </a:lnTo>
                  <a:lnTo>
                    <a:pt x="1708" y="385"/>
                  </a:lnTo>
                  <a:lnTo>
                    <a:pt x="1672" y="372"/>
                  </a:lnTo>
                  <a:lnTo>
                    <a:pt x="1632" y="360"/>
                  </a:lnTo>
                  <a:lnTo>
                    <a:pt x="1594" y="351"/>
                  </a:lnTo>
                  <a:lnTo>
                    <a:pt x="1549" y="345"/>
                  </a:lnTo>
                  <a:lnTo>
                    <a:pt x="1503" y="339"/>
                  </a:lnTo>
                  <a:lnTo>
                    <a:pt x="1456" y="333"/>
                  </a:lnTo>
                  <a:lnTo>
                    <a:pt x="1404" y="330"/>
                  </a:lnTo>
                  <a:lnTo>
                    <a:pt x="1293" y="324"/>
                  </a:lnTo>
                  <a:lnTo>
                    <a:pt x="1170" y="321"/>
                  </a:lnTo>
                  <a:lnTo>
                    <a:pt x="1050" y="324"/>
                  </a:lnTo>
                  <a:lnTo>
                    <a:pt x="995" y="328"/>
                  </a:lnTo>
                  <a:lnTo>
                    <a:pt x="941" y="330"/>
                  </a:lnTo>
                  <a:lnTo>
                    <a:pt x="893" y="333"/>
                  </a:lnTo>
                  <a:lnTo>
                    <a:pt x="845" y="339"/>
                  </a:lnTo>
                  <a:lnTo>
                    <a:pt x="800" y="345"/>
                  </a:lnTo>
                  <a:lnTo>
                    <a:pt x="754" y="354"/>
                  </a:lnTo>
                  <a:lnTo>
                    <a:pt x="715" y="364"/>
                  </a:lnTo>
                  <a:lnTo>
                    <a:pt x="677" y="372"/>
                  </a:lnTo>
                  <a:lnTo>
                    <a:pt x="641" y="385"/>
                  </a:lnTo>
                  <a:lnTo>
                    <a:pt x="607" y="400"/>
                  </a:lnTo>
                  <a:lnTo>
                    <a:pt x="574" y="415"/>
                  </a:lnTo>
                  <a:lnTo>
                    <a:pt x="548" y="432"/>
                  </a:lnTo>
                  <a:lnTo>
                    <a:pt x="532" y="441"/>
                  </a:lnTo>
                  <a:lnTo>
                    <a:pt x="520" y="453"/>
                  </a:lnTo>
                  <a:lnTo>
                    <a:pt x="493" y="474"/>
                  </a:lnTo>
                  <a:lnTo>
                    <a:pt x="468" y="495"/>
                  </a:lnTo>
                  <a:lnTo>
                    <a:pt x="448" y="523"/>
                  </a:lnTo>
                  <a:lnTo>
                    <a:pt x="430" y="550"/>
                  </a:lnTo>
                  <a:lnTo>
                    <a:pt x="411" y="580"/>
                  </a:lnTo>
                  <a:lnTo>
                    <a:pt x="402" y="595"/>
                  </a:lnTo>
                  <a:lnTo>
                    <a:pt x="394" y="612"/>
                  </a:lnTo>
                  <a:lnTo>
                    <a:pt x="381" y="646"/>
                  </a:lnTo>
                  <a:lnTo>
                    <a:pt x="366" y="684"/>
                  </a:lnTo>
                  <a:lnTo>
                    <a:pt x="358" y="724"/>
                  </a:lnTo>
                  <a:lnTo>
                    <a:pt x="345" y="766"/>
                  </a:lnTo>
                  <a:lnTo>
                    <a:pt x="339" y="811"/>
                  </a:lnTo>
                  <a:lnTo>
                    <a:pt x="330" y="859"/>
                  </a:lnTo>
                  <a:lnTo>
                    <a:pt x="328" y="910"/>
                  </a:lnTo>
                  <a:lnTo>
                    <a:pt x="321" y="965"/>
                  </a:lnTo>
                  <a:lnTo>
                    <a:pt x="318" y="1022"/>
                  </a:lnTo>
                  <a:lnTo>
                    <a:pt x="318" y="1082"/>
                  </a:lnTo>
                  <a:lnTo>
                    <a:pt x="315" y="1145"/>
                  </a:lnTo>
                  <a:lnTo>
                    <a:pt x="318" y="1209"/>
                  </a:lnTo>
                  <a:lnTo>
                    <a:pt x="318" y="1268"/>
                  </a:lnTo>
                  <a:lnTo>
                    <a:pt x="321" y="1325"/>
                  </a:lnTo>
                  <a:lnTo>
                    <a:pt x="328" y="1380"/>
                  </a:lnTo>
                  <a:lnTo>
                    <a:pt x="334" y="1427"/>
                  </a:lnTo>
                  <a:lnTo>
                    <a:pt x="339" y="1476"/>
                  </a:lnTo>
                  <a:lnTo>
                    <a:pt x="349" y="1524"/>
                  </a:lnTo>
                  <a:lnTo>
                    <a:pt x="358" y="1566"/>
                  </a:lnTo>
                  <a:lnTo>
                    <a:pt x="370" y="1605"/>
                  </a:lnTo>
                  <a:lnTo>
                    <a:pt x="375" y="1624"/>
                  </a:lnTo>
                  <a:lnTo>
                    <a:pt x="381" y="1641"/>
                  </a:lnTo>
                  <a:lnTo>
                    <a:pt x="396" y="1677"/>
                  </a:lnTo>
                  <a:lnTo>
                    <a:pt x="415" y="1711"/>
                  </a:lnTo>
                  <a:lnTo>
                    <a:pt x="432" y="1741"/>
                  </a:lnTo>
                  <a:lnTo>
                    <a:pt x="453" y="1768"/>
                  </a:lnTo>
                  <a:lnTo>
                    <a:pt x="474" y="1795"/>
                  </a:lnTo>
                  <a:lnTo>
                    <a:pt x="499" y="1819"/>
                  </a:lnTo>
                  <a:lnTo>
                    <a:pt x="523" y="1840"/>
                  </a:lnTo>
                  <a:lnTo>
                    <a:pt x="553" y="1858"/>
                  </a:lnTo>
                  <a:lnTo>
                    <a:pt x="584" y="1876"/>
                  </a:lnTo>
                  <a:lnTo>
                    <a:pt x="598" y="1886"/>
                  </a:lnTo>
                  <a:lnTo>
                    <a:pt x="613" y="1891"/>
                  </a:lnTo>
                  <a:lnTo>
                    <a:pt x="649" y="1906"/>
                  </a:lnTo>
                  <a:lnTo>
                    <a:pt x="686" y="1918"/>
                  </a:lnTo>
                  <a:lnTo>
                    <a:pt x="724" y="1931"/>
                  </a:lnTo>
                  <a:lnTo>
                    <a:pt x="764" y="1939"/>
                  </a:lnTo>
                  <a:lnTo>
                    <a:pt x="809" y="1948"/>
                  </a:lnTo>
                  <a:lnTo>
                    <a:pt x="853" y="1954"/>
                  </a:lnTo>
                  <a:lnTo>
                    <a:pt x="902" y="1960"/>
                  </a:lnTo>
                  <a:lnTo>
                    <a:pt x="953" y="1967"/>
                  </a:lnTo>
                  <a:lnTo>
                    <a:pt x="1007" y="1969"/>
                  </a:lnTo>
                  <a:lnTo>
                    <a:pt x="1061" y="1969"/>
                  </a:lnTo>
                  <a:lnTo>
                    <a:pt x="1122" y="1973"/>
                  </a:lnTo>
                  <a:lnTo>
                    <a:pt x="1181" y="1973"/>
                  </a:lnTo>
                  <a:lnTo>
                    <a:pt x="1304" y="1969"/>
                  </a:lnTo>
                  <a:lnTo>
                    <a:pt x="1359" y="1969"/>
                  </a:lnTo>
                  <a:lnTo>
                    <a:pt x="1414" y="1963"/>
                  </a:lnTo>
                  <a:lnTo>
                    <a:pt x="1465" y="1960"/>
                  </a:lnTo>
                  <a:lnTo>
                    <a:pt x="1513" y="1954"/>
                  </a:lnTo>
                  <a:lnTo>
                    <a:pt x="1558" y="1948"/>
                  </a:lnTo>
                  <a:lnTo>
                    <a:pt x="1600" y="1939"/>
                  </a:lnTo>
                  <a:lnTo>
                    <a:pt x="1642" y="1931"/>
                  </a:lnTo>
                  <a:lnTo>
                    <a:pt x="1678" y="1918"/>
                  </a:lnTo>
                  <a:lnTo>
                    <a:pt x="1714" y="1906"/>
                  </a:lnTo>
                  <a:lnTo>
                    <a:pt x="1747" y="1891"/>
                  </a:lnTo>
                  <a:lnTo>
                    <a:pt x="1778" y="1876"/>
                  </a:lnTo>
                  <a:lnTo>
                    <a:pt x="1808" y="1858"/>
                  </a:lnTo>
                  <a:lnTo>
                    <a:pt x="1835" y="1837"/>
                  </a:lnTo>
                  <a:lnTo>
                    <a:pt x="1858" y="1816"/>
                  </a:lnTo>
                  <a:lnTo>
                    <a:pt x="1880" y="1791"/>
                  </a:lnTo>
                  <a:lnTo>
                    <a:pt x="1892" y="1780"/>
                  </a:lnTo>
                  <a:lnTo>
                    <a:pt x="1901" y="1765"/>
                  </a:lnTo>
                  <a:lnTo>
                    <a:pt x="1918" y="1738"/>
                  </a:lnTo>
                  <a:lnTo>
                    <a:pt x="1937" y="1708"/>
                  </a:lnTo>
                  <a:lnTo>
                    <a:pt x="1952" y="1675"/>
                  </a:lnTo>
                  <a:lnTo>
                    <a:pt x="1967" y="1641"/>
                  </a:lnTo>
                  <a:lnTo>
                    <a:pt x="1979" y="1603"/>
                  </a:lnTo>
                  <a:lnTo>
                    <a:pt x="1988" y="1563"/>
                  </a:lnTo>
                  <a:lnTo>
                    <a:pt x="1997" y="1522"/>
                  </a:lnTo>
                  <a:lnTo>
                    <a:pt x="2003" y="1476"/>
                  </a:lnTo>
                  <a:lnTo>
                    <a:pt x="2009" y="1427"/>
                  </a:lnTo>
                  <a:lnTo>
                    <a:pt x="2015" y="1376"/>
                  </a:lnTo>
                  <a:lnTo>
                    <a:pt x="2018" y="1323"/>
                  </a:lnTo>
                  <a:lnTo>
                    <a:pt x="2021" y="1296"/>
                  </a:lnTo>
                  <a:lnTo>
                    <a:pt x="2021" y="1266"/>
                  </a:lnTo>
                  <a:lnTo>
                    <a:pt x="2024" y="1205"/>
                  </a:lnTo>
                  <a:lnTo>
                    <a:pt x="2024" y="1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624240"/>
              <a:ext cx="513720" cy="517680"/>
            </a:xfrm>
            <a:custGeom>
              <a:avLst/>
              <a:gdLst/>
              <a:ahLst/>
              <a:rect l="l" t="t" r="r" b="b"/>
              <a:pathLst>
                <a:path w="3372" h="3543">
                  <a:moveTo>
                    <a:pt x="1456" y="2096"/>
                  </a:moveTo>
                  <a:lnTo>
                    <a:pt x="2165" y="2096"/>
                  </a:lnTo>
                  <a:lnTo>
                    <a:pt x="1672" y="697"/>
                  </a:lnTo>
                  <a:lnTo>
                    <a:pt x="1160" y="2120"/>
                  </a:lnTo>
                  <a:lnTo>
                    <a:pt x="652" y="3543"/>
                  </a:lnTo>
                  <a:lnTo>
                    <a:pt x="0" y="3543"/>
                  </a:lnTo>
                  <a:lnTo>
                    <a:pt x="683" y="1772"/>
                  </a:lnTo>
                  <a:lnTo>
                    <a:pt x="1369" y="0"/>
                  </a:lnTo>
                  <a:lnTo>
                    <a:pt x="2012" y="0"/>
                  </a:lnTo>
                  <a:lnTo>
                    <a:pt x="2692" y="1772"/>
                  </a:lnTo>
                  <a:lnTo>
                    <a:pt x="3372" y="3543"/>
                  </a:lnTo>
                  <a:lnTo>
                    <a:pt x="2686" y="3543"/>
                  </a:lnTo>
                  <a:lnTo>
                    <a:pt x="2358" y="2638"/>
                  </a:lnTo>
                  <a:lnTo>
                    <a:pt x="1260" y="2638"/>
                  </a:lnTo>
                  <a:lnTo>
                    <a:pt x="1456" y="2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4040" y="756720"/>
              <a:ext cx="364680" cy="533160"/>
            </a:xfrm>
            <a:custGeom>
              <a:avLst/>
              <a:gdLst/>
              <a:ahLst/>
              <a:rect l="l" t="t" r="r" b="b"/>
              <a:pathLst>
                <a:path w="2395" h="3649">
                  <a:moveTo>
                    <a:pt x="1279" y="2677"/>
                  </a:moveTo>
                  <a:lnTo>
                    <a:pt x="1228" y="2677"/>
                  </a:lnTo>
                  <a:lnTo>
                    <a:pt x="1176" y="2674"/>
                  </a:lnTo>
                  <a:lnTo>
                    <a:pt x="1128" y="2672"/>
                  </a:lnTo>
                  <a:lnTo>
                    <a:pt x="1080" y="2668"/>
                  </a:lnTo>
                  <a:lnTo>
                    <a:pt x="1032" y="2662"/>
                  </a:lnTo>
                  <a:lnTo>
                    <a:pt x="987" y="2653"/>
                  </a:lnTo>
                  <a:lnTo>
                    <a:pt x="942" y="2644"/>
                  </a:lnTo>
                  <a:lnTo>
                    <a:pt x="900" y="2632"/>
                  </a:lnTo>
                  <a:lnTo>
                    <a:pt x="858" y="2617"/>
                  </a:lnTo>
                  <a:lnTo>
                    <a:pt x="818" y="2602"/>
                  </a:lnTo>
                  <a:lnTo>
                    <a:pt x="779" y="2584"/>
                  </a:lnTo>
                  <a:lnTo>
                    <a:pt x="740" y="2563"/>
                  </a:lnTo>
                  <a:lnTo>
                    <a:pt x="704" y="2539"/>
                  </a:lnTo>
                  <a:lnTo>
                    <a:pt x="686" y="2524"/>
                  </a:lnTo>
                  <a:lnTo>
                    <a:pt x="668" y="2512"/>
                  </a:lnTo>
                  <a:lnTo>
                    <a:pt x="632" y="2482"/>
                  </a:lnTo>
                  <a:lnTo>
                    <a:pt x="599" y="2448"/>
                  </a:lnTo>
                  <a:lnTo>
                    <a:pt x="599" y="3649"/>
                  </a:lnTo>
                  <a:lnTo>
                    <a:pt x="0" y="3649"/>
                  </a:lnTo>
                  <a:lnTo>
                    <a:pt x="0" y="1844"/>
                  </a:lnTo>
                  <a:lnTo>
                    <a:pt x="0" y="42"/>
                  </a:lnTo>
                  <a:lnTo>
                    <a:pt x="542" y="42"/>
                  </a:lnTo>
                  <a:lnTo>
                    <a:pt x="542" y="250"/>
                  </a:lnTo>
                  <a:lnTo>
                    <a:pt x="583" y="217"/>
                  </a:lnTo>
                  <a:lnTo>
                    <a:pt x="625" y="183"/>
                  </a:lnTo>
                  <a:lnTo>
                    <a:pt x="674" y="157"/>
                  </a:lnTo>
                  <a:lnTo>
                    <a:pt x="695" y="141"/>
                  </a:lnTo>
                  <a:lnTo>
                    <a:pt x="719" y="130"/>
                  </a:lnTo>
                  <a:lnTo>
                    <a:pt x="771" y="105"/>
                  </a:lnTo>
                  <a:lnTo>
                    <a:pt x="818" y="87"/>
                  </a:lnTo>
                  <a:lnTo>
                    <a:pt x="845" y="75"/>
                  </a:lnTo>
                  <a:lnTo>
                    <a:pt x="869" y="69"/>
                  </a:lnTo>
                  <a:lnTo>
                    <a:pt x="924" y="51"/>
                  </a:lnTo>
                  <a:lnTo>
                    <a:pt x="975" y="39"/>
                  </a:lnTo>
                  <a:lnTo>
                    <a:pt x="1029" y="28"/>
                  </a:lnTo>
                  <a:lnTo>
                    <a:pt x="1083" y="18"/>
                  </a:lnTo>
                  <a:lnTo>
                    <a:pt x="1137" y="12"/>
                  </a:lnTo>
                  <a:lnTo>
                    <a:pt x="1188" y="5"/>
                  </a:lnTo>
                  <a:lnTo>
                    <a:pt x="1243" y="3"/>
                  </a:lnTo>
                  <a:lnTo>
                    <a:pt x="1296" y="0"/>
                  </a:lnTo>
                  <a:lnTo>
                    <a:pt x="1347" y="0"/>
                  </a:lnTo>
                  <a:lnTo>
                    <a:pt x="1432" y="3"/>
                  </a:lnTo>
                  <a:lnTo>
                    <a:pt x="1514" y="9"/>
                  </a:lnTo>
                  <a:lnTo>
                    <a:pt x="1588" y="18"/>
                  </a:lnTo>
                  <a:lnTo>
                    <a:pt x="1624" y="21"/>
                  </a:lnTo>
                  <a:lnTo>
                    <a:pt x="1658" y="28"/>
                  </a:lnTo>
                  <a:lnTo>
                    <a:pt x="1724" y="42"/>
                  </a:lnTo>
                  <a:lnTo>
                    <a:pt x="1787" y="57"/>
                  </a:lnTo>
                  <a:lnTo>
                    <a:pt x="1817" y="66"/>
                  </a:lnTo>
                  <a:lnTo>
                    <a:pt x="1847" y="79"/>
                  </a:lnTo>
                  <a:lnTo>
                    <a:pt x="1901" y="100"/>
                  </a:lnTo>
                  <a:lnTo>
                    <a:pt x="1929" y="111"/>
                  </a:lnTo>
                  <a:lnTo>
                    <a:pt x="1952" y="123"/>
                  </a:lnTo>
                  <a:lnTo>
                    <a:pt x="1976" y="138"/>
                  </a:lnTo>
                  <a:lnTo>
                    <a:pt x="2001" y="151"/>
                  </a:lnTo>
                  <a:lnTo>
                    <a:pt x="2046" y="181"/>
                  </a:lnTo>
                  <a:lnTo>
                    <a:pt x="2064" y="195"/>
                  </a:lnTo>
                  <a:lnTo>
                    <a:pt x="2084" y="214"/>
                  </a:lnTo>
                  <a:lnTo>
                    <a:pt x="2124" y="250"/>
                  </a:lnTo>
                  <a:lnTo>
                    <a:pt x="2157" y="286"/>
                  </a:lnTo>
                  <a:lnTo>
                    <a:pt x="2172" y="307"/>
                  </a:lnTo>
                  <a:lnTo>
                    <a:pt x="2190" y="325"/>
                  </a:lnTo>
                  <a:lnTo>
                    <a:pt x="2217" y="367"/>
                  </a:lnTo>
                  <a:lnTo>
                    <a:pt x="2244" y="412"/>
                  </a:lnTo>
                  <a:lnTo>
                    <a:pt x="2268" y="460"/>
                  </a:lnTo>
                  <a:lnTo>
                    <a:pt x="2289" y="509"/>
                  </a:lnTo>
                  <a:lnTo>
                    <a:pt x="2308" y="559"/>
                  </a:lnTo>
                  <a:lnTo>
                    <a:pt x="2323" y="614"/>
                  </a:lnTo>
                  <a:lnTo>
                    <a:pt x="2337" y="671"/>
                  </a:lnTo>
                  <a:lnTo>
                    <a:pt x="2350" y="727"/>
                  </a:lnTo>
                  <a:lnTo>
                    <a:pt x="2361" y="788"/>
                  </a:lnTo>
                  <a:lnTo>
                    <a:pt x="2371" y="851"/>
                  </a:lnTo>
                  <a:lnTo>
                    <a:pt x="2376" y="915"/>
                  </a:lnTo>
                  <a:lnTo>
                    <a:pt x="2382" y="981"/>
                  </a:lnTo>
                  <a:lnTo>
                    <a:pt x="2386" y="1050"/>
                  </a:lnTo>
                  <a:lnTo>
                    <a:pt x="2391" y="1122"/>
                  </a:lnTo>
                  <a:lnTo>
                    <a:pt x="2391" y="1194"/>
                  </a:lnTo>
                  <a:lnTo>
                    <a:pt x="2395" y="1345"/>
                  </a:lnTo>
                  <a:lnTo>
                    <a:pt x="2391" y="1462"/>
                  </a:lnTo>
                  <a:lnTo>
                    <a:pt x="2391" y="1522"/>
                  </a:lnTo>
                  <a:lnTo>
                    <a:pt x="2388" y="1582"/>
                  </a:lnTo>
                  <a:lnTo>
                    <a:pt x="2382" y="1639"/>
                  </a:lnTo>
                  <a:lnTo>
                    <a:pt x="2376" y="1700"/>
                  </a:lnTo>
                  <a:lnTo>
                    <a:pt x="2371" y="1760"/>
                  </a:lnTo>
                  <a:lnTo>
                    <a:pt x="2361" y="1817"/>
                  </a:lnTo>
                  <a:lnTo>
                    <a:pt x="2350" y="1874"/>
                  </a:lnTo>
                  <a:lnTo>
                    <a:pt x="2337" y="1931"/>
                  </a:lnTo>
                  <a:lnTo>
                    <a:pt x="2323" y="1986"/>
                  </a:lnTo>
                  <a:lnTo>
                    <a:pt x="2304" y="2039"/>
                  </a:lnTo>
                  <a:lnTo>
                    <a:pt x="2286" y="2094"/>
                  </a:lnTo>
                  <a:lnTo>
                    <a:pt x="2265" y="2145"/>
                  </a:lnTo>
                  <a:lnTo>
                    <a:pt x="2253" y="2172"/>
                  </a:lnTo>
                  <a:lnTo>
                    <a:pt x="2241" y="2196"/>
                  </a:lnTo>
                  <a:lnTo>
                    <a:pt x="2214" y="2244"/>
                  </a:lnTo>
                  <a:lnTo>
                    <a:pt x="2184" y="2292"/>
                  </a:lnTo>
                  <a:lnTo>
                    <a:pt x="2147" y="2338"/>
                  </a:lnTo>
                  <a:lnTo>
                    <a:pt x="2111" y="2380"/>
                  </a:lnTo>
                  <a:lnTo>
                    <a:pt x="2073" y="2422"/>
                  </a:lnTo>
                  <a:lnTo>
                    <a:pt x="2031" y="2458"/>
                  </a:lnTo>
                  <a:lnTo>
                    <a:pt x="2007" y="2476"/>
                  </a:lnTo>
                  <a:lnTo>
                    <a:pt x="1982" y="2494"/>
                  </a:lnTo>
                  <a:lnTo>
                    <a:pt x="1958" y="2512"/>
                  </a:lnTo>
                  <a:lnTo>
                    <a:pt x="1931" y="2526"/>
                  </a:lnTo>
                  <a:lnTo>
                    <a:pt x="1904" y="2541"/>
                  </a:lnTo>
                  <a:lnTo>
                    <a:pt x="1878" y="2556"/>
                  </a:lnTo>
                  <a:lnTo>
                    <a:pt x="1847" y="2569"/>
                  </a:lnTo>
                  <a:lnTo>
                    <a:pt x="1817" y="2584"/>
                  </a:lnTo>
                  <a:lnTo>
                    <a:pt x="1754" y="2608"/>
                  </a:lnTo>
                  <a:lnTo>
                    <a:pt x="1721" y="2617"/>
                  </a:lnTo>
                  <a:lnTo>
                    <a:pt x="1688" y="2628"/>
                  </a:lnTo>
                  <a:lnTo>
                    <a:pt x="1616" y="2644"/>
                  </a:lnTo>
                  <a:lnTo>
                    <a:pt x="1576" y="2653"/>
                  </a:lnTo>
                  <a:lnTo>
                    <a:pt x="1537" y="2659"/>
                  </a:lnTo>
                  <a:lnTo>
                    <a:pt x="1498" y="2666"/>
                  </a:lnTo>
                  <a:lnTo>
                    <a:pt x="1455" y="2668"/>
                  </a:lnTo>
                  <a:lnTo>
                    <a:pt x="1414" y="2672"/>
                  </a:lnTo>
                  <a:lnTo>
                    <a:pt x="1372" y="2674"/>
                  </a:lnTo>
                  <a:lnTo>
                    <a:pt x="1326" y="2677"/>
                  </a:lnTo>
                  <a:lnTo>
                    <a:pt x="1279" y="2677"/>
                  </a:lnTo>
                  <a:close/>
                  <a:moveTo>
                    <a:pt x="1252" y="532"/>
                  </a:moveTo>
                  <a:lnTo>
                    <a:pt x="1207" y="532"/>
                  </a:lnTo>
                  <a:lnTo>
                    <a:pt x="1161" y="532"/>
                  </a:lnTo>
                  <a:lnTo>
                    <a:pt x="1076" y="541"/>
                  </a:lnTo>
                  <a:lnTo>
                    <a:pt x="1038" y="545"/>
                  </a:lnTo>
                  <a:lnTo>
                    <a:pt x="1002" y="551"/>
                  </a:lnTo>
                  <a:lnTo>
                    <a:pt x="966" y="559"/>
                  </a:lnTo>
                  <a:lnTo>
                    <a:pt x="932" y="568"/>
                  </a:lnTo>
                  <a:lnTo>
                    <a:pt x="902" y="578"/>
                  </a:lnTo>
                  <a:lnTo>
                    <a:pt x="873" y="589"/>
                  </a:lnTo>
                  <a:lnTo>
                    <a:pt x="845" y="602"/>
                  </a:lnTo>
                  <a:lnTo>
                    <a:pt x="818" y="617"/>
                  </a:lnTo>
                  <a:lnTo>
                    <a:pt x="794" y="634"/>
                  </a:lnTo>
                  <a:lnTo>
                    <a:pt x="771" y="653"/>
                  </a:lnTo>
                  <a:lnTo>
                    <a:pt x="749" y="674"/>
                  </a:lnTo>
                  <a:lnTo>
                    <a:pt x="731" y="695"/>
                  </a:lnTo>
                  <a:lnTo>
                    <a:pt x="713" y="719"/>
                  </a:lnTo>
                  <a:lnTo>
                    <a:pt x="695" y="746"/>
                  </a:lnTo>
                  <a:lnTo>
                    <a:pt x="680" y="773"/>
                  </a:lnTo>
                  <a:lnTo>
                    <a:pt x="674" y="788"/>
                  </a:lnTo>
                  <a:lnTo>
                    <a:pt x="668" y="803"/>
                  </a:lnTo>
                  <a:lnTo>
                    <a:pt x="653" y="833"/>
                  </a:lnTo>
                  <a:lnTo>
                    <a:pt x="644" y="869"/>
                  </a:lnTo>
                  <a:lnTo>
                    <a:pt x="635" y="905"/>
                  </a:lnTo>
                  <a:lnTo>
                    <a:pt x="625" y="945"/>
                  </a:lnTo>
                  <a:lnTo>
                    <a:pt x="617" y="983"/>
                  </a:lnTo>
                  <a:lnTo>
                    <a:pt x="610" y="1029"/>
                  </a:lnTo>
                  <a:lnTo>
                    <a:pt x="602" y="1122"/>
                  </a:lnTo>
                  <a:lnTo>
                    <a:pt x="599" y="1173"/>
                  </a:lnTo>
                  <a:lnTo>
                    <a:pt x="596" y="1227"/>
                  </a:lnTo>
                  <a:lnTo>
                    <a:pt x="596" y="1284"/>
                  </a:lnTo>
                  <a:lnTo>
                    <a:pt x="596" y="1345"/>
                  </a:lnTo>
                  <a:lnTo>
                    <a:pt x="596" y="1459"/>
                  </a:lnTo>
                  <a:lnTo>
                    <a:pt x="602" y="1565"/>
                  </a:lnTo>
                  <a:lnTo>
                    <a:pt x="604" y="1612"/>
                  </a:lnTo>
                  <a:lnTo>
                    <a:pt x="610" y="1658"/>
                  </a:lnTo>
                  <a:lnTo>
                    <a:pt x="617" y="1703"/>
                  </a:lnTo>
                  <a:lnTo>
                    <a:pt x="625" y="1741"/>
                  </a:lnTo>
                  <a:lnTo>
                    <a:pt x="629" y="1762"/>
                  </a:lnTo>
                  <a:lnTo>
                    <a:pt x="635" y="1781"/>
                  </a:lnTo>
                  <a:lnTo>
                    <a:pt x="644" y="1817"/>
                  </a:lnTo>
                  <a:lnTo>
                    <a:pt x="653" y="1849"/>
                  </a:lnTo>
                  <a:lnTo>
                    <a:pt x="668" y="1883"/>
                  </a:lnTo>
                  <a:lnTo>
                    <a:pt x="680" y="1913"/>
                  </a:lnTo>
                  <a:lnTo>
                    <a:pt x="695" y="1940"/>
                  </a:lnTo>
                  <a:lnTo>
                    <a:pt x="713" y="1965"/>
                  </a:lnTo>
                  <a:lnTo>
                    <a:pt x="731" y="1988"/>
                  </a:lnTo>
                  <a:lnTo>
                    <a:pt x="749" y="2009"/>
                  </a:lnTo>
                  <a:lnTo>
                    <a:pt x="771" y="2027"/>
                  </a:lnTo>
                  <a:lnTo>
                    <a:pt x="794" y="2046"/>
                  </a:lnTo>
                  <a:lnTo>
                    <a:pt x="807" y="2054"/>
                  </a:lnTo>
                  <a:lnTo>
                    <a:pt x="818" y="2063"/>
                  </a:lnTo>
                  <a:lnTo>
                    <a:pt x="845" y="2079"/>
                  </a:lnTo>
                  <a:lnTo>
                    <a:pt x="873" y="2090"/>
                  </a:lnTo>
                  <a:lnTo>
                    <a:pt x="902" y="2103"/>
                  </a:lnTo>
                  <a:lnTo>
                    <a:pt x="932" y="2111"/>
                  </a:lnTo>
                  <a:lnTo>
                    <a:pt x="966" y="2120"/>
                  </a:lnTo>
                  <a:lnTo>
                    <a:pt x="1002" y="2126"/>
                  </a:lnTo>
                  <a:lnTo>
                    <a:pt x="1038" y="2133"/>
                  </a:lnTo>
                  <a:lnTo>
                    <a:pt x="1076" y="2139"/>
                  </a:lnTo>
                  <a:lnTo>
                    <a:pt x="1116" y="2141"/>
                  </a:lnTo>
                  <a:lnTo>
                    <a:pt x="1161" y="2145"/>
                  </a:lnTo>
                  <a:lnTo>
                    <a:pt x="1207" y="2145"/>
                  </a:lnTo>
                  <a:lnTo>
                    <a:pt x="1252" y="2145"/>
                  </a:lnTo>
                  <a:lnTo>
                    <a:pt x="1294" y="2145"/>
                  </a:lnTo>
                  <a:lnTo>
                    <a:pt x="1332" y="2145"/>
                  </a:lnTo>
                  <a:lnTo>
                    <a:pt x="1368" y="2141"/>
                  </a:lnTo>
                  <a:lnTo>
                    <a:pt x="1404" y="2136"/>
                  </a:lnTo>
                  <a:lnTo>
                    <a:pt x="1438" y="2130"/>
                  </a:lnTo>
                  <a:lnTo>
                    <a:pt x="1468" y="2124"/>
                  </a:lnTo>
                  <a:lnTo>
                    <a:pt x="1498" y="2115"/>
                  </a:lnTo>
                  <a:lnTo>
                    <a:pt x="1525" y="2105"/>
                  </a:lnTo>
                  <a:lnTo>
                    <a:pt x="1552" y="2094"/>
                  </a:lnTo>
                  <a:lnTo>
                    <a:pt x="1576" y="2082"/>
                  </a:lnTo>
                  <a:lnTo>
                    <a:pt x="1597" y="2067"/>
                  </a:lnTo>
                  <a:lnTo>
                    <a:pt x="1618" y="2052"/>
                  </a:lnTo>
                  <a:lnTo>
                    <a:pt x="1639" y="2033"/>
                  </a:lnTo>
                  <a:lnTo>
                    <a:pt x="1658" y="2016"/>
                  </a:lnTo>
                  <a:lnTo>
                    <a:pt x="1675" y="1995"/>
                  </a:lnTo>
                  <a:lnTo>
                    <a:pt x="1690" y="1970"/>
                  </a:lnTo>
                  <a:lnTo>
                    <a:pt x="1705" y="1946"/>
                  </a:lnTo>
                  <a:lnTo>
                    <a:pt x="1718" y="1922"/>
                  </a:lnTo>
                  <a:lnTo>
                    <a:pt x="1730" y="1893"/>
                  </a:lnTo>
                  <a:lnTo>
                    <a:pt x="1739" y="1865"/>
                  </a:lnTo>
                  <a:lnTo>
                    <a:pt x="1751" y="1832"/>
                  </a:lnTo>
                  <a:lnTo>
                    <a:pt x="1757" y="1798"/>
                  </a:lnTo>
                  <a:lnTo>
                    <a:pt x="1766" y="1762"/>
                  </a:lnTo>
                  <a:lnTo>
                    <a:pt x="1772" y="1724"/>
                  </a:lnTo>
                  <a:lnTo>
                    <a:pt x="1778" y="1684"/>
                  </a:lnTo>
                  <a:lnTo>
                    <a:pt x="1781" y="1643"/>
                  </a:lnTo>
                  <a:lnTo>
                    <a:pt x="1787" y="1597"/>
                  </a:lnTo>
                  <a:lnTo>
                    <a:pt x="1790" y="1552"/>
                  </a:lnTo>
                  <a:lnTo>
                    <a:pt x="1793" y="1453"/>
                  </a:lnTo>
                  <a:lnTo>
                    <a:pt x="1793" y="1345"/>
                  </a:lnTo>
                  <a:lnTo>
                    <a:pt x="1793" y="1288"/>
                  </a:lnTo>
                  <a:lnTo>
                    <a:pt x="1793" y="1237"/>
                  </a:lnTo>
                  <a:lnTo>
                    <a:pt x="1790" y="1134"/>
                  </a:lnTo>
                  <a:lnTo>
                    <a:pt x="1787" y="1089"/>
                  </a:lnTo>
                  <a:lnTo>
                    <a:pt x="1781" y="1044"/>
                  </a:lnTo>
                  <a:lnTo>
                    <a:pt x="1772" y="962"/>
                  </a:lnTo>
                  <a:lnTo>
                    <a:pt x="1766" y="924"/>
                  </a:lnTo>
                  <a:lnTo>
                    <a:pt x="1757" y="887"/>
                  </a:lnTo>
                  <a:lnTo>
                    <a:pt x="1751" y="854"/>
                  </a:lnTo>
                  <a:lnTo>
                    <a:pt x="1739" y="822"/>
                  </a:lnTo>
                  <a:lnTo>
                    <a:pt x="1730" y="791"/>
                  </a:lnTo>
                  <a:lnTo>
                    <a:pt x="1718" y="761"/>
                  </a:lnTo>
                  <a:lnTo>
                    <a:pt x="1705" y="737"/>
                  </a:lnTo>
                  <a:lnTo>
                    <a:pt x="1690" y="710"/>
                  </a:lnTo>
                  <a:lnTo>
                    <a:pt x="1675" y="689"/>
                  </a:lnTo>
                  <a:lnTo>
                    <a:pt x="1658" y="668"/>
                  </a:lnTo>
                  <a:lnTo>
                    <a:pt x="1639" y="647"/>
                  </a:lnTo>
                  <a:lnTo>
                    <a:pt x="1618" y="629"/>
                  </a:lnTo>
                  <a:lnTo>
                    <a:pt x="1597" y="614"/>
                  </a:lnTo>
                  <a:lnTo>
                    <a:pt x="1576" y="598"/>
                  </a:lnTo>
                  <a:lnTo>
                    <a:pt x="1552" y="583"/>
                  </a:lnTo>
                  <a:lnTo>
                    <a:pt x="1525" y="574"/>
                  </a:lnTo>
                  <a:lnTo>
                    <a:pt x="1498" y="562"/>
                  </a:lnTo>
                  <a:lnTo>
                    <a:pt x="1468" y="553"/>
                  </a:lnTo>
                  <a:lnTo>
                    <a:pt x="1438" y="547"/>
                  </a:lnTo>
                  <a:lnTo>
                    <a:pt x="1404" y="541"/>
                  </a:lnTo>
                  <a:lnTo>
                    <a:pt x="1368" y="538"/>
                  </a:lnTo>
                  <a:lnTo>
                    <a:pt x="1332" y="536"/>
                  </a:lnTo>
                  <a:lnTo>
                    <a:pt x="1294" y="532"/>
                  </a:lnTo>
                  <a:lnTo>
                    <a:pt x="1252" y="532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73360" y="624240"/>
              <a:ext cx="91800" cy="517680"/>
            </a:xfrm>
            <a:custGeom>
              <a:avLst/>
              <a:gdLst/>
              <a:ahLst/>
              <a:rect l="l" t="t" r="r" b="b"/>
              <a:pathLst>
                <a:path w="602" h="3540">
                  <a:moveTo>
                    <a:pt x="0" y="3540"/>
                  </a:moveTo>
                  <a:lnTo>
                    <a:pt x="0" y="1769"/>
                  </a:lnTo>
                  <a:lnTo>
                    <a:pt x="0" y="0"/>
                  </a:lnTo>
                  <a:lnTo>
                    <a:pt x="602" y="0"/>
                  </a:lnTo>
                  <a:lnTo>
                    <a:pt x="602" y="1769"/>
                  </a:lnTo>
                  <a:lnTo>
                    <a:pt x="602" y="3540"/>
                  </a:lnTo>
                  <a:lnTo>
                    <a:pt x="0" y="3540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17720" y="762840"/>
              <a:ext cx="345960" cy="385200"/>
            </a:xfrm>
            <a:custGeom>
              <a:avLst/>
              <a:gdLst/>
              <a:ahLst/>
              <a:rect l="l" t="t" r="r" b="b"/>
              <a:pathLst>
                <a:path w="2273" h="2635">
                  <a:moveTo>
                    <a:pt x="1754" y="2593"/>
                  </a:moveTo>
                  <a:lnTo>
                    <a:pt x="1754" y="2385"/>
                  </a:lnTo>
                  <a:lnTo>
                    <a:pt x="1723" y="2410"/>
                  </a:lnTo>
                  <a:lnTo>
                    <a:pt x="1693" y="2434"/>
                  </a:lnTo>
                  <a:lnTo>
                    <a:pt x="1661" y="2457"/>
                  </a:lnTo>
                  <a:lnTo>
                    <a:pt x="1625" y="2478"/>
                  </a:lnTo>
                  <a:lnTo>
                    <a:pt x="1589" y="2503"/>
                  </a:lnTo>
                  <a:lnTo>
                    <a:pt x="1546" y="2521"/>
                  </a:lnTo>
                  <a:lnTo>
                    <a:pt x="1504" y="2542"/>
                  </a:lnTo>
                  <a:lnTo>
                    <a:pt x="1458" y="2560"/>
                  </a:lnTo>
                  <a:lnTo>
                    <a:pt x="1413" y="2575"/>
                  </a:lnTo>
                  <a:lnTo>
                    <a:pt x="1362" y="2590"/>
                  </a:lnTo>
                  <a:lnTo>
                    <a:pt x="1312" y="2602"/>
                  </a:lnTo>
                  <a:lnTo>
                    <a:pt x="1254" y="2614"/>
                  </a:lnTo>
                  <a:lnTo>
                    <a:pt x="1197" y="2624"/>
                  </a:lnTo>
                  <a:lnTo>
                    <a:pt x="1134" y="2630"/>
                  </a:lnTo>
                  <a:lnTo>
                    <a:pt x="1071" y="2632"/>
                  </a:lnTo>
                  <a:lnTo>
                    <a:pt x="1005" y="2635"/>
                  </a:lnTo>
                  <a:lnTo>
                    <a:pt x="956" y="2635"/>
                  </a:lnTo>
                  <a:lnTo>
                    <a:pt x="908" y="2632"/>
                  </a:lnTo>
                  <a:lnTo>
                    <a:pt x="821" y="2626"/>
                  </a:lnTo>
                  <a:lnTo>
                    <a:pt x="779" y="2624"/>
                  </a:lnTo>
                  <a:lnTo>
                    <a:pt x="736" y="2617"/>
                  </a:lnTo>
                  <a:lnTo>
                    <a:pt x="698" y="2611"/>
                  </a:lnTo>
                  <a:lnTo>
                    <a:pt x="662" y="2605"/>
                  </a:lnTo>
                  <a:lnTo>
                    <a:pt x="626" y="2596"/>
                  </a:lnTo>
                  <a:lnTo>
                    <a:pt x="590" y="2590"/>
                  </a:lnTo>
                  <a:lnTo>
                    <a:pt x="524" y="2569"/>
                  </a:lnTo>
                  <a:lnTo>
                    <a:pt x="463" y="2548"/>
                  </a:lnTo>
                  <a:lnTo>
                    <a:pt x="433" y="2535"/>
                  </a:lnTo>
                  <a:lnTo>
                    <a:pt x="406" y="2524"/>
                  </a:lnTo>
                  <a:lnTo>
                    <a:pt x="378" y="2509"/>
                  </a:lnTo>
                  <a:lnTo>
                    <a:pt x="355" y="2493"/>
                  </a:lnTo>
                  <a:lnTo>
                    <a:pt x="306" y="2463"/>
                  </a:lnTo>
                  <a:lnTo>
                    <a:pt x="285" y="2448"/>
                  </a:lnTo>
                  <a:lnTo>
                    <a:pt x="264" y="2431"/>
                  </a:lnTo>
                  <a:lnTo>
                    <a:pt x="247" y="2416"/>
                  </a:lnTo>
                  <a:lnTo>
                    <a:pt x="228" y="2397"/>
                  </a:lnTo>
                  <a:lnTo>
                    <a:pt x="192" y="2359"/>
                  </a:lnTo>
                  <a:lnTo>
                    <a:pt x="162" y="2319"/>
                  </a:lnTo>
                  <a:lnTo>
                    <a:pt x="147" y="2298"/>
                  </a:lnTo>
                  <a:lnTo>
                    <a:pt x="135" y="2277"/>
                  </a:lnTo>
                  <a:lnTo>
                    <a:pt x="111" y="2235"/>
                  </a:lnTo>
                  <a:lnTo>
                    <a:pt x="90" y="2190"/>
                  </a:lnTo>
                  <a:lnTo>
                    <a:pt x="81" y="2166"/>
                  </a:lnTo>
                  <a:lnTo>
                    <a:pt x="72" y="2145"/>
                  </a:lnTo>
                  <a:lnTo>
                    <a:pt x="54" y="2097"/>
                  </a:lnTo>
                  <a:lnTo>
                    <a:pt x="42" y="2048"/>
                  </a:lnTo>
                  <a:lnTo>
                    <a:pt x="33" y="1997"/>
                  </a:lnTo>
                  <a:lnTo>
                    <a:pt x="24" y="1946"/>
                  </a:lnTo>
                  <a:lnTo>
                    <a:pt x="14" y="1895"/>
                  </a:lnTo>
                  <a:lnTo>
                    <a:pt x="12" y="1841"/>
                  </a:lnTo>
                  <a:lnTo>
                    <a:pt x="6" y="1790"/>
                  </a:lnTo>
                  <a:lnTo>
                    <a:pt x="3" y="1735"/>
                  </a:lnTo>
                  <a:lnTo>
                    <a:pt x="0" y="1627"/>
                  </a:lnTo>
                  <a:lnTo>
                    <a:pt x="0" y="1413"/>
                  </a:lnTo>
                  <a:lnTo>
                    <a:pt x="0" y="0"/>
                  </a:lnTo>
                  <a:lnTo>
                    <a:pt x="601" y="0"/>
                  </a:lnTo>
                  <a:lnTo>
                    <a:pt x="601" y="1366"/>
                  </a:lnTo>
                  <a:lnTo>
                    <a:pt x="598" y="1540"/>
                  </a:lnTo>
                  <a:lnTo>
                    <a:pt x="598" y="1618"/>
                  </a:lnTo>
                  <a:lnTo>
                    <a:pt x="601" y="1690"/>
                  </a:lnTo>
                  <a:lnTo>
                    <a:pt x="605" y="1727"/>
                  </a:lnTo>
                  <a:lnTo>
                    <a:pt x="605" y="1756"/>
                  </a:lnTo>
                  <a:lnTo>
                    <a:pt x="613" y="1817"/>
                  </a:lnTo>
                  <a:lnTo>
                    <a:pt x="619" y="1847"/>
                  </a:lnTo>
                  <a:lnTo>
                    <a:pt x="622" y="1859"/>
                  </a:lnTo>
                  <a:lnTo>
                    <a:pt x="626" y="1874"/>
                  </a:lnTo>
                  <a:lnTo>
                    <a:pt x="632" y="1898"/>
                  </a:lnTo>
                  <a:lnTo>
                    <a:pt x="641" y="1923"/>
                  </a:lnTo>
                  <a:lnTo>
                    <a:pt x="653" y="1944"/>
                  </a:lnTo>
                  <a:lnTo>
                    <a:pt x="664" y="1964"/>
                  </a:lnTo>
                  <a:lnTo>
                    <a:pt x="679" y="1982"/>
                  </a:lnTo>
                  <a:lnTo>
                    <a:pt x="694" y="2000"/>
                  </a:lnTo>
                  <a:lnTo>
                    <a:pt x="713" y="2018"/>
                  </a:lnTo>
                  <a:lnTo>
                    <a:pt x="721" y="2025"/>
                  </a:lnTo>
                  <a:lnTo>
                    <a:pt x="734" y="2033"/>
                  </a:lnTo>
                  <a:lnTo>
                    <a:pt x="755" y="2046"/>
                  </a:lnTo>
                  <a:lnTo>
                    <a:pt x="779" y="2057"/>
                  </a:lnTo>
                  <a:lnTo>
                    <a:pt x="806" y="2069"/>
                  </a:lnTo>
                  <a:lnTo>
                    <a:pt x="836" y="2078"/>
                  </a:lnTo>
                  <a:lnTo>
                    <a:pt x="869" y="2084"/>
                  </a:lnTo>
                  <a:lnTo>
                    <a:pt x="903" y="2094"/>
                  </a:lnTo>
                  <a:lnTo>
                    <a:pt x="941" y="2097"/>
                  </a:lnTo>
                  <a:lnTo>
                    <a:pt x="984" y="2099"/>
                  </a:lnTo>
                  <a:lnTo>
                    <a:pt x="1026" y="2103"/>
                  </a:lnTo>
                  <a:lnTo>
                    <a:pt x="1074" y="2103"/>
                  </a:lnTo>
                  <a:lnTo>
                    <a:pt x="1130" y="2103"/>
                  </a:lnTo>
                  <a:lnTo>
                    <a:pt x="1187" y="2099"/>
                  </a:lnTo>
                  <a:lnTo>
                    <a:pt x="1236" y="2094"/>
                  </a:lnTo>
                  <a:lnTo>
                    <a:pt x="1261" y="2088"/>
                  </a:lnTo>
                  <a:lnTo>
                    <a:pt x="1284" y="2084"/>
                  </a:lnTo>
                  <a:lnTo>
                    <a:pt x="1308" y="2078"/>
                  </a:lnTo>
                  <a:lnTo>
                    <a:pt x="1329" y="2073"/>
                  </a:lnTo>
                  <a:lnTo>
                    <a:pt x="1369" y="2061"/>
                  </a:lnTo>
                  <a:lnTo>
                    <a:pt x="1407" y="2046"/>
                  </a:lnTo>
                  <a:lnTo>
                    <a:pt x="1441" y="2027"/>
                  </a:lnTo>
                  <a:lnTo>
                    <a:pt x="1471" y="2006"/>
                  </a:lnTo>
                  <a:lnTo>
                    <a:pt x="1486" y="1997"/>
                  </a:lnTo>
                  <a:lnTo>
                    <a:pt x="1498" y="1985"/>
                  </a:lnTo>
                  <a:lnTo>
                    <a:pt x="1525" y="1964"/>
                  </a:lnTo>
                  <a:lnTo>
                    <a:pt x="1549" y="1938"/>
                  </a:lnTo>
                  <a:lnTo>
                    <a:pt x="1558" y="1925"/>
                  </a:lnTo>
                  <a:lnTo>
                    <a:pt x="1566" y="1913"/>
                  </a:lnTo>
                  <a:lnTo>
                    <a:pt x="1576" y="1898"/>
                  </a:lnTo>
                  <a:lnTo>
                    <a:pt x="1585" y="1883"/>
                  </a:lnTo>
                  <a:lnTo>
                    <a:pt x="1603" y="1856"/>
                  </a:lnTo>
                  <a:lnTo>
                    <a:pt x="1610" y="1841"/>
                  </a:lnTo>
                  <a:lnTo>
                    <a:pt x="1615" y="1823"/>
                  </a:lnTo>
                  <a:lnTo>
                    <a:pt x="1627" y="1792"/>
                  </a:lnTo>
                  <a:lnTo>
                    <a:pt x="1639" y="1760"/>
                  </a:lnTo>
                  <a:lnTo>
                    <a:pt x="1648" y="1724"/>
                  </a:lnTo>
                  <a:lnTo>
                    <a:pt x="1654" y="1688"/>
                  </a:lnTo>
                  <a:lnTo>
                    <a:pt x="1661" y="1652"/>
                  </a:lnTo>
                  <a:lnTo>
                    <a:pt x="1663" y="1616"/>
                  </a:lnTo>
                  <a:lnTo>
                    <a:pt x="1669" y="1576"/>
                  </a:lnTo>
                  <a:lnTo>
                    <a:pt x="1669" y="1538"/>
                  </a:lnTo>
                  <a:lnTo>
                    <a:pt x="1672" y="1456"/>
                  </a:lnTo>
                  <a:lnTo>
                    <a:pt x="1672" y="1375"/>
                  </a:lnTo>
                  <a:lnTo>
                    <a:pt x="1672" y="1206"/>
                  </a:lnTo>
                  <a:lnTo>
                    <a:pt x="1672" y="0"/>
                  </a:lnTo>
                  <a:lnTo>
                    <a:pt x="2273" y="0"/>
                  </a:lnTo>
                  <a:lnTo>
                    <a:pt x="2273" y="1297"/>
                  </a:lnTo>
                  <a:lnTo>
                    <a:pt x="2273" y="2593"/>
                  </a:lnTo>
                  <a:lnTo>
                    <a:pt x="1754" y="2593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0840" y="756720"/>
              <a:ext cx="348840" cy="391320"/>
            </a:xfrm>
            <a:custGeom>
              <a:avLst/>
              <a:gdLst/>
              <a:ahLst/>
              <a:rect l="l" t="t" r="r" b="b"/>
              <a:pathLst>
                <a:path w="2292" h="2677">
                  <a:moveTo>
                    <a:pt x="1742" y="818"/>
                  </a:moveTo>
                  <a:lnTo>
                    <a:pt x="1738" y="773"/>
                  </a:lnTo>
                  <a:lnTo>
                    <a:pt x="1738" y="752"/>
                  </a:lnTo>
                  <a:lnTo>
                    <a:pt x="1735" y="734"/>
                  </a:lnTo>
                  <a:lnTo>
                    <a:pt x="1729" y="712"/>
                  </a:lnTo>
                  <a:lnTo>
                    <a:pt x="1727" y="695"/>
                  </a:lnTo>
                  <a:lnTo>
                    <a:pt x="1721" y="680"/>
                  </a:lnTo>
                  <a:lnTo>
                    <a:pt x="1714" y="661"/>
                  </a:lnTo>
                  <a:lnTo>
                    <a:pt x="1708" y="647"/>
                  </a:lnTo>
                  <a:lnTo>
                    <a:pt x="1699" y="632"/>
                  </a:lnTo>
                  <a:lnTo>
                    <a:pt x="1691" y="619"/>
                  </a:lnTo>
                  <a:lnTo>
                    <a:pt x="1681" y="604"/>
                  </a:lnTo>
                  <a:lnTo>
                    <a:pt x="1672" y="593"/>
                  </a:lnTo>
                  <a:lnTo>
                    <a:pt x="1660" y="583"/>
                  </a:lnTo>
                  <a:lnTo>
                    <a:pt x="1648" y="572"/>
                  </a:lnTo>
                  <a:lnTo>
                    <a:pt x="1632" y="562"/>
                  </a:lnTo>
                  <a:lnTo>
                    <a:pt x="1603" y="545"/>
                  </a:lnTo>
                  <a:lnTo>
                    <a:pt x="1567" y="530"/>
                  </a:lnTo>
                  <a:lnTo>
                    <a:pt x="1528" y="517"/>
                  </a:lnTo>
                  <a:lnTo>
                    <a:pt x="1486" y="505"/>
                  </a:lnTo>
                  <a:lnTo>
                    <a:pt x="1437" y="496"/>
                  </a:lnTo>
                  <a:lnTo>
                    <a:pt x="1384" y="490"/>
                  </a:lnTo>
                  <a:lnTo>
                    <a:pt x="1327" y="487"/>
                  </a:lnTo>
                  <a:lnTo>
                    <a:pt x="1263" y="484"/>
                  </a:lnTo>
                  <a:lnTo>
                    <a:pt x="1170" y="481"/>
                  </a:lnTo>
                  <a:lnTo>
                    <a:pt x="1088" y="484"/>
                  </a:lnTo>
                  <a:lnTo>
                    <a:pt x="1052" y="487"/>
                  </a:lnTo>
                  <a:lnTo>
                    <a:pt x="1016" y="490"/>
                  </a:lnTo>
                  <a:lnTo>
                    <a:pt x="950" y="496"/>
                  </a:lnTo>
                  <a:lnTo>
                    <a:pt x="923" y="502"/>
                  </a:lnTo>
                  <a:lnTo>
                    <a:pt x="896" y="505"/>
                  </a:lnTo>
                  <a:lnTo>
                    <a:pt x="845" y="521"/>
                  </a:lnTo>
                  <a:lnTo>
                    <a:pt x="806" y="536"/>
                  </a:lnTo>
                  <a:lnTo>
                    <a:pt x="785" y="545"/>
                  </a:lnTo>
                  <a:lnTo>
                    <a:pt x="770" y="553"/>
                  </a:lnTo>
                  <a:lnTo>
                    <a:pt x="739" y="572"/>
                  </a:lnTo>
                  <a:lnTo>
                    <a:pt x="728" y="583"/>
                  </a:lnTo>
                  <a:lnTo>
                    <a:pt x="715" y="593"/>
                  </a:lnTo>
                  <a:lnTo>
                    <a:pt x="707" y="604"/>
                  </a:lnTo>
                  <a:lnTo>
                    <a:pt x="698" y="617"/>
                  </a:lnTo>
                  <a:lnTo>
                    <a:pt x="688" y="629"/>
                  </a:lnTo>
                  <a:lnTo>
                    <a:pt x="683" y="644"/>
                  </a:lnTo>
                  <a:lnTo>
                    <a:pt x="677" y="655"/>
                  </a:lnTo>
                  <a:lnTo>
                    <a:pt x="671" y="671"/>
                  </a:lnTo>
                  <a:lnTo>
                    <a:pt x="664" y="697"/>
                  </a:lnTo>
                  <a:lnTo>
                    <a:pt x="658" y="727"/>
                  </a:lnTo>
                  <a:lnTo>
                    <a:pt x="658" y="761"/>
                  </a:lnTo>
                  <a:lnTo>
                    <a:pt x="658" y="812"/>
                  </a:lnTo>
                  <a:lnTo>
                    <a:pt x="658" y="833"/>
                  </a:lnTo>
                  <a:lnTo>
                    <a:pt x="662" y="858"/>
                  </a:lnTo>
                  <a:lnTo>
                    <a:pt x="664" y="875"/>
                  </a:lnTo>
                  <a:lnTo>
                    <a:pt x="671" y="896"/>
                  </a:lnTo>
                  <a:lnTo>
                    <a:pt x="677" y="911"/>
                  </a:lnTo>
                  <a:lnTo>
                    <a:pt x="683" y="930"/>
                  </a:lnTo>
                  <a:lnTo>
                    <a:pt x="688" y="945"/>
                  </a:lnTo>
                  <a:lnTo>
                    <a:pt x="698" y="957"/>
                  </a:lnTo>
                  <a:lnTo>
                    <a:pt x="707" y="968"/>
                  </a:lnTo>
                  <a:lnTo>
                    <a:pt x="715" y="981"/>
                  </a:lnTo>
                  <a:lnTo>
                    <a:pt x="728" y="993"/>
                  </a:lnTo>
                  <a:lnTo>
                    <a:pt x="739" y="1002"/>
                  </a:lnTo>
                  <a:lnTo>
                    <a:pt x="751" y="1011"/>
                  </a:lnTo>
                  <a:lnTo>
                    <a:pt x="766" y="1017"/>
                  </a:lnTo>
                  <a:lnTo>
                    <a:pt x="794" y="1032"/>
                  </a:lnTo>
                  <a:lnTo>
                    <a:pt x="812" y="1034"/>
                  </a:lnTo>
                  <a:lnTo>
                    <a:pt x="827" y="1040"/>
                  </a:lnTo>
                  <a:lnTo>
                    <a:pt x="863" y="1047"/>
                  </a:lnTo>
                  <a:lnTo>
                    <a:pt x="899" y="1053"/>
                  </a:lnTo>
                  <a:lnTo>
                    <a:pt x="941" y="1059"/>
                  </a:lnTo>
                  <a:lnTo>
                    <a:pt x="984" y="1062"/>
                  </a:lnTo>
                  <a:lnTo>
                    <a:pt x="1077" y="1068"/>
                  </a:lnTo>
                  <a:lnTo>
                    <a:pt x="1299" y="1080"/>
                  </a:lnTo>
                  <a:lnTo>
                    <a:pt x="1356" y="1083"/>
                  </a:lnTo>
                  <a:lnTo>
                    <a:pt x="1410" y="1086"/>
                  </a:lnTo>
                  <a:lnTo>
                    <a:pt x="1465" y="1089"/>
                  </a:lnTo>
                  <a:lnTo>
                    <a:pt x="1518" y="1095"/>
                  </a:lnTo>
                  <a:lnTo>
                    <a:pt x="1621" y="1107"/>
                  </a:lnTo>
                  <a:lnTo>
                    <a:pt x="1672" y="1116"/>
                  </a:lnTo>
                  <a:lnTo>
                    <a:pt x="1723" y="1125"/>
                  </a:lnTo>
                  <a:lnTo>
                    <a:pt x="1771" y="1134"/>
                  </a:lnTo>
                  <a:lnTo>
                    <a:pt x="1816" y="1150"/>
                  </a:lnTo>
                  <a:lnTo>
                    <a:pt x="1861" y="1165"/>
                  </a:lnTo>
                  <a:lnTo>
                    <a:pt x="1907" y="1179"/>
                  </a:lnTo>
                  <a:lnTo>
                    <a:pt x="1949" y="1201"/>
                  </a:lnTo>
                  <a:lnTo>
                    <a:pt x="1988" y="1222"/>
                  </a:lnTo>
                  <a:lnTo>
                    <a:pt x="2024" y="1245"/>
                  </a:lnTo>
                  <a:lnTo>
                    <a:pt x="2042" y="1258"/>
                  </a:lnTo>
                  <a:lnTo>
                    <a:pt x="2060" y="1273"/>
                  </a:lnTo>
                  <a:lnTo>
                    <a:pt x="2093" y="1303"/>
                  </a:lnTo>
                  <a:lnTo>
                    <a:pt x="2127" y="1336"/>
                  </a:lnTo>
                  <a:lnTo>
                    <a:pt x="2153" y="1372"/>
                  </a:lnTo>
                  <a:lnTo>
                    <a:pt x="2165" y="1393"/>
                  </a:lnTo>
                  <a:lnTo>
                    <a:pt x="2180" y="1413"/>
                  </a:lnTo>
                  <a:lnTo>
                    <a:pt x="2201" y="1459"/>
                  </a:lnTo>
                  <a:lnTo>
                    <a:pt x="2214" y="1480"/>
                  </a:lnTo>
                  <a:lnTo>
                    <a:pt x="2223" y="1506"/>
                  </a:lnTo>
                  <a:lnTo>
                    <a:pt x="2241" y="1558"/>
                  </a:lnTo>
                  <a:lnTo>
                    <a:pt x="2252" y="1616"/>
                  </a:lnTo>
                  <a:lnTo>
                    <a:pt x="2259" y="1643"/>
                  </a:lnTo>
                  <a:lnTo>
                    <a:pt x="2265" y="1675"/>
                  </a:lnTo>
                  <a:lnTo>
                    <a:pt x="2274" y="1741"/>
                  </a:lnTo>
                  <a:lnTo>
                    <a:pt x="2274" y="1775"/>
                  </a:lnTo>
                  <a:lnTo>
                    <a:pt x="2277" y="1811"/>
                  </a:lnTo>
                  <a:lnTo>
                    <a:pt x="2277" y="1886"/>
                  </a:lnTo>
                  <a:lnTo>
                    <a:pt x="2274" y="1944"/>
                  </a:lnTo>
                  <a:lnTo>
                    <a:pt x="2267" y="2001"/>
                  </a:lnTo>
                  <a:lnTo>
                    <a:pt x="2265" y="2027"/>
                  </a:lnTo>
                  <a:lnTo>
                    <a:pt x="2261" y="2052"/>
                  </a:lnTo>
                  <a:lnTo>
                    <a:pt x="2250" y="2103"/>
                  </a:lnTo>
                  <a:lnTo>
                    <a:pt x="2244" y="2126"/>
                  </a:lnTo>
                  <a:lnTo>
                    <a:pt x="2237" y="2151"/>
                  </a:lnTo>
                  <a:lnTo>
                    <a:pt x="2229" y="2175"/>
                  </a:lnTo>
                  <a:lnTo>
                    <a:pt x="2223" y="2196"/>
                  </a:lnTo>
                  <a:lnTo>
                    <a:pt x="2204" y="2238"/>
                  </a:lnTo>
                  <a:lnTo>
                    <a:pt x="2184" y="2280"/>
                  </a:lnTo>
                  <a:lnTo>
                    <a:pt x="2159" y="2316"/>
                  </a:lnTo>
                  <a:lnTo>
                    <a:pt x="2132" y="2352"/>
                  </a:lnTo>
                  <a:lnTo>
                    <a:pt x="2106" y="2388"/>
                  </a:lnTo>
                  <a:lnTo>
                    <a:pt x="2075" y="2418"/>
                  </a:lnTo>
                  <a:lnTo>
                    <a:pt x="2060" y="2433"/>
                  </a:lnTo>
                  <a:lnTo>
                    <a:pt x="2042" y="2448"/>
                  </a:lnTo>
                  <a:lnTo>
                    <a:pt x="2027" y="2461"/>
                  </a:lnTo>
                  <a:lnTo>
                    <a:pt x="2009" y="2476"/>
                  </a:lnTo>
                  <a:lnTo>
                    <a:pt x="1973" y="2499"/>
                  </a:lnTo>
                  <a:lnTo>
                    <a:pt x="1934" y="2524"/>
                  </a:lnTo>
                  <a:lnTo>
                    <a:pt x="1892" y="2545"/>
                  </a:lnTo>
                  <a:lnTo>
                    <a:pt x="1850" y="2566"/>
                  </a:lnTo>
                  <a:lnTo>
                    <a:pt x="1805" y="2584"/>
                  </a:lnTo>
                  <a:lnTo>
                    <a:pt x="1784" y="2590"/>
                  </a:lnTo>
                  <a:lnTo>
                    <a:pt x="1759" y="2599"/>
                  </a:lnTo>
                  <a:lnTo>
                    <a:pt x="1712" y="2615"/>
                  </a:lnTo>
                  <a:lnTo>
                    <a:pt x="1660" y="2626"/>
                  </a:lnTo>
                  <a:lnTo>
                    <a:pt x="1609" y="2638"/>
                  </a:lnTo>
                  <a:lnTo>
                    <a:pt x="1555" y="2647"/>
                  </a:lnTo>
                  <a:lnTo>
                    <a:pt x="1501" y="2656"/>
                  </a:lnTo>
                  <a:lnTo>
                    <a:pt x="1443" y="2662"/>
                  </a:lnTo>
                  <a:lnTo>
                    <a:pt x="1386" y="2668"/>
                  </a:lnTo>
                  <a:lnTo>
                    <a:pt x="1327" y="2672"/>
                  </a:lnTo>
                  <a:lnTo>
                    <a:pt x="1266" y="2674"/>
                  </a:lnTo>
                  <a:lnTo>
                    <a:pt x="1206" y="2677"/>
                  </a:lnTo>
                  <a:lnTo>
                    <a:pt x="1077" y="2677"/>
                  </a:lnTo>
                  <a:lnTo>
                    <a:pt x="956" y="2672"/>
                  </a:lnTo>
                  <a:lnTo>
                    <a:pt x="899" y="2668"/>
                  </a:lnTo>
                  <a:lnTo>
                    <a:pt x="842" y="2666"/>
                  </a:lnTo>
                  <a:lnTo>
                    <a:pt x="788" y="2659"/>
                  </a:lnTo>
                  <a:lnTo>
                    <a:pt x="734" y="2653"/>
                  </a:lnTo>
                  <a:lnTo>
                    <a:pt x="683" y="2644"/>
                  </a:lnTo>
                  <a:lnTo>
                    <a:pt x="635" y="2635"/>
                  </a:lnTo>
                  <a:lnTo>
                    <a:pt x="584" y="2623"/>
                  </a:lnTo>
                  <a:lnTo>
                    <a:pt x="538" y="2611"/>
                  </a:lnTo>
                  <a:lnTo>
                    <a:pt x="493" y="2596"/>
                  </a:lnTo>
                  <a:lnTo>
                    <a:pt x="448" y="2581"/>
                  </a:lnTo>
                  <a:lnTo>
                    <a:pt x="406" y="2563"/>
                  </a:lnTo>
                  <a:lnTo>
                    <a:pt x="366" y="2545"/>
                  </a:lnTo>
                  <a:lnTo>
                    <a:pt x="330" y="2524"/>
                  </a:lnTo>
                  <a:lnTo>
                    <a:pt x="294" y="2503"/>
                  </a:lnTo>
                  <a:lnTo>
                    <a:pt x="258" y="2479"/>
                  </a:lnTo>
                  <a:lnTo>
                    <a:pt x="226" y="2452"/>
                  </a:lnTo>
                  <a:lnTo>
                    <a:pt x="195" y="2425"/>
                  </a:lnTo>
                  <a:lnTo>
                    <a:pt x="169" y="2395"/>
                  </a:lnTo>
                  <a:lnTo>
                    <a:pt x="141" y="2361"/>
                  </a:lnTo>
                  <a:lnTo>
                    <a:pt x="117" y="2329"/>
                  </a:lnTo>
                  <a:lnTo>
                    <a:pt x="95" y="2292"/>
                  </a:lnTo>
                  <a:lnTo>
                    <a:pt x="74" y="2253"/>
                  </a:lnTo>
                  <a:lnTo>
                    <a:pt x="57" y="2213"/>
                  </a:lnTo>
                  <a:lnTo>
                    <a:pt x="42" y="2169"/>
                  </a:lnTo>
                  <a:lnTo>
                    <a:pt x="30" y="2124"/>
                  </a:lnTo>
                  <a:lnTo>
                    <a:pt x="17" y="2075"/>
                  </a:lnTo>
                  <a:lnTo>
                    <a:pt x="12" y="2027"/>
                  </a:lnTo>
                  <a:lnTo>
                    <a:pt x="2" y="1973"/>
                  </a:lnTo>
                  <a:lnTo>
                    <a:pt x="0" y="1916"/>
                  </a:lnTo>
                  <a:lnTo>
                    <a:pt x="0" y="1859"/>
                  </a:lnTo>
                  <a:lnTo>
                    <a:pt x="550" y="1859"/>
                  </a:lnTo>
                  <a:lnTo>
                    <a:pt x="550" y="1880"/>
                  </a:lnTo>
                  <a:lnTo>
                    <a:pt x="553" y="1898"/>
                  </a:lnTo>
                  <a:lnTo>
                    <a:pt x="556" y="1937"/>
                  </a:lnTo>
                  <a:lnTo>
                    <a:pt x="559" y="1955"/>
                  </a:lnTo>
                  <a:lnTo>
                    <a:pt x="562" y="1973"/>
                  </a:lnTo>
                  <a:lnTo>
                    <a:pt x="574" y="2003"/>
                  </a:lnTo>
                  <a:lnTo>
                    <a:pt x="580" y="2018"/>
                  </a:lnTo>
                  <a:lnTo>
                    <a:pt x="586" y="2033"/>
                  </a:lnTo>
                  <a:lnTo>
                    <a:pt x="605" y="2060"/>
                  </a:lnTo>
                  <a:lnTo>
                    <a:pt x="626" y="2088"/>
                  </a:lnTo>
                  <a:lnTo>
                    <a:pt x="637" y="2097"/>
                  </a:lnTo>
                  <a:lnTo>
                    <a:pt x="652" y="2109"/>
                  </a:lnTo>
                  <a:lnTo>
                    <a:pt x="683" y="2126"/>
                  </a:lnTo>
                  <a:lnTo>
                    <a:pt x="700" y="2136"/>
                  </a:lnTo>
                  <a:lnTo>
                    <a:pt x="722" y="2145"/>
                  </a:lnTo>
                  <a:lnTo>
                    <a:pt x="764" y="2160"/>
                  </a:lnTo>
                  <a:lnTo>
                    <a:pt x="785" y="2166"/>
                  </a:lnTo>
                  <a:lnTo>
                    <a:pt x="812" y="2172"/>
                  </a:lnTo>
                  <a:lnTo>
                    <a:pt x="866" y="2184"/>
                  </a:lnTo>
                  <a:lnTo>
                    <a:pt x="927" y="2190"/>
                  </a:lnTo>
                  <a:lnTo>
                    <a:pt x="995" y="2196"/>
                  </a:lnTo>
                  <a:lnTo>
                    <a:pt x="1071" y="2198"/>
                  </a:lnTo>
                  <a:lnTo>
                    <a:pt x="1164" y="2198"/>
                  </a:lnTo>
                  <a:lnTo>
                    <a:pt x="1245" y="2198"/>
                  </a:lnTo>
                  <a:lnTo>
                    <a:pt x="1284" y="2196"/>
                  </a:lnTo>
                  <a:lnTo>
                    <a:pt x="1317" y="2192"/>
                  </a:lnTo>
                  <a:lnTo>
                    <a:pt x="1384" y="2187"/>
                  </a:lnTo>
                  <a:lnTo>
                    <a:pt x="1441" y="2177"/>
                  </a:lnTo>
                  <a:lnTo>
                    <a:pt x="1488" y="2162"/>
                  </a:lnTo>
                  <a:lnTo>
                    <a:pt x="1531" y="2148"/>
                  </a:lnTo>
                  <a:lnTo>
                    <a:pt x="1552" y="2139"/>
                  </a:lnTo>
                  <a:lnTo>
                    <a:pt x="1567" y="2130"/>
                  </a:lnTo>
                  <a:lnTo>
                    <a:pt x="1585" y="2120"/>
                  </a:lnTo>
                  <a:lnTo>
                    <a:pt x="1596" y="2111"/>
                  </a:lnTo>
                  <a:lnTo>
                    <a:pt x="1612" y="2099"/>
                  </a:lnTo>
                  <a:lnTo>
                    <a:pt x="1621" y="2088"/>
                  </a:lnTo>
                  <a:lnTo>
                    <a:pt x="1632" y="2075"/>
                  </a:lnTo>
                  <a:lnTo>
                    <a:pt x="1642" y="2063"/>
                  </a:lnTo>
                  <a:lnTo>
                    <a:pt x="1651" y="2052"/>
                  </a:lnTo>
                  <a:lnTo>
                    <a:pt x="1657" y="2037"/>
                  </a:lnTo>
                  <a:lnTo>
                    <a:pt x="1663" y="2024"/>
                  </a:lnTo>
                  <a:lnTo>
                    <a:pt x="1670" y="2009"/>
                  </a:lnTo>
                  <a:lnTo>
                    <a:pt x="1675" y="1980"/>
                  </a:lnTo>
                  <a:lnTo>
                    <a:pt x="1678" y="1961"/>
                  </a:lnTo>
                  <a:lnTo>
                    <a:pt x="1681" y="1946"/>
                  </a:lnTo>
                  <a:lnTo>
                    <a:pt x="1681" y="1913"/>
                  </a:lnTo>
                  <a:lnTo>
                    <a:pt x="1681" y="1859"/>
                  </a:lnTo>
                  <a:lnTo>
                    <a:pt x="1681" y="1832"/>
                  </a:lnTo>
                  <a:lnTo>
                    <a:pt x="1678" y="1811"/>
                  </a:lnTo>
                  <a:lnTo>
                    <a:pt x="1672" y="1790"/>
                  </a:lnTo>
                  <a:lnTo>
                    <a:pt x="1670" y="1769"/>
                  </a:lnTo>
                  <a:lnTo>
                    <a:pt x="1655" y="1732"/>
                  </a:lnTo>
                  <a:lnTo>
                    <a:pt x="1648" y="1718"/>
                  </a:lnTo>
                  <a:lnTo>
                    <a:pt x="1639" y="1703"/>
                  </a:lnTo>
                  <a:lnTo>
                    <a:pt x="1627" y="1690"/>
                  </a:lnTo>
                  <a:lnTo>
                    <a:pt x="1618" y="1675"/>
                  </a:lnTo>
                  <a:lnTo>
                    <a:pt x="1606" y="1667"/>
                  </a:lnTo>
                  <a:lnTo>
                    <a:pt x="1594" y="1654"/>
                  </a:lnTo>
                  <a:lnTo>
                    <a:pt x="1579" y="1645"/>
                  </a:lnTo>
                  <a:lnTo>
                    <a:pt x="1564" y="1639"/>
                  </a:lnTo>
                  <a:lnTo>
                    <a:pt x="1549" y="1631"/>
                  </a:lnTo>
                  <a:lnTo>
                    <a:pt x="1531" y="1624"/>
                  </a:lnTo>
                  <a:lnTo>
                    <a:pt x="1516" y="1618"/>
                  </a:lnTo>
                  <a:lnTo>
                    <a:pt x="1494" y="1612"/>
                  </a:lnTo>
                  <a:lnTo>
                    <a:pt x="1458" y="1603"/>
                  </a:lnTo>
                  <a:lnTo>
                    <a:pt x="1414" y="1597"/>
                  </a:lnTo>
                  <a:lnTo>
                    <a:pt x="1369" y="1591"/>
                  </a:lnTo>
                  <a:lnTo>
                    <a:pt x="1320" y="1588"/>
                  </a:lnTo>
                  <a:lnTo>
                    <a:pt x="1215" y="1582"/>
                  </a:lnTo>
                  <a:lnTo>
                    <a:pt x="1107" y="1576"/>
                  </a:lnTo>
                  <a:lnTo>
                    <a:pt x="999" y="1570"/>
                  </a:lnTo>
                  <a:lnTo>
                    <a:pt x="893" y="1565"/>
                  </a:lnTo>
                  <a:lnTo>
                    <a:pt x="788" y="1555"/>
                  </a:lnTo>
                  <a:lnTo>
                    <a:pt x="737" y="1550"/>
                  </a:lnTo>
                  <a:lnTo>
                    <a:pt x="686" y="1543"/>
                  </a:lnTo>
                  <a:lnTo>
                    <a:pt x="637" y="1534"/>
                  </a:lnTo>
                  <a:lnTo>
                    <a:pt x="590" y="1522"/>
                  </a:lnTo>
                  <a:lnTo>
                    <a:pt x="544" y="1513"/>
                  </a:lnTo>
                  <a:lnTo>
                    <a:pt x="499" y="1498"/>
                  </a:lnTo>
                  <a:lnTo>
                    <a:pt x="453" y="1483"/>
                  </a:lnTo>
                  <a:lnTo>
                    <a:pt x="412" y="1465"/>
                  </a:lnTo>
                  <a:lnTo>
                    <a:pt x="372" y="1447"/>
                  </a:lnTo>
                  <a:lnTo>
                    <a:pt x="334" y="1426"/>
                  </a:lnTo>
                  <a:lnTo>
                    <a:pt x="315" y="1413"/>
                  </a:lnTo>
                  <a:lnTo>
                    <a:pt x="298" y="1398"/>
                  </a:lnTo>
                  <a:lnTo>
                    <a:pt x="283" y="1387"/>
                  </a:lnTo>
                  <a:lnTo>
                    <a:pt x="264" y="1372"/>
                  </a:lnTo>
                  <a:lnTo>
                    <a:pt x="231" y="1341"/>
                  </a:lnTo>
                  <a:lnTo>
                    <a:pt x="201" y="1309"/>
                  </a:lnTo>
                  <a:lnTo>
                    <a:pt x="190" y="1290"/>
                  </a:lnTo>
                  <a:lnTo>
                    <a:pt x="174" y="1273"/>
                  </a:lnTo>
                  <a:lnTo>
                    <a:pt x="162" y="1254"/>
                  </a:lnTo>
                  <a:lnTo>
                    <a:pt x="150" y="1233"/>
                  </a:lnTo>
                  <a:lnTo>
                    <a:pt x="129" y="1191"/>
                  </a:lnTo>
                  <a:lnTo>
                    <a:pt x="108" y="1143"/>
                  </a:lnTo>
                  <a:lnTo>
                    <a:pt x="93" y="1091"/>
                  </a:lnTo>
                  <a:lnTo>
                    <a:pt x="84" y="1065"/>
                  </a:lnTo>
                  <a:lnTo>
                    <a:pt x="78" y="1038"/>
                  </a:lnTo>
                  <a:lnTo>
                    <a:pt x="69" y="977"/>
                  </a:lnTo>
                  <a:lnTo>
                    <a:pt x="66" y="947"/>
                  </a:lnTo>
                  <a:lnTo>
                    <a:pt x="63" y="915"/>
                  </a:lnTo>
                  <a:lnTo>
                    <a:pt x="57" y="848"/>
                  </a:lnTo>
                  <a:lnTo>
                    <a:pt x="57" y="776"/>
                  </a:lnTo>
                  <a:lnTo>
                    <a:pt x="57" y="746"/>
                  </a:lnTo>
                  <a:lnTo>
                    <a:pt x="59" y="716"/>
                  </a:lnTo>
                  <a:lnTo>
                    <a:pt x="66" y="661"/>
                  </a:lnTo>
                  <a:lnTo>
                    <a:pt x="69" y="634"/>
                  </a:lnTo>
                  <a:lnTo>
                    <a:pt x="72" y="608"/>
                  </a:lnTo>
                  <a:lnTo>
                    <a:pt x="84" y="557"/>
                  </a:lnTo>
                  <a:lnTo>
                    <a:pt x="90" y="532"/>
                  </a:lnTo>
                  <a:lnTo>
                    <a:pt x="95" y="511"/>
                  </a:lnTo>
                  <a:lnTo>
                    <a:pt x="105" y="487"/>
                  </a:lnTo>
                  <a:lnTo>
                    <a:pt x="114" y="466"/>
                  </a:lnTo>
                  <a:lnTo>
                    <a:pt x="133" y="421"/>
                  </a:lnTo>
                  <a:lnTo>
                    <a:pt x="153" y="382"/>
                  </a:lnTo>
                  <a:lnTo>
                    <a:pt x="177" y="346"/>
                  </a:lnTo>
                  <a:lnTo>
                    <a:pt x="201" y="310"/>
                  </a:lnTo>
                  <a:lnTo>
                    <a:pt x="228" y="276"/>
                  </a:lnTo>
                  <a:lnTo>
                    <a:pt x="258" y="246"/>
                  </a:lnTo>
                  <a:lnTo>
                    <a:pt x="292" y="217"/>
                  </a:lnTo>
                  <a:lnTo>
                    <a:pt x="328" y="189"/>
                  </a:lnTo>
                  <a:lnTo>
                    <a:pt x="364" y="166"/>
                  </a:lnTo>
                  <a:lnTo>
                    <a:pt x="402" y="144"/>
                  </a:lnTo>
                  <a:lnTo>
                    <a:pt x="445" y="123"/>
                  </a:lnTo>
                  <a:lnTo>
                    <a:pt x="487" y="105"/>
                  </a:lnTo>
                  <a:lnTo>
                    <a:pt x="533" y="87"/>
                  </a:lnTo>
                  <a:lnTo>
                    <a:pt x="577" y="72"/>
                  </a:lnTo>
                  <a:lnTo>
                    <a:pt x="626" y="57"/>
                  </a:lnTo>
                  <a:lnTo>
                    <a:pt x="677" y="45"/>
                  </a:lnTo>
                  <a:lnTo>
                    <a:pt x="728" y="36"/>
                  </a:lnTo>
                  <a:lnTo>
                    <a:pt x="779" y="28"/>
                  </a:lnTo>
                  <a:lnTo>
                    <a:pt x="836" y="18"/>
                  </a:lnTo>
                  <a:lnTo>
                    <a:pt x="889" y="12"/>
                  </a:lnTo>
                  <a:lnTo>
                    <a:pt x="950" y="9"/>
                  </a:lnTo>
                  <a:lnTo>
                    <a:pt x="1007" y="5"/>
                  </a:lnTo>
                  <a:lnTo>
                    <a:pt x="1067" y="3"/>
                  </a:lnTo>
                  <a:lnTo>
                    <a:pt x="1130" y="0"/>
                  </a:lnTo>
                  <a:lnTo>
                    <a:pt x="1257" y="0"/>
                  </a:lnTo>
                  <a:lnTo>
                    <a:pt x="1317" y="3"/>
                  </a:lnTo>
                  <a:lnTo>
                    <a:pt x="1374" y="5"/>
                  </a:lnTo>
                  <a:lnTo>
                    <a:pt x="1431" y="9"/>
                  </a:lnTo>
                  <a:lnTo>
                    <a:pt x="1486" y="15"/>
                  </a:lnTo>
                  <a:lnTo>
                    <a:pt x="1539" y="21"/>
                  </a:lnTo>
                  <a:lnTo>
                    <a:pt x="1591" y="28"/>
                  </a:lnTo>
                  <a:lnTo>
                    <a:pt x="1642" y="36"/>
                  </a:lnTo>
                  <a:lnTo>
                    <a:pt x="1691" y="45"/>
                  </a:lnTo>
                  <a:lnTo>
                    <a:pt x="1738" y="57"/>
                  </a:lnTo>
                  <a:lnTo>
                    <a:pt x="1784" y="72"/>
                  </a:lnTo>
                  <a:lnTo>
                    <a:pt x="1825" y="85"/>
                  </a:lnTo>
                  <a:lnTo>
                    <a:pt x="1867" y="102"/>
                  </a:lnTo>
                  <a:lnTo>
                    <a:pt x="1888" y="111"/>
                  </a:lnTo>
                  <a:lnTo>
                    <a:pt x="1907" y="121"/>
                  </a:lnTo>
                  <a:lnTo>
                    <a:pt x="1946" y="138"/>
                  </a:lnTo>
                  <a:lnTo>
                    <a:pt x="1982" y="159"/>
                  </a:lnTo>
                  <a:lnTo>
                    <a:pt x="2015" y="183"/>
                  </a:lnTo>
                  <a:lnTo>
                    <a:pt x="2034" y="195"/>
                  </a:lnTo>
                  <a:lnTo>
                    <a:pt x="2049" y="208"/>
                  </a:lnTo>
                  <a:lnTo>
                    <a:pt x="2078" y="235"/>
                  </a:lnTo>
                  <a:lnTo>
                    <a:pt x="2108" y="261"/>
                  </a:lnTo>
                  <a:lnTo>
                    <a:pt x="2136" y="291"/>
                  </a:lnTo>
                  <a:lnTo>
                    <a:pt x="2159" y="325"/>
                  </a:lnTo>
                  <a:lnTo>
                    <a:pt x="2180" y="358"/>
                  </a:lnTo>
                  <a:lnTo>
                    <a:pt x="2201" y="394"/>
                  </a:lnTo>
                  <a:lnTo>
                    <a:pt x="2220" y="433"/>
                  </a:lnTo>
                  <a:lnTo>
                    <a:pt x="2237" y="472"/>
                  </a:lnTo>
                  <a:lnTo>
                    <a:pt x="2252" y="515"/>
                  </a:lnTo>
                  <a:lnTo>
                    <a:pt x="2265" y="559"/>
                  </a:lnTo>
                  <a:lnTo>
                    <a:pt x="2274" y="608"/>
                  </a:lnTo>
                  <a:lnTo>
                    <a:pt x="2282" y="655"/>
                  </a:lnTo>
                  <a:lnTo>
                    <a:pt x="2288" y="707"/>
                  </a:lnTo>
                  <a:lnTo>
                    <a:pt x="2292" y="761"/>
                  </a:lnTo>
                  <a:lnTo>
                    <a:pt x="2292" y="818"/>
                  </a:lnTo>
                  <a:lnTo>
                    <a:pt x="1742" y="818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86400" y="624240"/>
              <a:ext cx="188640" cy="184320"/>
            </a:xfrm>
            <a:custGeom>
              <a:avLst/>
              <a:gdLst/>
              <a:ahLst/>
              <a:rect l="l" t="t" r="r" b="b"/>
              <a:pathLst>
                <a:path w="1239" h="1260">
                  <a:moveTo>
                    <a:pt x="475" y="0"/>
                  </a:moveTo>
                  <a:lnTo>
                    <a:pt x="475" y="484"/>
                  </a:lnTo>
                  <a:lnTo>
                    <a:pt x="0" y="484"/>
                  </a:lnTo>
                  <a:lnTo>
                    <a:pt x="0" y="779"/>
                  </a:lnTo>
                  <a:lnTo>
                    <a:pt x="475" y="779"/>
                  </a:lnTo>
                  <a:lnTo>
                    <a:pt x="475" y="1260"/>
                  </a:lnTo>
                  <a:lnTo>
                    <a:pt x="764" y="1260"/>
                  </a:lnTo>
                  <a:lnTo>
                    <a:pt x="764" y="779"/>
                  </a:lnTo>
                  <a:lnTo>
                    <a:pt x="1239" y="779"/>
                  </a:lnTo>
                  <a:lnTo>
                    <a:pt x="1239" y="484"/>
                  </a:lnTo>
                  <a:lnTo>
                    <a:pt x="764" y="484"/>
                  </a:lnTo>
                  <a:lnTo>
                    <a:pt x="764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370560"/>
            <a:ext cx="9144000" cy="48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1640" y="2060640"/>
            <a:ext cx="860436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宋体"/>
              </a:rPr>
              <a:t>Concluss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宋体"/>
              </a:rPr>
              <a:t>Regarding TAAM question PL1, Spain considers that the matter was already considered by TAAM in Borlange 2005 meeting and the common agreement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宋体"/>
              </a:rPr>
              <a:t>Agree to use the criteria of ECE R52.01 supl 07 (and latter 107.02) to verify the accessibility of the driver’s door to be considered as emergengy door as per 2001/85/EC directiv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65600" y="4041720"/>
            <a:ext cx="50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5576760"/>
            <a:ext cx="500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370560"/>
            <a:ext cx="9144000" cy="487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3573360"/>
            <a:ext cx="70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HANK YOU FOR YOUR A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9640" y="549360"/>
            <a:ext cx="2519280" cy="1224000"/>
            <a:chOff x="539640" y="549360"/>
            <a:chExt cx="2519280" cy="1224000"/>
          </a:xfrm>
        </p:grpSpPr>
        <p:sp>
          <p:nvSpPr>
            <p:cNvPr id="141" name=""/>
            <p:cNvSpPr/>
            <p:nvPr/>
          </p:nvSpPr>
          <p:spPr>
            <a:xfrm>
              <a:off x="582120" y="1470600"/>
              <a:ext cx="41760" cy="302760"/>
            </a:xfrm>
            <a:prstGeom prst="rect">
              <a:avLst/>
            </a:pr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3800" y="1470600"/>
              <a:ext cx="243720" cy="302760"/>
            </a:xfrm>
            <a:custGeom>
              <a:avLst/>
              <a:gdLst/>
              <a:ahLst/>
              <a:rect l="l" t="t" r="r" b="b"/>
              <a:pathLst>
                <a:path w="1600" h="2072">
                  <a:moveTo>
                    <a:pt x="1600" y="1037"/>
                  </a:moveTo>
                  <a:lnTo>
                    <a:pt x="1600" y="1106"/>
                  </a:lnTo>
                  <a:lnTo>
                    <a:pt x="1599" y="1169"/>
                  </a:lnTo>
                  <a:lnTo>
                    <a:pt x="1599" y="1226"/>
                  </a:lnTo>
                  <a:lnTo>
                    <a:pt x="1598" y="1278"/>
                  </a:lnTo>
                  <a:lnTo>
                    <a:pt x="1595" y="1325"/>
                  </a:lnTo>
                  <a:lnTo>
                    <a:pt x="1593" y="1365"/>
                  </a:lnTo>
                  <a:lnTo>
                    <a:pt x="1591" y="1401"/>
                  </a:lnTo>
                  <a:lnTo>
                    <a:pt x="1588" y="1433"/>
                  </a:lnTo>
                  <a:lnTo>
                    <a:pt x="1585" y="1462"/>
                  </a:lnTo>
                  <a:lnTo>
                    <a:pt x="1581" y="1490"/>
                  </a:lnTo>
                  <a:lnTo>
                    <a:pt x="1577" y="1516"/>
                  </a:lnTo>
                  <a:lnTo>
                    <a:pt x="1571" y="1543"/>
                  </a:lnTo>
                  <a:lnTo>
                    <a:pt x="1566" y="1569"/>
                  </a:lnTo>
                  <a:lnTo>
                    <a:pt x="1560" y="1594"/>
                  </a:lnTo>
                  <a:lnTo>
                    <a:pt x="1553" y="1619"/>
                  </a:lnTo>
                  <a:lnTo>
                    <a:pt x="1546" y="1642"/>
                  </a:lnTo>
                  <a:lnTo>
                    <a:pt x="1539" y="1664"/>
                  </a:lnTo>
                  <a:lnTo>
                    <a:pt x="1531" y="1686"/>
                  </a:lnTo>
                  <a:lnTo>
                    <a:pt x="1523" y="1708"/>
                  </a:lnTo>
                  <a:lnTo>
                    <a:pt x="1514" y="1728"/>
                  </a:lnTo>
                  <a:lnTo>
                    <a:pt x="1505" y="1748"/>
                  </a:lnTo>
                  <a:lnTo>
                    <a:pt x="1494" y="1768"/>
                  </a:lnTo>
                  <a:lnTo>
                    <a:pt x="1484" y="1785"/>
                  </a:lnTo>
                  <a:lnTo>
                    <a:pt x="1473" y="1802"/>
                  </a:lnTo>
                  <a:lnTo>
                    <a:pt x="1460" y="1821"/>
                  </a:lnTo>
                  <a:lnTo>
                    <a:pt x="1446" y="1840"/>
                  </a:lnTo>
                  <a:lnTo>
                    <a:pt x="1433" y="1857"/>
                  </a:lnTo>
                  <a:lnTo>
                    <a:pt x="1419" y="1873"/>
                  </a:lnTo>
                  <a:lnTo>
                    <a:pt x="1403" y="1889"/>
                  </a:lnTo>
                  <a:lnTo>
                    <a:pt x="1388" y="1904"/>
                  </a:lnTo>
                  <a:lnTo>
                    <a:pt x="1372" y="1919"/>
                  </a:lnTo>
                  <a:lnTo>
                    <a:pt x="1356" y="1933"/>
                  </a:lnTo>
                  <a:lnTo>
                    <a:pt x="1338" y="1945"/>
                  </a:lnTo>
                  <a:lnTo>
                    <a:pt x="1321" y="1957"/>
                  </a:lnTo>
                  <a:lnTo>
                    <a:pt x="1302" y="1969"/>
                  </a:lnTo>
                  <a:lnTo>
                    <a:pt x="1284" y="1980"/>
                  </a:lnTo>
                  <a:lnTo>
                    <a:pt x="1264" y="1991"/>
                  </a:lnTo>
                  <a:lnTo>
                    <a:pt x="1244" y="2000"/>
                  </a:lnTo>
                  <a:lnTo>
                    <a:pt x="1224" y="2008"/>
                  </a:lnTo>
                  <a:lnTo>
                    <a:pt x="1203" y="2016"/>
                  </a:lnTo>
                  <a:lnTo>
                    <a:pt x="1183" y="2023"/>
                  </a:lnTo>
                  <a:lnTo>
                    <a:pt x="1160" y="2030"/>
                  </a:lnTo>
                  <a:lnTo>
                    <a:pt x="1138" y="2036"/>
                  </a:lnTo>
                  <a:lnTo>
                    <a:pt x="1115" y="2041"/>
                  </a:lnTo>
                  <a:lnTo>
                    <a:pt x="1090" y="2047"/>
                  </a:lnTo>
                  <a:lnTo>
                    <a:pt x="1064" y="2051"/>
                  </a:lnTo>
                  <a:lnTo>
                    <a:pt x="1037" y="2055"/>
                  </a:lnTo>
                  <a:lnTo>
                    <a:pt x="1009" y="2058"/>
                  </a:lnTo>
                  <a:lnTo>
                    <a:pt x="950" y="2065"/>
                  </a:lnTo>
                  <a:lnTo>
                    <a:pt x="886" y="2069"/>
                  </a:lnTo>
                  <a:lnTo>
                    <a:pt x="819" y="2072"/>
                  </a:lnTo>
                  <a:lnTo>
                    <a:pt x="747" y="2072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817" y="1"/>
                  </a:lnTo>
                  <a:lnTo>
                    <a:pt x="885" y="4"/>
                  </a:lnTo>
                  <a:lnTo>
                    <a:pt x="948" y="8"/>
                  </a:lnTo>
                  <a:lnTo>
                    <a:pt x="1007" y="14"/>
                  </a:lnTo>
                  <a:lnTo>
                    <a:pt x="1035" y="18"/>
                  </a:lnTo>
                  <a:lnTo>
                    <a:pt x="1062" y="22"/>
                  </a:lnTo>
                  <a:lnTo>
                    <a:pt x="1087" y="27"/>
                  </a:lnTo>
                  <a:lnTo>
                    <a:pt x="1112" y="32"/>
                  </a:lnTo>
                  <a:lnTo>
                    <a:pt x="1135" y="37"/>
                  </a:lnTo>
                  <a:lnTo>
                    <a:pt x="1158" y="43"/>
                  </a:lnTo>
                  <a:lnTo>
                    <a:pt x="1179" y="49"/>
                  </a:lnTo>
                  <a:lnTo>
                    <a:pt x="1200" y="56"/>
                  </a:lnTo>
                  <a:lnTo>
                    <a:pt x="1221" y="64"/>
                  </a:lnTo>
                  <a:lnTo>
                    <a:pt x="1241" y="72"/>
                  </a:lnTo>
                  <a:lnTo>
                    <a:pt x="1262" y="83"/>
                  </a:lnTo>
                  <a:lnTo>
                    <a:pt x="1280" y="92"/>
                  </a:lnTo>
                  <a:lnTo>
                    <a:pt x="1299" y="104"/>
                  </a:lnTo>
                  <a:lnTo>
                    <a:pt x="1317" y="115"/>
                  </a:lnTo>
                  <a:lnTo>
                    <a:pt x="1335" y="127"/>
                  </a:lnTo>
                  <a:lnTo>
                    <a:pt x="1352" y="141"/>
                  </a:lnTo>
                  <a:lnTo>
                    <a:pt x="1369" y="154"/>
                  </a:lnTo>
                  <a:lnTo>
                    <a:pt x="1385" y="169"/>
                  </a:lnTo>
                  <a:lnTo>
                    <a:pt x="1401" y="184"/>
                  </a:lnTo>
                  <a:lnTo>
                    <a:pt x="1416" y="200"/>
                  </a:lnTo>
                  <a:lnTo>
                    <a:pt x="1430" y="217"/>
                  </a:lnTo>
                  <a:lnTo>
                    <a:pt x="1444" y="233"/>
                  </a:lnTo>
                  <a:lnTo>
                    <a:pt x="1457" y="251"/>
                  </a:lnTo>
                  <a:lnTo>
                    <a:pt x="1470" y="270"/>
                  </a:lnTo>
                  <a:lnTo>
                    <a:pt x="1481" y="287"/>
                  </a:lnTo>
                  <a:lnTo>
                    <a:pt x="1492" y="306"/>
                  </a:lnTo>
                  <a:lnTo>
                    <a:pt x="1501" y="326"/>
                  </a:lnTo>
                  <a:lnTo>
                    <a:pt x="1512" y="346"/>
                  </a:lnTo>
                  <a:lnTo>
                    <a:pt x="1520" y="367"/>
                  </a:lnTo>
                  <a:lnTo>
                    <a:pt x="1529" y="387"/>
                  </a:lnTo>
                  <a:lnTo>
                    <a:pt x="1537" y="410"/>
                  </a:lnTo>
                  <a:lnTo>
                    <a:pt x="1544" y="433"/>
                  </a:lnTo>
                  <a:lnTo>
                    <a:pt x="1551" y="457"/>
                  </a:lnTo>
                  <a:lnTo>
                    <a:pt x="1558" y="482"/>
                  </a:lnTo>
                  <a:lnTo>
                    <a:pt x="1564" y="506"/>
                  </a:lnTo>
                  <a:lnTo>
                    <a:pt x="1570" y="533"/>
                  </a:lnTo>
                  <a:lnTo>
                    <a:pt x="1576" y="558"/>
                  </a:lnTo>
                  <a:lnTo>
                    <a:pt x="1580" y="586"/>
                  </a:lnTo>
                  <a:lnTo>
                    <a:pt x="1585" y="614"/>
                  </a:lnTo>
                  <a:lnTo>
                    <a:pt x="1588" y="643"/>
                  </a:lnTo>
                  <a:lnTo>
                    <a:pt x="1591" y="675"/>
                  </a:lnTo>
                  <a:lnTo>
                    <a:pt x="1593" y="712"/>
                  </a:lnTo>
                  <a:lnTo>
                    <a:pt x="1595" y="753"/>
                  </a:lnTo>
                  <a:lnTo>
                    <a:pt x="1598" y="800"/>
                  </a:lnTo>
                  <a:lnTo>
                    <a:pt x="1599" y="851"/>
                  </a:lnTo>
                  <a:lnTo>
                    <a:pt x="1599" y="908"/>
                  </a:lnTo>
                  <a:lnTo>
                    <a:pt x="1600" y="971"/>
                  </a:lnTo>
                  <a:lnTo>
                    <a:pt x="1600" y="1037"/>
                  </a:lnTo>
                  <a:close/>
                  <a:moveTo>
                    <a:pt x="1322" y="1037"/>
                  </a:moveTo>
                  <a:lnTo>
                    <a:pt x="1322" y="978"/>
                  </a:lnTo>
                  <a:lnTo>
                    <a:pt x="1321" y="920"/>
                  </a:lnTo>
                  <a:lnTo>
                    <a:pt x="1319" y="865"/>
                  </a:lnTo>
                  <a:lnTo>
                    <a:pt x="1316" y="813"/>
                  </a:lnTo>
                  <a:lnTo>
                    <a:pt x="1313" y="764"/>
                  </a:lnTo>
                  <a:lnTo>
                    <a:pt x="1308" y="718"/>
                  </a:lnTo>
                  <a:lnTo>
                    <a:pt x="1303" y="673"/>
                  </a:lnTo>
                  <a:lnTo>
                    <a:pt x="1298" y="632"/>
                  </a:lnTo>
                  <a:lnTo>
                    <a:pt x="1291" y="593"/>
                  </a:lnTo>
                  <a:lnTo>
                    <a:pt x="1283" y="557"/>
                  </a:lnTo>
                  <a:lnTo>
                    <a:pt x="1274" y="523"/>
                  </a:lnTo>
                  <a:lnTo>
                    <a:pt x="1265" y="493"/>
                  </a:lnTo>
                  <a:lnTo>
                    <a:pt x="1256" y="465"/>
                  </a:lnTo>
                  <a:lnTo>
                    <a:pt x="1245" y="440"/>
                  </a:lnTo>
                  <a:lnTo>
                    <a:pt x="1234" y="418"/>
                  </a:lnTo>
                  <a:lnTo>
                    <a:pt x="1221" y="397"/>
                  </a:lnTo>
                  <a:lnTo>
                    <a:pt x="1212" y="385"/>
                  </a:lnTo>
                  <a:lnTo>
                    <a:pt x="1202" y="374"/>
                  </a:lnTo>
                  <a:lnTo>
                    <a:pt x="1192" y="363"/>
                  </a:lnTo>
                  <a:lnTo>
                    <a:pt x="1181" y="353"/>
                  </a:lnTo>
                  <a:lnTo>
                    <a:pt x="1170" y="342"/>
                  </a:lnTo>
                  <a:lnTo>
                    <a:pt x="1157" y="333"/>
                  </a:lnTo>
                  <a:lnTo>
                    <a:pt x="1144" y="324"/>
                  </a:lnTo>
                  <a:lnTo>
                    <a:pt x="1130" y="315"/>
                  </a:lnTo>
                  <a:lnTo>
                    <a:pt x="1116" y="307"/>
                  </a:lnTo>
                  <a:lnTo>
                    <a:pt x="1101" y="300"/>
                  </a:lnTo>
                  <a:lnTo>
                    <a:pt x="1085" y="293"/>
                  </a:lnTo>
                  <a:lnTo>
                    <a:pt x="1069" y="286"/>
                  </a:lnTo>
                  <a:lnTo>
                    <a:pt x="1052" y="282"/>
                  </a:lnTo>
                  <a:lnTo>
                    <a:pt x="1034" y="276"/>
                  </a:lnTo>
                  <a:lnTo>
                    <a:pt x="1015" y="271"/>
                  </a:lnTo>
                  <a:lnTo>
                    <a:pt x="997" y="267"/>
                  </a:lnTo>
                  <a:lnTo>
                    <a:pt x="974" y="263"/>
                  </a:lnTo>
                  <a:lnTo>
                    <a:pt x="949" y="261"/>
                  </a:lnTo>
                  <a:lnTo>
                    <a:pt x="921" y="257"/>
                  </a:lnTo>
                  <a:lnTo>
                    <a:pt x="888" y="256"/>
                  </a:lnTo>
                  <a:lnTo>
                    <a:pt x="854" y="254"/>
                  </a:lnTo>
                  <a:lnTo>
                    <a:pt x="814" y="253"/>
                  </a:lnTo>
                  <a:lnTo>
                    <a:pt x="772" y="251"/>
                  </a:lnTo>
                  <a:lnTo>
                    <a:pt x="727" y="251"/>
                  </a:lnTo>
                  <a:lnTo>
                    <a:pt x="273" y="251"/>
                  </a:lnTo>
                  <a:lnTo>
                    <a:pt x="273" y="1821"/>
                  </a:lnTo>
                  <a:lnTo>
                    <a:pt x="727" y="1821"/>
                  </a:lnTo>
                  <a:lnTo>
                    <a:pt x="772" y="1821"/>
                  </a:lnTo>
                  <a:lnTo>
                    <a:pt x="814" y="1820"/>
                  </a:lnTo>
                  <a:lnTo>
                    <a:pt x="854" y="1819"/>
                  </a:lnTo>
                  <a:lnTo>
                    <a:pt x="888" y="1818"/>
                  </a:lnTo>
                  <a:lnTo>
                    <a:pt x="921" y="1815"/>
                  </a:lnTo>
                  <a:lnTo>
                    <a:pt x="949" y="1813"/>
                  </a:lnTo>
                  <a:lnTo>
                    <a:pt x="974" y="1809"/>
                  </a:lnTo>
                  <a:lnTo>
                    <a:pt x="997" y="1806"/>
                  </a:lnTo>
                  <a:lnTo>
                    <a:pt x="1015" y="1802"/>
                  </a:lnTo>
                  <a:lnTo>
                    <a:pt x="1034" y="1798"/>
                  </a:lnTo>
                  <a:lnTo>
                    <a:pt x="1052" y="1793"/>
                  </a:lnTo>
                  <a:lnTo>
                    <a:pt x="1069" y="1787"/>
                  </a:lnTo>
                  <a:lnTo>
                    <a:pt x="1085" y="1782"/>
                  </a:lnTo>
                  <a:lnTo>
                    <a:pt x="1101" y="1775"/>
                  </a:lnTo>
                  <a:lnTo>
                    <a:pt x="1116" y="1768"/>
                  </a:lnTo>
                  <a:lnTo>
                    <a:pt x="1130" y="1759"/>
                  </a:lnTo>
                  <a:lnTo>
                    <a:pt x="1144" y="1751"/>
                  </a:lnTo>
                  <a:lnTo>
                    <a:pt x="1157" y="1743"/>
                  </a:lnTo>
                  <a:lnTo>
                    <a:pt x="1170" y="1734"/>
                  </a:lnTo>
                  <a:lnTo>
                    <a:pt x="1181" y="1723"/>
                  </a:lnTo>
                  <a:lnTo>
                    <a:pt x="1192" y="1713"/>
                  </a:lnTo>
                  <a:lnTo>
                    <a:pt x="1202" y="1702"/>
                  </a:lnTo>
                  <a:lnTo>
                    <a:pt x="1212" y="1691"/>
                  </a:lnTo>
                  <a:lnTo>
                    <a:pt x="1221" y="1678"/>
                  </a:lnTo>
                  <a:lnTo>
                    <a:pt x="1234" y="1658"/>
                  </a:lnTo>
                  <a:lnTo>
                    <a:pt x="1245" y="1636"/>
                  </a:lnTo>
                  <a:lnTo>
                    <a:pt x="1256" y="1611"/>
                  </a:lnTo>
                  <a:lnTo>
                    <a:pt x="1265" y="1583"/>
                  </a:lnTo>
                  <a:lnTo>
                    <a:pt x="1274" y="1552"/>
                  </a:lnTo>
                  <a:lnTo>
                    <a:pt x="1283" y="1519"/>
                  </a:lnTo>
                  <a:lnTo>
                    <a:pt x="1291" y="1483"/>
                  </a:lnTo>
                  <a:lnTo>
                    <a:pt x="1298" y="1444"/>
                  </a:lnTo>
                  <a:lnTo>
                    <a:pt x="1303" y="1402"/>
                  </a:lnTo>
                  <a:lnTo>
                    <a:pt x="1308" y="1358"/>
                  </a:lnTo>
                  <a:lnTo>
                    <a:pt x="1313" y="1312"/>
                  </a:lnTo>
                  <a:lnTo>
                    <a:pt x="1316" y="1262"/>
                  </a:lnTo>
                  <a:lnTo>
                    <a:pt x="1319" y="1211"/>
                  </a:lnTo>
                  <a:lnTo>
                    <a:pt x="1321" y="1156"/>
                  </a:lnTo>
                  <a:lnTo>
                    <a:pt x="1322" y="1098"/>
                  </a:lnTo>
                  <a:lnTo>
                    <a:pt x="1322" y="1037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21320" y="1470600"/>
              <a:ext cx="42120" cy="302760"/>
            </a:xfrm>
            <a:prstGeom prst="rect">
              <a:avLst/>
            </a:pr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8440" y="1470600"/>
              <a:ext cx="286560" cy="302760"/>
            </a:xfrm>
            <a:custGeom>
              <a:avLst/>
              <a:gdLst/>
              <a:ahLst/>
              <a:rect l="l" t="t" r="r" b="b"/>
              <a:pathLst>
                <a:path w="1876" h="2072">
                  <a:moveTo>
                    <a:pt x="1876" y="2072"/>
                  </a:moveTo>
                  <a:lnTo>
                    <a:pt x="1574" y="2072"/>
                  </a:lnTo>
                  <a:lnTo>
                    <a:pt x="1364" y="1501"/>
                  </a:lnTo>
                  <a:lnTo>
                    <a:pt x="495" y="1501"/>
                  </a:lnTo>
                  <a:lnTo>
                    <a:pt x="288" y="2072"/>
                  </a:lnTo>
                  <a:lnTo>
                    <a:pt x="0" y="2072"/>
                  </a:lnTo>
                  <a:lnTo>
                    <a:pt x="801" y="0"/>
                  </a:lnTo>
                  <a:lnTo>
                    <a:pt x="1076" y="0"/>
                  </a:lnTo>
                  <a:lnTo>
                    <a:pt x="1876" y="2072"/>
                  </a:lnTo>
                  <a:close/>
                  <a:moveTo>
                    <a:pt x="1275" y="1261"/>
                  </a:moveTo>
                  <a:lnTo>
                    <a:pt x="931" y="333"/>
                  </a:lnTo>
                  <a:lnTo>
                    <a:pt x="587" y="1261"/>
                  </a:lnTo>
                  <a:lnTo>
                    <a:pt x="1275" y="1261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0000" y="1470600"/>
              <a:ext cx="244080" cy="302760"/>
            </a:xfrm>
            <a:custGeom>
              <a:avLst/>
              <a:gdLst/>
              <a:ahLst/>
              <a:rect l="l" t="t" r="r" b="b"/>
              <a:pathLst>
                <a:path w="1600" h="2072">
                  <a:moveTo>
                    <a:pt x="1600" y="1037"/>
                  </a:moveTo>
                  <a:lnTo>
                    <a:pt x="1600" y="1106"/>
                  </a:lnTo>
                  <a:lnTo>
                    <a:pt x="1599" y="1169"/>
                  </a:lnTo>
                  <a:lnTo>
                    <a:pt x="1599" y="1226"/>
                  </a:lnTo>
                  <a:lnTo>
                    <a:pt x="1596" y="1278"/>
                  </a:lnTo>
                  <a:lnTo>
                    <a:pt x="1595" y="1325"/>
                  </a:lnTo>
                  <a:lnTo>
                    <a:pt x="1593" y="1365"/>
                  </a:lnTo>
                  <a:lnTo>
                    <a:pt x="1591" y="1401"/>
                  </a:lnTo>
                  <a:lnTo>
                    <a:pt x="1588" y="1433"/>
                  </a:lnTo>
                  <a:lnTo>
                    <a:pt x="1585" y="1462"/>
                  </a:lnTo>
                  <a:lnTo>
                    <a:pt x="1580" y="1490"/>
                  </a:lnTo>
                  <a:lnTo>
                    <a:pt x="1577" y="1516"/>
                  </a:lnTo>
                  <a:lnTo>
                    <a:pt x="1571" y="1543"/>
                  </a:lnTo>
                  <a:lnTo>
                    <a:pt x="1566" y="1569"/>
                  </a:lnTo>
                  <a:lnTo>
                    <a:pt x="1560" y="1594"/>
                  </a:lnTo>
                  <a:lnTo>
                    <a:pt x="1553" y="1619"/>
                  </a:lnTo>
                  <a:lnTo>
                    <a:pt x="1546" y="1642"/>
                  </a:lnTo>
                  <a:lnTo>
                    <a:pt x="1539" y="1664"/>
                  </a:lnTo>
                  <a:lnTo>
                    <a:pt x="1531" y="1686"/>
                  </a:lnTo>
                  <a:lnTo>
                    <a:pt x="1522" y="1708"/>
                  </a:lnTo>
                  <a:lnTo>
                    <a:pt x="1514" y="1728"/>
                  </a:lnTo>
                  <a:lnTo>
                    <a:pt x="1505" y="1748"/>
                  </a:lnTo>
                  <a:lnTo>
                    <a:pt x="1494" y="1768"/>
                  </a:lnTo>
                  <a:lnTo>
                    <a:pt x="1484" y="1785"/>
                  </a:lnTo>
                  <a:lnTo>
                    <a:pt x="1472" y="1802"/>
                  </a:lnTo>
                  <a:lnTo>
                    <a:pt x="1459" y="1821"/>
                  </a:lnTo>
                  <a:lnTo>
                    <a:pt x="1446" y="1840"/>
                  </a:lnTo>
                  <a:lnTo>
                    <a:pt x="1432" y="1857"/>
                  </a:lnTo>
                  <a:lnTo>
                    <a:pt x="1419" y="1873"/>
                  </a:lnTo>
                  <a:lnTo>
                    <a:pt x="1403" y="1889"/>
                  </a:lnTo>
                  <a:lnTo>
                    <a:pt x="1388" y="1904"/>
                  </a:lnTo>
                  <a:lnTo>
                    <a:pt x="1372" y="1919"/>
                  </a:lnTo>
                  <a:lnTo>
                    <a:pt x="1356" y="1933"/>
                  </a:lnTo>
                  <a:lnTo>
                    <a:pt x="1338" y="1945"/>
                  </a:lnTo>
                  <a:lnTo>
                    <a:pt x="1321" y="1957"/>
                  </a:lnTo>
                  <a:lnTo>
                    <a:pt x="1302" y="1969"/>
                  </a:lnTo>
                  <a:lnTo>
                    <a:pt x="1284" y="1980"/>
                  </a:lnTo>
                  <a:lnTo>
                    <a:pt x="1264" y="1991"/>
                  </a:lnTo>
                  <a:lnTo>
                    <a:pt x="1244" y="2000"/>
                  </a:lnTo>
                  <a:lnTo>
                    <a:pt x="1223" y="2008"/>
                  </a:lnTo>
                  <a:lnTo>
                    <a:pt x="1202" y="2016"/>
                  </a:lnTo>
                  <a:lnTo>
                    <a:pt x="1183" y="2023"/>
                  </a:lnTo>
                  <a:lnTo>
                    <a:pt x="1160" y="2030"/>
                  </a:lnTo>
                  <a:lnTo>
                    <a:pt x="1138" y="2036"/>
                  </a:lnTo>
                  <a:lnTo>
                    <a:pt x="1115" y="2041"/>
                  </a:lnTo>
                  <a:lnTo>
                    <a:pt x="1090" y="2047"/>
                  </a:lnTo>
                  <a:lnTo>
                    <a:pt x="1064" y="2051"/>
                  </a:lnTo>
                  <a:lnTo>
                    <a:pt x="1037" y="2055"/>
                  </a:lnTo>
                  <a:lnTo>
                    <a:pt x="1009" y="2058"/>
                  </a:lnTo>
                  <a:lnTo>
                    <a:pt x="950" y="2065"/>
                  </a:lnTo>
                  <a:lnTo>
                    <a:pt x="886" y="2069"/>
                  </a:lnTo>
                  <a:lnTo>
                    <a:pt x="819" y="2072"/>
                  </a:lnTo>
                  <a:lnTo>
                    <a:pt x="747" y="2072"/>
                  </a:lnTo>
                  <a:lnTo>
                    <a:pt x="0" y="2072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817" y="1"/>
                  </a:lnTo>
                  <a:lnTo>
                    <a:pt x="885" y="4"/>
                  </a:lnTo>
                  <a:lnTo>
                    <a:pt x="948" y="8"/>
                  </a:lnTo>
                  <a:lnTo>
                    <a:pt x="1007" y="14"/>
                  </a:lnTo>
                  <a:lnTo>
                    <a:pt x="1035" y="18"/>
                  </a:lnTo>
                  <a:lnTo>
                    <a:pt x="1062" y="22"/>
                  </a:lnTo>
                  <a:lnTo>
                    <a:pt x="1087" y="27"/>
                  </a:lnTo>
                  <a:lnTo>
                    <a:pt x="1112" y="32"/>
                  </a:lnTo>
                  <a:lnTo>
                    <a:pt x="1135" y="37"/>
                  </a:lnTo>
                  <a:lnTo>
                    <a:pt x="1158" y="43"/>
                  </a:lnTo>
                  <a:lnTo>
                    <a:pt x="1179" y="49"/>
                  </a:lnTo>
                  <a:lnTo>
                    <a:pt x="1200" y="56"/>
                  </a:lnTo>
                  <a:lnTo>
                    <a:pt x="1221" y="64"/>
                  </a:lnTo>
                  <a:lnTo>
                    <a:pt x="1241" y="72"/>
                  </a:lnTo>
                  <a:lnTo>
                    <a:pt x="1262" y="83"/>
                  </a:lnTo>
                  <a:lnTo>
                    <a:pt x="1280" y="92"/>
                  </a:lnTo>
                  <a:lnTo>
                    <a:pt x="1299" y="104"/>
                  </a:lnTo>
                  <a:lnTo>
                    <a:pt x="1317" y="115"/>
                  </a:lnTo>
                  <a:lnTo>
                    <a:pt x="1335" y="127"/>
                  </a:lnTo>
                  <a:lnTo>
                    <a:pt x="1352" y="141"/>
                  </a:lnTo>
                  <a:lnTo>
                    <a:pt x="1369" y="154"/>
                  </a:lnTo>
                  <a:lnTo>
                    <a:pt x="1385" y="169"/>
                  </a:lnTo>
                  <a:lnTo>
                    <a:pt x="1401" y="184"/>
                  </a:lnTo>
                  <a:lnTo>
                    <a:pt x="1415" y="200"/>
                  </a:lnTo>
                  <a:lnTo>
                    <a:pt x="1430" y="217"/>
                  </a:lnTo>
                  <a:lnTo>
                    <a:pt x="1444" y="233"/>
                  </a:lnTo>
                  <a:lnTo>
                    <a:pt x="1457" y="251"/>
                  </a:lnTo>
                  <a:lnTo>
                    <a:pt x="1470" y="270"/>
                  </a:lnTo>
                  <a:lnTo>
                    <a:pt x="1481" y="287"/>
                  </a:lnTo>
                  <a:lnTo>
                    <a:pt x="1492" y="306"/>
                  </a:lnTo>
                  <a:lnTo>
                    <a:pt x="1501" y="326"/>
                  </a:lnTo>
                  <a:lnTo>
                    <a:pt x="1510" y="346"/>
                  </a:lnTo>
                  <a:lnTo>
                    <a:pt x="1520" y="367"/>
                  </a:lnTo>
                  <a:lnTo>
                    <a:pt x="1529" y="387"/>
                  </a:lnTo>
                  <a:lnTo>
                    <a:pt x="1537" y="410"/>
                  </a:lnTo>
                  <a:lnTo>
                    <a:pt x="1544" y="433"/>
                  </a:lnTo>
                  <a:lnTo>
                    <a:pt x="1551" y="457"/>
                  </a:lnTo>
                  <a:lnTo>
                    <a:pt x="1558" y="482"/>
                  </a:lnTo>
                  <a:lnTo>
                    <a:pt x="1564" y="506"/>
                  </a:lnTo>
                  <a:lnTo>
                    <a:pt x="1570" y="533"/>
                  </a:lnTo>
                  <a:lnTo>
                    <a:pt x="1576" y="558"/>
                  </a:lnTo>
                  <a:lnTo>
                    <a:pt x="1580" y="586"/>
                  </a:lnTo>
                  <a:lnTo>
                    <a:pt x="1585" y="614"/>
                  </a:lnTo>
                  <a:lnTo>
                    <a:pt x="1588" y="643"/>
                  </a:lnTo>
                  <a:lnTo>
                    <a:pt x="1591" y="675"/>
                  </a:lnTo>
                  <a:lnTo>
                    <a:pt x="1593" y="712"/>
                  </a:lnTo>
                  <a:lnTo>
                    <a:pt x="1595" y="753"/>
                  </a:lnTo>
                  <a:lnTo>
                    <a:pt x="1596" y="800"/>
                  </a:lnTo>
                  <a:lnTo>
                    <a:pt x="1599" y="851"/>
                  </a:lnTo>
                  <a:lnTo>
                    <a:pt x="1599" y="908"/>
                  </a:lnTo>
                  <a:lnTo>
                    <a:pt x="1600" y="971"/>
                  </a:lnTo>
                  <a:lnTo>
                    <a:pt x="1600" y="1037"/>
                  </a:lnTo>
                  <a:close/>
                  <a:moveTo>
                    <a:pt x="1322" y="1037"/>
                  </a:moveTo>
                  <a:lnTo>
                    <a:pt x="1322" y="978"/>
                  </a:lnTo>
                  <a:lnTo>
                    <a:pt x="1321" y="920"/>
                  </a:lnTo>
                  <a:lnTo>
                    <a:pt x="1319" y="865"/>
                  </a:lnTo>
                  <a:lnTo>
                    <a:pt x="1316" y="813"/>
                  </a:lnTo>
                  <a:lnTo>
                    <a:pt x="1313" y="764"/>
                  </a:lnTo>
                  <a:lnTo>
                    <a:pt x="1308" y="718"/>
                  </a:lnTo>
                  <a:lnTo>
                    <a:pt x="1303" y="673"/>
                  </a:lnTo>
                  <a:lnTo>
                    <a:pt x="1298" y="632"/>
                  </a:lnTo>
                  <a:lnTo>
                    <a:pt x="1291" y="593"/>
                  </a:lnTo>
                  <a:lnTo>
                    <a:pt x="1283" y="557"/>
                  </a:lnTo>
                  <a:lnTo>
                    <a:pt x="1274" y="523"/>
                  </a:lnTo>
                  <a:lnTo>
                    <a:pt x="1265" y="493"/>
                  </a:lnTo>
                  <a:lnTo>
                    <a:pt x="1256" y="465"/>
                  </a:lnTo>
                  <a:lnTo>
                    <a:pt x="1245" y="440"/>
                  </a:lnTo>
                  <a:lnTo>
                    <a:pt x="1234" y="418"/>
                  </a:lnTo>
                  <a:lnTo>
                    <a:pt x="1221" y="397"/>
                  </a:lnTo>
                  <a:lnTo>
                    <a:pt x="1212" y="385"/>
                  </a:lnTo>
                  <a:lnTo>
                    <a:pt x="1202" y="374"/>
                  </a:lnTo>
                  <a:lnTo>
                    <a:pt x="1192" y="363"/>
                  </a:lnTo>
                  <a:lnTo>
                    <a:pt x="1181" y="353"/>
                  </a:lnTo>
                  <a:lnTo>
                    <a:pt x="1170" y="342"/>
                  </a:lnTo>
                  <a:lnTo>
                    <a:pt x="1157" y="333"/>
                  </a:lnTo>
                  <a:lnTo>
                    <a:pt x="1144" y="324"/>
                  </a:lnTo>
                  <a:lnTo>
                    <a:pt x="1130" y="315"/>
                  </a:lnTo>
                  <a:lnTo>
                    <a:pt x="1116" y="307"/>
                  </a:lnTo>
                  <a:lnTo>
                    <a:pt x="1101" y="300"/>
                  </a:lnTo>
                  <a:lnTo>
                    <a:pt x="1085" y="293"/>
                  </a:lnTo>
                  <a:lnTo>
                    <a:pt x="1069" y="286"/>
                  </a:lnTo>
                  <a:lnTo>
                    <a:pt x="1051" y="282"/>
                  </a:lnTo>
                  <a:lnTo>
                    <a:pt x="1034" y="276"/>
                  </a:lnTo>
                  <a:lnTo>
                    <a:pt x="1015" y="271"/>
                  </a:lnTo>
                  <a:lnTo>
                    <a:pt x="996" y="267"/>
                  </a:lnTo>
                  <a:lnTo>
                    <a:pt x="974" y="263"/>
                  </a:lnTo>
                  <a:lnTo>
                    <a:pt x="949" y="261"/>
                  </a:lnTo>
                  <a:lnTo>
                    <a:pt x="921" y="257"/>
                  </a:lnTo>
                  <a:lnTo>
                    <a:pt x="888" y="256"/>
                  </a:lnTo>
                  <a:lnTo>
                    <a:pt x="853" y="254"/>
                  </a:lnTo>
                  <a:lnTo>
                    <a:pt x="814" y="253"/>
                  </a:lnTo>
                  <a:lnTo>
                    <a:pt x="772" y="251"/>
                  </a:lnTo>
                  <a:lnTo>
                    <a:pt x="727" y="251"/>
                  </a:lnTo>
                  <a:lnTo>
                    <a:pt x="272" y="251"/>
                  </a:lnTo>
                  <a:lnTo>
                    <a:pt x="272" y="1821"/>
                  </a:lnTo>
                  <a:lnTo>
                    <a:pt x="727" y="1821"/>
                  </a:lnTo>
                  <a:lnTo>
                    <a:pt x="772" y="1821"/>
                  </a:lnTo>
                  <a:lnTo>
                    <a:pt x="814" y="1820"/>
                  </a:lnTo>
                  <a:lnTo>
                    <a:pt x="853" y="1819"/>
                  </a:lnTo>
                  <a:lnTo>
                    <a:pt x="888" y="1818"/>
                  </a:lnTo>
                  <a:lnTo>
                    <a:pt x="921" y="1815"/>
                  </a:lnTo>
                  <a:lnTo>
                    <a:pt x="949" y="1813"/>
                  </a:lnTo>
                  <a:lnTo>
                    <a:pt x="974" y="1809"/>
                  </a:lnTo>
                  <a:lnTo>
                    <a:pt x="996" y="1806"/>
                  </a:lnTo>
                  <a:lnTo>
                    <a:pt x="1015" y="1802"/>
                  </a:lnTo>
                  <a:lnTo>
                    <a:pt x="1034" y="1798"/>
                  </a:lnTo>
                  <a:lnTo>
                    <a:pt x="1051" y="1793"/>
                  </a:lnTo>
                  <a:lnTo>
                    <a:pt x="1069" y="1787"/>
                  </a:lnTo>
                  <a:lnTo>
                    <a:pt x="1085" y="1782"/>
                  </a:lnTo>
                  <a:lnTo>
                    <a:pt x="1101" y="1775"/>
                  </a:lnTo>
                  <a:lnTo>
                    <a:pt x="1116" y="1768"/>
                  </a:lnTo>
                  <a:lnTo>
                    <a:pt x="1130" y="1759"/>
                  </a:lnTo>
                  <a:lnTo>
                    <a:pt x="1144" y="1751"/>
                  </a:lnTo>
                  <a:lnTo>
                    <a:pt x="1157" y="1743"/>
                  </a:lnTo>
                  <a:lnTo>
                    <a:pt x="1170" y="1734"/>
                  </a:lnTo>
                  <a:lnTo>
                    <a:pt x="1181" y="1723"/>
                  </a:lnTo>
                  <a:lnTo>
                    <a:pt x="1192" y="1713"/>
                  </a:lnTo>
                  <a:lnTo>
                    <a:pt x="1202" y="1702"/>
                  </a:lnTo>
                  <a:lnTo>
                    <a:pt x="1212" y="1691"/>
                  </a:lnTo>
                  <a:lnTo>
                    <a:pt x="1221" y="1678"/>
                  </a:lnTo>
                  <a:lnTo>
                    <a:pt x="1234" y="1658"/>
                  </a:lnTo>
                  <a:lnTo>
                    <a:pt x="1245" y="1636"/>
                  </a:lnTo>
                  <a:lnTo>
                    <a:pt x="1256" y="1611"/>
                  </a:lnTo>
                  <a:lnTo>
                    <a:pt x="1265" y="1583"/>
                  </a:lnTo>
                  <a:lnTo>
                    <a:pt x="1274" y="1552"/>
                  </a:lnTo>
                  <a:lnTo>
                    <a:pt x="1283" y="1519"/>
                  </a:lnTo>
                  <a:lnTo>
                    <a:pt x="1291" y="1483"/>
                  </a:lnTo>
                  <a:lnTo>
                    <a:pt x="1298" y="1444"/>
                  </a:lnTo>
                  <a:lnTo>
                    <a:pt x="1303" y="1402"/>
                  </a:lnTo>
                  <a:lnTo>
                    <a:pt x="1308" y="1358"/>
                  </a:lnTo>
                  <a:lnTo>
                    <a:pt x="1313" y="1312"/>
                  </a:lnTo>
                  <a:lnTo>
                    <a:pt x="1316" y="1262"/>
                  </a:lnTo>
                  <a:lnTo>
                    <a:pt x="1319" y="1211"/>
                  </a:lnTo>
                  <a:lnTo>
                    <a:pt x="1321" y="1156"/>
                  </a:lnTo>
                  <a:lnTo>
                    <a:pt x="1322" y="1098"/>
                  </a:lnTo>
                  <a:lnTo>
                    <a:pt x="1322" y="1037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20800" y="1470600"/>
              <a:ext cx="285840" cy="302760"/>
            </a:xfrm>
            <a:custGeom>
              <a:avLst/>
              <a:gdLst/>
              <a:ahLst/>
              <a:rect l="l" t="t" r="r" b="b"/>
              <a:pathLst>
                <a:path w="1876" h="2072">
                  <a:moveTo>
                    <a:pt x="1876" y="2072"/>
                  </a:moveTo>
                  <a:lnTo>
                    <a:pt x="1574" y="2072"/>
                  </a:lnTo>
                  <a:lnTo>
                    <a:pt x="1363" y="1501"/>
                  </a:lnTo>
                  <a:lnTo>
                    <a:pt x="495" y="1501"/>
                  </a:lnTo>
                  <a:lnTo>
                    <a:pt x="288" y="2072"/>
                  </a:lnTo>
                  <a:lnTo>
                    <a:pt x="0" y="2072"/>
                  </a:lnTo>
                  <a:lnTo>
                    <a:pt x="801" y="0"/>
                  </a:lnTo>
                  <a:lnTo>
                    <a:pt x="1076" y="0"/>
                  </a:lnTo>
                  <a:lnTo>
                    <a:pt x="1876" y="2072"/>
                  </a:lnTo>
                  <a:close/>
                  <a:moveTo>
                    <a:pt x="1275" y="1261"/>
                  </a:moveTo>
                  <a:lnTo>
                    <a:pt x="931" y="333"/>
                  </a:lnTo>
                  <a:lnTo>
                    <a:pt x="587" y="1261"/>
                  </a:lnTo>
                  <a:lnTo>
                    <a:pt x="1275" y="1261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7400" y="756720"/>
              <a:ext cx="250560" cy="533160"/>
            </a:xfrm>
            <a:custGeom>
              <a:avLst/>
              <a:gdLst/>
              <a:ahLst/>
              <a:rect l="l" t="t" r="r" b="b"/>
              <a:pathLst>
                <a:path w="1643" h="3649">
                  <a:moveTo>
                    <a:pt x="1643" y="2046"/>
                  </a:moveTo>
                  <a:lnTo>
                    <a:pt x="1628" y="2060"/>
                  </a:lnTo>
                  <a:lnTo>
                    <a:pt x="1609" y="2075"/>
                  </a:lnTo>
                  <a:lnTo>
                    <a:pt x="1592" y="2084"/>
                  </a:lnTo>
                  <a:lnTo>
                    <a:pt x="1573" y="2097"/>
                  </a:lnTo>
                  <a:lnTo>
                    <a:pt x="1552" y="2105"/>
                  </a:lnTo>
                  <a:lnTo>
                    <a:pt x="1531" y="2115"/>
                  </a:lnTo>
                  <a:lnTo>
                    <a:pt x="1510" y="2120"/>
                  </a:lnTo>
                  <a:lnTo>
                    <a:pt x="1486" y="2126"/>
                  </a:lnTo>
                  <a:lnTo>
                    <a:pt x="1461" y="2133"/>
                  </a:lnTo>
                  <a:lnTo>
                    <a:pt x="1435" y="2136"/>
                  </a:lnTo>
                  <a:lnTo>
                    <a:pt x="1380" y="2141"/>
                  </a:lnTo>
                  <a:lnTo>
                    <a:pt x="1321" y="2145"/>
                  </a:lnTo>
                  <a:lnTo>
                    <a:pt x="1254" y="2145"/>
                  </a:lnTo>
                  <a:lnTo>
                    <a:pt x="1206" y="2145"/>
                  </a:lnTo>
                  <a:lnTo>
                    <a:pt x="1161" y="2145"/>
                  </a:lnTo>
                  <a:lnTo>
                    <a:pt x="1118" y="2141"/>
                  </a:lnTo>
                  <a:lnTo>
                    <a:pt x="1077" y="2139"/>
                  </a:lnTo>
                  <a:lnTo>
                    <a:pt x="1038" y="2133"/>
                  </a:lnTo>
                  <a:lnTo>
                    <a:pt x="1002" y="2126"/>
                  </a:lnTo>
                  <a:lnTo>
                    <a:pt x="965" y="2120"/>
                  </a:lnTo>
                  <a:lnTo>
                    <a:pt x="932" y="2111"/>
                  </a:lnTo>
                  <a:lnTo>
                    <a:pt x="902" y="2103"/>
                  </a:lnTo>
                  <a:lnTo>
                    <a:pt x="872" y="2090"/>
                  </a:lnTo>
                  <a:lnTo>
                    <a:pt x="845" y="2079"/>
                  </a:lnTo>
                  <a:lnTo>
                    <a:pt x="818" y="2063"/>
                  </a:lnTo>
                  <a:lnTo>
                    <a:pt x="794" y="2046"/>
                  </a:lnTo>
                  <a:lnTo>
                    <a:pt x="773" y="2027"/>
                  </a:lnTo>
                  <a:lnTo>
                    <a:pt x="752" y="2009"/>
                  </a:lnTo>
                  <a:lnTo>
                    <a:pt x="731" y="1988"/>
                  </a:lnTo>
                  <a:lnTo>
                    <a:pt x="713" y="1965"/>
                  </a:lnTo>
                  <a:lnTo>
                    <a:pt x="698" y="1940"/>
                  </a:lnTo>
                  <a:lnTo>
                    <a:pt x="682" y="1913"/>
                  </a:lnTo>
                  <a:lnTo>
                    <a:pt x="667" y="1883"/>
                  </a:lnTo>
                  <a:lnTo>
                    <a:pt x="656" y="1849"/>
                  </a:lnTo>
                  <a:lnTo>
                    <a:pt x="644" y="1817"/>
                  </a:lnTo>
                  <a:lnTo>
                    <a:pt x="635" y="1781"/>
                  </a:lnTo>
                  <a:lnTo>
                    <a:pt x="625" y="1741"/>
                  </a:lnTo>
                  <a:lnTo>
                    <a:pt x="620" y="1703"/>
                  </a:lnTo>
                  <a:lnTo>
                    <a:pt x="610" y="1658"/>
                  </a:lnTo>
                  <a:lnTo>
                    <a:pt x="601" y="1565"/>
                  </a:lnTo>
                  <a:lnTo>
                    <a:pt x="599" y="1513"/>
                  </a:lnTo>
                  <a:lnTo>
                    <a:pt x="599" y="1459"/>
                  </a:lnTo>
                  <a:lnTo>
                    <a:pt x="595" y="1402"/>
                  </a:lnTo>
                  <a:lnTo>
                    <a:pt x="595" y="1345"/>
                  </a:lnTo>
                  <a:lnTo>
                    <a:pt x="599" y="1227"/>
                  </a:lnTo>
                  <a:lnTo>
                    <a:pt x="601" y="1122"/>
                  </a:lnTo>
                  <a:lnTo>
                    <a:pt x="605" y="1098"/>
                  </a:lnTo>
                  <a:lnTo>
                    <a:pt x="608" y="1074"/>
                  </a:lnTo>
                  <a:lnTo>
                    <a:pt x="610" y="1029"/>
                  </a:lnTo>
                  <a:lnTo>
                    <a:pt x="620" y="983"/>
                  </a:lnTo>
                  <a:lnTo>
                    <a:pt x="625" y="945"/>
                  </a:lnTo>
                  <a:lnTo>
                    <a:pt x="635" y="905"/>
                  </a:lnTo>
                  <a:lnTo>
                    <a:pt x="644" y="869"/>
                  </a:lnTo>
                  <a:lnTo>
                    <a:pt x="656" y="833"/>
                  </a:lnTo>
                  <a:lnTo>
                    <a:pt x="667" y="803"/>
                  </a:lnTo>
                  <a:lnTo>
                    <a:pt x="682" y="773"/>
                  </a:lnTo>
                  <a:lnTo>
                    <a:pt x="698" y="746"/>
                  </a:lnTo>
                  <a:lnTo>
                    <a:pt x="713" y="719"/>
                  </a:lnTo>
                  <a:lnTo>
                    <a:pt x="731" y="695"/>
                  </a:lnTo>
                  <a:lnTo>
                    <a:pt x="752" y="674"/>
                  </a:lnTo>
                  <a:lnTo>
                    <a:pt x="773" y="653"/>
                  </a:lnTo>
                  <a:lnTo>
                    <a:pt x="794" y="634"/>
                  </a:lnTo>
                  <a:lnTo>
                    <a:pt x="818" y="617"/>
                  </a:lnTo>
                  <a:lnTo>
                    <a:pt x="845" y="602"/>
                  </a:lnTo>
                  <a:lnTo>
                    <a:pt x="872" y="589"/>
                  </a:lnTo>
                  <a:lnTo>
                    <a:pt x="902" y="578"/>
                  </a:lnTo>
                  <a:lnTo>
                    <a:pt x="932" y="568"/>
                  </a:lnTo>
                  <a:lnTo>
                    <a:pt x="965" y="559"/>
                  </a:lnTo>
                  <a:lnTo>
                    <a:pt x="1002" y="551"/>
                  </a:lnTo>
                  <a:lnTo>
                    <a:pt x="1038" y="545"/>
                  </a:lnTo>
                  <a:lnTo>
                    <a:pt x="1077" y="541"/>
                  </a:lnTo>
                  <a:lnTo>
                    <a:pt x="1118" y="536"/>
                  </a:lnTo>
                  <a:lnTo>
                    <a:pt x="1161" y="532"/>
                  </a:lnTo>
                  <a:lnTo>
                    <a:pt x="1206" y="532"/>
                  </a:lnTo>
                  <a:lnTo>
                    <a:pt x="1254" y="532"/>
                  </a:lnTo>
                  <a:lnTo>
                    <a:pt x="1321" y="532"/>
                  </a:lnTo>
                  <a:lnTo>
                    <a:pt x="1351" y="536"/>
                  </a:lnTo>
                  <a:lnTo>
                    <a:pt x="1380" y="538"/>
                  </a:lnTo>
                  <a:lnTo>
                    <a:pt x="1438" y="547"/>
                  </a:lnTo>
                  <a:lnTo>
                    <a:pt x="1465" y="551"/>
                  </a:lnTo>
                  <a:lnTo>
                    <a:pt x="1489" y="557"/>
                  </a:lnTo>
                  <a:lnTo>
                    <a:pt x="1537" y="572"/>
                  </a:lnTo>
                  <a:lnTo>
                    <a:pt x="1577" y="589"/>
                  </a:lnTo>
                  <a:lnTo>
                    <a:pt x="1594" y="598"/>
                  </a:lnTo>
                  <a:lnTo>
                    <a:pt x="1613" y="610"/>
                  </a:lnTo>
                  <a:lnTo>
                    <a:pt x="1628" y="623"/>
                  </a:lnTo>
                  <a:lnTo>
                    <a:pt x="1643" y="634"/>
                  </a:lnTo>
                  <a:lnTo>
                    <a:pt x="1643" y="24"/>
                  </a:lnTo>
                  <a:lnTo>
                    <a:pt x="1577" y="15"/>
                  </a:lnTo>
                  <a:lnTo>
                    <a:pt x="1504" y="9"/>
                  </a:lnTo>
                  <a:lnTo>
                    <a:pt x="1468" y="5"/>
                  </a:lnTo>
                  <a:lnTo>
                    <a:pt x="1429" y="3"/>
                  </a:lnTo>
                  <a:lnTo>
                    <a:pt x="1389" y="3"/>
                  </a:lnTo>
                  <a:lnTo>
                    <a:pt x="1351" y="0"/>
                  </a:lnTo>
                  <a:lnTo>
                    <a:pt x="1296" y="0"/>
                  </a:lnTo>
                  <a:lnTo>
                    <a:pt x="1245" y="3"/>
                  </a:lnTo>
                  <a:lnTo>
                    <a:pt x="1192" y="5"/>
                  </a:lnTo>
                  <a:lnTo>
                    <a:pt x="1137" y="12"/>
                  </a:lnTo>
                  <a:lnTo>
                    <a:pt x="1082" y="18"/>
                  </a:lnTo>
                  <a:lnTo>
                    <a:pt x="1029" y="28"/>
                  </a:lnTo>
                  <a:lnTo>
                    <a:pt x="978" y="39"/>
                  </a:lnTo>
                  <a:lnTo>
                    <a:pt x="923" y="51"/>
                  </a:lnTo>
                  <a:lnTo>
                    <a:pt x="872" y="69"/>
                  </a:lnTo>
                  <a:lnTo>
                    <a:pt x="821" y="87"/>
                  </a:lnTo>
                  <a:lnTo>
                    <a:pt x="770" y="105"/>
                  </a:lnTo>
                  <a:lnTo>
                    <a:pt x="722" y="130"/>
                  </a:lnTo>
                  <a:lnTo>
                    <a:pt x="674" y="157"/>
                  </a:lnTo>
                  <a:lnTo>
                    <a:pt x="629" y="183"/>
                  </a:lnTo>
                  <a:lnTo>
                    <a:pt x="605" y="198"/>
                  </a:lnTo>
                  <a:lnTo>
                    <a:pt x="584" y="217"/>
                  </a:lnTo>
                  <a:lnTo>
                    <a:pt x="542" y="250"/>
                  </a:lnTo>
                  <a:lnTo>
                    <a:pt x="542" y="42"/>
                  </a:lnTo>
                  <a:lnTo>
                    <a:pt x="0" y="42"/>
                  </a:lnTo>
                  <a:lnTo>
                    <a:pt x="0" y="1844"/>
                  </a:lnTo>
                  <a:lnTo>
                    <a:pt x="0" y="3649"/>
                  </a:lnTo>
                  <a:lnTo>
                    <a:pt x="601" y="3649"/>
                  </a:lnTo>
                  <a:lnTo>
                    <a:pt x="601" y="2448"/>
                  </a:lnTo>
                  <a:lnTo>
                    <a:pt x="635" y="2482"/>
                  </a:lnTo>
                  <a:lnTo>
                    <a:pt x="667" y="2512"/>
                  </a:lnTo>
                  <a:lnTo>
                    <a:pt x="703" y="2539"/>
                  </a:lnTo>
                  <a:lnTo>
                    <a:pt x="739" y="2563"/>
                  </a:lnTo>
                  <a:lnTo>
                    <a:pt x="779" y="2584"/>
                  </a:lnTo>
                  <a:lnTo>
                    <a:pt x="818" y="2602"/>
                  </a:lnTo>
                  <a:lnTo>
                    <a:pt x="860" y="2617"/>
                  </a:lnTo>
                  <a:lnTo>
                    <a:pt x="900" y="2632"/>
                  </a:lnTo>
                  <a:lnTo>
                    <a:pt x="944" y="2644"/>
                  </a:lnTo>
                  <a:lnTo>
                    <a:pt x="987" y="2653"/>
                  </a:lnTo>
                  <a:lnTo>
                    <a:pt x="1035" y="2662"/>
                  </a:lnTo>
                  <a:lnTo>
                    <a:pt x="1080" y="2668"/>
                  </a:lnTo>
                  <a:lnTo>
                    <a:pt x="1128" y="2672"/>
                  </a:lnTo>
                  <a:lnTo>
                    <a:pt x="1177" y="2674"/>
                  </a:lnTo>
                  <a:lnTo>
                    <a:pt x="1228" y="2677"/>
                  </a:lnTo>
                  <a:lnTo>
                    <a:pt x="1281" y="2677"/>
                  </a:lnTo>
                  <a:lnTo>
                    <a:pt x="1330" y="2677"/>
                  </a:lnTo>
                  <a:lnTo>
                    <a:pt x="1380" y="2674"/>
                  </a:lnTo>
                  <a:lnTo>
                    <a:pt x="1425" y="2672"/>
                  </a:lnTo>
                  <a:lnTo>
                    <a:pt x="1474" y="2668"/>
                  </a:lnTo>
                  <a:lnTo>
                    <a:pt x="1516" y="2662"/>
                  </a:lnTo>
                  <a:lnTo>
                    <a:pt x="1561" y="2656"/>
                  </a:lnTo>
                  <a:lnTo>
                    <a:pt x="1603" y="2647"/>
                  </a:lnTo>
                  <a:lnTo>
                    <a:pt x="1643" y="2638"/>
                  </a:lnTo>
                  <a:lnTo>
                    <a:pt x="1643" y="2046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02520" y="549360"/>
              <a:ext cx="356400" cy="335880"/>
            </a:xfrm>
            <a:custGeom>
              <a:avLst/>
              <a:gdLst/>
              <a:ahLst/>
              <a:rect l="l" t="t" r="r" b="b"/>
              <a:pathLst>
                <a:path w="2339" h="2297">
                  <a:moveTo>
                    <a:pt x="0" y="1145"/>
                  </a:moveTo>
                  <a:lnTo>
                    <a:pt x="2" y="1061"/>
                  </a:lnTo>
                  <a:lnTo>
                    <a:pt x="2" y="980"/>
                  </a:lnTo>
                  <a:lnTo>
                    <a:pt x="6" y="940"/>
                  </a:lnTo>
                  <a:lnTo>
                    <a:pt x="8" y="904"/>
                  </a:lnTo>
                  <a:lnTo>
                    <a:pt x="15" y="832"/>
                  </a:lnTo>
                  <a:lnTo>
                    <a:pt x="23" y="764"/>
                  </a:lnTo>
                  <a:lnTo>
                    <a:pt x="32" y="697"/>
                  </a:lnTo>
                  <a:lnTo>
                    <a:pt x="44" y="637"/>
                  </a:lnTo>
                  <a:lnTo>
                    <a:pt x="59" y="580"/>
                  </a:lnTo>
                  <a:lnTo>
                    <a:pt x="74" y="523"/>
                  </a:lnTo>
                  <a:lnTo>
                    <a:pt x="93" y="472"/>
                  </a:lnTo>
                  <a:lnTo>
                    <a:pt x="114" y="423"/>
                  </a:lnTo>
                  <a:lnTo>
                    <a:pt x="138" y="379"/>
                  </a:lnTo>
                  <a:lnTo>
                    <a:pt x="162" y="336"/>
                  </a:lnTo>
                  <a:lnTo>
                    <a:pt x="189" y="297"/>
                  </a:lnTo>
                  <a:lnTo>
                    <a:pt x="205" y="279"/>
                  </a:lnTo>
                  <a:lnTo>
                    <a:pt x="220" y="261"/>
                  </a:lnTo>
                  <a:lnTo>
                    <a:pt x="252" y="228"/>
                  </a:lnTo>
                  <a:lnTo>
                    <a:pt x="288" y="197"/>
                  </a:lnTo>
                  <a:lnTo>
                    <a:pt x="307" y="182"/>
                  </a:lnTo>
                  <a:lnTo>
                    <a:pt x="328" y="167"/>
                  </a:lnTo>
                  <a:lnTo>
                    <a:pt x="370" y="144"/>
                  </a:lnTo>
                  <a:lnTo>
                    <a:pt x="411" y="119"/>
                  </a:lnTo>
                  <a:lnTo>
                    <a:pt x="459" y="98"/>
                  </a:lnTo>
                  <a:lnTo>
                    <a:pt x="508" y="80"/>
                  </a:lnTo>
                  <a:lnTo>
                    <a:pt x="561" y="62"/>
                  </a:lnTo>
                  <a:lnTo>
                    <a:pt x="616" y="47"/>
                  </a:lnTo>
                  <a:lnTo>
                    <a:pt x="677" y="36"/>
                  </a:lnTo>
                  <a:lnTo>
                    <a:pt x="737" y="26"/>
                  </a:lnTo>
                  <a:lnTo>
                    <a:pt x="802" y="17"/>
                  </a:lnTo>
                  <a:lnTo>
                    <a:pt x="836" y="14"/>
                  </a:lnTo>
                  <a:lnTo>
                    <a:pt x="872" y="8"/>
                  </a:lnTo>
                  <a:lnTo>
                    <a:pt x="944" y="5"/>
                  </a:lnTo>
                  <a:lnTo>
                    <a:pt x="1020" y="2"/>
                  </a:lnTo>
                  <a:lnTo>
                    <a:pt x="1097" y="0"/>
                  </a:lnTo>
                  <a:lnTo>
                    <a:pt x="1181" y="0"/>
                  </a:lnTo>
                  <a:lnTo>
                    <a:pt x="1263" y="0"/>
                  </a:lnTo>
                  <a:lnTo>
                    <a:pt x="1344" y="2"/>
                  </a:lnTo>
                  <a:lnTo>
                    <a:pt x="1420" y="5"/>
                  </a:lnTo>
                  <a:lnTo>
                    <a:pt x="1492" y="11"/>
                  </a:lnTo>
                  <a:lnTo>
                    <a:pt x="1560" y="17"/>
                  </a:lnTo>
                  <a:lnTo>
                    <a:pt x="1594" y="21"/>
                  </a:lnTo>
                  <a:lnTo>
                    <a:pt x="1624" y="26"/>
                  </a:lnTo>
                  <a:lnTo>
                    <a:pt x="1687" y="36"/>
                  </a:lnTo>
                  <a:lnTo>
                    <a:pt x="1744" y="47"/>
                  </a:lnTo>
                  <a:lnTo>
                    <a:pt x="1801" y="62"/>
                  </a:lnTo>
                  <a:lnTo>
                    <a:pt x="1852" y="80"/>
                  </a:lnTo>
                  <a:lnTo>
                    <a:pt x="1901" y="98"/>
                  </a:lnTo>
                  <a:lnTo>
                    <a:pt x="1946" y="119"/>
                  </a:lnTo>
                  <a:lnTo>
                    <a:pt x="1990" y="144"/>
                  </a:lnTo>
                  <a:lnTo>
                    <a:pt x="2030" y="171"/>
                  </a:lnTo>
                  <a:lnTo>
                    <a:pt x="2066" y="197"/>
                  </a:lnTo>
                  <a:lnTo>
                    <a:pt x="2102" y="228"/>
                  </a:lnTo>
                  <a:lnTo>
                    <a:pt x="2117" y="246"/>
                  </a:lnTo>
                  <a:lnTo>
                    <a:pt x="2132" y="261"/>
                  </a:lnTo>
                  <a:lnTo>
                    <a:pt x="2162" y="300"/>
                  </a:lnTo>
                  <a:lnTo>
                    <a:pt x="2189" y="339"/>
                  </a:lnTo>
                  <a:lnTo>
                    <a:pt x="2214" y="381"/>
                  </a:lnTo>
                  <a:lnTo>
                    <a:pt x="2235" y="426"/>
                  </a:lnTo>
                  <a:lnTo>
                    <a:pt x="2256" y="474"/>
                  </a:lnTo>
                  <a:lnTo>
                    <a:pt x="2271" y="525"/>
                  </a:lnTo>
                  <a:lnTo>
                    <a:pt x="2286" y="580"/>
                  </a:lnTo>
                  <a:lnTo>
                    <a:pt x="2301" y="637"/>
                  </a:lnTo>
                  <a:lnTo>
                    <a:pt x="2310" y="700"/>
                  </a:lnTo>
                  <a:lnTo>
                    <a:pt x="2318" y="764"/>
                  </a:lnTo>
                  <a:lnTo>
                    <a:pt x="2328" y="832"/>
                  </a:lnTo>
                  <a:lnTo>
                    <a:pt x="2333" y="904"/>
                  </a:lnTo>
                  <a:lnTo>
                    <a:pt x="2337" y="980"/>
                  </a:lnTo>
                  <a:lnTo>
                    <a:pt x="2339" y="1061"/>
                  </a:lnTo>
                  <a:lnTo>
                    <a:pt x="2339" y="1145"/>
                  </a:lnTo>
                  <a:lnTo>
                    <a:pt x="2339" y="1226"/>
                  </a:lnTo>
                  <a:lnTo>
                    <a:pt x="2337" y="1308"/>
                  </a:lnTo>
                  <a:lnTo>
                    <a:pt x="2333" y="1383"/>
                  </a:lnTo>
                  <a:lnTo>
                    <a:pt x="2328" y="1455"/>
                  </a:lnTo>
                  <a:lnTo>
                    <a:pt x="2318" y="1524"/>
                  </a:lnTo>
                  <a:lnTo>
                    <a:pt x="2310" y="1588"/>
                  </a:lnTo>
                  <a:lnTo>
                    <a:pt x="2297" y="1651"/>
                  </a:lnTo>
                  <a:lnTo>
                    <a:pt x="2292" y="1677"/>
                  </a:lnTo>
                  <a:lnTo>
                    <a:pt x="2286" y="1708"/>
                  </a:lnTo>
                  <a:lnTo>
                    <a:pt x="2280" y="1734"/>
                  </a:lnTo>
                  <a:lnTo>
                    <a:pt x="2271" y="1762"/>
                  </a:lnTo>
                  <a:lnTo>
                    <a:pt x="2252" y="1813"/>
                  </a:lnTo>
                  <a:lnTo>
                    <a:pt x="2231" y="1861"/>
                  </a:lnTo>
                  <a:lnTo>
                    <a:pt x="2210" y="1909"/>
                  </a:lnTo>
                  <a:lnTo>
                    <a:pt x="2199" y="1931"/>
                  </a:lnTo>
                  <a:lnTo>
                    <a:pt x="2186" y="1952"/>
                  </a:lnTo>
                  <a:lnTo>
                    <a:pt x="2174" y="1969"/>
                  </a:lnTo>
                  <a:lnTo>
                    <a:pt x="2159" y="1990"/>
                  </a:lnTo>
                  <a:lnTo>
                    <a:pt x="2144" y="2009"/>
                  </a:lnTo>
                  <a:lnTo>
                    <a:pt x="2129" y="2026"/>
                  </a:lnTo>
                  <a:lnTo>
                    <a:pt x="2114" y="2045"/>
                  </a:lnTo>
                  <a:lnTo>
                    <a:pt x="2099" y="2060"/>
                  </a:lnTo>
                  <a:lnTo>
                    <a:pt x="2062" y="2093"/>
                  </a:lnTo>
                  <a:lnTo>
                    <a:pt x="2026" y="2119"/>
                  </a:lnTo>
                  <a:lnTo>
                    <a:pt x="1985" y="2147"/>
                  </a:lnTo>
                  <a:lnTo>
                    <a:pt x="1943" y="2170"/>
                  </a:lnTo>
                  <a:lnTo>
                    <a:pt x="1895" y="2193"/>
                  </a:lnTo>
                  <a:lnTo>
                    <a:pt x="1846" y="2213"/>
                  </a:lnTo>
                  <a:lnTo>
                    <a:pt x="1795" y="2229"/>
                  </a:lnTo>
                  <a:lnTo>
                    <a:pt x="1738" y="2244"/>
                  </a:lnTo>
                  <a:lnTo>
                    <a:pt x="1681" y="2259"/>
                  </a:lnTo>
                  <a:lnTo>
                    <a:pt x="1618" y="2267"/>
                  </a:lnTo>
                  <a:lnTo>
                    <a:pt x="1554" y="2276"/>
                  </a:lnTo>
                  <a:lnTo>
                    <a:pt x="1486" y="2286"/>
                  </a:lnTo>
                  <a:lnTo>
                    <a:pt x="1414" y="2288"/>
                  </a:lnTo>
                  <a:lnTo>
                    <a:pt x="1335" y="2295"/>
                  </a:lnTo>
                  <a:lnTo>
                    <a:pt x="1257" y="2295"/>
                  </a:lnTo>
                  <a:lnTo>
                    <a:pt x="1173" y="2297"/>
                  </a:lnTo>
                  <a:lnTo>
                    <a:pt x="1092" y="2295"/>
                  </a:lnTo>
                  <a:lnTo>
                    <a:pt x="1014" y="2295"/>
                  </a:lnTo>
                  <a:lnTo>
                    <a:pt x="938" y="2288"/>
                  </a:lnTo>
                  <a:lnTo>
                    <a:pt x="866" y="2286"/>
                  </a:lnTo>
                  <a:lnTo>
                    <a:pt x="796" y="2276"/>
                  </a:lnTo>
                  <a:lnTo>
                    <a:pt x="734" y="2267"/>
                  </a:lnTo>
                  <a:lnTo>
                    <a:pt x="700" y="2261"/>
                  </a:lnTo>
                  <a:lnTo>
                    <a:pt x="671" y="2259"/>
                  </a:lnTo>
                  <a:lnTo>
                    <a:pt x="613" y="2244"/>
                  </a:lnTo>
                  <a:lnTo>
                    <a:pt x="556" y="2229"/>
                  </a:lnTo>
                  <a:lnTo>
                    <a:pt x="504" y="2210"/>
                  </a:lnTo>
                  <a:lnTo>
                    <a:pt x="457" y="2193"/>
                  </a:lnTo>
                  <a:lnTo>
                    <a:pt x="409" y="2170"/>
                  </a:lnTo>
                  <a:lnTo>
                    <a:pt x="366" y="2147"/>
                  </a:lnTo>
                  <a:lnTo>
                    <a:pt x="324" y="2119"/>
                  </a:lnTo>
                  <a:lnTo>
                    <a:pt x="285" y="2090"/>
                  </a:lnTo>
                  <a:lnTo>
                    <a:pt x="267" y="2075"/>
                  </a:lnTo>
                  <a:lnTo>
                    <a:pt x="252" y="2060"/>
                  </a:lnTo>
                  <a:lnTo>
                    <a:pt x="220" y="2026"/>
                  </a:lnTo>
                  <a:lnTo>
                    <a:pt x="189" y="1988"/>
                  </a:lnTo>
                  <a:lnTo>
                    <a:pt x="162" y="1948"/>
                  </a:lnTo>
                  <a:lnTo>
                    <a:pt x="135" y="1906"/>
                  </a:lnTo>
                  <a:lnTo>
                    <a:pt x="123" y="1886"/>
                  </a:lnTo>
                  <a:lnTo>
                    <a:pt x="114" y="1861"/>
                  </a:lnTo>
                  <a:lnTo>
                    <a:pt x="102" y="1837"/>
                  </a:lnTo>
                  <a:lnTo>
                    <a:pt x="93" y="1813"/>
                  </a:lnTo>
                  <a:lnTo>
                    <a:pt x="84" y="1786"/>
                  </a:lnTo>
                  <a:lnTo>
                    <a:pt x="74" y="1762"/>
                  </a:lnTo>
                  <a:lnTo>
                    <a:pt x="66" y="1734"/>
                  </a:lnTo>
                  <a:lnTo>
                    <a:pt x="57" y="1704"/>
                  </a:lnTo>
                  <a:lnTo>
                    <a:pt x="44" y="1647"/>
                  </a:lnTo>
                  <a:lnTo>
                    <a:pt x="32" y="1588"/>
                  </a:lnTo>
                  <a:lnTo>
                    <a:pt x="21" y="1522"/>
                  </a:lnTo>
                  <a:lnTo>
                    <a:pt x="15" y="1452"/>
                  </a:lnTo>
                  <a:lnTo>
                    <a:pt x="8" y="1383"/>
                  </a:lnTo>
                  <a:lnTo>
                    <a:pt x="2" y="1304"/>
                  </a:lnTo>
                  <a:lnTo>
                    <a:pt x="2" y="1266"/>
                  </a:lnTo>
                  <a:lnTo>
                    <a:pt x="2" y="1226"/>
                  </a:lnTo>
                  <a:lnTo>
                    <a:pt x="0" y="1145"/>
                  </a:lnTo>
                  <a:close/>
                  <a:moveTo>
                    <a:pt x="2024" y="1145"/>
                  </a:moveTo>
                  <a:lnTo>
                    <a:pt x="2024" y="1079"/>
                  </a:lnTo>
                  <a:lnTo>
                    <a:pt x="2021" y="1019"/>
                  </a:lnTo>
                  <a:lnTo>
                    <a:pt x="2018" y="961"/>
                  </a:lnTo>
                  <a:lnTo>
                    <a:pt x="2015" y="908"/>
                  </a:lnTo>
                  <a:lnTo>
                    <a:pt x="2009" y="857"/>
                  </a:lnTo>
                  <a:lnTo>
                    <a:pt x="2003" y="808"/>
                  </a:lnTo>
                  <a:lnTo>
                    <a:pt x="1997" y="764"/>
                  </a:lnTo>
                  <a:lnTo>
                    <a:pt x="1988" y="718"/>
                  </a:lnTo>
                  <a:lnTo>
                    <a:pt x="1975" y="679"/>
                  </a:lnTo>
                  <a:lnTo>
                    <a:pt x="1964" y="643"/>
                  </a:lnTo>
                  <a:lnTo>
                    <a:pt x="1949" y="607"/>
                  </a:lnTo>
                  <a:lnTo>
                    <a:pt x="1933" y="576"/>
                  </a:lnTo>
                  <a:lnTo>
                    <a:pt x="1916" y="546"/>
                  </a:lnTo>
                  <a:lnTo>
                    <a:pt x="1897" y="519"/>
                  </a:lnTo>
                  <a:lnTo>
                    <a:pt x="1876" y="493"/>
                  </a:lnTo>
                  <a:lnTo>
                    <a:pt x="1856" y="472"/>
                  </a:lnTo>
                  <a:lnTo>
                    <a:pt x="1829" y="451"/>
                  </a:lnTo>
                  <a:lnTo>
                    <a:pt x="1801" y="430"/>
                  </a:lnTo>
                  <a:lnTo>
                    <a:pt x="1774" y="411"/>
                  </a:lnTo>
                  <a:lnTo>
                    <a:pt x="1742" y="396"/>
                  </a:lnTo>
                  <a:lnTo>
                    <a:pt x="1726" y="390"/>
                  </a:lnTo>
                  <a:lnTo>
                    <a:pt x="1708" y="385"/>
                  </a:lnTo>
                  <a:lnTo>
                    <a:pt x="1672" y="372"/>
                  </a:lnTo>
                  <a:lnTo>
                    <a:pt x="1632" y="360"/>
                  </a:lnTo>
                  <a:lnTo>
                    <a:pt x="1594" y="351"/>
                  </a:lnTo>
                  <a:lnTo>
                    <a:pt x="1549" y="345"/>
                  </a:lnTo>
                  <a:lnTo>
                    <a:pt x="1503" y="339"/>
                  </a:lnTo>
                  <a:lnTo>
                    <a:pt x="1456" y="333"/>
                  </a:lnTo>
                  <a:lnTo>
                    <a:pt x="1404" y="330"/>
                  </a:lnTo>
                  <a:lnTo>
                    <a:pt x="1293" y="324"/>
                  </a:lnTo>
                  <a:lnTo>
                    <a:pt x="1170" y="321"/>
                  </a:lnTo>
                  <a:lnTo>
                    <a:pt x="1050" y="324"/>
                  </a:lnTo>
                  <a:lnTo>
                    <a:pt x="995" y="328"/>
                  </a:lnTo>
                  <a:lnTo>
                    <a:pt x="941" y="330"/>
                  </a:lnTo>
                  <a:lnTo>
                    <a:pt x="893" y="333"/>
                  </a:lnTo>
                  <a:lnTo>
                    <a:pt x="845" y="339"/>
                  </a:lnTo>
                  <a:lnTo>
                    <a:pt x="800" y="345"/>
                  </a:lnTo>
                  <a:lnTo>
                    <a:pt x="754" y="354"/>
                  </a:lnTo>
                  <a:lnTo>
                    <a:pt x="715" y="364"/>
                  </a:lnTo>
                  <a:lnTo>
                    <a:pt x="677" y="372"/>
                  </a:lnTo>
                  <a:lnTo>
                    <a:pt x="641" y="385"/>
                  </a:lnTo>
                  <a:lnTo>
                    <a:pt x="607" y="400"/>
                  </a:lnTo>
                  <a:lnTo>
                    <a:pt x="574" y="415"/>
                  </a:lnTo>
                  <a:lnTo>
                    <a:pt x="548" y="432"/>
                  </a:lnTo>
                  <a:lnTo>
                    <a:pt x="532" y="441"/>
                  </a:lnTo>
                  <a:lnTo>
                    <a:pt x="520" y="453"/>
                  </a:lnTo>
                  <a:lnTo>
                    <a:pt x="493" y="474"/>
                  </a:lnTo>
                  <a:lnTo>
                    <a:pt x="468" y="495"/>
                  </a:lnTo>
                  <a:lnTo>
                    <a:pt x="448" y="523"/>
                  </a:lnTo>
                  <a:lnTo>
                    <a:pt x="430" y="550"/>
                  </a:lnTo>
                  <a:lnTo>
                    <a:pt x="411" y="580"/>
                  </a:lnTo>
                  <a:lnTo>
                    <a:pt x="402" y="595"/>
                  </a:lnTo>
                  <a:lnTo>
                    <a:pt x="394" y="612"/>
                  </a:lnTo>
                  <a:lnTo>
                    <a:pt x="381" y="646"/>
                  </a:lnTo>
                  <a:lnTo>
                    <a:pt x="366" y="684"/>
                  </a:lnTo>
                  <a:lnTo>
                    <a:pt x="358" y="724"/>
                  </a:lnTo>
                  <a:lnTo>
                    <a:pt x="345" y="766"/>
                  </a:lnTo>
                  <a:lnTo>
                    <a:pt x="339" y="811"/>
                  </a:lnTo>
                  <a:lnTo>
                    <a:pt x="330" y="859"/>
                  </a:lnTo>
                  <a:lnTo>
                    <a:pt x="328" y="910"/>
                  </a:lnTo>
                  <a:lnTo>
                    <a:pt x="321" y="965"/>
                  </a:lnTo>
                  <a:lnTo>
                    <a:pt x="318" y="1022"/>
                  </a:lnTo>
                  <a:lnTo>
                    <a:pt x="318" y="1082"/>
                  </a:lnTo>
                  <a:lnTo>
                    <a:pt x="315" y="1145"/>
                  </a:lnTo>
                  <a:lnTo>
                    <a:pt x="318" y="1209"/>
                  </a:lnTo>
                  <a:lnTo>
                    <a:pt x="318" y="1268"/>
                  </a:lnTo>
                  <a:lnTo>
                    <a:pt x="321" y="1325"/>
                  </a:lnTo>
                  <a:lnTo>
                    <a:pt x="328" y="1380"/>
                  </a:lnTo>
                  <a:lnTo>
                    <a:pt x="334" y="1427"/>
                  </a:lnTo>
                  <a:lnTo>
                    <a:pt x="339" y="1476"/>
                  </a:lnTo>
                  <a:lnTo>
                    <a:pt x="349" y="1524"/>
                  </a:lnTo>
                  <a:lnTo>
                    <a:pt x="358" y="1566"/>
                  </a:lnTo>
                  <a:lnTo>
                    <a:pt x="370" y="1605"/>
                  </a:lnTo>
                  <a:lnTo>
                    <a:pt x="375" y="1624"/>
                  </a:lnTo>
                  <a:lnTo>
                    <a:pt x="381" y="1641"/>
                  </a:lnTo>
                  <a:lnTo>
                    <a:pt x="396" y="1677"/>
                  </a:lnTo>
                  <a:lnTo>
                    <a:pt x="415" y="1711"/>
                  </a:lnTo>
                  <a:lnTo>
                    <a:pt x="432" y="1741"/>
                  </a:lnTo>
                  <a:lnTo>
                    <a:pt x="453" y="1768"/>
                  </a:lnTo>
                  <a:lnTo>
                    <a:pt x="474" y="1795"/>
                  </a:lnTo>
                  <a:lnTo>
                    <a:pt x="499" y="1819"/>
                  </a:lnTo>
                  <a:lnTo>
                    <a:pt x="523" y="1840"/>
                  </a:lnTo>
                  <a:lnTo>
                    <a:pt x="553" y="1858"/>
                  </a:lnTo>
                  <a:lnTo>
                    <a:pt x="584" y="1876"/>
                  </a:lnTo>
                  <a:lnTo>
                    <a:pt x="598" y="1886"/>
                  </a:lnTo>
                  <a:lnTo>
                    <a:pt x="613" y="1891"/>
                  </a:lnTo>
                  <a:lnTo>
                    <a:pt x="649" y="1906"/>
                  </a:lnTo>
                  <a:lnTo>
                    <a:pt x="686" y="1918"/>
                  </a:lnTo>
                  <a:lnTo>
                    <a:pt x="724" y="1931"/>
                  </a:lnTo>
                  <a:lnTo>
                    <a:pt x="764" y="1939"/>
                  </a:lnTo>
                  <a:lnTo>
                    <a:pt x="809" y="1948"/>
                  </a:lnTo>
                  <a:lnTo>
                    <a:pt x="853" y="1954"/>
                  </a:lnTo>
                  <a:lnTo>
                    <a:pt x="902" y="1960"/>
                  </a:lnTo>
                  <a:lnTo>
                    <a:pt x="953" y="1967"/>
                  </a:lnTo>
                  <a:lnTo>
                    <a:pt x="1007" y="1969"/>
                  </a:lnTo>
                  <a:lnTo>
                    <a:pt x="1061" y="1969"/>
                  </a:lnTo>
                  <a:lnTo>
                    <a:pt x="1122" y="1973"/>
                  </a:lnTo>
                  <a:lnTo>
                    <a:pt x="1181" y="1973"/>
                  </a:lnTo>
                  <a:lnTo>
                    <a:pt x="1304" y="1969"/>
                  </a:lnTo>
                  <a:lnTo>
                    <a:pt x="1359" y="1969"/>
                  </a:lnTo>
                  <a:lnTo>
                    <a:pt x="1414" y="1963"/>
                  </a:lnTo>
                  <a:lnTo>
                    <a:pt x="1465" y="1960"/>
                  </a:lnTo>
                  <a:lnTo>
                    <a:pt x="1513" y="1954"/>
                  </a:lnTo>
                  <a:lnTo>
                    <a:pt x="1558" y="1948"/>
                  </a:lnTo>
                  <a:lnTo>
                    <a:pt x="1600" y="1939"/>
                  </a:lnTo>
                  <a:lnTo>
                    <a:pt x="1642" y="1931"/>
                  </a:lnTo>
                  <a:lnTo>
                    <a:pt x="1678" y="1918"/>
                  </a:lnTo>
                  <a:lnTo>
                    <a:pt x="1714" y="1906"/>
                  </a:lnTo>
                  <a:lnTo>
                    <a:pt x="1747" y="1891"/>
                  </a:lnTo>
                  <a:lnTo>
                    <a:pt x="1778" y="1876"/>
                  </a:lnTo>
                  <a:lnTo>
                    <a:pt x="1808" y="1858"/>
                  </a:lnTo>
                  <a:lnTo>
                    <a:pt x="1835" y="1837"/>
                  </a:lnTo>
                  <a:lnTo>
                    <a:pt x="1858" y="1816"/>
                  </a:lnTo>
                  <a:lnTo>
                    <a:pt x="1880" y="1791"/>
                  </a:lnTo>
                  <a:lnTo>
                    <a:pt x="1892" y="1780"/>
                  </a:lnTo>
                  <a:lnTo>
                    <a:pt x="1901" y="1765"/>
                  </a:lnTo>
                  <a:lnTo>
                    <a:pt x="1918" y="1738"/>
                  </a:lnTo>
                  <a:lnTo>
                    <a:pt x="1937" y="1708"/>
                  </a:lnTo>
                  <a:lnTo>
                    <a:pt x="1952" y="1675"/>
                  </a:lnTo>
                  <a:lnTo>
                    <a:pt x="1967" y="1641"/>
                  </a:lnTo>
                  <a:lnTo>
                    <a:pt x="1979" y="1603"/>
                  </a:lnTo>
                  <a:lnTo>
                    <a:pt x="1988" y="1563"/>
                  </a:lnTo>
                  <a:lnTo>
                    <a:pt x="1997" y="1522"/>
                  </a:lnTo>
                  <a:lnTo>
                    <a:pt x="2003" y="1476"/>
                  </a:lnTo>
                  <a:lnTo>
                    <a:pt x="2009" y="1427"/>
                  </a:lnTo>
                  <a:lnTo>
                    <a:pt x="2015" y="1376"/>
                  </a:lnTo>
                  <a:lnTo>
                    <a:pt x="2018" y="1323"/>
                  </a:lnTo>
                  <a:lnTo>
                    <a:pt x="2021" y="1296"/>
                  </a:lnTo>
                  <a:lnTo>
                    <a:pt x="2021" y="1266"/>
                  </a:lnTo>
                  <a:lnTo>
                    <a:pt x="2024" y="1205"/>
                  </a:lnTo>
                  <a:lnTo>
                    <a:pt x="2024" y="1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640" y="624240"/>
              <a:ext cx="513720" cy="517680"/>
            </a:xfrm>
            <a:custGeom>
              <a:avLst/>
              <a:gdLst/>
              <a:ahLst/>
              <a:rect l="l" t="t" r="r" b="b"/>
              <a:pathLst>
                <a:path w="3372" h="3543">
                  <a:moveTo>
                    <a:pt x="1456" y="2096"/>
                  </a:moveTo>
                  <a:lnTo>
                    <a:pt x="2165" y="2096"/>
                  </a:lnTo>
                  <a:lnTo>
                    <a:pt x="1672" y="697"/>
                  </a:lnTo>
                  <a:lnTo>
                    <a:pt x="1160" y="2120"/>
                  </a:lnTo>
                  <a:lnTo>
                    <a:pt x="652" y="3543"/>
                  </a:lnTo>
                  <a:lnTo>
                    <a:pt x="0" y="3543"/>
                  </a:lnTo>
                  <a:lnTo>
                    <a:pt x="683" y="1772"/>
                  </a:lnTo>
                  <a:lnTo>
                    <a:pt x="1369" y="0"/>
                  </a:lnTo>
                  <a:lnTo>
                    <a:pt x="2012" y="0"/>
                  </a:lnTo>
                  <a:lnTo>
                    <a:pt x="2692" y="1772"/>
                  </a:lnTo>
                  <a:lnTo>
                    <a:pt x="3372" y="3543"/>
                  </a:lnTo>
                  <a:lnTo>
                    <a:pt x="2686" y="3543"/>
                  </a:lnTo>
                  <a:lnTo>
                    <a:pt x="2358" y="2638"/>
                  </a:lnTo>
                  <a:lnTo>
                    <a:pt x="1260" y="2638"/>
                  </a:lnTo>
                  <a:lnTo>
                    <a:pt x="1456" y="2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64040" y="756720"/>
              <a:ext cx="364680" cy="533160"/>
            </a:xfrm>
            <a:custGeom>
              <a:avLst/>
              <a:gdLst/>
              <a:ahLst/>
              <a:rect l="l" t="t" r="r" b="b"/>
              <a:pathLst>
                <a:path w="2395" h="3649">
                  <a:moveTo>
                    <a:pt x="1279" y="2677"/>
                  </a:moveTo>
                  <a:lnTo>
                    <a:pt x="1228" y="2677"/>
                  </a:lnTo>
                  <a:lnTo>
                    <a:pt x="1176" y="2674"/>
                  </a:lnTo>
                  <a:lnTo>
                    <a:pt x="1128" y="2672"/>
                  </a:lnTo>
                  <a:lnTo>
                    <a:pt x="1080" y="2668"/>
                  </a:lnTo>
                  <a:lnTo>
                    <a:pt x="1032" y="2662"/>
                  </a:lnTo>
                  <a:lnTo>
                    <a:pt x="987" y="2653"/>
                  </a:lnTo>
                  <a:lnTo>
                    <a:pt x="942" y="2644"/>
                  </a:lnTo>
                  <a:lnTo>
                    <a:pt x="900" y="2632"/>
                  </a:lnTo>
                  <a:lnTo>
                    <a:pt x="858" y="2617"/>
                  </a:lnTo>
                  <a:lnTo>
                    <a:pt x="818" y="2602"/>
                  </a:lnTo>
                  <a:lnTo>
                    <a:pt x="779" y="2584"/>
                  </a:lnTo>
                  <a:lnTo>
                    <a:pt x="740" y="2563"/>
                  </a:lnTo>
                  <a:lnTo>
                    <a:pt x="704" y="2539"/>
                  </a:lnTo>
                  <a:lnTo>
                    <a:pt x="686" y="2524"/>
                  </a:lnTo>
                  <a:lnTo>
                    <a:pt x="668" y="2512"/>
                  </a:lnTo>
                  <a:lnTo>
                    <a:pt x="632" y="2482"/>
                  </a:lnTo>
                  <a:lnTo>
                    <a:pt x="599" y="2448"/>
                  </a:lnTo>
                  <a:lnTo>
                    <a:pt x="599" y="3649"/>
                  </a:lnTo>
                  <a:lnTo>
                    <a:pt x="0" y="3649"/>
                  </a:lnTo>
                  <a:lnTo>
                    <a:pt x="0" y="1844"/>
                  </a:lnTo>
                  <a:lnTo>
                    <a:pt x="0" y="42"/>
                  </a:lnTo>
                  <a:lnTo>
                    <a:pt x="542" y="42"/>
                  </a:lnTo>
                  <a:lnTo>
                    <a:pt x="542" y="250"/>
                  </a:lnTo>
                  <a:lnTo>
                    <a:pt x="583" y="217"/>
                  </a:lnTo>
                  <a:lnTo>
                    <a:pt x="625" y="183"/>
                  </a:lnTo>
                  <a:lnTo>
                    <a:pt x="674" y="157"/>
                  </a:lnTo>
                  <a:lnTo>
                    <a:pt x="695" y="141"/>
                  </a:lnTo>
                  <a:lnTo>
                    <a:pt x="719" y="130"/>
                  </a:lnTo>
                  <a:lnTo>
                    <a:pt x="771" y="105"/>
                  </a:lnTo>
                  <a:lnTo>
                    <a:pt x="818" y="87"/>
                  </a:lnTo>
                  <a:lnTo>
                    <a:pt x="845" y="75"/>
                  </a:lnTo>
                  <a:lnTo>
                    <a:pt x="869" y="69"/>
                  </a:lnTo>
                  <a:lnTo>
                    <a:pt x="924" y="51"/>
                  </a:lnTo>
                  <a:lnTo>
                    <a:pt x="975" y="39"/>
                  </a:lnTo>
                  <a:lnTo>
                    <a:pt x="1029" y="28"/>
                  </a:lnTo>
                  <a:lnTo>
                    <a:pt x="1083" y="18"/>
                  </a:lnTo>
                  <a:lnTo>
                    <a:pt x="1137" y="12"/>
                  </a:lnTo>
                  <a:lnTo>
                    <a:pt x="1188" y="5"/>
                  </a:lnTo>
                  <a:lnTo>
                    <a:pt x="1243" y="3"/>
                  </a:lnTo>
                  <a:lnTo>
                    <a:pt x="1296" y="0"/>
                  </a:lnTo>
                  <a:lnTo>
                    <a:pt x="1347" y="0"/>
                  </a:lnTo>
                  <a:lnTo>
                    <a:pt x="1432" y="3"/>
                  </a:lnTo>
                  <a:lnTo>
                    <a:pt x="1514" y="9"/>
                  </a:lnTo>
                  <a:lnTo>
                    <a:pt x="1588" y="18"/>
                  </a:lnTo>
                  <a:lnTo>
                    <a:pt x="1624" y="21"/>
                  </a:lnTo>
                  <a:lnTo>
                    <a:pt x="1658" y="28"/>
                  </a:lnTo>
                  <a:lnTo>
                    <a:pt x="1724" y="42"/>
                  </a:lnTo>
                  <a:lnTo>
                    <a:pt x="1787" y="57"/>
                  </a:lnTo>
                  <a:lnTo>
                    <a:pt x="1817" y="66"/>
                  </a:lnTo>
                  <a:lnTo>
                    <a:pt x="1847" y="79"/>
                  </a:lnTo>
                  <a:lnTo>
                    <a:pt x="1901" y="100"/>
                  </a:lnTo>
                  <a:lnTo>
                    <a:pt x="1929" y="111"/>
                  </a:lnTo>
                  <a:lnTo>
                    <a:pt x="1952" y="123"/>
                  </a:lnTo>
                  <a:lnTo>
                    <a:pt x="1976" y="138"/>
                  </a:lnTo>
                  <a:lnTo>
                    <a:pt x="2001" y="151"/>
                  </a:lnTo>
                  <a:lnTo>
                    <a:pt x="2046" y="181"/>
                  </a:lnTo>
                  <a:lnTo>
                    <a:pt x="2064" y="195"/>
                  </a:lnTo>
                  <a:lnTo>
                    <a:pt x="2084" y="214"/>
                  </a:lnTo>
                  <a:lnTo>
                    <a:pt x="2124" y="250"/>
                  </a:lnTo>
                  <a:lnTo>
                    <a:pt x="2157" y="286"/>
                  </a:lnTo>
                  <a:lnTo>
                    <a:pt x="2172" y="307"/>
                  </a:lnTo>
                  <a:lnTo>
                    <a:pt x="2190" y="325"/>
                  </a:lnTo>
                  <a:lnTo>
                    <a:pt x="2217" y="367"/>
                  </a:lnTo>
                  <a:lnTo>
                    <a:pt x="2244" y="412"/>
                  </a:lnTo>
                  <a:lnTo>
                    <a:pt x="2268" y="460"/>
                  </a:lnTo>
                  <a:lnTo>
                    <a:pt x="2289" y="509"/>
                  </a:lnTo>
                  <a:lnTo>
                    <a:pt x="2308" y="559"/>
                  </a:lnTo>
                  <a:lnTo>
                    <a:pt x="2323" y="614"/>
                  </a:lnTo>
                  <a:lnTo>
                    <a:pt x="2337" y="671"/>
                  </a:lnTo>
                  <a:lnTo>
                    <a:pt x="2350" y="727"/>
                  </a:lnTo>
                  <a:lnTo>
                    <a:pt x="2361" y="788"/>
                  </a:lnTo>
                  <a:lnTo>
                    <a:pt x="2371" y="851"/>
                  </a:lnTo>
                  <a:lnTo>
                    <a:pt x="2376" y="915"/>
                  </a:lnTo>
                  <a:lnTo>
                    <a:pt x="2382" y="981"/>
                  </a:lnTo>
                  <a:lnTo>
                    <a:pt x="2386" y="1050"/>
                  </a:lnTo>
                  <a:lnTo>
                    <a:pt x="2391" y="1122"/>
                  </a:lnTo>
                  <a:lnTo>
                    <a:pt x="2391" y="1194"/>
                  </a:lnTo>
                  <a:lnTo>
                    <a:pt x="2395" y="1345"/>
                  </a:lnTo>
                  <a:lnTo>
                    <a:pt x="2391" y="1462"/>
                  </a:lnTo>
                  <a:lnTo>
                    <a:pt x="2391" y="1522"/>
                  </a:lnTo>
                  <a:lnTo>
                    <a:pt x="2388" y="1582"/>
                  </a:lnTo>
                  <a:lnTo>
                    <a:pt x="2382" y="1639"/>
                  </a:lnTo>
                  <a:lnTo>
                    <a:pt x="2376" y="1700"/>
                  </a:lnTo>
                  <a:lnTo>
                    <a:pt x="2371" y="1760"/>
                  </a:lnTo>
                  <a:lnTo>
                    <a:pt x="2361" y="1817"/>
                  </a:lnTo>
                  <a:lnTo>
                    <a:pt x="2350" y="1874"/>
                  </a:lnTo>
                  <a:lnTo>
                    <a:pt x="2337" y="1931"/>
                  </a:lnTo>
                  <a:lnTo>
                    <a:pt x="2323" y="1986"/>
                  </a:lnTo>
                  <a:lnTo>
                    <a:pt x="2304" y="2039"/>
                  </a:lnTo>
                  <a:lnTo>
                    <a:pt x="2286" y="2094"/>
                  </a:lnTo>
                  <a:lnTo>
                    <a:pt x="2265" y="2145"/>
                  </a:lnTo>
                  <a:lnTo>
                    <a:pt x="2253" y="2172"/>
                  </a:lnTo>
                  <a:lnTo>
                    <a:pt x="2241" y="2196"/>
                  </a:lnTo>
                  <a:lnTo>
                    <a:pt x="2214" y="2244"/>
                  </a:lnTo>
                  <a:lnTo>
                    <a:pt x="2184" y="2292"/>
                  </a:lnTo>
                  <a:lnTo>
                    <a:pt x="2147" y="2338"/>
                  </a:lnTo>
                  <a:lnTo>
                    <a:pt x="2111" y="2380"/>
                  </a:lnTo>
                  <a:lnTo>
                    <a:pt x="2073" y="2422"/>
                  </a:lnTo>
                  <a:lnTo>
                    <a:pt x="2031" y="2458"/>
                  </a:lnTo>
                  <a:lnTo>
                    <a:pt x="2007" y="2476"/>
                  </a:lnTo>
                  <a:lnTo>
                    <a:pt x="1982" y="2494"/>
                  </a:lnTo>
                  <a:lnTo>
                    <a:pt x="1958" y="2512"/>
                  </a:lnTo>
                  <a:lnTo>
                    <a:pt x="1931" y="2526"/>
                  </a:lnTo>
                  <a:lnTo>
                    <a:pt x="1904" y="2541"/>
                  </a:lnTo>
                  <a:lnTo>
                    <a:pt x="1878" y="2556"/>
                  </a:lnTo>
                  <a:lnTo>
                    <a:pt x="1847" y="2569"/>
                  </a:lnTo>
                  <a:lnTo>
                    <a:pt x="1817" y="2584"/>
                  </a:lnTo>
                  <a:lnTo>
                    <a:pt x="1754" y="2608"/>
                  </a:lnTo>
                  <a:lnTo>
                    <a:pt x="1721" y="2617"/>
                  </a:lnTo>
                  <a:lnTo>
                    <a:pt x="1688" y="2628"/>
                  </a:lnTo>
                  <a:lnTo>
                    <a:pt x="1616" y="2644"/>
                  </a:lnTo>
                  <a:lnTo>
                    <a:pt x="1576" y="2653"/>
                  </a:lnTo>
                  <a:lnTo>
                    <a:pt x="1537" y="2659"/>
                  </a:lnTo>
                  <a:lnTo>
                    <a:pt x="1498" y="2666"/>
                  </a:lnTo>
                  <a:lnTo>
                    <a:pt x="1455" y="2668"/>
                  </a:lnTo>
                  <a:lnTo>
                    <a:pt x="1414" y="2672"/>
                  </a:lnTo>
                  <a:lnTo>
                    <a:pt x="1372" y="2674"/>
                  </a:lnTo>
                  <a:lnTo>
                    <a:pt x="1326" y="2677"/>
                  </a:lnTo>
                  <a:lnTo>
                    <a:pt x="1279" y="2677"/>
                  </a:lnTo>
                  <a:close/>
                  <a:moveTo>
                    <a:pt x="1252" y="532"/>
                  </a:moveTo>
                  <a:lnTo>
                    <a:pt x="1207" y="532"/>
                  </a:lnTo>
                  <a:lnTo>
                    <a:pt x="1161" y="532"/>
                  </a:lnTo>
                  <a:lnTo>
                    <a:pt x="1076" y="541"/>
                  </a:lnTo>
                  <a:lnTo>
                    <a:pt x="1038" y="545"/>
                  </a:lnTo>
                  <a:lnTo>
                    <a:pt x="1002" y="551"/>
                  </a:lnTo>
                  <a:lnTo>
                    <a:pt x="966" y="559"/>
                  </a:lnTo>
                  <a:lnTo>
                    <a:pt x="932" y="568"/>
                  </a:lnTo>
                  <a:lnTo>
                    <a:pt x="902" y="578"/>
                  </a:lnTo>
                  <a:lnTo>
                    <a:pt x="873" y="589"/>
                  </a:lnTo>
                  <a:lnTo>
                    <a:pt x="845" y="602"/>
                  </a:lnTo>
                  <a:lnTo>
                    <a:pt x="818" y="617"/>
                  </a:lnTo>
                  <a:lnTo>
                    <a:pt x="794" y="634"/>
                  </a:lnTo>
                  <a:lnTo>
                    <a:pt x="771" y="653"/>
                  </a:lnTo>
                  <a:lnTo>
                    <a:pt x="749" y="674"/>
                  </a:lnTo>
                  <a:lnTo>
                    <a:pt x="731" y="695"/>
                  </a:lnTo>
                  <a:lnTo>
                    <a:pt x="713" y="719"/>
                  </a:lnTo>
                  <a:lnTo>
                    <a:pt x="695" y="746"/>
                  </a:lnTo>
                  <a:lnTo>
                    <a:pt x="680" y="773"/>
                  </a:lnTo>
                  <a:lnTo>
                    <a:pt x="674" y="788"/>
                  </a:lnTo>
                  <a:lnTo>
                    <a:pt x="668" y="803"/>
                  </a:lnTo>
                  <a:lnTo>
                    <a:pt x="653" y="833"/>
                  </a:lnTo>
                  <a:lnTo>
                    <a:pt x="644" y="869"/>
                  </a:lnTo>
                  <a:lnTo>
                    <a:pt x="635" y="905"/>
                  </a:lnTo>
                  <a:lnTo>
                    <a:pt x="625" y="945"/>
                  </a:lnTo>
                  <a:lnTo>
                    <a:pt x="617" y="983"/>
                  </a:lnTo>
                  <a:lnTo>
                    <a:pt x="610" y="1029"/>
                  </a:lnTo>
                  <a:lnTo>
                    <a:pt x="602" y="1122"/>
                  </a:lnTo>
                  <a:lnTo>
                    <a:pt x="599" y="1173"/>
                  </a:lnTo>
                  <a:lnTo>
                    <a:pt x="596" y="1227"/>
                  </a:lnTo>
                  <a:lnTo>
                    <a:pt x="596" y="1284"/>
                  </a:lnTo>
                  <a:lnTo>
                    <a:pt x="596" y="1345"/>
                  </a:lnTo>
                  <a:lnTo>
                    <a:pt x="596" y="1459"/>
                  </a:lnTo>
                  <a:lnTo>
                    <a:pt x="602" y="1565"/>
                  </a:lnTo>
                  <a:lnTo>
                    <a:pt x="604" y="1612"/>
                  </a:lnTo>
                  <a:lnTo>
                    <a:pt x="610" y="1658"/>
                  </a:lnTo>
                  <a:lnTo>
                    <a:pt x="617" y="1703"/>
                  </a:lnTo>
                  <a:lnTo>
                    <a:pt x="625" y="1741"/>
                  </a:lnTo>
                  <a:lnTo>
                    <a:pt x="629" y="1762"/>
                  </a:lnTo>
                  <a:lnTo>
                    <a:pt x="635" y="1781"/>
                  </a:lnTo>
                  <a:lnTo>
                    <a:pt x="644" y="1817"/>
                  </a:lnTo>
                  <a:lnTo>
                    <a:pt x="653" y="1849"/>
                  </a:lnTo>
                  <a:lnTo>
                    <a:pt x="668" y="1883"/>
                  </a:lnTo>
                  <a:lnTo>
                    <a:pt x="680" y="1913"/>
                  </a:lnTo>
                  <a:lnTo>
                    <a:pt x="695" y="1940"/>
                  </a:lnTo>
                  <a:lnTo>
                    <a:pt x="713" y="1965"/>
                  </a:lnTo>
                  <a:lnTo>
                    <a:pt x="731" y="1988"/>
                  </a:lnTo>
                  <a:lnTo>
                    <a:pt x="749" y="2009"/>
                  </a:lnTo>
                  <a:lnTo>
                    <a:pt x="771" y="2027"/>
                  </a:lnTo>
                  <a:lnTo>
                    <a:pt x="794" y="2046"/>
                  </a:lnTo>
                  <a:lnTo>
                    <a:pt x="807" y="2054"/>
                  </a:lnTo>
                  <a:lnTo>
                    <a:pt x="818" y="2063"/>
                  </a:lnTo>
                  <a:lnTo>
                    <a:pt x="845" y="2079"/>
                  </a:lnTo>
                  <a:lnTo>
                    <a:pt x="873" y="2090"/>
                  </a:lnTo>
                  <a:lnTo>
                    <a:pt x="902" y="2103"/>
                  </a:lnTo>
                  <a:lnTo>
                    <a:pt x="932" y="2111"/>
                  </a:lnTo>
                  <a:lnTo>
                    <a:pt x="966" y="2120"/>
                  </a:lnTo>
                  <a:lnTo>
                    <a:pt x="1002" y="2126"/>
                  </a:lnTo>
                  <a:lnTo>
                    <a:pt x="1038" y="2133"/>
                  </a:lnTo>
                  <a:lnTo>
                    <a:pt x="1076" y="2139"/>
                  </a:lnTo>
                  <a:lnTo>
                    <a:pt x="1116" y="2141"/>
                  </a:lnTo>
                  <a:lnTo>
                    <a:pt x="1161" y="2145"/>
                  </a:lnTo>
                  <a:lnTo>
                    <a:pt x="1207" y="2145"/>
                  </a:lnTo>
                  <a:lnTo>
                    <a:pt x="1252" y="2145"/>
                  </a:lnTo>
                  <a:lnTo>
                    <a:pt x="1294" y="2145"/>
                  </a:lnTo>
                  <a:lnTo>
                    <a:pt x="1332" y="2145"/>
                  </a:lnTo>
                  <a:lnTo>
                    <a:pt x="1368" y="2141"/>
                  </a:lnTo>
                  <a:lnTo>
                    <a:pt x="1404" y="2136"/>
                  </a:lnTo>
                  <a:lnTo>
                    <a:pt x="1438" y="2130"/>
                  </a:lnTo>
                  <a:lnTo>
                    <a:pt x="1468" y="2124"/>
                  </a:lnTo>
                  <a:lnTo>
                    <a:pt x="1498" y="2115"/>
                  </a:lnTo>
                  <a:lnTo>
                    <a:pt x="1525" y="2105"/>
                  </a:lnTo>
                  <a:lnTo>
                    <a:pt x="1552" y="2094"/>
                  </a:lnTo>
                  <a:lnTo>
                    <a:pt x="1576" y="2082"/>
                  </a:lnTo>
                  <a:lnTo>
                    <a:pt x="1597" y="2067"/>
                  </a:lnTo>
                  <a:lnTo>
                    <a:pt x="1618" y="2052"/>
                  </a:lnTo>
                  <a:lnTo>
                    <a:pt x="1639" y="2033"/>
                  </a:lnTo>
                  <a:lnTo>
                    <a:pt x="1658" y="2016"/>
                  </a:lnTo>
                  <a:lnTo>
                    <a:pt x="1675" y="1995"/>
                  </a:lnTo>
                  <a:lnTo>
                    <a:pt x="1690" y="1970"/>
                  </a:lnTo>
                  <a:lnTo>
                    <a:pt x="1705" y="1946"/>
                  </a:lnTo>
                  <a:lnTo>
                    <a:pt x="1718" y="1922"/>
                  </a:lnTo>
                  <a:lnTo>
                    <a:pt x="1730" y="1893"/>
                  </a:lnTo>
                  <a:lnTo>
                    <a:pt x="1739" y="1865"/>
                  </a:lnTo>
                  <a:lnTo>
                    <a:pt x="1751" y="1832"/>
                  </a:lnTo>
                  <a:lnTo>
                    <a:pt x="1757" y="1798"/>
                  </a:lnTo>
                  <a:lnTo>
                    <a:pt x="1766" y="1762"/>
                  </a:lnTo>
                  <a:lnTo>
                    <a:pt x="1772" y="1724"/>
                  </a:lnTo>
                  <a:lnTo>
                    <a:pt x="1778" y="1684"/>
                  </a:lnTo>
                  <a:lnTo>
                    <a:pt x="1781" y="1643"/>
                  </a:lnTo>
                  <a:lnTo>
                    <a:pt x="1787" y="1597"/>
                  </a:lnTo>
                  <a:lnTo>
                    <a:pt x="1790" y="1552"/>
                  </a:lnTo>
                  <a:lnTo>
                    <a:pt x="1793" y="1453"/>
                  </a:lnTo>
                  <a:lnTo>
                    <a:pt x="1793" y="1345"/>
                  </a:lnTo>
                  <a:lnTo>
                    <a:pt x="1793" y="1288"/>
                  </a:lnTo>
                  <a:lnTo>
                    <a:pt x="1793" y="1237"/>
                  </a:lnTo>
                  <a:lnTo>
                    <a:pt x="1790" y="1134"/>
                  </a:lnTo>
                  <a:lnTo>
                    <a:pt x="1787" y="1089"/>
                  </a:lnTo>
                  <a:lnTo>
                    <a:pt x="1781" y="1044"/>
                  </a:lnTo>
                  <a:lnTo>
                    <a:pt x="1772" y="962"/>
                  </a:lnTo>
                  <a:lnTo>
                    <a:pt x="1766" y="924"/>
                  </a:lnTo>
                  <a:lnTo>
                    <a:pt x="1757" y="887"/>
                  </a:lnTo>
                  <a:lnTo>
                    <a:pt x="1751" y="854"/>
                  </a:lnTo>
                  <a:lnTo>
                    <a:pt x="1739" y="822"/>
                  </a:lnTo>
                  <a:lnTo>
                    <a:pt x="1730" y="791"/>
                  </a:lnTo>
                  <a:lnTo>
                    <a:pt x="1718" y="761"/>
                  </a:lnTo>
                  <a:lnTo>
                    <a:pt x="1705" y="737"/>
                  </a:lnTo>
                  <a:lnTo>
                    <a:pt x="1690" y="710"/>
                  </a:lnTo>
                  <a:lnTo>
                    <a:pt x="1675" y="689"/>
                  </a:lnTo>
                  <a:lnTo>
                    <a:pt x="1658" y="668"/>
                  </a:lnTo>
                  <a:lnTo>
                    <a:pt x="1639" y="647"/>
                  </a:lnTo>
                  <a:lnTo>
                    <a:pt x="1618" y="629"/>
                  </a:lnTo>
                  <a:lnTo>
                    <a:pt x="1597" y="614"/>
                  </a:lnTo>
                  <a:lnTo>
                    <a:pt x="1576" y="598"/>
                  </a:lnTo>
                  <a:lnTo>
                    <a:pt x="1552" y="583"/>
                  </a:lnTo>
                  <a:lnTo>
                    <a:pt x="1525" y="574"/>
                  </a:lnTo>
                  <a:lnTo>
                    <a:pt x="1498" y="562"/>
                  </a:lnTo>
                  <a:lnTo>
                    <a:pt x="1468" y="553"/>
                  </a:lnTo>
                  <a:lnTo>
                    <a:pt x="1438" y="547"/>
                  </a:lnTo>
                  <a:lnTo>
                    <a:pt x="1404" y="541"/>
                  </a:lnTo>
                  <a:lnTo>
                    <a:pt x="1368" y="538"/>
                  </a:lnTo>
                  <a:lnTo>
                    <a:pt x="1332" y="536"/>
                  </a:lnTo>
                  <a:lnTo>
                    <a:pt x="1294" y="532"/>
                  </a:lnTo>
                  <a:lnTo>
                    <a:pt x="1252" y="532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73360" y="624240"/>
              <a:ext cx="91800" cy="517680"/>
            </a:xfrm>
            <a:custGeom>
              <a:avLst/>
              <a:gdLst/>
              <a:ahLst/>
              <a:rect l="l" t="t" r="r" b="b"/>
              <a:pathLst>
                <a:path w="602" h="3540">
                  <a:moveTo>
                    <a:pt x="0" y="3540"/>
                  </a:moveTo>
                  <a:lnTo>
                    <a:pt x="0" y="1769"/>
                  </a:lnTo>
                  <a:lnTo>
                    <a:pt x="0" y="0"/>
                  </a:lnTo>
                  <a:lnTo>
                    <a:pt x="602" y="0"/>
                  </a:lnTo>
                  <a:lnTo>
                    <a:pt x="602" y="1769"/>
                  </a:lnTo>
                  <a:lnTo>
                    <a:pt x="602" y="3540"/>
                  </a:lnTo>
                  <a:lnTo>
                    <a:pt x="0" y="3540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7720" y="762840"/>
              <a:ext cx="345960" cy="385200"/>
            </a:xfrm>
            <a:custGeom>
              <a:avLst/>
              <a:gdLst/>
              <a:ahLst/>
              <a:rect l="l" t="t" r="r" b="b"/>
              <a:pathLst>
                <a:path w="2273" h="2635">
                  <a:moveTo>
                    <a:pt x="1754" y="2593"/>
                  </a:moveTo>
                  <a:lnTo>
                    <a:pt x="1754" y="2385"/>
                  </a:lnTo>
                  <a:lnTo>
                    <a:pt x="1723" y="2410"/>
                  </a:lnTo>
                  <a:lnTo>
                    <a:pt x="1693" y="2434"/>
                  </a:lnTo>
                  <a:lnTo>
                    <a:pt x="1661" y="2457"/>
                  </a:lnTo>
                  <a:lnTo>
                    <a:pt x="1625" y="2478"/>
                  </a:lnTo>
                  <a:lnTo>
                    <a:pt x="1589" y="2503"/>
                  </a:lnTo>
                  <a:lnTo>
                    <a:pt x="1546" y="2521"/>
                  </a:lnTo>
                  <a:lnTo>
                    <a:pt x="1504" y="2542"/>
                  </a:lnTo>
                  <a:lnTo>
                    <a:pt x="1458" y="2560"/>
                  </a:lnTo>
                  <a:lnTo>
                    <a:pt x="1413" y="2575"/>
                  </a:lnTo>
                  <a:lnTo>
                    <a:pt x="1362" y="2590"/>
                  </a:lnTo>
                  <a:lnTo>
                    <a:pt x="1312" y="2602"/>
                  </a:lnTo>
                  <a:lnTo>
                    <a:pt x="1254" y="2614"/>
                  </a:lnTo>
                  <a:lnTo>
                    <a:pt x="1197" y="2624"/>
                  </a:lnTo>
                  <a:lnTo>
                    <a:pt x="1134" y="2630"/>
                  </a:lnTo>
                  <a:lnTo>
                    <a:pt x="1071" y="2632"/>
                  </a:lnTo>
                  <a:lnTo>
                    <a:pt x="1005" y="2635"/>
                  </a:lnTo>
                  <a:lnTo>
                    <a:pt x="956" y="2635"/>
                  </a:lnTo>
                  <a:lnTo>
                    <a:pt x="908" y="2632"/>
                  </a:lnTo>
                  <a:lnTo>
                    <a:pt x="821" y="2626"/>
                  </a:lnTo>
                  <a:lnTo>
                    <a:pt x="779" y="2624"/>
                  </a:lnTo>
                  <a:lnTo>
                    <a:pt x="736" y="2617"/>
                  </a:lnTo>
                  <a:lnTo>
                    <a:pt x="698" y="2611"/>
                  </a:lnTo>
                  <a:lnTo>
                    <a:pt x="662" y="2605"/>
                  </a:lnTo>
                  <a:lnTo>
                    <a:pt x="626" y="2596"/>
                  </a:lnTo>
                  <a:lnTo>
                    <a:pt x="590" y="2590"/>
                  </a:lnTo>
                  <a:lnTo>
                    <a:pt x="524" y="2569"/>
                  </a:lnTo>
                  <a:lnTo>
                    <a:pt x="463" y="2548"/>
                  </a:lnTo>
                  <a:lnTo>
                    <a:pt x="433" y="2535"/>
                  </a:lnTo>
                  <a:lnTo>
                    <a:pt x="406" y="2524"/>
                  </a:lnTo>
                  <a:lnTo>
                    <a:pt x="378" y="2509"/>
                  </a:lnTo>
                  <a:lnTo>
                    <a:pt x="355" y="2493"/>
                  </a:lnTo>
                  <a:lnTo>
                    <a:pt x="306" y="2463"/>
                  </a:lnTo>
                  <a:lnTo>
                    <a:pt x="285" y="2448"/>
                  </a:lnTo>
                  <a:lnTo>
                    <a:pt x="264" y="2431"/>
                  </a:lnTo>
                  <a:lnTo>
                    <a:pt x="247" y="2416"/>
                  </a:lnTo>
                  <a:lnTo>
                    <a:pt x="228" y="2397"/>
                  </a:lnTo>
                  <a:lnTo>
                    <a:pt x="192" y="2359"/>
                  </a:lnTo>
                  <a:lnTo>
                    <a:pt x="162" y="2319"/>
                  </a:lnTo>
                  <a:lnTo>
                    <a:pt x="147" y="2298"/>
                  </a:lnTo>
                  <a:lnTo>
                    <a:pt x="135" y="2277"/>
                  </a:lnTo>
                  <a:lnTo>
                    <a:pt x="111" y="2235"/>
                  </a:lnTo>
                  <a:lnTo>
                    <a:pt x="90" y="2190"/>
                  </a:lnTo>
                  <a:lnTo>
                    <a:pt x="81" y="2166"/>
                  </a:lnTo>
                  <a:lnTo>
                    <a:pt x="72" y="2145"/>
                  </a:lnTo>
                  <a:lnTo>
                    <a:pt x="54" y="2097"/>
                  </a:lnTo>
                  <a:lnTo>
                    <a:pt x="42" y="2048"/>
                  </a:lnTo>
                  <a:lnTo>
                    <a:pt x="33" y="1997"/>
                  </a:lnTo>
                  <a:lnTo>
                    <a:pt x="24" y="1946"/>
                  </a:lnTo>
                  <a:lnTo>
                    <a:pt x="14" y="1895"/>
                  </a:lnTo>
                  <a:lnTo>
                    <a:pt x="12" y="1841"/>
                  </a:lnTo>
                  <a:lnTo>
                    <a:pt x="6" y="1790"/>
                  </a:lnTo>
                  <a:lnTo>
                    <a:pt x="3" y="1735"/>
                  </a:lnTo>
                  <a:lnTo>
                    <a:pt x="0" y="1627"/>
                  </a:lnTo>
                  <a:lnTo>
                    <a:pt x="0" y="1413"/>
                  </a:lnTo>
                  <a:lnTo>
                    <a:pt x="0" y="0"/>
                  </a:lnTo>
                  <a:lnTo>
                    <a:pt x="601" y="0"/>
                  </a:lnTo>
                  <a:lnTo>
                    <a:pt x="601" y="1366"/>
                  </a:lnTo>
                  <a:lnTo>
                    <a:pt x="598" y="1540"/>
                  </a:lnTo>
                  <a:lnTo>
                    <a:pt x="598" y="1618"/>
                  </a:lnTo>
                  <a:lnTo>
                    <a:pt x="601" y="1690"/>
                  </a:lnTo>
                  <a:lnTo>
                    <a:pt x="605" y="1727"/>
                  </a:lnTo>
                  <a:lnTo>
                    <a:pt x="605" y="1756"/>
                  </a:lnTo>
                  <a:lnTo>
                    <a:pt x="613" y="1817"/>
                  </a:lnTo>
                  <a:lnTo>
                    <a:pt x="619" y="1847"/>
                  </a:lnTo>
                  <a:lnTo>
                    <a:pt x="622" y="1859"/>
                  </a:lnTo>
                  <a:lnTo>
                    <a:pt x="626" y="1874"/>
                  </a:lnTo>
                  <a:lnTo>
                    <a:pt x="632" y="1898"/>
                  </a:lnTo>
                  <a:lnTo>
                    <a:pt x="641" y="1923"/>
                  </a:lnTo>
                  <a:lnTo>
                    <a:pt x="653" y="1944"/>
                  </a:lnTo>
                  <a:lnTo>
                    <a:pt x="664" y="1964"/>
                  </a:lnTo>
                  <a:lnTo>
                    <a:pt x="679" y="1982"/>
                  </a:lnTo>
                  <a:lnTo>
                    <a:pt x="694" y="2000"/>
                  </a:lnTo>
                  <a:lnTo>
                    <a:pt x="713" y="2018"/>
                  </a:lnTo>
                  <a:lnTo>
                    <a:pt x="721" y="2025"/>
                  </a:lnTo>
                  <a:lnTo>
                    <a:pt x="734" y="2033"/>
                  </a:lnTo>
                  <a:lnTo>
                    <a:pt x="755" y="2046"/>
                  </a:lnTo>
                  <a:lnTo>
                    <a:pt x="779" y="2057"/>
                  </a:lnTo>
                  <a:lnTo>
                    <a:pt x="806" y="2069"/>
                  </a:lnTo>
                  <a:lnTo>
                    <a:pt x="836" y="2078"/>
                  </a:lnTo>
                  <a:lnTo>
                    <a:pt x="869" y="2084"/>
                  </a:lnTo>
                  <a:lnTo>
                    <a:pt x="903" y="2094"/>
                  </a:lnTo>
                  <a:lnTo>
                    <a:pt x="941" y="2097"/>
                  </a:lnTo>
                  <a:lnTo>
                    <a:pt x="984" y="2099"/>
                  </a:lnTo>
                  <a:lnTo>
                    <a:pt x="1026" y="2103"/>
                  </a:lnTo>
                  <a:lnTo>
                    <a:pt x="1074" y="2103"/>
                  </a:lnTo>
                  <a:lnTo>
                    <a:pt x="1130" y="2103"/>
                  </a:lnTo>
                  <a:lnTo>
                    <a:pt x="1187" y="2099"/>
                  </a:lnTo>
                  <a:lnTo>
                    <a:pt x="1236" y="2094"/>
                  </a:lnTo>
                  <a:lnTo>
                    <a:pt x="1261" y="2088"/>
                  </a:lnTo>
                  <a:lnTo>
                    <a:pt x="1284" y="2084"/>
                  </a:lnTo>
                  <a:lnTo>
                    <a:pt x="1308" y="2078"/>
                  </a:lnTo>
                  <a:lnTo>
                    <a:pt x="1329" y="2073"/>
                  </a:lnTo>
                  <a:lnTo>
                    <a:pt x="1369" y="2061"/>
                  </a:lnTo>
                  <a:lnTo>
                    <a:pt x="1407" y="2046"/>
                  </a:lnTo>
                  <a:lnTo>
                    <a:pt x="1441" y="2027"/>
                  </a:lnTo>
                  <a:lnTo>
                    <a:pt x="1471" y="2006"/>
                  </a:lnTo>
                  <a:lnTo>
                    <a:pt x="1486" y="1997"/>
                  </a:lnTo>
                  <a:lnTo>
                    <a:pt x="1498" y="1985"/>
                  </a:lnTo>
                  <a:lnTo>
                    <a:pt x="1525" y="1964"/>
                  </a:lnTo>
                  <a:lnTo>
                    <a:pt x="1549" y="1938"/>
                  </a:lnTo>
                  <a:lnTo>
                    <a:pt x="1558" y="1925"/>
                  </a:lnTo>
                  <a:lnTo>
                    <a:pt x="1566" y="1913"/>
                  </a:lnTo>
                  <a:lnTo>
                    <a:pt x="1576" y="1898"/>
                  </a:lnTo>
                  <a:lnTo>
                    <a:pt x="1585" y="1883"/>
                  </a:lnTo>
                  <a:lnTo>
                    <a:pt x="1603" y="1856"/>
                  </a:lnTo>
                  <a:lnTo>
                    <a:pt x="1610" y="1841"/>
                  </a:lnTo>
                  <a:lnTo>
                    <a:pt x="1615" y="1823"/>
                  </a:lnTo>
                  <a:lnTo>
                    <a:pt x="1627" y="1792"/>
                  </a:lnTo>
                  <a:lnTo>
                    <a:pt x="1639" y="1760"/>
                  </a:lnTo>
                  <a:lnTo>
                    <a:pt x="1648" y="1724"/>
                  </a:lnTo>
                  <a:lnTo>
                    <a:pt x="1654" y="1688"/>
                  </a:lnTo>
                  <a:lnTo>
                    <a:pt x="1661" y="1652"/>
                  </a:lnTo>
                  <a:lnTo>
                    <a:pt x="1663" y="1616"/>
                  </a:lnTo>
                  <a:lnTo>
                    <a:pt x="1669" y="1576"/>
                  </a:lnTo>
                  <a:lnTo>
                    <a:pt x="1669" y="1538"/>
                  </a:lnTo>
                  <a:lnTo>
                    <a:pt x="1672" y="1456"/>
                  </a:lnTo>
                  <a:lnTo>
                    <a:pt x="1672" y="1375"/>
                  </a:lnTo>
                  <a:lnTo>
                    <a:pt x="1672" y="1206"/>
                  </a:lnTo>
                  <a:lnTo>
                    <a:pt x="1672" y="0"/>
                  </a:lnTo>
                  <a:lnTo>
                    <a:pt x="2273" y="0"/>
                  </a:lnTo>
                  <a:lnTo>
                    <a:pt x="2273" y="1297"/>
                  </a:lnTo>
                  <a:lnTo>
                    <a:pt x="2273" y="2593"/>
                  </a:lnTo>
                  <a:lnTo>
                    <a:pt x="1754" y="2593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10840" y="756720"/>
              <a:ext cx="348840" cy="391320"/>
            </a:xfrm>
            <a:custGeom>
              <a:avLst/>
              <a:gdLst/>
              <a:ahLst/>
              <a:rect l="l" t="t" r="r" b="b"/>
              <a:pathLst>
                <a:path w="2292" h="2677">
                  <a:moveTo>
                    <a:pt x="1742" y="818"/>
                  </a:moveTo>
                  <a:lnTo>
                    <a:pt x="1738" y="773"/>
                  </a:lnTo>
                  <a:lnTo>
                    <a:pt x="1738" y="752"/>
                  </a:lnTo>
                  <a:lnTo>
                    <a:pt x="1735" y="734"/>
                  </a:lnTo>
                  <a:lnTo>
                    <a:pt x="1729" y="712"/>
                  </a:lnTo>
                  <a:lnTo>
                    <a:pt x="1727" y="695"/>
                  </a:lnTo>
                  <a:lnTo>
                    <a:pt x="1721" y="680"/>
                  </a:lnTo>
                  <a:lnTo>
                    <a:pt x="1714" y="661"/>
                  </a:lnTo>
                  <a:lnTo>
                    <a:pt x="1708" y="647"/>
                  </a:lnTo>
                  <a:lnTo>
                    <a:pt x="1699" y="632"/>
                  </a:lnTo>
                  <a:lnTo>
                    <a:pt x="1691" y="619"/>
                  </a:lnTo>
                  <a:lnTo>
                    <a:pt x="1681" y="604"/>
                  </a:lnTo>
                  <a:lnTo>
                    <a:pt x="1672" y="593"/>
                  </a:lnTo>
                  <a:lnTo>
                    <a:pt x="1660" y="583"/>
                  </a:lnTo>
                  <a:lnTo>
                    <a:pt x="1648" y="572"/>
                  </a:lnTo>
                  <a:lnTo>
                    <a:pt x="1632" y="562"/>
                  </a:lnTo>
                  <a:lnTo>
                    <a:pt x="1603" y="545"/>
                  </a:lnTo>
                  <a:lnTo>
                    <a:pt x="1567" y="530"/>
                  </a:lnTo>
                  <a:lnTo>
                    <a:pt x="1528" y="517"/>
                  </a:lnTo>
                  <a:lnTo>
                    <a:pt x="1486" y="505"/>
                  </a:lnTo>
                  <a:lnTo>
                    <a:pt x="1437" y="496"/>
                  </a:lnTo>
                  <a:lnTo>
                    <a:pt x="1384" y="490"/>
                  </a:lnTo>
                  <a:lnTo>
                    <a:pt x="1327" y="487"/>
                  </a:lnTo>
                  <a:lnTo>
                    <a:pt x="1263" y="484"/>
                  </a:lnTo>
                  <a:lnTo>
                    <a:pt x="1170" y="481"/>
                  </a:lnTo>
                  <a:lnTo>
                    <a:pt x="1088" y="484"/>
                  </a:lnTo>
                  <a:lnTo>
                    <a:pt x="1052" y="487"/>
                  </a:lnTo>
                  <a:lnTo>
                    <a:pt x="1016" y="490"/>
                  </a:lnTo>
                  <a:lnTo>
                    <a:pt x="950" y="496"/>
                  </a:lnTo>
                  <a:lnTo>
                    <a:pt x="923" y="502"/>
                  </a:lnTo>
                  <a:lnTo>
                    <a:pt x="896" y="505"/>
                  </a:lnTo>
                  <a:lnTo>
                    <a:pt x="845" y="521"/>
                  </a:lnTo>
                  <a:lnTo>
                    <a:pt x="806" y="536"/>
                  </a:lnTo>
                  <a:lnTo>
                    <a:pt x="785" y="545"/>
                  </a:lnTo>
                  <a:lnTo>
                    <a:pt x="770" y="553"/>
                  </a:lnTo>
                  <a:lnTo>
                    <a:pt x="739" y="572"/>
                  </a:lnTo>
                  <a:lnTo>
                    <a:pt x="728" y="583"/>
                  </a:lnTo>
                  <a:lnTo>
                    <a:pt x="715" y="593"/>
                  </a:lnTo>
                  <a:lnTo>
                    <a:pt x="707" y="604"/>
                  </a:lnTo>
                  <a:lnTo>
                    <a:pt x="698" y="617"/>
                  </a:lnTo>
                  <a:lnTo>
                    <a:pt x="688" y="629"/>
                  </a:lnTo>
                  <a:lnTo>
                    <a:pt x="683" y="644"/>
                  </a:lnTo>
                  <a:lnTo>
                    <a:pt x="677" y="655"/>
                  </a:lnTo>
                  <a:lnTo>
                    <a:pt x="671" y="671"/>
                  </a:lnTo>
                  <a:lnTo>
                    <a:pt x="664" y="697"/>
                  </a:lnTo>
                  <a:lnTo>
                    <a:pt x="658" y="727"/>
                  </a:lnTo>
                  <a:lnTo>
                    <a:pt x="658" y="761"/>
                  </a:lnTo>
                  <a:lnTo>
                    <a:pt x="658" y="812"/>
                  </a:lnTo>
                  <a:lnTo>
                    <a:pt x="658" y="833"/>
                  </a:lnTo>
                  <a:lnTo>
                    <a:pt x="662" y="858"/>
                  </a:lnTo>
                  <a:lnTo>
                    <a:pt x="664" y="875"/>
                  </a:lnTo>
                  <a:lnTo>
                    <a:pt x="671" y="896"/>
                  </a:lnTo>
                  <a:lnTo>
                    <a:pt x="677" y="911"/>
                  </a:lnTo>
                  <a:lnTo>
                    <a:pt x="683" y="930"/>
                  </a:lnTo>
                  <a:lnTo>
                    <a:pt x="688" y="945"/>
                  </a:lnTo>
                  <a:lnTo>
                    <a:pt x="698" y="957"/>
                  </a:lnTo>
                  <a:lnTo>
                    <a:pt x="707" y="968"/>
                  </a:lnTo>
                  <a:lnTo>
                    <a:pt x="715" y="981"/>
                  </a:lnTo>
                  <a:lnTo>
                    <a:pt x="728" y="993"/>
                  </a:lnTo>
                  <a:lnTo>
                    <a:pt x="739" y="1002"/>
                  </a:lnTo>
                  <a:lnTo>
                    <a:pt x="751" y="1011"/>
                  </a:lnTo>
                  <a:lnTo>
                    <a:pt x="766" y="1017"/>
                  </a:lnTo>
                  <a:lnTo>
                    <a:pt x="794" y="1032"/>
                  </a:lnTo>
                  <a:lnTo>
                    <a:pt x="812" y="1034"/>
                  </a:lnTo>
                  <a:lnTo>
                    <a:pt x="827" y="1040"/>
                  </a:lnTo>
                  <a:lnTo>
                    <a:pt x="863" y="1047"/>
                  </a:lnTo>
                  <a:lnTo>
                    <a:pt x="899" y="1053"/>
                  </a:lnTo>
                  <a:lnTo>
                    <a:pt x="941" y="1059"/>
                  </a:lnTo>
                  <a:lnTo>
                    <a:pt x="984" y="1062"/>
                  </a:lnTo>
                  <a:lnTo>
                    <a:pt x="1077" y="1068"/>
                  </a:lnTo>
                  <a:lnTo>
                    <a:pt x="1299" y="1080"/>
                  </a:lnTo>
                  <a:lnTo>
                    <a:pt x="1356" y="1083"/>
                  </a:lnTo>
                  <a:lnTo>
                    <a:pt x="1410" y="1086"/>
                  </a:lnTo>
                  <a:lnTo>
                    <a:pt x="1465" y="1089"/>
                  </a:lnTo>
                  <a:lnTo>
                    <a:pt x="1518" y="1095"/>
                  </a:lnTo>
                  <a:lnTo>
                    <a:pt x="1621" y="1107"/>
                  </a:lnTo>
                  <a:lnTo>
                    <a:pt x="1672" y="1116"/>
                  </a:lnTo>
                  <a:lnTo>
                    <a:pt x="1723" y="1125"/>
                  </a:lnTo>
                  <a:lnTo>
                    <a:pt x="1771" y="1134"/>
                  </a:lnTo>
                  <a:lnTo>
                    <a:pt x="1816" y="1150"/>
                  </a:lnTo>
                  <a:lnTo>
                    <a:pt x="1861" y="1165"/>
                  </a:lnTo>
                  <a:lnTo>
                    <a:pt x="1907" y="1179"/>
                  </a:lnTo>
                  <a:lnTo>
                    <a:pt x="1949" y="1201"/>
                  </a:lnTo>
                  <a:lnTo>
                    <a:pt x="1988" y="1222"/>
                  </a:lnTo>
                  <a:lnTo>
                    <a:pt x="2024" y="1245"/>
                  </a:lnTo>
                  <a:lnTo>
                    <a:pt x="2042" y="1258"/>
                  </a:lnTo>
                  <a:lnTo>
                    <a:pt x="2060" y="1273"/>
                  </a:lnTo>
                  <a:lnTo>
                    <a:pt x="2093" y="1303"/>
                  </a:lnTo>
                  <a:lnTo>
                    <a:pt x="2127" y="1336"/>
                  </a:lnTo>
                  <a:lnTo>
                    <a:pt x="2153" y="1372"/>
                  </a:lnTo>
                  <a:lnTo>
                    <a:pt x="2165" y="1393"/>
                  </a:lnTo>
                  <a:lnTo>
                    <a:pt x="2180" y="1413"/>
                  </a:lnTo>
                  <a:lnTo>
                    <a:pt x="2201" y="1459"/>
                  </a:lnTo>
                  <a:lnTo>
                    <a:pt x="2214" y="1480"/>
                  </a:lnTo>
                  <a:lnTo>
                    <a:pt x="2223" y="1506"/>
                  </a:lnTo>
                  <a:lnTo>
                    <a:pt x="2241" y="1558"/>
                  </a:lnTo>
                  <a:lnTo>
                    <a:pt x="2252" y="1616"/>
                  </a:lnTo>
                  <a:lnTo>
                    <a:pt x="2259" y="1643"/>
                  </a:lnTo>
                  <a:lnTo>
                    <a:pt x="2265" y="1675"/>
                  </a:lnTo>
                  <a:lnTo>
                    <a:pt x="2274" y="1741"/>
                  </a:lnTo>
                  <a:lnTo>
                    <a:pt x="2274" y="1775"/>
                  </a:lnTo>
                  <a:lnTo>
                    <a:pt x="2277" y="1811"/>
                  </a:lnTo>
                  <a:lnTo>
                    <a:pt x="2277" y="1886"/>
                  </a:lnTo>
                  <a:lnTo>
                    <a:pt x="2274" y="1944"/>
                  </a:lnTo>
                  <a:lnTo>
                    <a:pt x="2267" y="2001"/>
                  </a:lnTo>
                  <a:lnTo>
                    <a:pt x="2265" y="2027"/>
                  </a:lnTo>
                  <a:lnTo>
                    <a:pt x="2261" y="2052"/>
                  </a:lnTo>
                  <a:lnTo>
                    <a:pt x="2250" y="2103"/>
                  </a:lnTo>
                  <a:lnTo>
                    <a:pt x="2244" y="2126"/>
                  </a:lnTo>
                  <a:lnTo>
                    <a:pt x="2237" y="2151"/>
                  </a:lnTo>
                  <a:lnTo>
                    <a:pt x="2229" y="2175"/>
                  </a:lnTo>
                  <a:lnTo>
                    <a:pt x="2223" y="2196"/>
                  </a:lnTo>
                  <a:lnTo>
                    <a:pt x="2204" y="2238"/>
                  </a:lnTo>
                  <a:lnTo>
                    <a:pt x="2184" y="2280"/>
                  </a:lnTo>
                  <a:lnTo>
                    <a:pt x="2159" y="2316"/>
                  </a:lnTo>
                  <a:lnTo>
                    <a:pt x="2132" y="2352"/>
                  </a:lnTo>
                  <a:lnTo>
                    <a:pt x="2106" y="2388"/>
                  </a:lnTo>
                  <a:lnTo>
                    <a:pt x="2075" y="2418"/>
                  </a:lnTo>
                  <a:lnTo>
                    <a:pt x="2060" y="2433"/>
                  </a:lnTo>
                  <a:lnTo>
                    <a:pt x="2042" y="2448"/>
                  </a:lnTo>
                  <a:lnTo>
                    <a:pt x="2027" y="2461"/>
                  </a:lnTo>
                  <a:lnTo>
                    <a:pt x="2009" y="2476"/>
                  </a:lnTo>
                  <a:lnTo>
                    <a:pt x="1973" y="2499"/>
                  </a:lnTo>
                  <a:lnTo>
                    <a:pt x="1934" y="2524"/>
                  </a:lnTo>
                  <a:lnTo>
                    <a:pt x="1892" y="2545"/>
                  </a:lnTo>
                  <a:lnTo>
                    <a:pt x="1850" y="2566"/>
                  </a:lnTo>
                  <a:lnTo>
                    <a:pt x="1805" y="2584"/>
                  </a:lnTo>
                  <a:lnTo>
                    <a:pt x="1784" y="2590"/>
                  </a:lnTo>
                  <a:lnTo>
                    <a:pt x="1759" y="2599"/>
                  </a:lnTo>
                  <a:lnTo>
                    <a:pt x="1712" y="2615"/>
                  </a:lnTo>
                  <a:lnTo>
                    <a:pt x="1660" y="2626"/>
                  </a:lnTo>
                  <a:lnTo>
                    <a:pt x="1609" y="2638"/>
                  </a:lnTo>
                  <a:lnTo>
                    <a:pt x="1555" y="2647"/>
                  </a:lnTo>
                  <a:lnTo>
                    <a:pt x="1501" y="2656"/>
                  </a:lnTo>
                  <a:lnTo>
                    <a:pt x="1443" y="2662"/>
                  </a:lnTo>
                  <a:lnTo>
                    <a:pt x="1386" y="2668"/>
                  </a:lnTo>
                  <a:lnTo>
                    <a:pt x="1327" y="2672"/>
                  </a:lnTo>
                  <a:lnTo>
                    <a:pt x="1266" y="2674"/>
                  </a:lnTo>
                  <a:lnTo>
                    <a:pt x="1206" y="2677"/>
                  </a:lnTo>
                  <a:lnTo>
                    <a:pt x="1077" y="2677"/>
                  </a:lnTo>
                  <a:lnTo>
                    <a:pt x="956" y="2672"/>
                  </a:lnTo>
                  <a:lnTo>
                    <a:pt x="899" y="2668"/>
                  </a:lnTo>
                  <a:lnTo>
                    <a:pt x="842" y="2666"/>
                  </a:lnTo>
                  <a:lnTo>
                    <a:pt x="788" y="2659"/>
                  </a:lnTo>
                  <a:lnTo>
                    <a:pt x="734" y="2653"/>
                  </a:lnTo>
                  <a:lnTo>
                    <a:pt x="683" y="2644"/>
                  </a:lnTo>
                  <a:lnTo>
                    <a:pt x="635" y="2635"/>
                  </a:lnTo>
                  <a:lnTo>
                    <a:pt x="584" y="2623"/>
                  </a:lnTo>
                  <a:lnTo>
                    <a:pt x="538" y="2611"/>
                  </a:lnTo>
                  <a:lnTo>
                    <a:pt x="493" y="2596"/>
                  </a:lnTo>
                  <a:lnTo>
                    <a:pt x="448" y="2581"/>
                  </a:lnTo>
                  <a:lnTo>
                    <a:pt x="406" y="2563"/>
                  </a:lnTo>
                  <a:lnTo>
                    <a:pt x="366" y="2545"/>
                  </a:lnTo>
                  <a:lnTo>
                    <a:pt x="330" y="2524"/>
                  </a:lnTo>
                  <a:lnTo>
                    <a:pt x="294" y="2503"/>
                  </a:lnTo>
                  <a:lnTo>
                    <a:pt x="258" y="2479"/>
                  </a:lnTo>
                  <a:lnTo>
                    <a:pt x="226" y="2452"/>
                  </a:lnTo>
                  <a:lnTo>
                    <a:pt x="195" y="2425"/>
                  </a:lnTo>
                  <a:lnTo>
                    <a:pt x="169" y="2395"/>
                  </a:lnTo>
                  <a:lnTo>
                    <a:pt x="141" y="2361"/>
                  </a:lnTo>
                  <a:lnTo>
                    <a:pt x="117" y="2329"/>
                  </a:lnTo>
                  <a:lnTo>
                    <a:pt x="95" y="2292"/>
                  </a:lnTo>
                  <a:lnTo>
                    <a:pt x="74" y="2253"/>
                  </a:lnTo>
                  <a:lnTo>
                    <a:pt x="57" y="2213"/>
                  </a:lnTo>
                  <a:lnTo>
                    <a:pt x="42" y="2169"/>
                  </a:lnTo>
                  <a:lnTo>
                    <a:pt x="30" y="2124"/>
                  </a:lnTo>
                  <a:lnTo>
                    <a:pt x="17" y="2075"/>
                  </a:lnTo>
                  <a:lnTo>
                    <a:pt x="12" y="2027"/>
                  </a:lnTo>
                  <a:lnTo>
                    <a:pt x="2" y="1973"/>
                  </a:lnTo>
                  <a:lnTo>
                    <a:pt x="0" y="1916"/>
                  </a:lnTo>
                  <a:lnTo>
                    <a:pt x="0" y="1859"/>
                  </a:lnTo>
                  <a:lnTo>
                    <a:pt x="550" y="1859"/>
                  </a:lnTo>
                  <a:lnTo>
                    <a:pt x="550" y="1880"/>
                  </a:lnTo>
                  <a:lnTo>
                    <a:pt x="553" y="1898"/>
                  </a:lnTo>
                  <a:lnTo>
                    <a:pt x="556" y="1937"/>
                  </a:lnTo>
                  <a:lnTo>
                    <a:pt x="559" y="1955"/>
                  </a:lnTo>
                  <a:lnTo>
                    <a:pt x="562" y="1973"/>
                  </a:lnTo>
                  <a:lnTo>
                    <a:pt x="574" y="2003"/>
                  </a:lnTo>
                  <a:lnTo>
                    <a:pt x="580" y="2018"/>
                  </a:lnTo>
                  <a:lnTo>
                    <a:pt x="586" y="2033"/>
                  </a:lnTo>
                  <a:lnTo>
                    <a:pt x="605" y="2060"/>
                  </a:lnTo>
                  <a:lnTo>
                    <a:pt x="626" y="2088"/>
                  </a:lnTo>
                  <a:lnTo>
                    <a:pt x="637" y="2097"/>
                  </a:lnTo>
                  <a:lnTo>
                    <a:pt x="652" y="2109"/>
                  </a:lnTo>
                  <a:lnTo>
                    <a:pt x="683" y="2126"/>
                  </a:lnTo>
                  <a:lnTo>
                    <a:pt x="700" y="2136"/>
                  </a:lnTo>
                  <a:lnTo>
                    <a:pt x="722" y="2145"/>
                  </a:lnTo>
                  <a:lnTo>
                    <a:pt x="764" y="2160"/>
                  </a:lnTo>
                  <a:lnTo>
                    <a:pt x="785" y="2166"/>
                  </a:lnTo>
                  <a:lnTo>
                    <a:pt x="812" y="2172"/>
                  </a:lnTo>
                  <a:lnTo>
                    <a:pt x="866" y="2184"/>
                  </a:lnTo>
                  <a:lnTo>
                    <a:pt x="927" y="2190"/>
                  </a:lnTo>
                  <a:lnTo>
                    <a:pt x="995" y="2196"/>
                  </a:lnTo>
                  <a:lnTo>
                    <a:pt x="1071" y="2198"/>
                  </a:lnTo>
                  <a:lnTo>
                    <a:pt x="1164" y="2198"/>
                  </a:lnTo>
                  <a:lnTo>
                    <a:pt x="1245" y="2198"/>
                  </a:lnTo>
                  <a:lnTo>
                    <a:pt x="1284" y="2196"/>
                  </a:lnTo>
                  <a:lnTo>
                    <a:pt x="1317" y="2192"/>
                  </a:lnTo>
                  <a:lnTo>
                    <a:pt x="1384" y="2187"/>
                  </a:lnTo>
                  <a:lnTo>
                    <a:pt x="1441" y="2177"/>
                  </a:lnTo>
                  <a:lnTo>
                    <a:pt x="1488" y="2162"/>
                  </a:lnTo>
                  <a:lnTo>
                    <a:pt x="1531" y="2148"/>
                  </a:lnTo>
                  <a:lnTo>
                    <a:pt x="1552" y="2139"/>
                  </a:lnTo>
                  <a:lnTo>
                    <a:pt x="1567" y="2130"/>
                  </a:lnTo>
                  <a:lnTo>
                    <a:pt x="1585" y="2120"/>
                  </a:lnTo>
                  <a:lnTo>
                    <a:pt x="1596" y="2111"/>
                  </a:lnTo>
                  <a:lnTo>
                    <a:pt x="1612" y="2099"/>
                  </a:lnTo>
                  <a:lnTo>
                    <a:pt x="1621" y="2088"/>
                  </a:lnTo>
                  <a:lnTo>
                    <a:pt x="1632" y="2075"/>
                  </a:lnTo>
                  <a:lnTo>
                    <a:pt x="1642" y="2063"/>
                  </a:lnTo>
                  <a:lnTo>
                    <a:pt x="1651" y="2052"/>
                  </a:lnTo>
                  <a:lnTo>
                    <a:pt x="1657" y="2037"/>
                  </a:lnTo>
                  <a:lnTo>
                    <a:pt x="1663" y="2024"/>
                  </a:lnTo>
                  <a:lnTo>
                    <a:pt x="1670" y="2009"/>
                  </a:lnTo>
                  <a:lnTo>
                    <a:pt x="1675" y="1980"/>
                  </a:lnTo>
                  <a:lnTo>
                    <a:pt x="1678" y="1961"/>
                  </a:lnTo>
                  <a:lnTo>
                    <a:pt x="1681" y="1946"/>
                  </a:lnTo>
                  <a:lnTo>
                    <a:pt x="1681" y="1913"/>
                  </a:lnTo>
                  <a:lnTo>
                    <a:pt x="1681" y="1859"/>
                  </a:lnTo>
                  <a:lnTo>
                    <a:pt x="1681" y="1832"/>
                  </a:lnTo>
                  <a:lnTo>
                    <a:pt x="1678" y="1811"/>
                  </a:lnTo>
                  <a:lnTo>
                    <a:pt x="1672" y="1790"/>
                  </a:lnTo>
                  <a:lnTo>
                    <a:pt x="1670" y="1769"/>
                  </a:lnTo>
                  <a:lnTo>
                    <a:pt x="1655" y="1732"/>
                  </a:lnTo>
                  <a:lnTo>
                    <a:pt x="1648" y="1718"/>
                  </a:lnTo>
                  <a:lnTo>
                    <a:pt x="1639" y="1703"/>
                  </a:lnTo>
                  <a:lnTo>
                    <a:pt x="1627" y="1690"/>
                  </a:lnTo>
                  <a:lnTo>
                    <a:pt x="1618" y="1675"/>
                  </a:lnTo>
                  <a:lnTo>
                    <a:pt x="1606" y="1667"/>
                  </a:lnTo>
                  <a:lnTo>
                    <a:pt x="1594" y="1654"/>
                  </a:lnTo>
                  <a:lnTo>
                    <a:pt x="1579" y="1645"/>
                  </a:lnTo>
                  <a:lnTo>
                    <a:pt x="1564" y="1639"/>
                  </a:lnTo>
                  <a:lnTo>
                    <a:pt x="1549" y="1631"/>
                  </a:lnTo>
                  <a:lnTo>
                    <a:pt x="1531" y="1624"/>
                  </a:lnTo>
                  <a:lnTo>
                    <a:pt x="1516" y="1618"/>
                  </a:lnTo>
                  <a:lnTo>
                    <a:pt x="1494" y="1612"/>
                  </a:lnTo>
                  <a:lnTo>
                    <a:pt x="1458" y="1603"/>
                  </a:lnTo>
                  <a:lnTo>
                    <a:pt x="1414" y="1597"/>
                  </a:lnTo>
                  <a:lnTo>
                    <a:pt x="1369" y="1591"/>
                  </a:lnTo>
                  <a:lnTo>
                    <a:pt x="1320" y="1588"/>
                  </a:lnTo>
                  <a:lnTo>
                    <a:pt x="1215" y="1582"/>
                  </a:lnTo>
                  <a:lnTo>
                    <a:pt x="1107" y="1576"/>
                  </a:lnTo>
                  <a:lnTo>
                    <a:pt x="999" y="1570"/>
                  </a:lnTo>
                  <a:lnTo>
                    <a:pt x="893" y="1565"/>
                  </a:lnTo>
                  <a:lnTo>
                    <a:pt x="788" y="1555"/>
                  </a:lnTo>
                  <a:lnTo>
                    <a:pt x="737" y="1550"/>
                  </a:lnTo>
                  <a:lnTo>
                    <a:pt x="686" y="1543"/>
                  </a:lnTo>
                  <a:lnTo>
                    <a:pt x="637" y="1534"/>
                  </a:lnTo>
                  <a:lnTo>
                    <a:pt x="590" y="1522"/>
                  </a:lnTo>
                  <a:lnTo>
                    <a:pt x="544" y="1513"/>
                  </a:lnTo>
                  <a:lnTo>
                    <a:pt x="499" y="1498"/>
                  </a:lnTo>
                  <a:lnTo>
                    <a:pt x="453" y="1483"/>
                  </a:lnTo>
                  <a:lnTo>
                    <a:pt x="412" y="1465"/>
                  </a:lnTo>
                  <a:lnTo>
                    <a:pt x="372" y="1447"/>
                  </a:lnTo>
                  <a:lnTo>
                    <a:pt x="334" y="1426"/>
                  </a:lnTo>
                  <a:lnTo>
                    <a:pt x="315" y="1413"/>
                  </a:lnTo>
                  <a:lnTo>
                    <a:pt x="298" y="1398"/>
                  </a:lnTo>
                  <a:lnTo>
                    <a:pt x="283" y="1387"/>
                  </a:lnTo>
                  <a:lnTo>
                    <a:pt x="264" y="1372"/>
                  </a:lnTo>
                  <a:lnTo>
                    <a:pt x="231" y="1341"/>
                  </a:lnTo>
                  <a:lnTo>
                    <a:pt x="201" y="1309"/>
                  </a:lnTo>
                  <a:lnTo>
                    <a:pt x="190" y="1290"/>
                  </a:lnTo>
                  <a:lnTo>
                    <a:pt x="174" y="1273"/>
                  </a:lnTo>
                  <a:lnTo>
                    <a:pt x="162" y="1254"/>
                  </a:lnTo>
                  <a:lnTo>
                    <a:pt x="150" y="1233"/>
                  </a:lnTo>
                  <a:lnTo>
                    <a:pt x="129" y="1191"/>
                  </a:lnTo>
                  <a:lnTo>
                    <a:pt x="108" y="1143"/>
                  </a:lnTo>
                  <a:lnTo>
                    <a:pt x="93" y="1091"/>
                  </a:lnTo>
                  <a:lnTo>
                    <a:pt x="84" y="1065"/>
                  </a:lnTo>
                  <a:lnTo>
                    <a:pt x="78" y="1038"/>
                  </a:lnTo>
                  <a:lnTo>
                    <a:pt x="69" y="977"/>
                  </a:lnTo>
                  <a:lnTo>
                    <a:pt x="66" y="947"/>
                  </a:lnTo>
                  <a:lnTo>
                    <a:pt x="63" y="915"/>
                  </a:lnTo>
                  <a:lnTo>
                    <a:pt x="57" y="848"/>
                  </a:lnTo>
                  <a:lnTo>
                    <a:pt x="57" y="776"/>
                  </a:lnTo>
                  <a:lnTo>
                    <a:pt x="57" y="746"/>
                  </a:lnTo>
                  <a:lnTo>
                    <a:pt x="59" y="716"/>
                  </a:lnTo>
                  <a:lnTo>
                    <a:pt x="66" y="661"/>
                  </a:lnTo>
                  <a:lnTo>
                    <a:pt x="69" y="634"/>
                  </a:lnTo>
                  <a:lnTo>
                    <a:pt x="72" y="608"/>
                  </a:lnTo>
                  <a:lnTo>
                    <a:pt x="84" y="557"/>
                  </a:lnTo>
                  <a:lnTo>
                    <a:pt x="90" y="532"/>
                  </a:lnTo>
                  <a:lnTo>
                    <a:pt x="95" y="511"/>
                  </a:lnTo>
                  <a:lnTo>
                    <a:pt x="105" y="487"/>
                  </a:lnTo>
                  <a:lnTo>
                    <a:pt x="114" y="466"/>
                  </a:lnTo>
                  <a:lnTo>
                    <a:pt x="133" y="421"/>
                  </a:lnTo>
                  <a:lnTo>
                    <a:pt x="153" y="382"/>
                  </a:lnTo>
                  <a:lnTo>
                    <a:pt x="177" y="346"/>
                  </a:lnTo>
                  <a:lnTo>
                    <a:pt x="201" y="310"/>
                  </a:lnTo>
                  <a:lnTo>
                    <a:pt x="228" y="276"/>
                  </a:lnTo>
                  <a:lnTo>
                    <a:pt x="258" y="246"/>
                  </a:lnTo>
                  <a:lnTo>
                    <a:pt x="292" y="217"/>
                  </a:lnTo>
                  <a:lnTo>
                    <a:pt x="328" y="189"/>
                  </a:lnTo>
                  <a:lnTo>
                    <a:pt x="364" y="166"/>
                  </a:lnTo>
                  <a:lnTo>
                    <a:pt x="402" y="144"/>
                  </a:lnTo>
                  <a:lnTo>
                    <a:pt x="445" y="123"/>
                  </a:lnTo>
                  <a:lnTo>
                    <a:pt x="487" y="105"/>
                  </a:lnTo>
                  <a:lnTo>
                    <a:pt x="533" y="87"/>
                  </a:lnTo>
                  <a:lnTo>
                    <a:pt x="577" y="72"/>
                  </a:lnTo>
                  <a:lnTo>
                    <a:pt x="626" y="57"/>
                  </a:lnTo>
                  <a:lnTo>
                    <a:pt x="677" y="45"/>
                  </a:lnTo>
                  <a:lnTo>
                    <a:pt x="728" y="36"/>
                  </a:lnTo>
                  <a:lnTo>
                    <a:pt x="779" y="28"/>
                  </a:lnTo>
                  <a:lnTo>
                    <a:pt x="836" y="18"/>
                  </a:lnTo>
                  <a:lnTo>
                    <a:pt x="889" y="12"/>
                  </a:lnTo>
                  <a:lnTo>
                    <a:pt x="950" y="9"/>
                  </a:lnTo>
                  <a:lnTo>
                    <a:pt x="1007" y="5"/>
                  </a:lnTo>
                  <a:lnTo>
                    <a:pt x="1067" y="3"/>
                  </a:lnTo>
                  <a:lnTo>
                    <a:pt x="1130" y="0"/>
                  </a:lnTo>
                  <a:lnTo>
                    <a:pt x="1257" y="0"/>
                  </a:lnTo>
                  <a:lnTo>
                    <a:pt x="1317" y="3"/>
                  </a:lnTo>
                  <a:lnTo>
                    <a:pt x="1374" y="5"/>
                  </a:lnTo>
                  <a:lnTo>
                    <a:pt x="1431" y="9"/>
                  </a:lnTo>
                  <a:lnTo>
                    <a:pt x="1486" y="15"/>
                  </a:lnTo>
                  <a:lnTo>
                    <a:pt x="1539" y="21"/>
                  </a:lnTo>
                  <a:lnTo>
                    <a:pt x="1591" y="28"/>
                  </a:lnTo>
                  <a:lnTo>
                    <a:pt x="1642" y="36"/>
                  </a:lnTo>
                  <a:lnTo>
                    <a:pt x="1691" y="45"/>
                  </a:lnTo>
                  <a:lnTo>
                    <a:pt x="1738" y="57"/>
                  </a:lnTo>
                  <a:lnTo>
                    <a:pt x="1784" y="72"/>
                  </a:lnTo>
                  <a:lnTo>
                    <a:pt x="1825" y="85"/>
                  </a:lnTo>
                  <a:lnTo>
                    <a:pt x="1867" y="102"/>
                  </a:lnTo>
                  <a:lnTo>
                    <a:pt x="1888" y="111"/>
                  </a:lnTo>
                  <a:lnTo>
                    <a:pt x="1907" y="121"/>
                  </a:lnTo>
                  <a:lnTo>
                    <a:pt x="1946" y="138"/>
                  </a:lnTo>
                  <a:lnTo>
                    <a:pt x="1982" y="159"/>
                  </a:lnTo>
                  <a:lnTo>
                    <a:pt x="2015" y="183"/>
                  </a:lnTo>
                  <a:lnTo>
                    <a:pt x="2034" y="195"/>
                  </a:lnTo>
                  <a:lnTo>
                    <a:pt x="2049" y="208"/>
                  </a:lnTo>
                  <a:lnTo>
                    <a:pt x="2078" y="235"/>
                  </a:lnTo>
                  <a:lnTo>
                    <a:pt x="2108" y="261"/>
                  </a:lnTo>
                  <a:lnTo>
                    <a:pt x="2136" y="291"/>
                  </a:lnTo>
                  <a:lnTo>
                    <a:pt x="2159" y="325"/>
                  </a:lnTo>
                  <a:lnTo>
                    <a:pt x="2180" y="358"/>
                  </a:lnTo>
                  <a:lnTo>
                    <a:pt x="2201" y="394"/>
                  </a:lnTo>
                  <a:lnTo>
                    <a:pt x="2220" y="433"/>
                  </a:lnTo>
                  <a:lnTo>
                    <a:pt x="2237" y="472"/>
                  </a:lnTo>
                  <a:lnTo>
                    <a:pt x="2252" y="515"/>
                  </a:lnTo>
                  <a:lnTo>
                    <a:pt x="2265" y="559"/>
                  </a:lnTo>
                  <a:lnTo>
                    <a:pt x="2274" y="608"/>
                  </a:lnTo>
                  <a:lnTo>
                    <a:pt x="2282" y="655"/>
                  </a:lnTo>
                  <a:lnTo>
                    <a:pt x="2288" y="707"/>
                  </a:lnTo>
                  <a:lnTo>
                    <a:pt x="2292" y="761"/>
                  </a:lnTo>
                  <a:lnTo>
                    <a:pt x="2292" y="818"/>
                  </a:lnTo>
                  <a:lnTo>
                    <a:pt x="1742" y="818"/>
                  </a:lnTo>
                  <a:close/>
                </a:path>
              </a:pathLst>
            </a:custGeom>
            <a:solidFill>
              <a:srgbClr val="7b5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86400" y="624240"/>
              <a:ext cx="188640" cy="184320"/>
            </a:xfrm>
            <a:custGeom>
              <a:avLst/>
              <a:gdLst/>
              <a:ahLst/>
              <a:rect l="l" t="t" r="r" b="b"/>
              <a:pathLst>
                <a:path w="1239" h="1260">
                  <a:moveTo>
                    <a:pt x="475" y="0"/>
                  </a:moveTo>
                  <a:lnTo>
                    <a:pt x="475" y="484"/>
                  </a:lnTo>
                  <a:lnTo>
                    <a:pt x="0" y="484"/>
                  </a:lnTo>
                  <a:lnTo>
                    <a:pt x="0" y="779"/>
                  </a:lnTo>
                  <a:lnTo>
                    <a:pt x="475" y="779"/>
                  </a:lnTo>
                  <a:lnTo>
                    <a:pt x="475" y="1260"/>
                  </a:lnTo>
                  <a:lnTo>
                    <a:pt x="764" y="1260"/>
                  </a:lnTo>
                  <a:lnTo>
                    <a:pt x="764" y="779"/>
                  </a:lnTo>
                  <a:lnTo>
                    <a:pt x="1239" y="779"/>
                  </a:lnTo>
                  <a:lnTo>
                    <a:pt x="1239" y="484"/>
                  </a:lnTo>
                  <a:lnTo>
                    <a:pt x="764" y="484"/>
                  </a:lnTo>
                  <a:lnTo>
                    <a:pt x="764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052640"/>
            <a:ext cx="828036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SUMMA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3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3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ACCESSIBILITY OF EMERGENCY DOORS FOR MINIBU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3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3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1.- Question P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2.- Description of 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3.- Previous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4.- 1st approach: ECE Regulation No.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5.- 2nd approach: ECE R107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6.- EC interpretation: Letter from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7.- TAAM interpretation Borlang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50000"/>
              </a:lnSpc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7d6e66"/>
                </a:solidFill>
                <a:latin typeface="Arial"/>
              </a:rPr>
              <a:t>8.- CONCL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692280"/>
            <a:ext cx="871380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This question was asked to TAAM members in a query sent out on the 18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th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of August 2008 with a response from 13 countries. The detailed summary is on pages 3 and 4 of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Since the overall result is inconclusive (7 - for, 6 - against), all TAAM members are kindly requested to prepare for a discussion in Edinburgh. This is addressed especially to the countries that have not replied to the query, i.e.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pain,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Austria, Luxembourg, Finland, Estonia and Bulg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With a kind permission of the Chairman, Poland would be pleased to deliver a short Power Point presentation prior to the discussion, as - in our opinion - the wording of both the Directive and the UN ECE Regulation concerning what is emergency door and what is emergency exit is not clear enough and confu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ckgrou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ragraph 7.6.1.1. of the directive 2001/85/EC (and of the UN ECE Regulation No. 107.02) says: “The minimum number of doors in a vehicle shall be two, either two service doors or one service door and one emergency door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algn="just">
              <a:tabLst>
                <a:tab algn="l" pos="0"/>
                <a:tab algn="l" pos="355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drawing on the next page shows the vehicle in question. Would such a vehicle configuration obtain a type-approval certificate in your country in respect of the number of service and/or emergency do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47315"/>
          <a:stretch/>
        </p:blipFill>
        <p:spPr>
          <a:xfrm>
            <a:off x="2197080" y="731880"/>
            <a:ext cx="6696000" cy="557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6520" y="981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 P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52389" r="0" b="0"/>
          <a:stretch/>
        </p:blipFill>
        <p:spPr>
          <a:xfrm>
            <a:off x="1403280" y="620640"/>
            <a:ext cx="7561440" cy="568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6520" y="57261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 P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vious situation: ECE Regulation No. 52.01 suppl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Applicable until 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6.2.5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5834" t="0" r="0" b="0"/>
          <a:stretch/>
        </p:blipFill>
        <p:spPr>
          <a:xfrm>
            <a:off x="395280" y="1844640"/>
            <a:ext cx="8497800" cy="163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8280360" cy="912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9600" y="501336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ot note 5 originated a question from 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149720"/>
            <a:ext cx="8424720" cy="503280"/>
          </a:xfrm>
          <a:prstGeom prst="rect">
            <a:avLst/>
          </a:prstGeom>
          <a:noFill/>
          <a:ln w="38160">
            <a:solidFill>
              <a:srgbClr val="f2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8301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ter NL ques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tion of ECE R52.01 supl 07 to clarify the technical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Entry into force: 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6.2.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4920" t="8352" r="0" b="0"/>
          <a:stretch/>
        </p:blipFill>
        <p:spPr>
          <a:xfrm>
            <a:off x="179280" y="2351160"/>
            <a:ext cx="8747280" cy="3309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8880" y="565452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e figures 21 and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725400"/>
            <a:ext cx="7740720" cy="596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407664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ter NL ques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tion of ECE R52.01 supl 07 to clarify the techn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9144000" cy="5823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1640" y="18900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PANISH COMMENTS ON QUESTION TAAM P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07664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ter NL ques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tion of ECE R52.01 supl 07 to clarify the techn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4:02:37Z</dcterms:created>
  <dc:creator/>
  <dc:description/>
  <dc:language>en-US</dc:language>
  <cp:lastModifiedBy/>
  <dcterms:modified xsi:type="dcterms:W3CDTF">2008-10-27T15:28:50Z</dcterms:modified>
  <cp:revision>206</cp:revision>
  <dc:subject/>
  <dc:title>Diapositiva 1</dc:title>
</cp:coreProperties>
</file>