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46888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1B19-B2BB-4D67-985C-C8B1C8BE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4277-5551-443B-980C-8F1032F5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4919-B323-4399-A8D6-85420BD9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C87C-750F-4186-8B5F-62E22E32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97B9-BE7E-44AD-AF4D-94504AA4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A757-0F9A-4C29-A635-B01D3680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BCB6-EDAF-42FA-ABE4-4B26B9F8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014D-4D9C-451E-8298-FA8CFF5B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B136-BE2B-4FAC-A02B-56C4EF16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4C06-0913-4C10-B5D7-8DA78CCD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D1E3-CD92-425B-9479-D700B00A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C0B-081A-4C26-A5AE-5D565AE4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12B2-1496-47DA-A5E6-7D8246CF87F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62040" y="6205680"/>
            <a:ext cx="1700280" cy="2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14400" y="5381640"/>
            <a:ext cx="3505320" cy="560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907920"/>
            <a:ext cx="79200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ffffff"/>
                </a:solidFill>
                <a:latin typeface="Calibri"/>
              </a:rPr>
              <a:t>Proposal on the requirements for the determination of the ocular points when the driver seat has fixed seat-back angle or when the design torso line cannot be set at 25</a:t>
            </a:r>
            <a:r>
              <a:rPr b="1" lang="en-US" sz="3900" spc="-1" strike="noStrike">
                <a:solidFill>
                  <a:srgbClr val="ffffff"/>
                </a:solidFill>
                <a:latin typeface="Calibri"/>
              </a:rPr>
              <a:t>°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3882960"/>
            <a:ext cx="6400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292720" y="5157720"/>
            <a:ext cx="1370160" cy="1530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24360" y="189000"/>
            <a:ext cx="2880000" cy="70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formal document N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v-SE" sz="1600" spc="-1" strike="noStrike">
                <a:solidFill>
                  <a:srgbClr val="000000"/>
                </a:solidFill>
                <a:latin typeface="Times New Roman"/>
              </a:rPr>
              <a:t>GRSG-95-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(95th GRSG, 21 – 24 Octo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agenda item 7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60280"/>
            <a:ext cx="24476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ted by the expert from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uropean Commission (E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16360" y="3068640"/>
            <a:ext cx="4427640" cy="3495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54936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5fa9"/>
                </a:solidFill>
                <a:uFillTx/>
                <a:latin typeface="Calibri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52480"/>
            <a:ext cx="5904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This short presentation is aimed at describing the calculation process of the variation in height of the driver’s ocular points OD and OE for a seat back angle ranging from 5 ° to 40 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Driver’s ocular points OD and OE have been defined in Directive 71/127/EEC and UNECE Regulation No 46 taking into account a design seat back angle of 25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Simplified corrections are proposed in accordance with the method used to check the rearward field of v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Vertical coordinate corrections should be Introduced in new Annex 11 to UNECE regulation No. 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25200" y="6546960"/>
            <a:ext cx="34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: Bosch Memento de tachnologie automo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24360" y="1501920"/>
            <a:ext cx="5184720" cy="524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539640" y="54936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5fa9"/>
                </a:solidFill>
                <a:uFillTx/>
                <a:latin typeface="Calibri"/>
              </a:rPr>
              <a:t>50</a:t>
            </a:r>
            <a:r>
              <a:rPr b="1" lang="en-GB" sz="3600" spc="-1" strike="noStrike" u="sng" baseline="30000">
                <a:solidFill>
                  <a:srgbClr val="005fa9"/>
                </a:solidFill>
                <a:uFillTx/>
                <a:latin typeface="Calibri"/>
              </a:rPr>
              <a:t>th</a:t>
            </a:r>
            <a:r>
              <a:rPr b="1" lang="en-GB" sz="3600" spc="-1" strike="noStrike" u="sng">
                <a:solidFill>
                  <a:srgbClr val="005fa9"/>
                </a:solidFill>
                <a:uFillTx/>
                <a:latin typeface="Calibri"/>
              </a:rPr>
              <a:t> Percentile Male Hybrid III test Dum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989000"/>
            <a:ext cx="378000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Body dimensions have to be obtained from dummy manufa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Length of the torso from the H point to the shoulder (start of nec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Z</a:t>
            </a:r>
            <a:r>
              <a:rPr b="0" lang="en-GB" sz="2000" spc="-1" strike="noStrike" baseline="-25000">
                <a:solidFill>
                  <a:srgbClr val="333399"/>
                </a:solidFill>
                <a:latin typeface="Calibri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=J+I-C=200.7+337.8-86.4= 452.1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5157720"/>
            <a:ext cx="3529080" cy="115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TEST PARAMETER DESIGNATION in 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H-Point Height (Ref) (C) 86.4 ±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houlder to Elbow Length (I) 337.8 ± 7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Elbow Rest Height (J) 200.7 ± 1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19280" y="1197000"/>
            <a:ext cx="334800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From </a:t>
            </a:r>
            <a:r>
              <a:rPr b="0" i="1" lang="en-GB" sz="2000" spc="-1" strike="noStrike">
                <a:solidFill>
                  <a:srgbClr val="333399"/>
                </a:solidFill>
                <a:latin typeface="Calibri"/>
              </a:rPr>
              <a:t>trigon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cos25</a:t>
            </a:r>
            <a:r>
              <a:rPr b="0" lang="en-GB" sz="2000" spc="-1" strike="noStrike" baseline="30000">
                <a:solidFill>
                  <a:srgbClr val="333399"/>
                </a:solidFill>
                <a:latin typeface="Calibri"/>
              </a:rPr>
              <a:t>o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=Z</a:t>
            </a:r>
            <a:r>
              <a:rPr b="0" lang="en-GB" sz="2000" spc="-1" strike="noStrike" baseline="-25000">
                <a:solidFill>
                  <a:srgbClr val="333399"/>
                </a:solidFill>
                <a:latin typeface="Calibri"/>
              </a:rPr>
              <a:t>3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/Z</a:t>
            </a:r>
            <a:r>
              <a:rPr b="0" lang="en-GB" sz="2000" spc="-1" strike="noStrike" baseline="-25000">
                <a:solidFill>
                  <a:srgbClr val="333399"/>
                </a:solidFill>
                <a:latin typeface="Calibri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Z</a:t>
            </a:r>
            <a:r>
              <a:rPr b="0" lang="en-GB" sz="2000" spc="-1" strike="noStrike" baseline="-25000">
                <a:solidFill>
                  <a:srgbClr val="333399"/>
                </a:solidFill>
                <a:latin typeface="Calibri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=452.1mm is found from the user’s manual for the 50</a:t>
            </a:r>
            <a:r>
              <a:rPr b="0" lang="en-GB" sz="2000" spc="-1" strike="noStrike" baseline="30000">
                <a:solidFill>
                  <a:srgbClr val="333399"/>
                </a:solidFill>
                <a:latin typeface="Calibri"/>
              </a:rPr>
              <a:t>th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 male hybrid III test dummy so Z</a:t>
            </a:r>
            <a:r>
              <a:rPr b="0" lang="en-GB" sz="2000" spc="-1" strike="noStrike" baseline="-25000">
                <a:solidFill>
                  <a:srgbClr val="333399"/>
                </a:solidFill>
                <a:latin typeface="Calibri"/>
              </a:rPr>
              <a:t>3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=409.74mm for Z</a:t>
            </a:r>
            <a:r>
              <a:rPr b="0" lang="en-GB" sz="2000" spc="-1" strike="noStrike" baseline="-25000">
                <a:solidFill>
                  <a:srgbClr val="333399"/>
                </a:solidFill>
                <a:latin typeface="Calibri"/>
              </a:rPr>
              <a:t>0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=635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It is assume that the head is 90</a:t>
            </a:r>
            <a:r>
              <a:rPr b="0" lang="en-GB" sz="2000" spc="-1" strike="noStrike" baseline="30000">
                <a:solidFill>
                  <a:srgbClr val="333399"/>
                </a:solidFill>
                <a:latin typeface="Calibri"/>
              </a:rPr>
              <a:t>o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 vertical to the </a:t>
            </a:r>
            <a:r>
              <a:rPr b="1" lang="en-GB" sz="2000" spc="-1" strike="noStrike">
                <a:solidFill>
                  <a:srgbClr val="333399"/>
                </a:solidFill>
                <a:latin typeface="Calibri"/>
              </a:rPr>
              <a:t>X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 ax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Then Z</a:t>
            </a:r>
            <a:r>
              <a:rPr b="0" lang="en-GB" sz="2000" spc="-1" strike="noStrike" baseline="-25000">
                <a:solidFill>
                  <a:srgbClr val="333399"/>
                </a:solidFill>
                <a:latin typeface="Calibri"/>
              </a:rPr>
              <a:t>1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=Z</a:t>
            </a:r>
            <a:r>
              <a:rPr b="0" lang="en-GB" sz="2000" spc="-1" strike="noStrike" baseline="-25000">
                <a:solidFill>
                  <a:srgbClr val="333399"/>
                </a:solidFill>
                <a:latin typeface="Calibri"/>
              </a:rPr>
              <a:t>0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-Z</a:t>
            </a:r>
            <a:r>
              <a:rPr b="0" lang="en-GB" sz="2000" spc="-1" strike="noStrike" baseline="-25000">
                <a:solidFill>
                  <a:srgbClr val="333399"/>
                </a:solidFill>
                <a:latin typeface="Calibri"/>
              </a:rPr>
              <a:t>3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=635-409.74= 225.26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The equation which links the seat back angle with the height variation </a:t>
            </a:r>
            <a:r>
              <a:rPr b="0" lang="el-GR" sz="2000" spc="-1" strike="noStrike">
                <a:solidFill>
                  <a:srgbClr val="333399"/>
                </a:solidFill>
                <a:latin typeface="Calibri"/>
              </a:rPr>
              <a:t>ΔΖ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l-GR" sz="1800" spc="-1" strike="noStrike">
                <a:solidFill>
                  <a:srgbClr val="ff0000"/>
                </a:solidFill>
                <a:latin typeface="Arial"/>
              </a:rPr>
              <a:t>Δ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Z=225.26+ 452.1cos</a:t>
            </a:r>
            <a:r>
              <a:rPr b="1" lang="el-GR" sz="2000" spc="-1" strike="noStrike">
                <a:solidFill>
                  <a:srgbClr val="ff0000"/>
                </a:solidFill>
                <a:latin typeface="Calibri"/>
              </a:rPr>
              <a:t>θ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-6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Where </a:t>
            </a:r>
            <a:r>
              <a:rPr b="0" lang="el-GR" sz="2000" spc="-1" strike="noStrike">
                <a:solidFill>
                  <a:srgbClr val="333399"/>
                </a:solidFill>
                <a:latin typeface="Calibri"/>
              </a:rPr>
              <a:t>θ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 is the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54936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5fa9"/>
                </a:solidFill>
                <a:uFillTx/>
                <a:latin typeface="Calibri"/>
              </a:rPr>
              <a:t>Calcul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017520" y="693720"/>
            <a:ext cx="6022080" cy="5759280"/>
            <a:chOff x="3017520" y="693720"/>
            <a:chExt cx="6022080" cy="5759280"/>
          </a:xfrm>
        </p:grpSpPr>
        <p:sp>
          <p:nvSpPr>
            <p:cNvPr id="60" name=""/>
            <p:cNvSpPr/>
            <p:nvPr/>
          </p:nvSpPr>
          <p:spPr>
            <a:xfrm>
              <a:off x="6953400" y="2782800"/>
              <a:ext cx="576360" cy="646200"/>
            </a:xfrm>
            <a:prstGeom prst="ellipse">
              <a:avLst/>
            </a:prstGeom>
            <a:solidFill>
              <a:srgbClr val="ffcc99">
                <a:alpha val="86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963800">
              <a:off x="6443280" y="3342960"/>
              <a:ext cx="433440" cy="1812600"/>
            </a:xfrm>
            <a:custGeom>
              <a:avLst/>
              <a:gdLst>
                <a:gd name="textAreaLeft" fmla="*/ 20880 w 433440"/>
                <a:gd name="textAreaRight" fmla="*/ 412560 w 433440"/>
                <a:gd name="textAreaTop" fmla="*/ 20880 h 1812600"/>
                <a:gd name="textAreaBottom" fmla="*/ 1791720 h 1812600"/>
              </a:gdLst>
              <a:ahLst/>
              <a:rect l="textAreaLeft" t="textAreaTop" r="textAreaRight" b="textAreaBottom"/>
              <a:pathLst>
                <a:path w="21600" h="90272">
                  <a:moveTo>
                    <a:pt x="3600" y="0"/>
                  </a:moveTo>
                  <a:arcTo wR="3600" hR="3600" stAng="16200000" swAng="-5400000"/>
                  <a:lnTo>
                    <a:pt x="0" y="86672"/>
                  </a:lnTo>
                  <a:arcTo wR="3600" hR="3600" stAng="10800000" swAng="-5400000"/>
                  <a:lnTo>
                    <a:pt x="18000" y="902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>
                <a:alpha val="86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745400" y="3068640"/>
              <a:ext cx="0" cy="21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6161040" y="3428640"/>
              <a:ext cx="100836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7169400" y="277956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097760" y="2995560"/>
              <a:ext cx="14436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02160" y="306864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00720" y="5155920"/>
              <a:ext cx="42498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45040" y="4551120"/>
              <a:ext cx="1294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Calibri"/>
                </a:rPr>
                <a:t>Z</a:t>
              </a:r>
              <a:r>
                <a:rPr b="0" lang="en-GB" sz="2000" spc="-1" strike="noStrike" baseline="-25000">
                  <a:solidFill>
                    <a:srgbClr val="333399"/>
                  </a:solidFill>
                  <a:latin typeface="Calibri"/>
                </a:rPr>
                <a:t>0</a:t>
              </a:r>
              <a:r>
                <a:rPr b="0" lang="en-GB" sz="2000" spc="-1" strike="noStrike">
                  <a:solidFill>
                    <a:srgbClr val="333399"/>
                  </a:solidFill>
                  <a:latin typeface="Calibri"/>
                </a:rPr>
                <a:t>=635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11640" y="2347920"/>
              <a:ext cx="64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Calibri"/>
                </a:rPr>
                <a:t>Ey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7164360" y="2636640"/>
              <a:ext cx="72576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84000" y="50482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Calibri"/>
                </a:rPr>
                <a:t>H po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56360" y="1987560"/>
              <a:ext cx="0" cy="44654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69400" y="1987560"/>
              <a:ext cx="0" cy="44654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753240" y="4108320"/>
              <a:ext cx="405000" cy="122400"/>
            </a:xfrm>
            <a:custGeom>
              <a:avLst/>
              <a:gdLst/>
              <a:ahLst/>
              <a:rect l="l" t="t" r="r" b="b"/>
              <a:pathLst>
                <a:path w="255" h="77">
                  <a:moveTo>
                    <a:pt x="0" y="0"/>
                  </a:moveTo>
                  <a:cubicBezTo>
                    <a:pt x="14" y="8"/>
                    <a:pt x="54" y="39"/>
                    <a:pt x="84" y="51"/>
                  </a:cubicBezTo>
                  <a:cubicBezTo>
                    <a:pt x="114" y="63"/>
                    <a:pt x="155" y="73"/>
                    <a:pt x="183" y="75"/>
                  </a:cubicBezTo>
                  <a:cubicBezTo>
                    <a:pt x="211" y="77"/>
                    <a:pt x="240" y="68"/>
                    <a:pt x="255" y="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00200" y="3895560"/>
              <a:ext cx="51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Calibri"/>
                </a:rPr>
                <a:t>25</a:t>
              </a:r>
              <a:r>
                <a:rPr b="0" lang="en-GB" sz="2000" spc="-1" strike="noStrike" baseline="30000">
                  <a:solidFill>
                    <a:srgbClr val="333399"/>
                  </a:solidFill>
                  <a:latin typeface="Calibri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937400" y="4220640"/>
              <a:ext cx="1512720" cy="1150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6160680" y="2708280"/>
              <a:ext cx="1513080" cy="107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5153040" y="2852640"/>
              <a:ext cx="115272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70840" y="3319200"/>
              <a:ext cx="37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Calibri"/>
                </a:rPr>
                <a:t>Z</a:t>
              </a:r>
              <a:r>
                <a:rPr b="0" lang="en-GB" sz="2000" spc="-1" strike="noStrike" baseline="-25000">
                  <a:solidFill>
                    <a:srgbClr val="333399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244000" y="3068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00720" y="3429000"/>
              <a:ext cx="4249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828200" y="693720"/>
              <a:ext cx="120780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Calibri"/>
                </a:rPr>
                <a:t>Z</a:t>
              </a:r>
              <a:r>
                <a:rPr b="0" lang="en-GB" sz="2000" spc="-1" strike="noStrike" baseline="-25000">
                  <a:solidFill>
                    <a:srgbClr val="333399"/>
                  </a:solidFill>
                  <a:latin typeface="Calibri"/>
                </a:rPr>
                <a:t>1</a:t>
              </a:r>
              <a:r>
                <a:rPr b="0" lang="en-GB" sz="2000" spc="-1" strike="noStrike">
                  <a:solidFill>
                    <a:srgbClr val="333399"/>
                  </a:solidFill>
                  <a:latin typeface="Calibri"/>
                </a:rPr>
                <a:t>:height from neck to ey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99640" y="3429000"/>
              <a:ext cx="0" cy="17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06120" y="3968640"/>
              <a:ext cx="37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Calibri"/>
                </a:rPr>
                <a:t>Z</a:t>
              </a:r>
              <a:r>
                <a:rPr b="0" lang="en-GB" sz="2000" spc="-1" strike="noStrike" baseline="-25000">
                  <a:solidFill>
                    <a:srgbClr val="333399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7016000">
              <a:off x="5280840" y="4199400"/>
              <a:ext cx="246240" cy="1412640"/>
            </a:xfrm>
            <a:custGeom>
              <a:avLst/>
              <a:gdLst>
                <a:gd name="textAreaLeft" fmla="*/ 11880 w 246240"/>
                <a:gd name="textAreaRight" fmla="*/ 234360 w 246240"/>
                <a:gd name="textAreaTop" fmla="*/ 11880 h 1412640"/>
                <a:gd name="textAreaBottom" fmla="*/ 1400760 h 1412640"/>
              </a:gdLst>
              <a:ahLst/>
              <a:rect l="textAreaLeft" t="textAreaTop" r="textAreaRight" b="textAreaBottom"/>
              <a:pathLst>
                <a:path w="21600" h="123766">
                  <a:moveTo>
                    <a:pt x="3600" y="0"/>
                  </a:moveTo>
                  <a:arcTo wR="3600" hR="3600" stAng="16200000" swAng="-5400000"/>
                  <a:lnTo>
                    <a:pt x="0" y="120166"/>
                  </a:lnTo>
                  <a:arcTo wR="3600" hR="3600" stAng="10800000" swAng="-5400000"/>
                  <a:lnTo>
                    <a:pt x="18000" y="1237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>
                <a:alpha val="86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3147000">
              <a:off x="3943440" y="4472640"/>
              <a:ext cx="217800" cy="1413000"/>
            </a:xfrm>
            <a:custGeom>
              <a:avLst/>
              <a:gdLst>
                <a:gd name="textAreaLeft" fmla="*/ 10440 w 217800"/>
                <a:gd name="textAreaRight" fmla="*/ 207360 w 217800"/>
                <a:gd name="textAreaTop" fmla="*/ 10440 h 1413000"/>
                <a:gd name="textAreaBottom" fmla="*/ 1402560 h 1413000"/>
              </a:gdLst>
              <a:ahLst/>
              <a:rect l="textAreaLeft" t="textAreaTop" r="textAreaRight" b="textAreaBottom"/>
              <a:pathLst>
                <a:path w="21600" h="139937">
                  <a:moveTo>
                    <a:pt x="3600" y="0"/>
                  </a:moveTo>
                  <a:arcTo wR="3600" hR="3600" stAng="16200000" swAng="-5400000"/>
                  <a:lnTo>
                    <a:pt x="0" y="136337"/>
                  </a:lnTo>
                  <a:arcTo wR="3600" hR="3600" stAng="10800000" swAng="-5400000"/>
                  <a:lnTo>
                    <a:pt x="18000" y="1399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>
                <a:alpha val="86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8043000">
              <a:off x="3180960" y="5277600"/>
              <a:ext cx="117360" cy="505080"/>
            </a:xfrm>
            <a:custGeom>
              <a:avLst/>
              <a:gdLst>
                <a:gd name="textAreaLeft" fmla="*/ 5400 w 117360"/>
                <a:gd name="textAreaRight" fmla="*/ 111960 w 117360"/>
                <a:gd name="textAreaTop" fmla="*/ 5400 h 505080"/>
                <a:gd name="textAreaBottom" fmla="*/ 499680 h 505080"/>
              </a:gdLst>
              <a:ahLst/>
              <a:rect l="textAreaLeft" t="textAreaTop" r="textAreaRight" b="textAreaBottom"/>
              <a:pathLst>
                <a:path w="21600" h="92741">
                  <a:moveTo>
                    <a:pt x="3600" y="0"/>
                  </a:moveTo>
                  <a:arcTo wR="3600" hR="3600" stAng="16200000" swAng="-5400000"/>
                  <a:lnTo>
                    <a:pt x="0" y="89141"/>
                  </a:lnTo>
                  <a:arcTo wR="3600" hR="3600" stAng="10800000" swAng="-5400000"/>
                  <a:lnTo>
                    <a:pt x="18000" y="927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>
                <a:alpha val="86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5334800">
              <a:off x="6452280" y="3261240"/>
              <a:ext cx="171360" cy="1052640"/>
            </a:xfrm>
            <a:custGeom>
              <a:avLst/>
              <a:gdLst>
                <a:gd name="textAreaLeft" fmla="*/ 8280 w 171360"/>
                <a:gd name="textAreaRight" fmla="*/ 163080 w 171360"/>
                <a:gd name="textAreaTop" fmla="*/ 8280 h 1052640"/>
                <a:gd name="textAreaBottom" fmla="*/ 1044360 h 1052640"/>
              </a:gdLst>
              <a:ahLst/>
              <a:rect l="textAreaLeft" t="textAreaTop" r="textAreaRight" b="textAreaBottom"/>
              <a:pathLst>
                <a:path w="21600" h="132453">
                  <a:moveTo>
                    <a:pt x="3600" y="0"/>
                  </a:moveTo>
                  <a:arcTo wR="3600" hR="3600" stAng="16200000" swAng="-5400000"/>
                  <a:lnTo>
                    <a:pt x="0" y="128853"/>
                  </a:lnTo>
                  <a:arcTo wR="3600" hR="3600" stAng="10800000" swAng="-5400000"/>
                  <a:lnTo>
                    <a:pt x="18000" y="1324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>
                <a:alpha val="86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7028000">
              <a:off x="5500800" y="3334680"/>
              <a:ext cx="114120" cy="907920"/>
            </a:xfrm>
            <a:custGeom>
              <a:avLst/>
              <a:gdLst>
                <a:gd name="textAreaLeft" fmla="*/ 5400 w 114120"/>
                <a:gd name="textAreaRight" fmla="*/ 108720 w 114120"/>
                <a:gd name="textAreaTop" fmla="*/ 5400 h 907920"/>
                <a:gd name="textAreaBottom" fmla="*/ 902520 h 907920"/>
              </a:gdLst>
              <a:ahLst/>
              <a:rect l="textAreaLeft" t="textAreaTop" r="textAreaRight" b="textAreaBottom"/>
              <a:pathLst>
                <a:path w="21600" h="171374">
                  <a:moveTo>
                    <a:pt x="3600" y="0"/>
                  </a:moveTo>
                  <a:arcTo wR="3600" hR="3600" stAng="16200000" swAng="-5400000"/>
                  <a:lnTo>
                    <a:pt x="0" y="167774"/>
                  </a:lnTo>
                  <a:arcTo wR="3600" hR="3600" stAng="10800000" swAng="-5400000"/>
                  <a:lnTo>
                    <a:pt x="18000" y="1713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>
                <a:alpha val="86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75280" y="3198600"/>
              <a:ext cx="71640" cy="7923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0800000">
              <a:off x="6154920" y="4300200"/>
              <a:ext cx="404640" cy="122040"/>
            </a:xfrm>
            <a:custGeom>
              <a:avLst/>
              <a:gdLst/>
              <a:ahLst/>
              <a:rect l="l" t="t" r="r" b="b"/>
              <a:pathLst>
                <a:path w="255" h="77">
                  <a:moveTo>
                    <a:pt x="0" y="0"/>
                  </a:moveTo>
                  <a:cubicBezTo>
                    <a:pt x="14" y="8"/>
                    <a:pt x="54" y="39"/>
                    <a:pt x="84" y="51"/>
                  </a:cubicBezTo>
                  <a:cubicBezTo>
                    <a:pt x="114" y="63"/>
                    <a:pt x="155" y="73"/>
                    <a:pt x="183" y="75"/>
                  </a:cubicBezTo>
                  <a:cubicBezTo>
                    <a:pt x="211" y="77"/>
                    <a:pt x="240" y="68"/>
                    <a:pt x="255" y="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36560" y="4400280"/>
              <a:ext cx="51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Calibri"/>
                </a:rPr>
                <a:t>25</a:t>
              </a:r>
              <a:r>
                <a:rPr b="0" lang="en-GB" sz="2000" spc="-1" strike="noStrike" baseline="30000">
                  <a:solidFill>
                    <a:srgbClr val="333399"/>
                  </a:solidFill>
                  <a:latin typeface="Calibri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507280" y="1903320"/>
              <a:ext cx="2592360" cy="4248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57440" y="175716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Calibri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54880" y="48322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Calibri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8244000" y="1628640"/>
              <a:ext cx="28728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5fa9"/>
                </a:solidFill>
                <a:uFillTx/>
                <a:latin typeface="Calibri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71280" y="1058760"/>
            <a:ext cx="63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l-GR" sz="2000" spc="-1" strike="noStrike">
                <a:solidFill>
                  <a:srgbClr val="333399"/>
                </a:solidFill>
                <a:latin typeface="Calibri"/>
              </a:rPr>
              <a:t>θ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 values: 5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° to 40° step of 1°,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0000"/>
                </a:solidFill>
                <a:latin typeface="Calibri"/>
              </a:rPr>
              <a:t>Δ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Z=225.26+ 452.1cos</a:t>
            </a:r>
            <a:r>
              <a:rPr b="1" lang="el-GR" sz="2000" spc="-1" strike="noStrike">
                <a:solidFill>
                  <a:srgbClr val="ff0000"/>
                </a:solidFill>
                <a:latin typeface="Calibri"/>
              </a:rPr>
              <a:t>θ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-6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The table on the right hand site shows the vertical coordinates correction </a:t>
            </a:r>
            <a:r>
              <a:rPr b="0" lang="el-GR" sz="2000" spc="-1" strike="noStrike">
                <a:solidFill>
                  <a:srgbClr val="333399"/>
                </a:solidFill>
                <a:latin typeface="Calibri"/>
              </a:rPr>
              <a:t>ΔΖ 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(in mm) from 5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° to 40° seat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The graph below demonstrates the variation of </a:t>
            </a:r>
            <a:r>
              <a:rPr b="0" lang="el-GR" sz="2000" spc="-1" strike="noStrike">
                <a:solidFill>
                  <a:srgbClr val="333399"/>
                </a:solidFill>
                <a:latin typeface="Calibri"/>
              </a:rPr>
              <a:t>ΔΖ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 against deg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219720" y="693720"/>
            <a:ext cx="2889360" cy="612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0" y="3284640"/>
          <a:ext cx="6154560" cy="2906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84640"/>
                    <a:ext cx="6154560" cy="29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9640" y="54936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5fa9"/>
                </a:solidFill>
                <a:uFillTx/>
                <a:latin typeface="Calibri"/>
              </a:rPr>
              <a:t>Comparison with previous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8000" y="2997360"/>
          <a:ext cx="4459320" cy="267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2997360"/>
                    <a:ext cx="4459320" cy="26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605480" y="2997360"/>
          <a:ext cx="4467240" cy="2687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05480" y="2997360"/>
                    <a:ext cx="446724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39640" y="1341360"/>
            <a:ext cx="79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The point of reference of the previous proposed correction for </a:t>
            </a:r>
            <a:r>
              <a:rPr b="0" lang="el-GR" sz="2000" spc="-1" strike="noStrike">
                <a:solidFill>
                  <a:srgbClr val="333399"/>
                </a:solidFill>
                <a:latin typeface="Calibri"/>
              </a:rPr>
              <a:t>ΔΖ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 is unclear and all </a:t>
            </a:r>
            <a:r>
              <a:rPr b="0" lang="el-GR" sz="2000" spc="-1" strike="noStrike">
                <a:solidFill>
                  <a:srgbClr val="333399"/>
                </a:solidFill>
                <a:latin typeface="Calibri"/>
              </a:rPr>
              <a:t>ΔΖ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’s are negative which is unrealistic if we consider the starting reference point is at 25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The current proposal is presenting a realistic movement of the seat from 5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°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 to 40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° with a positive and negative var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43:30Z</dcterms:created>
  <dc:creator>Benoit Goossens</dc:creator>
  <dc:description/>
  <dc:language>en-US</dc:language>
  <cp:lastModifiedBy>Gibbons</cp:lastModifiedBy>
  <cp:lastPrinted>2008-06-02T19:37:29Z</cp:lastPrinted>
  <dcterms:modified xsi:type="dcterms:W3CDTF">2008-10-22T14:14:52Z</dcterms:modified>
  <cp:revision>31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