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569-BFCD-4A85-BAC2-6F24E906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32A-49EE-4AE0-91B2-A0CAEA6C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2AB-ECDC-407D-BE08-0B0CEC34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331-FE1B-42AA-B093-9625E323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138-A544-4B85-B9D1-0FBBCEEB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F4E-E762-4346-82F1-F12A1B85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CAB-D30F-4DF0-ADC8-E03B16F9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601-F44A-4C93-A3FD-CAFA7321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3CC-F008-430C-B210-260ABD03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201-AD63-42B5-AC5D-A6D1BA9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A00-9562-4636-8E18-D4292CB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755-D3ED-47B5-8610-62411C2A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CB43-AF07-4BF9-9B4A-1157F9F64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220080" cy="9372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720" y="152280"/>
            <a:ext cx="138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52640" y="1004760"/>
            <a:ext cx="1143000" cy="632484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304920"/>
            <a:ext cx="30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TR-ESC-2008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7:59:21Z</dcterms:created>
  <dc:creator>トヨタ自動車株式会社</dc:creator>
  <dc:description/>
  <dc:language>en-US</dc:language>
  <cp:lastModifiedBy>oica</cp:lastModifiedBy>
  <dcterms:modified xsi:type="dcterms:W3CDTF">2007-11-13T11:04:37Z</dcterms:modified>
  <cp:revision>8</cp:revision>
  <dc:subject/>
  <dc:title>PowerPoint プレゼンテーション</dc:title>
</cp:coreProperties>
</file>