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02E-BEF3-44D2-B6B9-64575CCA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185-AFA4-4E2A-8182-A94392A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165-D128-4807-A319-1B332920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4BA-AF93-4216-8B86-0B923A5E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95E-03C5-4213-AB46-B442FD51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83C-51E6-4851-B71A-E7B3D0F2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503-F256-4BE5-BF66-F9BAAE2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319-CDD0-4029-AA73-D00AEF29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48F-CA2B-4F60-AA77-603582C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249-CC10-4718-AA7A-2112C923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120-6228-4AA7-8494-D87B5F4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4D7-089B-47A1-B113-3812318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25E-E3E9-46ED-972A-DCECC8AC8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220080" cy="9372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720" y="152280"/>
            <a:ext cx="138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52640" y="1004760"/>
            <a:ext cx="1143000" cy="63248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304920"/>
            <a:ext cx="30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TR-ESC-2008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59:21Z</dcterms:created>
  <dc:creator>トヨタ自動車株式会社</dc:creator>
  <dc:description/>
  <dc:language>en-US</dc:language>
  <cp:lastModifiedBy>oica</cp:lastModifiedBy>
  <dcterms:modified xsi:type="dcterms:W3CDTF">2007-11-13T11:04:37Z</dcterms:modified>
  <cp:revision>8</cp:revision>
  <dc:subject/>
  <dc:title>PowerPoint プレゼンテーション</dc:title>
</cp:coreProperties>
</file>