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80F-A7A8-44BF-825B-C5BE73AF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0A4-C4A5-4A40-8E3C-61A12EC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89A-93A4-40C4-86F5-79FC4AE3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527-3273-40B5-9B5F-8E8E0B3E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46A-1968-45C1-AF90-834A9C5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48C-A4A2-47E9-B49B-F0F6841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F56-1AA2-4DFD-8062-B40498E9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F10-3A02-4106-ACF5-C15B3E4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B4F-95D6-4CE4-B40E-7E53D44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508-D1EC-4C6E-BF1A-53DE28E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9BC-6E14-498D-82B1-982FBFE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083-CA35-4324-8BB8-E78FE3A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51B4-5D51-4698-94D6-5F95EC25B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1680" y="1103400"/>
            <a:ext cx="80384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 Contents of Stud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Comparison of lateral displacement of Sine with dwell t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sured/calcula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; GP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 ; Vx, Vy measured by optical sen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 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∫∫ a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 C.G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( as defined in the regul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 GPS systems : (the detail of specification; refer to the Append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00" y="3650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84200" y="3908520"/>
            <a:ext cx="6985080" cy="2619360"/>
            <a:chOff x="1384200" y="3908520"/>
            <a:chExt cx="6985080" cy="2619360"/>
          </a:xfrm>
        </p:grpSpPr>
        <p:sp>
          <p:nvSpPr>
            <p:cNvPr id="44" name=""/>
            <p:cNvSpPr/>
            <p:nvPr/>
          </p:nvSpPr>
          <p:spPr>
            <a:xfrm>
              <a:off x="1384200" y="3908520"/>
              <a:ext cx="6985080" cy="26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97160" y="43110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97160" y="46728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97160" y="503496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97160" y="539784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97160" y="57600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97160" y="612324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48880" y="394488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: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12680" y="394488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: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4240" y="4309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44720" y="3908520"/>
              <a:ext cx="0" cy="26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908520"/>
              <a:ext cx="0" cy="26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97720" y="4309560"/>
              <a:ext cx="290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xford Technical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54960" y="431280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Race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34600" y="46792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8440" y="46746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T3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5360" y="4679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BOX 2 S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35320" y="504864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86240" y="503964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L1/L2 Kinema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4640" y="507744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31000" y="50457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G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34240" y="541872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56120" y="54043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960" y="54122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35320" y="578808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5972400"/>
              <a:ext cx="101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07320" y="5778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34600" y="615960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ing 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42360" y="614664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 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6920" y="61466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1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60" y="223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/10/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2000" y="3551400"/>
            <a:ext cx="38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ble 1 :  Specification of GP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23200" y="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GTR-ESC-2008-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80" y="1347840"/>
            <a:ext cx="603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est Proced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st Procedure : Sine with dwel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hicle speed   : 8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teral Displacement : 1.07 sec. after steer-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st vehic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79800" y="3933720"/>
            <a:ext cx="6732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76760" y="3933720"/>
            <a:ext cx="3762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49640" y="4087800"/>
            <a:ext cx="1440" cy="13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30280" y="3025800"/>
            <a:ext cx="6203880" cy="2465280"/>
            <a:chOff x="1430280" y="3025800"/>
            <a:chExt cx="6203880" cy="2465280"/>
          </a:xfrm>
        </p:grpSpPr>
        <p:sp>
          <p:nvSpPr>
            <p:cNvPr id="84" name=""/>
            <p:cNvSpPr/>
            <p:nvPr/>
          </p:nvSpPr>
          <p:spPr>
            <a:xfrm>
              <a:off x="4040640" y="3075120"/>
              <a:ext cx="148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53320" y="3075120"/>
              <a:ext cx="148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411360"/>
              <a:ext cx="139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D 4.6L V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79960" y="3398760"/>
              <a:ext cx="139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D 3.5L V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13680" y="37591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9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3240" y="375120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2440" y="4097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45720" y="41083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8640" y="41054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06960" y="444492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5720" y="445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8640" y="44593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2440" y="48117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1520" y="48052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1080" y="481320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5/45R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06960" y="51418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1520" y="51544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1080" y="516744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39440" y="4259160"/>
              <a:ext cx="118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ght [Kg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48040" y="49579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41136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1840" y="3760920"/>
              <a:ext cx="152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elbase [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9400" y="3049560"/>
              <a:ext cx="1440" cy="3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9400" y="3049560"/>
              <a:ext cx="324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1440" y="37353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1440" y="4084560"/>
              <a:ext cx="238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51080" y="4432320"/>
              <a:ext cx="6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1440" y="478152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51080" y="5130720"/>
              <a:ext cx="67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4280" y="3025800"/>
              <a:ext cx="23760" cy="246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9400" y="3398760"/>
              <a:ext cx="1440" cy="20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9400" y="3392640"/>
              <a:ext cx="3240" cy="206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6880" y="3049560"/>
              <a:ext cx="1440" cy="244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30280" y="3368520"/>
              <a:ext cx="1800" cy="211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49640" y="4087800"/>
              <a:ext cx="1440" cy="13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1920" y="3038400"/>
              <a:ext cx="3786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1440" y="3375000"/>
              <a:ext cx="619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48040" y="373536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48040" y="4084560"/>
              <a:ext cx="376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8040" y="443232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8040" y="478152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48040" y="5130720"/>
              <a:ext cx="376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1440" y="547992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2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8600" y="2200320"/>
            <a:ext cx="8750160" cy="3607560"/>
            <a:chOff x="228600" y="2200320"/>
            <a:chExt cx="8750160" cy="3607560"/>
          </a:xfrm>
        </p:grpSpPr>
        <p:grpSp>
          <p:nvGrpSpPr>
            <p:cNvPr id="130" name=""/>
            <p:cNvGrpSpPr/>
            <p:nvPr/>
          </p:nvGrpSpPr>
          <p:grpSpPr>
            <a:xfrm>
              <a:off x="228600" y="2481480"/>
              <a:ext cx="4381560" cy="3300840"/>
              <a:chOff x="228600" y="2481480"/>
              <a:chExt cx="4381560" cy="33008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833400" y="2585880"/>
                <a:ext cx="3432240" cy="2639520"/>
                <a:chOff x="833400" y="2585880"/>
                <a:chExt cx="3432240" cy="2639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833400" y="2585880"/>
                  <a:ext cx="3432240" cy="2639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33400" y="2585880"/>
                  <a:ext cx="3426840" cy="263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33400" y="521964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33400" y="488772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33400" y="456192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3400" y="423036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33400" y="390636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3400" y="357444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33400" y="324288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33400" y="291708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33400" y="258588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3340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40436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7532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4664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11760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68928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6024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3400" y="2585880"/>
                  <a:ext cx="3426840" cy="263376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91680" y="3061440"/>
                  <a:ext cx="2748240" cy="1425960"/>
                </a:xfrm>
                <a:custGeom>
                  <a:avLst/>
                  <a:gdLst/>
                  <a:ahLst/>
                  <a:rect l="l" t="t" r="r" b="b"/>
                  <a:pathLst>
                    <a:path w="486" h="228">
                      <a:moveTo>
                        <a:pt x="0" y="228"/>
                      </a:moveTo>
                      <a:lnTo>
                        <a:pt x="41" y="190"/>
                      </a:lnTo>
                      <a:lnTo>
                        <a:pt x="81" y="135"/>
                      </a:lnTo>
                      <a:lnTo>
                        <a:pt x="122" y="90"/>
                      </a:lnTo>
                      <a:lnTo>
                        <a:pt x="162" y="66"/>
                      </a:lnTo>
                      <a:lnTo>
                        <a:pt x="202" y="46"/>
                      </a:lnTo>
                      <a:lnTo>
                        <a:pt x="243" y="22"/>
                      </a:lnTo>
                      <a:lnTo>
                        <a:pt x="283" y="20"/>
                      </a:lnTo>
                      <a:lnTo>
                        <a:pt x="324" y="6"/>
                      </a:lnTo>
                      <a:lnTo>
                        <a:pt x="364" y="11"/>
                      </a:lnTo>
                      <a:lnTo>
                        <a:pt x="405" y="0"/>
                      </a:lnTo>
                      <a:lnTo>
                        <a:pt x="445" y="22"/>
                      </a:lnTo>
                      <a:lnTo>
                        <a:pt x="486" y="16"/>
                      </a:ln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91680" y="2905560"/>
                  <a:ext cx="2748240" cy="1619280"/>
                </a:xfrm>
                <a:custGeom>
                  <a:avLst/>
                  <a:gdLst/>
                  <a:ahLst/>
                  <a:rect l="l" t="t" r="r" b="b"/>
                  <a:pathLst>
                    <a:path w="486" h="259">
                      <a:moveTo>
                        <a:pt x="0" y="259"/>
                      </a:moveTo>
                      <a:lnTo>
                        <a:pt x="41" y="212"/>
                      </a:lnTo>
                      <a:lnTo>
                        <a:pt x="81" y="154"/>
                      </a:lnTo>
                      <a:lnTo>
                        <a:pt x="122" y="121"/>
                      </a:lnTo>
                      <a:lnTo>
                        <a:pt x="162" y="84"/>
                      </a:lnTo>
                      <a:lnTo>
                        <a:pt x="202" y="55"/>
                      </a:lnTo>
                      <a:lnTo>
                        <a:pt x="243" y="34"/>
                      </a:lnTo>
                      <a:lnTo>
                        <a:pt x="283" y="22"/>
                      </a:lnTo>
                      <a:lnTo>
                        <a:pt x="324" y="18"/>
                      </a:lnTo>
                      <a:lnTo>
                        <a:pt x="364" y="0"/>
                      </a:lnTo>
                      <a:lnTo>
                        <a:pt x="405" y="1"/>
                      </a:lnTo>
                      <a:lnTo>
                        <a:pt x="445" y="25"/>
                      </a:lnTo>
                      <a:lnTo>
                        <a:pt x="486" y="8"/>
                      </a:ln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91680" y="2960280"/>
                  <a:ext cx="2748240" cy="1595520"/>
                </a:xfrm>
                <a:custGeom>
                  <a:avLst/>
                  <a:gdLst/>
                  <a:ahLst/>
                  <a:rect l="l" t="t" r="r" b="b"/>
                  <a:pathLst>
                    <a:path w="486" h="255">
                      <a:moveTo>
                        <a:pt x="0" y="255"/>
                      </a:moveTo>
                      <a:lnTo>
                        <a:pt x="41" y="208"/>
                      </a:lnTo>
                      <a:lnTo>
                        <a:pt x="81" y="154"/>
                      </a:lnTo>
                      <a:lnTo>
                        <a:pt x="122" y="118"/>
                      </a:lnTo>
                      <a:lnTo>
                        <a:pt x="162" y="87"/>
                      </a:lnTo>
                      <a:lnTo>
                        <a:pt x="202" y="57"/>
                      </a:lnTo>
                      <a:lnTo>
                        <a:pt x="243" y="30"/>
                      </a:lnTo>
                      <a:lnTo>
                        <a:pt x="283" y="24"/>
                      </a:lnTo>
                      <a:lnTo>
                        <a:pt x="324" y="18"/>
                      </a:lnTo>
                      <a:lnTo>
                        <a:pt x="364" y="14"/>
                      </a:lnTo>
                      <a:lnTo>
                        <a:pt x="405" y="0"/>
                      </a:lnTo>
                      <a:lnTo>
                        <a:pt x="445" y="23"/>
                      </a:lnTo>
                      <a:lnTo>
                        <a:pt x="486" y="17"/>
                      </a:ln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51000" y="444456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8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483560" y="42069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09280" y="386136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30"/>
                      </a:lnTo>
                      <a:lnTo>
                        <a:pt x="30" y="59"/>
                      </a:lnTo>
                      <a:lnTo>
                        <a:pt x="0" y="3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41840" y="35805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67920" y="34304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93640" y="33055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26200" y="3155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51560" y="31417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30"/>
                      </a:lnTo>
                      <a:lnTo>
                        <a:pt x="30" y="59"/>
                      </a:lnTo>
                      <a:lnTo>
                        <a:pt x="0" y="3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4120" y="305532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8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0200" y="308700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8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542760" y="3017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768480" y="3155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9600" y="31183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51000" y="4481640"/>
                  <a:ext cx="7920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83560" y="4187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09280" y="382428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41840" y="361764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7920" y="338724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93640" y="320580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626200" y="3073320"/>
                  <a:ext cx="7920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51560" y="2999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84120" y="29739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10200" y="28609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542760" y="2866680"/>
                  <a:ext cx="7776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768480" y="3017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999600" y="29113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251000" y="45129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83560" y="42184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09280" y="38811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941840" y="36550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67920" y="3461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93640" y="32742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26200" y="31046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51560" y="30675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84120" y="303012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10200" y="300492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42760" y="291708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68480" y="30614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99600" y="302436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58"/>
                      </a:lnTo>
                      <a:lnTo>
                        <a:pt x="0" y="5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95560" y="4343040"/>
                <a:ext cx="2133720" cy="825120"/>
                <a:chOff x="2095560" y="4343040"/>
                <a:chExt cx="2133720" cy="825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95560" y="4343040"/>
                  <a:ext cx="2133720" cy="82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251080" y="4401360"/>
                  <a:ext cx="1833480" cy="702000"/>
                  <a:chOff x="2251080" y="4401360"/>
                  <a:chExt cx="1833480" cy="702000"/>
                </a:xfrm>
              </p:grpSpPr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801880" y="4401360"/>
                    <a:ext cx="681480" cy="224280"/>
                    <a:chOff x="2801880" y="4401360"/>
                    <a:chExt cx="681480" cy="22428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144240" y="4401360"/>
                      <a:ext cx="3391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801880" y="4412160"/>
                      <a:ext cx="24624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2264040" y="4451760"/>
                    <a:ext cx="399960" cy="123480"/>
                    <a:chOff x="2264040" y="4451760"/>
                    <a:chExt cx="399960" cy="1234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264040" y="451188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2395440" y="4451760"/>
                      <a:ext cx="1364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3">
                          <a:moveTo>
                            <a:pt x="22" y="0"/>
                          </a:moveTo>
                          <a:lnTo>
                            <a:pt x="43" y="21"/>
                          </a:lnTo>
                          <a:lnTo>
                            <a:pt x="22" y="43"/>
                          </a:lnTo>
                          <a:lnTo>
                            <a:pt x="0" y="2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648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2251080" y="4653360"/>
                    <a:ext cx="1833480" cy="214560"/>
                    <a:chOff x="2251080" y="4653360"/>
                    <a:chExt cx="1833480" cy="21456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2813040" y="4653360"/>
                      <a:ext cx="1271520" cy="214560"/>
                      <a:chOff x="2813040" y="4653360"/>
                      <a:chExt cx="1271520" cy="21456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3103920" y="4653360"/>
                        <a:ext cx="98064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VX,VY, Ya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813040" y="4654440"/>
                        <a:ext cx="26352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(B)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2251080" y="4699080"/>
                      <a:ext cx="400320" cy="122040"/>
                      <a:chOff x="2251080" y="4699080"/>
                      <a:chExt cx="400320" cy="12204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251080" y="4761000"/>
                        <a:ext cx="400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382840" y="4699080"/>
                        <a:ext cx="136800" cy="1220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2264040" y="4935960"/>
                    <a:ext cx="399960" cy="122040"/>
                    <a:chOff x="2264040" y="4935960"/>
                    <a:chExt cx="399960" cy="12204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264040" y="499608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395440" y="4935960"/>
                      <a:ext cx="13644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2">
                          <a:moveTo>
                            <a:pt x="22" y="0"/>
                          </a:moveTo>
                          <a:lnTo>
                            <a:pt x="43" y="42"/>
                          </a:lnTo>
                          <a:lnTo>
                            <a:pt x="0" y="42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6480">
                      <a:solidFill>
                        <a:srgbClr val="0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2826000" y="4889880"/>
                    <a:ext cx="846360" cy="213480"/>
                    <a:chOff x="2826000" y="4889880"/>
                    <a:chExt cx="846360" cy="213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220560" y="4889880"/>
                      <a:ext cx="4518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∫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826000" y="4889880"/>
                      <a:ext cx="2682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5" name=""/>
              <p:cNvSpPr/>
              <p:nvPr/>
            </p:nvSpPr>
            <p:spPr>
              <a:xfrm>
                <a:off x="663480" y="5186160"/>
                <a:ext cx="394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        50       100      150      200     250     3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0160" y="2481480"/>
                <a:ext cx="27972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200000">
                <a:off x="-896760" y="372960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ateral Displacement (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4400" y="5445000"/>
                <a:ext cx="281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teering Wheel Angle (de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724280" y="2481480"/>
              <a:ext cx="4254480" cy="3326400"/>
              <a:chOff x="4724280" y="2481480"/>
              <a:chExt cx="4254480" cy="33264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278320" y="2585880"/>
                <a:ext cx="3432240" cy="2639880"/>
                <a:chOff x="5278320" y="2585880"/>
                <a:chExt cx="3432240" cy="2639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278320" y="2585880"/>
                  <a:ext cx="3432240" cy="26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78320" y="2585880"/>
                  <a:ext cx="3426480" cy="263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78320" y="522000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78320" y="48880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78320" y="45622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78320" y="423072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78320" y="390636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78320" y="357444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78320" y="324324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78320" y="29170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78320" y="258588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7832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4928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42024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9156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6252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3384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70480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78320" y="2585880"/>
                  <a:ext cx="3426480" cy="263412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13200" y="2735640"/>
                  <a:ext cx="2646000" cy="1558800"/>
                </a:xfrm>
                <a:custGeom>
                  <a:avLst/>
                  <a:gdLst/>
                  <a:ahLst/>
                  <a:rect l="l" t="t" r="r" b="b"/>
                  <a:pathLst>
                    <a:path w="468" h="249">
                      <a:moveTo>
                        <a:pt x="0" y="249"/>
                      </a:moveTo>
                      <a:lnTo>
                        <a:pt x="50" y="158"/>
                      </a:lnTo>
                      <a:lnTo>
                        <a:pt x="101" y="84"/>
                      </a:lnTo>
                      <a:lnTo>
                        <a:pt x="151" y="39"/>
                      </a:lnTo>
                      <a:lnTo>
                        <a:pt x="202" y="19"/>
                      </a:lnTo>
                      <a:lnTo>
                        <a:pt x="252" y="8"/>
                      </a:lnTo>
                      <a:lnTo>
                        <a:pt x="303" y="0"/>
                      </a:lnTo>
                      <a:lnTo>
                        <a:pt x="353" y="14"/>
                      </a:lnTo>
                      <a:lnTo>
                        <a:pt x="404" y="10"/>
                      </a:lnTo>
                      <a:lnTo>
                        <a:pt x="468" y="39"/>
                      </a:ln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13200" y="2817720"/>
                  <a:ext cx="2646000" cy="1488600"/>
                </a:xfrm>
                <a:custGeom>
                  <a:avLst/>
                  <a:gdLst/>
                  <a:ahLst/>
                  <a:rect l="l" t="t" r="r" b="b"/>
                  <a:pathLst>
                    <a:path w="468" h="238">
                      <a:moveTo>
                        <a:pt x="0" y="238"/>
                      </a:moveTo>
                      <a:lnTo>
                        <a:pt x="50" y="154"/>
                      </a:lnTo>
                      <a:lnTo>
                        <a:pt x="101" y="78"/>
                      </a:lnTo>
                      <a:lnTo>
                        <a:pt x="151" y="40"/>
                      </a:lnTo>
                      <a:lnTo>
                        <a:pt x="202" y="7"/>
                      </a:lnTo>
                      <a:lnTo>
                        <a:pt x="252" y="16"/>
                      </a:lnTo>
                      <a:lnTo>
                        <a:pt x="303" y="8"/>
                      </a:lnTo>
                      <a:lnTo>
                        <a:pt x="353" y="14"/>
                      </a:lnTo>
                      <a:lnTo>
                        <a:pt x="404" y="0"/>
                      </a:lnTo>
                      <a:lnTo>
                        <a:pt x="468" y="31"/>
                      </a:ln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13200" y="2786400"/>
                  <a:ext cx="2646000" cy="1551240"/>
                </a:xfrm>
                <a:custGeom>
                  <a:avLst/>
                  <a:gdLst/>
                  <a:ahLst/>
                  <a:rect l="l" t="t" r="r" b="b"/>
                  <a:pathLst>
                    <a:path w="468" h="248">
                      <a:moveTo>
                        <a:pt x="0" y="248"/>
                      </a:moveTo>
                      <a:lnTo>
                        <a:pt x="50" y="158"/>
                      </a:lnTo>
                      <a:lnTo>
                        <a:pt x="101" y="82"/>
                      </a:lnTo>
                      <a:lnTo>
                        <a:pt x="151" y="36"/>
                      </a:lnTo>
                      <a:lnTo>
                        <a:pt x="202" y="11"/>
                      </a:lnTo>
                      <a:lnTo>
                        <a:pt x="252" y="13"/>
                      </a:lnTo>
                      <a:lnTo>
                        <a:pt x="303" y="6"/>
                      </a:lnTo>
                      <a:lnTo>
                        <a:pt x="353" y="14"/>
                      </a:lnTo>
                      <a:lnTo>
                        <a:pt x="404" y="0"/>
                      </a:lnTo>
                      <a:lnTo>
                        <a:pt x="468" y="24"/>
                      </a:ln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674320" y="4249800"/>
                  <a:ext cx="77760" cy="8784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956920" y="36802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45640" y="3217680"/>
                  <a:ext cx="7740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27880" y="29368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16960" y="2810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99200" y="27417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7920" y="2692440"/>
                  <a:ext cx="77760" cy="8604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8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0160" y="27788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959240" y="275544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320680" y="29368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674320" y="4263480"/>
                  <a:ext cx="7776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956920" y="373680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245640" y="3260880"/>
                  <a:ext cx="774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527880" y="302436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816960" y="2817720"/>
                  <a:ext cx="7776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99200" y="287424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387920" y="2823480"/>
                  <a:ext cx="7776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670160" y="28609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59240" y="2773080"/>
                  <a:ext cx="7776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20680" y="296784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674320" y="4294800"/>
                  <a:ext cx="77760" cy="8568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56920" y="37306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45640" y="3254760"/>
                  <a:ext cx="7740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27880" y="29678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816960" y="2810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99200" y="28234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87920" y="277884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70160" y="28296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59240" y="27417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20680" y="28918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540480" y="4356000"/>
                <a:ext cx="2133720" cy="825120"/>
                <a:chOff x="6540480" y="4356000"/>
                <a:chExt cx="2133720" cy="825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540480" y="4356000"/>
                  <a:ext cx="2133720" cy="82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6696000" y="4414320"/>
                  <a:ext cx="1833480" cy="702000"/>
                  <a:chOff x="6696000" y="4414320"/>
                  <a:chExt cx="1833480" cy="70200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246800" y="4414320"/>
                    <a:ext cx="681480" cy="224280"/>
                    <a:chOff x="7246800" y="4414320"/>
                    <a:chExt cx="681480" cy="2242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89160" y="4414320"/>
                      <a:ext cx="3391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46800" y="4425120"/>
                      <a:ext cx="24624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6708960" y="4464720"/>
                    <a:ext cx="399960" cy="123480"/>
                    <a:chOff x="6708960" y="4464720"/>
                    <a:chExt cx="399960" cy="1234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708960" y="452484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840360" y="4464720"/>
                      <a:ext cx="1364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3">
                          <a:moveTo>
                            <a:pt x="22" y="0"/>
                          </a:moveTo>
                          <a:lnTo>
                            <a:pt x="43" y="21"/>
                          </a:lnTo>
                          <a:lnTo>
                            <a:pt x="22" y="43"/>
                          </a:lnTo>
                          <a:lnTo>
                            <a:pt x="0" y="2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648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6696000" y="4666320"/>
                    <a:ext cx="1833480" cy="214560"/>
                    <a:chOff x="6696000" y="4666320"/>
                    <a:chExt cx="1833480" cy="21456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7257960" y="4666320"/>
                      <a:ext cx="1271520" cy="214560"/>
                      <a:chOff x="7257960" y="4666320"/>
                      <a:chExt cx="1271520" cy="2145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548840" y="4666320"/>
                        <a:ext cx="98064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VX,VY, Ya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7257960" y="4667400"/>
                        <a:ext cx="26352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(B)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6696000" y="4712040"/>
                      <a:ext cx="400320" cy="122040"/>
                      <a:chOff x="6696000" y="4712040"/>
                      <a:chExt cx="400320" cy="12204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6696000" y="4773960"/>
                        <a:ext cx="400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6827760" y="4712040"/>
                        <a:ext cx="136800" cy="1220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6708960" y="4948920"/>
                    <a:ext cx="399960" cy="122040"/>
                    <a:chOff x="6708960" y="4948920"/>
                    <a:chExt cx="399960" cy="1220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708960" y="500904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840360" y="4948920"/>
                      <a:ext cx="13644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2">
                          <a:moveTo>
                            <a:pt x="22" y="0"/>
                          </a:moveTo>
                          <a:lnTo>
                            <a:pt x="43" y="42"/>
                          </a:lnTo>
                          <a:lnTo>
                            <a:pt x="0" y="42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6480">
                      <a:solidFill>
                        <a:srgbClr val="0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7270920" y="4902840"/>
                    <a:ext cx="846360" cy="213480"/>
                    <a:chOff x="7270920" y="4902840"/>
                    <a:chExt cx="846360" cy="21348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65480" y="4902840"/>
                      <a:ext cx="4518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∫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270920" y="4902840"/>
                      <a:ext cx="2682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95" name=""/>
              <p:cNvSpPr/>
              <p:nvPr/>
            </p:nvSpPr>
            <p:spPr>
              <a:xfrm>
                <a:off x="5159520" y="5211720"/>
                <a:ext cx="381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        50       100      150      200     250     30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18040" y="2481480"/>
                <a:ext cx="27972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3598560" y="371700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ateral Displacement (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69000" y="5470560"/>
                <a:ext cx="281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teering Wheel Angle (de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66160" y="220032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63360" y="220032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86000" y="2984400"/>
            <a:ext cx="558720" cy="470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3400" y="2641680"/>
            <a:ext cx="571680" cy="546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66200" y="1674720"/>
            <a:ext cx="452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x ( 0.3 G Steering Wheel Angle (SW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768760" y="2095560"/>
            <a:ext cx="97776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23040" y="2082960"/>
            <a:ext cx="100332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4720" y="1179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4280" y="1166760"/>
            <a:ext cx="2331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st Results (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3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5240" y="5902200"/>
            <a:ext cx="65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.1  Lateral displacement of Sine with dwell test (at 1.07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2800" y="6156360"/>
            <a:ext cx="31784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5 ~ -7 cm  ( -1.7 ~ -2.2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38920" y="6156360"/>
            <a:ext cx="29239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 ~ +5 cm  ( 0 ~ +1.5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1128600"/>
            <a:ext cx="2331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st Results (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90440" y="1574640"/>
            <a:ext cx="4409280" cy="3599640"/>
            <a:chOff x="190440" y="1574640"/>
            <a:chExt cx="4409280" cy="3599640"/>
          </a:xfrm>
        </p:grpSpPr>
        <p:grpSp>
          <p:nvGrpSpPr>
            <p:cNvPr id="315" name=""/>
            <p:cNvGrpSpPr/>
            <p:nvPr/>
          </p:nvGrpSpPr>
          <p:grpSpPr>
            <a:xfrm>
              <a:off x="903240" y="1944720"/>
              <a:ext cx="3432240" cy="2654280"/>
              <a:chOff x="903240" y="1944720"/>
              <a:chExt cx="3432240" cy="2654280"/>
            </a:xfrm>
          </p:grpSpPr>
          <p:sp>
            <p:nvSpPr>
              <p:cNvPr id="316" name=""/>
              <p:cNvSpPr/>
              <p:nvPr/>
            </p:nvSpPr>
            <p:spPr>
              <a:xfrm>
                <a:off x="903240" y="1944720"/>
                <a:ext cx="3432240" cy="265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03240" y="1944720"/>
                <a:ext cx="3426480" cy="26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03240" y="45928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03240" y="42595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03240" y="39322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03240" y="35989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03240" y="29383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03240" y="260496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03240" y="22777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03240" y="19447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03240" y="1944720"/>
                <a:ext cx="144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7456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4552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1648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8780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5876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9720" y="1944720"/>
                <a:ext cx="144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03240" y="1944720"/>
                <a:ext cx="3426480" cy="264816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03240" y="32716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903240" y="3239640"/>
                <a:ext cx="144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47456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204552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261648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18780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75876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4329720" y="3239640"/>
                <a:ext cx="144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61520" y="3083400"/>
                <a:ext cx="2747880" cy="1295280"/>
              </a:xfrm>
              <a:custGeom>
                <a:avLst/>
                <a:gdLst/>
                <a:ahLst/>
                <a:rect l="l" t="t" r="r" b="b"/>
                <a:pathLst>
                  <a:path w="486" h="206">
                    <a:moveTo>
                      <a:pt x="0" y="1"/>
                    </a:moveTo>
                    <a:lnTo>
                      <a:pt x="41" y="47"/>
                    </a:lnTo>
                    <a:lnTo>
                      <a:pt x="81" y="57"/>
                    </a:lnTo>
                    <a:lnTo>
                      <a:pt x="122" y="0"/>
                    </a:lnTo>
                    <a:lnTo>
                      <a:pt x="162" y="67"/>
                    </a:lnTo>
                    <a:lnTo>
                      <a:pt x="202" y="107"/>
                    </a:lnTo>
                    <a:lnTo>
                      <a:pt x="243" y="92"/>
                    </a:lnTo>
                    <a:lnTo>
                      <a:pt x="283" y="144"/>
                    </a:lnTo>
                    <a:lnTo>
                      <a:pt x="324" y="95"/>
                    </a:lnTo>
                    <a:lnTo>
                      <a:pt x="364" y="206"/>
                    </a:lnTo>
                    <a:lnTo>
                      <a:pt x="405" y="150"/>
                    </a:lnTo>
                    <a:lnTo>
                      <a:pt x="445" y="139"/>
                    </a:lnTo>
                    <a:lnTo>
                      <a:pt x="486" y="197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61520" y="2907000"/>
                <a:ext cx="2747880" cy="848880"/>
              </a:xfrm>
              <a:custGeom>
                <a:avLst/>
                <a:gdLst/>
                <a:ahLst/>
                <a:rect l="l" t="t" r="r" b="b"/>
                <a:pathLst>
                  <a:path w="486" h="135">
                    <a:moveTo>
                      <a:pt x="0" y="1"/>
                    </a:moveTo>
                    <a:lnTo>
                      <a:pt x="41" y="48"/>
                    </a:lnTo>
                    <a:lnTo>
                      <a:pt x="81" y="41"/>
                    </a:lnTo>
                    <a:lnTo>
                      <a:pt x="122" y="0"/>
                    </a:lnTo>
                    <a:lnTo>
                      <a:pt x="162" y="34"/>
                    </a:lnTo>
                    <a:lnTo>
                      <a:pt x="202" y="83"/>
                    </a:lnTo>
                    <a:lnTo>
                      <a:pt x="243" y="93"/>
                    </a:lnTo>
                    <a:lnTo>
                      <a:pt x="283" y="121"/>
                    </a:lnTo>
                    <a:lnTo>
                      <a:pt x="324" y="78"/>
                    </a:lnTo>
                    <a:lnTo>
                      <a:pt x="364" y="122"/>
                    </a:lnTo>
                    <a:lnTo>
                      <a:pt x="405" y="133"/>
                    </a:lnTo>
                    <a:lnTo>
                      <a:pt x="445" y="132"/>
                    </a:lnTo>
                    <a:lnTo>
                      <a:pt x="486" y="135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1200" y="3045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53760" y="33343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79480" y="3396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11680" y="30384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37400" y="3459960"/>
                <a:ext cx="79200" cy="882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463480" y="371268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95680" y="36183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21760" y="39456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54320" y="36363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80040" y="4335480"/>
                <a:ext cx="79200" cy="882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12240" y="398304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7960" y="3914280"/>
                <a:ext cx="79200" cy="864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069440" y="4278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21200" y="286992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53760" y="31654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79480" y="312048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1680" y="286380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37400" y="307764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63480" y="33850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95680" y="34480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21760" y="362412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54320" y="335376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80040" y="363024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12240" y="369900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960" y="3692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69440" y="37126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24680" y="4611600"/>
              <a:ext cx="38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         50      100      150      200      250     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920" y="1838160"/>
              <a:ext cx="5904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-1086480" y="3088440"/>
              <a:ext cx="28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 difference 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4400" y="4836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 (de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08920" y="15746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2320" y="3181320"/>
              <a:ext cx="5079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0720" y="3989520"/>
              <a:ext cx="177840" cy="571320"/>
            </a:xfrm>
            <a:prstGeom prst="downArrow">
              <a:avLst>
                <a:gd name="adj1" fmla="val 50000"/>
                <a:gd name="adj2" fmla="val 80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9520" y="411156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GPS results is sm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than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476440" y="1981080"/>
              <a:ext cx="1812960" cy="512640"/>
              <a:chOff x="2476440" y="1981080"/>
              <a:chExt cx="1812960" cy="512640"/>
            </a:xfrm>
          </p:grpSpPr>
          <p:sp>
            <p:nvSpPr>
              <p:cNvPr id="379" name=""/>
              <p:cNvSpPr/>
              <p:nvPr/>
            </p:nvSpPr>
            <p:spPr>
              <a:xfrm>
                <a:off x="2476440" y="1981080"/>
                <a:ext cx="1812960" cy="51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2571840" y="2241360"/>
                <a:ext cx="1577880" cy="213480"/>
                <a:chOff x="2571840" y="2241360"/>
                <a:chExt cx="1577880" cy="213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571840" y="2352600"/>
                  <a:ext cx="333360" cy="2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681280" y="2292120"/>
                  <a:ext cx="114480" cy="12060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22" y="0"/>
                      </a:moveTo>
                      <a:lnTo>
                        <a:pt x="43" y="21"/>
                      </a:lnTo>
                      <a:lnTo>
                        <a:pt x="22" y="42"/>
                      </a:lnTo>
                      <a:lnTo>
                        <a:pt x="0" y="2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019680" y="2241360"/>
                  <a:ext cx="113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(Vx,Vy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552760" y="2025360"/>
                <a:ext cx="1635120" cy="213480"/>
                <a:chOff x="2552760" y="2025360"/>
                <a:chExt cx="1635120" cy="213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552760" y="2125440"/>
                  <a:ext cx="333360" cy="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62200" y="2065320"/>
                  <a:ext cx="114480" cy="12060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17880" y="2025360"/>
                  <a:ext cx="11700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∫∫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4660920" y="1574640"/>
            <a:ext cx="4371120" cy="3599640"/>
            <a:chOff x="4660920" y="1574640"/>
            <a:chExt cx="4371120" cy="3599640"/>
          </a:xfrm>
        </p:grpSpPr>
        <p:sp>
          <p:nvSpPr>
            <p:cNvPr id="389" name=""/>
            <p:cNvSpPr/>
            <p:nvPr/>
          </p:nvSpPr>
          <p:spPr>
            <a:xfrm rot="16200000">
              <a:off x="3383640" y="3164760"/>
              <a:ext cx="28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 difference 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367240" y="1944720"/>
              <a:ext cx="3432240" cy="2652840"/>
              <a:chOff x="5367240" y="1944720"/>
              <a:chExt cx="3432240" cy="2652840"/>
            </a:xfrm>
          </p:grpSpPr>
          <p:sp>
            <p:nvSpPr>
              <p:cNvPr id="391" name=""/>
              <p:cNvSpPr/>
              <p:nvPr/>
            </p:nvSpPr>
            <p:spPr>
              <a:xfrm>
                <a:off x="5367240" y="1944720"/>
                <a:ext cx="3432240" cy="265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7240" y="1944720"/>
                <a:ext cx="3426480" cy="26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67240" y="459144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67240" y="42580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67240" y="393084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67240" y="359784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67240" y="29386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67240" y="26053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67240" y="22780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67240" y="19447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6724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3856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952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8048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5180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2276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9372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67240" y="1944720"/>
                <a:ext cx="3426480" cy="264672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67240" y="327168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36724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93856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50952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08048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65180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22276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79372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02480" y="2599200"/>
                <a:ext cx="2646000" cy="641160"/>
              </a:xfrm>
              <a:custGeom>
                <a:avLst/>
                <a:gdLst/>
                <a:ahLst/>
                <a:rect l="l" t="t" r="r" b="b"/>
                <a:pathLst>
                  <a:path w="468" h="102">
                    <a:moveTo>
                      <a:pt x="0" y="93"/>
                    </a:moveTo>
                    <a:lnTo>
                      <a:pt x="50" y="62"/>
                    </a:lnTo>
                    <a:lnTo>
                      <a:pt x="101" y="73"/>
                    </a:lnTo>
                    <a:lnTo>
                      <a:pt x="151" y="37"/>
                    </a:lnTo>
                    <a:lnTo>
                      <a:pt x="202" y="102"/>
                    </a:lnTo>
                    <a:lnTo>
                      <a:pt x="252" y="4"/>
                    </a:lnTo>
                    <a:lnTo>
                      <a:pt x="303" y="0"/>
                    </a:lnTo>
                    <a:lnTo>
                      <a:pt x="353" y="43"/>
                    </a:lnTo>
                    <a:lnTo>
                      <a:pt x="404" y="92"/>
                    </a:lnTo>
                    <a:lnTo>
                      <a:pt x="468" y="8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02480" y="2830680"/>
                <a:ext cx="2646000" cy="635400"/>
              </a:xfrm>
              <a:custGeom>
                <a:avLst/>
                <a:gdLst/>
                <a:ahLst/>
                <a:rect l="l" t="t" r="r" b="b"/>
                <a:pathLst>
                  <a:path w="468" h="101">
                    <a:moveTo>
                      <a:pt x="0" y="35"/>
                    </a:moveTo>
                    <a:lnTo>
                      <a:pt x="50" y="32"/>
                    </a:lnTo>
                    <a:lnTo>
                      <a:pt x="101" y="43"/>
                    </a:lnTo>
                    <a:lnTo>
                      <a:pt x="151" y="43"/>
                    </a:lnTo>
                    <a:lnTo>
                      <a:pt x="202" y="74"/>
                    </a:lnTo>
                    <a:lnTo>
                      <a:pt x="252" y="6"/>
                    </a:lnTo>
                    <a:lnTo>
                      <a:pt x="303" y="0"/>
                    </a:lnTo>
                    <a:lnTo>
                      <a:pt x="353" y="31"/>
                    </a:lnTo>
                    <a:lnTo>
                      <a:pt x="404" y="76"/>
                    </a:lnTo>
                    <a:lnTo>
                      <a:pt x="468" y="10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63600" y="313884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5840" y="294444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34560" y="3013200"/>
                <a:ext cx="77760" cy="882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17160" y="278784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05880" y="3195360"/>
                <a:ext cx="77400" cy="882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88120" y="25801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77200" y="255456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59440" y="28249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048160" y="313272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09600" y="30582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63600" y="300744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45840" y="298764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34560" y="305820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17160" y="305820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05880" y="3252240"/>
                <a:ext cx="774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88120" y="282492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77200" y="278784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59440" y="2981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48160" y="3265920"/>
                <a:ext cx="77760" cy="86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409600" y="3422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57000" y="4611600"/>
              <a:ext cx="38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         50      100      150      200      250     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02040" y="1851120"/>
              <a:ext cx="59076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93040" y="4836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 (de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63560" y="15746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02320" y="2911320"/>
              <a:ext cx="558720" cy="590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2320" y="3989520"/>
              <a:ext cx="177840" cy="571320"/>
            </a:xfrm>
            <a:prstGeom prst="downArrow">
              <a:avLst>
                <a:gd name="adj1" fmla="val 50000"/>
                <a:gd name="adj2" fmla="val 80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44880" y="409428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GPS results is sm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than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943680" y="1971720"/>
              <a:ext cx="1812960" cy="512640"/>
              <a:chOff x="6943680" y="1971720"/>
              <a:chExt cx="1812960" cy="512640"/>
            </a:xfrm>
          </p:grpSpPr>
          <p:sp>
            <p:nvSpPr>
              <p:cNvPr id="447" name=""/>
              <p:cNvSpPr/>
              <p:nvPr/>
            </p:nvSpPr>
            <p:spPr>
              <a:xfrm>
                <a:off x="6943680" y="1971720"/>
                <a:ext cx="1812960" cy="51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7039080" y="2232000"/>
                <a:ext cx="1577880" cy="213480"/>
                <a:chOff x="7039080" y="2232000"/>
                <a:chExt cx="1577880" cy="213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039080" y="2343240"/>
                  <a:ext cx="333360" cy="2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148520" y="2282760"/>
                  <a:ext cx="114480" cy="12060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22" y="0"/>
                      </a:moveTo>
                      <a:lnTo>
                        <a:pt x="43" y="21"/>
                      </a:lnTo>
                      <a:lnTo>
                        <a:pt x="22" y="42"/>
                      </a:lnTo>
                      <a:lnTo>
                        <a:pt x="0" y="2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486920" y="2232000"/>
                  <a:ext cx="113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(Vx,Vy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7020000" y="2016000"/>
                <a:ext cx="1635120" cy="213480"/>
                <a:chOff x="7020000" y="2016000"/>
                <a:chExt cx="1635120" cy="213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020000" y="2116080"/>
                  <a:ext cx="333360" cy="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129440" y="2055960"/>
                  <a:ext cx="114480" cy="12060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85120" y="2016000"/>
                  <a:ext cx="11700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∫∫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6" name=""/>
          <p:cNvSpPr/>
          <p:nvPr/>
        </p:nvSpPr>
        <p:spPr>
          <a:xfrm>
            <a:off x="7048440" y="3459240"/>
            <a:ext cx="1616040" cy="2674800"/>
          </a:xfrm>
          <a:custGeom>
            <a:avLst/>
            <a:gdLst/>
            <a:ahLst/>
            <a:rect l="l" t="t" r="r" b="b"/>
            <a:pathLst>
              <a:path w="1018" h="1685">
                <a:moveTo>
                  <a:pt x="0" y="0"/>
                </a:moveTo>
                <a:cubicBezTo>
                  <a:pt x="104" y="61"/>
                  <a:pt x="466" y="212"/>
                  <a:pt x="626" y="369"/>
                </a:cubicBezTo>
                <a:cubicBezTo>
                  <a:pt x="786" y="526"/>
                  <a:pt x="898" y="784"/>
                  <a:pt x="958" y="945"/>
                </a:cubicBezTo>
                <a:cubicBezTo>
                  <a:pt x="1018" y="1106"/>
                  <a:pt x="995" y="1213"/>
                  <a:pt x="988" y="1336"/>
                </a:cubicBezTo>
                <a:cubicBezTo>
                  <a:pt x="981" y="1459"/>
                  <a:pt x="932" y="1612"/>
                  <a:pt x="917" y="168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0400" y="5724360"/>
            <a:ext cx="748512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ce between GPS results and double integral of Ay at 5.0x(0.3g SW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3720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4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7360" y="5207040"/>
            <a:ext cx="781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. 2    Comparison of lateral displacement between GPS result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3120" y="3584520"/>
            <a:ext cx="2075040" cy="2792520"/>
          </a:xfrm>
          <a:custGeom>
            <a:avLst/>
            <a:gdLst/>
            <a:ahLst/>
            <a:rect l="l" t="t" r="r" b="b"/>
            <a:pathLst>
              <a:path w="1307" h="1759">
                <a:moveTo>
                  <a:pt x="1307" y="0"/>
                </a:moveTo>
                <a:cubicBezTo>
                  <a:pt x="1059" y="33"/>
                  <a:pt x="812" y="65"/>
                  <a:pt x="632" y="140"/>
                </a:cubicBezTo>
                <a:cubicBezTo>
                  <a:pt x="452" y="214"/>
                  <a:pt x="327" y="329"/>
                  <a:pt x="227" y="447"/>
                </a:cubicBezTo>
                <a:cubicBezTo>
                  <a:pt x="127" y="565"/>
                  <a:pt x="62" y="714"/>
                  <a:pt x="31" y="851"/>
                </a:cubicBezTo>
                <a:cubicBezTo>
                  <a:pt x="0" y="988"/>
                  <a:pt x="5" y="1144"/>
                  <a:pt x="38" y="1272"/>
                </a:cubicBezTo>
                <a:cubicBezTo>
                  <a:pt x="71" y="1400"/>
                  <a:pt x="154" y="1538"/>
                  <a:pt x="230" y="1619"/>
                </a:cubicBezTo>
                <a:cubicBezTo>
                  <a:pt x="306" y="1700"/>
                  <a:pt x="441" y="1730"/>
                  <a:pt x="496" y="175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98520" y="1441440"/>
            <a:ext cx="21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nclus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092320"/>
            <a:ext cx="8128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system can be allowed as the alternative measu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ype approval testing provided the manufacture show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their GPS system data equivalent with double 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0640" y="3760920"/>
            <a:ext cx="2096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feren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5480" y="4383000"/>
            <a:ext cx="741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between GPS results and double integral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 at 5.0x(0.3g SWA) can be considered as equivalent for both GPS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The tendency of the difference was observed between GPS result and others depends on the model of GPS syste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5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6:12:05Z</dcterms:created>
  <dc:creator>トヨタ自動車株式会社</dc:creator>
  <dc:description/>
  <dc:language>en-US</dc:language>
  <cp:lastModifiedBy>oica</cp:lastModifiedBy>
  <dcterms:modified xsi:type="dcterms:W3CDTF">2007-11-13T11:04:57Z</dcterms:modified>
  <cp:revision>136</cp:revision>
  <dc:subject/>
  <dc:title>PowerPoint プレゼンテーション</dc:title>
</cp:coreProperties>
</file>