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58EC-2710-4AC6-886A-330B30865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D44B-0A6F-4806-865F-07BB83E4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8233-2042-4D93-8D9C-4B17B24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4861-D021-48AC-B6B0-D44E9DE341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EE88-9309-42DD-9014-79F47AF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A827-A274-4CD3-B6B1-071A897D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7A7A-0F3E-4F2E-9917-FEF66A28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FCB3-85CC-4C98-B13D-39AB2956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431F-4919-4634-B0FD-DD7E9E44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19BB-FCEE-4F27-98E4-2112298E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B044-899B-468F-8196-2E9E26D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EDCE-1E39-4DCA-A136-362E716F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629400" y="151920"/>
            <a:ext cx="2362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843A-B22D-4D38-A007-7E88390D7155}" type="datetime2">
              <a:rPr b="0" lang="en-US" sz="1000" spc="-1" strike="noStrike">
                <a:solidFill>
                  <a:srgbClr val="ffffff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3a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3a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3a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3a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3a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7120"/>
            <a:ext cx="2438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a6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8617-1E86-4A04-91F1-875478226296}" type="slidenum">
              <a:rPr b="0" lang="en-US" sz="1400" spc="-1" strike="noStrike">
                <a:solidFill>
                  <a:srgbClr val="003a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533160" y="1172160"/>
            <a:ext cx="3809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3a6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948-10F8-4C5D-991A-6B831EF2C905}" type="datetime2">
              <a:rPr b="0" lang="en-US" sz="2000" spc="-1" strike="noStrike">
                <a:solidFill>
                  <a:srgbClr val="003a6e"/>
                </a:solidFill>
                <a:latin typeface="Arial"/>
              </a:rPr>
              <a:t>Friday, July 31,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533160" y="647712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a6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6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07696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6e"/>
                </a:solidFill>
                <a:latin typeface="Arial"/>
                <a:ea typeface="Times New Roman"/>
              </a:rPr>
              <a:t>Particle Measurement Programme -Analysis of Error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3a6e"/>
                </a:solidFill>
                <a:latin typeface="Arial"/>
                <a:ea typeface="Times New Roman"/>
              </a:rPr>
              <a:t>Paul Quincey</a:t>
            </a:r>
            <a:br>
              <a:rPr sz="3600"/>
            </a:br>
            <a:r>
              <a:rPr b="0" lang="en-GB" sz="3600" spc="-1" strike="noStrike">
                <a:solidFill>
                  <a:srgbClr val="003a6e"/>
                </a:solidFill>
                <a:latin typeface="Arial"/>
                <a:ea typeface="Times New Roman"/>
              </a:rPr>
              <a:t>Richard Gilham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120" y="4495680"/>
            <a:ext cx="243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e"/>
                </a:solidFill>
                <a:latin typeface="Arial"/>
              </a:rPr>
              <a:t>PM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e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e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3a6e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a6e"/>
                </a:solidFill>
                <a:latin typeface="Arial"/>
              </a:rPr>
              <a:t> Octo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13BE-FD31-4D07-B5CE-73C12BD2B1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C78DE-9D0A-441A-B7AA-5FDC06320511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e"/>
                </a:solidFill>
                <a:latin typeface="Arial"/>
              </a:rPr>
              <a:t>Low size cut off – effect on typical distribution &lt; 1%</a:t>
            </a:r>
            <a:endParaRPr b="0" lang="en-US" sz="28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098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8991720" cy="560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691F-7F88-42CE-BF27-51F17347585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924F0-FC25-4809-BA38-D65926BE5D05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47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Conclusions for C</a:t>
            </a:r>
            <a:r>
              <a:rPr b="0" lang="en-GB" sz="3200" spc="-1" strike="noStrike" baseline="-25000">
                <a:solidFill>
                  <a:srgbClr val="003a6e"/>
                </a:solidFill>
                <a:latin typeface="Arial"/>
              </a:rPr>
              <a:t>inlet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main contribution to uncertainty is likely to be the calibration of the PNC(s)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igh dilution factors increase the uncertainty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eproducibility and test source stability should be routinely quantified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ough total uncertainties are 15% with single PNC route, 20% with dual PNC route</a:t>
            </a:r>
            <a:endParaRPr b="0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273C-6DA3-417C-8F1C-8FF3247D94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EC549-9373-4623-A0B9-2F28334BB439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51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Definition:</a:t>
            </a:r>
            <a:br>
              <a:rPr sz="2400"/>
            </a:b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The proportion of </a:t>
            </a:r>
            <a:r>
              <a:rPr b="0" i="1" lang="en-US" sz="2400" spc="-1" strike="noStrike">
                <a:solidFill>
                  <a:srgbClr val="003a6e"/>
                </a:solidFill>
                <a:latin typeface="Arial"/>
                <a:ea typeface="Arial Unicode MS"/>
              </a:rPr>
              <a:t>tetracontane (C</a:t>
            </a:r>
            <a:r>
              <a:rPr b="0" i="1" lang="en-US" sz="2400" spc="-1" strike="noStrike" baseline="-30000">
                <a:solidFill>
                  <a:srgbClr val="003a6e"/>
                </a:solidFill>
                <a:latin typeface="Arial"/>
                <a:ea typeface="Arial Unicode MS"/>
              </a:rPr>
              <a:t>40</a:t>
            </a:r>
            <a:r>
              <a:rPr b="0" i="1" lang="en-US" sz="2400" spc="-1" strike="noStrike">
                <a:solidFill>
                  <a:srgbClr val="003a6e"/>
                </a:solidFill>
                <a:latin typeface="Arial"/>
                <a:ea typeface="Arial Unicode MS"/>
              </a:rPr>
              <a:t>) particles, of around 30 nm diameter, which</a:t>
            </a: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 having entered the VPR inlet are removed before measurement by the PNC instrument.</a:t>
            </a:r>
            <a:br>
              <a:rPr sz="2400"/>
            </a:br>
            <a:br>
              <a:rPr sz="2400"/>
            </a:br>
            <a:r>
              <a:rPr b="0" i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thod 1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volatile removal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=  1 – (F(av)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particle dilution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/ F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volatile particle “dilution”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thod 2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volatile removal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=  1 – (C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PNC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heater on) / C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PNC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heater off))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5C6C-E316-4F0A-BC2E-B56E4A0D83D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04005-A77C-4892-BD8D-191E7B153103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VPR efficiency – summary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bsolute accuracy is greatly limited by the small concentrations expected after removal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Better uncertainty could be achieved by using Method 2 and input concentrations much higher than 10,000 cm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-3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 general, absolute accuracy is not required, only a demonstration that the &gt;99% requirement is met, and most errors will not compromise this.</a:t>
            </a:r>
            <a:endParaRPr b="0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8A8E-E31C-49E5-85B3-7B211FDA76D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C6D2A-BAF7-4D15-BD59-2F39E1BD5B30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Analysis of errors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280" y="1487520"/>
            <a:ext cx="7559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lanation of approach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lication to particle number concentr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lication to volatile particle removal efficiency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D694-7345-4AF1-9E17-7907574871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D4615-60F5-4401-A7F7-DCA44C20F64E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487520"/>
            <a:ext cx="8229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sed on G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uide to the Expression of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ncertainty in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asurement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PM, IEC, IFCC, ISO, IUPAC, IUPAP, OI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SO, Geneva, First Edition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0253-7B48-41AF-A0A7-6B71D0B06C3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E0CF7-6F06-4FAB-B08F-AED75A26178E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GUM Universal Procedure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143000"/>
            <a:ext cx="86868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…)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 is to be measured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are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 influence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ach influence quantity has a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tandard uncertainty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u(x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ach u(x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 has a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ensitivity coefficien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combined standard uncertainty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y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expanded uncertainty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 = k 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y)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typically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= 2 for 95% confi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172200" y="3352680"/>
                <a:ext cx="493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029200" y="4724280"/>
                <a:ext cx="3619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D04F-937C-44AF-ADCD-959E36FE3BB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81540-E320-462A-976F-C6A82987420B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Aims of NPL PMP report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1430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Find significant contributions to uncertainty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- highlight where these need to be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- highlight where these need to be cons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Make rough estimate of full measurement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annot be fully rigorous or defi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F2BC-7CDB-4A89-9A80-65C0210E66B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E946C-DF73-4721-9A3D-04F514F47B7C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Simplified procedure used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143000"/>
            <a:ext cx="8686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larify what is being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Identify factors affecting the result (“influence quantiti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Quantify the limits on these factors (“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u(x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”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Quantify the effect of each on the result (“c</a:t>
            </a:r>
            <a:r>
              <a:rPr b="0" i="1" lang="en-GB" sz="28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u(x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”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onclusions and rough totals (“U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1100-98E1-49BD-9CD6-BDAC2935BFB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F9B24-42C2-4350-AE45-BF76FE7D73BE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9520"/>
            <a:ext cx="80769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Definition:</a:t>
            </a:r>
            <a:br>
              <a:rPr sz="2400"/>
            </a:b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Number concentration (in cm</a:t>
            </a:r>
            <a:r>
              <a:rPr b="0" i="1" lang="en-GB" sz="2400" spc="-1" strike="noStrike" baseline="30000">
                <a:solidFill>
                  <a:srgbClr val="003a6e"/>
                </a:solidFill>
                <a:latin typeface="Arial"/>
                <a:ea typeface="Times New Roman"/>
              </a:rPr>
              <a:t>-3</a:t>
            </a: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) of non-volatile particles in the nominal size range 23 nm – 2.5 μm at the PCMS inlet.</a:t>
            </a:r>
            <a:br>
              <a:rPr sz="2400"/>
            </a:br>
            <a:br>
              <a:rPr sz="2400"/>
            </a:br>
            <a:r>
              <a:rPr b="0" i="1" lang="en-GB" sz="2000" spc="-1" strike="noStrike">
                <a:solidFill>
                  <a:srgbClr val="003a6e"/>
                </a:solidFill>
                <a:latin typeface="Arial"/>
                <a:ea typeface="Times New Roman"/>
              </a:rPr>
              <a:t>The air volume is to be corrected to Standard Temperature and Pressure (273.2K and 101.33 kPa)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6972120" cy="327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5714640" y="2362320"/>
            <a:ext cx="1219320" cy="220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BDED-9269-4313-BBB6-39D1E694B6C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3B32A-E693-4FAD-BA01-88F9621C641F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77320" cy="6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C</a:t>
            </a:r>
            <a:r>
              <a:rPr b="0" lang="fr-FR" sz="3200" spc="-1" strike="noStrike" baseline="-30000">
                <a:solidFill>
                  <a:srgbClr val="003a6e"/>
                </a:solidFill>
                <a:latin typeface="Arial"/>
                <a:ea typeface="Times New Roman"/>
              </a:rPr>
              <a:t>inlet</a:t>
            </a:r>
            <a:r>
              <a:rPr b="0" lang="fr-FR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 = C</a:t>
            </a:r>
            <a:r>
              <a:rPr b="0" lang="fr-FR" sz="3200" spc="-1" strike="noStrike" baseline="-30000">
                <a:solidFill>
                  <a:srgbClr val="003a6e"/>
                </a:solidFill>
                <a:latin typeface="Arial"/>
                <a:ea typeface="Times New Roman"/>
              </a:rPr>
              <a:t>PNC</a:t>
            </a:r>
            <a:r>
              <a:rPr b="0" lang="fr-FR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 x F(av)</a:t>
            </a:r>
            <a:r>
              <a:rPr b="0" lang="fr-FR" sz="3200" spc="-1" strike="noStrike" baseline="-30000">
                <a:solidFill>
                  <a:srgbClr val="003a6e"/>
                </a:solidFill>
                <a:latin typeface="Arial"/>
                <a:ea typeface="Times New Roman"/>
              </a:rPr>
              <a:t>particle dilution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28600"/>
            <a:ext cx="441936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PNC calibration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NC drift since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ce of volatil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441972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nonline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les in dilution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876920"/>
            <a:ext cx="5029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ize cut-off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ity of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572000" y="2666520"/>
            <a:ext cx="7632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1828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0661-41A2-4154-8560-CBB70CADA05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87760-0ED2-4CA5-A2E7-9229A1EEE2BF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41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Evaluation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NC calibration criterion 10%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~ 10%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lution particle criterion 1 cm</a:t>
            </a:r>
            <a:r>
              <a:rPr b="0" lang="en-GB" sz="3200" spc="-1" strike="noStrike" baseline="30000">
                <a:solidFill>
                  <a:srgbClr val="333399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~ 3%</a:t>
            </a:r>
            <a:br>
              <a:rPr sz="32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ssuming total dilution factor 150 and lowest C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inle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of interest 5,000 c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-3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sence of volatile particles (1%)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~ ?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EB97-2DB9-466C-9B98-B342E6051AA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3907B-E75B-4B87-B877-797CE33C52B2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8:55:05Z</dcterms:created>
  <dc:creator>Chris Rothschild</dc:creator>
  <dc:description/>
  <dc:language>en-US</dc:language>
  <cp:lastModifiedBy>Paul Quincey</cp:lastModifiedBy>
  <dcterms:modified xsi:type="dcterms:W3CDTF">2007-10-07T09:35:17Z</dcterms:modified>
  <cp:revision>68</cp:revision>
  <dc:subject/>
  <dc:title>PowerPoint Presentation</dc:title>
</cp:coreProperties>
</file>