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0B769-1252-487D-9F6C-19B8A81D82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E62BB-8653-4219-A0BC-16B99317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D32BB-C0F6-481D-A8AA-F0AE47CD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F74EA-A64C-4004-81F3-C6FFCB065D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E74E2-EC27-48BC-B65A-FA2BE27A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4E7F0-91C4-4241-9846-E45A89EC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F5AE2-7804-4E61-A871-08C13B7B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632B6-81C7-4D16-ACC2-1426D285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59E2D-6BFE-4924-9D58-4B7E423C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961BB-4AA9-4799-9ABA-4C1A7239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A24C4-3FCA-480D-9F59-8D1F08CF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4C002-99F5-43CD-A07D-D52401F5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629400" y="151920"/>
            <a:ext cx="2362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B6A0-D26E-4D0E-9A32-7B06488A2AB2}" type="datetime2">
              <a:rPr b="0" lang="en-US" sz="1000" spc="-1" strike="noStrike">
                <a:solidFill>
                  <a:srgbClr val="ffffff"/>
                </a:solidFill>
                <a:latin typeface="Arial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6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3a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a6e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3a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a6e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3a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a6e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3a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a6e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3a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a6e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a6e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a6e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77120"/>
            <a:ext cx="24386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a6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745C-C563-42B8-BA42-9E5C776F5229}" type="slidenum">
              <a:rPr b="0" lang="en-US" sz="1400" spc="-1" strike="noStrike">
                <a:solidFill>
                  <a:srgbClr val="003a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3"/>
          </p:nvPr>
        </p:nvSpPr>
        <p:spPr>
          <a:xfrm>
            <a:off x="533160" y="1172160"/>
            <a:ext cx="38098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3a6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CDB5-F9BF-4D72-B6FC-6D4076B25B68}" type="datetime2">
              <a:rPr b="0" lang="en-US" sz="2000" spc="-1" strike="noStrike">
                <a:solidFill>
                  <a:srgbClr val="003a6e"/>
                </a:solidFill>
                <a:latin typeface="Arial"/>
              </a:rPr>
              <a:t>Wednesday, July 29,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6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533160" y="6477120"/>
            <a:ext cx="65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a6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a6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076960" cy="33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6e"/>
                </a:solidFill>
                <a:latin typeface="Arial"/>
                <a:ea typeface="Times New Roman"/>
              </a:rPr>
              <a:t>Particle Measurement Programme -Analysis of Error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3a6e"/>
                </a:solidFill>
                <a:latin typeface="Arial"/>
                <a:ea typeface="Times New Roman"/>
              </a:rPr>
              <a:t>Paul Quincey</a:t>
            </a:r>
            <a:br>
              <a:rPr sz="3600"/>
            </a:br>
            <a:r>
              <a:rPr b="0" lang="en-GB" sz="3600" spc="-1" strike="noStrike">
                <a:solidFill>
                  <a:srgbClr val="003a6e"/>
                </a:solidFill>
                <a:latin typeface="Arial"/>
                <a:ea typeface="Times New Roman"/>
              </a:rPr>
              <a:t>Richard Gilham</a:t>
            </a:r>
            <a:r>
              <a:rPr b="0" lang="en-GB" sz="3200" spc="-1" strike="noStrike">
                <a:solidFill>
                  <a:srgbClr val="003a6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6120" y="4495680"/>
            <a:ext cx="243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e"/>
                </a:solidFill>
                <a:latin typeface="Arial"/>
              </a:rPr>
              <a:t>PMP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e"/>
                </a:solidFill>
                <a:latin typeface="Arial"/>
              </a:rPr>
              <a:t>Lo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e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3a6e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a6e"/>
                </a:solidFill>
                <a:latin typeface="Arial"/>
              </a:rPr>
              <a:t> Octob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0FEC9-D3DC-468B-9D39-22741D4A3F6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4F3E7-12B3-4F85-ADD2-157B86C449AF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857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e"/>
                </a:solidFill>
                <a:latin typeface="Arial"/>
              </a:rPr>
              <a:t>Low size cut off – effect on typical distribution &lt; 1%</a:t>
            </a:r>
            <a:endParaRPr b="0" lang="en-US" sz="28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0984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8991720" cy="560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51D7F-A6A2-4277-A868-6A5721C8FB8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92F42-6276-4C8B-B9AB-A29F3292C817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857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47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a6e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3a6e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3a6e"/>
                </a:solidFill>
                <a:latin typeface="Arial"/>
              </a:rPr>
              <a:t>Conclusions for C</a:t>
            </a:r>
            <a:r>
              <a:rPr b="0" lang="en-GB" sz="3200" spc="-1" strike="noStrike" baseline="-25000">
                <a:solidFill>
                  <a:srgbClr val="003a6e"/>
                </a:solidFill>
                <a:latin typeface="Arial"/>
              </a:rPr>
              <a:t>inlet</a:t>
            </a:r>
            <a:br>
              <a:rPr sz="3200"/>
            </a:br>
            <a:br>
              <a:rPr sz="3200"/>
            </a:b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e main contribution to uncertainty is likely to be the calibration of the PNC(s)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High dilution factors increase the uncertainty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Reproducibility and test source stability should be routinely quantified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Rough total uncertainties are 15% with single PNC route, 20% with dual PNC route</a:t>
            </a:r>
            <a:endParaRPr b="0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B61FC-5EFA-44FD-AC6C-6EF85394771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EC435-883A-42BF-B07A-44989AF7C1B1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51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a6e"/>
                </a:solidFill>
                <a:latin typeface="Arial"/>
                <a:ea typeface="Times New Roman"/>
              </a:rPr>
              <a:t>Definition:</a:t>
            </a:r>
            <a:br>
              <a:rPr sz="2400"/>
            </a:br>
            <a:r>
              <a:rPr b="0" i="1" lang="en-GB" sz="2400" spc="-1" strike="noStrike">
                <a:solidFill>
                  <a:srgbClr val="003a6e"/>
                </a:solidFill>
                <a:latin typeface="Arial"/>
                <a:ea typeface="Times New Roman"/>
              </a:rPr>
              <a:t>The proportion of </a:t>
            </a:r>
            <a:r>
              <a:rPr b="0" i="1" lang="en-US" sz="2400" spc="-1" strike="noStrike">
                <a:solidFill>
                  <a:srgbClr val="003a6e"/>
                </a:solidFill>
                <a:latin typeface="Arial"/>
                <a:ea typeface="Arial Unicode MS"/>
              </a:rPr>
              <a:t>tetracontane (C</a:t>
            </a:r>
            <a:r>
              <a:rPr b="0" i="1" lang="en-US" sz="2400" spc="-1" strike="noStrike" baseline="-30000">
                <a:solidFill>
                  <a:srgbClr val="003a6e"/>
                </a:solidFill>
                <a:latin typeface="Arial"/>
                <a:ea typeface="Arial Unicode MS"/>
              </a:rPr>
              <a:t>40</a:t>
            </a:r>
            <a:r>
              <a:rPr b="0" i="1" lang="en-US" sz="2400" spc="-1" strike="noStrike">
                <a:solidFill>
                  <a:srgbClr val="003a6e"/>
                </a:solidFill>
                <a:latin typeface="Arial"/>
                <a:ea typeface="Arial Unicode MS"/>
              </a:rPr>
              <a:t>) particles, of around 30 nm diameter, which</a:t>
            </a:r>
            <a:r>
              <a:rPr b="0" i="1" lang="en-GB" sz="2400" spc="-1" strike="noStrike">
                <a:solidFill>
                  <a:srgbClr val="003a6e"/>
                </a:solidFill>
                <a:latin typeface="Arial"/>
                <a:ea typeface="Times New Roman"/>
              </a:rPr>
              <a:t> having entered the VPR inlet are removed before measurement by the PNC instrument.</a:t>
            </a:r>
            <a:br>
              <a:rPr sz="2400"/>
            </a:br>
            <a:br>
              <a:rPr sz="2400"/>
            </a:br>
            <a:r>
              <a:rPr b="0" i="1" lang="en-GB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Method 1: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</a:t>
            </a:r>
            <a:r>
              <a:rPr b="0" i="1" lang="en-US" sz="2400" spc="-1" strike="noStrike" baseline="-30000">
                <a:solidFill>
                  <a:srgbClr val="333399"/>
                </a:solidFill>
                <a:latin typeface="Arial"/>
                <a:ea typeface="Times New Roman"/>
              </a:rPr>
              <a:t>volatile removal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=  1 – (F(av)</a:t>
            </a:r>
            <a:r>
              <a:rPr b="0" i="1" lang="en-US" sz="2400" spc="-1" strike="noStrike" baseline="-30000">
                <a:solidFill>
                  <a:srgbClr val="333399"/>
                </a:solidFill>
                <a:latin typeface="Arial"/>
                <a:ea typeface="Times New Roman"/>
              </a:rPr>
              <a:t>particle dilution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/ F</a:t>
            </a:r>
            <a:r>
              <a:rPr b="0" i="1" lang="en-US" sz="2400" spc="-1" strike="noStrike" baseline="-30000">
                <a:solidFill>
                  <a:srgbClr val="333399"/>
                </a:solidFill>
                <a:latin typeface="Arial"/>
                <a:ea typeface="Times New Roman"/>
              </a:rPr>
              <a:t>volatile particle “dilution”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)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Method 2: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</a:t>
            </a:r>
            <a:r>
              <a:rPr b="0" i="1" lang="en-US" sz="2400" spc="-1" strike="noStrike" baseline="-30000">
                <a:solidFill>
                  <a:srgbClr val="333399"/>
                </a:solidFill>
                <a:latin typeface="Arial"/>
                <a:ea typeface="Times New Roman"/>
              </a:rPr>
              <a:t>volatile removal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=  1 – (C</a:t>
            </a:r>
            <a:r>
              <a:rPr b="0" i="1" lang="en-US" sz="2400" spc="-1" strike="noStrike" baseline="-30000">
                <a:solidFill>
                  <a:srgbClr val="333399"/>
                </a:solidFill>
                <a:latin typeface="Arial"/>
                <a:ea typeface="Times New Roman"/>
              </a:rPr>
              <a:t>PNC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(heater on) / C</a:t>
            </a:r>
            <a:r>
              <a:rPr b="0" i="1" lang="en-US" sz="2400" spc="-1" strike="noStrike" baseline="-30000">
                <a:solidFill>
                  <a:srgbClr val="333399"/>
                </a:solidFill>
                <a:latin typeface="Arial"/>
                <a:ea typeface="Times New Roman"/>
              </a:rPr>
              <a:t>PNC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(heater off))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3a6e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52028-836B-4DAA-80B0-385DD4FA6CB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A3306-9339-414F-AA18-58FC50AE51F5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41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a6e"/>
                </a:solidFill>
                <a:latin typeface="Arial"/>
                <a:ea typeface="Times New Roman"/>
              </a:rPr>
              <a:t>VPR efficiency – summary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bsolute accuracy is greatly limited by the small concentrations expected after removal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Better uncertainty could be achieved by using Method 2 and input concentrations much higher than 10,000 cm</a:t>
            </a:r>
            <a:r>
              <a:rPr b="0" i="1" lang="en-US" sz="2400" spc="-1" strike="noStrike" baseline="30000">
                <a:solidFill>
                  <a:srgbClr val="333399"/>
                </a:solidFill>
                <a:latin typeface="Arial"/>
                <a:ea typeface="Times New Roman"/>
              </a:rPr>
              <a:t>-3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n general, absolute accuracy is not required, only a demonstration that the &gt;99% requirement is met, and most errors will not compromise this.</a:t>
            </a:r>
            <a:endParaRPr b="0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E7284-35D9-47D8-8FFF-95F36FACBF5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FDF4F-7A83-413F-8664-B47BF0DFB0A5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6e"/>
                </a:solidFill>
                <a:latin typeface="Arial"/>
              </a:rPr>
              <a:t>Analysis of errors</a:t>
            </a: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6280" y="1487520"/>
            <a:ext cx="7559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lanation of approach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pplication to particle number concentration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pplication to volatile particle removal efficiency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784DB-0292-4FC4-8CA7-A91667A551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167EC-05C2-41FE-87DF-164BE6A77E8D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6e"/>
                </a:solidFill>
                <a:latin typeface="Arial"/>
              </a:rPr>
              <a:t>Approach</a:t>
            </a: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487520"/>
            <a:ext cx="82296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ased on G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uide to the Expression of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ncertainty in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easurement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PM, IEC, IFCC, ISO, IUPAC, IUPAP, OI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SO, Geneva, First Edition 19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FC1B7-46CA-4BE4-BFC9-6E3C774CBD6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05E4F-109B-4A87-881F-1F581802E1EB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6e"/>
                </a:solidFill>
                <a:latin typeface="Arial"/>
              </a:rPr>
              <a:t>GUM Universal Procedure</a:t>
            </a: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143000"/>
            <a:ext cx="8686800" cy="57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Y = f(X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, …)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Y is to be measured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are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 influence qua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ach influence quantity has a 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standard uncertainty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u(x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ach u(x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) has a 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sensitivity coefficient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combined standard uncertainty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y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expanded uncertainty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 = k u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y)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typically 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= 2 for 95% confid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172200" y="3352680"/>
                <a:ext cx="493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029200" y="4724280"/>
                <a:ext cx="36194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6B861-21DC-421A-A861-AA53433DCAC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458C52-78B7-479A-BE04-852FC26F826A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6e"/>
                </a:solidFill>
                <a:latin typeface="Arial"/>
              </a:rPr>
              <a:t>Aims of NPL PMP report</a:t>
            </a: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14300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Find significant contributions to uncertainty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- highlight where these need to be eval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- highlight where these need to be cons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Make rough estimate of full measurement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Cannot be fully rigorous or defini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C9DA1-6B11-4D08-9637-22A6D0CE6DA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BFA7B-88FA-44C4-AAD6-7BE56F97D76A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6e"/>
                </a:solidFill>
                <a:latin typeface="Arial"/>
              </a:rPr>
              <a:t>Simplified procedure used</a:t>
            </a: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143000"/>
            <a:ext cx="86868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Clarify what is being meas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Identify factors affecting the result (“influence quantitie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Quantify the limits on these factors (“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u(x</a:t>
            </a:r>
            <a:r>
              <a:rPr b="0" lang="en-GB" sz="28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)”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Quantify the effect of each on the result (“c</a:t>
            </a:r>
            <a:r>
              <a:rPr b="0" i="1" lang="en-GB" sz="28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u(x</a:t>
            </a:r>
            <a:r>
              <a:rPr b="0" lang="en-GB" sz="28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)”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Conclusions and rough totals (“U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0216C-9AA1-4630-87F7-D0F2F5BDDAB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8545A-873F-4B81-8869-6C864478FDFE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9520"/>
            <a:ext cx="80769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a6e"/>
                </a:solidFill>
                <a:latin typeface="Arial"/>
                <a:ea typeface="Times New Roman"/>
              </a:rPr>
              <a:t>Definition:</a:t>
            </a:r>
            <a:br>
              <a:rPr sz="2400"/>
            </a:br>
            <a:r>
              <a:rPr b="0" i="1" lang="en-GB" sz="2400" spc="-1" strike="noStrike">
                <a:solidFill>
                  <a:srgbClr val="003a6e"/>
                </a:solidFill>
                <a:latin typeface="Arial"/>
                <a:ea typeface="Times New Roman"/>
              </a:rPr>
              <a:t>Number concentration (in cm</a:t>
            </a:r>
            <a:r>
              <a:rPr b="0" i="1" lang="en-GB" sz="2400" spc="-1" strike="noStrike" baseline="30000">
                <a:solidFill>
                  <a:srgbClr val="003a6e"/>
                </a:solidFill>
                <a:latin typeface="Arial"/>
                <a:ea typeface="Times New Roman"/>
              </a:rPr>
              <a:t>-3</a:t>
            </a:r>
            <a:r>
              <a:rPr b="0" i="1" lang="en-GB" sz="2400" spc="-1" strike="noStrike">
                <a:solidFill>
                  <a:srgbClr val="003a6e"/>
                </a:solidFill>
                <a:latin typeface="Arial"/>
                <a:ea typeface="Times New Roman"/>
              </a:rPr>
              <a:t>) of non-volatile particles in the nominal size range 23 nm – 2.5 μm at the PCMS inlet.</a:t>
            </a:r>
            <a:br>
              <a:rPr sz="2400"/>
            </a:br>
            <a:br>
              <a:rPr sz="2400"/>
            </a:br>
            <a:r>
              <a:rPr b="0" i="1" lang="en-GB" sz="2000" spc="-1" strike="noStrike">
                <a:solidFill>
                  <a:srgbClr val="003a6e"/>
                </a:solidFill>
                <a:latin typeface="Arial"/>
                <a:ea typeface="Times New Roman"/>
              </a:rPr>
              <a:t>The air volume is to be corrected to Standard Temperature and Pressure (273.2K and 101.33 kPa)</a:t>
            </a:r>
            <a:r>
              <a:rPr b="0" lang="en-GB" sz="3200" spc="-1" strike="noStrike">
                <a:solidFill>
                  <a:srgbClr val="003a6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57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90720" y="380880"/>
            <a:ext cx="6972120" cy="3276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 flipV="1">
            <a:off x="5714640" y="2362320"/>
            <a:ext cx="1219320" cy="2209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61949-4ED5-4D96-AE2C-FDA57C01CF1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595C6-7475-4522-A3F8-8A58AF52E78A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857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133360"/>
            <a:ext cx="8077320" cy="6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a6e"/>
                </a:solidFill>
                <a:latin typeface="Arial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003a6e"/>
                </a:solidFill>
                <a:latin typeface="Arial"/>
                <a:ea typeface="Times New Roman"/>
              </a:rPr>
              <a:t>C</a:t>
            </a:r>
            <a:r>
              <a:rPr b="0" lang="fr-FR" sz="3200" spc="-1" strike="noStrike" baseline="-30000">
                <a:solidFill>
                  <a:srgbClr val="003a6e"/>
                </a:solidFill>
                <a:latin typeface="Arial"/>
                <a:ea typeface="Times New Roman"/>
              </a:rPr>
              <a:t>inlet</a:t>
            </a:r>
            <a:r>
              <a:rPr b="0" lang="fr-FR" sz="3200" spc="-1" strike="noStrike">
                <a:solidFill>
                  <a:srgbClr val="003a6e"/>
                </a:solidFill>
                <a:latin typeface="Arial"/>
                <a:ea typeface="Times New Roman"/>
              </a:rPr>
              <a:t> = C</a:t>
            </a:r>
            <a:r>
              <a:rPr b="0" lang="fr-FR" sz="3200" spc="-1" strike="noStrike" baseline="-30000">
                <a:solidFill>
                  <a:srgbClr val="003a6e"/>
                </a:solidFill>
                <a:latin typeface="Arial"/>
                <a:ea typeface="Times New Roman"/>
              </a:rPr>
              <a:t>PNC</a:t>
            </a:r>
            <a:r>
              <a:rPr b="0" lang="fr-FR" sz="3200" spc="-1" strike="noStrike">
                <a:solidFill>
                  <a:srgbClr val="003a6e"/>
                </a:solidFill>
                <a:latin typeface="Arial"/>
                <a:ea typeface="Times New Roman"/>
              </a:rPr>
              <a:t> x F(av)</a:t>
            </a:r>
            <a:r>
              <a:rPr b="0" lang="fr-FR" sz="3200" spc="-1" strike="noStrike" baseline="-30000">
                <a:solidFill>
                  <a:srgbClr val="003a6e"/>
                </a:solidFill>
                <a:latin typeface="Arial"/>
                <a:ea typeface="Times New Roman"/>
              </a:rPr>
              <a:t>particle dilution</a:t>
            </a:r>
            <a:r>
              <a:rPr b="0" lang="en-GB" sz="3200" spc="-1" strike="noStrike">
                <a:solidFill>
                  <a:srgbClr val="003a6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28600"/>
            <a:ext cx="441936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 PNC calibration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NC drift since cali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ce of volatile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3048120"/>
            <a:ext cx="441972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 nonline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roduc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icles in dilution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4876920"/>
            <a:ext cx="50292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size cut-off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ity of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4572000" y="2666520"/>
            <a:ext cx="76320" cy="381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18288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0FD47-B011-45D3-98B4-8F052281F72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B6D3E-2EDE-4E09-AEB6-FE993862BD00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857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41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a6e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3a6e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3a6e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3a6e"/>
                </a:solidFill>
                <a:latin typeface="Arial"/>
              </a:rPr>
              <a:t>Evaluation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NC calibration criterion 10%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~ 10%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ilution particle criterion 1 cm</a:t>
            </a:r>
            <a:r>
              <a:rPr b="0" lang="en-GB" sz="3200" spc="-1" strike="noStrike" baseline="30000">
                <a:solidFill>
                  <a:srgbClr val="333399"/>
                </a:solidFill>
                <a:latin typeface="Arial"/>
              </a:rPr>
              <a:t>-3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~ 3%</a:t>
            </a:r>
            <a:br>
              <a:rPr sz="3200"/>
            </a:b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assuming total dilution factor 150 and lowest C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Arial"/>
              </a:rPr>
              <a:t>inlet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of interest 5,000 cm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-3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)</a:t>
            </a:r>
            <a:br>
              <a:rPr sz="2400"/>
            </a:br>
            <a:br>
              <a:rPr sz="2400"/>
            </a:b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esence of volatile particles (1%)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~ ?</a:t>
            </a:r>
            <a:endParaRPr b="0" lang="en-US" sz="32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C7FA5-61EA-464A-BE2F-D44D3DA3DDD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7C39B-8E9D-4966-819F-25FAA4714221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08:55:05Z</dcterms:created>
  <dc:creator>Chris Rothschild</dc:creator>
  <dc:description/>
  <dc:language>en-US</dc:language>
  <cp:lastModifiedBy>Paul Quincey</cp:lastModifiedBy>
  <dcterms:modified xsi:type="dcterms:W3CDTF">2007-10-07T09:35:17Z</dcterms:modified>
  <cp:revision>68</cp:revision>
  <dc:subject/>
  <dc:title>PowerPoint Presentation</dc:title>
</cp:coreProperties>
</file>