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032B-F1E1-46E8-9A43-491F94E7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8DA3-8C36-42E2-80B5-9655D38E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6F8A-0231-47C0-A9F4-C7DFBC5BE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E295-5EFD-4D74-8479-79E0EBDE5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40A3-8B73-479D-91E6-03056E73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BC58-5C96-4380-AF2F-7FD4F497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4291-FF0D-4580-BDDA-09DC33E6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0918-2921-4F0C-8A1B-A2FEEF7E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C911-5B10-46E7-A2FD-2FF98AF8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7B4A-C6B3-456E-9103-AFD3BFBD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9F7A-FC3C-446D-9676-3EF80804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7517-A05F-4743-808B-C17865E3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F681-5087-44A8-8A1E-03E3DA0C6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9280" y="260280"/>
          <a:ext cx="8785440" cy="620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0280"/>
                    <a:ext cx="8785440" cy="62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295200"/>
          <a:ext cx="9144000" cy="645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5200"/>
                    <a:ext cx="91440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295200"/>
          <a:ext cx="9144000" cy="645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5200"/>
                    <a:ext cx="91440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11280" y="476280"/>
          <a:ext cx="8173800" cy="577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476280"/>
                    <a:ext cx="817380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295200"/>
          <a:ext cx="9144000" cy="645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5200"/>
                    <a:ext cx="91440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295200"/>
          <a:ext cx="9144000" cy="645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5200"/>
                    <a:ext cx="91440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295200"/>
          <a:ext cx="9144000" cy="645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5200"/>
                    <a:ext cx="91440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295200"/>
          <a:ext cx="9144000" cy="645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5200"/>
                    <a:ext cx="91440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295200"/>
          <a:ext cx="9144000" cy="645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5200"/>
                    <a:ext cx="91440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295200"/>
          <a:ext cx="9144000" cy="645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5200"/>
                    <a:ext cx="91440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295200"/>
          <a:ext cx="9144000" cy="645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5200"/>
                    <a:ext cx="91440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08:04:38Z</dcterms:created>
  <dc:creator>Chris Parkin</dc:creator>
  <dc:description/>
  <dc:language>en-US</dc:language>
  <cp:lastModifiedBy>Chris Parkin</cp:lastModifiedBy>
  <dcterms:modified xsi:type="dcterms:W3CDTF">2007-10-17T10:31:10Z</dcterms:modified>
  <cp:revision>6</cp:revision>
  <dc:subject/>
  <dc:title>Slide 1</dc:title>
</cp:coreProperties>
</file>