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2DAE-4E54-4BC6-90D3-9801B6CC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610E-308D-4D21-9FEF-6F13FA50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3423-5ED3-4F91-B389-9EA324B1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CD7D-6164-40BD-9135-D0EF30A1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1957-DACF-4916-A27A-4E1BFA8F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1F8E-A255-466B-82E8-7E2CBC9D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795B-6EFD-445D-B651-05E22B04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EFAD-CCFC-42ED-81C6-B6C0A72A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348F-3273-4360-A632-6DA31564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E40A-4CA6-457B-85AD-F6A4CB17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6912-6603-43C7-91FF-5877DC75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51EE-875B-429A-8FE6-7A1138C8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43EA-072F-4245-9921-965D88B08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9280" y="260280"/>
          <a:ext cx="8785440" cy="620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8785440" cy="62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295200"/>
          <a:ext cx="9144000" cy="645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5200"/>
                    <a:ext cx="91440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295200"/>
          <a:ext cx="9144000" cy="645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5200"/>
                    <a:ext cx="91440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11280" y="476280"/>
          <a:ext cx="8173800" cy="577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76280"/>
                    <a:ext cx="817380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295200"/>
          <a:ext cx="9144000" cy="645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5200"/>
                    <a:ext cx="91440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295200"/>
          <a:ext cx="9144000" cy="645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5200"/>
                    <a:ext cx="91440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295200"/>
          <a:ext cx="9144000" cy="645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5200"/>
                    <a:ext cx="91440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295200"/>
          <a:ext cx="9144000" cy="645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5200"/>
                    <a:ext cx="91440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295200"/>
          <a:ext cx="9144000" cy="645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5200"/>
                    <a:ext cx="91440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295200"/>
          <a:ext cx="9144000" cy="645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5200"/>
                    <a:ext cx="91440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295200"/>
          <a:ext cx="9144000" cy="645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5200"/>
                    <a:ext cx="91440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8:04:38Z</dcterms:created>
  <dc:creator>Chris Parkin</dc:creator>
  <dc:description/>
  <dc:language>en-US</dc:language>
  <cp:lastModifiedBy>Chris Parkin</cp:lastModifiedBy>
  <dcterms:modified xsi:type="dcterms:W3CDTF">2007-10-17T10:31:10Z</dcterms:modified>
  <cp:revision>6</cp:revision>
  <dc:subject/>
  <dc:title>Slide 1</dc:title>
</cp:coreProperties>
</file>