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780-DD42-46B1-94F4-358E8FDC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7E1-4D1F-4815-877C-F93DE502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EF4-62BF-4102-8B78-F13FCE5A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2E0-A507-4558-AA74-23E99FB2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F951-EAE9-4033-A6C7-9B3E8EE0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A20-DADF-4134-A2B2-AD7AB537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2E2-EAC3-4435-968F-EBA0703E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9096-0A2E-49A1-8443-CCB2942B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F684-2F3B-4F55-AF93-1FC1DC68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53A-EC49-4E4D-905F-BF097654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0E3-FB1E-4F1B-BECA-0C931243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467-C0A7-4275-BDD1-75329549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82AB-C0F5-426A-8563-F02953B00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 5-6 O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FV-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5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4720" y="417600"/>
            <a:ext cx="8134560" cy="5819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19640" y="6237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urce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7040" y="388800"/>
            <a:ext cx="8088480" cy="591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08720" y="6308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urce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9360" y="423720"/>
            <a:ext cx="8043840" cy="5884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08720" y="6308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urce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7040" y="417600"/>
            <a:ext cx="8088480" cy="574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24360" y="6165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urce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27040" y="399960"/>
            <a:ext cx="8088480" cy="5908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76720" y="638172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urce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V i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EM EU type approved vehicles on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fuel and Bi-fuel vehicles shall mee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xe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In-use monitoring and NOx monitoring  from 1-9-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ofit R115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w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9:15:09Z</dcterms:created>
  <dc:creator>rijnders</dc:creator>
  <dc:description/>
  <dc:language>en-US</dc:language>
  <cp:lastModifiedBy>rijnders</cp:lastModifiedBy>
  <dcterms:modified xsi:type="dcterms:W3CDTF">2008-01-15T09:34:48Z</dcterms:modified>
  <cp:revision>2</cp:revision>
  <dc:subject/>
  <dc:title>EURO 5-6 OB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93414208</vt:r8>
  </property>
  <property fmtid="{D5CDD505-2E9C-101B-9397-08002B2CF9AE}" pid="3" name="_AuthorEmail">
    <vt:lpwstr>jseisler@cleanfuelsconsulting.org</vt:lpwstr>
  </property>
  <property fmtid="{D5CDD505-2E9C-101B-9397-08002B2CF9AE}" pid="4" name="_AuthorEmailDisplayName">
    <vt:lpwstr>Jeffrey Seisler</vt:lpwstr>
  </property>
  <property fmtid="{D5CDD505-2E9C-101B-9397-08002B2CF9AE}" pid="5" name="_EmailSubject">
    <vt:lpwstr>GFV Documents 4-6</vt:lpwstr>
  </property>
</Properties>
</file>