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CF3-F6B9-4507-87AB-E485B94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83A-C15C-4BB6-A3B7-BCCD5E0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895-9E33-4653-BA32-1FC200DF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6D4-EA1C-45B8-907D-A384496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D26-438C-4355-B7D8-C4626AA9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54B-95D8-4ACA-A01E-7B8EFBC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05B-D66F-4140-9A15-47E9D84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9E8-6995-49A6-BED7-B12F07F4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670-A3D1-4FF1-BFA7-513E35F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AC2-BDCD-43C1-9E6B-95ED527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A24-77BB-4E83-B57E-6BC2EFA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A7A-929E-4C42-B3CF-B6A42A2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1A8-244B-4D72-A65D-C0D668B39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 5-6 O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FV-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4720" y="417600"/>
            <a:ext cx="8134560" cy="581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964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7040" y="388800"/>
            <a:ext cx="8088480" cy="591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0872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9360" y="423720"/>
            <a:ext cx="8043840" cy="588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08720" y="630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7040" y="417600"/>
            <a:ext cx="8088480" cy="57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24360" y="6165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7040" y="399960"/>
            <a:ext cx="8088480" cy="5908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76720" y="638172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V i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M EU type approved vehicles o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fuel and Bi-fuel vehicles shall mee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e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-use monitoring and NOx monitoring  from 1-9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fit R11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15:09Z</dcterms:created>
  <dc:creator>rijnders</dc:creator>
  <dc:description/>
  <dc:language>en-US</dc:language>
  <cp:lastModifiedBy>rijnders</cp:lastModifiedBy>
  <dcterms:modified xsi:type="dcterms:W3CDTF">2008-01-15T09:34:48Z</dcterms:modified>
  <cp:revision>2</cp:revision>
  <dc:subject/>
  <dc:title>EURO 5-6 OB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3414208</vt:r8>
  </property>
  <property fmtid="{D5CDD505-2E9C-101B-9397-08002B2CF9AE}" pid="3" name="_AuthorEmail">
    <vt:lpwstr>jseisler@cleanfuelsconsulting.org</vt:lpwstr>
  </property>
  <property fmtid="{D5CDD505-2E9C-101B-9397-08002B2CF9AE}" pid="4" name="_AuthorEmailDisplayName">
    <vt:lpwstr>Jeffrey Seisler</vt:lpwstr>
  </property>
  <property fmtid="{D5CDD505-2E9C-101B-9397-08002B2CF9AE}" pid="5" name="_EmailSubject">
    <vt:lpwstr>GFV Documents 4-6</vt:lpwstr>
  </property>
</Properties>
</file>