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01A-CE46-4DE1-A00F-EE892E4E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3AB-2D38-493B-895C-42EB0FB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BA2-03C6-4421-9F5D-7B1B1741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6C9-4B24-4A4B-8C78-649DBF1B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FB0-3153-4DF4-9F2B-481C79EE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7BE-CA95-4F73-BA29-80AFF7C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4FF-29C8-4E7F-BE21-706F2097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E76-8D37-4B6E-A257-5D59AD90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89D-A7F7-4252-AF09-4D9BB738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14F-BD33-45A0-A224-ABF8CE7C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BE1-57E4-4AC5-87D2-56BF475A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375-AF7B-4C70-B603-206C547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7E0B-D385-467D-8478-130BAD9B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V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5-6 L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5 starting from 1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 6 starting from 1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88930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0:59:30Z</dcterms:created>
  <dc:creator>rijnders</dc:creator>
  <dc:description/>
  <dc:language>en-US</dc:language>
  <cp:lastModifiedBy>rijnders</cp:lastModifiedBy>
  <dcterms:modified xsi:type="dcterms:W3CDTF">2008-01-15T11:19:00Z</dcterms:modified>
  <cp:revision>3</cp:revision>
  <dc:subject/>
  <dc:title>GFV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1847329</vt:r8>
  </property>
  <property fmtid="{D5CDD505-2E9C-101B-9397-08002B2CF9AE}" pid="3" name="_AuthorEmail">
    <vt:lpwstr>jseisler@cleanfuelsconsulting.org</vt:lpwstr>
  </property>
  <property fmtid="{D5CDD505-2E9C-101B-9397-08002B2CF9AE}" pid="4" name="_AuthorEmailDisplayName">
    <vt:lpwstr>Jeffrey Seisler</vt:lpwstr>
  </property>
  <property fmtid="{D5CDD505-2E9C-101B-9397-08002B2CF9AE}" pid="5" name="_EmailSubject">
    <vt:lpwstr>GFV Documents 4-6</vt:lpwstr>
  </property>
</Properties>
</file>