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A7CD-16D5-4919-A15E-D43D66FC9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AA19-8CFA-4A02-9542-9613CD773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EA10-BB96-47E7-B993-2456B5A1F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6D65-139F-4013-8DEA-FD70EE700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78A6-F976-4515-BCFD-03C0DCBC3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C9AB-30A8-4A43-8121-A408AC108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5B4E-8E2D-43FB-9A3F-050C48D3B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7C35-119F-4C37-B1BF-F984EF357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12E6-14EE-424E-99CC-89995E08C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AF16-4510-4C2A-8F13-E768079F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3CF8-9AD5-40BA-B6F9-6DCDD95E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7BCF-BA90-4B61-B0A3-7A1014768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9BB89-8027-4E48-9C5B-C6479EC911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FV me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RO 5-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ro 5-6 LD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314172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ro 5 starting from 1 Sept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ro 6 starting from 1 Sept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514440"/>
            <a:ext cx="8893080" cy="58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5T10:59:30Z</dcterms:created>
  <dc:creator>rijnders</dc:creator>
  <dc:description/>
  <dc:language>en-US</dc:language>
  <cp:lastModifiedBy>rijnders</cp:lastModifiedBy>
  <dcterms:modified xsi:type="dcterms:W3CDTF">2008-01-15T11:19:00Z</dcterms:modified>
  <cp:revision>3</cp:revision>
  <dc:subject/>
  <dc:title>GFV mee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281847329</vt:r8>
  </property>
  <property fmtid="{D5CDD505-2E9C-101B-9397-08002B2CF9AE}" pid="3" name="_AuthorEmail">
    <vt:lpwstr>jseisler@cleanfuelsconsulting.org</vt:lpwstr>
  </property>
  <property fmtid="{D5CDD505-2E9C-101B-9397-08002B2CF9AE}" pid="4" name="_AuthorEmailDisplayName">
    <vt:lpwstr>Jeffrey Seisler</vt:lpwstr>
  </property>
  <property fmtid="{D5CDD505-2E9C-101B-9397-08002B2CF9AE}" pid="5" name="_EmailSubject">
    <vt:lpwstr>GFV Documents 4-6</vt:lpwstr>
  </property>
</Properties>
</file>