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839-2B74-44D4-B4EE-1A136C0B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96B-C007-4342-B997-1EEEFDE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DAF-375B-4816-BB81-566E7F0E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42C-54A4-48F9-A467-3B467622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91D-35C9-4FEC-B948-FA51FE33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F53-7CDE-4ADC-B91D-5C99AE3F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339-58FD-4456-BEAA-1F545EBD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7EA-FF7D-429A-9FDD-7DB875C9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A0B-39C5-44E3-99F1-133277B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B78-C270-4D68-B711-4F2370C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3F6-C43C-423E-8AE8-F5B19D4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B9B-1D32-4F31-88C6-6B5EF29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f85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1" marL="571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95256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333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714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7480" y="6369120"/>
            <a:ext cx="2590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0200" y="6369120"/>
            <a:ext cx="4662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684C-F9D2-47A0-93E5-F2C5E057F1E6}" type="slidenum"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32680"/>
            <a:ext cx="9144000" cy="625320"/>
            <a:chOff x="0" y="6232680"/>
            <a:chExt cx="9144000" cy="625320"/>
          </a:xfrm>
        </p:grpSpPr>
        <p:sp>
          <p:nvSpPr>
            <p:cNvPr id="6" name=""/>
            <p:cNvSpPr/>
            <p:nvPr/>
          </p:nvSpPr>
          <p:spPr>
            <a:xfrm>
              <a:off x="0" y="6759720"/>
              <a:ext cx="102564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9240" y="6759720"/>
              <a:ext cx="71424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95400" y="6759720"/>
              <a:ext cx="118116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021440" y="6759720"/>
              <a:ext cx="24948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49880" y="6759720"/>
              <a:ext cx="24912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94400" y="6759720"/>
              <a:ext cx="527400" cy="9828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60920" y="6759720"/>
              <a:ext cx="1179360" cy="9828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58080" y="6759720"/>
              <a:ext cx="839520" cy="9828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355920" y="6759720"/>
              <a:ext cx="68256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25640" y="6759720"/>
              <a:ext cx="936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21800" y="6759720"/>
              <a:ext cx="12222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0920" y="6759720"/>
              <a:ext cx="12348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97600" y="6759720"/>
              <a:ext cx="12384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40280" y="6759720"/>
              <a:ext cx="2178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9900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038480" y="6759720"/>
              <a:ext cx="3114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76560" y="6759720"/>
              <a:ext cx="27936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3348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24" name="" descr=""/>
            <p:cNvPicPr/>
            <p:nvPr/>
          </p:nvPicPr>
          <p:blipFill>
            <a:blip r:embed="rId2"/>
            <a:srcRect l="86399" t="0" r="0" b="0"/>
            <a:stretch/>
          </p:blipFill>
          <p:spPr>
            <a:xfrm>
              <a:off x="8474040" y="6232680"/>
              <a:ext cx="46044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552600"/>
            <a:ext cx="5594400" cy="3268440"/>
            <a:chOff x="0" y="552600"/>
            <a:chExt cx="5594400" cy="3268440"/>
          </a:xfrm>
        </p:grpSpPr>
        <p:sp>
          <p:nvSpPr>
            <p:cNvPr id="62" name=""/>
            <p:cNvSpPr/>
            <p:nvPr/>
          </p:nvSpPr>
          <p:spPr>
            <a:xfrm>
              <a:off x="0" y="2832120"/>
              <a:ext cx="559440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52600"/>
              <a:ext cx="5594400" cy="227952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92440"/>
              <a:ext cx="62856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3592440"/>
              <a:ext cx="43812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62080" y="3592440"/>
              <a:ext cx="72216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00560" y="3592440"/>
              <a:ext cx="15228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5440" y="3592440"/>
              <a:ext cx="15084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9160" y="3592440"/>
              <a:ext cx="324000" cy="22860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54440" y="3592440"/>
              <a:ext cx="723960" cy="22860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11600" y="3592440"/>
              <a:ext cx="512640" cy="22860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3592440"/>
              <a:ext cx="41904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3160" y="3592440"/>
              <a:ext cx="741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28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242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8400" y="3592440"/>
              <a:ext cx="13320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5000" y="3592440"/>
              <a:ext cx="1904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84240" y="3592440"/>
              <a:ext cx="1717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392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8560" y="3592440"/>
              <a:ext cx="57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82471" t="0" r="0" b="0"/>
            <a:stretch/>
          </p:blipFill>
          <p:spPr>
            <a:xfrm>
              <a:off x="4548240" y="2921040"/>
              <a:ext cx="91440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7680" y="3094200"/>
              <a:ext cx="2868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8840" y="233172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4"/>
          </p:nvPr>
        </p:nvSpPr>
        <p:spPr>
          <a:xfrm>
            <a:off x="258840" y="6405120"/>
            <a:ext cx="50385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76212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14300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52388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8f"/>
                </a:solidFill>
                <a:latin typeface="Arial Black"/>
              </a:rPr>
              <a:t>GRPE – informal meeting EFV WG </a:t>
            </a:r>
            <a:br>
              <a:rPr sz="1800"/>
            </a:br>
            <a:r>
              <a:rPr b="0" lang="es-ES" sz="1800" spc="-1" strike="noStrike">
                <a:solidFill>
                  <a:srgbClr val="ffff8f"/>
                </a:solidFill>
                <a:latin typeface="Arial Black"/>
              </a:rPr>
              <a:t>(Bonn, 30 October 2008)</a:t>
            </a:r>
            <a:endParaRPr b="0" lang="en-US" sz="18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9280" y="765000"/>
            <a:ext cx="5329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for 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ly Friendly Vehicle (EF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933720"/>
            <a:ext cx="5038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4508640"/>
            <a:ext cx="50389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d0f85"/>
                </a:solidFill>
                <a:latin typeface="Arial"/>
              </a:rPr>
              <a:t>Gerben Passier (TNO)</a:t>
            </a: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88000" y="26028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orking paper No.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V-02-05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GRPE Informal Group on EFV,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Meeting, 30/31 October 2008)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NO Science &amp; Industr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4196-A4FE-4486-952C-E89B24AE8806}" type="slidenum">
              <a:rPr b="0" lang="en-GB" sz="1000" spc="-1" strike="noStrike">
                <a:solidFill>
                  <a:srgbClr val="0d0f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f85"/>
                </a:solidFill>
                <a:latin typeface="Arial"/>
              </a:rPr>
              <a:t>Thank you ! </a:t>
            </a: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5F4-41E7-495A-9C4E-70D276203B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43280" y="1628640"/>
            <a:ext cx="2736720" cy="2233800"/>
          </a:xfrm>
          <a:prstGeom prst="rect">
            <a:avLst/>
          </a:prstGeom>
          <a:gradFill rotWithShape="0">
            <a:gsLst>
              <a:gs pos="0">
                <a:srgbClr val="1b632c"/>
              </a:gs>
              <a:gs pos="100000">
                <a:srgbClr val="3cd861">
                  <a:alpha val="1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eperate fuel &amp; vehicle characteristic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90200" y="4868640"/>
            <a:ext cx="75582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Further investigation of definitions is needed </a:t>
            </a:r>
            <a:r>
              <a:rPr b="1" i="1" lang="nl-NL" sz="2000" spc="-1" strike="noStrike">
                <a:solidFill>
                  <a:srgbClr val="0d0f85"/>
                </a:solidFill>
                <a:latin typeface="Arial"/>
              </a:rPr>
              <a:t>(this presentation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Importance of default values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4076640"/>
            <a:ext cx="4321440" cy="0"/>
          </a:xfrm>
          <a:prstGeom prst="line">
            <a:avLst/>
          </a:prstGeom>
          <a:ln w="93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11280" y="1341360"/>
            <a:ext cx="0" cy="2735280"/>
          </a:xfrm>
          <a:prstGeom prst="line">
            <a:avLst/>
          </a:prstGeom>
          <a:ln w="93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3500280"/>
            <a:ext cx="144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marL="127440" indent="-127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d0f85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27440" indent="-127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(Energy efficiency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0880" y="1268280"/>
            <a:ext cx="1328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 marL="148320" indent="-148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d0f85"/>
                </a:solidFill>
                <a:latin typeface="Arial"/>
              </a:rPr>
              <a:t>Fuel</a:t>
            </a: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48320" indent="-148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(carbon content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71628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worse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414972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148428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14972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worse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1917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Flexibility for choice of technology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3571920"/>
            <a:ext cx="129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1844640"/>
            <a:ext cx="1151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H</a:t>
            </a:r>
            <a:r>
              <a:rPr b="0" lang="nl-NL" sz="1400" spc="-1" strike="noStrike" baseline="-25000">
                <a:solidFill>
                  <a:srgbClr val="0d0f85"/>
                </a:solidFill>
                <a:latin typeface="Arial"/>
              </a:rPr>
              <a:t>2</a:t>
            </a: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lec.?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85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10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0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43280" y="2491920"/>
            <a:ext cx="1657440" cy="1366920"/>
          </a:xfrm>
          <a:prstGeom prst="line">
            <a:avLst/>
          </a:prstGeom>
          <a:ln w="25560">
            <a:solidFill>
              <a:srgbClr val="ff6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3789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b46e"/>
                </a:solidFill>
                <a:latin typeface="Arial"/>
              </a:rPr>
              <a:t>EFV1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89360"/>
            <a:ext cx="144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b46e"/>
                </a:solidFill>
                <a:latin typeface="Arial"/>
              </a:rPr>
              <a:t>EFV2 treshhold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843280" y="1628640"/>
            <a:ext cx="2736720" cy="2232000"/>
          </a:xfrm>
          <a:prstGeom prst="line">
            <a:avLst/>
          </a:prstGeom>
          <a:ln w="25560">
            <a:solidFill>
              <a:srgbClr val="ff693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1844640"/>
            <a:ext cx="1008000" cy="863640"/>
          </a:xfrm>
          <a:prstGeom prst="line">
            <a:avLst/>
          </a:prstGeom>
          <a:ln w="12600">
            <a:solidFill>
              <a:srgbClr val="0d0f8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2F4-73D5-45C1-A993-94FE2B74CC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Assumptions &amp; choices /Scope and parameter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Focus on passenger cars first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Pollutant emissions not considered (but need minimum standard e.g. Euro 6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Focus on WTW CO2 emissions &amp; Energy efficiency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Technology neutral (!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Not included yet: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Consider real world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Utility based criteria (eg. weight parameter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Remark: WTT energy efficiency values not finalised 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2AF-D93D-4CB4-9295-B71E348DA0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Give insight in relative position of vehicles and fuels regarding WTW CO2 emissions and energy efficiency</a:t>
            </a:r>
            <a:br>
              <a:rPr sz="2000"/>
            </a:b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(NOT to present solution for definition of EFV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Overview graphs: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MJ tank] vs TTW Energy use [MJ tank/km] (average car)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MJ tank] vs TTW Energy use [MJ tank/km] (average fuel)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MJ primary] vs. WTW Energy use [MJ primary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km] vs WTW Energy use [MJ primary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170-DE5D-4B44-A77B-E2CD6B5CBF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085760"/>
            <a:ext cx="7885080" cy="40467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core fuels (for average car)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4076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U Mi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1080" y="335592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S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221000"/>
            <a:ext cx="107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gen.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Possible to score fuel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Score on WTW CO2, both in [g/MJ tank] and [g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BUT WTT energy efficiency not included 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79640" y="1773360"/>
            <a:ext cx="21600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268360" y="2276640"/>
            <a:ext cx="21600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276720" y="3573000"/>
            <a:ext cx="215640" cy="28908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68360" y="3787920"/>
            <a:ext cx="35892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557360"/>
            <a:ext cx="1295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2060640"/>
            <a:ext cx="107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A07-C51D-4766-9B90-6A5E2B1FB8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632720" cy="3903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core vehicles (for average fuels)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4292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us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4292640"/>
            <a:ext cx="144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sla SC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3357720"/>
            <a:ext cx="144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nda FC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708360" y="3715920"/>
            <a:ext cx="216000" cy="28908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28760" y="4005360"/>
            <a:ext cx="0" cy="36036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3789000"/>
            <a:ext cx="0" cy="36036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4292640"/>
            <a:ext cx="143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3355920"/>
            <a:ext cx="143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xus R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Possible to score vehicle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Score on WTW CO2 in [g/km] and TTW Energy use in [MJ tank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BUT WTT energy efficiency not included 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0920" y="1989000"/>
            <a:ext cx="144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052720" y="2203560"/>
            <a:ext cx="21564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AF3-0423-4C54-B1F3-96A89C0A72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3539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d0f85"/>
                </a:solidFill>
                <a:latin typeface="Arial"/>
              </a:rPr>
              <a:t>Include WTT energy efficiency, both in:</a:t>
            </a:r>
            <a:br>
              <a:rPr sz="2400"/>
            </a:b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WTW CO2 [g/ MJ primary] and WTW Energy use [MJ primary/km]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f85"/>
                </a:solidFill>
                <a:latin typeface="Arial"/>
              </a:rPr>
              <a:t>Possible to score both vehicles and fuel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f85"/>
                </a:solidFill>
                <a:latin typeface="Arial"/>
              </a:rPr>
              <a:t>BUT [g/MJ primary] not suitable for (bio-) fuels ?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f85"/>
                </a:solidFill>
                <a:latin typeface="Arial"/>
              </a:rPr>
              <a:t>Remark: WTT energy efficiency are preliminary data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3860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U Mi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3284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S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067280" y="3645000"/>
            <a:ext cx="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86160" y="4076640"/>
            <a:ext cx="501480" cy="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40000" y="2060640"/>
            <a:ext cx="21600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29080" y="2563920"/>
            <a:ext cx="21564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1844640"/>
            <a:ext cx="1295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2347920"/>
            <a:ext cx="107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549800">
            <a:off x="6444000" y="4508280"/>
            <a:ext cx="1513080" cy="3614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CD7-5175-4E79-B37A-3E8AAF78E1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7080" y="1438200"/>
            <a:ext cx="7560000" cy="3867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d0f85"/>
                </a:solidFill>
                <a:latin typeface="Arial"/>
              </a:rPr>
              <a:t>Score vehicles on: </a:t>
            </a:r>
            <a:br>
              <a:rPr sz="2400"/>
            </a:b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WTW CO2 [g/km] and WTW Energy use [MJ primary/km]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Seems best graph to score vehicle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Remark: CNG scores relatively poor due to 10% lower engine efficiency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6920" y="3357720"/>
            <a:ext cx="1657080" cy="863280"/>
          </a:xfrm>
          <a:prstGeom prst="line">
            <a:avLst/>
          </a:prstGeom>
          <a:ln w="28440">
            <a:solidFill>
              <a:srgbClr val="0d0f8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2637000"/>
            <a:ext cx="1440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ssible EFV criteria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549800">
            <a:off x="6948720" y="4652640"/>
            <a:ext cx="1513080" cy="3614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AAB-E138-47F2-B8D7-8414DC8B8B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ype of criteria determine the most suitable graph; The best graph to score vehicles seems to be WTW CO2 in [g/km] vs WTW Energy use [MJ primary /km]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Also possible to score Energy use for vehicles TTW [MJ tank/km], but then need to include WTT energy efficiency in specific criteria per fu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Next actions: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urther investigate criteria for EFV vehicle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Compare more example vehicles such as hybrids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134-3874-41C9-A72C-F9980DB29A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1:41:01Z</dcterms:created>
  <dc:creator>TNO</dc:creator>
  <dc:description/>
  <dc:language>en-US</dc:language>
  <cp:lastModifiedBy>Gibbons</cp:lastModifiedBy>
  <dcterms:modified xsi:type="dcterms:W3CDTF">2008-11-11T16:51:42Z</dcterms:modified>
  <cp:revision>247</cp:revision>
  <dc:subject/>
  <dc:title>TNO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">
    <vt:lpwstr>Custom Productivity Tools</vt:lpwstr>
  </property>
  <property fmtid="{D5CDD505-2E9C-101B-9397-08002B2CF9AE}" pid="3" name="auteur">
    <vt:lpwstr>B.J. van der Moolen</vt:lpwstr>
  </property>
  <property fmtid="{D5CDD505-2E9C-101B-9397-08002B2CF9AE}" pid="4" name="bedrijfslogo">
    <vt:lpwstr>Road.jpg</vt:lpwstr>
  </property>
  <property fmtid="{D5CDD505-2E9C-101B-9397-08002B2CF9AE}" pid="5" name="bedrijfsonderdeel">
    <vt:lpwstr/>
  </property>
  <property fmtid="{D5CDD505-2E9C-101B-9397-08002B2CF9AE}" pid="6" name="functie">
    <vt:lpwstr>Project Engineer</vt:lpwstr>
  </property>
  <property fmtid="{D5CDD505-2E9C-101B-9397-08002B2CF9AE}" pid="7" name="sjabloon">
    <vt:lpwstr>instituut</vt:lpwstr>
  </property>
  <property fmtid="{D5CDD505-2E9C-101B-9397-08002B2CF9AE}" pid="8" name="subtitel">
    <vt:lpwstr>Diesel Emission Control</vt:lpwstr>
  </property>
  <property fmtid="{D5CDD505-2E9C-101B-9397-08002B2CF9AE}" pid="9" name="taal">
    <vt:lpwstr>engels</vt:lpwstr>
  </property>
  <property fmtid="{D5CDD505-2E9C-101B-9397-08002B2CF9AE}" pid="10" name="titel">
    <vt:lpwstr>TNO Automotive</vt:lpwstr>
  </property>
  <property fmtid="{D5CDD505-2E9C-101B-9397-08002B2CF9AE}" pid="11" name="versie">
    <vt:lpwstr>2.1  (Build 03.2006)</vt:lpwstr>
  </property>
</Properties>
</file>